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6DD1-DB2B-4EB7-BAD5-664E90424E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D6DB-53F6-4CB0-A12C-BD7CA6BF0A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79F-E562-4F8B-BE95-B12B26D0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0D8-2DC4-4D6E-8596-7285AA4C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0E2-0BA8-4900-99C3-2F54DF95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D1B-C10B-446E-AD4B-FB3A8687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54C-BA32-484E-81E7-B89C5DAB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6AA-433B-4503-B50D-EAB49CBC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AF6-82E1-4C57-8DC2-EC259340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04B-C9CB-4E91-9FEF-900648AF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A81-934D-494C-9812-76B6B6FE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1E8-398A-42A3-A142-334EDB23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1AC-EBDB-4609-8EED-7A737399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47A-6942-4666-8BDC-C21786A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427F-EC63-4A44-AF94-47A56DCAE7B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14F7-7301-49CF-8551-32F2894DC28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elpforenglish.cz/" TargetMode="External"/><Relationship Id="rId2" Type="http://schemas.openxmlformats.org/officeDocument/2006/relationships/hyperlink" Target="http://www.google.cz/images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loga_bar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50" name="TextovéPole 3"/>
          <p:cNvSpPr/>
          <p:nvPr/>
        </p:nvSpPr>
        <p:spPr>
          <a:xfrm>
            <a:off x="1476360" y="27082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Verdana"/>
              </a:rPr>
              <a:t>Parts of Spee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4"/>
          <p:cNvSpPr/>
          <p:nvPr/>
        </p:nvSpPr>
        <p:spPr>
          <a:xfrm>
            <a:off x="6948360" y="5373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gr. Lenka Kroup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2"/>
          <p:cNvSpPr/>
          <p:nvPr/>
        </p:nvSpPr>
        <p:spPr>
          <a:xfrm>
            <a:off x="250920" y="580536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 in sentence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dicate 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4"/>
          <p:cNvSpPr/>
          <p:nvPr/>
        </p:nvSpPr>
        <p:spPr>
          <a:xfrm>
            <a:off x="468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erbs form verb tenses → English language ha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12 tens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:\Documents and Settings\My PC\Plocha\verbtenses.jpg"/>
          <p:cNvPicPr/>
          <p:nvPr/>
        </p:nvPicPr>
        <p:blipFill>
          <a:blip r:embed="rId1"/>
          <a:stretch/>
        </p:blipFill>
        <p:spPr>
          <a:xfrm>
            <a:off x="468360" y="907920"/>
            <a:ext cx="7934400" cy="4681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2"/>
          <p:cNvSpPr/>
          <p:nvPr/>
        </p:nvSpPr>
        <p:spPr>
          <a:xfrm>
            <a:off x="1187280" y="33336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Pronouns (pron) 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= pronomina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(zájme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3"/>
          <p:cNvSpPr/>
          <p:nvPr/>
        </p:nvSpPr>
        <p:spPr>
          <a:xfrm>
            <a:off x="250920" y="1557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bstitut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no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4"/>
          <p:cNvSpPr/>
          <p:nvPr/>
        </p:nvSpPr>
        <p:spPr>
          <a:xfrm>
            <a:off x="179280" y="544500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 in sentence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subject (S), determ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79280" y="2133720"/>
            <a:ext cx="8569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Types of pronouns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ersonal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, you, he, she, it, we, you, th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ossessiv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y, your, his, her, mine, yours, 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flexiv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yself, yourself, oursel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monstrativ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is, these, that, th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terrogativ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at, which, who, wh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lativ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o, whose, which,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definit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l, every, each, some, any,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2"/>
          <p:cNvSpPr/>
          <p:nvPr/>
        </p:nvSpPr>
        <p:spPr>
          <a:xfrm>
            <a:off x="1116000" y="333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Numerals (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n) = numeralia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(číslov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3"/>
          <p:cNvSpPr/>
          <p:nvPr/>
        </p:nvSpPr>
        <p:spPr>
          <a:xfrm>
            <a:off x="395280" y="1557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present by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number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writte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s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quantit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r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numbe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f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4"/>
          <p:cNvSpPr/>
          <p:nvPr/>
        </p:nvSpPr>
        <p:spPr>
          <a:xfrm>
            <a:off x="108000" y="2997360"/>
            <a:ext cx="8821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Types of numerals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ardinal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ne (1), two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rdinal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irst (1st), second (2nd), third (3rd), 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artitiv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ílné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alf, third, qua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ultiplicativ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sobné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nce, twice, five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"/>
          <p:cNvSpPr/>
          <p:nvPr/>
        </p:nvSpPr>
        <p:spPr>
          <a:xfrm>
            <a:off x="900000" y="333360"/>
            <a:ext cx="73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Prepositions (prep) 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= prepozice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(předlož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3"/>
          <p:cNvSpPr/>
          <p:nvPr/>
        </p:nvSpPr>
        <p:spPr>
          <a:xfrm>
            <a:off x="324000" y="1341360"/>
            <a:ext cx="84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roduc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repositional phr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.g. The dog sleeps on the floor.     →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N (prepo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ON THE FLOOR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prepositional phr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ts of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phrasal verb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– look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395280" y="321300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Types of prepositions (formal classifica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consist of 1 word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, on, at, after, before, of, off, 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mplex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consist of more words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 spite of, next to, in fron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5"/>
          <p:cNvSpPr/>
          <p:nvPr/>
        </p:nvSpPr>
        <p:spPr>
          <a:xfrm>
            <a:off x="395280" y="4508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Types of preposition (semantic classifica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emporal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časové)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t, in, on, a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patial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místní)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derived from space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t, fr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2"/>
          <p:cNvSpPr/>
          <p:nvPr/>
        </p:nvSpPr>
        <p:spPr>
          <a:xfrm>
            <a:off x="826920" y="333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Conjunctions (conj) 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= konjunkce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(spoj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3"/>
          <p:cNvSpPr/>
          <p:nvPr/>
        </p:nvSpPr>
        <p:spPr>
          <a:xfrm>
            <a:off x="539640" y="1628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nect words, phrases, sentences or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539640" y="2637000"/>
            <a:ext cx="82090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Types of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ordinatin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ouřadící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mnemonic acronym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ANBOY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for, and, nor, but, or, yet, s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rrelativ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relativní, souvztažné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ither … or, neither … nor, both … and, as …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ubordinatin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řadící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at, if, when, where, although, bec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"/>
          <p:cNvSpPr/>
          <p:nvPr/>
        </p:nvSpPr>
        <p:spPr>
          <a:xfrm>
            <a:off x="1116000" y="333360"/>
            <a:ext cx="691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Interjections (ij) 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= interjekce </a:t>
            </a: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(citoslov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ovéPole 3"/>
          <p:cNvSpPr/>
          <p:nvPr/>
        </p:nvSpPr>
        <p:spPr>
          <a:xfrm>
            <a:off x="250920" y="2708280"/>
            <a:ext cx="82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pres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emotion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joy, surprise, disgust, etc.) of the 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  Wow!  Oh!   Wh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ll the gaps in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ypically at the beginning of the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ll, don´t wor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y can form whole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  Hi!  Hello!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Bye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oodbye.  Cheers!  Hurr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4"/>
          <p:cNvSpPr/>
          <p:nvPr/>
        </p:nvSpPr>
        <p:spPr>
          <a:xfrm>
            <a:off x="179280" y="1413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onomatopoeic words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→ imitate s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iaow, cock-a-doodle-doo, bang, splash, crash, tick-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Determiners (d/det) </a:t>
            </a:r>
            <a:r>
              <a:rPr b="1" lang="cs-CZ" sz="2800" spc="-1" strike="noStrike">
                <a:solidFill>
                  <a:srgbClr val="00b050"/>
                </a:solidFill>
                <a:latin typeface="Verdana"/>
              </a:rPr>
              <a:t>= determiná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3"/>
          <p:cNvSpPr/>
          <p:nvPr/>
        </p:nvSpPr>
        <p:spPr>
          <a:xfrm>
            <a:off x="395280" y="765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do not exis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Cz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include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rticles, possessive pronouns, numera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ovéPole 4"/>
          <p:cNvSpPr/>
          <p:nvPr/>
        </p:nvSpPr>
        <p:spPr>
          <a:xfrm>
            <a:off x="324000" y="1844640"/>
            <a:ext cx="8351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Types of determi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I. Specific determ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rticl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a / an, the, zero article – e.g.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car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th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ossessive pronoun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m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you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hi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he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i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ou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the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monstrative pronoun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this, that, these, those – e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 Give me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tha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dnominal cas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e.g.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Peter´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II. General determin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ll, both, half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e.g.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all th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orld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both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m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arents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half th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rdinal number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first, second, last, next, other – e.g.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the firs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 on the moon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the nex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umerals → cardinal numerals and quantifier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one, two, some, any, either, neither – e.g.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som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eople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"/>
          <p:cNvSpPr/>
          <p:nvPr/>
        </p:nvSpPr>
        <p:spPr>
          <a:xfrm>
            <a:off x="324000" y="16286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ere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me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3"/>
          <p:cNvSpPr/>
          <p:nvPr/>
        </p:nvSpPr>
        <p:spPr>
          <a:xfrm>
            <a:off x="179280" y="3284640"/>
            <a:ext cx="88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ow,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at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as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ally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wesom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4"/>
          <p:cNvSpPr/>
          <p:nvPr/>
        </p:nvSpPr>
        <p:spPr>
          <a:xfrm>
            <a:off x="468360" y="494172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et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hole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orld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kn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5"/>
          <p:cNvSpPr/>
          <p:nvPr/>
        </p:nvSpPr>
        <p:spPr>
          <a:xfrm>
            <a:off x="395280" y="2060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adver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pronou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pr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6"/>
          <p:cNvSpPr/>
          <p:nvPr/>
        </p:nvSpPr>
        <p:spPr>
          <a:xfrm>
            <a:off x="179280" y="3789360"/>
            <a:ext cx="88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interje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pronou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adver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7"/>
          <p:cNvSpPr/>
          <p:nvPr/>
        </p:nvSpPr>
        <p:spPr>
          <a:xfrm>
            <a:off x="468360" y="55166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determi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adjective</a:t>
            </a: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nou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7030a0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8"/>
          <p:cNvSpPr/>
          <p:nvPr/>
        </p:nvSpPr>
        <p:spPr>
          <a:xfrm>
            <a:off x="1187280" y="47628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etermine the parts of spee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helpforenglish.c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28. 12.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google.cz/image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28. 12.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UŠKOVÁ, L. a kol. (2003)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Mluvnice současné angličtiny na pozadí češtiny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aha: Academ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ORNBY, A. S. (2000):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Oxford Advanced Learner´s Dictionary of Current English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xford: 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OARS, L. – SOARS. J. (2000):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New Headway English Course Elementary.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Oxford: 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ont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agram: Parts of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ts of Speech in English and in Cz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uns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N) = substan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djectives (Adj)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= adjek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dverbs (Adv)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= adv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erbs (V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 = ve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nouns (pr)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= prono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umerals (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= nume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positions (prep)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= prepoz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junctions (conj)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= konj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jections (ij)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= interje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terminers (d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= determiná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ástupný symbol pro zápatí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2"/>
          <p:cNvSpPr/>
          <p:nvPr/>
        </p:nvSpPr>
        <p:spPr>
          <a:xfrm>
            <a:off x="2627280" y="29242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Parts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Přímá spojovací šipka 4"/>
          <p:cNvCxnSpPr/>
          <p:nvPr/>
        </p:nvCxnSpPr>
        <p:spPr>
          <a:xfrm flipH="1" flipV="1">
            <a:off x="1331640" y="2491560"/>
            <a:ext cx="2953440" cy="36108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58" name="TextovéPole 6"/>
          <p:cNvSpPr/>
          <p:nvPr/>
        </p:nvSpPr>
        <p:spPr>
          <a:xfrm>
            <a:off x="324000" y="191628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Přímá spojovací šipka 8"/>
          <p:cNvCxnSpPr/>
          <p:nvPr/>
        </p:nvCxnSpPr>
        <p:spPr>
          <a:xfrm flipH="1" flipV="1">
            <a:off x="3276360" y="1125000"/>
            <a:ext cx="1008720" cy="172800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60" name="TextovéPole 9"/>
          <p:cNvSpPr/>
          <p:nvPr/>
        </p:nvSpPr>
        <p:spPr>
          <a:xfrm>
            <a:off x="2050920" y="620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d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Přímá spojovací šipka 11"/>
          <p:cNvCxnSpPr/>
          <p:nvPr/>
        </p:nvCxnSpPr>
        <p:spPr>
          <a:xfrm flipV="1">
            <a:off x="4284720" y="1341000"/>
            <a:ext cx="1583280" cy="151200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62" name="TextovéPole 12"/>
          <p:cNvSpPr/>
          <p:nvPr/>
        </p:nvSpPr>
        <p:spPr>
          <a:xfrm>
            <a:off x="5219640" y="765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Přímá spojovací šipka 17"/>
          <p:cNvCxnSpPr/>
          <p:nvPr/>
        </p:nvCxnSpPr>
        <p:spPr>
          <a:xfrm flipV="1">
            <a:off x="4284720" y="2204280"/>
            <a:ext cx="3024720" cy="6483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64" name="TextovéPole 18"/>
          <p:cNvSpPr/>
          <p:nvPr/>
        </p:nvSpPr>
        <p:spPr>
          <a:xfrm>
            <a:off x="738036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030a0"/>
                </a:solidFill>
                <a:latin typeface="Verdana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ovací šipka 20"/>
          <p:cNvCxnSpPr/>
          <p:nvPr/>
        </p:nvCxnSpPr>
        <p:spPr>
          <a:xfrm>
            <a:off x="4500360" y="3429000"/>
            <a:ext cx="2664360" cy="216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6" name="TextovéPole 21"/>
          <p:cNvSpPr/>
          <p:nvPr/>
        </p:nvSpPr>
        <p:spPr>
          <a:xfrm>
            <a:off x="7093080" y="35002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Verdana"/>
              </a:rPr>
              <a:t>pro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Přímá spojovací šipka 25"/>
          <p:cNvCxnSpPr/>
          <p:nvPr/>
        </p:nvCxnSpPr>
        <p:spPr>
          <a:xfrm>
            <a:off x="4500360" y="3428640"/>
            <a:ext cx="2448360" cy="1080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8" name="TextovéPole 26"/>
          <p:cNvSpPr/>
          <p:nvPr/>
        </p:nvSpPr>
        <p:spPr>
          <a:xfrm>
            <a:off x="6300720" y="4581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Verdana"/>
              </a:rPr>
              <a:t>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Přímá spojovací šipka 28"/>
          <p:cNvCxnSpPr/>
          <p:nvPr/>
        </p:nvCxnSpPr>
        <p:spPr>
          <a:xfrm>
            <a:off x="4500720" y="3428640"/>
            <a:ext cx="1296000" cy="18723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0" name="TextovéPole 29"/>
          <p:cNvSpPr/>
          <p:nvPr/>
        </p:nvSpPr>
        <p:spPr>
          <a:xfrm>
            <a:off x="5148360" y="5445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Verdana"/>
              </a:rPr>
              <a:t>pre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Přímá spojovací šipka 31"/>
          <p:cNvCxnSpPr/>
          <p:nvPr/>
        </p:nvCxnSpPr>
        <p:spPr>
          <a:xfrm flipH="1">
            <a:off x="3707640" y="3429000"/>
            <a:ext cx="793080" cy="2016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2" name="TextovéPole 32"/>
          <p:cNvSpPr/>
          <p:nvPr/>
        </p:nvSpPr>
        <p:spPr>
          <a:xfrm>
            <a:off x="2268360" y="5516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Verdana"/>
              </a:rPr>
              <a:t>con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Přímá spojovací šipka 34"/>
          <p:cNvCxnSpPr/>
          <p:nvPr/>
        </p:nvCxnSpPr>
        <p:spPr>
          <a:xfrm flipH="1">
            <a:off x="2410920" y="3427920"/>
            <a:ext cx="2090160" cy="1369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4" name="TextovéPole 35"/>
          <p:cNvSpPr/>
          <p:nvPr/>
        </p:nvSpPr>
        <p:spPr>
          <a:xfrm>
            <a:off x="539640" y="49417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Verdana"/>
              </a:rPr>
              <a:t>inter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Přímá spojovací šipka 37"/>
          <p:cNvCxnSpPr/>
          <p:nvPr/>
        </p:nvCxnSpPr>
        <p:spPr>
          <a:xfrm flipH="1">
            <a:off x="2050200" y="3427920"/>
            <a:ext cx="2450520" cy="36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6" name="TextovéPole 38"/>
          <p:cNvSpPr/>
          <p:nvPr/>
        </p:nvSpPr>
        <p:spPr>
          <a:xfrm>
            <a:off x="25092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Verdana"/>
              </a:rPr>
              <a:t>determ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2"/>
          <p:cNvSpPr/>
          <p:nvPr/>
        </p:nvSpPr>
        <p:spPr>
          <a:xfrm>
            <a:off x="539640" y="404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arts of Speech in English and in Cz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ovéPole 3"/>
          <p:cNvSpPr/>
          <p:nvPr/>
        </p:nvSpPr>
        <p:spPr>
          <a:xfrm>
            <a:off x="468360" y="1413000"/>
            <a:ext cx="8351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arts of Speech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slovní druhy) –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so called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or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glish ha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the same parts of speech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 Cz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ts of speech are divided into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2 group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1. </a:t>
            </a:r>
            <a:r>
              <a:rPr b="1" lang="en-GB" sz="1800" spc="-1" strike="noStrike">
                <a:solidFill>
                  <a:srgbClr val="7030a0"/>
                </a:solidFill>
                <a:latin typeface="Verdana"/>
              </a:rPr>
              <a:t>Open Word Classes</a:t>
            </a:r>
            <a:r>
              <a:rPr b="1" lang="cs-CZ" sz="1800" spc="-1" strike="noStrike">
                <a:solidFill>
                  <a:srgbClr val="7030a0"/>
                </a:solidFill>
                <a:latin typeface="Verdana"/>
              </a:rPr>
              <a:t> (otevřené slovní dru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new words can be added to thi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open word classes are: </a:t>
            </a: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Nouns, Adjectives, Adverbs, </a:t>
            </a: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  </a:t>
            </a:r>
            <a:r>
              <a:rPr b="0" lang="cs-CZ" sz="1800" spc="-1" strike="noStrike">
                <a:solidFill>
                  <a:srgbClr val="7030a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Ver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b050"/>
                </a:solidFill>
                <a:latin typeface="Verdana"/>
              </a:rPr>
              <a:t>2. </a:t>
            </a:r>
            <a:r>
              <a:rPr b="1" lang="en-GB" sz="1800" spc="-1" strike="noStrike">
                <a:solidFill>
                  <a:srgbClr val="00b050"/>
                </a:solidFill>
                <a:latin typeface="Verdana"/>
              </a:rPr>
              <a:t>Close</a:t>
            </a:r>
            <a:r>
              <a:rPr b="1" lang="cs-CZ" sz="1800" spc="-1" strike="noStrike">
                <a:solidFill>
                  <a:srgbClr val="00b050"/>
                </a:solidFill>
                <a:latin typeface="Verdana"/>
              </a:rPr>
              <a:t>d</a:t>
            </a:r>
            <a:r>
              <a:rPr b="1" lang="en-GB" sz="1800" spc="-1" strike="noStrike">
                <a:solidFill>
                  <a:srgbClr val="00b050"/>
                </a:solidFill>
                <a:latin typeface="Verdana"/>
              </a:rPr>
              <a:t> Word Classes</a:t>
            </a:r>
            <a:r>
              <a:rPr b="1" lang="cs-CZ" sz="1800" spc="-1" strike="noStrike">
                <a:solidFill>
                  <a:srgbClr val="00b050"/>
                </a:solidFill>
                <a:latin typeface="Verdana"/>
              </a:rPr>
              <a:t> (uzavřené slovní dru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new word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can be added to thi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closed word classes are: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pronouns, numerals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    prepositions, conjunctions,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    interjections, determ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Diagram 2" descr=""/>
          <p:cNvPicPr/>
          <p:nvPr/>
        </p:nvPicPr>
        <p:blipFill>
          <a:blip r:embed="rId1"/>
          <a:stretch/>
        </p:blipFill>
        <p:spPr>
          <a:xfrm>
            <a:off x="231840" y="-6480"/>
            <a:ext cx="8746920" cy="6535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2"/>
          <p:cNvSpPr/>
          <p:nvPr/>
        </p:nvSpPr>
        <p:spPr>
          <a:xfrm>
            <a:off x="1547640" y="189000"/>
            <a:ext cx="62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Verdana"/>
              </a:rPr>
              <a:t>Nouns</a:t>
            </a:r>
            <a:r>
              <a:rPr b="1" lang="cs-CZ" sz="2800" spc="-1" strike="noStrike">
                <a:solidFill>
                  <a:srgbClr val="7030a0"/>
                </a:solidFill>
                <a:latin typeface="Verdana"/>
              </a:rPr>
              <a:t> (N) = substantiva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(podstatná jmé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3"/>
          <p:cNvSpPr/>
          <p:nvPr/>
        </p:nvSpPr>
        <p:spPr>
          <a:xfrm>
            <a:off x="395280" y="1413000"/>
            <a:ext cx="856944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ingula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dog)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lural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do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untabl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apples)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ncountabl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infor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per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John, England)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mo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cat, tr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cret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book)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bstrac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(l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llectiv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family, 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5"/>
          <p:cNvSpPr/>
          <p:nvPr/>
        </p:nvSpPr>
        <p:spPr>
          <a:xfrm>
            <a:off x="324000" y="5229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 in sentence: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bject (S), object (O) , adverbials (P, T),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2"/>
          <p:cNvSpPr/>
          <p:nvPr/>
        </p:nvSpPr>
        <p:spPr>
          <a:xfrm>
            <a:off x="1116000" y="189000"/>
            <a:ext cx="691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Verdana"/>
              </a:rPr>
              <a:t>Adjectives (Adj) </a:t>
            </a:r>
            <a:r>
              <a:rPr b="1" lang="cs-CZ" sz="2800" spc="-1" strike="noStrike">
                <a:solidFill>
                  <a:srgbClr val="7030a0"/>
                </a:solidFill>
                <a:latin typeface="Verdana"/>
              </a:rPr>
              <a:t>= adjektiva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(přídavná jmé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3"/>
          <p:cNvSpPr/>
          <p:nvPr/>
        </p:nvSpPr>
        <p:spPr>
          <a:xfrm>
            <a:off x="324000" y="558972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 in sentence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attribute, the part of 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ovéPole 4"/>
          <p:cNvSpPr/>
          <p:nvPr/>
        </p:nvSpPr>
        <p:spPr>
          <a:xfrm>
            <a:off x="324000" y="112536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res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dify nouns or pro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ovéPole 5"/>
          <p:cNvSpPr/>
          <p:nvPr/>
        </p:nvSpPr>
        <p:spPr>
          <a:xfrm>
            <a:off x="324000" y="2349360"/>
            <a:ext cx="85690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omparison of ad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gular: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i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igg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bigg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autiful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beautiful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he mos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rreg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a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ors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wors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ovéPole 2"/>
          <p:cNvSpPr/>
          <p:nvPr/>
        </p:nvSpPr>
        <p:spPr>
          <a:xfrm>
            <a:off x="1187280" y="11592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Verdana"/>
              </a:rPr>
              <a:t>Adverbs (Adv) </a:t>
            </a:r>
            <a:r>
              <a:rPr b="1" lang="cs-CZ" sz="2800" spc="-1" strike="noStrike">
                <a:solidFill>
                  <a:srgbClr val="7030a0"/>
                </a:solidFill>
                <a:latin typeface="Verdana"/>
              </a:rPr>
              <a:t>= adverbia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(příslov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3"/>
          <p:cNvSpPr/>
          <p:nvPr/>
        </p:nvSpPr>
        <p:spPr>
          <a:xfrm>
            <a:off x="108000" y="1052640"/>
            <a:ext cx="885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dverbs answer questions such as: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How..?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Where..?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When..?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In what way..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dify verbs or ad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Types of adverbs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nner (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působ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How..?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slowly, quick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lace (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místo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Where..?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here,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ime (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čas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When..?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yesterday, now, 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dverbs o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4"/>
          <p:cNvSpPr/>
          <p:nvPr/>
        </p:nvSpPr>
        <p:spPr>
          <a:xfrm>
            <a:off x="250920" y="573264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unction in sentence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dverbials (M, P,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4572000" y="3284640"/>
            <a:ext cx="36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0%                                50%                          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ver      sometimes    often       usually      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římá spojovací čára 7"/>
          <p:cNvSpPr/>
          <p:nvPr/>
        </p:nvSpPr>
        <p:spPr>
          <a:xfrm>
            <a:off x="4643280" y="3500280"/>
            <a:ext cx="345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ovéPole 9"/>
          <p:cNvSpPr/>
          <p:nvPr/>
        </p:nvSpPr>
        <p:spPr>
          <a:xfrm>
            <a:off x="108000" y="386064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Forming of adverb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→ adverbial suffixe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l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ai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l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, easi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l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, happi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l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, tru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ly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wis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: other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w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wards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: to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w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ays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: al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fold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: two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fold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(dvojnásobně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                          →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ame as adjectives: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ack, late, far, deep, f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ástupný symbol pro zápatí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2"/>
          <p:cNvSpPr/>
          <p:nvPr/>
        </p:nvSpPr>
        <p:spPr>
          <a:xfrm>
            <a:off x="2268360" y="115920"/>
            <a:ext cx="424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Verdana"/>
              </a:rPr>
              <a:t>Verbs (V)</a:t>
            </a:r>
            <a:r>
              <a:rPr b="1" lang="cs-CZ" sz="2800" spc="-1" strike="noStrike">
                <a:solidFill>
                  <a:srgbClr val="7030a0"/>
                </a:solidFill>
                <a:latin typeface="Verdana"/>
              </a:rPr>
              <a:t> = verba </a:t>
            </a:r>
            <a:r>
              <a:rPr b="1" lang="cs-CZ" sz="2400" spc="-1" strike="noStrike">
                <a:solidFill>
                  <a:srgbClr val="7030a0"/>
                </a:solidFill>
                <a:latin typeface="Verdana"/>
              </a:rPr>
              <a:t>(slove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Diagram 3" descr=""/>
          <p:cNvPicPr/>
          <p:nvPr/>
        </p:nvPicPr>
        <p:blipFill>
          <a:blip r:embed="rId1"/>
          <a:stretch/>
        </p:blipFill>
        <p:spPr>
          <a:xfrm>
            <a:off x="596880" y="1047600"/>
            <a:ext cx="7718400" cy="4908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Lenka</cp:lastModifiedBy>
  <dcterms:modified xsi:type="dcterms:W3CDTF">2011-01-02T17:01:50Z</dcterms:modified>
  <cp:revision>140</cp:revision>
  <dc:subject/>
  <dc:title>POSLOUPNOSTI</dc:title>
</cp:coreProperties>
</file>