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DC1-C088-4ACB-B192-16A0A959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5F4-99B2-42C0-9299-42204E0A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0C5-20F0-4E9F-AAAB-5E08916E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3DC-C8A3-4B63-A553-FB99AA14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126-60E6-430D-9538-FB115249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6EC-2972-4DA7-8DC9-28D454BD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BFA-F38B-4215-B586-E302185B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424-9346-43C7-914E-F226A598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CF5-1267-4C19-824E-BEC276C0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9C7-E15D-46FF-9A58-73F9458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8AB-999E-471E-8352-01C4AD5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B38-0DCF-4F52-B948-72E45E0B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D8EB-81E0-46F4-9514-078FAC66736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E1B8-0F72-4CEF-9039-93A195BD466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769080" cy="104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RB T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Dr. Soňa Pav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T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t Perfect  ( prost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had s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y the table before she c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hadn´t sa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y the table before she cam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Ha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sa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y the table before she c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t Perfect continuous ( průběho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had been sit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for an hour before she c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hasn´t bee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for an hour before she c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bee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for an hour before she c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ture tense  ( prost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will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 si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.  Sedne si ke stolu. (patr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won´t si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Wil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si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 the t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ture continuous ( průběho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will be sit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when I com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won´t b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when i com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ll  he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b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when I come back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ture perfect ( prost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will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 have s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by the time you com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de sedět u stolu (do té doby) než se vrátí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won´t have sa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 the table by the time you com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Wil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e have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sa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 the table by the time you come back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ture perfect continuous ( průběho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will have been sit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by the time you com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won´t have bee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by the time you com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ll he has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bee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by the time I come back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Rectangle 3"/>
          <p:cNvGraphicFramePr/>
          <p:nvPr/>
        </p:nvGraphicFramePr>
        <p:xfrm>
          <a:off x="685800" y="2362320"/>
          <a:ext cx="8024760" cy="23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802476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ZDĚLENÍ S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XICAL VERB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významov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lk, work, drive,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eel, stand,hate,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all,fly,decline, come,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ří se nová slovesa - text, 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bytky časování „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vesa pravidelná a nepravidelná ( 2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XILIARY VERB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pomocn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íváme při tvoření časů, nemění význam slo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klady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he children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in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inished hi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AL VERB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způsobov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, MAY,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, SHALL, SHOULD, WILL, WOULD, M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E, NEED, OUGHT TO, 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, HAVE TO, BE ALLOW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barvují význam slo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VESNÉ ČAS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rozděl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ESENT TEN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tomn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AST TEN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 minul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 předpřítomn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AST PERFEC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 předminul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UTURE TEN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 budou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UTURE PERFEC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 předbudou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ENT 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sent simple ( prost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ofte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doesn´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ofte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 at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Do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ofte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 at the 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sent continuous  ( průběho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t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now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is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n´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t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now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I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sit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t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now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T 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t simple ( prost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sat at the tabl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yester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didn´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 at the tabl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yesterda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Di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e sit at the tabl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yesterda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t continuous  ( průběho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wa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t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when I cam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wasn´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when I c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W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e sit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when you cam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sent Perfect  ( prost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ju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sa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y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hasn´t sa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y the table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y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sa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y the table </a:t>
            </a:r>
            <a:r>
              <a:rPr b="0" lang="cs-CZ" sz="2000" spc="-1" strike="noStrike">
                <a:solidFill>
                  <a:srgbClr val="99cc00"/>
                </a:solidFill>
                <a:latin typeface="Arial"/>
              </a:rPr>
              <a:t>y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sent Perfect continuous ( průběho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has been  sit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for an hour. Už sed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hasn´t bee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for an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H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bee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tt</a:t>
            </a:r>
            <a:r>
              <a:rPr b="1" lang="cs-CZ" sz="2000" spc="-1" strike="noStrike">
                <a:solidFill>
                  <a:srgbClr val="ff3300"/>
                </a:solidFill>
                <a:latin typeface="Arial"/>
              </a:rPr>
              <a:t>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t the table for an h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Šance pro všechny CZ.1.07/1.2.06/02.0012</a:t>
            </a: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0-09-30T06:51:07Z</dcterms:modified>
  <cp:revision>46</cp:revision>
  <dc:subject/>
  <dc:title>POSLOUPNOSTI</dc:title>
</cp:coreProperties>
</file>