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7.jpeg" ContentType="image/jpeg"/>
  <Override PartName="/ppt/media/image36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31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gif" ContentType="image/gif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9F24-53EC-40B4-9E08-C667BC21C0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367-08DF-4922-81F1-F56548C5B2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393-FBA8-4C2F-B09A-E8A56280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CF6-3F09-44BB-A220-D630EC33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F6A2A-475D-4D3A-8357-5CCBB9C0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0B6C6-6121-4681-AC20-22B891A8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8E795-F4F6-4360-BB75-59148BD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7EAE6-1373-4DE7-8810-98B642F1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E11B-D004-4E75-AA2B-468398C9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DB90D-724E-4B82-9741-7D9EE88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8A042-FB59-4D1C-BE92-DC18616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660E-4B09-4841-BDB3-CFD79FD7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68855-B521-44B7-8BA2-F2ADC608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24E5E-6862-4ACD-A6C3-CDB41ABC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4E5-8F38-4388-83D2-214387F3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B9E42-6C7A-4D22-B7FD-4EB35EA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28207-3BD7-40DE-A158-637F4EE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BE3DD-DE5B-4EE5-B149-822DB5EE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FC6D6-5E59-4264-BD21-46804291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04ABD-5150-4073-9A38-5238C31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A2472-FDAC-428D-B550-A029C82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2EAD8-99D2-41DD-AEF8-DC98A2B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D29D2-7D66-4892-9819-8B4F15C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44DAF-7A78-4A6A-AA78-CA602DF4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80524-A590-42F6-944A-C30B6D61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EBB-4394-4841-8AEF-5B659CB3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A1BFD-D614-41DE-A761-CE9CEFA7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3CDFEF-4723-4240-99E5-BEDE704C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86AC69-39E4-450F-8015-FAF03D3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7B7B50-1FFD-41FF-9CCE-685584B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37E9CF-FB3B-4B23-9682-643EBF7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43E1ED-44E0-4432-A82E-80BB2313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7F2C14-2490-43C7-B0F3-7CB18346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F46422-8AA6-4A39-9F0D-439D7CF1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4312D1-C146-4A0F-A558-11998410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19BEB-C61D-4998-83CE-34533A0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03C-F515-42A9-A95C-406267A3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B93D75-616D-475B-83E6-80FBAC5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D6F23F-F6DF-451B-B6EF-59918F6A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DC85DF-030B-49E9-B920-A80665C7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1169A-E4F3-4F3B-9A6E-89B10896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B21F7-6AA2-469C-8C6F-1984B17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0A1B1-8A62-42AC-A456-83B8EB5C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BE3FA-6022-4961-BEE6-DE127618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B1EFF-08EF-46DE-AE22-96489E74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C3B6-54BC-4E64-9668-30C2AB4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10194-ED1F-48E5-9F45-8E72F457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BCD8-023D-404B-BD85-5DC7A411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352D9-0011-421C-A152-2ECA86E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E3F10-542C-4B88-9F18-4DCD569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A20CA-B0BE-4C38-BDCC-DB19198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7CE72-38FF-4A86-9DC1-9EEA426A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7F045-344D-48EE-8EF3-3372B660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A425F8-C1F3-4FEF-BB6B-5240785B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CCE996-D9E9-4A23-B0C8-7B9DF5A6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0A7BA3-DFC1-4953-BA05-E341495A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A9B5AE-6DC4-44F7-A436-AA75819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29BF6F-3A06-48FC-ADD6-55F3D775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305E-DBF9-4B9F-98C5-222F50A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25DFB7-380F-4902-9C81-557241C7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07AD52-B504-4BFD-A440-C52DF14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BA64E8-7306-498E-9DB0-534954B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04FE9F-4665-40F6-9E83-AC9E71FD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29D0C3-E476-4A65-8DBB-B561814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018484-FC1F-4EA1-A6B7-0B0A0B4C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5F3996-AD40-4B9D-9273-4CFBAFB7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5DAC-94D7-414A-8409-B548D98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4BE-9617-422D-95B5-C041C9A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EDE9-EAC7-481F-97ED-CDD859C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82A6-7649-403B-8321-D4CAC19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895-7F10-4DB5-803F-2B654FC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DEE-C658-423D-8AE4-226B55A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9A0-AF0F-4E5D-96E5-9699C81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04EE-6FD8-4FE7-85CF-A748DDB2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E39-7189-42B0-8D83-B974F9D9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A7E-5F9C-44EB-97E9-4F74FB14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9976-C22D-4D4E-93D3-AF75E532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3E5F-C14D-4E2C-A594-A3450985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87F4-06FE-41CE-9DA2-3701658A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EF9E-7018-4445-A45C-3101286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7C96-B348-4D96-A9AD-1A6133FA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1FD-8CEF-4B10-8588-A9390B3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1688-7DF6-4CE0-B719-F6ABA7E7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5859-3056-4AB8-AEAA-A26A5DF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1699-2D80-4258-8B36-BE7C30EE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47A6-3BA0-4473-8A75-041BE1E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D10A-4218-4692-9571-606761E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BB57-AF46-41BF-B7C9-E876A42F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2DEB-1AB7-4F60-8CED-E4A0BD16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877B-362E-42E0-A37D-BD793EA3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5D08-0719-4A15-B7EF-D5A3262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6D08-D988-42E1-B3CC-B7CC381D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903-02FD-4CCB-9D5E-3954D42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B542-9D0D-4B21-8563-C4601ED0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3403-AE4D-4A33-AE09-57DF4A5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8EC8-44B2-462D-9E9E-1EBF2F0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D711-5999-4719-A074-5B7960F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1F7B-58E9-43C6-9B93-8452F2A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3C82-C7E3-476B-A61F-B1A2D349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C749-FF8E-4500-A77C-CD7A7F4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FB4F9-BFEE-4FB5-80F1-6D028FF0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157B-6567-49C1-B8DB-DCFA5FF9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A467-5383-4542-94D8-DB661A0C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D87-4CDA-4CD7-9EFE-6C1F85EC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EF364-B07A-4C4F-9FA7-7353EC7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91AB-9C33-4ADD-BB1D-4828409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C88D-95F7-4310-85CA-CE7F97BF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4715-2002-457F-AA06-085FB62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C84D-337C-4852-A273-C0BE870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4FA1-60DA-4B6E-B48C-88DB485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1EA4-FBA2-4DCC-B101-A881648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C134-F175-4AB7-8BD4-9650A79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35C82-9BBE-467D-A1CA-BDDEDFE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45F4-DE49-4027-ACCD-6BCF1F8C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319-CAAA-4A70-BC3E-BC05C38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788D-6E7F-45EB-B8CE-FFA9305E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C478-261F-4281-B5C1-BD604C6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6A02E-8E36-41AD-9635-D725145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70E5-8E5F-4DF8-96B4-F9CC0B9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2A2A-311E-414C-80F4-AAF16E7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DF3F-9E81-4A50-9A1C-1016C4D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263F6-A485-41F5-B259-641669CE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1743-E0F1-444A-8470-A138646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5A60-5D87-4950-816B-E7D58B4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0EF6-1C52-41E4-89E8-504E761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DA5-9E38-4AAC-9815-29C3255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F378-F5AD-4303-BA49-34A046FC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C6653-ED86-4B7D-A867-DAF0E0F9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B0C33-31E4-4951-8C1B-B958682C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7AAD7-6632-47BF-BA7B-87BE15A0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1A4D4-C674-4FCC-A1C6-40A0424C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5B925-F9F1-401E-BD7D-1B1413A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87E6-0347-43F8-9FA6-29D43BB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9062-065E-42C6-8AB6-E056096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5215D-45C3-4DA6-BCE5-A87E7DA9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405E-89F4-4049-908B-E385469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7AB-AAAE-44AC-885F-05E747B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71420-4CCB-4B78-96B2-1BDFFAA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D96F-C53F-459D-84D4-BB0C614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11FE-A68C-4D93-9150-3B6A16B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5FB5-C7C2-4347-AC4B-96AFF357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11DA-4186-4FDB-A509-C10AFA20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66D07-633D-4BED-952F-6333E3F2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2839-85DD-41DB-A079-CFF153F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6F7B-60B7-4738-9B8D-4DC3125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69AFE-AC20-464C-8283-2D005F33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27D7E-1425-40A3-8410-9B784CB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8A5-E914-4ECE-8B50-79016E7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F3E5-6477-4C91-98D0-7F0CD4EA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84F0-ABD1-41E2-BF6F-9BD1FBF7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9CB8-844C-4F90-BC1A-83E6DD4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E95A-BBEB-4C6E-9DF3-443B5CB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ADEF-847F-46CC-882A-CF3EEC40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54A1-3AC5-4925-BA86-4EAA8EF1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1A1C-22A8-4166-BE46-21EC8A02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640AF-394A-4B80-B689-D26B89E0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24A61-6680-42BA-BB87-B22B7DB1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FD2F1-8D4E-47EF-9BC7-E070987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1F3-EF58-444B-9746-938508977E21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1591-2F08-4565-A6D9-7AD04D4ACDFA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římá spojovací čára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14E8-1A72-4912-A58D-19EC95E9143F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07F-7AC2-4324-A548-A6EDDDE37C4F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délní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délní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C76-D3B0-41F4-A168-FCD2EB12D87E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B15-5258-4C33-94E9-C0FB770FC6BC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D2AF-D503-49A2-B4BF-7D17987D2650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DBB4-131C-4DFA-8E2B-358C28632BB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délní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římá spojovací čára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4169-4C04-4DB2-843D-B0D3F22E226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C766-D7ED-4EF6-8A07-7710A1408A8C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5C6-614B-492E-B287-AE10CF03C84A}" type="datetime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394D-5F75-4985-8EE4-17730E8ED65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římá spojovací čára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A2D-75D6-4DBA-BF39-C48E7D07F276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756C-35AE-4380-91B1-955A0930323F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6E4-87A3-4B07-AF97-5A08DC9411F2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833F-1971-492D-9555-D0B1187C2F9D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délní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délní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7E0C-7E4A-4833-88BB-F4B5457DFB22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90A2-E3DB-400B-91A7-BEDCF70CAAC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9FB-48F4-4D93-9BA8-DA889BEBCED2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64B2-681A-43A1-955C-418DCC71C3B2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římá spojovací čára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délní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953D-95A4-4498-9160-BD4174B50E4D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2C37-B575-4676-BE6C-998118A2DAD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32E4-FD58-4A77-8C19-42817D3D60FB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DB4F-B1F5-487F-9F40-B4C4A49F48D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C280-17E0-4235-BCEC-D7943DF1CD89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6E37-A8FC-4926-8B4B-6F4ABE0CF8D6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loga_bar"/>
          <p:cNvPicPr/>
          <p:nvPr/>
        </p:nvPicPr>
        <p:blipFill>
          <a:blip r:embed="rId1"/>
          <a:stretch/>
        </p:blipFill>
        <p:spPr>
          <a:xfrm>
            <a:off x="1187280" y="917640"/>
            <a:ext cx="6769440" cy="1044360"/>
          </a:xfrm>
          <a:prstGeom prst="rect">
            <a:avLst/>
          </a:prstGeom>
          <a:ln w="0">
            <a:noFill/>
          </a:ln>
        </p:spPr>
      </p:pic>
      <p:sp>
        <p:nvSpPr>
          <p:cNvPr id="656" name="TextovéPole 4"/>
          <p:cNvSpPr/>
          <p:nvPr/>
        </p:nvSpPr>
        <p:spPr>
          <a:xfrm>
            <a:off x="3177720" y="2890800"/>
            <a:ext cx="27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ovéPole 9"/>
          <p:cNvSpPr/>
          <p:nvPr/>
        </p:nvSpPr>
        <p:spPr>
          <a:xfrm>
            <a:off x="6858720" y="592920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eonarda Holub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ázek 7" descr="images.jpg"/>
          <p:cNvPicPr/>
          <p:nvPr/>
        </p:nvPicPr>
        <p:blipFill>
          <a:blip r:embed="rId2"/>
          <a:stretch/>
        </p:blipFill>
        <p:spPr>
          <a:xfrm>
            <a:off x="446040" y="4325760"/>
            <a:ext cx="2124000" cy="1467000"/>
          </a:xfrm>
          <a:prstGeom prst="rect">
            <a:avLst/>
          </a:prstGeom>
          <a:ln w="0">
            <a:noFill/>
          </a:ln>
        </p:spPr>
      </p:pic>
      <p:pic>
        <p:nvPicPr>
          <p:cNvPr id="659" name="Obrázek 8" descr="images (4).jpg"/>
          <p:cNvPicPr/>
          <p:nvPr/>
        </p:nvPicPr>
        <p:blipFill>
          <a:blip r:embed="rId3"/>
          <a:stretch/>
        </p:blipFill>
        <p:spPr>
          <a:xfrm>
            <a:off x="6365880" y="4325760"/>
            <a:ext cx="2143080" cy="1473480"/>
          </a:xfrm>
          <a:prstGeom prst="rect">
            <a:avLst/>
          </a:prstGeom>
          <a:ln w="0">
            <a:noFill/>
          </a:ln>
        </p:spPr>
      </p:pic>
      <p:pic>
        <p:nvPicPr>
          <p:cNvPr id="660" name="Obrázek 9" descr="vacationbareef_NGK0507_lg.jpg"/>
          <p:cNvPicPr/>
          <p:nvPr/>
        </p:nvPicPr>
        <p:blipFill>
          <a:blip r:embed="rId4"/>
          <a:stretch/>
        </p:blipFill>
        <p:spPr>
          <a:xfrm>
            <a:off x="446040" y="2716200"/>
            <a:ext cx="2152800" cy="1425600"/>
          </a:xfrm>
          <a:prstGeom prst="rect">
            <a:avLst/>
          </a:prstGeom>
          <a:ln w="0">
            <a:noFill/>
          </a:ln>
        </p:spPr>
      </p:pic>
      <p:pic>
        <p:nvPicPr>
          <p:cNvPr id="661" name="Obrázek 10" descr="western-australia-kangaroo-beach.jpg"/>
          <p:cNvPicPr/>
          <p:nvPr/>
        </p:nvPicPr>
        <p:blipFill>
          <a:blip r:embed="rId5"/>
          <a:stretch/>
        </p:blipFill>
        <p:spPr>
          <a:xfrm>
            <a:off x="6365880" y="2711520"/>
            <a:ext cx="2112840" cy="1490760"/>
          </a:xfrm>
          <a:prstGeom prst="rect">
            <a:avLst/>
          </a:prstGeom>
          <a:ln w="0">
            <a:noFill/>
          </a:ln>
        </p:spPr>
      </p:pic>
      <p:pic>
        <p:nvPicPr>
          <p:cNvPr id="662" name="Obrázek 11" descr="vlajka.jpg"/>
          <p:cNvPicPr/>
          <p:nvPr/>
        </p:nvPicPr>
        <p:blipFill>
          <a:blip r:embed="rId6"/>
          <a:stretch/>
        </p:blipFill>
        <p:spPr>
          <a:xfrm>
            <a:off x="3338640" y="3967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alibri"/>
              </a:rPr>
              <a:t>Eight Australian states</a:t>
            </a:r>
            <a:br>
              <a:rPr sz="4400"/>
            </a:br>
            <a:r>
              <a:rPr b="1" lang="cs-CZ" sz="4400" spc="-1" strike="noStrike">
                <a:solidFill>
                  <a:srgbClr val="ff9900"/>
                </a:solidFill>
                <a:latin typeface="Calibri"/>
              </a:rPr>
              <a:t>and their capital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Zástupný symbol pro obsah 4" descr="Obrázek7.png"/>
          <p:cNvPicPr/>
          <p:nvPr/>
        </p:nvPicPr>
        <p:blipFill>
          <a:blip r:embed="rId1"/>
          <a:stretch/>
        </p:blipFill>
        <p:spPr>
          <a:xfrm>
            <a:off x="2598840" y="2352600"/>
            <a:ext cx="3733560" cy="3486240"/>
          </a:xfrm>
          <a:prstGeom prst="rect">
            <a:avLst/>
          </a:prstGeom>
          <a:ln w="0">
            <a:noFill/>
          </a:ln>
        </p:spPr>
      </p:pic>
      <p:sp>
        <p:nvSpPr>
          <p:cNvPr id="76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Vývojový diagram: spojka 7"/>
          <p:cNvSpPr/>
          <p:nvPr/>
        </p:nvSpPr>
        <p:spPr>
          <a:xfrm flipV="1">
            <a:off x="5648400" y="4863240"/>
            <a:ext cx="98280" cy="1335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ovéPole 8"/>
          <p:cNvSpPr/>
          <p:nvPr/>
        </p:nvSpPr>
        <p:spPr>
          <a:xfrm>
            <a:off x="5836320" y="4863960"/>
            <a:ext cx="211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Australian Capital Terri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ovéPole 11"/>
          <p:cNvSpPr/>
          <p:nvPr/>
        </p:nvSpPr>
        <p:spPr>
          <a:xfrm>
            <a:off x="1343160" y="19940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ěticípá hvězda 12"/>
          <p:cNvSpPr/>
          <p:nvPr/>
        </p:nvSpPr>
        <p:spPr>
          <a:xfrm>
            <a:off x="5827680" y="468468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ovéPole 13"/>
          <p:cNvSpPr/>
          <p:nvPr/>
        </p:nvSpPr>
        <p:spPr>
          <a:xfrm>
            <a:off x="5831280" y="504360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Canb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ovéPole 15"/>
          <p:cNvSpPr/>
          <p:nvPr/>
        </p:nvSpPr>
        <p:spPr>
          <a:xfrm>
            <a:off x="6189480" y="45054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Syd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ěticípá hvězda 10"/>
          <p:cNvSpPr/>
          <p:nvPr/>
        </p:nvSpPr>
        <p:spPr>
          <a:xfrm>
            <a:off x="6006960" y="414648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ovéPole 16"/>
          <p:cNvSpPr/>
          <p:nvPr/>
        </p:nvSpPr>
        <p:spPr>
          <a:xfrm>
            <a:off x="6369480" y="4146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00"/>
                </a:solidFill>
                <a:latin typeface="Arial"/>
              </a:rPr>
              <a:t>Bris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ěticípá hvězda 17"/>
          <p:cNvSpPr/>
          <p:nvPr/>
        </p:nvSpPr>
        <p:spPr>
          <a:xfrm>
            <a:off x="4213080" y="253224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ovéPole 18"/>
          <p:cNvSpPr/>
          <p:nvPr/>
        </p:nvSpPr>
        <p:spPr>
          <a:xfrm>
            <a:off x="3499920" y="235260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00"/>
                </a:solidFill>
                <a:latin typeface="Arial"/>
              </a:rPr>
              <a:t>Da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ěticípá hvězda 19"/>
          <p:cNvSpPr/>
          <p:nvPr/>
        </p:nvSpPr>
        <p:spPr>
          <a:xfrm>
            <a:off x="2778120" y="450540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ovéPole 20"/>
          <p:cNvSpPr/>
          <p:nvPr/>
        </p:nvSpPr>
        <p:spPr>
          <a:xfrm>
            <a:off x="2242440" y="4505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00"/>
                </a:solidFill>
                <a:latin typeface="Arial"/>
              </a:rPr>
              <a:t>Pe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ěticípá hvězda 21"/>
          <p:cNvSpPr/>
          <p:nvPr/>
        </p:nvSpPr>
        <p:spPr>
          <a:xfrm>
            <a:off x="4751280" y="468468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ovéPole 22"/>
          <p:cNvSpPr/>
          <p:nvPr/>
        </p:nvSpPr>
        <p:spPr>
          <a:xfrm>
            <a:off x="3858840" y="46846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00"/>
                </a:solidFill>
                <a:latin typeface="Arial"/>
              </a:rPr>
              <a:t>Adela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ěticípá hvězda 23"/>
          <p:cNvSpPr/>
          <p:nvPr/>
        </p:nvSpPr>
        <p:spPr>
          <a:xfrm>
            <a:off x="5289480" y="504360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ovéPole 24"/>
          <p:cNvSpPr/>
          <p:nvPr/>
        </p:nvSpPr>
        <p:spPr>
          <a:xfrm>
            <a:off x="4216320" y="504360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00"/>
                </a:solidFill>
                <a:latin typeface="Arial"/>
              </a:rPr>
              <a:t>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ěticípá hvězda 25"/>
          <p:cNvSpPr/>
          <p:nvPr/>
        </p:nvSpPr>
        <p:spPr>
          <a:xfrm>
            <a:off x="5468760" y="5581800"/>
            <a:ext cx="196920" cy="179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ovéPole 26"/>
          <p:cNvSpPr/>
          <p:nvPr/>
        </p:nvSpPr>
        <p:spPr>
          <a:xfrm>
            <a:off x="5651640" y="55818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00"/>
                </a:solidFill>
                <a:latin typeface="Arial"/>
              </a:rPr>
              <a:t>Hob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ff9900"/>
                </a:solidFill>
                <a:latin typeface="Georgia"/>
              </a:rPr>
              <a:t>Places to visit - ci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9" name="Zástupný symbol pro zápatí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8" descr=""/>
          <p:cNvPicPr/>
          <p:nvPr/>
        </p:nvPicPr>
        <p:blipFill>
          <a:blip r:embed="rId1"/>
          <a:stretch/>
        </p:blipFill>
        <p:spPr>
          <a:xfrm>
            <a:off x="2419200" y="1635120"/>
            <a:ext cx="4440240" cy="3522600"/>
          </a:xfrm>
          <a:prstGeom prst="rect">
            <a:avLst/>
          </a:prstGeom>
          <a:ln w="0">
            <a:noFill/>
          </a:ln>
        </p:spPr>
      </p:pic>
      <p:sp>
        <p:nvSpPr>
          <p:cNvPr id="791" name="TextovéPole 5"/>
          <p:cNvSpPr/>
          <p:nvPr/>
        </p:nvSpPr>
        <p:spPr>
          <a:xfrm>
            <a:off x="1912320" y="5222880"/>
            <a:ext cx="56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The Olympic Stadium near Sydney constructed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2000 Summer Olympic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12" descr=""/>
          <p:cNvPicPr/>
          <p:nvPr/>
        </p:nvPicPr>
        <p:blipFill>
          <a:blip r:embed="rId2"/>
          <a:stretch/>
        </p:blipFill>
        <p:spPr>
          <a:xfrm>
            <a:off x="1908000" y="1436760"/>
            <a:ext cx="5688360" cy="3792600"/>
          </a:xfrm>
          <a:prstGeom prst="rect">
            <a:avLst/>
          </a:prstGeom>
          <a:ln w="0">
            <a:noFill/>
          </a:ln>
        </p:spPr>
      </p:pic>
      <p:sp>
        <p:nvSpPr>
          <p:cNvPr id="793" name="TextovéPole 11"/>
          <p:cNvSpPr/>
          <p:nvPr/>
        </p:nvSpPr>
        <p:spPr>
          <a:xfrm>
            <a:off x="1912320" y="5222880"/>
            <a:ext cx="53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ydney – the Opera House and the Harbour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10" descr=""/>
          <p:cNvPicPr/>
          <p:nvPr/>
        </p:nvPicPr>
        <p:blipFill>
          <a:blip r:embed="rId3"/>
          <a:stretch/>
        </p:blipFill>
        <p:spPr>
          <a:xfrm>
            <a:off x="2778120" y="1455840"/>
            <a:ext cx="3957480" cy="4203720"/>
          </a:xfrm>
          <a:prstGeom prst="rect">
            <a:avLst/>
          </a:prstGeom>
          <a:ln w="0">
            <a:noFill/>
          </a:ln>
        </p:spPr>
      </p:pic>
      <p:sp>
        <p:nvSpPr>
          <p:cNvPr id="795" name="TextovéPole 13"/>
          <p:cNvSpPr/>
          <p:nvPr/>
        </p:nvSpPr>
        <p:spPr>
          <a:xfrm>
            <a:off x="2625840" y="576108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elbourne is cultural and shopp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0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4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4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8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Georgia"/>
              </a:rPr>
              <a:t>Places to visit - n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Zástupný symbol pro obsah 4" descr="00700181.jpg"/>
          <p:cNvPicPr/>
          <p:nvPr/>
        </p:nvPicPr>
        <p:blipFill>
          <a:blip r:embed="rId1"/>
          <a:stretch/>
        </p:blipFill>
        <p:spPr>
          <a:xfrm>
            <a:off x="431640" y="1814400"/>
            <a:ext cx="3422880" cy="30495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7" descr="t235243a"/>
          <p:cNvPicPr/>
          <p:nvPr/>
        </p:nvPicPr>
        <p:blipFill>
          <a:blip r:embed="rId2"/>
          <a:stretch/>
        </p:blipFill>
        <p:spPr>
          <a:xfrm>
            <a:off x="4392720" y="1635120"/>
            <a:ext cx="4438440" cy="3408480"/>
          </a:xfrm>
          <a:prstGeom prst="rect">
            <a:avLst/>
          </a:prstGeom>
          <a:ln w="0">
            <a:noFill/>
          </a:ln>
        </p:spPr>
      </p:pic>
      <p:sp>
        <p:nvSpPr>
          <p:cNvPr id="800" name="TextovéPole 6"/>
          <p:cNvSpPr/>
          <p:nvPr/>
        </p:nvSpPr>
        <p:spPr>
          <a:xfrm>
            <a:off x="1553400" y="540216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Kakadu National Park in the north and termite n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Obrázek 7" descr="Obrázek1.jpg"/>
          <p:cNvPicPr/>
          <p:nvPr/>
        </p:nvPicPr>
        <p:blipFill>
          <a:blip r:embed="rId3"/>
          <a:stretch/>
        </p:blipFill>
        <p:spPr>
          <a:xfrm>
            <a:off x="266760" y="2532240"/>
            <a:ext cx="3249720" cy="2145960"/>
          </a:xfrm>
          <a:prstGeom prst="rect">
            <a:avLst/>
          </a:prstGeom>
          <a:ln w="0">
            <a:noFill/>
          </a:ln>
        </p:spPr>
      </p:pic>
      <p:pic>
        <p:nvPicPr>
          <p:cNvPr id="802" name="Obrázek 8" descr="Obrázek9.png"/>
          <p:cNvPicPr/>
          <p:nvPr/>
        </p:nvPicPr>
        <p:blipFill>
          <a:blip r:embed="rId4"/>
          <a:stretch/>
        </p:blipFill>
        <p:spPr>
          <a:xfrm>
            <a:off x="6006960" y="2919240"/>
            <a:ext cx="2681280" cy="1740240"/>
          </a:xfrm>
          <a:prstGeom prst="rect">
            <a:avLst/>
          </a:prstGeom>
          <a:ln w="0">
            <a:noFill/>
          </a:ln>
        </p:spPr>
      </p:pic>
      <p:pic>
        <p:nvPicPr>
          <p:cNvPr id="803" name="Obrázek 9" descr="Obrázek8.jpg"/>
          <p:cNvPicPr/>
          <p:nvPr/>
        </p:nvPicPr>
        <p:blipFill>
          <a:blip r:embed="rId5"/>
          <a:stretch/>
        </p:blipFill>
        <p:spPr>
          <a:xfrm>
            <a:off x="3675240" y="1635120"/>
            <a:ext cx="2022120" cy="3048120"/>
          </a:xfrm>
          <a:prstGeom prst="rect">
            <a:avLst/>
          </a:prstGeom>
          <a:ln w="0">
            <a:noFill/>
          </a:ln>
        </p:spPr>
      </p:pic>
      <p:sp>
        <p:nvSpPr>
          <p:cNvPr id="804" name="TextovéPole 10"/>
          <p:cNvSpPr/>
          <p:nvPr/>
        </p:nvSpPr>
        <p:spPr>
          <a:xfrm>
            <a:off x="983520" y="504360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luru – Ayers Rock is the largest monolith in the world /348m hig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12" descr="devils_marbles"/>
          <p:cNvPicPr/>
          <p:nvPr/>
        </p:nvPicPr>
        <p:blipFill>
          <a:blip r:embed="rId6"/>
          <a:stretch/>
        </p:blipFill>
        <p:spPr>
          <a:xfrm>
            <a:off x="1701720" y="1455840"/>
            <a:ext cx="5564160" cy="4143240"/>
          </a:xfrm>
          <a:prstGeom prst="rect">
            <a:avLst/>
          </a:prstGeom>
          <a:ln w="0">
            <a:noFill/>
          </a:ln>
        </p:spPr>
      </p:pic>
      <p:sp>
        <p:nvSpPr>
          <p:cNvPr id="806" name="TextovéPole 12"/>
          <p:cNvSpPr/>
          <p:nvPr/>
        </p:nvSpPr>
        <p:spPr>
          <a:xfrm>
            <a:off x="1735200" y="576108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oulders of orange colour are called Devils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7"/>
          <a:stretch/>
        </p:blipFill>
        <p:spPr>
          <a:xfrm>
            <a:off x="2060640" y="1635120"/>
            <a:ext cx="5184720" cy="3456000"/>
          </a:xfrm>
          <a:prstGeom prst="rect">
            <a:avLst/>
          </a:prstGeom>
          <a:ln w="0">
            <a:noFill/>
          </a:ln>
        </p:spPr>
      </p:pic>
      <p:sp>
        <p:nvSpPr>
          <p:cNvPr id="808" name="TextovéPole 14"/>
          <p:cNvSpPr/>
          <p:nvPr/>
        </p:nvSpPr>
        <p:spPr>
          <a:xfrm>
            <a:off x="2259360" y="540216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ungle Bungle Ranges in Wester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4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8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0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8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8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Georgia"/>
              </a:rPr>
              <a:t>Great Barrier Reef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0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Obrázek 4" descr="es (2).jpg"/>
          <p:cNvPicPr/>
          <p:nvPr/>
        </p:nvPicPr>
        <p:blipFill>
          <a:blip r:embed="rId1"/>
          <a:stretch/>
        </p:blipFill>
        <p:spPr>
          <a:xfrm>
            <a:off x="431640" y="14558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12" name="Obrázek 5" descr="images (1).jpg"/>
          <p:cNvPicPr/>
          <p:nvPr/>
        </p:nvPicPr>
        <p:blipFill>
          <a:blip r:embed="rId2"/>
          <a:stretch/>
        </p:blipFill>
        <p:spPr>
          <a:xfrm>
            <a:off x="3309840" y="2706840"/>
            <a:ext cx="2633760" cy="1755720"/>
          </a:xfrm>
          <a:prstGeom prst="rect">
            <a:avLst/>
          </a:prstGeom>
          <a:ln w="0">
            <a:noFill/>
          </a:ln>
        </p:spPr>
      </p:pic>
      <p:pic>
        <p:nvPicPr>
          <p:cNvPr id="813" name="Obrázek 6" descr="images (3).jpg"/>
          <p:cNvPicPr/>
          <p:nvPr/>
        </p:nvPicPr>
        <p:blipFill>
          <a:blip r:embed="rId3"/>
          <a:stretch/>
        </p:blipFill>
        <p:spPr>
          <a:xfrm>
            <a:off x="6186600" y="145584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14" name="Obrázek 7" descr="vacationbareef_NGK0507_lg.jpg"/>
          <p:cNvPicPr/>
          <p:nvPr/>
        </p:nvPicPr>
        <p:blipFill>
          <a:blip r:embed="rId4"/>
          <a:stretch/>
        </p:blipFill>
        <p:spPr>
          <a:xfrm>
            <a:off x="431640" y="4505400"/>
            <a:ext cx="2800440" cy="17874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9" descr="FRANKLAND ISLANDS NATIONAL PARK"/>
          <p:cNvPicPr/>
          <p:nvPr/>
        </p:nvPicPr>
        <p:blipFill>
          <a:blip r:embed="rId5"/>
          <a:stretch/>
        </p:blipFill>
        <p:spPr>
          <a:xfrm>
            <a:off x="5827680" y="4505400"/>
            <a:ext cx="2987640" cy="1811160"/>
          </a:xfrm>
          <a:prstGeom prst="rect">
            <a:avLst/>
          </a:prstGeom>
          <a:ln w="0">
            <a:noFill/>
          </a:ln>
        </p:spPr>
      </p:pic>
      <p:sp>
        <p:nvSpPr>
          <p:cNvPr id="816" name="TextovéPole 9"/>
          <p:cNvSpPr/>
          <p:nvPr/>
        </p:nvSpPr>
        <p:spPr>
          <a:xfrm>
            <a:off x="4042440" y="21733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ral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ovéPole 10"/>
          <p:cNvSpPr/>
          <p:nvPr/>
        </p:nvSpPr>
        <p:spPr>
          <a:xfrm>
            <a:off x="433440" y="36352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he largest deposit of c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ovéPole 11"/>
          <p:cNvSpPr/>
          <p:nvPr/>
        </p:nvSpPr>
        <p:spPr>
          <a:xfrm>
            <a:off x="6369480" y="363528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holiday destination for d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ovéPole 12"/>
          <p:cNvSpPr/>
          <p:nvPr/>
        </p:nvSpPr>
        <p:spPr>
          <a:xfrm>
            <a:off x="3864240" y="4863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en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Georgia"/>
              </a:rPr>
              <a:t>“</a:t>
            </a:r>
            <a:r>
              <a:rPr b="1" lang="en-US" sz="3300" spc="-1" strike="noStrike">
                <a:solidFill>
                  <a:srgbClr val="ff9900"/>
                </a:solidFill>
                <a:latin typeface="Georgia"/>
              </a:rPr>
              <a:t>Good bye Australia”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1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Zástupný symbol pro obsah 4" descr="28ABORIGINAL,0.jpg"/>
          <p:cNvPicPr/>
          <p:nvPr/>
        </p:nvPicPr>
        <p:blipFill>
          <a:blip r:embed="rId1"/>
          <a:stretch/>
        </p:blipFill>
        <p:spPr>
          <a:xfrm>
            <a:off x="2060640" y="1814400"/>
            <a:ext cx="5064120" cy="2367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4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greenwichmeantime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advanceaustraliafair.or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valdosta.edu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anderson-gray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globalholidays.co.u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webmark.com.au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digalist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elvincountry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realtravel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anunews.ne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www.voyagesphotosmanu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over dir="l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7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1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5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9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3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8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9" dur="500"/>
                                        <p:tgtEl>
                                          <p:spTgt spid="8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3" dur="500"/>
                                        <p:tgtEl>
                                          <p:spTgt spid="8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7" dur="500"/>
                                        <p:tgtEl>
                                          <p:spTgt spid="8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1" dur="500"/>
                                        <p:tgtEl>
                                          <p:spTgt spid="8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760" y="2001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Georgia"/>
              </a:rPr>
              <a:t>Histor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Zástupný symbol pro zápatí 2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ovéPole 5"/>
          <p:cNvSpPr/>
          <p:nvPr/>
        </p:nvSpPr>
        <p:spPr>
          <a:xfrm>
            <a:off x="363960" y="157176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00000"/>
                </a:solidFill>
                <a:latin typeface="Arial"/>
              </a:rPr>
              <a:t>Who discovered Austral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ovéPole 7"/>
          <p:cNvSpPr/>
          <p:nvPr/>
        </p:nvSpPr>
        <p:spPr>
          <a:xfrm>
            <a:off x="3503160" y="16272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ptain James C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G:\OVOCIE\images (9).jpg"/>
          <p:cNvPicPr/>
          <p:nvPr/>
        </p:nvPicPr>
        <p:blipFill>
          <a:blip r:embed="rId1"/>
          <a:stretch/>
        </p:blipFill>
        <p:spPr>
          <a:xfrm>
            <a:off x="5827680" y="1455840"/>
            <a:ext cx="927000" cy="1076400"/>
          </a:xfrm>
          <a:prstGeom prst="rect">
            <a:avLst/>
          </a:prstGeom>
          <a:ln w="0">
            <a:noFill/>
          </a:ln>
        </p:spPr>
      </p:pic>
      <p:sp>
        <p:nvSpPr>
          <p:cNvPr id="668" name="TextovéPole 9"/>
          <p:cNvSpPr/>
          <p:nvPr/>
        </p:nvSpPr>
        <p:spPr>
          <a:xfrm>
            <a:off x="450720" y="21733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00000"/>
                </a:solidFill>
                <a:latin typeface="Aria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ovéPole 10"/>
          <p:cNvSpPr/>
          <p:nvPr/>
        </p:nvSpPr>
        <p:spPr>
          <a:xfrm>
            <a:off x="3497760" y="21733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17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ovéPole 11"/>
          <p:cNvSpPr/>
          <p:nvPr/>
        </p:nvSpPr>
        <p:spPr>
          <a:xfrm>
            <a:off x="456480" y="27115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00000"/>
                </a:solidFill>
                <a:latin typeface="Arial"/>
              </a:rPr>
              <a:t>Where did he la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ovéPole 12"/>
          <p:cNvSpPr/>
          <p:nvPr/>
        </p:nvSpPr>
        <p:spPr>
          <a:xfrm>
            <a:off x="3500640" y="27082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Botany B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ovéPole 15"/>
          <p:cNvSpPr/>
          <p:nvPr/>
        </p:nvSpPr>
        <p:spPr>
          <a:xfrm>
            <a:off x="459720" y="342900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00000"/>
                </a:solidFill>
                <a:latin typeface="Arial"/>
              </a:rPr>
              <a:t>When did colonisation sta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ovéPole 16"/>
          <p:cNvSpPr/>
          <p:nvPr/>
        </p:nvSpPr>
        <p:spPr>
          <a:xfrm>
            <a:off x="3520800" y="342900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n 2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anuary 17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ovéPole 17"/>
          <p:cNvSpPr/>
          <p:nvPr/>
        </p:nvSpPr>
        <p:spPr>
          <a:xfrm>
            <a:off x="3506040" y="3787920"/>
            <a:ext cx="39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ustralia became a British convict col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ovéPole 18"/>
          <p:cNvSpPr/>
          <p:nvPr/>
        </p:nvSpPr>
        <p:spPr>
          <a:xfrm>
            <a:off x="3500640" y="414648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ational hol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ovéPole 19"/>
          <p:cNvSpPr/>
          <p:nvPr/>
        </p:nvSpPr>
        <p:spPr>
          <a:xfrm>
            <a:off x="459360" y="4684680"/>
            <a:ext cx="24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00000"/>
                </a:solidFill>
                <a:latin typeface="Arial"/>
              </a:rPr>
              <a:t>What happene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d in 190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ovéPole 20"/>
          <p:cNvSpPr/>
          <p:nvPr/>
        </p:nvSpPr>
        <p:spPr>
          <a:xfrm>
            <a:off x="3519720" y="4684680"/>
            <a:ext cx="460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tralia became an independent Dominion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of the British Commonwealth of N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rázek 22" descr="images (9).jpg"/>
          <p:cNvPicPr/>
          <p:nvPr/>
        </p:nvPicPr>
        <p:blipFill>
          <a:blip r:embed="rId2"/>
          <a:stretch/>
        </p:blipFill>
        <p:spPr>
          <a:xfrm>
            <a:off x="6904080" y="1455840"/>
            <a:ext cx="1523880" cy="1033200"/>
          </a:xfrm>
          <a:prstGeom prst="rect">
            <a:avLst/>
          </a:prstGeom>
          <a:ln w="0">
            <a:noFill/>
          </a:ln>
        </p:spPr>
      </p:pic>
      <p:pic>
        <p:nvPicPr>
          <p:cNvPr id="679" name="Obrázek 23" descr="cooks-voyage-1770.jpg"/>
          <p:cNvPicPr/>
          <p:nvPr/>
        </p:nvPicPr>
        <p:blipFill>
          <a:blip r:embed="rId3"/>
          <a:stretch/>
        </p:blipFill>
        <p:spPr>
          <a:xfrm>
            <a:off x="5827680" y="2532240"/>
            <a:ext cx="1793880" cy="1225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5" descr=""/>
          <p:cNvPicPr/>
          <p:nvPr/>
        </p:nvPicPr>
        <p:blipFill>
          <a:blip r:embed="rId1"/>
          <a:stretch/>
        </p:blipFill>
        <p:spPr>
          <a:xfrm>
            <a:off x="399960" y="1469880"/>
            <a:ext cx="7400880" cy="47404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00a3d6"/>
                </a:solidFill>
                <a:latin typeface="Monotype Corsiva"/>
              </a:rPr>
              <a:t>GEOGRAP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Zástupný symbol pro zápatí 9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the smallest contin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located between the India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Pacific oceans south-east of As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the sixth largest country in the wor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lattest continent with deserts, grassland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vannas and highlan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highest mountain – Mt.Kosciusko /2,228m/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big rivers – the Murray and the Dar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779040" y="892080"/>
            <a:ext cx="20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0066"/>
                </a:solidFill>
                <a:latin typeface="Arial"/>
              </a:rPr>
              <a:t>Australia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"/>
          <p:cNvSpPr/>
          <p:nvPr/>
        </p:nvSpPr>
        <p:spPr>
          <a:xfrm>
            <a:off x="684360" y="2852640"/>
            <a:ext cx="2174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8"/>
          <p:cNvSpPr/>
          <p:nvPr/>
        </p:nvSpPr>
        <p:spPr>
          <a:xfrm>
            <a:off x="826920" y="2852640"/>
            <a:ext cx="21780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9" descr="ausflag3[1]"/>
          <p:cNvPicPr/>
          <p:nvPr/>
        </p:nvPicPr>
        <p:blipFill>
          <a:blip r:embed="rId2"/>
          <a:stretch/>
        </p:blipFill>
        <p:spPr>
          <a:xfrm>
            <a:off x="0" y="0"/>
            <a:ext cx="755640" cy="403200"/>
          </a:xfrm>
          <a:prstGeom prst="rect">
            <a:avLst/>
          </a:prstGeom>
          <a:ln w="0">
            <a:noFill/>
          </a:ln>
        </p:spPr>
      </p:pic>
      <p:sp>
        <p:nvSpPr>
          <p:cNvPr id="688" name="TextovéPole 8"/>
          <p:cNvSpPr/>
          <p:nvPr/>
        </p:nvSpPr>
        <p:spPr>
          <a:xfrm>
            <a:off x="984240" y="4146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0.06319 L 0.15347 0.32569 E">
                                      <p:cBhvr>
                                        <p:cTn id="180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6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0.72448 0.14699 E">
                                      <p:cBhvr>
                                        <p:cTn id="192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6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96d2b"/>
                </a:solidFill>
                <a:latin typeface="Forte"/>
              </a:rPr>
              <a:t>Climat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6" descr="matarank"/>
          <p:cNvPicPr/>
          <p:nvPr/>
        </p:nvPicPr>
        <p:blipFill>
          <a:blip r:embed="rId1"/>
          <a:stretch/>
        </p:blipFill>
        <p:spPr>
          <a:xfrm>
            <a:off x="804960" y="2622600"/>
            <a:ext cx="2031840" cy="1612800"/>
          </a:xfrm>
          <a:prstGeom prst="rect">
            <a:avLst/>
          </a:prstGeom>
          <a:ln w="0">
            <a:noFill/>
          </a:ln>
        </p:spPr>
      </p:pic>
      <p:sp>
        <p:nvSpPr>
          <p:cNvPr id="692" name="TextovéPole 5"/>
          <p:cNvSpPr/>
          <p:nvPr/>
        </p:nvSpPr>
        <p:spPr>
          <a:xfrm>
            <a:off x="1297080" y="18144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In the 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ovéPole 6"/>
          <p:cNvSpPr/>
          <p:nvPr/>
        </p:nvSpPr>
        <p:spPr>
          <a:xfrm>
            <a:off x="880560" y="4684680"/>
            <a:ext cx="224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Tropical weather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rainfo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ovéPole 7"/>
          <p:cNvSpPr/>
          <p:nvPr/>
        </p:nvSpPr>
        <p:spPr>
          <a:xfrm>
            <a:off x="3791160" y="18144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In the c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rázek 9" descr="dry.jpg"/>
          <p:cNvPicPr/>
          <p:nvPr/>
        </p:nvPicPr>
        <p:blipFill>
          <a:blip r:embed="rId2"/>
          <a:stretch/>
        </p:blipFill>
        <p:spPr>
          <a:xfrm>
            <a:off x="3492360" y="2622600"/>
            <a:ext cx="2035440" cy="1612800"/>
          </a:xfrm>
          <a:prstGeom prst="rect">
            <a:avLst/>
          </a:prstGeom>
          <a:ln w="0">
            <a:noFill/>
          </a:ln>
        </p:spPr>
      </p:pic>
      <p:sp>
        <p:nvSpPr>
          <p:cNvPr id="696" name="TextovéPole 11"/>
          <p:cNvSpPr/>
          <p:nvPr/>
        </p:nvSpPr>
        <p:spPr>
          <a:xfrm>
            <a:off x="3438360" y="4684680"/>
            <a:ext cx="206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Continental and d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 </a:t>
            </a: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with mainly de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12"/>
          <p:cNvSpPr/>
          <p:nvPr/>
        </p:nvSpPr>
        <p:spPr>
          <a:xfrm>
            <a:off x="6508440" y="181440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In the 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ázek 13" descr="images (8).jpg"/>
          <p:cNvPicPr/>
          <p:nvPr/>
        </p:nvPicPr>
        <p:blipFill>
          <a:blip r:embed="rId3"/>
          <a:stretch/>
        </p:blipFill>
        <p:spPr>
          <a:xfrm>
            <a:off x="6365880" y="2614680"/>
            <a:ext cx="2031840" cy="1628640"/>
          </a:xfrm>
          <a:prstGeom prst="rect">
            <a:avLst/>
          </a:prstGeom>
          <a:ln w="0">
            <a:noFill/>
          </a:ln>
        </p:spPr>
      </p:pic>
      <p:sp>
        <p:nvSpPr>
          <p:cNvPr id="699" name="TextovéPole 14"/>
          <p:cNvSpPr/>
          <p:nvPr/>
        </p:nvSpPr>
        <p:spPr>
          <a:xfrm>
            <a:off x="6267240" y="4684680"/>
            <a:ext cx="23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Mild and pleas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weather with c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winters and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6d2b"/>
                </a:solidFill>
                <a:latin typeface="Forte"/>
              </a:rPr>
              <a:t>summers in high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system of Governmen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ovéPole 5"/>
          <p:cNvSpPr/>
          <p:nvPr/>
        </p:nvSpPr>
        <p:spPr>
          <a:xfrm>
            <a:off x="441000" y="1635120"/>
            <a:ext cx="52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is                 and                         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ovéPole 7"/>
          <p:cNvSpPr/>
          <p:nvPr/>
        </p:nvSpPr>
        <p:spPr>
          <a:xfrm>
            <a:off x="1708200" y="163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ovéPole 8"/>
          <p:cNvSpPr/>
          <p:nvPr/>
        </p:nvSpPr>
        <p:spPr>
          <a:xfrm>
            <a:off x="3324600" y="16351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ovéPole 9"/>
          <p:cNvSpPr/>
          <p:nvPr/>
        </p:nvSpPr>
        <p:spPr>
          <a:xfrm>
            <a:off x="431640" y="2173320"/>
            <a:ext cx="64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ficial head of state is                            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ovéPole 11"/>
          <p:cNvSpPr/>
          <p:nvPr/>
        </p:nvSpPr>
        <p:spPr>
          <a:xfrm>
            <a:off x="3513600" y="21733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British Queen Elisabeth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ovéPole 12"/>
          <p:cNvSpPr/>
          <p:nvPr/>
        </p:nvSpPr>
        <p:spPr>
          <a:xfrm>
            <a:off x="445320" y="271152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ovéPole 13"/>
          <p:cNvSpPr/>
          <p:nvPr/>
        </p:nvSpPr>
        <p:spPr>
          <a:xfrm>
            <a:off x="2432160" y="27115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vernor-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ovéPole 14"/>
          <p:cNvSpPr/>
          <p:nvPr/>
        </p:nvSpPr>
        <p:spPr>
          <a:xfrm>
            <a:off x="443880" y="324468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city is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ovéPole 15"/>
          <p:cNvSpPr/>
          <p:nvPr/>
        </p:nvSpPr>
        <p:spPr>
          <a:xfrm>
            <a:off x="2427120" y="32446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ovéPole 16"/>
          <p:cNvSpPr/>
          <p:nvPr/>
        </p:nvSpPr>
        <p:spPr>
          <a:xfrm>
            <a:off x="447120" y="378792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ficial language is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ovéPole 17"/>
          <p:cNvSpPr/>
          <p:nvPr/>
        </p:nvSpPr>
        <p:spPr>
          <a:xfrm>
            <a:off x="2971080" y="3787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stralia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ovéPole 18"/>
          <p:cNvSpPr/>
          <p:nvPr/>
        </p:nvSpPr>
        <p:spPr>
          <a:xfrm>
            <a:off x="443520" y="43257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cy is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ovéPole 20"/>
          <p:cNvSpPr/>
          <p:nvPr/>
        </p:nvSpPr>
        <p:spPr>
          <a:xfrm>
            <a:off x="2251800" y="43257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stralian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Obrázek 21" descr="canb.jpg"/>
          <p:cNvPicPr/>
          <p:nvPr/>
        </p:nvPicPr>
        <p:blipFill>
          <a:blip r:embed="rId1"/>
          <a:stretch/>
        </p:blipFill>
        <p:spPr>
          <a:xfrm>
            <a:off x="5961240" y="2711520"/>
            <a:ext cx="2163600" cy="1614240"/>
          </a:xfrm>
          <a:prstGeom prst="rect">
            <a:avLst/>
          </a:prstGeom>
          <a:ln w="0">
            <a:noFill/>
          </a:ln>
        </p:spPr>
      </p:pic>
      <p:pic>
        <p:nvPicPr>
          <p:cNvPr id="716" name="Obrázek 22" descr="canb,parl.house.jpg"/>
          <p:cNvPicPr/>
          <p:nvPr/>
        </p:nvPicPr>
        <p:blipFill>
          <a:blip r:embed="rId2"/>
          <a:stretch/>
        </p:blipFill>
        <p:spPr>
          <a:xfrm>
            <a:off x="6006960" y="4505400"/>
            <a:ext cx="1984680" cy="1646280"/>
          </a:xfrm>
          <a:prstGeom prst="rect">
            <a:avLst/>
          </a:prstGeom>
          <a:ln w="0">
            <a:noFill/>
          </a:ln>
        </p:spPr>
      </p:pic>
      <p:pic>
        <p:nvPicPr>
          <p:cNvPr id="717" name="Obrázek 23" descr="dollar s..jpg"/>
          <p:cNvPicPr/>
          <p:nvPr/>
        </p:nvPicPr>
        <p:blipFill>
          <a:blip r:embed="rId3"/>
          <a:stretch/>
        </p:blipFill>
        <p:spPr>
          <a:xfrm>
            <a:off x="625320" y="4684680"/>
            <a:ext cx="1411560" cy="1411200"/>
          </a:xfrm>
          <a:prstGeom prst="rect">
            <a:avLst/>
          </a:prstGeom>
          <a:ln w="0">
            <a:noFill/>
          </a:ln>
        </p:spPr>
      </p:pic>
      <p:pic>
        <p:nvPicPr>
          <p:cNvPr id="718" name="Obrázek 24" descr="a.dollar.jpg"/>
          <p:cNvPicPr/>
          <p:nvPr/>
        </p:nvPicPr>
        <p:blipFill>
          <a:blip r:embed="rId4"/>
          <a:stretch/>
        </p:blipFill>
        <p:spPr>
          <a:xfrm>
            <a:off x="2778120" y="4729320"/>
            <a:ext cx="1793880" cy="1346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ernard MT Condensed"/>
              </a:rPr>
              <a:t>Australian national flag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Zástupný symbol pro zápatí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Obrázek 4" descr="images (2).jpg"/>
          <p:cNvPicPr/>
          <p:nvPr/>
        </p:nvPicPr>
        <p:blipFill>
          <a:blip r:embed="rId1"/>
          <a:stretch/>
        </p:blipFill>
        <p:spPr>
          <a:xfrm>
            <a:off x="2685960" y="1635120"/>
            <a:ext cx="3772080" cy="2509920"/>
          </a:xfrm>
          <a:prstGeom prst="rect">
            <a:avLst/>
          </a:prstGeom>
          <a:ln w="0">
            <a:noFill/>
          </a:ln>
        </p:spPr>
      </p:pic>
      <p:sp>
        <p:nvSpPr>
          <p:cNvPr id="722" name="TextovéPole 5"/>
          <p:cNvSpPr/>
          <p:nvPr/>
        </p:nvSpPr>
        <p:spPr>
          <a:xfrm>
            <a:off x="843840" y="4684680"/>
            <a:ext cx="787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Bernard MT Condensed"/>
              </a:rPr>
              <a:t>It is a blue field with the </a:t>
            </a:r>
            <a:r>
              <a:rPr b="0" lang="en-US" sz="1800" spc="-1" strike="noStrike">
                <a:solidFill>
                  <a:srgbClr val="ff0000"/>
                </a:solidFill>
                <a:latin typeface="Bernard MT Condensed"/>
              </a:rPr>
              <a:t>British Flag</a:t>
            </a:r>
            <a:r>
              <a:rPr b="0" lang="en-US" sz="1800" spc="-1" strike="noStrike">
                <a:solidFill>
                  <a:srgbClr val="0070c0"/>
                </a:solidFill>
                <a:latin typeface="Bernard MT Condensed"/>
              </a:rPr>
              <a:t> in the left upper corn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nard MT Condensed"/>
              </a:rPr>
              <a:t>Commonwealth /or Federation/ Star </a:t>
            </a:r>
            <a:r>
              <a:rPr b="0" lang="en-US" sz="1800" spc="-1" strike="noStrike">
                <a:solidFill>
                  <a:srgbClr val="0070c0"/>
                </a:solidFill>
                <a:latin typeface="Bernard MT Condensed"/>
              </a:rPr>
              <a:t>bellow it with seven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Bernard MT Condensed"/>
              </a:rPr>
              <a:t>and  </a:t>
            </a:r>
            <a:r>
              <a:rPr b="0" lang="en-US" sz="1800" spc="-1" strike="noStrike">
                <a:solidFill>
                  <a:srgbClr val="ff0000"/>
                </a:solidFill>
                <a:latin typeface="Bernard MT Condensed"/>
              </a:rPr>
              <a:t>Southern Cross</a:t>
            </a:r>
            <a:r>
              <a:rPr b="0" lang="en-US" sz="1800" spc="-1" strike="noStrike">
                <a:solidFill>
                  <a:srgbClr val="0070c0"/>
                </a:solidFill>
                <a:latin typeface="Bernard MT Condensed"/>
              </a:rPr>
              <a:t> constellation /visible in the Southern Hemisphere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ff0000"/>
                </a:solidFill>
                <a:latin typeface="Georgia"/>
              </a:rPr>
              <a:t>Popul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Zástupný symbol pro zápatí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ovéPole 4"/>
          <p:cNvSpPr/>
          <p:nvPr/>
        </p:nvSpPr>
        <p:spPr>
          <a:xfrm>
            <a:off x="943560" y="199404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There are about 20 million people in Australi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mostly of British orig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ovéPole 6"/>
          <p:cNvSpPr/>
          <p:nvPr/>
        </p:nvSpPr>
        <p:spPr>
          <a:xfrm>
            <a:off x="2026440" y="2532240"/>
            <a:ext cx="50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density is very low, only 2 people to 1sq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ovéPole 7"/>
          <p:cNvSpPr/>
          <p:nvPr/>
        </p:nvSpPr>
        <p:spPr>
          <a:xfrm>
            <a:off x="891720" y="305928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st inhabitants live in the cities and towns along the south-east co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Obrázek 8" descr="Obrázek1.png"/>
          <p:cNvPicPr/>
          <p:nvPr/>
        </p:nvPicPr>
        <p:blipFill>
          <a:blip r:embed="rId1"/>
          <a:stretch/>
        </p:blipFill>
        <p:spPr>
          <a:xfrm>
            <a:off x="804960" y="3608280"/>
            <a:ext cx="2324160" cy="1710000"/>
          </a:xfrm>
          <a:prstGeom prst="rect">
            <a:avLst/>
          </a:prstGeom>
          <a:ln w="0">
            <a:noFill/>
          </a:ln>
        </p:spPr>
      </p:pic>
      <p:pic>
        <p:nvPicPr>
          <p:cNvPr id="729" name="Obrázek 9" descr="aboriginals.jpg"/>
          <p:cNvPicPr/>
          <p:nvPr/>
        </p:nvPicPr>
        <p:blipFill>
          <a:blip r:embed="rId2"/>
          <a:stretch/>
        </p:blipFill>
        <p:spPr>
          <a:xfrm>
            <a:off x="3433680" y="3608280"/>
            <a:ext cx="2276640" cy="1725840"/>
          </a:xfrm>
          <a:prstGeom prst="rect">
            <a:avLst/>
          </a:prstGeom>
          <a:ln w="0">
            <a:noFill/>
          </a:ln>
        </p:spPr>
      </p:pic>
      <p:pic>
        <p:nvPicPr>
          <p:cNvPr id="730" name="Obrázek 10" descr="AbKurandashowDig2-513x412.jpg"/>
          <p:cNvPicPr/>
          <p:nvPr/>
        </p:nvPicPr>
        <p:blipFill>
          <a:blip r:embed="rId3"/>
          <a:stretch/>
        </p:blipFill>
        <p:spPr>
          <a:xfrm>
            <a:off x="6006960" y="3608280"/>
            <a:ext cx="2152800" cy="1728720"/>
          </a:xfrm>
          <a:prstGeom prst="rect">
            <a:avLst/>
          </a:prstGeom>
          <a:ln w="0">
            <a:noFill/>
          </a:ln>
        </p:spPr>
      </p:pic>
      <p:sp>
        <p:nvSpPr>
          <p:cNvPr id="731" name="TextovéPole 11"/>
          <p:cNvSpPr/>
          <p:nvPr/>
        </p:nvSpPr>
        <p:spPr>
          <a:xfrm>
            <a:off x="782280" y="5581800"/>
            <a:ext cx="75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native people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origin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/2%/, they live mainly in the north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b050"/>
                </a:solidFill>
                <a:latin typeface="Baskerville Old Face"/>
              </a:rPr>
              <a:t>Australian anim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Zástupný symbol pro zápatí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Obrázek 4" descr="klokan.jpg"/>
          <p:cNvPicPr/>
          <p:nvPr/>
        </p:nvPicPr>
        <p:blipFill>
          <a:blip r:embed="rId1"/>
          <a:stretch/>
        </p:blipFill>
        <p:spPr>
          <a:xfrm>
            <a:off x="266760" y="1635120"/>
            <a:ext cx="1987560" cy="1488960"/>
          </a:xfrm>
          <a:prstGeom prst="rect">
            <a:avLst/>
          </a:prstGeom>
          <a:ln w="0">
            <a:noFill/>
          </a:ln>
        </p:spPr>
      </p:pic>
      <p:pic>
        <p:nvPicPr>
          <p:cNvPr id="735" name="Obrázek 5" descr="kl.znak.jpg"/>
          <p:cNvPicPr/>
          <p:nvPr/>
        </p:nvPicPr>
        <p:blipFill>
          <a:blip r:embed="rId2"/>
          <a:stretch/>
        </p:blipFill>
        <p:spPr>
          <a:xfrm>
            <a:off x="446040" y="1455840"/>
            <a:ext cx="1973160" cy="1743120"/>
          </a:xfrm>
          <a:prstGeom prst="rect">
            <a:avLst/>
          </a:prstGeom>
          <a:ln w="0">
            <a:noFill/>
          </a:ln>
        </p:spPr>
      </p:pic>
      <p:pic>
        <p:nvPicPr>
          <p:cNvPr id="736" name="Obrázek 6" descr="klokani.jpg"/>
          <p:cNvPicPr/>
          <p:nvPr/>
        </p:nvPicPr>
        <p:blipFill>
          <a:blip r:embed="rId3"/>
          <a:stretch/>
        </p:blipFill>
        <p:spPr>
          <a:xfrm>
            <a:off x="266760" y="1455840"/>
            <a:ext cx="2152440" cy="1793880"/>
          </a:xfrm>
          <a:prstGeom prst="rect">
            <a:avLst/>
          </a:prstGeom>
          <a:ln w="0">
            <a:noFill/>
          </a:ln>
        </p:spPr>
      </p:pic>
      <p:sp>
        <p:nvSpPr>
          <p:cNvPr id="737" name="TextovéPole 7"/>
          <p:cNvSpPr/>
          <p:nvPr/>
        </p:nvSpPr>
        <p:spPr>
          <a:xfrm>
            <a:off x="633240" y="3419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angar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Obrázek 9" descr="images (5).jpg"/>
          <p:cNvPicPr/>
          <p:nvPr/>
        </p:nvPicPr>
        <p:blipFill>
          <a:blip r:embed="rId4"/>
          <a:stretch/>
        </p:blipFill>
        <p:spPr>
          <a:xfrm>
            <a:off x="2598840" y="1635120"/>
            <a:ext cx="1725480" cy="1574640"/>
          </a:xfrm>
          <a:prstGeom prst="rect">
            <a:avLst/>
          </a:prstGeom>
          <a:ln w="0">
            <a:noFill/>
          </a:ln>
        </p:spPr>
      </p:pic>
      <p:sp>
        <p:nvSpPr>
          <p:cNvPr id="739" name="TextovéPole 10"/>
          <p:cNvSpPr/>
          <p:nvPr/>
        </p:nvSpPr>
        <p:spPr>
          <a:xfrm>
            <a:off x="3141360" y="3419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Obrázek 11" descr="250koala0.jpg"/>
          <p:cNvPicPr/>
          <p:nvPr/>
        </p:nvPicPr>
        <p:blipFill>
          <a:blip r:embed="rId5"/>
          <a:stretch/>
        </p:blipFill>
        <p:spPr>
          <a:xfrm>
            <a:off x="4572000" y="1635120"/>
            <a:ext cx="1973160" cy="1631880"/>
          </a:xfrm>
          <a:prstGeom prst="rect">
            <a:avLst/>
          </a:prstGeom>
          <a:ln w="0">
            <a:noFill/>
          </a:ln>
        </p:spPr>
      </p:pic>
      <p:sp>
        <p:nvSpPr>
          <p:cNvPr id="741" name="TextovéPole 12"/>
          <p:cNvSpPr/>
          <p:nvPr/>
        </p:nvSpPr>
        <p:spPr>
          <a:xfrm>
            <a:off x="4939560" y="3419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oala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rázek 13" descr="Obrázek4.jpg"/>
          <p:cNvPicPr/>
          <p:nvPr/>
        </p:nvPicPr>
        <p:blipFill>
          <a:blip r:embed="rId6"/>
          <a:stretch/>
        </p:blipFill>
        <p:spPr>
          <a:xfrm>
            <a:off x="6724800" y="1635120"/>
            <a:ext cx="2197080" cy="1490760"/>
          </a:xfrm>
          <a:prstGeom prst="rect">
            <a:avLst/>
          </a:prstGeom>
          <a:ln w="0">
            <a:noFill/>
          </a:ln>
        </p:spPr>
      </p:pic>
      <p:sp>
        <p:nvSpPr>
          <p:cNvPr id="743" name="TextovéPole 14"/>
          <p:cNvSpPr/>
          <p:nvPr/>
        </p:nvSpPr>
        <p:spPr>
          <a:xfrm>
            <a:off x="7449480" y="3419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echi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Obrázek 15" descr="Obrázek4.png"/>
          <p:cNvPicPr/>
          <p:nvPr/>
        </p:nvPicPr>
        <p:blipFill>
          <a:blip r:embed="rId7"/>
          <a:stretch/>
        </p:blipFill>
        <p:spPr>
          <a:xfrm>
            <a:off x="266760" y="4146480"/>
            <a:ext cx="1724040" cy="1535040"/>
          </a:xfrm>
          <a:prstGeom prst="rect">
            <a:avLst/>
          </a:prstGeom>
          <a:ln w="0">
            <a:noFill/>
          </a:ln>
        </p:spPr>
      </p:pic>
      <p:sp>
        <p:nvSpPr>
          <p:cNvPr id="745" name="TextovéPole 16"/>
          <p:cNvSpPr/>
          <p:nvPr/>
        </p:nvSpPr>
        <p:spPr>
          <a:xfrm>
            <a:off x="811080" y="5761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d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Obrázek 17" descr="Obrázek5.jpg"/>
          <p:cNvPicPr/>
          <p:nvPr/>
        </p:nvPicPr>
        <p:blipFill>
          <a:blip r:embed="rId8"/>
          <a:stretch/>
        </p:blipFill>
        <p:spPr>
          <a:xfrm>
            <a:off x="2419200" y="4146480"/>
            <a:ext cx="1819440" cy="1592280"/>
          </a:xfrm>
          <a:prstGeom prst="rect">
            <a:avLst/>
          </a:prstGeom>
          <a:ln w="0">
            <a:noFill/>
          </a:ln>
        </p:spPr>
      </p:pic>
      <p:sp>
        <p:nvSpPr>
          <p:cNvPr id="747" name="TextovéPole 18"/>
          <p:cNvSpPr/>
          <p:nvPr/>
        </p:nvSpPr>
        <p:spPr>
          <a:xfrm>
            <a:off x="2418480" y="57610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asmanian de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Obrázek 19" descr="platypus_zoom.jpg"/>
          <p:cNvPicPr/>
          <p:nvPr/>
        </p:nvPicPr>
        <p:blipFill>
          <a:blip r:embed="rId9"/>
          <a:stretch/>
        </p:blipFill>
        <p:spPr>
          <a:xfrm>
            <a:off x="4572000" y="4146480"/>
            <a:ext cx="2152800" cy="155916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20"/>
          <p:cNvSpPr/>
          <p:nvPr/>
        </p:nvSpPr>
        <p:spPr>
          <a:xfrm>
            <a:off x="5117400" y="5761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Obrázek 22" descr="images (11).jpg"/>
          <p:cNvPicPr/>
          <p:nvPr/>
        </p:nvPicPr>
        <p:blipFill>
          <a:blip r:embed="rId10"/>
          <a:stretch/>
        </p:blipFill>
        <p:spPr>
          <a:xfrm>
            <a:off x="6904080" y="4146480"/>
            <a:ext cx="1973160" cy="1614600"/>
          </a:xfrm>
          <a:prstGeom prst="rect">
            <a:avLst/>
          </a:prstGeom>
          <a:ln w="0">
            <a:noFill/>
          </a:ln>
        </p:spPr>
      </p:pic>
      <p:sp>
        <p:nvSpPr>
          <p:cNvPr id="751" name="TextovéPole 23"/>
          <p:cNvSpPr/>
          <p:nvPr/>
        </p:nvSpPr>
        <p:spPr>
          <a:xfrm>
            <a:off x="7270560" y="57610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crocod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Bodoni MT Black"/>
              </a:rPr>
              <a:t>National econom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3" name="Zástupný symbol pro zápatí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ovéPole 4"/>
          <p:cNvSpPr/>
          <p:nvPr/>
        </p:nvSpPr>
        <p:spPr>
          <a:xfrm>
            <a:off x="466560" y="163512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The main raw materials are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ovéPole 5"/>
          <p:cNvSpPr/>
          <p:nvPr/>
        </p:nvSpPr>
        <p:spPr>
          <a:xfrm>
            <a:off x="3339000" y="1635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on ore, coal, gold, si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ovéPole 6"/>
          <p:cNvSpPr/>
          <p:nvPr/>
        </p:nvSpPr>
        <p:spPr>
          <a:xfrm>
            <a:off x="419760" y="2173320"/>
            <a:ext cx="79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The main industries are                                      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ovéPole 7"/>
          <p:cNvSpPr/>
          <p:nvPr/>
        </p:nvSpPr>
        <p:spPr>
          <a:xfrm>
            <a:off x="3044160" y="21733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ning, food /cheese, meat/, textile /woollen clot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ovéPole 8"/>
          <p:cNvSpPr/>
          <p:nvPr/>
        </p:nvSpPr>
        <p:spPr>
          <a:xfrm>
            <a:off x="464760" y="2711520"/>
            <a:ext cx="74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The agriculture is developing in                and                 stations /farms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ovéPole 9"/>
          <p:cNvSpPr/>
          <p:nvPr/>
        </p:nvSpPr>
        <p:spPr>
          <a:xfrm>
            <a:off x="3681000" y="2711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ovéPole 10"/>
          <p:cNvSpPr/>
          <p:nvPr/>
        </p:nvSpPr>
        <p:spPr>
          <a:xfrm>
            <a:off x="5294520" y="2711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ovéPole 11"/>
          <p:cNvSpPr/>
          <p:nvPr/>
        </p:nvSpPr>
        <p:spPr>
          <a:xfrm>
            <a:off x="452160" y="3249720"/>
            <a:ext cx="63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ustralia is a big exporter of      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ovéPole 12"/>
          <p:cNvSpPr/>
          <p:nvPr/>
        </p:nvSpPr>
        <p:spPr>
          <a:xfrm>
            <a:off x="3373560" y="32497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mb, beef, wheat, wool,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Obrázek 13" descr="stockmanSheep.jpg"/>
          <p:cNvPicPr/>
          <p:nvPr/>
        </p:nvPicPr>
        <p:blipFill>
          <a:blip r:embed="rId1"/>
          <a:stretch/>
        </p:blipFill>
        <p:spPr>
          <a:xfrm>
            <a:off x="804960" y="3789360"/>
            <a:ext cx="2539800" cy="1689120"/>
          </a:xfrm>
          <a:prstGeom prst="rect">
            <a:avLst/>
          </a:prstGeom>
          <a:ln w="0">
            <a:noFill/>
          </a:ln>
        </p:spPr>
      </p:pic>
      <p:pic>
        <p:nvPicPr>
          <p:cNvPr id="764" name="Obrázek 14" descr="image_preview (1).jpg"/>
          <p:cNvPicPr/>
          <p:nvPr/>
        </p:nvPicPr>
        <p:blipFill>
          <a:blip r:embed="rId2"/>
          <a:stretch/>
        </p:blipFill>
        <p:spPr>
          <a:xfrm>
            <a:off x="4751280" y="3789360"/>
            <a:ext cx="2705040" cy="1612800"/>
          </a:xfrm>
          <a:prstGeom prst="rect">
            <a:avLst/>
          </a:prstGeom>
          <a:ln w="0">
            <a:noFill/>
          </a:ln>
        </p:spPr>
      </p:pic>
      <p:sp>
        <p:nvSpPr>
          <p:cNvPr id="765" name="TextovéPole 16"/>
          <p:cNvSpPr/>
          <p:nvPr/>
        </p:nvSpPr>
        <p:spPr>
          <a:xfrm>
            <a:off x="1338120" y="5581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obruk sheep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ovéPole 17"/>
          <p:cNvSpPr/>
          <p:nvPr/>
        </p:nvSpPr>
        <p:spPr>
          <a:xfrm>
            <a:off x="5111280" y="55818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Comalco Alumina Ref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Jan Holub</cp:lastModifiedBy>
  <dcterms:modified xsi:type="dcterms:W3CDTF">2010-12-11T20:35:26Z</dcterms:modified>
  <cp:revision>87</cp:revision>
  <dc:subject/>
  <dc:title>POSLOUPNOSTI</dc:title>
</cp:coreProperties>
</file>