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C60-9B6D-47B5-81A7-4E002282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757-C7B2-49F3-AEE9-87038AFA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CB8B-9533-445E-8487-84306012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3DE-AE46-4060-AEEE-9CE51F79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282F-72C7-431E-ADCA-38A0BD4D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5E09-2919-4A79-B047-DEE6B5DD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B2D1-1826-44D3-A7C8-4E863D86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F303-161A-4C55-8BFF-B485D060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900-D950-4C5A-97D9-071826A3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895B-E8DF-450A-89E9-BFE0E332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F94-6786-4398-A752-286617EC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5A0-AB62-41AC-8673-50516BAF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2"/>
            </a:gs>
            <a:gs pos="100000">
              <a:srgbClr val="00b6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7577-0DA5-43DF-B14D-FC650152492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Optimalizace a realizace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logických výraz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640080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acoval: Ing. Jan Prok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 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2"/>
            </a:gs>
            <a:gs pos="100000">
              <a:srgbClr val="00b6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7040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vrh schéma zapojení, de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-li automat složitý, začneme s blokovým schéma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odrobné vykreslení zvolíme druh schéma, nejčastěji podle firemních zvykl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hodné je liniové schéma, kde vlevo jsou vstupy, uprostřed jednotlivé funkce, vpravo výstu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současné době existuje množství software, který automaticky schéma zapojení vygener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ftware automaticky navrhne rozmístění prvků na desce tištěných spojů, potřebné masky, vrtací program i program pro osazení de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2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2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2"/>
            </a:gs>
            <a:gs pos="100000">
              <a:srgbClr val="00b6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652400" y="3092400"/>
            <a:ext cx="4303080" cy="3301920"/>
            <a:chOff x="1652400" y="3092400"/>
            <a:chExt cx="4303080" cy="3301920"/>
          </a:xfrm>
        </p:grpSpPr>
        <p:sp>
          <p:nvSpPr>
            <p:cNvPr id="80" name=""/>
            <p:cNvSpPr/>
            <p:nvPr/>
          </p:nvSpPr>
          <p:spPr>
            <a:xfrm>
              <a:off x="1752480" y="3192480"/>
              <a:ext cx="360" cy="32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52720" y="3192480"/>
              <a:ext cx="360" cy="32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52960" y="3192480"/>
              <a:ext cx="360" cy="32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52480" y="3692880"/>
              <a:ext cx="110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52720" y="3893040"/>
              <a:ext cx="80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53360" y="3492720"/>
              <a:ext cx="399960" cy="60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3760" y="3792960"/>
              <a:ext cx="1500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53680" y="3692880"/>
              <a:ext cx="99720" cy="9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52400" y="3092400"/>
              <a:ext cx="99720" cy="997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52640" y="3092400"/>
              <a:ext cx="99720" cy="997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52880" y="3092400"/>
              <a:ext cx="99720" cy="997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52480" y="4793400"/>
              <a:ext cx="21013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52960" y="5694120"/>
              <a:ext cx="299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53200" y="5594040"/>
              <a:ext cx="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53200" y="5594040"/>
              <a:ext cx="19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53200" y="5794200"/>
              <a:ext cx="19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53360" y="5393880"/>
              <a:ext cx="399960" cy="60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53680" y="5594040"/>
              <a:ext cx="99720" cy="9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53760" y="5694120"/>
              <a:ext cx="299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654000" y="4993200"/>
              <a:ext cx="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54000" y="4993560"/>
              <a:ext cx="19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54160" y="4593600"/>
              <a:ext cx="399960" cy="60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54480" y="4793400"/>
              <a:ext cx="99720" cy="9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54560" y="4893480"/>
              <a:ext cx="299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5280" y="3792960"/>
              <a:ext cx="99720" cy="9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654800" y="3992760"/>
              <a:ext cx="0" cy="9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54800" y="3993120"/>
              <a:ext cx="19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54960" y="3592800"/>
              <a:ext cx="399960" cy="60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55360" y="3893040"/>
              <a:ext cx="50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55760" y="3792960"/>
              <a:ext cx="99720" cy="9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7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raz připraven pro realizac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obsahuje jen negované konjunk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vrhneme schéma zapoj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879720" y="1969920"/>
                <a:ext cx="13208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395280" y="333360"/>
            <a:ext cx="82296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609560" y="2790720"/>
            <a:ext cx="3409920" cy="2884680"/>
            <a:chOff x="1609560" y="2790720"/>
            <a:chExt cx="3409920" cy="2884680"/>
          </a:xfrm>
        </p:grpSpPr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2522520" y="3524400"/>
                  <a:ext cx="21240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t xml:space="preserve">b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1609560" y="2790720"/>
                  <a:ext cx="807840" cy="3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/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3381120" y="4613400"/>
                  <a:ext cx="21276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3398760" y="5392800"/>
                  <a:ext cx="21276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d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2442960" y="5427720"/>
                  <a:ext cx="19512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3931920" y="3438360"/>
                  <a:ext cx="319320" cy="3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b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4665600" y="4314960"/>
                  <a:ext cx="35388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99120" y="3511440"/>
                <a:ext cx="2142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5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8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2" nodeType="afterEffect" fill="hold" presetClass="entr" presetID="5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92" nodeType="afterEffect" fill="hold" presetClass="entr" presetID="3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6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6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2"/>
            </a:gs>
            <a:gs pos="100000">
              <a:srgbClr val="00b6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Ukázka katalo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9760" y="2224080"/>
            <a:ext cx="8639280" cy="371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2"/>
            </a:gs>
            <a:gs pos="100000">
              <a:srgbClr val="00b6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28760" y="1276200"/>
            <a:ext cx="757224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rekapitulujeme a konkretizujeme sché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e schéma vyplývá, že budeme potřebovat čtyři dvouvstupová NAND hrad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 katalogu volíme IO 7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le přiřazení pinů IO 7400 doplníme číslování do sché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333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252360" y="3068640"/>
            <a:ext cx="1728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62120" y="3314880"/>
            <a:ext cx="357192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           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03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   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04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     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cs-CZ" sz="9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cs-CZ" sz="900" spc="-1" strike="noStrike">
                <a:solidFill>
                  <a:srgbClr val="f4420a"/>
                </a:solidFill>
                <a:latin typeface="Arial"/>
              </a:rPr>
              <a:t>    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   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            </a:t>
            </a:r>
            <a:r>
              <a:rPr b="1" lang="cs-CZ" sz="1100" spc="-1" strike="noStrike">
                <a:solidFill>
                  <a:srgbClr val="f4420a"/>
                </a:solidFill>
                <a:latin typeface="Arial"/>
              </a:rPr>
              <a:t>06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4420a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f4420a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62640" y="3044880"/>
            <a:ext cx="2314800" cy="302256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1652400" y="3092400"/>
            <a:ext cx="4303080" cy="3301920"/>
            <a:chOff x="1652400" y="3092400"/>
            <a:chExt cx="4303080" cy="3301920"/>
          </a:xfrm>
        </p:grpSpPr>
        <p:sp>
          <p:nvSpPr>
            <p:cNvPr id="132" name=""/>
            <p:cNvSpPr/>
            <p:nvPr/>
          </p:nvSpPr>
          <p:spPr>
            <a:xfrm>
              <a:off x="1752480" y="3192480"/>
              <a:ext cx="360" cy="32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52720" y="3192480"/>
              <a:ext cx="360" cy="32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52960" y="3192480"/>
              <a:ext cx="360" cy="32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52480" y="3692880"/>
              <a:ext cx="110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52720" y="3893040"/>
              <a:ext cx="80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53360" y="3492720"/>
              <a:ext cx="399960" cy="60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53760" y="3792960"/>
              <a:ext cx="1500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53680" y="3692880"/>
              <a:ext cx="99720" cy="9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52400" y="3092400"/>
              <a:ext cx="99720" cy="997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52640" y="3092400"/>
              <a:ext cx="99720" cy="997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52880" y="3092400"/>
              <a:ext cx="99720" cy="997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2480" y="4793400"/>
              <a:ext cx="21013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52960" y="5694120"/>
              <a:ext cx="299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53200" y="5594040"/>
              <a:ext cx="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53200" y="5594040"/>
              <a:ext cx="19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53200" y="5794200"/>
              <a:ext cx="19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53360" y="5393880"/>
              <a:ext cx="399960" cy="60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3680" y="5594040"/>
              <a:ext cx="99720" cy="9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53760" y="5694120"/>
              <a:ext cx="299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654000" y="4993200"/>
              <a:ext cx="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54000" y="4993560"/>
              <a:ext cx="19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54160" y="4593600"/>
              <a:ext cx="399960" cy="60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54480" y="4793400"/>
              <a:ext cx="99720" cy="9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4560" y="4893480"/>
              <a:ext cx="299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55280" y="3792960"/>
              <a:ext cx="99720" cy="9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654800" y="3992760"/>
              <a:ext cx="0" cy="9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54800" y="3993120"/>
              <a:ext cx="19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54960" y="3592800"/>
              <a:ext cx="399960" cy="60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5360" y="3893040"/>
              <a:ext cx="50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55760" y="3792960"/>
              <a:ext cx="99720" cy="9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628640" y="2800440"/>
            <a:ext cx="3409920" cy="2883960"/>
            <a:chOff x="1628640" y="2800440"/>
            <a:chExt cx="3409920" cy="2883960"/>
          </a:xfrm>
        </p:grpSpPr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2541600" y="3533760"/>
                  <a:ext cx="212400" cy="50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t xml:space="preserve">b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1628640" y="2800440"/>
                  <a:ext cx="807840" cy="2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/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3400200" y="4622760"/>
                  <a:ext cx="212760" cy="52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3417840" y="5402160"/>
                  <a:ext cx="21276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d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2462040" y="5437080"/>
                  <a:ext cx="195120" cy="24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3951000" y="3447720"/>
                  <a:ext cx="319320" cy="2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b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4684680" y="4324320"/>
                  <a:ext cx="353880" cy="31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8000"/>
                            </p:stCondLst>
                            <p:childTnLst>
                              <p:par>
                                <p:cTn id="431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6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1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4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6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8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4000"/>
                            </p:stCondLst>
                            <p:childTnLst>
                              <p:par>
                                <p:cTn id="451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0"/>
                            </p:stCondLst>
                            <p:childTnLst>
                              <p:par>
                                <p:cTn id="456" nodeType="afterEffect" fill="hold" presetClass="entr" presetID="5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8000"/>
                            </p:stCondLst>
                            <p:childTnLst>
                              <p:par>
                                <p:cTn id="464" nodeType="afterEffect" fill="hold" presetClass="entr" presetID="5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4000"/>
                            </p:stCondLst>
                            <p:childTnLst>
                              <p:par>
                                <p:cTn id="472" nodeType="afterEffect" fill="hold" presetClass="entr" presetID="3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2"/>
            </a:gs>
            <a:gs pos="100000">
              <a:srgbClr val="00b6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vrh desky tištěných spoj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ska podle složitosti automatu může být jednostranná, oboustranná nebo i vícevrst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částky mohou být s drátěnými vývody, pak je deska ve spojích vrtaná. Dnes se používají bezvývodové miniaturní součástky (SMD), pak odpadá většina d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oba desky je různá, nejčastěji se používá chemické odleptávání nepotřebné mědi z tzv. Cuprextitu, lisařské technologie a tiskařské techn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sazování a pájení součástek probíhá na automatu, výjimečně ruč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2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4" dur="2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2"/>
            </a:gs>
            <a:gs pos="100000">
              <a:srgbClr val="00b6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Ukázka realizovaného výrob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00120" y="1109520"/>
            <a:ext cx="5788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2"/>
            </a:gs>
            <a:gs pos="100000">
              <a:srgbClr val="00b6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632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stování a montá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 testování se použije buď prototyp nebo testovací zařízení a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ntáží zabudováním do vhodné skříně a opatřením štítky zkompletujeme celý auto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0"/>
                            </p:stCondLst>
                            <p:childTnLst>
                              <p:par>
                                <p:cTn id="54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8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9000"/>
                            </p:stCondLst>
                            <p:childTnLst>
                              <p:par>
                                <p:cTn id="550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2"/>
            </a:gs>
            <a:gs pos="100000">
              <a:srgbClr val="00b6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6624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ptimaliza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ogického výra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úprava výrazu tak, aby jej bylo možné realiz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konkrétními integrovanými obvody (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aliza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ogického výra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čívá v uskutečnění minimalizovaného a optimalizova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azu do podoby fungujícího fyzického za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1000"/>
                            </p:stCondLst>
                            <p:childTnLst>
                              <p:par>
                                <p:cTn id="52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6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2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2"/>
            </a:gs>
            <a:gs pos="100000">
              <a:srgbClr val="00b6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Optim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75596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o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krétní IO volíme hlavně podle pořizovací c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levnější IO je dvouvstupové NAND hradlo = Shefferova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pravy provádíme pomocí zákonů a pravidel Booleovské algebry, nejčastěji aplikací de Morganových záko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ílem úpravy je výraz převést na negované souč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30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20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2"/>
            </a:gs>
            <a:gs pos="100000">
              <a:srgbClr val="00b6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Optim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087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olba 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hledáme vhodný výrobek, nejlépe v katalogu výrobce nebo na interne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itériem je vhodná funkce, počet vstupů a minimální cena, protože v automatu bývá použito velké množství 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levnější Shefferova funkce je negovaný logický součin = N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obci jej shodně označují „74xx00“, kde 7 značí prostředí, 4 logické prvky, xx bližší označení (např. „L“= nízká spotřeba, „S“= rychlý) a 00 právě 4x dvouvstupovou funkci NAND v jednom pouzd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4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2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2"/>
            </a:gs>
            <a:gs pos="100000">
              <a:srgbClr val="00b6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Ukázka katalo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13760" cy="909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2"/>
            </a:gs>
            <a:gs pos="100000">
              <a:srgbClr val="00b6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Optim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70545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Úprava výr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úpravách se „zbavujeme“ logických součtů a logické součiny opatřujeme negacemi. Negovaný součin je vlastně Shefferova funkce = N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pravy provádíme pomocí zákonů a pravidel Booleovské algebry, nejčastěji aplikací de Morganových záko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2"/>
            </a:gs>
            <a:gs pos="100000">
              <a:srgbClr val="00b6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7272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adán výr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nimalizujeme, nejrychleji Karnaughovou map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nimalizovaný výrok pak 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vznikl „čtením“ v Karnaughově mapě po sdružení „1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46080" y="2727360"/>
          <a:ext cx="2155680" cy="1706400"/>
        </p:xfrm>
        <a:graphic>
          <a:graphicData uri="http://schemas.openxmlformats.org/drawingml/2006/table">
            <a:tbl>
              <a:tblPr/>
              <a:tblGrid>
                <a:gridCol w="431640"/>
                <a:gridCol w="430200"/>
                <a:gridCol w="432000"/>
                <a:gridCol w="430200"/>
                <a:gridCol w="43164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124000" y="1628640"/>
                <a:ext cx="5811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794040" y="4651200"/>
                <a:ext cx="151308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395280" y="33336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252360" y="3068640"/>
            <a:ext cx="1728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359000" y="3816360"/>
            <a:ext cx="3044520" cy="955440"/>
            <a:chOff x="1359000" y="3816360"/>
            <a:chExt cx="3044520" cy="955440"/>
          </a:xfrm>
        </p:grpSpPr>
        <p:sp>
          <p:nvSpPr>
            <p:cNvPr id="62" name=""/>
            <p:cNvSpPr/>
            <p:nvPr/>
          </p:nvSpPr>
          <p:spPr>
            <a:xfrm>
              <a:off x="1359000" y="3816360"/>
              <a:ext cx="1728720" cy="28872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43240" y="4105080"/>
              <a:ext cx="2060280" cy="666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031760" y="3825720"/>
            <a:ext cx="3929040" cy="888840"/>
            <a:chOff x="1031760" y="3825720"/>
            <a:chExt cx="3929040" cy="888840"/>
          </a:xfrm>
        </p:grpSpPr>
        <p:sp>
          <p:nvSpPr>
            <p:cNvPr id="65" name=""/>
            <p:cNvSpPr/>
            <p:nvPr/>
          </p:nvSpPr>
          <p:spPr>
            <a:xfrm>
              <a:off x="1031760" y="3825720"/>
              <a:ext cx="863640" cy="576360"/>
            </a:xfrm>
            <a:prstGeom prst="ellipse">
              <a:avLst/>
            </a:prstGeom>
            <a:noFill/>
            <a:ln w="9360">
              <a:solidFill>
                <a:srgbClr val="f793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76520" y="4349520"/>
              <a:ext cx="3274920" cy="355680"/>
            </a:xfrm>
            <a:prstGeom prst="line">
              <a:avLst/>
            </a:prstGeom>
            <a:ln w="9360">
              <a:solidFill>
                <a:srgbClr val="f793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7080" y="4214520"/>
              <a:ext cx="1593720" cy="500040"/>
            </a:xfrm>
            <a:prstGeom prst="line">
              <a:avLst/>
            </a:prstGeom>
            <a:ln w="9360">
              <a:solidFill>
                <a:srgbClr val="f793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60680" y="3825720"/>
              <a:ext cx="863640" cy="576360"/>
            </a:xfrm>
            <a:prstGeom prst="ellipse">
              <a:avLst/>
            </a:prstGeom>
            <a:noFill/>
            <a:ln w="9360">
              <a:solidFill>
                <a:srgbClr val="f793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500"/>
                            </p:stCondLst>
                            <p:childTnLst>
                              <p:par>
                                <p:cTn id="174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2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6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20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50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2000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2500"/>
                            </p:stCondLst>
                            <p:childTnLst>
                              <p:par>
                                <p:cTn id="210" nodeType="afterEffect" fill="hold" presetClass="entr" presetID="3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4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8500"/>
                            </p:stCondLst>
                            <p:childTnLst>
                              <p:par>
                                <p:cTn id="219" nodeType="afterEffect" fill="hold" presetClass="entr" presetID="3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4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2"/>
            </a:gs>
            <a:gs pos="100000">
              <a:srgbClr val="00b6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67071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raz optimalizuj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hodneme se pro NAND hradla, pak bude úpr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idempotentní pravid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de Morganovo pravid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yní je výraz připraven pro realiza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obsahuje jen negované konjunk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826920" y="2575080"/>
                <a:ext cx="1513080" cy="15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</m:bar>
                          </m:e>
                        </m:ba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b</m:t>
                                </m:r>
                              </m:e>
                            </m:ba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395280" y="333360"/>
            <a:ext cx="82296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252360" y="3068640"/>
            <a:ext cx="1728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724360" y="2492280"/>
                <a:ext cx="138276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</m:ba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ba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7000"/>
                            </p:stCondLst>
                            <p:childTnLst>
                              <p:par>
                                <p:cTn id="259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20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4000"/>
                            </p:stCondLst>
                            <p:childTnLst>
                              <p:par>
                                <p:cTn id="263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200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1000"/>
                            </p:stCondLst>
                            <p:childTnLst>
                              <p:par>
                                <p:cTn id="267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7e2"/>
            </a:gs>
            <a:gs pos="100000">
              <a:srgbClr val="00b6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70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o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optimalizaci se navrhne schéma zapoj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leduje návrh desky tištěných spo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ska se osadí všemi prvky (IO, konektory, spínače, kontrolky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sazená deska se ote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budováním do skříně se dokončí realizace autom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2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20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3:47:50Z</dcterms:created>
  <dc:creator>Honza</dc:creator>
  <dc:description/>
  <dc:language>en-US</dc:language>
  <cp:lastModifiedBy>Honza</cp:lastModifiedBy>
  <dcterms:modified xsi:type="dcterms:W3CDTF">2010-11-23T21:51:05Z</dcterms:modified>
  <cp:revision>63</cp:revision>
  <dc:subject/>
  <dc:title>Metody minimalizace logických výrazů</dc:title>
</cp:coreProperties>
</file>