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D38-45BD-49DC-AA4F-D4CB126B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E35-AB90-474A-AFC9-2CB2761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7EE-3423-4DB6-B2E9-996FC5A3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BC6-171F-4C95-BB75-B1439706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8B9-AF9D-459F-BED6-A18A300D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764-9611-4FB9-AC7C-162533B5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1D4-6DA8-430C-AEC0-51345DAC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678-C5A0-43ED-BC8B-711AFF0C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310-5BA1-4F87-9407-356E2F82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C54-9820-431E-9380-25EB5557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941-E65A-47BC-BB16-E954EEE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5B0-D7C3-438C-A6F5-A55735D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163-6EEA-4CF2-B97C-90A2124538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ování TEM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ěření tepl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3716280"/>
            <a:ext cx="648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: podklady TESLA Vráble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</a:t>
            </a:r>
            <a:r>
              <a:rPr b="0" lang="cs-CZ" sz="1200" spc="-1" strike="noStrike" u="sng">
                <a:solidFill>
                  <a:srgbClr val="333399"/>
                </a:solidFill>
                <a:uFillTx/>
                <a:latin typeface="Arial"/>
              </a:rPr>
              <a:t>http://avdsys.blog.cz/0706/tesm-800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ování obecně je tvůrčí, analytická a abstraktní 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ázali jsme jen základní techniky, spíše tipy – triky a ukázku zvládnutí měření teploty na příkl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ůležité jsou odborné vědomosti programátora o klopných obvodech, elektrických čidlech teploty, o charakteristikách použitých součástek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atní je na schopnostech, zkušenostech a invenci program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íme řídit reproduktorek, nechat zaznít několik tónů a nyní zvládáme využití klopného obvodu, ovládaného hodnotou odporu na měřicích svor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íváme doporučený formulář k zápisu programu, nezapomínáme na komentá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ě se musíme zabývat laděním programu kvůli kalibraci údaje o teplotě na displeji zdokonalujeme se trénin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číme se od zkušených , ale pozor na ochranu autorských 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3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4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2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4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2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199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ování obecně je tvůrčí činnost, vyžaduje navíc znalosti z oboru, kterého se program týk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me se zabývat jen základními technikami a ukázkami programování na příklad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atní je na schopnostech, zkušenostech a invenci programát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Školní počítač vybaven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ůmyslové úč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andardní zástavba – do kufř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ůhled do ni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elní porty jsou připojené na A/D převod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 převodníky obsluhují přímo motůrek či reprodukt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en port je vybaven převodníkem odpor/čas a slouží jako vstup ze senzorů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užívá se pro měření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riový port je využitý pro komunikaci s kazetovým magnetofo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ware – tzv. monitor je účelně vybavený podprogra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částí je manuál k obsluze TEMS 80-03, kde se najde mj. popis podprogramů monitoru a také návod na obsluhu displ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někud syrová, ale praktická příručka programování je plná příkladů a kompletních progra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ítač obslouží i rozšiřující desku TEMS 80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45160" y="0"/>
            <a:ext cx="4398840" cy="29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2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2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20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200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200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200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2000"/>
                            </p:stCondLst>
                            <p:childTnLst>
                              <p:par>
                                <p:cTn id="111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Řízení portu pro sen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pro senzor je řízen přes nastavený paralelní port (brána C = F6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čten přes bránu B = F6</a:t>
            </a:r>
            <a:r>
              <a:rPr b="1" lang="en-US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vovým slovem ve formá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2205000"/>
          <a:ext cx="4038480" cy="460440"/>
        </p:xfrm>
        <a:graphic>
          <a:graphicData uri="http://schemas.openxmlformats.org/drawingml/2006/table">
            <a:tbl>
              <a:tblPr/>
              <a:tblGrid>
                <a:gridCol w="444600"/>
                <a:gridCol w="512640"/>
                <a:gridCol w="514440"/>
                <a:gridCol w="544320"/>
                <a:gridCol w="482760"/>
                <a:gridCol w="512640"/>
                <a:gridCol w="514440"/>
                <a:gridCol w="51264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211640" y="2276640"/>
            <a:ext cx="460836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 0010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2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0 ukazuje překlopení klopného obvodu zpět (1 = nepřeklopeno, 0 = překlop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1 určuje start klopného obvod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= start, 0 = klidový stav)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lší bity libovolná hodnota - nevyuž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084640"/>
            <a:ext cx="813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e vlastně o hlídání stavu klopného obvodu: Bitem 1 odstartujeme překlopení a na bitu 0 čekáme na zprávu o překlopení zpě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284720" y="2708280"/>
            <a:ext cx="250920" cy="504720"/>
            <a:chOff x="4284720" y="2708280"/>
            <a:chExt cx="250920" cy="504720"/>
          </a:xfrm>
        </p:grpSpPr>
        <p:sp>
          <p:nvSpPr>
            <p:cNvPr id="57" name=""/>
            <p:cNvSpPr/>
            <p:nvPr/>
          </p:nvSpPr>
          <p:spPr>
            <a:xfrm>
              <a:off x="4284720" y="3213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8472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6200000">
            <a:off x="1836720" y="1339920"/>
            <a:ext cx="287280" cy="30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79640" y="2997360"/>
            <a:ext cx="2520720" cy="1510920"/>
            <a:chOff x="1979640" y="2997360"/>
            <a:chExt cx="2520720" cy="1510920"/>
          </a:xfrm>
        </p:grpSpPr>
        <p:sp>
          <p:nvSpPr>
            <p:cNvPr id="61" name=""/>
            <p:cNvSpPr/>
            <p:nvPr/>
          </p:nvSpPr>
          <p:spPr>
            <a:xfrm>
              <a:off x="1979640" y="2997360"/>
              <a:ext cx="0" cy="15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79640" y="450828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780000" y="2708280"/>
            <a:ext cx="720000" cy="1080360"/>
            <a:chOff x="3780000" y="2708280"/>
            <a:chExt cx="720000" cy="1080360"/>
          </a:xfrm>
        </p:grpSpPr>
        <p:sp>
          <p:nvSpPr>
            <p:cNvPr id="64" name=""/>
            <p:cNvSpPr/>
            <p:nvPr/>
          </p:nvSpPr>
          <p:spPr>
            <a:xfrm>
              <a:off x="3780000" y="378864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80000" y="2708280"/>
              <a:ext cx="0" cy="10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stavení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yní sestavíme program pro obsluhu senzo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znát instrukční sadu procesoru 8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znát adresy I/O bran a způsob řízení paralelního portu 8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odneme od jaké adresy v RAM paměti uložíme program (obvykle 2000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napíšeme do doporučeného formuláře v mnemokódu a přeložíme do instrukční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bude fungovat jako nekonečná smyčka díky instrukci JMP START, která posílá program stále na jeho začátek. Ukončit lze jen klávesou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opatříme adresami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vynecháme komentář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povědu a inspiraci čerpáme s výhodou z příručky program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zadáme do paměti pomocí kláves &lt;MEM&gt;, &lt;NEXT&gt; a &lt;EXE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ustíme klávesami &lt;GO&gt; (adresa) &lt;EXE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olujeme výsledek: testujeme změ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dnot na senzoru a čteme údaj o teplo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displ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2989440" cy="23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500"/>
                            </p:stCondLst>
                            <p:childTnLst>
                              <p:par>
                                <p:cTn id="197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1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95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2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2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78487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zobrazit údaj na disple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jeme podprogram AKTDS (aktualizace displeje) nejlépe instrukcí R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program očekává parametr volby zobrazení v registru 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 = 02 nebo 8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ové pole bez tečky nebo s tečk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 = 04 nebo 84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dresové pole bez tečky nebo s tečk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 zobrazení očekává v registru D příp. v dvojregistru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získat údaj úměrný teplot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jeme načítání po jedničce do registru do doby, než se objeví na vstupu informace z klopného obvodu, že překlopil zpě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VI B,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nulování registru pro načítání p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O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R B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čtení 1 do reg.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 F5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tení stavu klopného obvodu (1 nepřekl., 0 překlo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I 0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maskování bitu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NZ SKO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ok podle stavu bitu 0 (1 skok, 0 pokračuj dá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30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2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1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2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20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90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20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3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20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7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200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kázka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7993080" cy="3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hodný formulář a program „měření teploty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1844640"/>
          <a:ext cx="8424720" cy="4017960"/>
        </p:xfrm>
        <a:graphic>
          <a:graphicData uri="http://schemas.openxmlformats.org/drawingml/2006/table">
            <a:tbl>
              <a:tblPr/>
              <a:tblGrid>
                <a:gridCol w="647640"/>
                <a:gridCol w="576000"/>
                <a:gridCol w="1152720"/>
                <a:gridCol w="503280"/>
                <a:gridCol w="647640"/>
                <a:gridCol w="649440"/>
                <a:gridCol w="4248000"/>
              </a:tblGrid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C, 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volba zobrazení teploty do reg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 pro AKT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8255 do registr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8255 na adresu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7</a:t>
                      </a:r>
                      <a:r>
                        <a:rPr b="1" lang="en-US" sz="1200" spc="-1" strike="noStrike" baseline="-20000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OP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A, 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klopného obvodu do reg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UT F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klopného obvodu na brán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B, 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9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vynulování registr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IN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B+1 -&gt;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IN F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F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čtení stav. slova klopného obvodu z port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NI 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E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vymaskování bitu 0 stav. slova klop. obv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JNZ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ELAY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, když výsl. funkce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N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není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MOV D,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je-li výsl. funkce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N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nula, přesun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B -&gt;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ALL AKT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puštění podprogr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KTDS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 = zobraz. teplo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JMP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L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H 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kok na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ibrace teploměru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vynulovaného registr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v cyklu s kontrolou stavového slova klopného obvodu načítají jedničky a jejich celkový počet je úměrný době vybíjení kondenzátoru přes odporové čidlo teploty do překlopení klopného obv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or čidla roste s teplotou, proto se prodlužuje doba vybíjení do překlopení a tím se do registr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počítá více jednič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ouhlasí-li počáteční hodnota teploty, upravíme ji vložením vhodného čísla do registr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ísto původní n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te-li údaj teploty příliš rychle, upravíme ji vložením vhodné „zdržovací“ instrukce do cyk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te-li údaj teploty příliš pomalu, upravíme ji načítáním dvou jedniček do registr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oladíme vložením vhodné „zdržovací“ instrukce do cyk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500"/>
                            </p:stCondLst>
                            <p:childTnLst>
                              <p:par>
                                <p:cTn id="354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95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3"/>
            </a:gs>
            <a:gs pos="100000">
              <a:srgbClr val="cdc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 rozšíření vědom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840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Booleovy algebry známe funkc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logický sou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á instruk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ovede logický součin mezi obsahem regist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číslem za instru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íslo za instrukcí slouží jako m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konkrétním případě se mezi sebou násobí stavové slovo  (hodnota bitu 0) a maska (konkrétně 0000 0001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tip spočívá v tom, že dokud hodnota nultého bitu stavového slova bude jedna (což odpovídá aktivnímu stavu klopného obvodu), logický součin 1x1 s maskou nebude nula a následná instruk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N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skok, když není nula) provede návrat na načtení jedničky do regist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rve po překlopení klopného obvodu do klidového stavu vyjde maskováním nula a instruk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N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kok již neprov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9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3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7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0"/>
                            </p:stCondLst>
                            <p:childTnLst>
                              <p:par>
                                <p:cTn id="401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2-04-30T08:13:24Z</dcterms:modified>
  <cp:revision>135</cp:revision>
  <dc:subject/>
  <dc:title>Metody minimalizace logických výrazů</dc:title>
</cp:coreProperties>
</file>