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B4F-A44A-40EE-85AF-6873CED4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569-13C2-4E57-A54A-8B9BB02E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9C6-13DE-4A3D-BC88-FAD70465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3D6-DB75-498A-A10C-8CA4995E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BCA-2FC8-41F1-9FB2-AEF5DEF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DA6-F9C2-4285-9C2A-2D2C6BEA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FED-A759-4C2A-A730-7DE45E1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576-CC42-48BE-A798-AEECCAC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CB9-D3C6-4A7F-BAD9-9C2FD0F4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61A-2886-421E-B7EB-3B3DB7E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E19-EDB7-48B6-89B4-A0BF990B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6E8-3EEB-4654-9944-03DF92F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F425-C5DB-42FB-8047-81C6ED818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or 808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kční sad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3716280"/>
            <a:ext cx="6400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,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Wikipedia, </a:t>
            </a:r>
            <a:r>
              <a:rPr b="0" lang="cs-CZ" sz="1200" spc="-1" strike="noStrike" u="sng">
                <a:solidFill>
                  <a:srgbClr val="333399"/>
                </a:solidFill>
                <a:uFillTx/>
                <a:latin typeface="Arial"/>
              </a:rPr>
              <a:t>http://avdsys.blog.cz/0706/tesm-800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strukční 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7885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 výpisu obsahu pam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exakó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SCII kó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6912000" cy="42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or - CPU, ALU, později mikroprocesor 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ejchytřejší součástkou v počítač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ybaven registry, ukazatelem zásobníku a čítačem instruk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číst a provádět instrukce progr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instrukční s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aritmetické op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logické ope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rozhodovat, řídit a koordino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spolupracovat s pamě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 komunikovat s periferi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kroprocesor 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Tesla MHB808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 Československou obdobou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 Intel 8080A vyvinutý v roce 19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8bitový procesor technologie NMOS s adresovatelným paměťovým prostorem 64 kB a 256 adresovatelnými V/V brán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ktovací frekvence procesoru je 1 až 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 potřebný k vykonání instrukce je minimálně 4 hodinové tak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 to jeden z nejrozšířenějších procesorů své doby, který měl široké využit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průmyslových aplikací až po první domácí počítače, k ovládání světelných křižovatek, střel s plochou dráhou letu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cesor je inteligentní zařízení, které člověk musí naprogramovat, aby konalo účelnou čin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instrukční sadu, která představuje souhrn jeho dovedností, pomocí ní zadáváme procesoru úko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ování ve strojovém hexakódu není pro člověka vhodné, proto si vytvořil mnemokó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sembler je pomůcka pro tvorbu programů v mnemokódu, dokáže také automaticky překládat do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stavili jsme si příklady instrukcí i kompletní instrukční s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ali jsme příklad programu v Assembleru a obsah paměti v hexa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tatní už je na schopnostech a zkušenostech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7632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or - CPU, ALU, později mikroprocesor -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sory prvních počítačů se skládaly z obvodů obsahujících množství součástek – elektronek nebo tranzistorů, rezistorů a kondenzátorů. Takový procesor zabíral i několik skříní. V 70. létech minulého století započala miniaturizace procesorů. Nejprve byly složeny z několika desítek nebo stovek integrovaných obvodů, když se pak podařilo umístit základní obvody procesoru do jediného integrovaného obvodu, vznikl mikroproce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nejchytřejší součástkou v počíta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vybaven registry, ukazatelem zásobníku a čítačem i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číst a provádět instrukce 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instrukční s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aritmetické op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logické op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rozhodovat, řídit a koordin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spolupracovat s pam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 komunikovat s perifer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4581360"/>
            <a:ext cx="2952720" cy="10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34136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ncip činnosti počítače podle von Neuman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e vstupních zařízení přes ALU se umístí program pro provedení výpočtu 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operační pamě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ejně se umístí data, se kterými program bude praco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ALU se provede vý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výsledky jsou ukládány do pamě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provedení výpočtu jsou výsledky poslány na výstupní za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 je řízeno a koordinováno řadič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90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kroprocesor 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Tesla MHB808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Československou obdobou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Intel 8080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vinutý v roce 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á se o 8bitový procesor technologie NMO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adresovatelným paměťovým prostorem 64 kB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256 adresovatelnými V/V brá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tovací frekvence procesoru je 1 až 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 potřebný k vykonání instrukce je minimál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 hodinové t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to jeden z nejrozšířenějších procesorů své doby, který měl široké využití od průmyslových aplika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ž po první domácí počítače, k ovládání světelných křižovatek, střel s plochou dráhou letu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20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4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4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89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istry mikroproces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352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vlastní práci je mikroprocesor vybaven registry, které umožňují výpočty, přesuny, komunikaci s okolím, provádění instrukcí a 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492280"/>
          <a:ext cx="8569080" cy="3340080"/>
        </p:xfrm>
        <a:graphic>
          <a:graphicData uri="http://schemas.openxmlformats.org/drawingml/2006/table">
            <a:tbl>
              <a:tblPr/>
              <a:tblGrid>
                <a:gridCol w="720720"/>
                <a:gridCol w="792000"/>
                <a:gridCol w="2160720"/>
                <a:gridCol w="4895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žit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adač, Accumu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častěji používaný registr mnoha instrukc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 příznaků, 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uje příznaky čísla v reg.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voj)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 čís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voj)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 čísla nebo adre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voj)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 adresy (H=high, L=lo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azatel zásobníku, Stack Poi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duje naplnění zásobní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ítač progr. instrukce, Program Co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duje program, ukazuje na prováděnou instruk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strukční 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907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ování  procesoru v „jeho jazyce“ není vhodné pro člověka, proto si vytvořil mnemokód, který je snadno zapamatovatelný – Assembler jej pak automaticky přeloží do strojového kódu proces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teré typické i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2492280"/>
          <a:ext cx="8569080" cy="3684600"/>
        </p:xfrm>
        <a:graphic>
          <a:graphicData uri="http://schemas.openxmlformats.org/drawingml/2006/table">
            <a:tbl>
              <a:tblPr/>
              <a:tblGrid>
                <a:gridCol w="1439640"/>
                <a:gridCol w="720720"/>
                <a:gridCol w="936720"/>
                <a:gridCol w="5472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zdná operace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 B,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sun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obsahu z A d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I C,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ží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 data do registru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A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lní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registr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bsahem na adrese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ětší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nt) hodnotu v B 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R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enší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nt) hodnotu v C 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A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očte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xclusive Or) z hodnot v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I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očt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 z hodnot v A a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podprogram umístěný na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at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n) z podprogra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strukční 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2205000"/>
          <a:ext cx="8569080" cy="3060720"/>
        </p:xfrm>
        <a:graphic>
          <a:graphicData uri="http://schemas.openxmlformats.org/drawingml/2006/table">
            <a:tbl>
              <a:tblPr/>
              <a:tblGrid>
                <a:gridCol w="1404720"/>
                <a:gridCol w="692280"/>
                <a:gridCol w="1023840"/>
                <a:gridCol w="5448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e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P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odmíněný skok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na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Z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l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k na adr., když není nula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p if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Z ad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k na adr., když je nula (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p if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šle obsah dvojregistru DE do zásobní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 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zvedne data ze zásobníku a vloží do dvojregistru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jme data z portu do registru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šle obsah registru A na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staví činnost proceso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50920" y="1773360"/>
            <a:ext cx="78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instruk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strukční 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765000"/>
            <a:ext cx="788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letní s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247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strukční 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78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 zápisu programu v Assemble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Program vypíše na obrazovku „AHOJ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 reg. B = čítač znaků, HL = ukazatel na zna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LXI H,TX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nastavení ukazatele na 1. z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MVI B,DELKA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nastaení čítače na počet zna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 přenos jednotlivých zna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YKL: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MOV C,M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načtení znaku do reg.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ALL zobr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zobrazení znaku na obrazov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NX H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zvětšení ukazatele 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DCR B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zmenšení čítače 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JNZ CYKL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je čítač = 0? pokud ne, opakuj od CYK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pokud ano, všechny znaky jsou zobraz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JMP adr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skok do základního 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END STAR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;konec programu začínajícího na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akto vytvořený program Assembler přeloží do hexakó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tomu je nutné vědět, kam do paměti bude program ulož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0-12-31T12:57:43Z</dcterms:modified>
  <cp:revision>103</cp:revision>
  <dc:subject/>
  <dc:title>Metody minimalizace logických výrazů</dc:title>
</cp:coreProperties>
</file>