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18E-5132-498F-B525-38EE149C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7D6-88BC-4314-A988-94CBF472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1A7-7EC3-4045-8FC2-C56214B8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F56-C2FB-4EF5-88DE-7A267FA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4EE-791F-4D53-AB30-87FDF7CE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2B8-272C-4310-98C8-8E3B335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CD7-8155-4F50-9646-299FBF1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20A-D429-4495-8DC4-E2A2611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4AA-3DA6-4A6D-B906-064A21B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372-ADF1-4949-AB3E-B5D2BE7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74B-D7D1-49E1-9630-61AD9DD1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2D8-8652-4982-BC0A-EA0562E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4A3-1278-4667-BBF9-247742C1E2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sid.cvut.cz/cz/u12110/ar/index_c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sid.cvut.cz/cz/u12110/ar/other/tab2fce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áce s logickými výraz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řes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3716280"/>
            <a:ext cx="6400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www: http://www.fsid.cvut.cz/cz/U12110/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57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ali jsme si, jak lze práci s logickými výrazy (minimalizaci a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ování realizaci) provádět pomocí dnes běžných prostředků, kte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volně k dispozici na intern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říklad jsme si zvolili stránky ČVUT Praha, kate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matického ří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lšímu objevování možností využívání prostředků, dostup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internetu, se meze neklad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57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s logickými výrazy, zejména minimalizace, optimaliza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ování realizace, je natolik běžná, že je možné ji dnes provád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s prostředky, které jsou volně k dispozici na 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7570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ívané postup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zpracované teorie a nápovědy, příklady po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řešených úloh z akademického svě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problému - nejčastěji pravdivostní tabul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e zákonů a pravidel Booleovské algebry na minimalizaci a optimalizaci, dnes s využitím vhodného softw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vrh zapojení, dnes díky softwaru automatizov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vrh desky tištěných spojů, též díky softwaru automatizov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ace funkce = náhrada za výrobu prototypu při realiz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7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4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1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po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147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ipujeme vhodnou www stránku s danou tématik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našem případě využijeme stránky ČVUT, katedry Automatick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id.cvut.cz/cz/u12110/ar/index_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ace úloh vyžaduje JAVA verzi 1.5, proto otestujeme svůj prohlíž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olíme v menu „Seznam úloh“, kde si lze prohlížet množství zadání a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ereme „LK2 Kombinační obvod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 se již necháme vést obsahem strá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619272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2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po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kázka obsahu strá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8964720" cy="337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olíme zadání „K1“ a realizaci „NAND“ hrad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ídíme se doporučeným postup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ikneme na: 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stavte logickou funk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řídíme se obsahem strá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logických „1“v pravdivostní tabulce vznikne 1. kánonický tva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logických „0“ 2. kánonický t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líme s výhodou jednodušší z 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Příklad použi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734400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2000"/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2000"/>
                                        <p:tgtEl>
                                          <p:spTgt spid="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malizujeme funkci Karnaughovou mapou nebo klikneme na odkaz a minimalizaci provedeme z využitím zákonů Booleovy algeb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nou funkci pak realizujeme, s výhodou využi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zuální simul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dispozici jsou tlačítka START/STOP, X1 a X2 jako vstupy, dále dvou- a třívstupové funkce NAND a indikátory LED – výstupy Y1 a 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jeme „Poznámky k ovládán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íklad použi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497800" cy="312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200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zapojení pak vypadá tak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dispozici jsou tlačítka START/STOP, X1 a X2 jako vstupy, dále dvou- a třívstupové funkce NAND a indikátory LED – výstupy Y1 a 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ýstupech je Y1=0 a Y2=1 při hodnotách na vstupech START/STOP=1, X1=0 a X2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souladu se zadání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Příklad použi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1625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20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Honza</cp:lastModifiedBy>
  <dcterms:modified xsi:type="dcterms:W3CDTF">2010-11-29T16:05:27Z</dcterms:modified>
  <cp:revision>43</cp:revision>
  <dc:subject/>
  <dc:title>Metody minimalizace logických výrazů</dc:title>
</cp:coreProperties>
</file>