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809-0CC6-4704-8E0D-C02D3F3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88E-0151-4AB8-B45D-63E57FA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038-FF6C-4D0E-85E2-708F5AB6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B22-00B1-4429-B739-A377E0F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A48-072B-4C4E-B004-0B31587C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BA7-E370-4F70-A8F4-C216697E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B24-1578-43B6-BF49-599EAA2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994-F188-44BC-BFC0-8AB2E9C3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666-EA97-4764-84F1-33EC52A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7C9-D2A9-42B1-9AA8-FCD9073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5EB-CA72-49F3-872C-07FDC1D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068-2FD6-48B6-9559-5C8482D6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838-DC94-4780-9594-89CECABB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ční obvod, názvoslo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3716280"/>
            <a:ext cx="648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racoval: Ing. Jan Prok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 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981000"/>
            <a:ext cx="8748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up z regulátoru podle poměru mezi žádanou a regulova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sahuje do vstupu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akční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   </a:t>
            </a:r>
            <a:r>
              <a:rPr b="1" i="1" lang="en-US" sz="2400" spc="-1" strike="noStrike">
                <a:solidFill>
                  <a:srgbClr val="f76125"/>
                </a:solidFill>
                <a:latin typeface="Comic Sans MS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akční 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up z reguláto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huje podle výsledku porovnání mezi žádanou a regulovan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huje zpravidla proti regulované = záporná 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adná 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pětná vazba naopak zesiluje = využití jako posilovač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197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332000" y="2781360"/>
            <a:ext cx="718920" cy="5032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63640" y="4292280"/>
            <a:ext cx="287280" cy="730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20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4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20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1000"/>
                            </p:stCondLst>
                            <p:childTnLst>
                              <p:par>
                                <p:cTn id="45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2000"/>
                                        <p:tgtEl>
                                          <p:spTgt spid="1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7000"/>
                            </p:stCondLst>
                            <p:childTnLst>
                              <p:par>
                                <p:cTn id="45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2000"/>
                                        <p:tgtEl>
                                          <p:spTgt spid="19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ční obvod jako celek - názvo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žádaná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akční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regulovaná velič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akční 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poruchy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sním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222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42920" y="2565360"/>
            <a:ext cx="1008000" cy="7192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63640" y="4292280"/>
            <a:ext cx="287280" cy="730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547640" y="4436640"/>
            <a:ext cx="1008360" cy="36036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940000" y="4437000"/>
            <a:ext cx="144360" cy="21600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011640" y="3357720"/>
            <a:ext cx="360360" cy="2872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067280" y="2276640"/>
            <a:ext cx="504720" cy="28872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7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pětná vaz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81000"/>
            <a:ext cx="8569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átor působí jako zpětná vazba regulované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porná 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řirozená, nejčast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e stabiliz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akční veličina </a:t>
            </a:r>
            <a:r>
              <a:rPr b="1" i="1" lang="en-US" sz="2400" spc="-1" strike="noStrike">
                <a:solidFill>
                  <a:srgbClr val="f76125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76125"/>
                </a:solidFill>
                <a:latin typeface="Comic Sans MS"/>
              </a:rPr>
              <a:t>   </a:t>
            </a:r>
            <a:r>
              <a:rPr b="1" i="1" lang="en-US" sz="2400" spc="-1" strike="noStrike">
                <a:solidFill>
                  <a:srgbClr val="f76125"/>
                </a:solidFill>
                <a:latin typeface="Comic Sans MS"/>
              </a:rPr>
              <a:t>-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regulovaná veličina </a:t>
            </a:r>
            <a:r>
              <a:rPr b="1" i="1" lang="en-US" sz="2400" spc="-1" strike="noStrike">
                <a:solidFill>
                  <a:srgbClr val="f76125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251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332000" y="2997360"/>
            <a:ext cx="718920" cy="43020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011640" y="3357720"/>
            <a:ext cx="360360" cy="2872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8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pětná vaz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981000"/>
            <a:ext cx="8497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átor působí jako zpětná vazba regulované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adná 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zpravidla nežádoucí, nebezpečná, může způsobit katastrof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e destabiliz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ýjimečně se využívá ve funkci posilova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akční veličina 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1" i="1" lang="cs-CZ" sz="2000" spc="-1" strike="noStrike">
                <a:solidFill>
                  <a:srgbClr val="f76125"/>
                </a:solidFill>
                <a:latin typeface="Comic Sans MS"/>
              </a:rPr>
              <a:t>   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+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regulovaná veličina </a:t>
            </a:r>
            <a:r>
              <a:rPr b="1" i="1" lang="cs-CZ" sz="2400" spc="-1" strike="noStrike">
                <a:solidFill>
                  <a:srgbClr val="f76125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276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011640" y="3357720"/>
            <a:ext cx="360360" cy="2872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2997360"/>
            <a:ext cx="718920" cy="43020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 z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416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lově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bzvlášť muž) je v podstatě líný t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ž se neumí soustředit na víc, než jednu 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ž dokáže udělat cokoliv, aby nemusel, co dosud (praco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átor nahradil ruční ovládání člově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vobodil ho od povinnosti chodit do práce – a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 bere člověku prác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 je neúnavný, spolehlivý, výkonný, stále ve střeh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 se stal součástí naše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 řídí svět a – což je nežádoucí – začíná řídit i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6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2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66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2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4000"/>
                            </p:stCondLst>
                            <p:childTnLst>
                              <p:par>
                                <p:cTn id="67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2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281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lověk je v podstatě líný tvor a vynalézá vše proto, aby nemusel …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pracovat holýma ruk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vynakládat svou sílu a znásobil ji využíváním cizí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gulát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osobně ovládat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o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ahradil více činností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ybern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jim člověk svěřil i invenci a fanta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člověk nemusel už vůbec ni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2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2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2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lověk je v podstatě líný tvor a vynalézá vše proto, aby nemusel …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pracovat holýma ruk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o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vynakládat svou sílu a znásobil ji využíváním cizí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gulát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emusel osobně ovládat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o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nahradil více činností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ybern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jim člověk svěřil i invenci a fanta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by člověk nemusel už vůbec ni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to vznikl i obor regulace a regulační tech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4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7921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stro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omůcka pro vykonávání práce, kterou člověk nezvládne holýma rukama (nůž, kopí, sekera, rýč, pluh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zařízení na ovládání nástroje cizí energií, získanou zpravidla motorem z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ládán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způsob řízení zařízení osobně člověkem s použitím smys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á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řídicí prvek, který nahradí ruční ovládání člově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ímač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vek pro sledování regulované velič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ční čl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vek pro ovládání vstupu regulovan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98100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kladní výchozí stav je ruční ovládání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476360" y="3081240"/>
            <a:ext cx="5257800" cy="1600200"/>
            <a:chOff x="1476360" y="3081240"/>
            <a:chExt cx="5257800" cy="1600200"/>
          </a:xfrm>
        </p:grpSpPr>
        <p:sp>
          <p:nvSpPr>
            <p:cNvPr id="52" name=""/>
            <p:cNvSpPr/>
            <p:nvPr/>
          </p:nvSpPr>
          <p:spPr>
            <a:xfrm>
              <a:off x="3076560" y="376704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05360" y="38815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5360" y="4567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05360" y="4110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19360" y="38815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19360" y="4567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19360" y="4338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0760" y="4110120"/>
              <a:ext cx="685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110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05360" y="43387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0680" y="38815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2047680" y="3880800"/>
              <a:ext cx="228600" cy="4572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7680" y="3652560"/>
              <a:ext cx="228600" cy="114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162160" y="3652560"/>
              <a:ext cx="720" cy="45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4240" y="3195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91160" y="3081240"/>
              <a:ext cx="68580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934240" y="3766680"/>
              <a:ext cx="72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0920" y="2421000"/>
            <a:ext cx="122580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2987640" y="2707920"/>
            <a:ext cx="24494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ísto člověka, měřidla a ventilu bude regulátor, snímač a akční 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76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8497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ovaná soustava má svoje chování a na změny vstupů reag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měnou na výstu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vstupy</a:t>
            </a: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výstu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to chování lze zjišť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ívním pozorováním, zpravidla zdlouhavým, zpracování komplik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ou „Black Box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ím odezvou na skok na v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98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565360"/>
            <a:ext cx="144360" cy="115092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48000" y="2565360"/>
            <a:ext cx="360360" cy="115092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81000"/>
            <a:ext cx="8497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n ze vstupů je vhodný pro účinnou regulaci, ostatní se chova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o poru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vhodný v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poru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vhodného vstu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obře ovladate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lo na to již dříve pamat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 na soustavu potřebný vl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123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2276640"/>
            <a:ext cx="720720" cy="165708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547640" y="4436640"/>
            <a:ext cx="1008360" cy="14436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7" nodeType="after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0" nodeType="after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20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8497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n z výstupů chceme regulovat, proto regulátor musí sledo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 stav pomocí snímač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regulovaný vý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76125"/>
                </a:solidFill>
                <a:latin typeface="Comic Sans MS"/>
              </a:rPr>
              <a:t>sním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regulovaného výstu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lověka chceme osvobodit od ručního ovládání daného výstu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leží nám na spolehlivé a ustálené hodno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148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6443640" y="4005360"/>
            <a:ext cx="432000" cy="28872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940000" y="4437000"/>
            <a:ext cx="144360" cy="21600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2000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gulační ob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981000"/>
            <a:ext cx="8497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ulátor potřebuje znát, jakou úroveň má zvolený výstup mít, 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 musíme dát informaci, kolik žádá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	</a:t>
            </a:r>
            <a:r>
              <a:rPr b="0" i="1" lang="cs-CZ" sz="2000" spc="-1" strike="noStrike">
                <a:solidFill>
                  <a:srgbClr val="f76125"/>
                </a:solidFill>
                <a:latin typeface="Comic Sans MS"/>
              </a:rPr>
              <a:t>žádaná hodn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aná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ručně nastavitelná a mezi nastaveními stál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poměru mezi ní a regulovanou regulátor zasahuje do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možné ji řídit výpočení technikou a plán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90480" y="2751120"/>
            <a:ext cx="5143680" cy="1943280"/>
            <a:chOff x="1590480" y="2751120"/>
            <a:chExt cx="5143680" cy="1943280"/>
          </a:xfrm>
        </p:grpSpPr>
        <p:sp>
          <p:nvSpPr>
            <p:cNvPr id="173" name=""/>
            <p:cNvSpPr/>
            <p:nvPr/>
          </p:nvSpPr>
          <p:spPr>
            <a:xfrm>
              <a:off x="3076560" y="37800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05160" y="275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05360" y="38941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5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0536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19360" y="38941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9360" y="45799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19360" y="43513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6280" y="4122720"/>
              <a:ext cx="7999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47680" y="4008600"/>
              <a:ext cx="228600" cy="22860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0480" y="4122720"/>
              <a:ext cx="4572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161800" y="2979720"/>
              <a:ext cx="11430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162160" y="2979720"/>
              <a:ext cx="72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676760" y="2979720"/>
              <a:ext cx="1257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05360" y="4351320"/>
              <a:ext cx="1828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19280" y="27511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á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0680" y="38941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ovaná soust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934240" y="2979720"/>
              <a:ext cx="0" cy="137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H="1">
            <a:off x="4067280" y="2276640"/>
            <a:ext cx="504720" cy="288720"/>
          </a:xfrm>
          <a:prstGeom prst="line">
            <a:avLst/>
          </a:prstGeom>
          <a:ln w="28440">
            <a:solidFill>
              <a:srgbClr val="f76125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4360" y="24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2000"/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1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2000"/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10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2000"/>
                                        <p:tgtEl>
                                          <p:spTgt spid="1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47:50Z</dcterms:created>
  <dc:creator>Honza</dc:creator>
  <dc:description/>
  <dc:language>en-US</dc:language>
  <cp:lastModifiedBy>prokop.u</cp:lastModifiedBy>
  <dcterms:modified xsi:type="dcterms:W3CDTF">2012-04-30T10:53:22Z</dcterms:modified>
  <cp:revision>143</cp:revision>
  <dc:subject/>
  <dc:title>Metody minimalizace logických výrazů</dc:title>
</cp:coreProperties>
</file>