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475-7AAD-4578-AB16-7413AD4F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B08-6A91-4855-9F80-F941AE81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97B-F367-4829-8809-2FC5323D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A62-B4F9-4D17-A6C2-9B8F8DA6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E3C-BBF0-41F9-933F-AF29DEBA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D84-5D3E-4DCA-8CFB-6757F638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816-085B-45A5-B149-D072880B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C45-145C-414A-B53E-AC718AEC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F05-C9A2-44EA-AEDF-214B31BE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6B2-174E-461D-8E3A-DF85BD6F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CA0-83AC-484E-9F57-70C86B53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458-0C4F-4C11-BE38-39A20254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FB21-435F-401B-8CFC-0562EBC17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vdsys.blog.cz/0706/tesm-8003a" TargetMode="External"/><Relationship Id="rId3" Type="http://schemas.openxmlformats.org/officeDocument/2006/relationships/hyperlink" Target="http://avdsys.blog.cz/0706/tesm-8003a" TargetMode="External"/><Relationship Id="rId4" Type="http://schemas.openxmlformats.org/officeDocument/2006/relationships/hyperlink" Target="http://avdsys.blog.cz/0706/tesm-8003a" TargetMode="External"/><Relationship Id="rId5" Type="http://schemas.openxmlformats.org/officeDocument/2006/relationships/hyperlink" Target="http://avdsys.blog.cz/0706/tesm-8003a" TargetMode="External"/><Relationship Id="rId6" Type="http://schemas.openxmlformats.org/officeDocument/2006/relationships/hyperlink" Target="http://avdsys.blog.cz/0706/tesm-8003a" TargetMode="External"/><Relationship Id="rId7" Type="http://schemas.openxmlformats.org/officeDocument/2006/relationships/hyperlink" Target="http://avdsys.blog.cz/0706/tesm-8003a" TargetMode="External"/><Relationship Id="rId8" Type="http://schemas.openxmlformats.org/officeDocument/2006/relationships/hyperlink" Target="http://avdsys.blog.cz/0706/tesm-8003a" TargetMode="External"/><Relationship Id="rId9" Type="http://schemas.openxmlformats.org/officeDocument/2006/relationships/hyperlink" Target="http://avdsys.blog.cz/0706/tesm-8003a" TargetMode="External"/><Relationship Id="rId10" Type="http://schemas.openxmlformats.org/officeDocument/2006/relationships/hyperlink" Target="http://avdsys.blog.cz/0706/tesm-8003a" TargetMode="External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čítač TEMS 80-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2000" y="3716280"/>
            <a:ext cx="64008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: podklady TESLA Vrá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 : autor, 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vdsys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log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z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0706/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esm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-8003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formace na disple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632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Informace Monitor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80-03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Monitor po zapnutí počítače, po zmačknutí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RES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Err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chybové hláš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čekání na přík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na okraji adresového pole - čekání na zadání adre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na okraji datového pole - čekání na zadání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běžící uživatelský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EE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komunikace s kazet. magnetofonem pomocí Monitoru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po stlačení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GET&g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nebo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SAV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lužby Moni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63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itor má podprogramy k dispozici uživate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557360"/>
          <a:ext cx="8642160" cy="4500720"/>
        </p:xfrm>
        <a:graphic>
          <a:graphicData uri="http://schemas.openxmlformats.org/drawingml/2006/table">
            <a:tbl>
              <a:tblPr/>
              <a:tblGrid>
                <a:gridCol w="865080"/>
                <a:gridCol w="1008000"/>
                <a:gridCol w="4608720"/>
                <a:gridCol w="21603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krat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esa hex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KT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ualizace obsahu adresového nebo datového disple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LOK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2F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pis bloku dat do kazet. magnetofon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D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20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mazání celého pole displeje a předání řízení Monitor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D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mazání datového pole disple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E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mazání celého disple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ST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2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ování časové prodlevy podle zadaného parametr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R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2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brazení hlášky „Err“ a návrat do Monitor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M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H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2E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měna obsahu dvou oblastí pamě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ončení uživatelského programu a předání řízení Monitor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ST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THE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čtení řetězce hexadecimálních znak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TN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2E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čtení adresy a její zobrazení na displej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pis znaků na displej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ST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Y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34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ení bloku dat z kazet. magnetofon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DK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ení znaku z klá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ST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užití podprogra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135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program DELA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uje časovou prodlevu podle parametru, tzv. nás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sada se zadává jako čtyřciferné hexa číslo do dvojregistr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počet násad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ávisí na potřebné časové prodle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orec pro výpočet vztahu mezi potřebným časem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velikostí násad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iz manu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levu T=1s dosáhneme zadáním násady N=0000</a:t>
            </a:r>
            <a:r>
              <a:rPr b="0" lang="cs-CZ" sz="16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ůsob volání: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CALL 0218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ředem zadáme násadu příkazem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LXI D 00 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ití dalších podprogramů závisí na konkrétní potřebě uživatele, odkazujem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manu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7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2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7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2" dur="2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2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2" dur="20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7" dur="2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147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generování prodlevy 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1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dobu 1 sekunda použijeme podprogram monitor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resa podprogramu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0218</a:t>
            </a:r>
            <a:r>
              <a:rPr b="1" lang="cs-CZ" sz="16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sada (pro 1s je t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00 0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se očekává v dvojregistr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lší prodlevu (násobky 1s) řešíme cyklem s definovaným počtem průch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klad: Vygenerování prodlevy 5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y-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9640" y="3573360"/>
          <a:ext cx="7993080" cy="2521080"/>
        </p:xfrm>
        <a:graphic>
          <a:graphicData uri="http://schemas.openxmlformats.org/drawingml/2006/table">
            <a:tbl>
              <a:tblPr/>
              <a:tblGrid>
                <a:gridCol w="647640"/>
                <a:gridCol w="505080"/>
                <a:gridCol w="1224000"/>
                <a:gridCol w="431640"/>
                <a:gridCol w="647640"/>
                <a:gridCol w="649440"/>
                <a:gridCol w="388764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entá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předchozí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C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počet opakování do registr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ček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LXI D, 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parametr DELAY do dvojregistr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AL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Volání podprogramu DELAY na adrese 0218</a:t>
                      </a:r>
                      <a:r>
                        <a:rPr b="0" lang="en-US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CR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–1 -&gt;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JNZ ček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L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kok n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čekej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, když v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není n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následný program když v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je n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8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2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 z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7559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kolní počítač vybavený pro průmyslové úč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stavba do kufříku, průhled do ni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ládáme adresování paměti, portů a disple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alelní porty jsou připojené na motůrek, reproduktorek, čid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ériový port je využitý pro komunikaci s kazetovým magnetofo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irmware, tzv. Monitor, je vybavený podprogramy k dispozici uživate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oduchá klávesnice zvládne programování a ladění v hexakó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oduchý 7segmentový displej zobrazuje adresy, data a zna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9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9000"/>
                            </p:stCondLst>
                            <p:childTnLst>
                              <p:par>
                                <p:cTn id="75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3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7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76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5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3000"/>
                            </p:stCondLst>
                            <p:childTnLst>
                              <p:par>
                                <p:cTn id="76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2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9000"/>
                            </p:stCondLst>
                            <p:childTnLst>
                              <p:par>
                                <p:cTn id="77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3" dur="20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0"/>
                            </p:stCondLst>
                            <p:childTnLst>
                              <p:par>
                                <p:cTn id="77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200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7128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smdesátých letech minulého století byly velmi populární počítač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rocesorem 8080 zejména svou dostupností na tuzemském trhu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možností amatérské stavb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kolní jednodeskový mikropočítač 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MS 80-03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k nim patřil. Vyráběl se v letech 1981 - 1983 podnikem TESLA Vráble na Slovensku. Byl vybaven periferiemi s elektromotorkem, reproduktorkem a dalšími obvody pro školní úče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yl snadno použielný pro jeho kompaktní jednodeskové provedení s klávesnicí a displejem (mimo zdroj) a zabudování do kufříku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uplatnil se zejména v nácviku programování ve zdrojovém kódu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v automat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še potřebné pro zvládnutí obsluhy a programování je v manuálu a příručce program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okonalíme se tréninkem, učíme se od zkušený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000"/>
                            </p:stCondLst>
                            <p:childTnLst>
                              <p:par>
                                <p:cTn id="7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6000"/>
                            </p:stCondLst>
                            <p:childTnLst>
                              <p:par>
                                <p:cTn id="7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000"/>
                            </p:stCondLst>
                            <p:childTnLst>
                              <p:par>
                                <p:cTn id="8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ítače osmdesátých let minulého století byly velmi populární zejména svou dostupností na tuzemském trhu a možností amatérské stav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kolní jednodeskový mikropočítač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MS 80-03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k nim patřil. Vyráběl se v letech 1981 - 1983 podnikem TESLA Vráble na Slovensku. Byl vybaven periferiemi s elektromotorkem, reproduktorkem a dalšími obvody pro školní úč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kompaktní jednodeskové provedení s klávesnicí a displej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imo zdroj) a zabudování do kufříku jej předurčovaly k snadnému použití a uplatnil se zejména v nácviku programování ve zdrojovém kód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v automatiz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manuálu je vše potřebné pro zvládnutí obsluhy a v poněkud syrové příručce programování najdeme základy programování i příkl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Školní počítač vybavený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průmyslové úč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á zástavba – do kufř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ůhled do ni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lelní porty jsou připojené na A/D převod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/D převodníky obsluhují přímo motůrek či reprodukt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en port je vybaven převodníkem odpor/čas a slouží jako vstup ze senz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ériový port je využitý pro komunikaci s kazetovým magnetofo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ně vybavený podprogramy je i firmware – tzv.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ítač obslouží i rozšiřující desku TEMS 80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napájený externím zdro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ávesnice je určena k programování a ladění v hexa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duchý 7segmentový displej zobrazuje adresy, data a zna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45160" y="0"/>
            <a:ext cx="4398840" cy="29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700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2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612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metry TEMS 80-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výroby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981 – 1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ob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SLA Vrá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PU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sla MHB 8080A (1M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AM/ROM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 až 8kB / 1 až 8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xtový mód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+2 znaky, sedmisegmentový diodový displ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rafický mód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uk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produktor řízený přes paralelní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měry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budovaný do kufří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/O porty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 x 8255 (motůrek, reproduktorek, čidlo)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 x 8251 (kazetový magnetof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r. systém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šíření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MS 80-04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2981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164360" y="3141720"/>
            <a:ext cx="1800360" cy="1255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43640" y="4614840"/>
            <a:ext cx="2556000" cy="209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2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alš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mě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 – 03F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itor TEMS (1k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00 – 1FF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říp. rozšíření 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00 – 23C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živatelský prostor (969By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C9 – 23C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 vektor přerušení RST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CC – 23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 vektor přerušení RST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CF – 23F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zervováno pro parametry Monitoru (49By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2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alš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Mapovaný výstup na displej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3C00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0. pozice (první zpra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3C01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1.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3C05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5. pozice (první zle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římé vstupy a výstupy (porty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3C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vstup z hexa kláves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1. obvod 8255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2. obvod 8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4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C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por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5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por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6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por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7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F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řídicí slovo obv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Sériový obvod 8251 (USA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A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B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stavové a řídicí slovo obv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2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20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20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2000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200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2000"/>
                                        <p:tgtEl>
                                          <p:spTgt spid="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2000"/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alš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Klávesnic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až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numerické klávesy (hex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studený start počítač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vnější programovatelné přeruš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STEP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krokování programu (pro ladě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GO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spuštění progra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MEM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práce s obsahem paměti (zápis, přepis, prohlí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práce s registry (prohlížení, změna obsah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alší úk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EXEC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provedení příkazu (=EN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načtení dat z kazet. magnetofonu do pamě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SAV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zápis dat z paměti do kazet. magnetofo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HEX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šestnáctková kalkulačka (sčítání a odčít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Podrobně je popsáno použití klávesnice v manuá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2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2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2000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užití kláves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770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ávesa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&lt;MEM&gt;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= zápis, přepis, prohlížení obsahu paměti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var příkaz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MEM&gt; 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dresa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 &lt;NEXT&gt; [[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] &lt;NEXT&gt; [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]… &lt;EXE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ysvětliv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 &g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- stlačení kláve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( )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– zadání adresy nebo dat z kláves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[ ]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- nepovin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 adresy 2000 vložit příkazy NOP a JMP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dr.   mnemo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kód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komentá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000 NOP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00   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No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001 JMP 2000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C3 00 20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nepodmíněný skok na adresu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MEM&gt;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000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&lt;NEXT&gt;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&lt;NEXT&gt;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C3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&lt;NEXT&gt;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&lt;NEXT&gt;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&lt;EXE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Podrobnosti v manuá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2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2000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2000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2000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užití kláves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ávesa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&lt;GO&gt;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= spuštění progra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var příkaz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GO&gt; [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dresa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] &lt;EXE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ysvětliv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Pokud se na displeji po stlačení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GO&g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zobrazí adresa začátku programu, není ji třeba zadávat, jen ukončíme klávesou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EXE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– zobrazený obsah disple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ustit program uložený od adresy 2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{displej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GO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EXE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&lt;GO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100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)&lt;EXEC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ití dalších kláves není pro běžné použití nutné, proto se jimi nebudeme podrobně zabývat, odkazujeme na manu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2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2000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prokop.u</cp:lastModifiedBy>
  <dcterms:modified xsi:type="dcterms:W3CDTF">2010-12-31T12:32:01Z</dcterms:modified>
  <cp:revision>100</cp:revision>
  <dc:subject/>
  <dc:title>Metody minimalizace logických výrazů</dc:title>
</cp:coreProperties>
</file>