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3616-B55A-415A-8202-81AEB8E4D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47F6-FEEA-43F7-AB90-869BCC9B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1DCD-3084-4FA4-9839-DE8079108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11FA-3A8C-4CBD-A416-69641F109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5E8F-4654-476A-AB1E-8C335E28B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092D-99EC-4573-8293-101E8AA74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74D4-B9D0-44A1-9631-3D743BBF2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2C04-70EF-468A-A825-3C5C3EDC1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4BFA-F6F7-44C1-B650-EA02F4058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654C-06E5-48DD-9E24-57D7B90E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3BAE-A68F-4B41-8EB5-89FEB6F6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6761-6991-4CDC-8B90-2E4E32A2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C3538-1A1D-4594-A98E-E443A056493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Metody minimalizace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logických výraz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ypracoval: Ing. Jan Prok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5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8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ZÁKLADNÍ POJ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916280"/>
            <a:ext cx="742788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inimalizace logických výrazů odpovídá zjednodušov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lgebraických výrazů matematické algebr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á ale hluboké ekonomické dopady na finální auto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užívané metod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plikací zákonů a pravidel Booleovské algeb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užitím Karnaughovy „mapy“ - je to vlastně tabulka s danými pravid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hodnými úprav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" nodeType="afterEffect" fill="hold" presetClass="entr" presetID="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7000"/>
                            </p:stCondLst>
                            <p:childTnLst>
                              <p:par>
                                <p:cTn id="45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2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1000"/>
                            </p:stCondLst>
                            <p:childTnLst>
                              <p:par>
                                <p:cTn id="49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2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5000"/>
                            </p:stCondLst>
                            <p:childTnLst>
                              <p:par>
                                <p:cTn id="53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20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8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99"/>
                </a:solidFill>
                <a:latin typeface="Arial"/>
              </a:rPr>
              <a:t>Booleovskou algebr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oužití zákonů a pravidel Booleovské algebr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asto začneme vytýkáním před závorku (zákon distributivní opačně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té uplatňujeme idempotentní pravid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íklad: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odle vzorců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539640" y="3645000"/>
                <a:ext cx="3506760" cy="20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d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d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d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d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r>
                          <m:t xml:space="preserve">)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6732720" y="3645000"/>
                <a:ext cx="143964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4204440" y="3600360"/>
            <a:ext cx="2257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ytkneme před závorku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  dále uplatní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idempotentní pravidl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1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8000"/>
                            </p:stCondLst>
                            <p:childTnLst>
                              <p:par>
                                <p:cTn id="72" nodeType="afterEffect" fill="hold" presetClass="entr" presetID="1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3000"/>
                            </p:stCondLst>
                            <p:childTnLst>
                              <p:par>
                                <p:cTn id="76" nodeType="afterEffect" fill="hold" presetClass="entr" presetID="1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8000"/>
                            </p:stCondLst>
                            <p:childTnLst>
                              <p:par>
                                <p:cTn id="80" nodeType="afterEffect" fill="hold" presetClass="entr" presetID="1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20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3000"/>
                            </p:stCondLst>
                            <p:childTnLst>
                              <p:par>
                                <p:cTn id="8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4000"/>
                            </p:stCondLst>
                            <p:childTnLst>
                              <p:par>
                                <p:cTn id="9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5000"/>
                            </p:stCondLst>
                            <p:childTnLst>
                              <p:par>
                                <p:cTn id="10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8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99"/>
                </a:solidFill>
                <a:latin typeface="Arial"/>
              </a:rPr>
              <a:t>Karnaughovou map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777564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oužití Karnaughovy mapy (tabulky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apa je podobná pravdivostní tabul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stupní hodnoty však nemají rostoucí pořadí, ale mez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ousedními řádky/sloupci se smí změnit jen jedna vstupní hodno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 průsečíku vstupních hodnot se vepíše výstupní hodno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teme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ýrok je pravdivý pro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negované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 současně pro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negované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692360" y="3573360"/>
          <a:ext cx="2155680" cy="1710000"/>
        </p:xfrm>
        <a:graphic>
          <a:graphicData uri="http://schemas.openxmlformats.org/drawingml/2006/table">
            <a:tbl>
              <a:tblPr/>
              <a:tblGrid>
                <a:gridCol w="431640"/>
                <a:gridCol w="430200"/>
                <a:gridCol w="432000"/>
                <a:gridCol w="430200"/>
                <a:gridCol w="431640"/>
              </a:tblGrid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1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1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1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8000"/>
                            </p:stCondLst>
                            <p:childTnLst>
                              <p:par>
                                <p:cTn id="12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8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68000" y="1628280"/>
            <a:ext cx="72723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yplnění Karnaughovy mapy (tabulky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apu vyplníme výstupními hodnotami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v příslušných průsečících vstupních hodnot podle zadaného původního výrok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o ostatních buněk vepíšeme hodnotu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yplněná mapa nese všechny informace původního výrok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yplněnou mapu lze naopak použít k rekonstrukci původního výrok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ůvodní výr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508720" y="4076640"/>
          <a:ext cx="2155680" cy="1709640"/>
        </p:xfrm>
        <a:graphic>
          <a:graphicData uri="http://schemas.openxmlformats.org/drawingml/2006/table">
            <a:tbl>
              <a:tblPr/>
              <a:tblGrid>
                <a:gridCol w="431640"/>
                <a:gridCol w="430200"/>
                <a:gridCol w="432000"/>
                <a:gridCol w="430200"/>
                <a:gridCol w="431640"/>
              </a:tblGrid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539640" y="4076640"/>
                <a:ext cx="4032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d</m:t>
                    </m:r>
                    <m:r>
                      <m:t xml:space="preserve">+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d</m:t>
                    </m:r>
                    <m:r>
                      <m:t xml:space="preserve">+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d</m:t>
                    </m:r>
                    <m:r>
                      <m:t xml:space="preserve">+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4211640" y="4437000"/>
            <a:ext cx="223200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4437000"/>
            <a:ext cx="360036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40000" y="4437000"/>
            <a:ext cx="410364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32000" y="4437000"/>
            <a:ext cx="554508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99"/>
                </a:solidFill>
                <a:latin typeface="Arial"/>
              </a:rPr>
              <a:t>Karnaughovou map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6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0"/>
                            </p:stCondLst>
                            <p:childTnLst>
                              <p:par>
                                <p:cTn id="18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6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8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alší příklad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klad pro dvě nebo tři proměnné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ůvodní výro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apy pro dvě proměnné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ro tři proměnné vodorovně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ebo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vis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6443640" y="3716280"/>
          <a:ext cx="1584360" cy="1671840"/>
        </p:xfrm>
        <a:graphic>
          <a:graphicData uri="http://schemas.openxmlformats.org/drawingml/2006/table">
            <a:tbl>
              <a:tblPr/>
              <a:tblGrid>
                <a:gridCol w="550800"/>
                <a:gridCol w="528840"/>
                <a:gridCol w="504720"/>
              </a:tblGrid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v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539640" y="2852640"/>
                <a:ext cx="156384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g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3203640" y="2852640"/>
                <a:ext cx="372888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u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w</m:t>
                    </m:r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u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w</m:t>
                    </m:r>
                    <m:r>
                      <m:t xml:space="preserve">+</m:t>
                    </m:r>
                    <m:r>
                      <m:t xml:space="preserve">u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w</m:t>
                    </m:r>
                    <m:r>
                      <m:t xml:space="preserve">+</m:t>
                    </m:r>
                    <m:r>
                      <m:t xml:space="preserve">u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9" name=""/>
          <p:cNvGraphicFramePr/>
          <p:nvPr/>
        </p:nvGraphicFramePr>
        <p:xfrm>
          <a:off x="3348000" y="3716280"/>
          <a:ext cx="2303640" cy="1084320"/>
        </p:xfrm>
        <a:graphic>
          <a:graphicData uri="http://schemas.openxmlformats.org/drawingml/2006/table">
            <a:tbl>
              <a:tblPr/>
              <a:tblGrid>
                <a:gridCol w="576360"/>
                <a:gridCol w="432000"/>
                <a:gridCol w="431640"/>
                <a:gridCol w="431640"/>
                <a:gridCol w="432000"/>
              </a:tblGrid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684360" y="3716280"/>
          <a:ext cx="1439640" cy="1084320"/>
        </p:xfrm>
        <a:graphic>
          <a:graphicData uri="http://schemas.openxmlformats.org/drawingml/2006/table">
            <a:tbl>
              <a:tblPr/>
              <a:tblGrid>
                <a:gridCol w="576000"/>
                <a:gridCol w="431640"/>
                <a:gridCol w="432000"/>
              </a:tblGrid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39528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99"/>
                </a:solidFill>
                <a:latin typeface="Arial"/>
              </a:rPr>
              <a:t>Karnaughovou map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0"/>
                            </p:stCondLst>
                            <p:childTnLst>
                              <p:par>
                                <p:cTn id="228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8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372360" y="5157720"/>
            <a:ext cx="86364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68000" y="1628280"/>
            <a:ext cx="72723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inimalizace v Karnaughovo mapě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e vyplněné mapě sdružíme „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1“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do co největších skupin, přito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družujeme prvky, sousedící ve sloupci, řádku nebo čtverci či obdélní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a „souseda“ se považuje i první s posledním řádkem/sloupc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 toho pak „vyčteme“ minimalizovaný výro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ůvodní výr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Čteme“: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ť je b=0 nebo 1, ať je c=0 nebo 1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ýrok je roven jedné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ro a=1 a současně pro d=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inimalizovaný výrok pak j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508720" y="4076640"/>
          <a:ext cx="2155680" cy="1709640"/>
        </p:xfrm>
        <a:graphic>
          <a:graphicData uri="http://schemas.openxmlformats.org/drawingml/2006/table">
            <a:tbl>
              <a:tblPr/>
              <a:tblGrid>
                <a:gridCol w="431640"/>
                <a:gridCol w="430200"/>
                <a:gridCol w="432000"/>
                <a:gridCol w="430200"/>
                <a:gridCol w="431640"/>
              </a:tblGrid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7932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7932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32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32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32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32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32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32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932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932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1908000" y="3573360"/>
                <a:ext cx="4032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d</m:t>
                    </m:r>
                    <m:r>
                      <m:t xml:space="preserve">+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d</m:t>
                    </m:r>
                    <m:r>
                      <m:t xml:space="preserve">+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d</m:t>
                    </m:r>
                    <m:r>
                      <m:t xml:space="preserve">+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1979640" y="5373720"/>
                <a:ext cx="9367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39528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99"/>
                </a:solidFill>
                <a:latin typeface="Arial"/>
              </a:rPr>
              <a:t>Karnaughovou map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0"/>
                            </p:stCondLst>
                            <p:childTnLst>
                              <p:par>
                                <p:cTn id="24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0"/>
                            </p:stCondLst>
                            <p:childTnLst>
                              <p:par>
                                <p:cTn id="26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0" fill="hold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0" fill="hold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0" fill="hold"/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0" fill="hold"/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0" fill="hold"/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0" fill="hold"/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0" fill="hold"/>
                                        <p:tgtEl>
                                          <p:spTgt spid="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0" fill="hold"/>
                                        <p:tgtEl>
                                          <p:spTgt spid="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0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8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7596360" y="4221000"/>
            <a:ext cx="360360" cy="107964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1079640"/>
              <a:gd name="textAreaBottom" fmla="*/ 1062360 h 1079640"/>
            </a:gdLst>
            <a:ahLst/>
            <a:rect l="textAreaLeft" t="textAreaTop" r="textAreaRight" b="textAreaBottom"/>
            <a:pathLst>
              <a:path w="21600" h="64671">
                <a:moveTo>
                  <a:pt x="3600" y="0"/>
                </a:moveTo>
                <a:arcTo wR="3600" hR="3600" stAng="16200000" swAng="-5400000"/>
                <a:lnTo>
                  <a:pt x="0" y="61071"/>
                </a:lnTo>
                <a:arcTo wR="3600" hR="3600" stAng="10800000" swAng="-5400000"/>
                <a:lnTo>
                  <a:pt x="18000" y="646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4221000"/>
            <a:ext cx="720720" cy="503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332000" y="4508640"/>
            <a:ext cx="718920" cy="215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68000" y="162864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alší příklad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klad pro dvě nebo tři proměnné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ůvodní výro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apy pro dvě proměnné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ro tři proměnné vodorovně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ebo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vis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 po „čtení“ zapíšeme přímo minimalizovaný výra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443640" y="3716280"/>
          <a:ext cx="1584360" cy="1671840"/>
        </p:xfrm>
        <a:graphic>
          <a:graphicData uri="http://schemas.openxmlformats.org/drawingml/2006/table">
            <a:tbl>
              <a:tblPr/>
              <a:tblGrid>
                <a:gridCol w="550800"/>
                <a:gridCol w="528840"/>
                <a:gridCol w="504720"/>
              </a:tblGrid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v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79325"/>
                    </a:solidFill>
                  </a:tcPr>
                </a:tc>
              </a:tr>
              <a:tr h="30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32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32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32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32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32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32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932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932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539640" y="2852640"/>
                <a:ext cx="156384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g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3203640" y="2852640"/>
                <a:ext cx="372888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u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w</m:t>
                    </m:r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u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w</m:t>
                    </m:r>
                    <m:r>
                      <m:t xml:space="preserve">+</m:t>
                    </m:r>
                    <m:r>
                      <m:t xml:space="preserve">u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w</m:t>
                    </m:r>
                    <m:r>
                      <m:t xml:space="preserve">+</m:t>
                    </m:r>
                    <m:r>
                      <m:t xml:space="preserve">u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88" name=""/>
          <p:cNvGraphicFramePr/>
          <p:nvPr/>
        </p:nvGraphicFramePr>
        <p:xfrm>
          <a:off x="3348000" y="3716280"/>
          <a:ext cx="2303640" cy="1084320"/>
        </p:xfrm>
        <a:graphic>
          <a:graphicData uri="http://schemas.openxmlformats.org/drawingml/2006/table">
            <a:tbl>
              <a:tblPr/>
              <a:tblGrid>
                <a:gridCol w="576360"/>
                <a:gridCol w="431640"/>
                <a:gridCol w="432000"/>
                <a:gridCol w="431640"/>
                <a:gridCol w="432000"/>
              </a:tblGrid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7932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7932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32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32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932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932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611280" y="3716280"/>
          <a:ext cx="1439640" cy="1084320"/>
        </p:xfrm>
        <a:graphic>
          <a:graphicData uri="http://schemas.openxmlformats.org/drawingml/2006/table">
            <a:tbl>
              <a:tblPr/>
              <a:tblGrid>
                <a:gridCol w="576000"/>
                <a:gridCol w="432000"/>
                <a:gridCol w="431640"/>
              </a:tblGrid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7932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79325"/>
                    </a:solidFill>
                  </a:tcPr>
                </a:tc>
              </a:tr>
              <a:tr h="30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32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325"/>
                    </a:solidFill>
                  </a:tcPr>
                </a:tc>
              </a:tr>
              <a:tr h="31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932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611280" y="5516640"/>
                <a:ext cx="67608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276720" y="5516640"/>
                <a:ext cx="73008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39528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99"/>
                </a:solidFill>
                <a:latin typeface="Arial"/>
              </a:rPr>
              <a:t>Karnaughovou map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0"/>
                            </p:stCondLst>
                            <p:childTnLst>
                              <p:par>
                                <p:cTn id="31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0" fill="hold"/>
                                        <p:tgtEl>
                                          <p:spTgt spid="8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0" fill="hold"/>
                                        <p:tgtEl>
                                          <p:spTgt spid="8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0"/>
                            </p:stCondLst>
                            <p:childTnLst>
                              <p:par>
                                <p:cTn id="338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4T13:47:50Z</dcterms:created>
  <dc:creator>Honza</dc:creator>
  <dc:description/>
  <dc:language>en-US</dc:language>
  <cp:lastModifiedBy>Honza</cp:lastModifiedBy>
  <dcterms:modified xsi:type="dcterms:W3CDTF">2010-10-28T18:24:55Z</dcterms:modified>
  <cp:revision>16</cp:revision>
  <dc:subject/>
  <dc:title>Metody minimalizace logických výrazů</dc:title>
</cp:coreProperties>
</file>