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9DE-B054-4014-BB76-7F7BF07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EC8-FCD9-4A82-8749-3751B70F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E48-A0B5-4A6D-9DA6-44E79299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611-A9AF-4FC2-89DA-00777264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579-5707-4C41-9E62-0D6CBB1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916-CC11-4FB2-A278-80D4FBA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F09-2850-49B6-A14D-F959A24B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C3D-2548-4B20-BE45-BE685D20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D2B-E754-44B9-8889-6A7E4A7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EC5-F7E3-4252-9A11-984618B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CA9-D8BB-4339-90C4-C0AC5D8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665-19FC-42AA-9F19-1398F6E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486D-EEF5-4B24-BB5F-18DEC7D0D0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vdsys.blog.cz/0706/tesm-8003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ování TEM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, sema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3716280"/>
            <a:ext cx="648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roj : podklady TESLA Vráble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vdsys.blog.cz/0706/tesm-8003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,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136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ýbava program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e chová podle jeho tvůrce, odráží se v něm invence i zkuše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začátku se má program představit a přiví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 nechat zadat hodnoty a zvolit podmínky či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í vystihnout časování a obsluhu „neuhnat“ ani „neunudi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 umožnit volbu zda pokračovat či skonč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má nic přehánět – barvy, obrázky, animace, velikosti pís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onec může nabídnout program s vyššími možnostmi či komfor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 : v předchozí ukázce je použito několik z prvků výbavy (hledej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gramátorské tipy-tr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8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ování obecně je tvůrčí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ázali jsme jen základní techniky, spíše tipy – triky a ukázky programování na příkladech, tentokrát zobrazování údajů na displ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předchozích prezentací umíme řídit reproduktorek, nechat zaznít několik tónů, zobrazit znak na displeji a nyní také dokážeme využít prvky na přídavném panelu TEMS 80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ali jsme doporučený formulář, důležitost znalosti z oboru, kterého se program týká a schopností program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zapomínáme na komentá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okonalujeme se trénin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číme se od zkušených, pozor však na ochranu autorských 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2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3000"/>
                            </p:stCondLst>
                            <p:childTnLst>
                              <p:par>
                                <p:cTn id="53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2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20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7000"/>
                            </p:stCondLst>
                            <p:childTnLst>
                              <p:par>
                                <p:cTn id="54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20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199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ování obecně je tvůrčí činnost, vyžaduje navíc znalosti z oboru, kterého se program týk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me se zabývat jen základními technikami a ukázkami programování na příklad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tatní je na schopnostech, zkušenostech a invenci programát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kolní počítač vybavený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průmyslové úč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standardní zástavba – do kufř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hled do ni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alelní porty jsou připojené na A/D převodní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/D převodníky obsluhují přímo motůrek či reproduktor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en port je vybaven převodníkem odpor/čas a slouží jako vstup ze senzor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ériový port je využitý pro komunikaci s kazetovým magnetofo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ovládán přímým adresováním a odesláním znaku v hexa formá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irmware – tzv. monitor je účelně vybavený podprogr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částí je manuál k obsluze TEMS 80-03, kde se najde mj. popis podprogramů monitoru a také návod na obsluhu disple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někud syrová, ale praktická příručka programování je plná příkladů a kompletních progr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ítač obslouží i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zšiřující desku TEMS 80-04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e se nachází i 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maf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115920"/>
            <a:ext cx="43988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3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4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95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Řízení obsahu displ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54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2000"/>
          </a:bodyPr>
          <a:p>
            <a:pPr marL="312120" indent="-312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play TEMS má adresovou (čtyři pozice) a datovou část (dvě poz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de o sedmisegmentový displej ovládaný osmibitovým slov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ové zobrazení obsluhuje podprogram OUTPT, parametr v reg.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rčuje datovou nebo adresovou část, podprogram se vyvolá RS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astní znaky nebo obsah displeje je na adresách 3C00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ž 3C05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prava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m umístíme řídicí slova v hexa formá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klad :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obrazení písmena „A“ bez teč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67640" y="1125360"/>
          <a:ext cx="119052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1125360"/>
                    <a:ext cx="11905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667640" y="3141720"/>
          <a:ext cx="1166760" cy="16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3141720"/>
                    <a:ext cx="11667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24000" y="422280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24000" y="3573360"/>
          <a:ext cx="4038480" cy="460440"/>
        </p:xfrm>
        <a:graphic>
          <a:graphicData uri="http://schemas.openxmlformats.org/drawingml/2006/table">
            <a:tbl>
              <a:tblPr/>
              <a:tblGrid>
                <a:gridCol w="444600"/>
                <a:gridCol w="512640"/>
                <a:gridCol w="514440"/>
                <a:gridCol w="544320"/>
                <a:gridCol w="482760"/>
                <a:gridCol w="512640"/>
                <a:gridCol w="514440"/>
                <a:gridCol w="51264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" name=""/>
          <p:cNvGrpSpPr/>
          <p:nvPr/>
        </p:nvGrpSpPr>
        <p:grpSpPr>
          <a:xfrm>
            <a:off x="4067280" y="4797360"/>
            <a:ext cx="504360" cy="432000"/>
            <a:chOff x="4067280" y="4797360"/>
            <a:chExt cx="504360" cy="432000"/>
          </a:xfrm>
        </p:grpSpPr>
        <p:sp>
          <p:nvSpPr>
            <p:cNvPr id="59" name=""/>
            <p:cNvSpPr/>
            <p:nvPr/>
          </p:nvSpPr>
          <p:spPr>
            <a:xfrm>
              <a:off x="4067280" y="522936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67280" y="47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356000" y="3573360"/>
            <a:ext cx="460872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říslušný segme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  0111 0111</a:t>
            </a:r>
            <a:r>
              <a:rPr b="1" lang="cs-CZ" sz="2000" spc="-1" strike="noStrike" baseline="-20000">
                <a:solidFill>
                  <a:srgbClr val="000000"/>
                </a:solidFill>
                <a:latin typeface="Arial"/>
              </a:rPr>
              <a:t>B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66</a:t>
            </a:r>
            <a:r>
              <a:rPr b="1" lang="cs-CZ" sz="20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vládá segmen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vládá segmen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vládá desetinnou tečk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564000" y="4797360"/>
            <a:ext cx="1006920" cy="718920"/>
            <a:chOff x="3564000" y="4797360"/>
            <a:chExt cx="1006920" cy="718920"/>
          </a:xfrm>
        </p:grpSpPr>
        <p:sp>
          <p:nvSpPr>
            <p:cNvPr id="63" name=""/>
            <p:cNvSpPr/>
            <p:nvPr/>
          </p:nvSpPr>
          <p:spPr>
            <a:xfrm>
              <a:off x="3564000" y="5516280"/>
              <a:ext cx="100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64000" y="479736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556000" y="4797360"/>
            <a:ext cx="2013840" cy="1078920"/>
            <a:chOff x="2556000" y="4797360"/>
            <a:chExt cx="2013840" cy="1078920"/>
          </a:xfrm>
        </p:grpSpPr>
        <p:sp>
          <p:nvSpPr>
            <p:cNvPr id="66" name=""/>
            <p:cNvSpPr/>
            <p:nvPr/>
          </p:nvSpPr>
          <p:spPr>
            <a:xfrm>
              <a:off x="2556000" y="5876280"/>
              <a:ext cx="20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56000" y="4797360"/>
              <a:ext cx="0" cy="10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6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stavení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yní sestavíme program pro zobrazení textu „</a:t>
            </a:r>
            <a:r>
              <a:rPr b="1" lang="cs-CZ" sz="2000" spc="-1" strike="noStrike">
                <a:solidFill>
                  <a:srgbClr val="000000"/>
                </a:solidFill>
                <a:latin typeface="OCR A Std"/>
              </a:rPr>
              <a:t>AHOJ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“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instrukční sadu procesoru 8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třebujeme znát adresy pro data k zobrazení na displ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avíme řídicí slova pro jednotlivé znaky (pro „</a:t>
            </a:r>
            <a:r>
              <a:rPr b="1" lang="cs-CZ" sz="2000" spc="-1" strike="noStrike">
                <a:solidFill>
                  <a:srgbClr val="000000"/>
                </a:solidFill>
                <a:latin typeface="OCR A Std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 je to 66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odneme od jaké adresy v RAM paměti uložíme program (obvykle 2000</a:t>
            </a:r>
            <a:r>
              <a:rPr b="1" lang="cs-CZ" sz="1800" spc="-1" strike="noStrike" baseline="-20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přičemž zobrazení textu může být jen částí složitějšího 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napíšeme v mnemokódu a přeložíme do instrukční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ást programu pro zobrazení textu stačí nechat proběhnout jednou, lze ale nechat obsah displeje měnit nebo po odčasování zmi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ončíme program podle potřeby, např. cyk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vržený program opatříme adresami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vynecháme komentář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 zadáme do paměti pomocí klá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MEM&gt;, &lt;NEXT&gt; a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ustíme klávesami &lt;GO&gt; (adresa) &lt;EXE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olujeme výsledek: testujeme změ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ch slov a čteme údaj na přísluš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icích displ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3060720" cy="23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50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k zobrazit údaj na displeji podprograme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áme podprogram OUTPT (výstup na displej) nejlépe instrukcí R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rogram očekává parametr volby zobrazení v registru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= 02 nebo 8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vé pole bez tečky nebo s tečk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= 04 nebo 8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resové pole bez tečky nebo s tečk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ah zobrazení se čte od adresy uvedené v registr. páru 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adresách musí být indexy znaků podle speciální tabulky znaků DSPTB, které je možné nalézt v manuálu k TEMS 80-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brazení vlastních znak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ijeme kódy znaku podle zásad tvorby řídicího slova (viz výš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ódy umístíme na adresy podle toho, kde se mají zobr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00 = pozice datového pole vpr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01 = pozice datového pole vle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02 = pozice adresového pole úplně vpr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05 = pozice adresového pole úplně vle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žnosti zobraz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2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1000"/>
                            </p:stCondLst>
                            <p:childTnLst>
                              <p:par>
                                <p:cTn id="33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9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2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7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2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kázka progr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hodný formulář pro sestavení programu (text „AHOJ“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1773360"/>
          <a:ext cx="7993080" cy="381636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1152720"/>
                <a:gridCol w="503280"/>
                <a:gridCol w="504720"/>
                <a:gridCol w="503280"/>
                <a:gridCol w="4105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ó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entá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začátek progra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LXI H,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C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3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dresa pozice displeje do dvojregist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M,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pro zobrazení „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A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“ na adr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C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CX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zmenšení adresy v registr. pá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L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M,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pro zobrazení „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“ na adr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C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CX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zmenšení adresy v registr. pá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L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M,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pro zobrazení „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“ na adr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C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DCX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2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zmenšení adresy v registr. pár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HL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o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MVI M,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řídicí slovo pro zobrazení „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J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“ na adr.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3C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čekání programu – zobrazení tr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L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RS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vymazání obsahu displeje rutinou 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CL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Lucida Console"/>
                          <a:ea typeface="Times New Roman"/>
                        </a:rPr>
                        <a:t>případné pokračování progra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128000" cy="4132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050560" y="5373720"/>
            <a:ext cx="7093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alelní port 8255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7-segmentov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D semafor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atrix displej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pl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řídavný panel TEMS 80-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093080" y="3141720"/>
            <a:ext cx="1008000" cy="22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72360" y="4508280"/>
            <a:ext cx="215640" cy="10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43280" y="3284280"/>
            <a:ext cx="1297080" cy="237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59280" y="3933720"/>
            <a:ext cx="720720" cy="144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ba8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991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ak ovládat prvky na přídavném panelu TEMS 80-04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íváme paralelních portů 8255 podobně jako při ovládání motůrku, jen adresování začíná na 8000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trix displej 5x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ovládá odesláním kódu znaku na port PA na adresu 8000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. Kód znaku se použije podle tabulky prvku 3212 TE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maf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ovládány z paralelního portu 8255 na panelu, použije se drátových propojek od příslušné brány PA, PB či PC k semafor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žim paralelního portu nastavíme na adrese 8003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řídicí slovo por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 slovo pro semafor pošleme na adresu 8000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ž 8002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podle připojení drátovými propoj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řídavný panel TEMS 80-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2-04-30T08:41:51Z</dcterms:modified>
  <cp:revision>150</cp:revision>
  <dc:subject/>
  <dc:title>Metody minimalizace logických výrazů</dc:title>
</cp:coreProperties>
</file>