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8FB7-0925-466F-8DA3-4933B721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1E8C-24A0-4310-B360-83EE4EED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60E5-6EAD-4437-9C3F-14145749D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0D40-1B72-4A94-8D34-CF810761D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BD6F-A918-49C1-8F67-E1E14932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5554-3557-4E56-A4EF-C35A2D03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2AE9-22B7-47C2-B64E-EC0A029D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024E-A6CF-418F-B829-E0F37EC6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3881-54DC-4A6C-9080-6996AE7C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646E-F427-4D8F-A16A-36238818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8A98-44C6-4700-B707-7688A847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4748-561B-4AF9-928C-87D437B0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9f4"/>
            </a:gs>
            <a:gs pos="100000">
              <a:srgbClr val="8cb7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1D93-3E4D-4763-8687-59B004629BE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atalogy.ic.cz/" TargetMode="External"/><Relationship Id="rId3" Type="http://schemas.openxmlformats.org/officeDocument/2006/relationships/hyperlink" Target="http://obvody.feld.cvut.cz/katalog" TargetMode="External"/><Relationship Id="rId4" Type="http://schemas.openxmlformats.org/officeDocument/2006/relationships/hyperlink" Target="http://www.tesla-blatna.cz/cs" TargetMode="External"/><Relationship Id="rId5" Type="http://schemas.openxmlformats.org/officeDocument/2006/relationships/hyperlink" Target="http://www.abowe.brbla.net/8/rejstrik.php" TargetMode="External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me.cz/cz/katalog-gm-2010-elektronicke-soucastky-p713-003.html" TargetMode="External"/><Relationship Id="rId2" Type="http://schemas.openxmlformats.org/officeDocument/2006/relationships/hyperlink" Target="http://www.gme.cz/cz/katalog-gm-2010-elektronicke-soucastky-p713-003.html" TargetMode="External"/><Relationship Id="rId3" Type="http://schemas.openxmlformats.org/officeDocument/2006/relationships/hyperlink" Target="http://www.gme.cz/cz/katalog-gm-2010-elektronicke-soucastky-p713-003.html" TargetMode="External"/><Relationship Id="rId4" Type="http://schemas.openxmlformats.org/officeDocument/2006/relationships/hyperlink" Target="http://www.gme.cz/cz/katalog-gm-2010-elektronicke-soucastky-p713-003.html" TargetMode="External"/><Relationship Id="rId5" Type="http://schemas.openxmlformats.org/officeDocument/2006/relationships/hyperlink" Target="http://www.gme.cz/cz/katalog-gm-2010-elektronicke-soucastky-p713-003.html" TargetMode="External"/><Relationship Id="rId6" Type="http://schemas.openxmlformats.org/officeDocument/2006/relationships/hyperlink" Target="http://www.gme.cz/cz/katalog-gm-2010-elektronicke-soucastky-p713-003.html" TargetMode="External"/><Relationship Id="rId7" Type="http://schemas.openxmlformats.org/officeDocument/2006/relationships/hyperlink" Target="http://www.gme.cz/cz/katalog-gm-2010-elektronicke-soucastky-p713-003.html" TargetMode="External"/><Relationship Id="rId8" Type="http://schemas.openxmlformats.org/officeDocument/2006/relationships/hyperlink" Target="http://www.gme.cz/cz/katalog-gm-2010-elektronicke-soucastky-p713-003.html" TargetMode="External"/><Relationship Id="rId9" Type="http://schemas.openxmlformats.org/officeDocument/2006/relationships/hyperlink" Target="http://www.gme.cz/cz/katalog-gm-2010-elektronicke-soucastky-p713-003.html" TargetMode="External"/><Relationship Id="rId10" Type="http://schemas.openxmlformats.org/officeDocument/2006/relationships/hyperlink" Target="http://www.gme.cz/cz/katalog-gm-2010-elektronicke-soucastky-p713-003.html" TargetMode="External"/><Relationship Id="rId11" Type="http://schemas.openxmlformats.org/officeDocument/2006/relationships/hyperlink" Target="http://www.gme.cz/cz/katalog-gm-2010-elektronicke-soucastky-p713-003.html" TargetMode="External"/><Relationship Id="rId12" Type="http://schemas.openxmlformats.org/officeDocument/2006/relationships/hyperlink" Target="http://www.gme.cz/cz/katalog-gm-2010-elektronicke-soucastky-p713-003.html" TargetMode="External"/><Relationship Id="rId13" Type="http://schemas.openxmlformats.org/officeDocument/2006/relationships/hyperlink" Target="http://www.gme.cz/cz/katalog-gm-2010-elektronicke-soucastky-p713-003.html" TargetMode="External"/><Relationship Id="rId14" Type="http://schemas.openxmlformats.org/officeDocument/2006/relationships/hyperlink" Target="http://www.gme.cz/cz/katalog-gm-2010-elektronicke-soucastky-p713-003.html" TargetMode="External"/><Relationship Id="rId1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O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áce s katalog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332000" y="3716280"/>
            <a:ext cx="640080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pracoval: Ing. Jan Prok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roj : katalog TESL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Google,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link: 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atalogy.ic.cz/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obvody.feld.cvut.cz/kata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tesla-blatna.cz/cs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abowe.brbla.net/8/rejstrik.ph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ntr" presetID="5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5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9f4"/>
            </a:gs>
            <a:gs pos="100000">
              <a:srgbClr val="8cb7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arametry - vlast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1280" y="1131840"/>
            <a:ext cx="8466120" cy="51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9f4"/>
            </a:gs>
            <a:gs pos="100000">
              <a:srgbClr val="8cb7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Zapojení vývod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39760" y="2224080"/>
            <a:ext cx="8639280" cy="3714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10680" y="1128600"/>
            <a:ext cx="820908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ázka zapojení vývodů 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7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9f4"/>
            </a:gs>
            <a:gs pos="100000">
              <a:srgbClr val="8cb7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32400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říklad vyhledá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10680" y="1128600"/>
            <a:ext cx="820908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kázka vyhledání vhodného IO pro řízení matrix disple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vystačíme si bez jakýchkoliv znalostí, hledáme prvek se zna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akovým prvkem je např. MHB25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51800" y="1135080"/>
            <a:ext cx="952560" cy="128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98520" y="2567160"/>
            <a:ext cx="8224920" cy="371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0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7000"/>
                            </p:stCondLst>
                            <p:childTnLst>
                              <p:par>
                                <p:cTn id="29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9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9000"/>
                            </p:stCondLst>
                            <p:childTnLst>
                              <p:par>
                                <p:cTn id="30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3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9f4"/>
            </a:gs>
            <a:gs pos="100000">
              <a:srgbClr val="8cb7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32400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říklad vyhledá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10680" y="1128600"/>
            <a:ext cx="820908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kázka vyhledání vhodného IO pro řízení matrix disple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udeme potřebovat funkční (pravdivostní) tabul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93000" y="246240"/>
            <a:ext cx="952560" cy="1285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1711440"/>
            <a:ext cx="9144000" cy="459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6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5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9000"/>
                            </p:stCondLst>
                            <p:childTnLst>
                              <p:par>
                                <p:cTn id="33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9f4"/>
            </a:gs>
            <a:gs pos="100000">
              <a:srgbClr val="8cb7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32400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říklad vyhledá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10680" y="1128600"/>
            <a:ext cx="820908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kázka vyhledání vhodného IO pro řízení matrix disple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udeme potřebovat podrobné zapojení výv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893000" y="246240"/>
            <a:ext cx="952560" cy="1285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35200" y="1800360"/>
            <a:ext cx="2571480" cy="470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8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0"/>
                            </p:stCondLst>
                            <p:childTnLst>
                              <p:par>
                                <p:cTn id="36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8000"/>
                            </p:stCondLst>
                            <p:childTnLst>
                              <p:par>
                                <p:cTn id="36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7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9f4"/>
            </a:gs>
            <a:gs pos="100000">
              <a:srgbClr val="8cb7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28760" y="1276200"/>
            <a:ext cx="757224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éma je sestaveno podle minimalizovaného výro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udeme potřebovat čtyři dvouvstupová NAND hrad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 katalogu volíme IO 74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dle přiřazení pinů IO 7400 využijeme číslování do schéma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33336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říklad využití zapojení vývod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252360" y="3068640"/>
            <a:ext cx="1728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62120" y="3314880"/>
            <a:ext cx="3571920" cy="27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4420a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4420a"/>
                </a:solidFill>
                <a:latin typeface="Arial"/>
              </a:rPr>
              <a:t>0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4420a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f4420a"/>
                </a:solidFill>
                <a:latin typeface="Arial"/>
              </a:rPr>
              <a:t>           </a:t>
            </a:r>
            <a:r>
              <a:rPr b="1" lang="en-US" sz="1100" spc="-1" strike="noStrike">
                <a:solidFill>
                  <a:srgbClr val="f4420a"/>
                </a:solidFill>
                <a:latin typeface="Arial"/>
              </a:rPr>
              <a:t>03</a:t>
            </a:r>
            <a:r>
              <a:rPr b="1" lang="en-US" sz="1100" spc="-1" strike="noStrike">
                <a:solidFill>
                  <a:srgbClr val="f4420a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f4420a"/>
                </a:solidFill>
                <a:latin typeface="Arial"/>
              </a:rPr>
              <a:t>    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4420a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4420a"/>
                </a:solidFill>
                <a:latin typeface="Arial"/>
              </a:rPr>
              <a:t>04</a:t>
            </a:r>
            <a:r>
              <a:rPr b="1" lang="en-US" sz="1100" spc="-1" strike="noStrike">
                <a:solidFill>
                  <a:srgbClr val="f4420a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f4420a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f4420a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f4420a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f4420a"/>
                </a:solidFill>
                <a:latin typeface="Arial"/>
              </a:rPr>
              <a:t>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4420a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f4420a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f4420a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f4420a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f4420a"/>
                </a:solidFill>
                <a:latin typeface="Arial"/>
              </a:rPr>
              <a:t>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4420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f4420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f4420a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f4420a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4420a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f4420a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f4420a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f4420a"/>
                </a:solidFill>
                <a:latin typeface="Arial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4420a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f4420a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f4420a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f4420a"/>
                </a:solidFill>
                <a:latin typeface="Arial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4420a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4420a"/>
                </a:solidFill>
                <a:latin typeface="Arial"/>
              </a:rPr>
              <a:t>0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4420a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f4420a"/>
                </a:solidFill>
                <a:latin typeface="Arial"/>
              </a:rPr>
              <a:t>            </a:t>
            </a:r>
            <a:r>
              <a:rPr b="1" lang="en-US" sz="1100" spc="-1" strike="noStrike">
                <a:solidFill>
                  <a:srgbClr val="f4420a"/>
                </a:solidFill>
                <a:latin typeface="Arial"/>
              </a:rPr>
              <a:t>06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420a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4420a"/>
                </a:solidFill>
                <a:latin typeface="Arial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362640" y="3044880"/>
            <a:ext cx="2314800" cy="302256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1652400" y="3092400"/>
            <a:ext cx="4303080" cy="3301920"/>
            <a:chOff x="1652400" y="3092400"/>
            <a:chExt cx="4303080" cy="3301920"/>
          </a:xfrm>
        </p:grpSpPr>
        <p:sp>
          <p:nvSpPr>
            <p:cNvPr id="88" name=""/>
            <p:cNvSpPr/>
            <p:nvPr/>
          </p:nvSpPr>
          <p:spPr>
            <a:xfrm>
              <a:off x="1752480" y="3192480"/>
              <a:ext cx="360" cy="320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052720" y="3192480"/>
              <a:ext cx="360" cy="320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52960" y="3192480"/>
              <a:ext cx="360" cy="320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752480" y="3692880"/>
              <a:ext cx="110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52720" y="3893040"/>
              <a:ext cx="80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853360" y="3492720"/>
              <a:ext cx="399960" cy="60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53760" y="3792960"/>
              <a:ext cx="15008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253680" y="3692880"/>
              <a:ext cx="99720" cy="9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52400" y="3092400"/>
              <a:ext cx="99720" cy="9972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52640" y="3092400"/>
              <a:ext cx="99720" cy="9972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52880" y="3092400"/>
              <a:ext cx="99720" cy="9972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52480" y="4793400"/>
              <a:ext cx="21013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352960" y="5694120"/>
              <a:ext cx="2998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653200" y="5594040"/>
              <a:ext cx="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53200" y="5594040"/>
              <a:ext cx="19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653200" y="5794200"/>
              <a:ext cx="19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53360" y="5393880"/>
              <a:ext cx="399960" cy="60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53680" y="5594040"/>
              <a:ext cx="99720" cy="9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353760" y="5694120"/>
              <a:ext cx="2998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3654000" y="4993200"/>
              <a:ext cx="0" cy="7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54000" y="4993560"/>
              <a:ext cx="19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54160" y="4593600"/>
              <a:ext cx="399960" cy="60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54480" y="4793400"/>
              <a:ext cx="99720" cy="9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54560" y="4893480"/>
              <a:ext cx="2998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55280" y="3792960"/>
              <a:ext cx="99720" cy="9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654800" y="3992760"/>
              <a:ext cx="0" cy="9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54800" y="3993120"/>
              <a:ext cx="19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54960" y="3592800"/>
              <a:ext cx="399960" cy="60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5360" y="3893040"/>
              <a:ext cx="50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55760" y="3792960"/>
              <a:ext cx="99720" cy="9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628640" y="2800440"/>
            <a:ext cx="3409920" cy="2883960"/>
            <a:chOff x="1628640" y="2800440"/>
            <a:chExt cx="3409920" cy="2883960"/>
          </a:xfrm>
        </p:grpSpPr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2541600" y="3533760"/>
                  <a:ext cx="212400" cy="50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a</m:t>
                          </m:r>
                        </m:e>
                        <m:e>
                          <m:r>
                            <m:t xml:space="preserve">b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1628640" y="2800440"/>
                  <a:ext cx="807840" cy="29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/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3400200" y="4622760"/>
                  <a:ext cx="212760" cy="52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a</m:t>
                          </m:r>
                        </m:e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d</m:t>
                              </m:r>
                            </m:e>
                          </m:acc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3417840" y="5402160"/>
                  <a:ext cx="212760" cy="28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d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3" name=""/>
                <p:cNvSpPr txBox="1"/>
                <p:nvPr/>
              </p:nvSpPr>
              <p:spPr>
                <a:xfrm>
                  <a:off x="2462040" y="5437080"/>
                  <a:ext cx="195120" cy="24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4" name=""/>
                <p:cNvSpPr txBox="1"/>
                <p:nvPr/>
              </p:nvSpPr>
              <p:spPr>
                <a:xfrm>
                  <a:off x="3951000" y="3447720"/>
                  <a:ext cx="319320" cy="29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b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4684680" y="4324320"/>
                  <a:ext cx="353880" cy="31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d</m:t>
                              </m:r>
                            </m:e>
                          </m:acc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8000"/>
                            </p:stCondLst>
                            <p:childTnLst>
                              <p:par>
                                <p:cTn id="393" nodeType="after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8" nodeType="after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3" nodeType="afterEffect" fill="hold" presetClass="entr" presetID="5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4000"/>
                            </p:stCondLst>
                            <p:childTnLst>
                              <p:par>
                                <p:cTn id="411" nodeType="after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0000"/>
                            </p:stCondLst>
                            <p:childTnLst>
                              <p:par>
                                <p:cTn id="416" nodeType="afterEffect" fill="hold" presetClass="entr" presetID="5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4000"/>
                            </p:stCondLst>
                            <p:childTnLst>
                              <p:par>
                                <p:cTn id="424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7000"/>
                            </p:stCondLst>
                            <p:childTnLst>
                              <p:par>
                                <p:cTn id="432" nodeType="afterEffect" fill="hold" presetClass="entr" presetID="3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9f4"/>
            </a:gs>
            <a:gs pos="100000">
              <a:srgbClr val="8cb7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hrnu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779796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atalogy jsou dnes přístupné bez problém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tištěné podobě, ale jejich popularita a praktičnost kles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elektronické podobě, nejčastěji přímo na internetových stránkách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najdou se podle klíčového slova s využitím vyhledávač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též publikovány v pdf formá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jich využití je mnohostranné – objednávání a nákup, projektování, konstrukce a tvorba, inspirace, zábav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jich výbava je bohatá a praktická, ulehčuje práci s katalogem a jeho obsa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000"/>
                            </p:stCondLst>
                            <p:childTnLst>
                              <p:par>
                                <p:cTn id="4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9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6000"/>
                            </p:stCondLst>
                            <p:childTnLst>
                              <p:par>
                                <p:cTn id="4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3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8000"/>
                            </p:stCondLst>
                            <p:childTnLst>
                              <p:par>
                                <p:cTn id="4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2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1" dur="20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5" dur="20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9f4"/>
            </a:gs>
            <a:gs pos="100000">
              <a:srgbClr val="8cb7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Základní poj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25400" y="1671120"/>
            <a:ext cx="662472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egrovaný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vod, obecně je to elektronická součástka, ve které je více elektrických prvků v jednom pouzdř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talo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sborník součástek, uspořádaný podle vhodných kritérií a podle nichž se konkrétní IO rychle naj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a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základní pomůcka pro hledání konkrétního 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jstří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pomůcka pro hledání konkrétního 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harakteristické provozní a mezní hodnoty 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apojení vývod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řiřazení vývodů a vstupů, výstupů, napájení a dalších funk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7000"/>
                            </p:stCondLst>
                            <p:childTnLst>
                              <p:par>
                                <p:cTn id="70" nodeType="afterEffect" fill="hold" presetClass="entr" presetID="1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3000"/>
                            </p:stCondLst>
                            <p:childTnLst>
                              <p:par>
                                <p:cTn id="7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0"/>
                            </p:stCondLst>
                            <p:childTnLst>
                              <p:par>
                                <p:cTn id="7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" dur="2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7000"/>
                            </p:stCondLst>
                            <p:childTnLst>
                              <p:par>
                                <p:cTn id="8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20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9f4"/>
            </a:gs>
            <a:gs pos="100000">
              <a:srgbClr val="8cb7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Kata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90160" y="1242720"/>
            <a:ext cx="84740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ejčastěji se setkáme s firemními katalogy a s katalogy součást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talog firemní obsahuje vše, co nabízí firma a bývá to i nabídka z více oborů (např.: elektroinstalace, měřidla, svítidla, elektrospotřebiče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talog součástek je naopak specializovaný nejen podle oboru, ale i podle skupiny součástek (např.: pasívní součástky, diody, hybridní, analogové IO, logické IO, vf…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říve byly k dispozici pouze katalogy tištěné, získli jsme je nákupem nebo zdarma na veletru nebo k nahlédnutí v prodej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nes jsou možnosti využívat  vyhledávače na internetu a dostat se tak ke konkrétní součástce bez omezení (od kteréhokoliv výrobce, z kterékoliv země, přes kteréhokoliv prodej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5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9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2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3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20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9f4"/>
            </a:gs>
            <a:gs pos="100000">
              <a:srgbClr val="8cb7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0680" y="1128600"/>
            <a:ext cx="820908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kázka obsahu tištěného katalog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74680" y="1430280"/>
            <a:ext cx="6610320" cy="528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0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9f4"/>
            </a:gs>
            <a:gs pos="100000">
              <a:srgbClr val="8cb7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0680" y="1128600"/>
            <a:ext cx="820908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kázka obsahu internetového katalog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webová strán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38240" y="1477800"/>
            <a:ext cx="5224680" cy="479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9f4"/>
            </a:gs>
            <a:gs pos="100000">
              <a:srgbClr val="8cb7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0680" y="1128600"/>
            <a:ext cx="8209080" cy="36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Ukázka obsahu internetového katalog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webová strán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avidla se napřed tzv. „chytíme“ podle přibližného názvu, označ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k už nás www stránka vede a nabízí hledání podle různých hledisek (druh, model, výrobce, značka, velikost, cenové rozpětí, napájení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 nalezenému zboží pak máme k dispozici spoustu informací, počínaje cenou, vyobrazením, příslušenstvím, dostupností, ale i para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dle vlastního hledání je možnost srovnání vybraných modelů, volba vhodného příslušenství a nakonec objednání nebo ná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me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z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z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katalog-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gm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-2010-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elektronicke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-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soucastky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-p713-003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0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4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8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000"/>
                            </p:stCondLst>
                            <p:childTnLst>
                              <p:par>
                                <p:cTn id="17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6" dur="2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" dur="20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4" dur="2000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9f4"/>
            </a:gs>
            <a:gs pos="100000">
              <a:srgbClr val="8cb7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10680" y="1128600"/>
            <a:ext cx="820908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Ukázka obsahu internetového katalog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katalog ve formátu 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95360" y="1438200"/>
            <a:ext cx="7520040" cy="484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9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9f4"/>
            </a:gs>
            <a:gs pos="100000">
              <a:srgbClr val="8cb7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10680" y="1128600"/>
            <a:ext cx="820908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Ukázka obsahu internetového katalog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katalog ve formátu 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17400" y="1494000"/>
            <a:ext cx="72104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9f4"/>
            </a:gs>
            <a:gs pos="100000">
              <a:srgbClr val="8cb7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Rejstří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8386920" cy="519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3:47:50Z</dcterms:created>
  <dc:creator>Honza</dc:creator>
  <dc:description/>
  <dc:language>en-US</dc:language>
  <cp:lastModifiedBy>prokop.u</cp:lastModifiedBy>
  <dcterms:modified xsi:type="dcterms:W3CDTF">2011-03-07T10:59:15Z</dcterms:modified>
  <cp:revision>89</cp:revision>
  <dc:subject/>
  <dc:title>Metody minimalizace logických výrazů</dc:title>
</cp:coreProperties>
</file>