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50C-8DBB-42D8-BF91-5D298D0E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8A3-6D1A-4208-BD0F-51BE9F42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C1C-E1B0-4D23-AF8F-8DF2EF1B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DF8F-C5FF-4B48-BA49-79C849B6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4BA7-4AB4-4185-A0AC-443A2EE0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70D6-F80C-40D0-B0F2-B404AFE0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50C-437D-487C-8E24-D74E81B4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28C-E64F-4B39-8EBC-5D76E267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AAC4-06E1-4FB2-B962-90A08ABB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599-953D-4AC1-8114-CA326A67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81E0-A549-40C2-9829-7B177EE3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001-3251-45F5-BEB5-32E43C9C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EEC8-6A3E-4802-BEF0-209D33AF1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átory P, I, D a kombinac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ul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58920" y="3716280"/>
            <a:ext cx="648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pracoval: Ing. Jan Prok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droj 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lastnosti regulát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lastnosti se uvádějí podle odezvy na skok na vstu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ednoduché regulá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tup regulátor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přímo úměrný vstu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nejjednodušší, nejlevnější, ale nepřes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l první na světě, najdeme jej pod názvem „roztěžníkový regulátor otáček“ na parních strojích již v 18. stole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tup regulátor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dpovídá integrálu vstu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přesný, ale jeho účinek nastupuje pozvolna, neustane však, dokud existuje jakákoli odchylka na vstu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tup regulátor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dpovídá derivaci vstu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ho zásah je rázný, ale trvá jen okamžik, dále již nemá úči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ikdy se nepoužívá samostat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6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000"/>
                            </p:stCondLst>
                            <p:childTnLst>
                              <p:par>
                                <p:cTn id="368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2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6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0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8000"/>
                            </p:stCondLst>
                            <p:childTnLst>
                              <p:par>
                                <p:cTn id="384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2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4000"/>
                            </p:stCondLst>
                            <p:childTnLst>
                              <p:par>
                                <p:cTn id="388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2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0"/>
                            </p:stCondLst>
                            <p:childTnLst>
                              <p:par>
                                <p:cTn id="392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2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6000"/>
                            </p:stCondLst>
                            <p:childTnLst>
                              <p:par>
                                <p:cTn id="396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2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2000"/>
                            </p:stCondLst>
                            <p:childTnLst>
                              <p:par>
                                <p:cTn id="400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20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lastnosti regulát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lastnosti se uvádějí podle odezvy na skok na vstu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mbinované regulá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tup kombinovaných regulátorů je součtem dílčích výstu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regulátor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e uplatňuje přesnost složk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okamžitý účinek složk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ýhody (nepřesnos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pozvolný nástup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se naopak eliminu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regulátor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e využívá počáteční ráz složk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trvající účine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ýhody (nepřesnos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mžikové trvá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se neeliminu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ázu složk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e využívá k rozpohybování mechanizmu s tř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gulátor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I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nejdokonalejší a univerz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stavováním parametrů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e vytvoří libovolný regulátor či kombin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2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8000"/>
                            </p:stCondLst>
                            <p:childTnLst>
                              <p:par>
                                <p:cTn id="43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4000"/>
                            </p:stCondLst>
                            <p:childTnLst>
                              <p:par>
                                <p:cTn id="441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0"/>
                            </p:stCondLst>
                            <p:childTnLst>
                              <p:par>
                                <p:cTn id="44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2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6000"/>
                            </p:stCondLst>
                            <p:childTnLst>
                              <p:par>
                                <p:cTn id="44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2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2000"/>
                            </p:stCondLst>
                            <p:childTnLst>
                              <p:par>
                                <p:cTn id="45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20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olba vhodného regulá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848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ba regulátoru podle vlastností regulované soustav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4000" y="2133720"/>
          <a:ext cx="8208720" cy="2489040"/>
        </p:xfrm>
        <a:graphic>
          <a:graphicData uri="http://schemas.openxmlformats.org/drawingml/2006/table">
            <a:tbl>
              <a:tblPr/>
              <a:tblGrid>
                <a:gridCol w="936360"/>
                <a:gridCol w="2089440"/>
                <a:gridCol w="1482480"/>
                <a:gridCol w="1216080"/>
                <a:gridCol w="1219320"/>
                <a:gridCol w="1265040"/>
              </a:tblGrid>
              <a:tr h="3373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sta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ulá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ick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kapaci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stabil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ho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kla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kla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dnokapaci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ho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užitel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kla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kla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voukapaci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ho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omezen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ho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ho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dopravním zpožděn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stabil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omezen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ho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ho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tatick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dnokapaci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omezen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stabil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hodný, pokud nelze použí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regulá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voukapaci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omezen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stabil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500"/>
                            </p:stCondLst>
                            <p:childTnLst>
                              <p:par>
                                <p:cTn id="47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olba vhodného regulá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848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ba regulátoru podle druhu regulované veliči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24000" y="2133720"/>
          <a:ext cx="8208720" cy="2185920"/>
        </p:xfrm>
        <a:graphic>
          <a:graphicData uri="http://schemas.openxmlformats.org/drawingml/2006/table">
            <a:tbl>
              <a:tblPr/>
              <a:tblGrid>
                <a:gridCol w="3025800"/>
                <a:gridCol w="1482480"/>
                <a:gridCol w="1216080"/>
                <a:gridCol w="1219320"/>
                <a:gridCol w="126504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ovaná velič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ulá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žitel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ho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z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ho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pl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ho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ho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z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z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t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ho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ho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ho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ho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ad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ho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ho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z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ho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áč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ho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hodn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z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z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5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olba vhodného regulá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848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poručené hodnoty parametrů získané na základě zkušenos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4000" y="2133720"/>
          <a:ext cx="7488000" cy="1874880"/>
        </p:xfrm>
        <a:graphic>
          <a:graphicData uri="http://schemas.openxmlformats.org/drawingml/2006/table">
            <a:tbl>
              <a:tblPr/>
              <a:tblGrid>
                <a:gridCol w="2860560"/>
                <a:gridCol w="1401840"/>
                <a:gridCol w="1149120"/>
                <a:gridCol w="207648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ovaná velič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l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až 1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 až 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 až 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pl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ž 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až 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 až 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ůt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až 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 až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 až 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ad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až 17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 až 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 až 0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 zopak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7343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á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so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pojit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j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pojité regulátory patří mezi nejjednodušší a nejpoužívaněj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átory P I 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ří mez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ojité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acují analogově a jsou historicky nejstar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orie o nich a jejich implantacích je propracova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v počítačovém řízení nacházejí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I 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gulátory uplat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 jsou znalosti o nich stále aktuální a důlež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žívá se i počítačová simulace těchto analogových regulá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8000"/>
                            </p:stCondLst>
                            <p:childTnLst>
                              <p:par>
                                <p:cTn id="534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8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2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6000"/>
                            </p:stCondLst>
                            <p:childTnLst>
                              <p:par>
                                <p:cTn id="546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8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2000"/>
                            </p:stCondLst>
                            <p:childTnLst>
                              <p:par>
                                <p:cTn id="550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8000"/>
                            </p:stCondLst>
                            <p:childTnLst>
                              <p:par>
                                <p:cTn id="554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6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Závě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2818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lověk je v podstatě líný tvor a vynalézá vše proto, aby nemusel …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stro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by nemusel pracovat holýma ruk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o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by nemusel vynakládat svou sílu a znásobil ji využíváním cizí e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gulát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by nemusel osobně ovládat st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bo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by nahradil více činností člově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yberne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by jim člověk svěřil i invenci a fantaz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??? CM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by člověk nemusel už vůbec ni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8000"/>
                            </p:stCondLst>
                            <p:childTnLst>
                              <p:par>
                                <p:cTn id="57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1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6000"/>
                            </p:stCondLst>
                            <p:childTnLst>
                              <p:par>
                                <p:cTn id="58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7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2000"/>
                            </p:stCondLst>
                            <p:childTnLst>
                              <p:par>
                                <p:cTn id="58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1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8000"/>
                            </p:stCondLst>
                            <p:childTnLst>
                              <p:par>
                                <p:cTn id="59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5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átory nespojit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tří mezi nejjednodušší a nejpoužívaněj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átory P I 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ří mez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ojité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acují analogově a jsou historicky nejstar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orie o nich a jejich nasazení je propracova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v počítačovém řízení nacházejí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I 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gulátory uplat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 jsou znalosti o nich stále aktuální a důlež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žívá se i počítačová simulace těchto analogových regulá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950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kladní úd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770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ulátor P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proporcion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tup regulátoru je přímo úměrný vstu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y = k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kd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konstanta úměr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vykle se uvádí pásmo proporcionalit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p = 1/k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ulátor I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integra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tup regulátoru je integrací vstu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y =1/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ʃx.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ulátor D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deriva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tup regulátoru je derivací vstu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y = 1/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dx/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2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20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20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2000"/>
                                        <p:tgtEl>
                                          <p:spTgt spid="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hování regulát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981000"/>
            <a:ext cx="83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átory se testují a charakterizují odezvou na skok na vstu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á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788000" y="1413000"/>
            <a:ext cx="3600360" cy="4733640"/>
            <a:chOff x="4788000" y="1413000"/>
            <a:chExt cx="3600360" cy="473364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4788000" y="3716280"/>
              <a:ext cx="3600360" cy="24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4788000" y="1413000"/>
              <a:ext cx="3590640" cy="236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2491920"/>
            <a:ext cx="4464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tup regulátoru je přímo úměrný vstu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y = k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konstanta úměr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vykle se uvádí pásmo proporc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p = 1/k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1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hování regulát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81000"/>
            <a:ext cx="83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átory se testují a charakterizují odezvou na skok na vstu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á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591000" cy="2361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716360" y="3789360"/>
            <a:ext cx="3600720" cy="2232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2491920"/>
            <a:ext cx="4392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tup regulátoru je integrací vstu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y =1/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ʃx.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integrační konst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9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1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8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hování regulát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981000"/>
            <a:ext cx="83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átory se testují a charakterizují odezvou na skok na vstu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á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591000" cy="2361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716360" y="3716280"/>
            <a:ext cx="3600720" cy="2305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2491920"/>
            <a:ext cx="3960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tup regulátoru je derivací vstu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y = 1/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dx/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derivační konst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9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0"/>
                            </p:stCondLst>
                            <p:childTnLst>
                              <p:par>
                                <p:cTn id="231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hování regulát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981000"/>
            <a:ext cx="83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átory se testují a charakterizují odezvou na skok na vstu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á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591000" cy="2361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716360" y="3789360"/>
            <a:ext cx="3600720" cy="2332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2492280"/>
            <a:ext cx="35989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tup regulátoru je součtem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ýstupu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y = k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/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ʃx.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7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hování regulát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981000"/>
            <a:ext cx="83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átory se testují a charakterizují odezvou na skok na vstu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á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591000" cy="2361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716360" y="3716280"/>
            <a:ext cx="3600720" cy="24685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2349360"/>
            <a:ext cx="35989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tup regulátoru je součtem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ýstupu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y = k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/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dx/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900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1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hování regulát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981000"/>
            <a:ext cx="83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átory se testují a charakterizují odezvou na skok na vstu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á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591000" cy="2361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716360" y="3716280"/>
            <a:ext cx="3600720" cy="2454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3672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tup regulátoru je součtem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ýstupu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y = k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/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ʃx.d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/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dx/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3:47:50Z</dcterms:created>
  <dc:creator>Honza</dc:creator>
  <dc:description/>
  <dc:language>en-US</dc:language>
  <cp:lastModifiedBy>prokop.u</cp:lastModifiedBy>
  <dcterms:modified xsi:type="dcterms:W3CDTF">2012-04-30T09:53:22Z</dcterms:modified>
  <cp:revision>135</cp:revision>
  <dc:subject/>
  <dc:title>Metody minimalizace logických výrazů</dc:title>
</cp:coreProperties>
</file>