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06E-6B6C-4F04-BE36-9FD305B8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FCB-4A54-4016-8E1F-48B5A5E1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EAC-EF48-42C0-A1F7-1741E6C4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C67-3A58-4022-8749-7D7865A1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2AC-E999-4966-8283-2432CFE6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0A4-0D58-4555-AD05-7BC0CC2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2EF-D6E6-4920-AB81-2985C1AB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0EC-117B-4D5C-BDD3-6C35BB43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D74-1C1A-4202-B202-0658300A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560-EDA6-4FEE-BF53-39ED2E5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522-9BB9-4F6A-B2B2-3E019946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1C8-09CB-4FCD-A45D-C0AC4E88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F0A8-C514-4846-A3DF-089F4DB1B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nostalcomp.cz/pdfka/hudba_tems.pdf" TargetMode="External"/><Relationship Id="rId3" Type="http://schemas.openxmlformats.org/officeDocument/2006/relationships/hyperlink" Target="http://www.nostalcomp.cz/pdfka/hudba_tems.pdf" TargetMode="External"/><Relationship Id="rId4" Type="http://schemas.openxmlformats.org/officeDocument/2006/relationships/hyperlink" Target="http://www.nostalcomp.cz/pdfka/hudba_tems.pdf" TargetMode="External"/><Relationship Id="rId5" Type="http://schemas.openxmlformats.org/officeDocument/2006/relationships/hyperlink" Target="http://www.nostalcomp.cz/pdfka/hudba_tems.pdf" TargetMode="External"/><Relationship Id="rId6" Type="http://schemas.openxmlformats.org/officeDocument/2006/relationships/hyperlink" Target="http://www.nostalcomp.cz/pdfka/hudba_tems.pdf" TargetMode="External"/><Relationship Id="rId7" Type="http://schemas.openxmlformats.org/officeDocument/2006/relationships/hyperlink" Target="http://www.nostalcomp.cz/pdfka/hudba_tems.pdf" TargetMode="External"/><Relationship Id="rId8" Type="http://schemas.openxmlformats.org/officeDocument/2006/relationships/hyperlink" Target="http://www.nostalcomp.cz/pdfka/hudba_tems.pdf" TargetMode="External"/><Relationship Id="rId9" Type="http://schemas.openxmlformats.org/officeDocument/2006/relationships/hyperlink" Target="http://www.nostalcomp.cz/pdfka/hudba_tems.pdf" TargetMode="External"/><Relationship Id="rId10" Type="http://schemas.openxmlformats.org/officeDocument/2006/relationships/hyperlink" Target="http://www.nostalcomp.cz/pdfka/hudba_tems.pdf" TargetMode="External"/><Relationship Id="rId11" Type="http://schemas.openxmlformats.org/officeDocument/2006/relationships/hyperlink" Target="http://www.nostalcomp.cz/pdfka/hudba_tems.pdf" TargetMode="External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ostalcomp.cz/pdfka/hudba_tems.pdf" TargetMode="External"/><Relationship Id="rId3" Type="http://schemas.openxmlformats.org/officeDocument/2006/relationships/hyperlink" Target="http://www.nostalcomp.cz/pdfka/hudba_tems.pdf" TargetMode="External"/><Relationship Id="rId4" Type="http://schemas.openxmlformats.org/officeDocument/2006/relationships/hyperlink" Target="http://www.nostalcomp.cz/pdfka/hudba_tems.pdf" TargetMode="External"/><Relationship Id="rId5" Type="http://schemas.openxmlformats.org/officeDocument/2006/relationships/hyperlink" Target="http://www.nostalcomp.cz/pdfka/hudba_tems.pdf" TargetMode="External"/><Relationship Id="rId6" Type="http://schemas.openxmlformats.org/officeDocument/2006/relationships/hyperlink" Target="http://www.nostalcomp.cz/pdfka/hudba_tems.pdf" TargetMode="External"/><Relationship Id="rId7" Type="http://schemas.openxmlformats.org/officeDocument/2006/relationships/hyperlink" Target="http://www.nostalcomp.cz/pdfka/hudba_tems.pdf" TargetMode="External"/><Relationship Id="rId8" Type="http://schemas.openxmlformats.org/officeDocument/2006/relationships/hyperlink" Target="http://www.nostalcomp.cz/pdfka/hudba_tems.pdf" TargetMode="External"/><Relationship Id="rId9" Type="http://schemas.openxmlformats.org/officeDocument/2006/relationships/hyperlink" Target="http://www.nostalcomp.cz/pdfka/hudba_tems.pdf" TargetMode="External"/><Relationship Id="rId10" Type="http://schemas.openxmlformats.org/officeDocument/2006/relationships/hyperlink" Target="http://www.nostalcomp.cz/pdfka/hudba_tems.pdf" TargetMode="External"/><Relationship Id="rId11" Type="http://schemas.openxmlformats.org/officeDocument/2006/relationships/hyperlink" Target="http://www.nostalcomp.cz/pdfka/hudba_tems.pdf" TargetMode="External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gramování TEMS - rep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8920" y="3716280"/>
            <a:ext cx="648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 : podklady TESLA Vráble</a:t>
            </a:r>
            <a:br>
              <a:rPr sz="1200"/>
            </a:b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ostalcomp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dfka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hudba_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ems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df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</a:t>
            </a:r>
            <a:r>
              <a:rPr b="0" lang="cs-CZ" sz="1200" spc="-1" strike="noStrike" u="sng">
                <a:solidFill>
                  <a:srgbClr val="333399"/>
                </a:solidFill>
                <a:uFillTx/>
                <a:latin typeface="Arial"/>
              </a:rPr>
              <a:t>http://avdsys.blog.cz/0706/tesm-800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14716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tvoření melodi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řebujeme informace o jednotlivých tónech a mezerách, to pak tvoří melod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krátkou melodii (popěvek, znělka, signál „hoří!“…) zopakujeme předchozí program pro každý 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delší melodie (celá píseň, skladba) použijeme opakované čtení dvou parametrů tónu z připravené zásoby dat programem v cyk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k je nutné se postarat, aby program poznal, který tón je posle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era je vlastně také tón dané délky, ale neslyšitelné výšky (infra / ult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ostalcomp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dfk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hudba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em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gramátorské tipy-t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4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9500"/>
                            </p:stCondLst>
                            <p:childTnLst>
                              <p:par>
                                <p:cTn id="449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9500"/>
                            </p:stCondLst>
                            <p:childTnLst>
                              <p:par>
                                <p:cTn id="453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9500"/>
                            </p:stCondLst>
                            <p:childTnLst>
                              <p:par>
                                <p:cTn id="457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9500"/>
                            </p:stCondLst>
                            <p:childTnLst>
                              <p:par>
                                <p:cTn id="461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9500"/>
                            </p:stCondLst>
                            <p:childTnLst>
                              <p:par>
                                <p:cTn id="465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 z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840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Booleovy algebry známe funkci X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to tzv. výhradní NEBO (exclusive 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tip spočívá v tom, že vstupy, které jsou shodné, mají na výstupu vždy 0, rozdílné na vstupu mají na výstupu vžd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rukce XRI data (=maska) provede operaci XOR s maskou, kde podle nastavení masky bude fungovat výše u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to dobře patrné v pravdivostní tabu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979640" y="3716280"/>
          <a:ext cx="1795320" cy="2016360"/>
        </p:xfrm>
        <a:graphic>
          <a:graphicData uri="http://schemas.openxmlformats.org/drawingml/2006/table">
            <a:tbl>
              <a:tblPr/>
              <a:tblGrid>
                <a:gridCol w="452520"/>
                <a:gridCol w="452160"/>
                <a:gridCol w="890640"/>
              </a:tblGrid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000"/>
                            </p:stCondLst>
                            <p:childTnLst>
                              <p:par>
                                <p:cTn id="484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6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8500"/>
                            </p:stCondLst>
                            <p:childTnLst>
                              <p:par>
                                <p:cTn id="5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0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8000"/>
                            </p:stCondLst>
                            <p:childTnLst>
                              <p:par>
                                <p:cTn id="514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Závě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056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ování obecně je tvůrčí či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ázali jsme jen základní techniky, spíše tipy – triky a ukázky programování na příklad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atní je na schopnostech, zkušenostech a invenci program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me řídit reproduktorek, nechat zaznít několik tó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ali jsme doporučený formulář, důležitost znalostí a schopností program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zapomínáme na komentá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okonalíme se trénin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číme se od zkuše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1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4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3000"/>
                            </p:stCondLst>
                            <p:childTnLst>
                              <p:par>
                                <p:cTn id="54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2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5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20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7000"/>
                            </p:stCondLst>
                            <p:childTnLst>
                              <p:par>
                                <p:cTn id="55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2000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199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ování obecně je tvůrčí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me se tedy zabývat jen základními techni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kázkami programování na příklad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atní je na schopnostech, zkušenostech a invenci program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Školní počítač vybaven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 průmyslové úč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andardní zástavba – do kufř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ůhled do ni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elní porty jsou připojené na A/D převod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D převodníky obsluhují přímo motůrek či reprodukto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en port je vybaven převodníkem odpor/čas a slouží jako vstup ze senz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riový port je využitý pro komunikaci s kazetovým magnetofo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ware – tzv. monitor je účelně vybavený podprogra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částí je manuál k obsluze TEMS 80-03, kde se najde mj. popis podprogramů monitoru a také návod na obsluhu displ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někud syrová, ale praktická příručka programování je plná příkladů a kompletních progra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ítač obslouží i rozšiřující desku TEMS 80-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45160" y="0"/>
            <a:ext cx="4398840" cy="29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2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2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2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2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2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2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2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Řízení reproduktor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7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ktorek je řízen přes nastavený paralelní port (brána C = F6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řídicím slovem ve formá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2205000"/>
          <a:ext cx="4038480" cy="460440"/>
        </p:xfrm>
        <a:graphic>
          <a:graphicData uri="http://schemas.openxmlformats.org/drawingml/2006/table">
            <a:tbl>
              <a:tblPr/>
              <a:tblGrid>
                <a:gridCol w="444600"/>
                <a:gridCol w="512640"/>
                <a:gridCol w="514440"/>
                <a:gridCol w="544320"/>
                <a:gridCol w="482760"/>
                <a:gridCol w="512640"/>
                <a:gridCol w="514440"/>
                <a:gridCol w="51264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211640" y="2276640"/>
            <a:ext cx="460836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0 0001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1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0 určuje polohu membrán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ysunutá = 1, uvolněná = 0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ší bit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ovolná hodnota - nevyuž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4508640"/>
            <a:ext cx="813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e vlastně o střídání dvou poloh = reproduktorek generuje obdélníkové k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211640" y="2708280"/>
            <a:ext cx="324000" cy="504720"/>
            <a:chOff x="4211640" y="2708280"/>
            <a:chExt cx="324000" cy="504720"/>
          </a:xfrm>
        </p:grpSpPr>
        <p:sp>
          <p:nvSpPr>
            <p:cNvPr id="57" name=""/>
            <p:cNvSpPr/>
            <p:nvPr/>
          </p:nvSpPr>
          <p:spPr>
            <a:xfrm>
              <a:off x="4211640" y="321300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1164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6200000">
            <a:off x="2052720" y="1123920"/>
            <a:ext cx="287280" cy="345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195640" y="2997360"/>
            <a:ext cx="2340000" cy="936360"/>
            <a:chOff x="2195640" y="2997360"/>
            <a:chExt cx="2340000" cy="936360"/>
          </a:xfrm>
        </p:grpSpPr>
        <p:sp>
          <p:nvSpPr>
            <p:cNvPr id="61" name=""/>
            <p:cNvSpPr/>
            <p:nvPr/>
          </p:nvSpPr>
          <p:spPr>
            <a:xfrm>
              <a:off x="2195640" y="299736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95640" y="393372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stavení progr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yní sestavíme program pro obsluhu reproduktor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řebujeme znát instrukční sadu procesoru 80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řebujeme znát adresy I/O bran a způsob řízení paralelního portu 8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odneme od jaké adresy v RAM paměti uložíme program (obvykle 2000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napíšeme v mnemokódu a přeložíme do instrukční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(poněkud neobvykle) ukončíme instrukcí HALT, která zastaví činnost procesoru se všemi dů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je program řízen nekonečným cyklem =&gt; trvalý 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opatříme adresami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vynecháme komentář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povědu a inspiraci čerpáme s výhodou z příručky program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zadáme do paměti pomocí kláves &lt;MEM&gt;, &lt;NEXT&gt; a &lt;EXE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ustíme klávesou &lt;GO&gt; (adresa) &lt;EXE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rolujeme výsledek – zvuk z reprodukt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22868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0360" y="4365720"/>
            <a:ext cx="2987640" cy="23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6" nodeType="after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5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5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5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5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2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550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7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2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75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20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7500"/>
                            </p:stCondLst>
                            <p:childTnLst>
                              <p:par>
                                <p:cTn id="246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78487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hybování membrá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hyb řešíme opakovaným odesláním řídicího slova na por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ždé další řídicí slovo má invertovaný b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i dvěma odesláními je prodleva odpovídající polovině periody tó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ování bitu 0 v řídicím slově reproduktorku provedeme pomocí funkce XRI s obsahem registru A a maskou následované odeslání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adresu portu C = F6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 použití XRI a mas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ce mask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hodnota 1 výsledek invertuje, 0 výsledek neovl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rána byla vysunuta, bude uvolněna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ídicí slovo reproduktor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 000</a:t>
            </a:r>
            <a:r>
              <a:rPr b="0" lang="en-US" sz="1800" spc="-1" strike="noStrike">
                <a:solidFill>
                  <a:srgbClr val="f54c09"/>
                </a:solidFill>
                <a:latin typeface="Arial"/>
              </a:rPr>
              <a:t>1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76125"/>
                </a:solidFill>
                <a:latin typeface="Arial"/>
              </a:rPr>
              <a:t>01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vní oper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000 0001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druhý oper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é řídicí slov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 000</a:t>
            </a:r>
            <a:r>
              <a:rPr b="0" lang="en-US" sz="1800" spc="-1" strike="noStrike">
                <a:solidFill>
                  <a:srgbClr val="f54c09"/>
                </a:solidFill>
                <a:latin typeface="Arial"/>
              </a:rPr>
              <a:t>0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76125"/>
                </a:solidFill>
                <a:latin typeface="Arial"/>
              </a:rPr>
              <a:t>00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ýsledek X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rána byla uvolněna, bude vysunuta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ídicí slovo reproduktor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 000</a:t>
            </a:r>
            <a:r>
              <a:rPr b="0" lang="en-US" sz="1800" spc="-1" strike="noStrike">
                <a:solidFill>
                  <a:srgbClr val="f54c09"/>
                </a:solidFill>
                <a:latin typeface="Arial"/>
              </a:rPr>
              <a:t>0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76125"/>
                </a:solidFill>
                <a:latin typeface="Arial"/>
              </a:rPr>
              <a:t>00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vní oper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000 0001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druhý oper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é řídicí slov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 000</a:t>
            </a:r>
            <a:r>
              <a:rPr b="0" lang="en-US" sz="1800" spc="-1" strike="noStrike">
                <a:solidFill>
                  <a:srgbClr val="f54c09"/>
                </a:solidFill>
                <a:latin typeface="Arial"/>
              </a:rPr>
              <a:t>1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76125"/>
                </a:solidFill>
                <a:latin typeface="Arial"/>
              </a:rPr>
              <a:t>01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ýsledek X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gramátorské tipy-tri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4005360"/>
            <a:ext cx="288720" cy="863640"/>
          </a:xfrm>
          <a:prstGeom prst="ellipse">
            <a:avLst/>
          </a:prstGeom>
          <a:noFill/>
          <a:ln w="9360">
            <a:solidFill>
              <a:srgbClr val="f7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5013360"/>
            <a:ext cx="288720" cy="863640"/>
          </a:xfrm>
          <a:prstGeom prst="ellipse">
            <a:avLst/>
          </a:prstGeom>
          <a:noFill/>
          <a:ln w="9360">
            <a:solidFill>
              <a:srgbClr val="f7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9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10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50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70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89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10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2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3000"/>
                            </p:stCondLst>
                            <p:childTnLst>
                              <p:par>
                                <p:cTn id="313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dklady k tón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108000" y="1196640"/>
            <a:ext cx="8569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zadání tónu potřebujeme dva parametry – pro výšku a pro délku t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ásledující tabulka obsahuje potřebné informace. Např. pro tón C1 bu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r výšky 9F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r délky celé noty 7A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2349360"/>
          <a:ext cx="8713800" cy="3903840"/>
        </p:xfrm>
        <a:graphic>
          <a:graphicData uri="http://schemas.openxmlformats.org/drawingml/2006/table">
            <a:tbl>
              <a:tblPr/>
              <a:tblGrid>
                <a:gridCol w="721080"/>
                <a:gridCol w="1194840"/>
                <a:gridCol w="532800"/>
                <a:gridCol w="587880"/>
                <a:gridCol w="216000"/>
                <a:gridCol w="586440"/>
                <a:gridCol w="507240"/>
                <a:gridCol w="529560"/>
                <a:gridCol w="591120"/>
                <a:gridCol w="529560"/>
                <a:gridCol w="592560"/>
                <a:gridCol w="529560"/>
                <a:gridCol w="534240"/>
                <a:gridCol w="529560"/>
                <a:gridCol w="53136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ó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š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l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debn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v. [Hz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76125"/>
                          </a:solidFill>
                          <a:latin typeface="Arial"/>
                        </a:rPr>
                        <a:t>1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76125"/>
                          </a:solidFill>
                          <a:latin typeface="Arial"/>
                        </a:rPr>
                        <a:t>c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76125"/>
                          </a:solidFill>
                          <a:latin typeface="Arial"/>
                        </a:rPr>
                        <a:t>9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76125"/>
                          </a:solidFill>
                          <a:latin typeface="Arial"/>
                        </a:rPr>
                        <a:t>7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6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kázka progr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1471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hodný formulář pro sestavení programu (jeden tón trvalý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9640" y="1773360"/>
          <a:ext cx="7993080" cy="409896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1079640"/>
                <a:gridCol w="433440"/>
                <a:gridCol w="647640"/>
                <a:gridCol w="647640"/>
                <a:gridCol w="3960720"/>
              </a:tblGrid>
              <a:tr h="29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entá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A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8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8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8255 do registr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U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8255 na adres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7</a:t>
                      </a:r>
                      <a:r>
                        <a:rPr b="1" lang="en-US" sz="1200" spc="-1" strike="noStrike" baseline="-20000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A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reproduktorku do registr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op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XR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zinvertování řídicího slova masko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1</a:t>
                      </a:r>
                      <a:r>
                        <a:rPr b="1" lang="en-US" sz="1200" spc="-1" strike="noStrike" baseline="-20000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U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reprod. na brán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 8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(adres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6</a:t>
                      </a:r>
                      <a:r>
                        <a:rPr b="1" lang="cs-CZ" sz="1200" spc="-1" strike="noStrike" baseline="-20000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B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9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9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parametr výšky tónu (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9F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) do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C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B–1 -&gt;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JNZ 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L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H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kok n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el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, když v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není n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JMP op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L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H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kok n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op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340000" y="4365720"/>
            <a:ext cx="431640" cy="288720"/>
          </a:xfrm>
          <a:prstGeom prst="ellipse">
            <a:avLst/>
          </a:prstGeom>
          <a:noFill/>
          <a:ln w="9360">
            <a:solidFill>
              <a:srgbClr val="f7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69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7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kázka progr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1471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lepšený program (jeden tón včetně délky trvání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9640" y="1773360"/>
          <a:ext cx="7993080" cy="439416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1079640"/>
                <a:gridCol w="433440"/>
                <a:gridCol w="647640"/>
                <a:gridCol w="647640"/>
                <a:gridCol w="3960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entá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A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8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8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8255 do registr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U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8255 na adres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7</a:t>
                      </a:r>
                      <a:r>
                        <a:rPr b="1" lang="en-US" sz="1200" spc="-1" strike="noStrike" baseline="-20000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MVI C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9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9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élka tónu = počet půlperiod do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A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reproduktorku do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op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XR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zinvertování řídicího slova masko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1</a:t>
                      </a:r>
                      <a:r>
                        <a:rPr b="1" lang="en-US" sz="1200" spc="-1" strike="noStrike" baseline="-20000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U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reprod. na brán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 8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(adres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6</a:t>
                      </a:r>
                      <a:r>
                        <a:rPr b="1" lang="cs-CZ" sz="1200" spc="-1" strike="noStrike" baseline="-20000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B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7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7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výška tónu = doba půlperiody do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C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B–1 -&gt;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JNZ 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L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H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kok n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el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, když v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B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není n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CR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–1 -&gt;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JNZ op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L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H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kok n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opa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, když v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není n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okračování programu (další tó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2340000" y="2781360"/>
            <a:ext cx="431640" cy="288720"/>
          </a:xfrm>
          <a:prstGeom prst="ellipse">
            <a:avLst/>
          </a:prstGeom>
          <a:noFill/>
          <a:ln w="9360">
            <a:solidFill>
              <a:srgbClr val="f7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4292640"/>
            <a:ext cx="432000" cy="288720"/>
          </a:xfrm>
          <a:prstGeom prst="ellipse">
            <a:avLst/>
          </a:prstGeom>
          <a:noFill/>
          <a:ln w="9360">
            <a:solidFill>
              <a:srgbClr val="f7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500"/>
                            </p:stCondLst>
                            <p:childTnLst>
                              <p:par>
                                <p:cTn id="402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0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prokop.u</cp:lastModifiedBy>
  <dcterms:modified xsi:type="dcterms:W3CDTF">2010-12-31T09:09:02Z</dcterms:modified>
  <cp:revision>115</cp:revision>
  <dc:subject/>
  <dc:title>Metody minimalizace logických výrazů</dc:title>
</cp:coreProperties>
</file>