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E1B-5866-4F21-B6EC-1059F2B7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6CE-5CBE-4876-A1A9-0235E55B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DDF-F33D-49EE-8BCF-878DCA3A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DE3-6974-429C-A0DE-50BFE405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9A5-0810-4F6E-B7A3-07E10134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146-02D1-402F-A512-DB63C8BF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3E4-620F-4F0E-8C9C-D6014A7B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3A3-2498-425C-B099-5EAF5571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E30-07F1-4752-B051-34409C37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188F-469A-40EF-A644-7FA748A4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D03-1096-4DD0-8F52-8691B867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5E1-D0A9-4FAC-A48C-DF287AC5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5CF9-3D7C-43B1-8344-635AB3E68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vdsys.blog.cz/0706/tesm-8003a" TargetMode="External"/><Relationship Id="rId3" Type="http://schemas.openxmlformats.org/officeDocument/2006/relationships/hyperlink" Target="http://avdsys.blog.cz/0706/tesm-8003a" TargetMode="External"/><Relationship Id="rId4" Type="http://schemas.openxmlformats.org/officeDocument/2006/relationships/hyperlink" Target="http://avdsys.blog.cz/0706/tesm-8003a" TargetMode="External"/><Relationship Id="rId5" Type="http://schemas.openxmlformats.org/officeDocument/2006/relationships/hyperlink" Target="http://avdsys.blog.cz/0706/tesm-8003a" TargetMode="External"/><Relationship Id="rId6" Type="http://schemas.openxmlformats.org/officeDocument/2006/relationships/hyperlink" Target="http://avdsys.blog.cz/0706/tesm-8003a" TargetMode="External"/><Relationship Id="rId7" Type="http://schemas.openxmlformats.org/officeDocument/2006/relationships/hyperlink" Target="http://avdsys.blog.cz/0706/tesm-8003a" TargetMode="External"/><Relationship Id="rId8" Type="http://schemas.openxmlformats.org/officeDocument/2006/relationships/hyperlink" Target="http://avdsys.blog.cz/0706/tesm-8003a" TargetMode="External"/><Relationship Id="rId9" Type="http://schemas.openxmlformats.org/officeDocument/2006/relationships/hyperlink" Target="http://avdsys.blog.cz/0706/tesm-8003a" TargetMode="External"/><Relationship Id="rId10" Type="http://schemas.openxmlformats.org/officeDocument/2006/relationships/hyperlink" Target="http://avdsys.blog.cz/0706/tesm-8003a" TargetMode="External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ování TEMS - motů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32000" y="3716280"/>
            <a:ext cx="640080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al: Ing. Jan Pro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 : podklady TESLA Vrá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 autor, 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vdsys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log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z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0706/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tesm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-8003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147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ěh motůrku po určitou dob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dobu 1sekunda použijeme podprogram z monito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dresa podprogramu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218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ametr (pro 1s je t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0 0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se očekává v dvojregist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lší prodlevu (násobky 1s) řešíme cyklem s definovaným počtem průch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gramátorské tipy-tr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9640" y="3573360"/>
          <a:ext cx="7993080" cy="2521080"/>
        </p:xfrm>
        <a:graphic>
          <a:graphicData uri="http://schemas.openxmlformats.org/drawingml/2006/table">
            <a:tbl>
              <a:tblPr/>
              <a:tblGrid>
                <a:gridCol w="647640"/>
                <a:gridCol w="505080"/>
                <a:gridCol w="1224000"/>
                <a:gridCol w="431640"/>
                <a:gridCol w="647640"/>
                <a:gridCol w="649440"/>
                <a:gridCol w="3887640"/>
              </a:tblGrid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ó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entá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předchozí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C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počet opakování do registr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ček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LXI D, 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parametr DELAY do dvojregistru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AL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Volání podprogramu DELAY na adrese 0218</a:t>
                      </a:r>
                      <a:r>
                        <a:rPr b="0" lang="en-US" sz="1200" spc="-1" strike="noStrike" baseline="-20000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CR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–1 -&gt;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JNZ ček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L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H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kok na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čekej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, když v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 není n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následný program když v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 je n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8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20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81471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ěh motůrku po určitou dobu, pak zastave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levu řešíme (opakovaným) voláním podprogram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dresa podprogramu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218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ametr (pro 1s je t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0 0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se očekává v dvojregist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stavení se provede vynulováním řídicího slova motůrku pomocí funkce XOR dvou shodných čísel (obsah reg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a odesláním na adresu portu A = F4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gramátorské tipy-tr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39640" y="3645000"/>
          <a:ext cx="7993080" cy="2600280"/>
        </p:xfrm>
        <a:graphic>
          <a:graphicData uri="http://schemas.openxmlformats.org/drawingml/2006/table">
            <a:tbl>
              <a:tblPr/>
              <a:tblGrid>
                <a:gridCol w="647640"/>
                <a:gridCol w="505080"/>
                <a:gridCol w="1224000"/>
                <a:gridCol w="431640"/>
                <a:gridCol w="647640"/>
                <a:gridCol w="649440"/>
                <a:gridCol w="3887640"/>
              </a:tblGrid>
              <a:tr h="27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ó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entá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předchozí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A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4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4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motůrku do registr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OU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F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motůrku na brán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8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další běh program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nulu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XRA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XOR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 -&gt;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OU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F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motůrku na brán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8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(adres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pokračování program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3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7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311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2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8000"/>
                            </p:stCondLst>
                            <p:childTnLst>
                              <p:par>
                                <p:cTn id="315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20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 zopak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5256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Booleovy algebry známe funkci X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to tzv. výhradní NEBO (exclusive 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tip spočívá v tom, že vstupy, které jsou shodné, mají na výstupu vžd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trukce XRA A provede operaci XOR pouze s obsahem registr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to dobře patrné v pravdivostní tabu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979640" y="3716280"/>
          <a:ext cx="1795320" cy="2016360"/>
        </p:xfrm>
        <a:graphic>
          <a:graphicData uri="http://schemas.openxmlformats.org/drawingml/2006/table">
            <a:tbl>
              <a:tblPr/>
              <a:tblGrid>
                <a:gridCol w="452520"/>
                <a:gridCol w="452160"/>
                <a:gridCol w="890640"/>
              </a:tblGrid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9000"/>
                            </p:stCondLst>
                            <p:childTnLst>
                              <p:par>
                                <p:cTn id="33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8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7000"/>
                            </p:stCondLst>
                            <p:childTnLst>
                              <p:par>
                                <p:cTn id="34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2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3000"/>
                            </p:stCondLst>
                            <p:childTnLst>
                              <p:par>
                                <p:cTn id="35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20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9000"/>
                            </p:stCondLst>
                            <p:childTnLst>
                              <p:par>
                                <p:cTn id="35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2000"/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5000"/>
                            </p:stCondLst>
                            <p:childTnLst>
                              <p:par>
                                <p:cTn id="3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784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ěh motůrku po určitou dobu, pak reverzace, opakovaně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levy řešíme (opakovaným) voláním podprogram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dresa podprogramu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218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ametr (pro 1s je t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0 0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se očekává v dvojregist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verzace se provede invertováním bitu 4 v řídicím slově motůrku pomocí funkce XRI s obsahem registru A a maskou a odesláním na adresu portu A = F4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klad použití XRI a mas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 masky -  hodnota 1 výsledek invertuje, 0 výsledek neovliv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 slovo motůr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101 1111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první operand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s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0001 0000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druhý operand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é řídicí slov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100 1111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F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výsledek X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gramátorské tipy-tr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4869000"/>
            <a:ext cx="289080" cy="863640"/>
          </a:xfrm>
          <a:prstGeom prst="ellipse">
            <a:avLst/>
          </a:prstGeom>
          <a:noFill/>
          <a:ln w="9360">
            <a:solidFill>
              <a:srgbClr val="f76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6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2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6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2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0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2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8000"/>
                            </p:stCondLst>
                            <p:childTnLst>
                              <p:par>
                                <p:cTn id="394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2000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6000"/>
                            </p:stCondLst>
                            <p:childTnLst>
                              <p:par>
                                <p:cTn id="398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20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4000"/>
                            </p:stCondLst>
                            <p:childTnLst>
                              <p:par>
                                <p:cTn id="402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2000"/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2000"/>
                            </p:stCondLst>
                            <p:childTnLst>
                              <p:par>
                                <p:cTn id="4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gramátorské tipy-tr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77868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ěh motůrku po určitou dobu, pak reverzace, opakovaně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68360" y="1700280"/>
          <a:ext cx="8218440" cy="4424400"/>
        </p:xfrm>
        <a:graphic>
          <a:graphicData uri="http://schemas.openxmlformats.org/drawingml/2006/table">
            <a:tbl>
              <a:tblPr/>
              <a:tblGrid>
                <a:gridCol w="790560"/>
                <a:gridCol w="504720"/>
                <a:gridCol w="1147680"/>
                <a:gridCol w="446400"/>
                <a:gridCol w="709560"/>
                <a:gridCol w="649080"/>
                <a:gridCol w="39704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ó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entá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předchozí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C, 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počet opakování reverzace (6x) do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A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4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4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motůrku do registr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rever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OU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F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motůrku na brán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8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PUSH P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F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úschova obsahu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 a stavového slova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P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volání DELAY (časová prodlev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POP P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vyzvednutí obsahu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 a stavového slova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P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XRI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1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operace XOR s obsahem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 a maskou (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10</a:t>
                      </a:r>
                      <a:r>
                        <a:rPr b="1" lang="cs-CZ" sz="1200" spc="-1" strike="noStrike" baseline="-20000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H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DC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0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–1 -&gt;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JNZ rever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L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H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kok na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reverz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, když v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 není n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pokračování program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H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stop proceso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4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gramátorské tipy-tr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pomalení motůrku z maxima postupně do nu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je řízena v šestnácti stupních (bit 0 až 3 v řídicím slově motůrku)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nutné zařídit odečítání v časových intervalech až do nu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bity (bit 4 pro smysl otáčení a bity 5 a 6 pro povolení) musí zů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ze to zařídit tak, že maskou vynulujeme vyšší bity a snížíme rychlost, pak zpět maskou „nahodíme“ zpět vyšší b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deme časovou prodle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ídáme v každém průchodu cyklu, zda již bylo dosaženo rychlosti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ou možností je připravit do paměti sérii čísel, která budou představovat budoucí stav motůrku v jednotlivých kro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to čísla postupně čteme a posíláme na port A = F4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de je motů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ak se program bude vpodstatě shod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musí se hlídat dosažení nuly, ale zpravidla se hlídá předem známý počet připravených kro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hodné pro nerovnoměrný běh motů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1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3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5" nodeType="afterEffect" fill="hold" presetClass="entr" presetID="1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7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49" nodeType="afterEffect" fill="hold" presetClass="entr" presetID="1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1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9000"/>
                            </p:stCondLst>
                            <p:childTnLst>
                              <p:par>
                                <p:cTn id="453" nodeType="afterEffect" fill="hold" presetClass="entr" presetID="1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7000"/>
                            </p:stCondLst>
                            <p:childTnLst>
                              <p:par>
                                <p:cTn id="457" nodeType="afterEffect" fill="hold" presetClass="entr" presetID="1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9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61" nodeType="afterEffect" fill="hold" presetClass="entr" presetID="1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3" dur="2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3000"/>
                            </p:stCondLst>
                            <p:childTnLst>
                              <p:par>
                                <p:cTn id="465" nodeType="afterEffect" fill="hold" presetClass="entr" presetID="1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7" dur="2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61000"/>
                            </p:stCondLst>
                            <p:childTnLst>
                              <p:par>
                                <p:cTn id="469" nodeType="afterEffect" fill="hold" presetClass="entr" presetID="1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1" dur="2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9000"/>
                            </p:stCondLst>
                            <p:childTnLst>
                              <p:par>
                                <p:cTn id="473" nodeType="afterEffect" fill="hold" presetClass="entr" presetID="1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5" dur="2000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77000"/>
                            </p:stCondLst>
                            <p:childTnLst>
                              <p:par>
                                <p:cTn id="477" nodeType="afterEffect" fill="hold" presetClass="entr" presetID="1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9" dur="2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7775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ování obecně je tvůrčí čin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ázali jsme jen základní techniky, spíše jen tipy – triky a ukázky programování na příklad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atní je na schopnostech, zkušenostech a invenci programá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me řídit motů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nali jsme vhodný formulář, důležitost znalostí, schopností programá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zapomínáme na komentá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dokonalíme se trénin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číme se od zkuše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0"/>
                            </p:stCondLst>
                            <p:childTnLst>
                              <p:par>
                                <p:cTn id="496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20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6000"/>
                            </p:stCondLst>
                            <p:childTnLst>
                              <p:par>
                                <p:cTn id="508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20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3000"/>
                            </p:stCondLst>
                            <p:childTnLst>
                              <p:par>
                                <p:cTn id="512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2000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0"/>
                            </p:stCondLst>
                            <p:childTnLst>
                              <p:par>
                                <p:cTn id="516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2000"/>
                                        <p:tgtEl>
                                          <p:spTgt spid="3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7000"/>
                            </p:stCondLst>
                            <p:childTnLst>
                              <p:par>
                                <p:cTn id="52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2000"/>
                                        <p:tgtEl>
                                          <p:spTgt spid="3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199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ování obecně je tvůrčí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eme se tedy zabývat jen základními technik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kázkami programování na příklad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tatní je na schopnostech, zkušenostech a invenci programá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ladní ú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632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Školní počítač vybavený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 průmyslové úč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andardní zástavba – do kufř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ůhled do ni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elní porty jsou připojené na A/D převod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D převodníky obsluhují přímo motůrek či reprodukto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en port je vybaven převodníkem odpor/čas a slouží jako vstup ze senz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riový port je využitý pro komunikaci s kazetovým magnetofo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účelně vybavený podprogramy je i firmware – tzv.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částí je manuál k obsluze TEMS 80-03, kde se najdou mj. podprogramy z monitoru a také návod na obsluhu displ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někud syrová, ale praktická příručka programování je plná příkladů a kompletních progra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ítač obslouží i rozšiřující desku TEMS 80-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45160" y="0"/>
            <a:ext cx="4398840" cy="29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86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70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40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100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2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2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20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20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Řízení motůr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532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ůrek je řízen přes nastavený paralelní port (brána A = F4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řídicím slovem ve formá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2205000"/>
          <a:ext cx="4038480" cy="460440"/>
        </p:xfrm>
        <a:graphic>
          <a:graphicData uri="http://schemas.openxmlformats.org/drawingml/2006/table">
            <a:tbl>
              <a:tblPr/>
              <a:tblGrid>
                <a:gridCol w="444600"/>
                <a:gridCol w="512640"/>
                <a:gridCol w="514440"/>
                <a:gridCol w="544320"/>
                <a:gridCol w="482760"/>
                <a:gridCol w="512640"/>
                <a:gridCol w="514440"/>
                <a:gridCol w="51264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rot="16200000">
            <a:off x="3348720" y="184356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70828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1260360" y="234792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997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1640" y="2276640"/>
            <a:ext cx="4608360" cy="32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00 1111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F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y 0 až 3 určují rychlost otáčení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6 stupňů = 0 až F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ysl otáčení (1=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0=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=povoleno, ostatní volby=zakázáno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ovolná hodnota - nevyuž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195280" y="4005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403280" y="4437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4000" y="4941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236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3348720" y="184356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3348720" y="184356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3348720" y="184356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3348720" y="184356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484360" y="2708280"/>
            <a:ext cx="2016360" cy="504720"/>
            <a:chOff x="2484360" y="2708280"/>
            <a:chExt cx="2016360" cy="504720"/>
          </a:xfrm>
        </p:grpSpPr>
        <p:sp>
          <p:nvSpPr>
            <p:cNvPr id="78" name=""/>
            <p:cNvSpPr/>
            <p:nvPr/>
          </p:nvSpPr>
          <p:spPr>
            <a:xfrm>
              <a:off x="3492360" y="321300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6200000">
              <a:off x="3348720" y="1843560"/>
              <a:ext cx="287280" cy="2016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52560 h 2016360"/>
                <a:gd name="textAreaBottom" fmla="*/ 1963800 h 20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2360" y="29973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195280" y="2708280"/>
            <a:ext cx="2305080" cy="1297080"/>
            <a:chOff x="2195280" y="2708280"/>
            <a:chExt cx="2305080" cy="1297080"/>
          </a:xfrm>
        </p:grpSpPr>
        <p:sp>
          <p:nvSpPr>
            <p:cNvPr id="82" name=""/>
            <p:cNvSpPr/>
            <p:nvPr/>
          </p:nvSpPr>
          <p:spPr>
            <a:xfrm>
              <a:off x="2195640" y="270828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195280" y="400536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 rot="16200000">
            <a:off x="1260360" y="234792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3280" y="2997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00000" y="2708280"/>
            <a:ext cx="3600720" cy="1728720"/>
            <a:chOff x="900000" y="2708280"/>
            <a:chExt cx="3600720" cy="1728720"/>
          </a:xfrm>
        </p:grpSpPr>
        <p:sp>
          <p:nvSpPr>
            <p:cNvPr id="87" name=""/>
            <p:cNvSpPr/>
            <p:nvPr/>
          </p:nvSpPr>
          <p:spPr>
            <a:xfrm flipH="1">
              <a:off x="1403280" y="4437000"/>
              <a:ext cx="309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60360" y="234792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03280" y="299736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84000" y="2708280"/>
            <a:ext cx="3816360" cy="2233440"/>
            <a:chOff x="684000" y="2708280"/>
            <a:chExt cx="3816360" cy="2233440"/>
          </a:xfrm>
        </p:grpSpPr>
        <p:sp>
          <p:nvSpPr>
            <p:cNvPr id="91" name=""/>
            <p:cNvSpPr/>
            <p:nvPr/>
          </p:nvSpPr>
          <p:spPr>
            <a:xfrm>
              <a:off x="684360" y="2708280"/>
              <a:ext cx="0" cy="22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84000" y="494172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ří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532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ůrek má běžet maximální rychlostí vprav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8360" y="2205000"/>
          <a:ext cx="4038480" cy="460440"/>
        </p:xfrm>
        <a:graphic>
          <a:graphicData uri="http://schemas.openxmlformats.org/drawingml/2006/table">
            <a:tbl>
              <a:tblPr/>
              <a:tblGrid>
                <a:gridCol w="444600"/>
                <a:gridCol w="512640"/>
                <a:gridCol w="514440"/>
                <a:gridCol w="544320"/>
                <a:gridCol w="482760"/>
                <a:gridCol w="512640"/>
                <a:gridCol w="514440"/>
                <a:gridCol w="51264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rot="16200000">
            <a:off x="3348720" y="184356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1260360" y="234792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2205000"/>
            <a:ext cx="460836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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01 1111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5F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ychlost otáčení = 1111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F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ysl otáčení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voleno = 1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ovolná hodnota, zvolen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9564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348720" y="184356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84000" y="2708280"/>
            <a:ext cx="3816720" cy="1944720"/>
            <a:chOff x="684000" y="2708280"/>
            <a:chExt cx="3816720" cy="1944720"/>
          </a:xfrm>
        </p:grpSpPr>
        <p:sp>
          <p:nvSpPr>
            <p:cNvPr id="153" name=""/>
            <p:cNvSpPr/>
            <p:nvPr/>
          </p:nvSpPr>
          <p:spPr>
            <a:xfrm rot="16200000">
              <a:off x="1260360" y="234792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3348720" y="1843560"/>
              <a:ext cx="287280" cy="2016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52560 h 2016360"/>
                <a:gd name="textAreaBottom" fmla="*/ 1963800 h 20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92360" y="29973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92360" y="321300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95640" y="27082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195280" y="371628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403280" y="4221000"/>
              <a:ext cx="309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03280" y="299736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" y="2708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84000" y="465300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ří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532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ůrek má běžet poloviční rychlostí vlev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68360" y="2205000"/>
          <a:ext cx="4038480" cy="460440"/>
        </p:xfrm>
        <a:graphic>
          <a:graphicData uri="http://schemas.openxmlformats.org/drawingml/2006/table">
            <a:tbl>
              <a:tblPr/>
              <a:tblGrid>
                <a:gridCol w="444600"/>
                <a:gridCol w="512640"/>
                <a:gridCol w="514440"/>
                <a:gridCol w="544320"/>
                <a:gridCol w="482760"/>
                <a:gridCol w="512640"/>
                <a:gridCol w="514440"/>
                <a:gridCol w="51264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 rot="16200000">
            <a:off x="3348720" y="184356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9564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1260360" y="234792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2205000"/>
            <a:ext cx="460836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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00 0111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7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ychlost otáčení = 0111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7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ysl otáčení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voleno = 1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ovolná hodnota, zvolen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9236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9564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236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9564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3348720" y="184356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9236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9564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84000" y="2708280"/>
            <a:ext cx="3816720" cy="1944720"/>
            <a:chOff x="684000" y="2708280"/>
            <a:chExt cx="3816720" cy="1944720"/>
          </a:xfrm>
        </p:grpSpPr>
        <p:sp>
          <p:nvSpPr>
            <p:cNvPr id="223" name=""/>
            <p:cNvSpPr/>
            <p:nvPr/>
          </p:nvSpPr>
          <p:spPr>
            <a:xfrm rot="16200000">
              <a:off x="1260360" y="234792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3348720" y="1843560"/>
              <a:ext cx="287280" cy="2016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52560 h 2016360"/>
                <a:gd name="textAreaBottom" fmla="*/ 1963800 h 20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92360" y="29973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92360" y="321300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95640" y="27082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195280" y="371628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403280" y="4221000"/>
              <a:ext cx="309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03280" y="299736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4360" y="2708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84000" y="465300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ří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532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ůrek má běžet poloviční rychlostí vpravo, ale není povol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8360" y="2205000"/>
          <a:ext cx="4038480" cy="460440"/>
        </p:xfrm>
        <a:graphic>
          <a:graphicData uri="http://schemas.openxmlformats.org/drawingml/2006/table">
            <a:tbl>
              <a:tblPr/>
              <a:tblGrid>
                <a:gridCol w="444600"/>
                <a:gridCol w="512640"/>
                <a:gridCol w="514440"/>
                <a:gridCol w="544320"/>
                <a:gridCol w="482760"/>
                <a:gridCol w="512640"/>
                <a:gridCol w="514440"/>
                <a:gridCol w="51264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rot="16200000">
            <a:off x="3348720" y="184356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9236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9564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260360" y="234792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2205000"/>
            <a:ext cx="460836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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1 0111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7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ychlost otáčení = 0111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7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ysl otáčení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ní povoleno = 00 (nebo 01 či 1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ovolná hodnota, zvolen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9564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9564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92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9236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9564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3348720" y="184356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92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492360" y="3213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9564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195280" y="37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03280" y="42210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0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436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84000" y="465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84000" y="2708280"/>
            <a:ext cx="3816720" cy="1944720"/>
            <a:chOff x="684000" y="2708280"/>
            <a:chExt cx="3816720" cy="1944720"/>
          </a:xfrm>
        </p:grpSpPr>
        <p:sp>
          <p:nvSpPr>
            <p:cNvPr id="293" name=""/>
            <p:cNvSpPr/>
            <p:nvPr/>
          </p:nvSpPr>
          <p:spPr>
            <a:xfrm rot="16200000">
              <a:off x="1260360" y="234792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6200000">
              <a:off x="3348720" y="1843560"/>
              <a:ext cx="287280" cy="2016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52560 h 2016360"/>
                <a:gd name="textAreaBottom" fmla="*/ 1963800 h 20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92360" y="29973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92360" y="321300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95640" y="27082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195280" y="371628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403280" y="4221000"/>
              <a:ext cx="309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03280" y="299736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4360" y="2708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84000" y="465300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stavení progr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yní sestavíme program pro obsluhu motůr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řebujeme znát instrukční sadu procesoru 80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řebujeme znát adresy I/O bran a způsob řízení paralelního portu 8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hodneme od jaké adresy v RAM paměti uložíme program (obvykle 2000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 napíšeme v mnemokódu a přeložíme do instrukční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 (poněkud neobvykle) ukončíme instrukcí HALT, která zastaví činnost procesoru se všemi důsl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atříme adresami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vynecháme komentář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rpáme s výhodou z příručky program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 zadáme do paměti pomocí kláves &lt;MEM&gt;, &lt;NEXT&gt; a &lt;EXEC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ustíme klávesou &lt;GO&gt; (adresa) &lt;EXEC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rolujeme výsledek - činnost motů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55640" y="4869000"/>
            <a:ext cx="2521080" cy="17571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5940360" y="4187880"/>
            <a:ext cx="2987640" cy="245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2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8" nodeType="afterEffect" fill="hold" presetClass="entr" presetID="1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2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2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700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20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40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20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10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2000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80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2000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kázka progr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1471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hodný formulář pro sestavení program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11280" y="2133720"/>
          <a:ext cx="7993080" cy="2514600"/>
        </p:xfrm>
        <a:graphic>
          <a:graphicData uri="http://schemas.openxmlformats.org/drawingml/2006/table">
            <a:tbl>
              <a:tblPr/>
              <a:tblGrid>
                <a:gridCol w="717480"/>
                <a:gridCol w="716040"/>
                <a:gridCol w="1157040"/>
                <a:gridCol w="506520"/>
                <a:gridCol w="503280"/>
                <a:gridCol w="504720"/>
                <a:gridCol w="3888000"/>
              </a:tblGrid>
              <a:tr h="29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ó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entá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A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8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8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8255 do registr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OU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8255 na adres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A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4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4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motůrku do registr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OU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motůrku na brán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8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(adres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H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stop proceso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2700360" y="3429000"/>
            <a:ext cx="431640" cy="289080"/>
          </a:xfrm>
          <a:prstGeom prst="ellipse">
            <a:avLst/>
          </a:prstGeom>
          <a:noFill/>
          <a:ln w="9360">
            <a:solidFill>
              <a:srgbClr val="f76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3:47:50Z</dcterms:created>
  <dc:creator>Honza</dc:creator>
  <dc:description/>
  <dc:language>en-US</dc:language>
  <cp:lastModifiedBy>prokop.u</cp:lastModifiedBy>
  <dcterms:modified xsi:type="dcterms:W3CDTF">2010-12-31T09:38:14Z</dcterms:modified>
  <cp:revision>82</cp:revision>
  <dc:subject/>
  <dc:title>Metody minimalizace logických výrazů</dc:title>
</cp:coreProperties>
</file>