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166-92B3-4870-A240-C30DEE11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6D5-806B-4364-B261-EF2457B0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FF4-4D4D-409A-8ACB-0F1C90B2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79B-1851-4A6E-8867-DB0D2689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356-5DBA-4100-9D8B-CF231C3D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C60-52DB-41FA-9559-E5E70701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B9E-FCF4-4AE5-BF67-0D482BBB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972-3B5F-4B0A-A605-55082890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F9D-B2E4-45EC-A5E0-A5F42178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E14-A7E4-4CB4-AB77-1E2449E9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A54-9659-4A65-B0E0-5C48B351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D33-F86D-4477-90B3-7C6068F7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6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0EB6-90C9-485A-B112-7AE6FE45C1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691C-5D30-4C09-A5CB-AF0EB15FB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oleovská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pracoval: Ing. Jan Pro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ALŠÍ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064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vivalen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≡ nebo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tivalen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≠ (není totož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hefferova funk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iercova funk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X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výhradní ne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300720" y="4076640"/>
                <a:ext cx="1727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300720" y="3429000"/>
                <a:ext cx="13669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6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AVDIVOSTNÍ TABUL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0643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junk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junk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42920" y="2060640"/>
          <a:ext cx="1460520" cy="1603440"/>
        </p:xfrm>
        <a:graphic>
          <a:graphicData uri="http://schemas.openxmlformats.org/drawingml/2006/table">
            <a:tbl>
              <a:tblPr/>
              <a:tblGrid>
                <a:gridCol w="360360"/>
                <a:gridCol w="376200"/>
                <a:gridCol w="72396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.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708360" y="2060640"/>
          <a:ext cx="1460520" cy="1609560"/>
        </p:xfrm>
        <a:graphic>
          <a:graphicData uri="http://schemas.openxmlformats.org/drawingml/2006/table">
            <a:tbl>
              <a:tblPr/>
              <a:tblGrid>
                <a:gridCol w="368280"/>
                <a:gridCol w="368280"/>
                <a:gridCol w="72396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+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43640" y="2060640"/>
                <a:ext cx="2649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025880" y="2849400"/>
            <a:ext cx="72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25880" y="2849400"/>
            <a:ext cx="72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25880" y="2849400"/>
            <a:ext cx="723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796000" y="1989000"/>
          <a:ext cx="1109520" cy="1011240"/>
        </p:xfrm>
        <a:graphic>
          <a:graphicData uri="http://schemas.openxmlformats.org/drawingml/2006/table">
            <a:tbl>
              <a:tblPr/>
              <a:tblGrid>
                <a:gridCol w="385560"/>
                <a:gridCol w="7239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042920" y="4365720"/>
          <a:ext cx="1460520" cy="1647720"/>
        </p:xfrm>
        <a:graphic>
          <a:graphicData uri="http://schemas.openxmlformats.org/drawingml/2006/table">
            <a:tbl>
              <a:tblPr/>
              <a:tblGrid>
                <a:gridCol w="360360"/>
                <a:gridCol w="376200"/>
                <a:gridCol w="7239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250920" y="3716280"/>
            <a:ext cx="806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heff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i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708360" y="4365720"/>
          <a:ext cx="1460520" cy="1654200"/>
        </p:xfrm>
        <a:graphic>
          <a:graphicData uri="http://schemas.openxmlformats.org/drawingml/2006/table">
            <a:tbl>
              <a:tblPr/>
              <a:tblGrid>
                <a:gridCol w="368280"/>
                <a:gridCol w="368280"/>
                <a:gridCol w="7239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8000" y="4292640"/>
                <a:ext cx="4334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00720" y="4292640"/>
                <a:ext cx="795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0"/>
                            </p:stCondLst>
                            <p:childTnLst>
                              <p:par>
                                <p:cTn id="385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9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6" nodeType="afterEffect" fill="hold" presetClass="entr" presetID="5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5000"/>
                            </p:stCondLst>
                            <p:childTnLst>
                              <p:par>
                                <p:cTn id="411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HRNU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ovská algebra je dvouhodnotovým ekvivalentem matematické algeb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ívá funkce: logický součet - disjunkce, logický součin – konjunkce, negace a dalš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dí se zákony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ký souč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m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ednost před logickým souč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ží především k minimalizaci logických výrazů a tím  k ušetření mnoha nákladů při projektování a realizaci automatických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ovská algebra je dvouhodnotovým ekvivalentem matematické algeb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ívá funkce: logický součet - disjunkce, logický součin – konjunkce, negace a dalš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dí se zákony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ký souč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m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ednost před logickým souč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ONY A PRAVID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tativní zá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ociativní zá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stributivní zá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mpotentní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doplň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invol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 Morganův zá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absorp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000"/>
                            </p:stCondLst>
                            <p:childTnLst>
                              <p:par>
                                <p:cTn id="97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ONY A PRAVID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002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utativní zákon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shodný s komutativním zákonem v algeb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116000" y="3789360"/>
                <a:ext cx="261936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ONY A PRAVID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7991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ociativní zákon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shodný s asociativním zákonem v algeb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00000" y="3645000"/>
                <a:ext cx="5581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900000" y="4508640"/>
                <a:ext cx="41245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3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3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ONY A PRAVID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7991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vní zákon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odobný distributivnímu zákonu v algebře, ale odráží se v něm rovnost operací logického součtu a souči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 ta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116000" y="3500280"/>
                <a:ext cx="4724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116000" y="4941720"/>
                <a:ext cx="51134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ONY A PRAVID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99128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mpotentní pravidl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doplň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involu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763640" y="2276640"/>
                <a:ext cx="185760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716360" y="2276640"/>
                <a:ext cx="1535040" cy="14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92360" y="4437000"/>
                <a:ext cx="1776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716360" y="4365720"/>
                <a:ext cx="15350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932360" y="537372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5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ONY A PRAVID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7991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 Morganův zákon: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mi užitečný při transformaci funkcí (konjunkce na disjunkci a naop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nao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763640" y="3357720"/>
                <a:ext cx="23767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79640" y="4724280"/>
                <a:ext cx="23749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3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0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7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ONY A PRAVID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7991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kon absorpce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velmi efektivní při minimalizaci výroků, nelze jej však uplatnit ča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a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03280" y="5373720"/>
                <a:ext cx="31100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403280" y="4653000"/>
                <a:ext cx="3411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476360" y="2924280"/>
                <a:ext cx="26766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476360" y="3573360"/>
                <a:ext cx="26766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8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7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prokop.u</cp:lastModifiedBy>
  <dcterms:modified xsi:type="dcterms:W3CDTF">2010-12-08T10:38:26Z</dcterms:modified>
  <cp:revision>68</cp:revision>
  <dc:subject/>
  <dc:title>POSLOUPNOSTI</dc:title>
</cp:coreProperties>
</file>