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32DF-6530-4373-8440-FB30FD2F04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172-1E19-48E6-BA0B-44BD4CDFA2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FB9-1B09-4888-BD1B-8C5800FF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CBF-C511-42E5-B46D-711797E0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B9C-D432-4F23-909D-03298EF9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F94-1375-45E0-A9FE-333EB61C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876-A50E-4F78-AC2D-64C5F73F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C4C-A2A5-4986-8162-E5D54655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816-C3FA-42F3-9095-825BC3C7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27E-0661-4211-A81B-72DC2062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9A1-4524-4B24-BB9D-8C4732CA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EAD-34F9-44FE-9BCD-72123DC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F34-11B3-4532-B7F1-6B7D16C0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D33-AC20-43CD-A970-C31C2EC0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60D8-C5A9-4D39-AA5E-CDC35930A6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2205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kušební přístroj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O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580536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obrázky: </a:t>
            </a:r>
            <a:r>
              <a:rPr b="0" lang="cs-CZ" sz="1200" spc="-1" strike="noStrike" u="sng">
                <a:solidFill>
                  <a:srgbClr val="333399"/>
                </a:solidFill>
                <a:uFillTx/>
                <a:latin typeface="Arial"/>
              </a:rPr>
              <a:t>aanetdruzstvo.wbs.cz kvt-elektronika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3789360"/>
            <a:ext cx="3384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bc9"/>
            </a:gs>
            <a:gs pos="100000">
              <a:srgbClr val="76a5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charakter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23712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1700280"/>
            <a:ext cx="4680000" cy="35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O1 je zkoušečka elektrických předmě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ečkou ZO1 lze měř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lektrický odpor ochranného vodi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ační elektrický od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v současné době již neodpovídá  platným předpisů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bc9"/>
            </a:gs>
            <a:gs pos="100000">
              <a:srgbClr val="76a5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557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ize a kontroly nářa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žada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revize ručního nářadí vycházely původně z ČSN 34 3880 (19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ČSN 34 3881 (196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94 je platná ČSN 33 1600, v Příloze A upravuje oprávnění k provádění revizí a kontrol nářad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i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ůže provádět pracovník znalý nebo pracovník poučený pod dohledem pracovníka znal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ůže provádět pověřený pracovník poučený (vydáváno osvědčení kontrolního technik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bc9"/>
            </a:gs>
            <a:gs pos="100000">
              <a:srgbClr val="76a5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 samotným měřením je nutná prohlídka na nedostatky, mechanická poškození, stav krytí a zkouška 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říme elektrický odpor ochranného vodiče, kde často přechodové odpory a nedotažené spoje zhoršují hodn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říme izolační elektrický odpor, kde se do naměřené hodnoty promítne celkové stáří, zvlhnutí nevhodným skladováním či spálená izo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měřené hodnoty porovnáme s dovolenými a učiníme závěr (vyhovuje/nevyhov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základě kontroly navrhneme, jak s předmětem nalož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deme záznam do evidenční karty předmě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bc9"/>
            </a:gs>
            <a:gs pos="100000">
              <a:srgbClr val="76a5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od k 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lici od zkoušeného předmětu zasuňte do zásuvky na zkoušeč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ní kleště dokonale připojte na vodivou kostru zkoušeného předmě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ťový vypínač zkoušeného předmětu zapně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ři vlastním měření se nedotýkejte zkoušeného předmě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pojte síťový přívod zkoušečky na napětí 230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5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iskněte tlačítko Ω = zkouška el. odporu ochranného vodi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iskněte tlačítko MΩ = zkouška izolačního el. 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ba stisknutí tlačítka je minimálně 10 vteř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ěhem měření musí svítit kontrolka na přístro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85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85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385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385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10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2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bc9"/>
            </a:gs>
            <a:gs pos="100000">
              <a:srgbClr val="76a5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volené hodno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ochranný vodič u nářadí je dovolený odpor: Při délce do 3 m je 0,2 Ω a na každé další 3 m přívodu se připočte 0,1 Ω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žadavky na pohyblivé a prodlužovací přívody jsou v ČSN 33 1610 na ochranný vodič odlišné: Do 5 m je to 0,3 Ω a na každých 7,5 m délky přívodu se připočte 0,1 Ω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ní kleště dokonale připojte na vodivou kostru zkoušeného předmě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ťový vypínač zkoušeného předmětu zapně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ři vlastním měření se nedotýkejte zkoušeného předmě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pojte síťový přívod zkoušečky na napětí 230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5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iskněte tlačítko Ω = zkouška el. odporu ochranného vodi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iskněte tlačítko MΩ = zkouška izolačního el. 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ba stisknutí tlačítka je minimálně 10 vteř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ěhem měření musí svítit kontrolka na přístro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0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385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385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385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385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7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2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4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2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bc9"/>
            </a:gs>
            <a:gs pos="100000">
              <a:srgbClr val="76a5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jčastější nedostatky a záv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0024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řadí není udržováno v předepsaném stavu a ohrožuje pracovníka i oko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k není seznámen se správným způsobem používání a péče o nářa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sou prováděny revize a kontroly a není o nich vedena řádná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ybí přístroje pro revize nářadí nebo jsou nevyhovující (zastaralé, bez kalibrac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íváno příslušenství nářadí (pomocné rukojeti, svěrky, stojany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ci nemají nebo nepoužívají osobní ochranné pomů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ovezených nebo starších výrobků chybí český ná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obky nemají potřebný atest na shodu ze zákona č. 22/1997 S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rováděna řádná a pravidelná údržba, kontroly a re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ravy a další zásahy do zařízení provádějí pracovníci bez odborné způsobilosti (např. u nářadí třídy ochrany II není splněna podmínka neoddělitelné vidlice přívod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-1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4b4b4b"/>
                </a:solidFill>
                <a:latin typeface="Arial"/>
                <a:ea typeface="Times New Roman"/>
              </a:rPr>
              <a:t> 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0" y="-10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4b4b4b"/>
                </a:solidFill>
                <a:latin typeface="Arial"/>
                <a:ea typeface="Times New Roman"/>
              </a:rPr>
              <a:t> 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7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60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30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bc9"/>
            </a:gs>
            <a:gs pos="100000">
              <a:srgbClr val="76a5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ležité pozná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700280"/>
            <a:ext cx="48243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1 je zastaralý přístroj, který již nevyhovuje současným požadavk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 lze použít pouze k informativnímu zjištění hod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laboratořích je přístroj využíván k ukázkám při výuce bezpečnosti el. zařízení a ochraně před nebezpečným doty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proti návodu přímo na zkušebním přístroji, připojení k síti proveďte až těsně před vlastním měření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ři vlastním měření je nutná přítomnost učite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345780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9:09:18Z</dcterms:created>
  <dc:creator>Honza</dc:creator>
  <dc:description/>
  <dc:language>en-US</dc:language>
  <cp:lastModifiedBy>Honza</cp:lastModifiedBy>
  <dcterms:modified xsi:type="dcterms:W3CDTF">2010-10-28T21:32:13Z</dcterms:modified>
  <cp:revision>13</cp:revision>
  <dc:subject/>
  <dc:title>Slide 1</dc:title>
</cp:coreProperties>
</file>