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wmf" ContentType="image/x-wmf"/>
  <Override PartName="/ppt/media/image10.gif" ContentType="image/gif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21.wmf" ContentType="image/x-wmf"/>
  <Override PartName="/ppt/media/image4.wmf" ContentType="image/x-wmf"/>
  <Override PartName="/ppt/media/image18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9F83-7C2B-478C-86BD-6B807B16E5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E558-5602-4A5A-955B-A0EBAC5082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49C-E0F3-4DEC-9B49-0C479FA2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57E-84C6-4C86-8753-F6647859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617-FD5E-4237-B9F6-148F474D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7D0-FA07-47BD-8728-FDEB5C34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981-C305-4E1C-98B4-73A5D7B9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7FA-2529-4456-B58B-6C3E9D65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71A-8F76-4CAC-B2D3-6D8ABA41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027-9265-4C7A-B5AF-CB850880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39F-7730-41F9-ACC5-99A4F097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2D6-28A8-42BE-8006-6B4CFD64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E2F-2515-458A-90A1-817F147C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9C5-2A80-432B-ADEE-A08A6CA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4494-FAC6-4419-80D7-729A4D592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2205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ZP a PO v laboratoři ELE a A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1795320" cy="1833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19640" y="5805360"/>
            <a:ext cx="23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 klipy: MS Office X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3789360"/>
            <a:ext cx="3384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vinnosti učite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484280"/>
            <a:ext cx="735480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čitel na začátku školního roku v rámci výuky v laboratořích seznámí všechny žáky s tímto provozním řádem a tuto skutečnost zaznamená do třídní kni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dá na pracoviště jen bezpečné a přezkoušené přístroje a pomůc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šechny závady, které nemůže odstranit sám, neprodleně ohlásí a zapíše do sešitu nes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 skončení výuky zkontroluje uzavření oken, vypnutí všech zdrojů, spotřebičů, počítačů, audiovizuální techniky a o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0" y="4869000"/>
            <a:ext cx="4498920" cy="129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3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7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dání a zodpověd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 laboratoř odpovídá: ing. Jan Pro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rakonicích dne 1. září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Petr Wá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 šk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1985760" cy="20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3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2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2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nova školení BOZP a 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628640"/>
            <a:ext cx="8353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plň školení BOZ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SN 34 3100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Práce na elektrických zaříze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SN 34 3108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Zacházení s elektrickým zařízením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ami bez elektrotechnické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vní pomoc při úrazech elektrickým prou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ady používání elektrických spotřeb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držování pořádku na pracoviš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vozní řád laboratoře ELE a A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nova školení BOZP a 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628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plň školení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on o požární ochraně č. 133/1985 Sb., ve znění pozdějších předpi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yhláška MV ČR č. 246/2001 a 87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vyhlášení požárního poplachu a přivolání po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ady používání tepelných a elektrických spotřebi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é příčiny vzniku požáru a opatření, zejména uskladnění kapalných hořlavých l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evakuace osob, zvířat a majetku v případě vzniku požá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držování pořádku na pracoviš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asicí přístroje na pracovišti, instruktáž o používání hasicích přístrojů a prostře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ozní řá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znáte úč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505152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jistit zdraví a bezpečnost o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ánit pomůcky a zařízení před poškozením nebo předčasným znehodnoc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jistit vhodné podmínky pro správné a věrohodné 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1414440" cy="175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380360" y="2924280"/>
            <a:ext cx="1487520" cy="1596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580000" y="4724280"/>
            <a:ext cx="1728720" cy="115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4842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dy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 do laboratoře vstupov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341360"/>
            <a:ext cx="6202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stup je dovolen jen osobám poučeným a seznámeným s provozním řád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stupovat smí žáci až po vyzvání uči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laboratoře se chodí v přezůvkách, nevnáší se žádné svrchní oblečení, tašky se odkládají na vyhrazené mí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laboratoři je zakázáno jíst, pít, nevnáší se žádné potraviny a nápoje, zejména ovo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hned po příchodu na přidělené pracoviště žáci provedou kontrolu stavu  a úplnosti pracoviště dle seznamu, nedostatky ohlásí a zapíš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308720" y="1197000"/>
            <a:ext cx="1644840" cy="131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1390680" cy="797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524720" y="3573360"/>
            <a:ext cx="137304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72360" y="5373720"/>
            <a:ext cx="1552320" cy="112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áce v laboratoř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713916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řízení a pomůcky v laboratoři l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užívat jen podle pokynů výrobce a uči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užívat jen ty, které jsou majetkem školy n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ádně zapůjčené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žívat a manipulovat s nimi až po seznámení se způsobem používání a po řádném poučení učit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řemisťovat jen se svolením učitele a za jeho dohl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žáci neopouštějí bez vážného důvodu přidělené prac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zakázáno používat křeslo jako dopravní prostředek (přemisťovat se vsed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pojení obvodů a přístrojů na zdroje je možné až po kontrole učitelem a za jeho přítom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67640" y="2133720"/>
            <a:ext cx="1289160" cy="1508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667640" y="3933720"/>
            <a:ext cx="1274760" cy="129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451640" y="5516640"/>
            <a:ext cx="1528920" cy="98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2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áce v laboratoř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484280"/>
            <a:ext cx="70578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 ohrožení majetku nebo osob žák vypne co nejrychleji elektrický proud a neprodleně na závadu upozorní uči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racovišti je nutné dbát na pořádek, dodržovat  bezpečnost práce a pokyny učitele dané písemně i ús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očítačích žáci nezasahují do nastavení systému, nic nemažou ani neinstalují. Nenahlížejí  do cizích složek a soub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08720" y="1461960"/>
            <a:ext cx="1366920" cy="909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596360" y="2708280"/>
            <a:ext cx="909360" cy="1079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84360" y="5157720"/>
            <a:ext cx="1539720" cy="154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1893960" y="4724280"/>
            <a:ext cx="1893960" cy="1395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chod z laborato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ý žák předá pracoviště uklizené,          v bezvadném stavu, všechny obvody rozpojené. Vrátí zapůjčené pomůcky           a litera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ustí pracoviště a odchází z laboratoře a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 svolení uči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16720" y="1413000"/>
            <a:ext cx="1243080" cy="181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evt="end">
                                        <p:tn val="344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pracování protokolu o 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700280"/>
            <a:ext cx="692280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každém praktickém měření každý žák provede záznam do svého sešitu nebo notebo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le rozpisu příslušný žák vypracuje úhledný protokol. Použije k tomu schválené předtištěné obálky nebo její elektronický 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ah protokolu se řídí zadáním úlohy, pokyny učitele, předtiskem obálky a je závaz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racovaný protokol odevzdá prostřednictvím e-mailu nebo na datovém nosiči žák na příštím cvičení,  tj. zpravidla za dva týd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é při zameškání je žák povinen zpracovat protokol. Použije k tomu podklady, které pořídil žák z týmu nebo využije vlastní podklady z doměřování k tomu vyhrazenému. Zvláštnosti rozhodne učit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51840" y="4508640"/>
            <a:ext cx="1703160" cy="21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0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300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2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7:59:05Z</dcterms:created>
  <dc:creator>VOŠ a SPŠ Strakonice</dc:creator>
  <dc:description/>
  <dc:language>en-US</dc:language>
  <cp:lastModifiedBy>prokop.u</cp:lastModifiedBy>
  <dcterms:modified xsi:type="dcterms:W3CDTF">2010-11-05T10:13:05Z</dcterms:modified>
  <cp:revision>42</cp:revision>
  <dc:subject/>
  <dc:title>Provozní řád laboratoří  ELE a AUT</dc:title>
</cp:coreProperties>
</file>