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9D92-C2BF-49A2-931D-A724759976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7668-2357-4AFA-9738-28826C871A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B57-E399-4DBA-A075-49983996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D0D-B789-4088-B6BC-94AEBE1E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19B-09B2-42F2-AC3D-B81EE542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0A2-CA11-4CEB-A238-77F21259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DAC-F3FA-46E3-972B-20F7E7C4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B6A-8FA6-4552-B3E4-1C23BD4A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094-75D3-480F-A2DF-F609D67B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586-1CB2-48A4-9598-F6EC33FA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800-D4E3-4092-BE6F-88A3D7F4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76D-0EEE-4B51-B030-4667C844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5E5-3DB3-4579-99FA-51A1CE2E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6E3-5B87-406C-B820-1B1E63DF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25EF-A66B-42C3-99A2-5B5660512B3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220500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roj na revize el. rozvodů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U 1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580536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 obrázky: Originál návod k použit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3789360"/>
            <a:ext cx="3384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p při 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27552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ření 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Tlačítko „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START</a:t>
            </a: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“ není stisknu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očným přepínačem zvolíme měření 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fázovým a nulovým vodičem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fázovým a ochranným vodičem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displeji se zobrazí střední hodnota napětí ve vol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500"/>
                            </p:stCondLst>
                            <p:childTnLst>
                              <p:par>
                                <p:cTn id="34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7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2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357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6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p při 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6408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ření impedance ochranné smy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iskneme tlačítko „START“, displej zobrazí hodnotu impedance ochranné smyč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icí rozsah je nastaven automatic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dobu stisknutí tlačítka „START“ je údaj uchován v paměti přístro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šení v síti (spínáním velkých indukčních zátěží, spínanými zdroji, triakovými regulátory atp.) způsobuje neúměrný rozptyl hod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oručuje se měřit v době, kdy rušení pomin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7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p při 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6551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ření odporu ochranného uzem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POZOR! </a:t>
            </a:r>
            <a:r>
              <a:rPr b="0" lang="cs-CZ" sz="1800" spc="-1" strike="noStrike">
                <a:solidFill>
                  <a:srgbClr val="cc0000"/>
                </a:solidFill>
                <a:latin typeface="Arial"/>
              </a:rPr>
              <a:t>Pouze pro osoby s elektrotechnickou kvalifikac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em PU180 je možno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pří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rčit i odpor ochranného uzemnění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ěříme impedanci ochranné smyčky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pomocí adaptéru, žlutozelený konec šňůry připojíme na zemnění, černý konec na fá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užití adaptéru odečteme od měřené hodnoty 0,05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ále změříme odpor sítě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ipojením žlutozeleného konce šňůry na nulák a černého opět na fá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por ochranného uzemnění, když průřezy fázového a nulového vodiče jsou stejné, pak bude dán vztah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z = Z - Ri / 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000"/>
                            </p:stCondLst>
                            <p:childTnLst>
                              <p:par>
                                <p:cTn id="424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4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4000"/>
                            </p:stCondLst>
                            <p:childTnLst>
                              <p:par>
                                <p:cTn id="439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4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000"/>
                            </p:stCondLst>
                            <p:childTnLst>
                              <p:par>
                                <p:cTn id="449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2000"/>
                            </p:stCondLst>
                            <p:childTnLst>
                              <p:par>
                                <p:cTn id="454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držba příst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 nepotřebuje zvláštní údržbu, pouze měřicí kolíky, zdířky a krokosvorky je nutno udržovat v čistotě kvůli omezení přechodových odporů při měření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ladní charakteris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517840" cy="41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2462040" cy="195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ezpečnostní poky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stroj pro měření impedance ochranné smyčky PU180 odpovídá všem příslušným normám a předpis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ůže být používán v běžném prostředí s teplotami 0 až +40°C a relativní vlhkostí do 80%, bez agresivních lá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át na bezvadný stav izolací, neboť veškerá měření se provádí v sít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 napětím až 300V proti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3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3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ezpečnostní poky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6994440" cy="30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připojujte přístroj k síti, pokud je stisknuto tlačítko „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lze měřit, svítí-li červená kontrolka „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E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“ nebo nesvítí-li zelená „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řed výměnou pojistek v přístroji jej odpojit od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557360"/>
            <a:ext cx="6994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ZO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is příst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06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spl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ítivá dioda „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ítivá dioda „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očný přepín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lačítko „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ny popru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tr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uvka adapté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řicí hr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okosvor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252072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64000" y="3068640"/>
            <a:ext cx="5184720" cy="303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2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2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2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ozní přístroj vhodný pro revize elektrických sí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íky velkému rozsahu měření impedance ochranné smyčky, pohotovost, snadnou obsluhu a robustnost je přístroj zvlášť vhodný pro revizní techniky, údržby elektrických zařízení a elektroinstalaté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fortní obsluha PU180 při měření díky automatickému přepínači rozsahů a paměti naměřené 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ť musí být pod napětím - napájení přístroje je přímo z měřeného obvodu, nepotřebuje tedy bate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ožň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připojení k síti kontrolu správného zapojení elektrické instalace, zejména zásu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ěření napětí mezi fázovým a nulovým vodič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sa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ěření napětí mezi fázovým a ochranným vodič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sa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ěření impedance ochranné smy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stlačení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STAR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ěření odporu ochranného uzem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vláštním postupem a výpoč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2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6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8" dur="1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20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4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1000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ožň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připojení k síti kontrolu správného zapojení elektrické instalace, zejména zásu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ěření napětí mezi fázovým a nulovým vodič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sa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ěření napětí mezi fázovým a ochranným vodič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sa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ěření impedance ochranné smy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stlačení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STAR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ěření odporu ochranného uzem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vláštním postupem a výpoč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0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1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2000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30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1000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b"/>
            </a:gs>
            <a:gs pos="100000">
              <a:srgbClr val="b1b1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p při 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stroj se připojí k měřené síti zkušební zástrčkou nebo přes adaptér s kolíky, příp. přes krokosvor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rola správného zapojení elektrické insta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em lze měřit jen tehdy, pokud po připojení k síti svítí zelená kontrolka označená „L“ a po dotyku na senzor se nerozsvítí červená kontrolka „PE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připojení přístroje k síti je svitem kontrolky a měřením napětí mezi L-N a L-PE možno zjistit vadné zapojení zásuvky 230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8:37:21Z</dcterms:created>
  <dc:creator>Honza</dc:creator>
  <dc:description/>
  <dc:language>en-US</dc:language>
  <cp:lastModifiedBy>Honza</cp:lastModifiedBy>
  <dcterms:modified xsi:type="dcterms:W3CDTF">2010-10-28T17:54:51Z</dcterms:modified>
  <cp:revision>24</cp:revision>
  <dc:subject/>
  <dc:title>Slide 1</dc:title>
</cp:coreProperties>
</file>