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B48C-1686-442D-A811-70A63561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2D5-17B1-4A70-877A-30F2C3BE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679-D37C-4311-B91D-0942B4E8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02B-753B-4203-93CE-73EA115E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F5F-89FE-40DD-A023-FBDAB09A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B92-7F77-4A16-A4DC-09ACBF81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BF0-F8C9-409F-B77F-3DE7FF6A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3BA-1C92-4564-8FD6-BA4B9A8C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5BE-60E0-49AB-85FD-FA46FDB4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7EB-68D1-4274-B92E-F4E0F165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6EA-B8FA-42AD-9A80-946144EF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252-72B2-454B-BDD5-4A0FDDF2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2D15-4956-44AF-AB40-02B885599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atalog-automobilu.cz/clanky/diferencialy-2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Šneková soukol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0" y="2852640"/>
            <a:ext cx="1199880" cy="24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kolí šneková s válcovým šnek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vádí se jediný úhe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 úhel stoupání šneku, úhel sklonu šnek.k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5761080" cy="381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e šnekového soukol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481800" cy="3903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84680" y="4797360"/>
            <a:ext cx="560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– osový řez šneku ve střední rovině šnekového kol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 – normálný řez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 – čelní řez šne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 – střední roviny šnekového 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strukční provedení šne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hledem ke svým průměrům se šnek ve většině případů vyrábí jako součást hříd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6624720" cy="165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6769440" cy="1795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348000" y="4076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3640" y="6165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nstrukční provedení šnekového ko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751120" cy="360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348000" y="2781360"/>
            <a:ext cx="2703600" cy="352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84720" y="1484280"/>
            <a:ext cx="2864160" cy="33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eriály šnekového soukol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soký tlak mezi zuby a současně velká skluzová rych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vnost,dobré třecí vlastnosti a dobrá sbíhav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brá odolnost vůči opotřebení, zadírání a pittingu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ály šne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s povrchem netvrzen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s povrchem tvrzený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lené HRC = 45 ÷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ment.–kalené HRC = 55 ÷ 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idované HRC = 55 ÷ 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lené a cement.kalené šneky je nutno potom brousit popř. leš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idované se brousit nemus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ály šnekový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edá li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a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liníkový bro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ínový bro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binace ocel.šneku s jednotlivými druhy materiálu se určuje podle velikosti obvodových rychlo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hod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mi vysoké převody (běžně se používají převody i = 10 ÷ 80 u kinematických převodů i = 500 i víc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í velmi malou hmot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ou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jtišš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řev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 obráceném směru pohybu mohou být navržena jako samosvor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soká zatížitel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ýh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ký skluz v ozubení způsobený ztráty tření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nižší ú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nost intenzivního mazání a chla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škození pracovníc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vrchů boků zub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roba a montá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nekové kolo - odvalovacím způsobem šroubovou globoidní fréz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nek - soustružením nebo frézování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rzený šnek (kalený, cement.–kalený) se brousí speciálním tvarovým brousicím kotouč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áž – velmi důležité pro správný záběr je správn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stavení osové vzdále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držení kolm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šnekového kola vzhledem k vlastní ose i ose šne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f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476280"/>
            <a:ext cx="6480360" cy="541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říž,R. a kol: Stavba a provoz strojů II, Převody, SNTL Praha 19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www.kks.zcu.cz/podklady/PRIRUCKA/CADIS/MDOC/F/F12/F12_5/f12_5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 www.mitcalc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www.ozube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3854520" cy="4797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62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evodov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384360" cy="209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3280" y="3284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76720" y="1413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Šnekové soukolí – ukázka             z výrobního závodu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zi dvěma mimoběžnými hřídeli (úhel mimoběžných os bývá nejčastěji 9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eciální případ šroubového soukol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žením počtu zubů pastorku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dnochodý nebo vícechodý šroub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šne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tikolo j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šnekové kol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hy šnekových souko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 Soukolí válcov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byčejná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ě kola mají tvar vál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žívají se pouze v podřadných případ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yk zubů v ozubení je teoreticky bodov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3280" y="2349360"/>
            <a:ext cx="388944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álcový šnek + globoidní šnekové ko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4911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užívanější pří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112000" cy="334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oidní šnek + válcové kol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lo použív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oidní šnek + globoidní kol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řesnější, nejúnosnější, nejdražš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111640" cy="32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0:27:44Z</dcterms:created>
  <dc:creator>VOŠ a SPŠ Strakonice</dc:creator>
  <dc:description/>
  <dc:language>en-US</dc:language>
  <cp:lastModifiedBy>kABINET-413</cp:lastModifiedBy>
  <dcterms:modified xsi:type="dcterms:W3CDTF">2010-05-31T09:16:28Z</dcterms:modified>
  <cp:revision>21</cp:revision>
  <dc:subject/>
  <dc:title>Šneková soukolí</dc:title>
</cp:coreProperties>
</file>