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9.png" ContentType="image/png"/>
  <Override PartName="/ppt/media/image40.jpeg" ContentType="image/jpeg"/>
  <Override PartName="/ppt/media/image28.png" ContentType="image/png"/>
  <Override PartName="/ppt/media/image38.jpeg" ContentType="image/jpeg"/>
  <Override PartName="/ppt/media/image31.png" ContentType="image/png"/>
  <Override PartName="/ppt/media/image6.png" ContentType="image/png"/>
  <Override PartName="/ppt/media/image36.jpeg" ContentType="image/jpeg"/>
  <Override PartName="/ppt/media/image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50BF-5B7D-4CD4-B350-AF94DD54AC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32B-BC86-4E6C-A448-A6755519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9CC-21BB-4F98-9D78-A40A525A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DE6-4363-4F9A-808A-268BFEF5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F71-07F7-431D-8AD5-36534928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7D8-39B5-4C04-B417-9686C0E0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213-D7EC-4369-858B-33C9301E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171-8B62-4820-B4A3-C43DB59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6FE-8BCF-49BB-81A8-7110B696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CEF-2C89-450C-AAB5-D0CF2DED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208-6F20-41E0-9CBC-BB8C259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907-55D2-4322-B939-C741FCAD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CB9-CC02-4DFB-ADA2-B0E5063C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B0EF-D60D-4720-BB7C-1CE066DB57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yma.cz/" TargetMode="External"/><Relationship Id="rId2" Type="http://schemas.openxmlformats.org/officeDocument/2006/relationships/hyperlink" Target="http://www.347.vsb.cz/files/kal01/prirucka-remen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menové pře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16360" y="43657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a Ing. Dana Šejvl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663640" cy="23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vod plochým řemen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83280" y="1916280"/>
            <a:ext cx="3960720" cy="363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484280"/>
            <a:ext cx="658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ál musí splňovat následující podmínk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vnost v tah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rou přilnavost k řemenic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rou oheb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žené řeme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ní (30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ebné (40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mi ohebné (50 m/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yžové – vložky z textilních vláken (40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emeny z polyamidu a polyesterů 65 m/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emeny lepené z několik materiálů (100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vod klínovým řemen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64072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88360" cy="530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evod klasickým klínovým řemen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281916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emen má  6  normalizovaných  velikostí  průřezu Z,  A,  B, C, D,  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řebnou  velikost  průřezu  řemene  pro  zadané  parametry  převodu  určíme  podle ČSN  02 3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95640" y="1484280"/>
            <a:ext cx="6048360" cy="44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400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plotní odolno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lasické -40 °C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+70 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řezané   -35 °C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+90 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pustná obvodová rychl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lasické do 30 ms</a:t>
            </a:r>
            <a:r>
              <a:rPr b="0" lang="cs-CZ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řezané   do 52 ms</a:t>
            </a:r>
            <a:r>
              <a:rPr b="0" lang="cs-CZ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3492360" cy="619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5130720" cy="15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vod ozubeným řemen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9988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4392360" cy="24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ce  řemen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tažnou vrstvu, která přenáší a zachycuje obvodovou a odstředivou sílu. Musí mít dobrou tahovou pevnost. Tato vrstva se dělá – tkanina, kordonová vlákna, sklolaminátová nebo uhlíková vlák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styková vrstva, přenáší sílu z řemenice na tažnou vrstvu. Musí mít dobré třecí vlastnosti (velký součinitel tření v kombinaci s materiálem řemenice). Tato vrstva bývá velmi často z pryž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ce řem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257148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ály řem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1936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32000" y="4797360"/>
            <a:ext cx="511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textilní tažná č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…pryžové já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…opryžovaný textilní 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…pryžový náraz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jování řem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29600" cy="121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8247240" cy="15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Řeme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tyto základní čá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n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unkční část, tvar povrch věnce odpovídá tvaru ře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s povrch věnce se přenáší zatížení z řemenu na ře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2160720" cy="159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64360" y="1413000"/>
            <a:ext cx="1190520" cy="136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443640" y="3068640"/>
            <a:ext cx="1190520" cy="1352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2952720" cy="128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Řeme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ábo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slouží pro přenos zatížení z hřídele na řemenici. Nejčastější spojení je pomocí pera, axiálního zajištění stavěcím šroubem. Rychloběžné řemenice se upevňují pomocí kužel. pouzder. Aby nedošlo k porušení souososti a kolmosti volí se uložení H7/j6 nebo H7/k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ělo řeme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u větších a velkých řemenic, tvoří ho žebra či odlehčené nebo plné kotou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eriál řemen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edá litina pro v &lt; 25 m.s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liníkové slitiny v =&lt; 25 m.s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y v – ma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l na odlitky  v &gt;= 25 m.s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lové plechy svařované konstr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108400"/>
            <a:ext cx="2664000" cy="174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27640" y="3716280"/>
            <a:ext cx="2589120" cy="2187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me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2736720" cy="1970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72360" y="5229360"/>
            <a:ext cx="2592360" cy="162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763640" y="1052640"/>
            <a:ext cx="5257800" cy="28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řemenice pro klasické klínové řeme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6200" y="1666800"/>
            <a:ext cx="7796160" cy="399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á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003640" cy="259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19280" cy="31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ínání řem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4140360" cy="468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1555920"/>
            <a:ext cx="43923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 provozu dochází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prodlužování ře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žnosti řešení napí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7d7"/>
            </a:gs>
            <a:gs pos="50000">
              <a:srgbClr val="ffffff"/>
            </a:gs>
            <a:gs pos="100000">
              <a:srgbClr val="d7d7d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pomocí silomě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Metody kontroly"/>
          <p:cNvPicPr/>
          <p:nvPr/>
        </p:nvPicPr>
        <p:blipFill>
          <a:blip r:embed="rId1"/>
          <a:stretch/>
        </p:blipFill>
        <p:spPr>
          <a:xfrm>
            <a:off x="2340000" y="2421000"/>
            <a:ext cx="4176720" cy="365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c1"/>
            </a:gs>
            <a:gs pos="50000">
              <a:srgbClr val="ffffff"/>
            </a:gs>
            <a:gs pos="100000">
              <a:srgbClr val="c1c1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nsion sonic t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Tension Sonic Tester"/>
          <p:cNvPicPr/>
          <p:nvPr/>
        </p:nvPicPr>
        <p:blipFill>
          <a:blip r:embed="rId1"/>
          <a:stretch/>
        </p:blipFill>
        <p:spPr>
          <a:xfrm>
            <a:off x="2411280" y="2581200"/>
            <a:ext cx="4015080" cy="35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ový měři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2240" y="1600200"/>
            <a:ext cx="74977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 řemenového převo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1844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ládání řem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1756080" cy="514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43960" y="476280"/>
            <a:ext cx="216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5120" y="1195560"/>
            <a:ext cx="8229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snedl S., Krátký J.: Příručka strojního inženýra Obecné strojní části 2, Computer Press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talogy firmy Ty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yma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tyma.cz/aktuality/desatero-spravneho-remenoveho-prevo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347.vsb.cz/files/kal01/prirucka-rem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láb, K.: Návrh, výpočet a montáž řemenového převodu, Vysokoškolská příručka VŠB  Ostrav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menové převody slouží pro přenos menších a středních, výjimečně i velkých výkonů. Umožňují přenos výkonu i na velké vzdálenosti. Osy hnacího a hnaného hřídele jsou většinou rovnoběžné, výjimečně mimoběž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on několika hřídelí jedním řeme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tyma.cz/aktuality/desatero-spravneho-remenoveho-prevo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levnější pře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pohánět několik hřídelí součas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chý c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umení rázů vlivem pružnosti řem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funkce pojistné spojky při přetížení (proklu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obvodové rychl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Ý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patná odolnost vůči vysokým teplotám, vlhkosti, prachu a nečistotá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tahování a opotřebení řem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né předep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ručení stálého převodového poměru, sk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f3_1_d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400720" cy="24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pořádání řemenových převod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472392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běžné hřídele – smysl otáčení hřídelů shodný. Při větších vzdálenostech os hřídelů je nutné, aby horní část pásu byla ochablá a dolní napjat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f3_1_e" descr=""/>
          <p:cNvPicPr/>
          <p:nvPr/>
        </p:nvPicPr>
        <p:blipFill>
          <a:blip r:embed="rId2"/>
          <a:stretch/>
        </p:blipFill>
        <p:spPr>
          <a:xfrm>
            <a:off x="1979640" y="3789360"/>
            <a:ext cx="5184720" cy="6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f3_1_f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5112000" cy="3316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pořádání řemenových převod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157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běžné hřídele – smysl otáčení hřídelů opačný. Větší úhel opásání. Protože se pás ve zkřížení po sobě tře, nehodí se pro velké rychlosti v =&lt; 15m.s-1 a pro široké pásy. Vzdálenost os musí být větší a &gt;= 20b , kde je šířka pás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pořádání řemenových převod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688000" cy="253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4428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moběžné hřídele – pouze pro jeden smysl otáčení. Pás musí nabíhat na oba kotouče v jejich středních rovinách, jinak by spadl. Kotouče musí být dostatečně široké ( B &gt;= 1,4 b ). Vzdálenost os bývá a = 3 až 10m, nejčastěji 5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y řeme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2195280" cy="760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10954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1268280"/>
            <a:ext cx="345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oché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ínové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asické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úzké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átorové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tatní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zube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651640" y="3068640"/>
            <a:ext cx="863640" cy="8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77080" y="3213000"/>
            <a:ext cx="202248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851280" y="3009960"/>
            <a:ext cx="1368360" cy="82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6:52:25Z</dcterms:created>
  <dc:creator>Trenk</dc:creator>
  <dc:description/>
  <dc:language>en-US</dc:language>
  <cp:lastModifiedBy>ucitel</cp:lastModifiedBy>
  <dcterms:modified xsi:type="dcterms:W3CDTF">2010-12-20T08:25:29Z</dcterms:modified>
  <cp:revision>45</cp:revision>
  <dc:subject/>
  <dc:title>Snímek 1</dc:title>
</cp:coreProperties>
</file>