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9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142-6B46-475B-854F-CA416F92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6E7-C286-4F9B-A414-36BE898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252-3B9A-4CE9-8A5D-89A214EC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A37-EA88-4287-8CEB-7B47AFDB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0222-0B1D-44E7-8F16-ECD7700B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E18-5C5F-4247-BE20-30FE6EF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8103-79BB-446D-87E8-3B201C09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6434-2FA8-467D-B9F9-EBB12409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07A7-D951-4035-8DEA-0A5110F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5920-DAD9-4120-8DB2-7611A39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11E-CD75-491E-A98C-A89F0C90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83C-9169-41C1-A767-57463EEB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6FB0-E9DB-43A9-A31B-56C6802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0A5F-8F32-4E26-AC78-81A1E2F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4F15-2EF1-4E73-8D40-57CDD078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B3A0-3894-4ABB-ADF6-7B93681A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416A-329C-4B69-93A2-319ADE03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183-40FE-4962-B6A7-D13EC07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3BF-E683-41AD-B150-4531EC4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EC6-90F0-4E1F-9F53-11EC775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B36-FC9B-4D28-BAEF-AF11C3C6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77E-D352-46AF-A9CC-C7F2D9C2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783-1F26-4598-8BE4-540C240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E85-A26C-4D6E-9418-3793107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68EC-340D-4E39-9EAA-6C79F93AC09E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4FE-B9A5-40D6-981B-BEAFD214FC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F710-1617-4E71-8A2B-DE99B85EA74A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E46-4507-49A0-8EAC-0A8CE86B27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16360" y="5157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Ing. Václav SLANA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979640" y="1413000"/>
            <a:ext cx="5472000" cy="37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ŘEVODOVK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404640"/>
            <a:ext cx="8137440" cy="66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cc66"/>
                </a:solidFill>
                <a:latin typeface="Arial"/>
              </a:rPr>
              <a:t>b) s dvojitými převody (tříhřídelová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trojice hřídelů nemění svoji vzájemnou polo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hnací a hnaný hřídel uložen za sebou a s nimi rovnoběžný předlohový hří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převody vždy vytvářeny dvěma páry kol </a:t>
            </a:r>
            <a:r>
              <a:rPr b="0" i="1" lang="cs-CZ" sz="2800" spc="-1" strike="noStrike">
                <a:solidFill>
                  <a:srgbClr val="ffffcc"/>
                </a:solidFill>
                <a:latin typeface="Arial"/>
              </a:rPr>
              <a:t>(hnacím soukolím předlohy ve stálém záběru a dalším párem mezi předlohou a hnaným hřídel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kola aktivována ozubcovými či synchronizačními spojk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835040" y="5589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632720" cy="5634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619040" y="55166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) řemenové, řetězové a třecí převodovk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řevody realizovány prostřednictvím řemenů a řemenic, řetězů a řetězovek či soustavou třecích ko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63040" y="5734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260280"/>
            <a:ext cx="8137440" cy="69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cc66"/>
                </a:solidFill>
                <a:latin typeface="Arial"/>
              </a:rPr>
              <a:t>d) planetové převodovk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převody vytvářeny čelními koly s vnějším i vnitřním ozube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jedny z kol (satelity) uloženy na unášeči a s ním obíhají kolem (nebo uvnitř) druhých centrálních (korunových) k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kola jsou ve stálém záběru a převody se aktivují aretací (brzdy, elektromagnety apod.) případně vzájemným spoj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nevyžadují úplné přerušení přenosu M</a:t>
            </a:r>
            <a:r>
              <a:rPr b="0" lang="cs-CZ" sz="2800" spc="-1" strike="noStrike" baseline="-25000">
                <a:solidFill>
                  <a:srgbClr val="ffff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416720" cy="4484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5157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S … satelit, U … unášeč, 1 … centrální kolo, 2 … korunové kolo s vnitřním ozuben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1880" y="4508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8000" cy="3100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249800" cy="310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3100320" cy="3168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419640" y="3429000"/>
            <a:ext cx="3600360" cy="2701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054920" y="4508640"/>
            <a:ext cx="2089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Proved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planetový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převodov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160" y="299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02240" y="260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1880" y="623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42240" y="57340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5843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) synchronizovaná převodov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umožňuje při řazení spojení hřídelí nebo ozubených kol do záběru v převodovce i při velkém rozdílu otáč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) nesynchronizovaná převodov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u starších osobních automobil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při řazení na vyšší rychlostní stupeň (kola se točí pomalu a motor rychle) je nutné vyšlápnout spojku, vyřadit a pustit plynový pedál – zpomalí se otáčky motoru a tím se přiblíží otáčkám k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86240" cy="179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ŘEVODOVKY DÁLE MOHOU BÝT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78960" y="3429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YPY ŘAZENÍ RYCHLOSTNÍCH STUPŇŮ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anuální řazení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řidič volí konkrétní rychlostní stupně (využívá spojku) - většina evropských automobi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ekvenční řazení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řidič ovládá tlačítka nebo páčku pouze „nadřadit“ a „podřadit“ (spojku nepoužívá) - některé závodní automobi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utomatické řa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řidič se o řazení vůbec nestará, systémy vozidla si samy rozhodují, kdy a jak budou řadit - městské autobusy, automobily v USA, v Česku převážně luxusní limuzí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759720" cy="5853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987640" y="5300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r.16 MANUÁLNÍ 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54396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zařízení, které změnou převodového poměru mezi motorem a hnacími koly umožňuje optimální využití průběhu točivého momentu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(při nízkých otáčkách podává motor malý výkon a naopak při vysokých otáčkách se chová nehospodárně – vysoká spotřeb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možňuje  jízdu vz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 automobilech se využívají vícestupňové převodovky - nabízí výběr z několika převodových stupňů (dnes již běžně pěti či šestistupňové převodovk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řevodovou soustavu u motorových vozidel tvoří převodovka, spojka a 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696360" cy="5102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124000" y="5157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r.17 SEKVENČNÍ ŘAZENÍ NA VOLA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624120" cy="554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75280" y="1844640"/>
            <a:ext cx="496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TOMATICKÉ ŘAZE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 … 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 … REVE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 … NEU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 … DR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85880" y="2565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640" y="447480"/>
            <a:ext cx="432144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ní průmyslové převodovky se skládají z hnací a hnané hřídele, ozubených převodů a skří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kříň je tvořena víkem a va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 mazání se využívá převodový ol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889440" cy="308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34240" y="4437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YPY PRŮMYSLOVÝCH PŘEVODOVE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) Souosá převodov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759280" cy="372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65520" y="5661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) paralelní převodov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40360" cy="44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289160" y="5445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) pravoúhlá převodov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514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46240" y="5516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) speciální převodov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10640" cy="4530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87880" y="551664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r.23 PŘEVODOVKA PRO POHON SNĚHOVÉ FRÉZY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280360" cy="5180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842600" y="5589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KONSTRUKČNÍ PROVEDENÍ PŘEVODOVE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a) reduk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snižují otáčky a zvyšují M</a:t>
            </a:r>
            <a:r>
              <a:rPr b="0" lang="cs-CZ" sz="2400" spc="-1" strike="noStrike" baseline="-25000">
                <a:solidFill>
                  <a:srgbClr val="ffffcc"/>
                </a:solidFill>
                <a:latin typeface="Arial"/>
              </a:rPr>
              <a:t>k 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na výstupním hříd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v praxi častější výskyt – pracovní stroje mají zpravidla nižší otáčky než pohonná jednot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rozsah změny otáček závisí na celkovém převodovém poměru – u průmyslových převodovek konstantní, u motorových vozidel se stupňovitě mě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b) multipliká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zvyšují otáčky a snižují M</a:t>
            </a:r>
            <a:r>
              <a:rPr b="0" lang="cs-CZ" sz="2400" spc="-1" strike="noStrike" baseline="-25000">
                <a:solidFill>
                  <a:srgbClr val="ffff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AZÁNÍ PŘEVODOV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zání broděním v olejové nápln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 přivádění oleje do záběru (rychlost do 12m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zání olejem s nuceným oběh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e využívá u  převodovek velkých výkonů s velkými obvodovými rychlostmi (v &gt; 12-15m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- olej se do záběru dopravuje olejovým čerpadlem přes čistič a někdy i chladi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zání tryskam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e uplatňuje u vysokých obvodových rychlostí (v &gt; 30-50m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- nutné olej rovnoměrně rozprašovat (v záběru nesmí docházet k rázů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121440" cy="5646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15040" y="5661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067280" y="2349360"/>
            <a:ext cx="4681440" cy="378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912000" cy="1925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050240" y="404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70960" y="57340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3671640" cy="3218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4000" y="5661000"/>
            <a:ext cx="3600360" cy="6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1 … výpustný šro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2 … plnící otv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3 … kontrolní zát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4240" y="5229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ECHNICKÉ PARAMETRY PRO VOLBU PŘEVODOVK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výkon P</a:t>
            </a:r>
            <a:r>
              <a:rPr b="0" lang="en-US" sz="30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(kW), otáčky n</a:t>
            </a:r>
            <a:r>
              <a:rPr b="0" lang="en-US" sz="30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(min</a:t>
            </a:r>
            <a:r>
              <a:rPr b="0" lang="en-US" sz="30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) a druh hnacího str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výkon P</a:t>
            </a:r>
            <a:r>
              <a:rPr b="0" lang="en-US" sz="3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(kW), otáčky n</a:t>
            </a:r>
            <a:r>
              <a:rPr b="0" lang="en-US" sz="3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(min</a:t>
            </a:r>
            <a:r>
              <a:rPr b="0" lang="en-US" sz="30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) a druh hnaného str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ožadovaný celkový převod i</a:t>
            </a:r>
            <a:r>
              <a:rPr b="0" lang="en-US" sz="3000" spc="-1" strike="noStrike" baseline="-25000">
                <a:solidFill>
                  <a:srgbClr val="ffffcc"/>
                </a:solidFill>
                <a:latin typeface="Arial"/>
              </a:rPr>
              <a:t>1,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druh provozu a denní doba provoz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eplota okolí (°C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očet zapnutí (rozběhů) za 1hod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VIČENÍ TÉMAT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. Načrtněte základní kinematická schémata typů průmyslových převodovek a uveďte možnosti jejich mazání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. Dle vlastního návrhu zpracujte základní výpočty jednostupňové převodovky s válcovými koly s přímými zuby a vymodelujte 3D konstrukční řešení převodovk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3. V rámci samostudia popište funkci automatické převodovky a vysvětlete její činno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4. Vyhledejte typy vozidel s manuálním, sekvenčním a automatickým řazením a porovnejte jejich základní technické paramet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5. Popište postup činnosti při řazení rychlostních stupňů u vozidel s nesynchronizovanou převodovko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UŽITÉ ZDROJ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   http://kabinet.fyzika.net/aplety/prevodovka/data_htm/2.jp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   http://kabinet.fyzika.net/aplety/prevodovka/data_htm/1.jp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3   http:// www.zetor-major.estranky.cz/archiv/iobrazek/18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4   http://cs.wikipedia.org/wiki/Soubor:Gear_3SR_ANI.gi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5   http://www.spsteplice.cz/download/autari/16.jp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6   http://www.sosi.cz/texty/1d-prevodna-a-prevodova-ustroji.pdf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7   http://skoda.panda.cz/obrazky2/436_4.pn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8   http://www.sosi.cz/texty/1d-prevodna-a-prevodova-ustroji.pdf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9   http://robotika.cz/robots/dana/motors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0 R.Kříž, C.Martinisko, K.Weigner – Strojírenská konstrukce I, SNTL 1986, obr.154, str.16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1 http://www.spsmt.sk/pic/webeditor/prevodovka2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2 http://www.spsmt.sk/pic/webeditor/prevodovka3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3 http://upload.wikimedia.org/wikipedia/commons/thumb/e/ee/Epicyclic_gear_small.pn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4 http://www.bosch-do-it.cz/mam/bosch-pt-centralpool/diy/diyknowledge/lexicon/planetengetriebe1.jpe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5 http://www.auto.xf.cz/images/01W012_synchronizace.jpg</a:t>
            </a: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6 http://www.portalymest.cz/obrazky/ukazka-zabezpeceni-vozidla-bmw-rady-x3-manualni-razeni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7 http://www.carmotor.cz/images/cervenec2008/bmw-x6-3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8 http://usa.qex.cz/data/au/automatic-shifting-gear-stick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19 http://cs.wikipedia.org/wiki/Soubor:Jednostupnova_prevodovka.JPG</a:t>
            </a: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0 http://www.pohony.cz/data/produkty/images/33_1.jpg</a:t>
            </a: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1 http://www.pohony.cz/data/produkty/images/143_1.jpg</a:t>
            </a: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2 http://www.pohony.cz/data/produkty/images/48_1.jpg</a:t>
            </a: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3 http://www.pohony.cz/data/produkty/images/63_1.jpg</a:t>
            </a: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4 R.Kříž, C.Martinisko, K.Weigner – Strojírenská konstrukce I, SNTL 1986, obr.146, str.15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5 R.Kříž, C.Martinisko, K.Weigner – Strojírenská konstrukce I, SNTL 1986, obr.149, str.16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6 http://www.staryweb.mopedklan.cz/stadion/udrzba/mazani/rez-motor-obr.jp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Obr.27 R.Kříž, C.Martinisko, K.Weigner – Strojírenská konstrukce I, SNTL 1986, obr.150, str.16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38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3960" y="5589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447840"/>
            <a:ext cx="8229600" cy="5511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1400" y="5589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nkce vícestupňové převodovk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257800" cy="3043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11280" y="4149720"/>
            <a:ext cx="8137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evodový stupeň V1 (zelený), V2 (modrý) a V3 (fialov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pětný chod R (červen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zařazená rychlost – neutrál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ní hřídel (žlutá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ní hřídel (mění barvu dle zařazeného stupně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73960" y="371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YPY PŘEVODOV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cc66"/>
                </a:solidFill>
                <a:latin typeface="Arial"/>
              </a:rPr>
              <a:t>a) s jednoduchými převody (dvouhřídelová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pouze dva rovnoběžné hřídele (hnací a hnan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hřídele svoji vzájemnou polohu nemě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převody vytvářeny vždy jen jedním párem kol s vnějším čelním ozubení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kola mohou být buď ve stálém záběru či jsou aktivovány pomocí ozubcových nebo synchronizačních spoj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840360" cy="513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187400" y="8366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561440" cy="5742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47760" y="5661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br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0-08-02T20:35:46Z</dcterms:modified>
  <cp:revision>280</cp:revision>
  <dc:subject/>
  <dc:title>POSLOUPNOSTI</dc:title>
</cp:coreProperties>
</file>