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9F0-2C09-4E5C-A021-4EF31C0A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DFE-58D4-47FF-ACAD-BF97A79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CE3-660F-4438-8B9B-4128D53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F89-A036-47CE-A281-C3E1169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5B6-4CDA-44A8-8254-279B1F5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34E-CDAD-4696-8A4E-D0A7BBA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45F-4E80-4410-9500-ACAE21A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A66-8399-4341-85F9-F5614D3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7B6-354C-41B3-9CD5-E3F1FFC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52B-2E18-420D-821A-7FABCD4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D63-A130-4B4F-B397-B679DCC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5D4-21C5-4A93-A740-6442766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0A44-3D2B-4C8C-A9CC-F3CBDAD01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oje kolíky a če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Kolík válcový"/>
          <p:cNvPicPr/>
          <p:nvPr/>
        </p:nvPicPr>
        <p:blipFill>
          <a:blip r:embed="rId1"/>
          <a:stretch/>
        </p:blipFill>
        <p:spPr>
          <a:xfrm>
            <a:off x="971640" y="2852640"/>
            <a:ext cx="3192480" cy="14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Kolík pružný"/>
          <p:cNvPicPr/>
          <p:nvPr/>
        </p:nvPicPr>
        <p:blipFill>
          <a:blip r:embed="rId2"/>
          <a:stretch/>
        </p:blipFill>
        <p:spPr>
          <a:xfrm>
            <a:off x="1908000" y="4437000"/>
            <a:ext cx="3095640" cy="138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olík kuželový"/>
          <p:cNvPicPr/>
          <p:nvPr/>
        </p:nvPicPr>
        <p:blipFill>
          <a:blip r:embed="rId3"/>
          <a:stretch/>
        </p:blipFill>
        <p:spPr>
          <a:xfrm>
            <a:off x="5076720" y="3357720"/>
            <a:ext cx="3240360" cy="145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čete průměr pojišťovacího kolíku,je-li z materiálu 11 140.0 a je zadáno: a=20mm,b=10mm,F=5000N,zatížení střídavé,materiál součástí 11 373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lený, Jiří:Stavba strojů a strojní součásti I, Computer Press, Brno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scher, Ulrich a kol.: Základy strojnictví, EUROPA – SOBOTÁLES cz., Prah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ww.angelov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ww.mitcalc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ení součástí tvarovým sty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ly se přenáší napětím nebo tlaky mezi stykovými plo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jení 2 součástí (např.hřídel s náboj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né vymezení a pojištění polohy 2 spojovaných součástí (např.skříň převodovk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ištění proti přetížení (např.pojistná spojk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čné spojení 2 součástí (např.otočné spojení vidlice s táh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7654"/>
          <a:stretch/>
        </p:blipFill>
        <p:spPr>
          <a:xfrm>
            <a:off x="755640" y="1557360"/>
            <a:ext cx="25066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492360" y="1628640"/>
            <a:ext cx="5040360" cy="205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4032360" cy="195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5148360" y="4076640"/>
          <a:ext cx="3527280" cy="19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8360" y="4076640"/>
                    <a:ext cx="35272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00000" y="1268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19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ištění polo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jení 2 součá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950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istná spoj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očné sp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– dr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35280" cy="468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2276640"/>
            <a:ext cx="257796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251640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kalené kolíky - 11 140.0,11 60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ené kolíky – oceli tř.16 a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žné kolíky – 11 700.4,materiály pro ka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y pro válcový a kuželový kolík H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y pro pružný a rýhovaný kolík H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jení 2 součástí – H7/m6 (přechodné ulož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čné spojení – h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počet spojovacího kolí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na smyk a otla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00000" y="2637000"/>
          <a:ext cx="3384720" cy="26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7000"/>
                    <a:ext cx="338472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076720" y="2565360"/>
          <a:ext cx="2881440" cy="258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565360"/>
                    <a:ext cx="288144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řídel s průměrem D=30mm je namáhán kroutícím momentem 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120Nm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nábojem ozubeného kola jej spojuje válcový spárový kolík s průměrem d=6mm a délkou l=28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žení je míji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 součástí: kolík 11 600,hřídel 11 500, ozubené kolo 14 220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? Kontrolujte kolík na smyk a otla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počet pojišťovacího kolí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na smyk a otla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32108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18:42Z</dcterms:created>
  <dc:creator>VOŠ a SPŠ Strakonice</dc:creator>
  <dc:description/>
  <dc:language>en-US</dc:language>
  <cp:lastModifiedBy>kABINET-413</cp:lastModifiedBy>
  <dcterms:modified xsi:type="dcterms:W3CDTF">2010-05-31T09:23:01Z</dcterms:modified>
  <cp:revision>14</cp:revision>
  <dc:subject/>
  <dc:title>Spoje kolíky a čepy</dc:title>
</cp:coreProperties>
</file>