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C94-AAF8-4AAB-B893-2F91E55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054-0EC0-4374-B253-71867415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648-D043-4FD7-BE91-371892FA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6B0-9503-441D-BA16-F5CD0F83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A41-FEA0-4411-8296-CB980AE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652-EC78-43F8-9C50-B0F6669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B9F-39EB-4DB4-9EE4-3CB9B879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DFA-DB3F-4C72-8C63-898E7AE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67F-6F71-4B99-8377-012D9C2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900-4C7A-4A98-B4E0-36E9029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629-67F3-4BFE-BB03-32A494B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CD1-1FB2-414D-ABF6-A2E9EC8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B95-BFF7-4F8E-ACD6-8647C2038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ennlich.cz/obrazky.php?id=5489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uži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Zobrazit obrázek v plné velik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6450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roubovité válcové tlačné a tažné – všeobecné uplatně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Šroubovitá kuželová – pro větší sílu než válcov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alířová – vozid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Šroubovitá zkrutná – měřící přístro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irálová – pohony mechanism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Zkrutné tyče – pružení vozi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Listové pružiny – voz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Kroužková pružina – pro velké zatěžujíc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630360"/>
            <a:ext cx="8004240" cy="565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566640"/>
            <a:ext cx="761976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7058160" cy="463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5688000" cy="492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071880" cy="590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Tenute meccaniche a molla elicoidale"/>
          <p:cNvPicPr/>
          <p:nvPr/>
        </p:nvPicPr>
        <p:blipFill>
          <a:blip r:embed="rId2"/>
          <a:stretch/>
        </p:blipFill>
        <p:spPr>
          <a:xfrm>
            <a:off x="4643280" y="1268280"/>
            <a:ext cx="3019680" cy="453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semi-elliptical spring in a 1937 Bugatti Type 57SC"/>
          <p:cNvPicPr/>
          <p:nvPr/>
        </p:nvPicPr>
        <p:blipFill>
          <a:blip r:embed="rId1"/>
          <a:stretch/>
        </p:blipFill>
        <p:spPr>
          <a:xfrm>
            <a:off x="1476360" y="692280"/>
            <a:ext cx="62658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kovové pruž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gresivní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řírodního nebo syntetického kauču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tvary – hranoly,plné a duté válce spojené zalisováním, vulkanizováním nebo lepením s kov.pr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  velké pružné deformace, zachycují a tlumí rázy, elektricky nevod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alá odolnost proti teplotám (pracovní teplo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35-50°C) a chem. prostředí (benzin, olej),kratší živo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3500280"/>
            <a:ext cx="4034160" cy="323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4476960" cy="316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ýpočet pružin namáhaných ohyb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ová pruž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392360" cy="2066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2737080" cy="135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8920" y="517680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učebnici L=a, t=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5084640"/>
            <a:ext cx="201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ní součásti p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umulaci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umení rá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tění vratných pohyb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ržení rovnováhy 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mě klasických pružin k nim patří závaží, setrvačníky, kyvadla, hydraulická, pneumatická a hydropneumatická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ýpočet pružin namáhaných kru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covité šroubovité pruž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5904000" cy="2952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164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učeb. s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551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y pružin: 0...volný,1...předpružený, 2-7...pracovní, 8...plně zatížený, 9...mezní (závity na sebe doseda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lený, Jiří:Stavba strojů a strojní součásti I, Computer Press, Br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scher, Ulrich a kol.: Základy strojnictví, EUROPA – SOBOTÁLES cz., Praha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auto-t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pruziny-velk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mitcalc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scootland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alcomex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vové namáhané ohybem – listové, šroubovité zkrutné, spirál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vové namáhané krutem – šroubovité válcové a kuželové, zkrutné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vové namáhané kombinovaně – talířové, krou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kovové – pryžové, plas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láštní – pneumatické a hydropneumat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676728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zásady kovových pruž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hlíkové a slitinové oceli např. 11 800, 12 090, 13 270, 14 260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z a mos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ční zásady kovových pruž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ávislost deformace (y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 a zatížení (F,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neární – šroub. tažné, tlačné a zkrutné, torzní tyče, lis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gresivní – šroub. kuželové a nekov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gresivní - talíř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580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848720" cy="525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01080" cy="34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0:49:12Z</dcterms:created>
  <dc:creator>jirka</dc:creator>
  <dc:description/>
  <dc:language>en-US</dc:language>
  <cp:lastModifiedBy>kABINET-413</cp:lastModifiedBy>
  <dcterms:modified xsi:type="dcterms:W3CDTF">2010-05-31T09:36:39Z</dcterms:modified>
  <cp:revision>25</cp:revision>
  <dc:subject/>
  <dc:title>Pružiny</dc:title>
</cp:coreProperties>
</file>