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B4F-1EA6-4997-B23E-973A5535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007-1730-4AC8-9CDA-79D78A6A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C1A-4DBF-4A1D-A18A-252ACE3D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081-78AE-4666-AE35-45E1407A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41E4-8E71-4D16-AFF0-B865D9F1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40C-0A3E-4540-8549-5DA25C56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836-9CC7-4DB0-A81D-73BBB623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F6C-351D-47A8-A09B-D9E63F40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D7D-F866-401B-886F-9CE62DF4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8558-E43F-471E-862B-109C166A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C6E-CFBE-4F3C-8E17-51E4D3D5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62B-9F6B-4396-9E98-4F4A675C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B073-AF6C-4C03-A8DD-7350DA916C8F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3088-169C-4C22-A32E-E38986B7F1C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alukola-levne.cz/shops/8113/images-goods/&#353;rouby%20+%20matky.bm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>
                <a:solidFill>
                  <a:srgbClr val="000000"/>
                </a:solidFill>
                <a:latin typeface="Arial"/>
              </a:rPr>
              <a:t>Šroubové spoj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"/>
          <p:cNvPicPr/>
          <p:nvPr/>
        </p:nvPicPr>
        <p:blipFill>
          <a:blip r:embed="rId2"/>
          <a:stretch/>
        </p:blipFill>
        <p:spPr>
          <a:xfrm>
            <a:off x="3708360" y="3500280"/>
            <a:ext cx="1873440" cy="1873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jednejte přesný šroub M12 se šestihrannou hlavou, pozinkovaný, z materiálu 11 500, délka šroubu 60 mm podle ČSN i I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le Č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ROUB M12x60 ČSN 02 1101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ROUB M12x60 ČSN 02 1101 – 5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le 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ROUB SE ŠESTIHRANNOU HLAVOU ISO 4014-M12x60-5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šroub z předešlého příkladu objednejte podle ČSN přesnou šestihran.matici z materiálu 11 500 a pružnou podložku z materiálu 11 423, obě bez povrchové úprav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TICE M12 ČSN 021401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LOŽKA 12 ČSN 021440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y použití materiá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D, 5D – běžné staticky namáhané sp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G – lícované šrouby namáhané smyk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G, 10K – dynamicky namáhané spoje s možností přetížení např. hydraulické mechanismy, nástroje, dopravní 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ormal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vory pro šrou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oubky děr se závitem pro závrtné šrou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hloubení pro hlavy šroub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končení šroubů s metrickým záv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běhy závit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še uvedené hodnoty lze najít ve Strojnických tabulká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ástupný symbol pro zápatí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643040"/>
            <a:ext cx="81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. Pro šroub M8x60 ČSN 021143 nakreslete a zakótujte zahloubení pro hlavu šroub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4"/>
          <p:cNvPicPr/>
          <p:nvPr/>
        </p:nvPicPr>
        <p:blipFill>
          <a:blip r:embed="rId1"/>
          <a:stretch/>
        </p:blipFill>
        <p:spPr>
          <a:xfrm>
            <a:off x="3635280" y="2924280"/>
            <a:ext cx="4105440" cy="2735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500280" y="5000760"/>
            <a:ext cx="11527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jištění šroubových spoj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Silovým styk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užná podlož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rma mat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tice, která má v sobě plastickou hmot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 001"/>
          <p:cNvPicPr/>
          <p:nvPr/>
        </p:nvPicPr>
        <p:blipFill>
          <a:blip r:embed="rId1"/>
          <a:stretch/>
        </p:blipFill>
        <p:spPr>
          <a:xfrm>
            <a:off x="2719440" y="500040"/>
            <a:ext cx="3705120" cy="4800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2916360" y="558972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lovým sty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jištění šroubových spoj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 Tvarovým styk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lač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lí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á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eciální podložky (např. podložka s jazýčke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2 001"/>
          <p:cNvPicPr/>
          <p:nvPr/>
        </p:nvPicPr>
        <p:blipFill>
          <a:blip r:embed="rId1"/>
          <a:stretch/>
        </p:blipFill>
        <p:spPr>
          <a:xfrm>
            <a:off x="150840" y="1214280"/>
            <a:ext cx="8842320" cy="32864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3059280" y="5445000"/>
            <a:ext cx="38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arovým sty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jištění šroubových spoj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 Materiálovým stykem – málo používan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vaření hlavy šroub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rvou (plombování), lepid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ástupný symbol pro zápatí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unkce šroub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jovací čá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ový šro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3024360" cy="2505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3924360" y="1628640"/>
            <a:ext cx="1873080" cy="146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5867280" y="3357720"/>
            <a:ext cx="1994040" cy="280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6300720" y="1413000"/>
            <a:ext cx="2262240" cy="1697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2 001"/>
          <p:cNvPicPr/>
          <p:nvPr/>
        </p:nvPicPr>
        <p:blipFill>
          <a:blip r:embed="rId1"/>
          <a:stretch/>
        </p:blipFill>
        <p:spPr>
          <a:xfrm>
            <a:off x="2833560" y="189000"/>
            <a:ext cx="3476880" cy="4979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2843280" y="558972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276720" y="5516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riálovým sty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Zástupný symbol pro zápatí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pak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 jsou pohybové šroub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é se používá pojištění šroubových spojů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é jsou druhy závitů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pište šroubové spoje na obráz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340000" y="3645000"/>
            <a:ext cx="4211640" cy="244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lený, J.: Stavba strojů – strojní součásti,Computer Press,a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scher, U. a kol.: Základy strojnictví,EUROPA-SOBOTÁLES cz.,Praha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ukola-levne.cz/shops/8113/images-goods/šrouby%20+%20matky.b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mmspektrum.com/multimedia/image/24/2447_bi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bajk.cz/gfx/clanek/566/male/with_x_metr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prodejnacb.cz/galerie//sprava_produktu/P0906003_cs_01srouby_se_sestihrannou_hlavou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nemakej.cz/obrazky/imbus_m8x40_a_matice_pro_np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podlozky.wbs.cz/18mm__sroub_vycniva_8mm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zápatí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kladní čá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roub s hlavou a mati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roub s hlavou bez ma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vrtný šroub bez hl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187280" y="3357720"/>
            <a:ext cx="6551640" cy="2347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395280" y="59500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uhy šroubových spo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ruhy šroub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2953080" cy="1168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2808360" cy="1895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4"/>
          <a:stretch/>
        </p:blipFill>
        <p:spPr>
          <a:xfrm>
            <a:off x="4859280" y="3213000"/>
            <a:ext cx="3600360" cy="2703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684360" y="34290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roub s šestihrannou hlav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900000" y="566100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948360" y="2492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vrtný šro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6012000" y="602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uhy hlav šroub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ruhy závi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419640" y="1628640"/>
            <a:ext cx="5111640" cy="3168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11280" y="148428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r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hitworthů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choběžníko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ubko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356000" y="4581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fil metrického záv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ritéria volby druhu závi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livé druhy se volí podle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rické s hrubou roztečí – běžné sp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rické s jemnou roztečí – jemná mechanika, duté součásti s malou tloušťkou stě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oběžníkový – pohybové šrou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ubkový – spojování  potrubí menších průmě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vé závity LH – rotující hřídele (např.závit pedálu kola, hřídel okružní pi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trukční zás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teriály šroubů, matic a podlože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saz (elektrotechni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iník a jeho slitiny (spojování hliník.součás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načení materiá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výkresech se materiál objednává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vní doplňkovo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číslic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a číslem normy (značka mech. vlastností nebo třída pevn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uhá doplňková číslice označuje povrchovou úpravu nebo podle IS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řídu pe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Zástupný symbol pro zápatí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načení materiá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488960"/>
                <a:gridCol w="2254320"/>
                <a:gridCol w="1111320"/>
                <a:gridCol w="1925640"/>
                <a:gridCol w="1449360"/>
              </a:tblGrid>
              <a:tr h="110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řívější znač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á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z kluzu (MP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plňková čís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řída pev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343,11 373, 11 4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-3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0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sa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telingerova</cp:lastModifiedBy>
  <dcterms:modified xsi:type="dcterms:W3CDTF">2011-10-12T12:59:16Z</dcterms:modified>
  <cp:revision>45</cp:revision>
  <dc:subject/>
  <dc:title>POSLOUPNOSTI</dc:title>
</cp:coreProperties>
</file>