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5.jpeg" ContentType="image/jpe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D8C-DD9A-4B27-85C0-62D413F7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361-1003-4873-9CC8-C6CA019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B69-F441-4B45-823D-D467D341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DBD-1CFC-468B-879D-D013B489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3A4E-B308-4F46-AC8E-475C2614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D6B-DC22-4EC9-B225-D28DAF50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148A-1A40-4E18-A5C7-494B1DD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8EC6-25FD-4204-978D-32295B43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371E-8544-498C-9E3B-37AADA2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155-1ADE-4E13-AC95-494EC3E9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333C-96A1-48FA-B7A2-A10FE7F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359-9DA5-466B-8643-4C68AFE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7E75-1FB7-4BDE-94AF-54F1996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F8CB-AFD4-4B2B-9B95-A75FBEC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20C-FEC5-456F-9CF2-5DDAE0FB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B01-3A53-4C0D-8695-1CEA323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0A8C-1064-4750-B098-66A87A60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A6A-6CC0-4FC4-B67D-0B1F36DB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72-A2B0-4E6A-898A-8BDF0F7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2CB-3428-4EDF-AE1B-46ED00CA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E56-C7F1-434D-B86C-08A645C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820-C938-4780-A895-D865CB20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E60-16B4-4FAF-9E8B-4F7AF8D4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693-38F1-4F76-B827-1BE7A7C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C64-AC1C-4505-AEC7-C672C5870863}" type="datetime">
              <a:rPr b="0" lang="cs-CZ" sz="1400" spc="-1" strike="noStrike">
                <a:solidFill>
                  <a:srgbClr val="ff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0E21-3F3B-4F2E-96F6-06D0B7A3BB97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255680" y="1066680"/>
            <a:ext cx="5450040" cy="322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0962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CD78-AE48-4A26-9CC7-053FD9103B74}" type="datetime">
              <a:rPr b="0" lang="cs-CZ" sz="1400" spc="-1" strike="noStrike">
                <a:solidFill>
                  <a:srgbClr val="ff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BF30-FC76-4B2D-ACEC-6ED034C6DBF7}" type="slidenum">
              <a:rPr b="0" lang="en-US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537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Ing. Václav SLANA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844640"/>
            <a:ext cx="8353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cccc">
                    <a:alpha val="74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ZAPALOVÁNÍ A VSTŘIKOVÁNÍ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cccc">
                  <a:alpha val="74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907560"/>
            <a:ext cx="80643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)piezoelektrické zapalování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energie získávána mechanickým tlakem na piezoelektrické krystal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piezoelektrický jev, jímž se vytváří akustické či ultrazvukové vibrace za účelem vytvoření lineárního či rotačního pohyb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jedná se o typ kapacitního zapalování a zapalování vysokofrekvenč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v současné době se takřka nepoužívá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nesporné výhody převážila řada nevýhod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jednou z nevýhod především nemožnost dodržet přesný okamžik zážehu a také časté výpadky v přechodových režimech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16360" y="404640"/>
            <a:ext cx="3384360" cy="21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5905440" cy="351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372360" y="2637000"/>
            <a:ext cx="2531880" cy="352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19600" y="2205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11960" y="580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4320" y="580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)bateriové zapalování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potřebná energie dodávána z akumulátoru a postupnou transformací se převádí na zapalovací svíčk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napájeno elektrickým proudem výhradně z bateri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baterie (také akumulátor) je sestavena z galvanických destičkových článků pro napětí 12V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nejpoužívanější typ zapalová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výhodou silná elektrická jiskra již při nízkých otáčkách motoru - usnadnění jeho spouště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Arial"/>
              </a:rPr>
              <a:t>lze jej dále členit na konvenční cívkové zapalování, elektronické zapalování, tranzistorové zapalování a kondenzátorové (kapacitní) zapalová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06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konvenční cívkové zapalová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řízeno kontakty, tzn.,že proud, který protéká cívkou, je vypínán a zapínán mechanickým kontaktem (přerušovačem) v rozdělovači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po vybití zapalovací cívky sepne vačka rozdělovače opětovně kontakty přerušovače a cívka je znovu nabíjen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otáčející se palec rozdělovače přenáší vysoké napětí při následujícím zapálení na další zapalovací svíčku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278604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3382920" cy="2849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22880" y="5734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07240" y="5734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064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elektronické zapalová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ffff"/>
                </a:solidFill>
                <a:latin typeface="Arial"/>
              </a:rPr>
              <a:t>pro spouštění procesu zapálení je využíván otáčkový systém (signál ze snímače otáček)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ffff"/>
                </a:solidFill>
                <a:latin typeface="Arial"/>
              </a:rPr>
              <a:t>doplňkový snímač tlaku dodává signál zatížení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ffff"/>
                </a:solidFill>
                <a:latin typeface="Arial"/>
              </a:rPr>
              <a:t>mikropočítač vhodným způsobem modifikuje výstupní signál předávaný do spínací jednotky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ffff"/>
                </a:solidFill>
                <a:latin typeface="Arial"/>
              </a:rPr>
              <a:t>způsob vyvolání zapálení je řízen elektronicky, výroba napětí je induktivní a rozdělení a přenos zapalovací jiskry do příslušného válce je mechanické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3095640" cy="2417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427640" y="3716280"/>
            <a:ext cx="3230640" cy="242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160" y="580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30880" y="580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r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345440" cy="556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54880" y="5734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248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nzistorové zapalování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přerušovač ovládá pouze napětí na bázi tranzistoru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při sepnutí kontaktů přerušovače získá báze záporné napětí, tranzistor se otevře a primárním vinutím cívky protéká prou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opalování kontaktů je podstatně menší, neboť je přerušován jen slabý prou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u novějších typů je přerušovač nahrazen střídavým generátorem s permanentním magnetem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09880" cy="120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836880" cy="218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3816360" cy="234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9960" y="33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9960" y="16286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9960" y="5877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403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kondenzátorové zapalování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energie shromažďována do kapacity, z níž se odvádí připojením kondenzátoru na spotřební obvod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výhodou skutečnost, že poměrně velký náboj z kondenzátoru se za velmi krátký čas (takřka okamžitě) vybije  do primárního vinutí zapalovací cívky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Arial"/>
              </a:rPr>
              <a:t>proudy přes primární vinutí jsou v důsledku krátkého času velmi velké (desítky ampér) a rovněž rychle (strmě) narůstá indukované sekundární napětí, jež se dostává na svíčku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657600" cy="2941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672000" cy="258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15240" y="4046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8320" y="5661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ZAPALOVÁNÍ VZNĚTOVÝCH SPALOVACÍCH MOTORŮ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898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k samovznícení nafty ve spalovacím prostoru je potřeba dosažení teploty min.350°C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okud jsou nízké venkovní teploty, je nutné motor nažhavit (žhavící svíčky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žhavící svíčky zahřívají dané množství vzduchu či zapalují palivo těsně před nastartováním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žhavení je složeno ze tří fází: předžhavení (3 až 7s), startování a dožhavení (v závislosti na teplotě chladící kapaliny a venkovní teplotě až 6 minut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ři dožhavení se redukují škodlivé emise ve výfukových plynech a palivo se lépe spaluje (motor běží klidněji a méně klape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3527640" cy="282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427640" y="476280"/>
            <a:ext cx="4165560" cy="5545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8880" y="29242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3240" y="5661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5240" y="5661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ZAPALOVÁNÍ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MOTORŮ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40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tlačená směs se zapaluje elektrickou jiskrou o teplotě asi 8.000K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jiskra přeskakuje při napětí 15.000V až 20.000V mezi vzájemně odizolovanými elektrodami zapalovací svíčky (vzdálenost cca 0,4mm pro magnetoelektrické zapalování a 0,7-0,9mm pro bateriové zapalování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víčka je charakterizována svojí tepelnou hodnotou, tj.schopností odvádět teplo (svíčka musí mít takovou teplotu, aby nezpůsobila předčasné zapálení směsi a zároveň se elektrody nezanášely spalitelnými nečistotami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epelná hodnota svíček je 45 - 280, pro vyšší provozní teploty motoru se volí svíčka s vyšší tepelnou hodnotou (studenější) a naopak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VSTŘIKOVÁNÍ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Arial"/>
              </a:rPr>
              <a:t>karburátory se zdokonalovaly na hranici svých možností pomocí elektronických systémů a postupně se vytrácel smysl karburátoru jakožto levného prostředku pro tvorbu směsi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Arial"/>
              </a:rPr>
              <a:t>většina mechanických systémů přináší problém s regulací a pokud je motor využíván v různých režimech, je nutné měnit jeho vstupní veličiny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Arial"/>
              </a:rPr>
              <a:t>vstřikování paliva je systém promíchání paliva se vzduchem ve spalovacím prostoru motoru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Arial"/>
              </a:rPr>
              <a:t>vstřikovací systém je tvořen tlakovým čerpadlem, které dodává palivo pod tlakem ke vstřikovačům (injectorům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ýhody vstřikování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nížení škodlivin ve výfukových plynech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řesné dávkování pali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nížení spotřeby pali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zajištění optimálního směšovacího poměru dle provozní stavu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jemnější rozprášení pali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epší objemová účinnos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epší rozdělení směsi pro jednotlivé válc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ětší kroutící moment a jeho lepší průběh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nadnější spouštění studeného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265800" cy="5570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51240" y="5661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Obr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343640" cy="587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7600" y="2602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pis činnosti elektronického vstřikovač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vstřikovač umístěn v sacím potrubí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řídící jednotka motoru (ECU) shromažďuje informace z různých čidel umístěných kolem celého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na základě dodaných informací určuje délku otevření nutnou pro daný pracovní zdvih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ECU generuje proud přenášený na solenoid (elektromagnet) vstřikovač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ten zdvihne jehlu a natlakované palivo se prožene přes vypouštěcí otvor vstřikovač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o zastavení přenosu proudu vinutá pružina zatlačí jehlu zpět do sedla otvoru a zastaví průtok paliv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3311640" cy="5562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4929120" cy="5545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8520" y="5589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8880" y="5589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193080" cy="2511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403280" y="299736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03280" y="2637000"/>
            <a:ext cx="316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ČERPADLO VSTŘIK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5805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JEK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7240" y="4046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2997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932280" cy="446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859280" cy="444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520" y="981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3600" y="5108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Měřené údaje zpracovávané řídící jednotkou (ECU-Electronic Control Unit):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otáčky motoru (CKPS-CrankShaft Position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oloha vačky (CMPS-CaMshaft Position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oloha škrtící klapky (TPS-Throttle Position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tlak v sacím potrubí (IAPS-Intake Air Pressure Sensor nebo MAP-Manifold Air Pressure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tlak v airboxu (APS-Atmospheric Pressure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teplota nasávaného vzduchu (IATS-Intake Air Temperature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teplota motoru (ECTS-Engine Coolant Temperature Sensor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napětí bateri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rychlostní stupeň (GPS-Gear Position Switch)</a:t>
            </a:r>
            <a:br>
              <a:rPr sz="2400"/>
            </a:b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 případné další (např. Lambda sonda)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PŮSOBY VSTŘIKOVÁNÍ PALIVA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 kontinuální neboli simultánní vstřikování paliv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ke vstřiku dochází každou otáčku u všech vstřikovačů současně a jedná se o zastaralý systé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nebyl rozpoznán pracovní cyklus válce pomocí snímače vačkové hřídele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 vstřikování skupinové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seskupení vstřikovačů do dvojic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perioda vstřiku je 720° (tj. jednou za pracovní cyklus válce)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každých 360° se aktivuje jedna skupina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tento druh vstřikování je použit při startu motoru se sekvenčním vstřikování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při druhé otáčce motoru se již synchronizuje vstřikování pomocí snímače vačky (CMPS) a přechází se na sekvenční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) sekvenční vstřikování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ke vstřiku dochází u každého válce zvlášť a to jednou za 2 otáčky před otevřením sacího ventilu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je nutná informace o poloze vačkové hřídele, z čehož lze poznat pracovní cyklus válce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696000" cy="531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551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AFIKON VSTŘIKOVÁNÍ PALIVA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92360" y="907920"/>
            <a:ext cx="5759280" cy="4462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63640" y="5445000"/>
            <a:ext cx="5975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ff"/>
                </a:solidFill>
                <a:latin typeface="Arial"/>
              </a:rPr>
              <a:t>modrý obdélník – doba (úhel) otevření sacího venti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ff"/>
                </a:solidFill>
                <a:latin typeface="Arial"/>
              </a:rPr>
              <a:t>oranžový obdélník – doba vstři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ff"/>
                </a:solidFill>
                <a:latin typeface="Arial"/>
              </a:rPr>
              <a:t>červený blesk – okamžik záže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5600" y="501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CVIČENÍ TÉMATU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66ffff"/>
                </a:solidFill>
                <a:latin typeface="Arial"/>
              </a:rPr>
              <a:t>1. Popište vlastní proces zapalování směsi u spalovacích motorů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ff0000"/>
                </a:solidFill>
                <a:latin typeface="Arial"/>
              </a:rPr>
              <a:t>2. Načrtněte průřez zapalovací svíčkou a charakterizujte její jednotlivé části. Co je to žhavící svíčka?</a:t>
            </a:r>
            <a:r>
              <a:rPr b="0" i="1" lang="cs-CZ" sz="25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66ffff"/>
                </a:solidFill>
                <a:latin typeface="Arial"/>
              </a:rPr>
              <a:t>3. Rozeberte jednotlivé zapalovací systémy využívané pro podporu zážehu směsi u motorových vozidel.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ff0000"/>
                </a:solidFill>
                <a:latin typeface="Arial"/>
              </a:rPr>
              <a:t>4. V Autodesk Inventoru vytvořte dle předlohy model vstřikovače a prostřednictvím řízených vazeb simulujte jeho činnost. 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66ffff"/>
                </a:solidFill>
                <a:latin typeface="Arial"/>
              </a:rPr>
              <a:t>5. Vyhledejte v odborných pramenech veškeré informace, které získává ECU pro vyhodnocení parametrů vstřikování směsi a zaneste je do přehledné tabulky.</a:t>
            </a:r>
            <a:r>
              <a:rPr b="0" lang="cs-CZ" sz="25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   </a:t>
            </a:r>
            <a:r>
              <a:rPr b="0" lang="cs-CZ" sz="800" spc="-1" strike="noStrike">
                <a:solidFill>
                  <a:srgbClr val="66ffff"/>
                </a:solidFill>
                <a:latin typeface="Arial"/>
              </a:rPr>
              <a:t>http://intranet.ssinte-karvina.cz/download/navratil/Elektrotechnika/05%20Zapalování/087%20vliv%20okamžiku%20zážehu%20na%20činnost%20motoru.jpg</a:t>
            </a:r>
            <a:endParaRPr b="0" lang="en-US" sz="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   http://www.nissanclub.cz/graphics/articles/1/images/width-150/1svicka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   http://sklad.calibra.cz/servis/zapalovani/15_svicky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4   http://www.brisk.cz/upload/fckedit/image/zapalovaci_svicky/premium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5   http://storage.adventure-biker.cz/x-shop/shop_catalog/_large/51f907e08f7306d777ec4748b1d4a554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6   http://www.tuning-centrum.cz/upl/svicka_v_motoru_pg49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7   http://www.brisk.cz/upload/fckedit/image/zapalovaci_svicky/sytem_znaceni(1)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8   http://www.jawa-50.cz/lib/Thumb.php?f=/filesystem/clanky/technika/svicky/znaceni-zapalovacich-svicek-ngk.gif&amp;w=590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9   http://sklad.calibra.cz/servis/zapalovani/01_zakladni_schema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0  http://www.vutbr.cz/www_base/zav_prace_soubor_verejne.php?file_id=9142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1  http://veteran.auto.cz/wp-content/gallery/web/sk21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2  http://upload.wikimedia.org/wikipedia/commons/6/6d/Piezomotor_type_inchworm.gif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3 http://www.vutbr.cz/www_base/zav_prace_soubor_verejne.php?file_id=9142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4  http://www.ministeam.com/acatalog/mrv2cll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5 http://www.vutbr.cz/www_base/zav_prace_soubor_verejne.php?file_id=9142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6  http://autorepair.about.com/library/graphics/coil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7  http://skoda.panda.cz/obrazky/001_2.gif 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8  http://skoda.panda.cz/obrazky/001_1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19  </a:t>
            </a:r>
            <a:r>
              <a:rPr b="0" lang="cs-CZ" sz="900" spc="-1" strike="noStrike">
                <a:solidFill>
                  <a:srgbClr val="66ffff"/>
                </a:solidFill>
                <a:latin typeface="Arial"/>
              </a:rPr>
              <a:t>http://intranet.ssinte-karvina.cz/download/navratil/Elektrotechnika/05%20Zapalování/110%20zapojení%20elektronického%20zapalování%20EZ.jpg</a:t>
            </a:r>
            <a:endParaRPr b="0" lang="en-US" sz="9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0  V.Skopal, J.Adámek, M.Hofírek – Stavba a provoz strojů IV, SNTL 1982,obr.171,str.198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1  </a:t>
            </a:r>
            <a:r>
              <a:rPr b="0" lang="cs-CZ" sz="900" spc="-1" strike="noStrike">
                <a:solidFill>
                  <a:srgbClr val="66ffff"/>
                </a:solidFill>
                <a:latin typeface="Arial"/>
              </a:rPr>
              <a:t>http://intranet.ssinte-karvina.cz/download/navratil/Elektrotechnika/05%20Zapalování/095%20základní%20princip%20tranzistorového%20zapalování.jpg</a:t>
            </a:r>
            <a:endParaRPr b="0" lang="en-US" sz="9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2  http://img404.imageshack.us/img404/152/tzk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3  </a:t>
            </a:r>
            <a:r>
              <a:rPr b="0" lang="cs-CZ" sz="900" spc="-1" strike="noStrike">
                <a:solidFill>
                  <a:srgbClr val="66ffff"/>
                </a:solidFill>
                <a:latin typeface="Arial"/>
              </a:rPr>
              <a:t>http://intranet.ssinte-karvina.cz/download/navratil/Elektrotechnika/05%20Zapalování/120%20kondenzátorové%20zapalování%20HKZ-K.jpg</a:t>
            </a:r>
            <a:endParaRPr b="0" lang="en-US" sz="9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4  </a:t>
            </a:r>
            <a:r>
              <a:rPr b="0" lang="cs-CZ" sz="900" spc="-1" strike="noStrike">
                <a:solidFill>
                  <a:srgbClr val="66ffff"/>
                </a:solidFill>
                <a:latin typeface="Arial"/>
              </a:rPr>
              <a:t>http://intranet.ssinte-karvina.cz/download/navratil/Elektrotechnika/05%20Zapalování/121%20kondenzátorové%20zapalování%20HKZ-I.jpg</a:t>
            </a:r>
            <a:endParaRPr b="0" lang="en-US" sz="9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5  http://intranet.ssinte-karvina.cz/download/navratil/Elektrotechnika/05%20Zapalování/126%20žhavící%20svíčka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6  http://www.skodashop.cz/data/shared/files/products/820591/553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7  http://www.luke.cz/obrazky/svicky/zhav_svic_znaceni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8  http://www.autobecher.cz/wp-content/ilustrace/common-rail-bosch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29  http://hdabob.com/FuelInject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0  http://fordfuelinjection.com/images/injector02.gif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1  http://www.automotive-illustrations.com/img/Honda-Acura/Gx-injector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2  http://www.gsxr.wz.cz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3  http://www.gsxr.wz.cz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4  http://www.2carpros.com/images/articles/engine/fuel_system/diagram/fuel_injection_system.jpg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5  http://www.globaldensoproducts.com/images/fuel_injection.gif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66ffff"/>
                </a:solidFill>
                <a:latin typeface="Arial"/>
              </a:rPr>
              <a:t>Obr.36  http://www.gsxr.wz.cz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POUŽITÉ ZDROJ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4920" y="1052280"/>
            <a:ext cx="85186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zapalovací svíčka je jiskřiště pro zapalovací proud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voří ji střední a vnější elektroda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třední elektrodu obklopuje izolátor, jehož spodní část je zalisována do ocelového pláště svíčk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en je opatřen závitem pro zašroubování do hlavy válc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lektrody jsou zhotoveny ze zvláštní žáruvzdorné slitiny, izolátory jsou nejčastěji z keramických hmo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na střední elektrodu se nahoře nasazuje koncovka zapalovacího kabel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víčky se volí dle zápalnosti paliva se vzduchem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říliš chudá směs s velkým přebytkem vzduchu nebo směs příliš bohatá má malou rychlost hoření či je nezápalná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ZAPALOVACÍ SVÍČK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092320" cy="329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484360" y="476280"/>
            <a:ext cx="6434280" cy="565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47600" y="58053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00" y="49417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r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638440" cy="3438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59280" y="189000"/>
            <a:ext cx="5676840" cy="590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8880" y="33577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8880" y="37893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5600" y="58053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r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044960" cy="590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4465800" cy="340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162240" cy="245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4520" y="58053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9600" y="5493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99960" y="37162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ZAPALOVACÍ SYSTÉMY ZÁŽEHOVÝCH SPALOVACÍCH MOTORŮ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)magnetoelektrické zapalování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energie získávána z otáčivého pohybu spalovacího motor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otřebná energie se naakumuluje v magnetickém poli magneta či odděleného magnetického obvodu zapalovací cívk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magneto je v podstatě alternátor s permanentními magnety upravený pro potřeby zapalován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na statoru magneta navinuta cívk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ffff"/>
                </a:solidFill>
                <a:latin typeface="Arial"/>
              </a:rPr>
              <a:t>při otáčení rotoru se indukuje napětí přímo do primárního vinutí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5976720" cy="501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566100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…rotor     2…s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…vinutí cívky    4…přerušova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40053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otocykl Laurin a Klement s magnetoelektrickým zapalováním tvořeným indukční cívkou vlastní konstru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49360"/>
            <a:ext cx="2482560" cy="3311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7240" y="549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6880" y="35002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0-12-27T17:05:27Z</dcterms:modified>
  <cp:revision>277</cp:revision>
  <dc:subject/>
  <dc:title>POSLOUPNOSTI</dc:title>
</cp:coreProperties>
</file>