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85D-47BB-41B3-AEEC-86E366F7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468-DA0F-497F-BC34-7D41417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11C-D3F2-4D2F-AF60-204686E2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B54-8035-4215-BE1C-059F0BB7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D51-7177-4026-8916-4BA7F97A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A72-05C8-4E6C-B2FB-42BA027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E69-E256-4A76-A703-F8DED94D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868-7E62-45B8-8673-AE0E2D3E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E8B-6D28-4605-9C67-7589FA6E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199-5D3D-47B2-9163-A92E3BA6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FA9-BF9E-4FD6-AE8D-B7010E7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E12-EA4C-41D3-9A4B-CD529B3E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F736-D5A8-4B5A-8DA5-A766B49FF1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odni-tepelne-elektrarny.cz/princip-tepelne-elektrarny" TargetMode="External"/><Relationship Id="rId2" Type="http://schemas.openxmlformats.org/officeDocument/2006/relationships/hyperlink" Target="http://www.energetickyporadce.cz/slovnik/fluidni-kotel.html" TargetMode="External"/><Relationship Id="rId3" Type="http://schemas.openxmlformats.org/officeDocument/2006/relationships/hyperlink" Target="http://www.energetickyporadce.cz/slovnik/fluidni-kotel.html" TargetMode="External"/><Relationship Id="rId4" Type="http://schemas.openxmlformats.org/officeDocument/2006/relationships/hyperlink" Target="http://www.energetickyporadce.cz/slovnik/fluidni-kotel.html" TargetMode="External"/><Relationship Id="rId5" Type="http://schemas.openxmlformats.org/officeDocument/2006/relationships/hyperlink" Target="http://www.energetickyporadce.cz/slovnik/fluidni-kotel.html" TargetMode="External"/><Relationship Id="rId6" Type="http://schemas.openxmlformats.org/officeDocument/2006/relationships/hyperlink" Target="http://www.energetickyporadce.cz/slovnik/fluidni-kotel.html" TargetMode="External"/><Relationship Id="rId7" Type="http://schemas.openxmlformats.org/officeDocument/2006/relationships/hyperlink" Target="http://oei.fme.vutbr.cz/jskorpik/index.html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ba pá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371628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áškové ohniš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škové uhlí je vháněno stlačeným vzduchem spec. hořáky do ohn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ášek má větší povr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spalování probíhá rychle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ploty 1000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17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a) granulační – odpad ve formě škv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b) výtavná – odpad odtéká spodním otvorem – str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asická elektrá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cká elektrá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motrubný k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075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á válcová nádoba, výparník tvořený svislými (strmými) trub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chlejší oběh vody, pára rychleji vystupuje do bub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ájecí voda bývá demineraliz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vysokých tlacích páry bývá v okruhu zařazeno čerpa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vysoké tlaky a teplotu páry, velké hmotností průtoky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115920"/>
            <a:ext cx="842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motrubný kotel s fluidním ohniště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89640" cy="51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ní ohniš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mně rozemleté uhlí  se předehřívá  a vhání pod tlakem do ohniště, je spalováno ve fluidní vrstvě – ve vznos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ou regulací teploty lze dosáhnout snížení nežádoucích zplodin, zejména 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směsi lze přidávat i další práškové látky, které na sebe váží například oxid siřičit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uidního spalování bylo poprvé vyzkoušeno v USA 19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škeré  popeloviny opouštějí kotel se spalinami jako vychlazený popílek, který je zachycen v prvním stupni v cyklónovém odlučovači a ve druhém stupni v tkaninovém nebo elektrostatickém filt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asická elektrá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2834" t="31496" r="16684" b="0"/>
          <a:stretch/>
        </p:blipFill>
        <p:spPr>
          <a:xfrm>
            <a:off x="4462560" y="1844640"/>
            <a:ext cx="4681440" cy="388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9316" t="0" r="19316" b="0"/>
          <a:stretch/>
        </p:blipFill>
        <p:spPr>
          <a:xfrm>
            <a:off x="0" y="189000"/>
            <a:ext cx="4683240" cy="61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2675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vodni-tepelne-elektrarny.cz/princip-tepelne-elektrar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ergetickyporadce.cz/slovnik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uidn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kote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htm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oei.fme.vutbr.cz/jskorpik/index.htm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cyklopedie energie, Č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opal V., Adámek J., Hofírek M.: Stavba a provoz strojů IV, Konstrukční uspořádání, provoz a údržba, SNTL Praha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mka V., Barták J., Milčák P., Žitek P.: Stavba a provoz strojů, Stroje a zařízení, Informatorium Prah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ní generátory – parní ko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řízení pro výrobu vodní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ájecí voda vstupuje do ko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ohříváku vody se ohřívá na bod v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 výparníku (za přívodu tepla) se voda vypařuj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sytá p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 přehřívák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a přívodu tepl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přehřátá pá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avní části kot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livové hospodář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řáky, ohniště, systémy čištění sp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řívák vzduchu – ekonomiz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řívák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par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hřívák pá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hřív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e účelu použi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413000"/>
            <a:ext cx="66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700280"/>
            <a:ext cx="259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áren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pláren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výtop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spalov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odpadní te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kot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1916280"/>
            <a:ext cx="25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komo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dn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1784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e konstruk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4317840"/>
            <a:ext cx="201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e obě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507348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álcové - velkoprostor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motrubné - bubn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50734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rozený obě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ený obě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e typu ohniš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413000"/>
            <a:ext cx="66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1330200"/>
            <a:ext cx="27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št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áškové granula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áškové výtav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i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42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e tlaku vyráběné pá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4221000"/>
            <a:ext cx="511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otlaké – tlak páry do 0,05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ředotlaké – tlak páry 0,05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,6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okotlaké – tlak páry 1,6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6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vysokotlaké - tlak páry nad 16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1330200"/>
            <a:ext cx="27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tuhá p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kapalná p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plynná p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álcový kotel s roštovým ohniště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496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štové ohniš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sové palivo je spalováno na litinovém roštu (mříž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ízká intenzita spal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plo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7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ezený výkon do 150 tun páry za hodi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cový (velkoprostorový) k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l na přelomu 18. a 19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ec ohřívaný plamenem a spalinami po celé dé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da proudí velmi pom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ára se odvádí sběračem umístěný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horní části bub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oduchý kotel, omezený výkon, malý tlak, nízká teplota páry, malá ú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75640" cy="5112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75280" y="5300280"/>
            <a:ext cx="316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sokotlaký granulační parní ko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15920"/>
            <a:ext cx="842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motrubný kotel s práškovým ohniště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1:43:31Z</dcterms:created>
  <dc:creator>VOŠ a SPŠ Strakonice</dc:creator>
  <dc:description/>
  <dc:language>en-US</dc:language>
  <cp:lastModifiedBy>VOŠ a SPŠ Strakonice</cp:lastModifiedBy>
  <dcterms:modified xsi:type="dcterms:W3CDTF">2010-11-28T20:22:54Z</dcterms:modified>
  <cp:revision>45</cp:revision>
  <dc:subject/>
  <dc:title>Klasická elektrárna</dc:title>
</cp:coreProperties>
</file>