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1.wmf" ContentType="image/x-wmf"/>
  <Override PartName="/ppt/media/image26.png" ContentType="image/png"/>
  <Override PartName="/ppt/media/image28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27.png" ContentType="image/png"/>
  <Override PartName="/ppt/media/image12.wmf" ContentType="image/x-wmf"/>
  <Override PartName="/ppt/media/image31.png" ContentType="image/png"/>
  <Override PartName="/ppt/media/image29.png" ContentType="image/png"/>
  <Override PartName="/ppt/media/image3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6.png" ContentType="image/png"/>
  <Override PartName="/ppt/media/image36.png" ContentType="image/png"/>
  <Override PartName="/ppt/media/image5.wmf" ContentType="image/x-wmf"/>
  <Override PartName="/ppt/media/image30.png" ContentType="image/png"/>
  <Override PartName="/ppt/media/image3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78E-D029-429B-BF1D-F30B8D20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628-37EE-46E2-AD1A-C1C67A0D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779-8478-42EF-BD78-8F7B8933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963-9B74-4553-8A0A-30669E57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CF3-7678-4541-89E4-C90B4187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4DE-7033-4795-AD8A-150A0F13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AB1-F9A7-4082-8943-788C6658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30B-EB70-41F6-88ED-6406F2B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F35-CDB3-4546-9EEB-36139384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60B-98D8-464B-9FD9-D6F1DD53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F37-8384-4B0E-956F-56EB4FA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47C-A9D9-4A2E-B146-A1162178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5245-D88F-41C5-AE5C-45A777906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4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24000"/>
            <a:alphaModFix amt="10000"/>
          </a:blip>
          <a:srcRect l="31005" t="17717" r="17717" b="17717"/>
          <a:stretch/>
        </p:blipFill>
        <p:spPr>
          <a:xfrm>
            <a:off x="3203640" y="2924280"/>
            <a:ext cx="3119400" cy="294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vá lož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35640" y="5300280"/>
            <a:ext cx="29131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a ing. Dana Šejvl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áč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áčky jsou omezeny přípustnou provozní teploto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ízké tření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ízký vývin tep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vyšších otáček dosahují kuličková ložiska  a naklápěcí kuličková ložiska při čistě radiálním zatížení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uličková ložiska s kosoúhlým stykem při kombinovaném zatížení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konstrukčních důvodů nemohou axiální ložiska dosáhnout tak vysokých otáček jako radiální loži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chý chod, tuh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áčky, při nichž mohou ložiska pracovat, jsou omezeny přípustnou provozní teplotou. Typy ložisek, které se vyznačují nízkým třením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dy i nízkým vývinem tepla, jsou nejvhodnější pro vysoké otáč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vyšších otáček dosahují kuličková ložiska a naklápěcí kuličková ložiska při čistě radiálním zatížení a kuličková ložiska s kosoúhlým stykem při kombinovaném zatíž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í to především pro vysoce přesná kuličková ložiska s kosoúhlým stykem nebo kuličková ložiska s keramickými valivými těle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konstrukčních důvodů nemohou axiální ložiska dosáhnout tak vysokých otáček jako radi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áž a demontá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145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ěsn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3500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3500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3716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557360"/>
            <a:ext cx="5545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Úkoly těs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bránit vniknutí nečis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bránit vytékání maz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hy těsn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ěsnění je součástí lož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ěsnění leží mimo loži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ěsnění integrovan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867280" y="2060640"/>
            <a:ext cx="1476360" cy="1560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84720" y="4149720"/>
            <a:ext cx="1814760" cy="1611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4038480" cy="1538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3500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3500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3716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37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y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43640" y="57340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ěsnění s nízkým tř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57340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aktní těs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197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žiska mohou být opatřena těsněním po jedné či obou stranách – v tomto případě je ložisko naplněno plastickým maziv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2205000"/>
            <a:ext cx="4751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žívá se v případech, k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ze účinně těsnit vnějším těsně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nedostatek mí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ekonomických dů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ěsnění vnějš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269892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90920" y="269892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3280" y="2698920"/>
            <a:ext cx="1619280" cy="161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16000" y="3500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3716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1970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ěsnění pevných (nepohyblivých) součástí - sta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ěsnění, která se dotýkají pohyblivých ploch - dynam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kontaktní těs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800760" y="269892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39640" y="46782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2590920" y="4581360"/>
            <a:ext cx="1790640" cy="1771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641840" y="4581360"/>
            <a:ext cx="1771560" cy="179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6800760" y="4653000"/>
            <a:ext cx="1838520" cy="17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79640" y="35989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7480" y="359892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16000" y="3500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716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19700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chá těs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ěsnění O krou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účinnost závisí na deformaci v průřezu po montáž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ěsnění pevných (nepohyblivých) součá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3500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3716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052640"/>
            <a:ext cx="8209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cpávky, pístní kroužky - pro součásti vykonávající přímočarý pohy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stěnné kroužky – plastická maziva, malé rychlosti otáč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řídelové těsnící kroužky (Gufera) – pro součásti ro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krou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ěsnění, která se dotýkají pohyblivých plo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920" y="28782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78200" y="28782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517840" y="28782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16360" y="50371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ufero zabraňuje unikání maz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ufero zabraňuje vnikání nečis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837480" y="28782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948360" y="503712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krouže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áčí se s hřídelí, břitem tlačí na nepohyblivé víč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50371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stěný krouže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d vložením do drážky se napouští ohřátým ole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16000" y="3500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371628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1197000"/>
            <a:ext cx="8064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zkontaktní těsn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37782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14382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37120" y="14382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03640" y="55054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ální labyrintové radiální labyrint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55054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árové těsnění účinnost zvětšena drážkami v hříd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elové těs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39640" y="14382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346560" y="37782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5937120" y="37782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24360" y="550548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pružným kovovým krouž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324480" cy="53294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ožení ložise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uží pro zachycování radiálních a axiálních posuvů a sil podle druhu použitého ložiska a jeho u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ze použít pro vysoké otáčky a tepl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hodná pro rázová zatí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innost 0,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á délka v porovnání s kluznými loži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tší průměry v porovnání s kluznými loži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é nároky na údržb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lerance tvaru a polohy na hřídeli a v těle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59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počet valivých ložis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628640"/>
            <a:ext cx="81532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tická únosnost –  zatížení ložiska za klidu, při pomalém kývání nebo otáčení.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tická únosnost valivého ložiska C</a:t>
            </a:r>
            <a:r>
              <a:rPr b="1" lang="cs-CZ" sz="18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[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ynamická únosnost –  zatížení ložiska při (rychlém) otáčení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eznamená proměnlivost zatížení !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vanlivost ložisek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kladní trvanlivost L - kterou dosáhne nebo překročí 90 % ložisek při daném zatížení než vzniknou první známky únavy materiálu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vanlivost a životnost se vyjadřují v hodinách nebo milionech otáček chodu loži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380880"/>
            <a:ext cx="88200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kladní statická únosn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rovna jednoduchému (radiálnímu a axiálnímu) "statickému" zatížení F[N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341360"/>
            <a:ext cx="60958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dnoduché zatí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≤ C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/ s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[ N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r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[N] ... statické rad. zatížení pro rad. lož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a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[N] ... statické ax. zatížení pro ax. lož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3141720"/>
            <a:ext cx="723888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mbinované zatíž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radiální a axiální silou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r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a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e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.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r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.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a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≤ C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/ s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[ N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e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[N] ... ekvivalentní statické zatí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... součinitel statického radiálního zatí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... součinitel statického axiálního zatí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0,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,5) … "statická" bezpečnost ložiska (viz 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ty C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další jsou uvedeny v katalozích a ve 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kladní dynamická únos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[N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143000"/>
            <a:ext cx="708660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ynam. únosnost C[N] je rovna jednoduchému "dynamickému" zatížení F[N], při němž je základní trvanlivost L = 1.10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ot. (pro 90% ložis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= ( C / P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[ 1.10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ot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 = 3 ... pro kuličková lož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 = 3,3 ... pro válečková, jehlová, soudečková a kužel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rvanlivost valivého ložiska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dnoduché zatížení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 = F[N] … "dynamické" zatížení lož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… "dynamické" rad. zatížení pro rad. lož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… "dynamické" ax. zatížení pro ax. lož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3733920"/>
                <a:ext cx="4348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667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609480" y="457200"/>
            <a:ext cx="754380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Kombinované a proměnlivé zatíž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tížení radiální a axiální silou Fr a 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 =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X . V .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+ Y . F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[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X … součinitel dynamického radiálního zatí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Y … součinitel dynamického axiálního zatí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… rotační součinitel (vliv otáčení vnitř. kroužku vůči zatíž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= 1 … při obvodovém zatížení vnitřního kroužku loži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= 1,2 … při bodovém zatížení vnitřního kroužku loži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4876920"/>
            <a:ext cx="48769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 [ min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] … rychlost otá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 [ h ] … požadovaná trvanliv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000" spc="-1" strike="noStrike" baseline="-30000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 ÷ 1,5) … "dynamická" bezpečn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. Kříž: Stavba a provoz stro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. Zelený: Stavba strojů – strojní sou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emní katalogy S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ákladní rozdělení ložis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18000"/>
          </a:blip>
          <a:srcRect l="0" t="5906" r="8346" b="0"/>
          <a:stretch/>
        </p:blipFill>
        <p:spPr>
          <a:xfrm>
            <a:off x="4356000" y="1133640"/>
            <a:ext cx="4524480" cy="472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>
            <a:lum bright="12000"/>
          </a:blip>
          <a:srcRect l="24024" t="0" r="20097" b="12677"/>
          <a:stretch/>
        </p:blipFill>
        <p:spPr>
          <a:xfrm>
            <a:off x="324000" y="1052640"/>
            <a:ext cx="3730320" cy="4371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5445000"/>
            <a:ext cx="187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diál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5445000"/>
            <a:ext cx="144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xiál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6920" y="549360"/>
            <a:ext cx="7632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itéria pro volbu loži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torové náro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íž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ouos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á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hý c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ální posu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áž a demontá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ěs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náro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159280" cy="265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27280" y="1628640"/>
            <a:ext cx="3267000" cy="266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404640"/>
            <a:ext cx="698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ypy ložisek dle valivých element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628640"/>
            <a:ext cx="1800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lič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hl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áleč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želí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deč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oi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85200">
            <a:off x="6451560" y="0"/>
            <a:ext cx="2103480" cy="2852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05228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vá lož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7993080" cy="2000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5084640"/>
            <a:ext cx="83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ličkov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nější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vali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klec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mazání     těs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žisk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nitřní krouž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storové náro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nitřní průměr ložiska – závisí na průměru hřídele, konstrukci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nější průměr – v případě nedostatku místa je možné využít jehlové loži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392720" cy="24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tížení loži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8487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ikost zatížení určuje velikost loži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stejných rozměrech ložiska přenáší ložiska s čárovým stykem větší zatížení než ložiska s bodovým stykem (kuličkov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 zatí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ál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– axiál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– kombin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3957480"/>
            <a:ext cx="2738160" cy="2159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780000" y="3933720"/>
            <a:ext cx="2087280" cy="215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227640" y="3957480"/>
            <a:ext cx="2592360" cy="21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souos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6264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hnutí hřídele vlivem zatí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ká vzdálenost loži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4968720" cy="1844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03640" y="3933720"/>
            <a:ext cx="496872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3:04:59Z</dcterms:created>
  <dc:creator>ucitel</dc:creator>
  <dc:description/>
  <dc:language>en-US</dc:language>
  <cp:lastModifiedBy>ucitel</cp:lastModifiedBy>
  <dcterms:modified xsi:type="dcterms:W3CDTF">2012-01-09T13:46:22Z</dcterms:modified>
  <cp:revision>36</cp:revision>
  <dc:subject/>
  <dc:title>Valivá ložiska</dc:title>
</cp:coreProperties>
</file>