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0D02-7F3C-4670-A64F-B3E484305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62FC-1707-4708-BC71-E7FFEC1AE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93CB-64FD-4AA7-8018-8CFB70582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8B97-5E02-4CF0-BE39-B0AA372C1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37DB1-9AA3-4C9A-B07A-82C133C9E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1DEAA-6A89-440D-9B4A-E52C7EF5D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D41B6-4649-43E6-81EB-FBADC59F9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B9F4A-E9CD-4E8F-A505-B6D1ABC7C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33551-DE72-4566-A313-1E1A3FC89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DAAF6-37DC-4820-B55B-A3C12EB6D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2AB75-E807-4887-9E37-B7696C592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19E5-03B6-4285-8039-B7967BAE7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E4B7F-0DF8-4C69-83E2-9BF1BFB0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92E24-17AE-4E0B-B76B-DCAD31F21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6664B-DA04-43E9-932E-86508B624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5ED4F-3A32-437D-BCBB-15E00B077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68FD0-5657-4ABD-904E-53D411F83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C481-FBD7-4123-803F-9FCCF24A4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9E01-5D9F-447E-ADEC-12A72F2B5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A02C-B970-4CEE-8F0A-B6E7CE156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EE70-63A5-4879-8B69-064DC9124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78CC-1782-41C8-BAAA-3C02E0828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2F9C-A9E4-4C61-A1AE-134DE8EC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45EE-896A-453B-95D9-B021A1AF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3972A-B467-4640-A793-65BB9019E1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B41F6-E22E-467E-BA70-4A1508180A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cs.wikipedia.org/wiki/Soubor:SMAW.welding.af.ncs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en.wikipedia.org/wiki/File:Underwater_welding.jpg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ecff"/>
                </a:solidFill>
                <a:latin typeface="Arial"/>
              </a:rPr>
              <a:t>Svarové spoje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19280" y="2708280"/>
            <a:ext cx="2489040" cy="28083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88000" y="2924280"/>
            <a:ext cx="2952720" cy="22143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5"/>
          <a:stretch/>
        </p:blipFill>
        <p:spPr>
          <a:xfrm>
            <a:off x="1116000" y="189000"/>
            <a:ext cx="6769080" cy="104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onstrukční zásad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Obrábět až po svaření obr.3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vary co nejmenší a nejkratš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dlouhé svary – přerušovan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tloušťka svaru t = (0,7-1)*s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Arial"/>
              </a:rPr>
              <a:t>min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(obr.3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min.dopor.tloušťka t = 4 m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délka přerušovaného svaru l = (5-40)* 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onstrukční zásad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hromadit svary na jednom míst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řístupnost při svařování (45°) velké množství výztuh – pnutí a deform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ýztuhy bez ostrých hra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jlépe bez obrábění svar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447840" y="332280"/>
            <a:ext cx="7074000" cy="30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Příklady provedení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79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                                                </a:t>
            </a:r>
            <a:r>
              <a:rPr b="0" lang="en-US" sz="17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                                   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3960720" cy="375912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643280" y="1844640"/>
            <a:ext cx="3695760" cy="431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pakování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teré materiály je možno svařova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ký je rozdíl mezi tavným a tlakovým svarem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ké znáte konstrukční zásady pro svařenc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ké jsou výhody svařování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ké jsou nevýhody svařování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de se svařování používá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Zdroj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Jiří Zelený: Stavba strojů a strojní součásti I., Computer Press, Brno, 200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http://svarovani.navajo.c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http://cs.wikipedia.o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http://www.esab.c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http://www.svarovani.c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http://wikipedia.infostar.cz/w/we/welding.ht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http://www.ingro-machine.cz/clanky/51-svarovani-svareni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fini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vařování je spojování kovových součástí, ale i součástí z plastů, v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rozebíratelný cele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ůsobením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pla nebo tlak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 většinou s použitím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davného materiál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tejného nebo podobného složení a mechanických vlastností jako má spojovaný materiál a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avením základního materiál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rovedení spoj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vné a tlakov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vné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natavení svař.materiálu a přídavného materiálu plamenem nebo el.odpor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řídavný materiál – ocelový drát,elektro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lakové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materiál se ohřeje do plastického stavu a tlakem se spoj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ýhod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sažitelnost technolog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valita svar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ysoká produktivi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užití i mimo záv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ší hmotn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vnější výrob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evýhod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valifikace pracovní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host a nepoddajnost spo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nutí a deform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dlišná svařitelnost materiál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Úprava ploch před svařování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onstrukční zásad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vařitelno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 způsobilost materiálů k vytváření dobrého svarového spoje tak, aby svar i okolí jím ovlivněné odpovídaly požadavkům na ně kladeným pro daný úč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aručená,dobrá,obtížn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jpoužívanější – 11343,11373,11523,120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onstrukční zásad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žíhání k odstranění vnitřního pnut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 složitějších svařenc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ředpis na výkres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plňková číslice 11373.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d popisové pole PO SVAŘENÍ ŽÍHÁNO K ODSTRANĚNÍ VNITŘNÍHO PNUT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onstrukční zásad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19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hy svar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p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utov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4788000" y="3716280"/>
            <a:ext cx="3024000" cy="22687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788000" y="1484280"/>
            <a:ext cx="3024000" cy="19652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908000" y="2492280"/>
            <a:ext cx="2737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411280" y="3141720"/>
            <a:ext cx="2089440" cy="208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4248000" cy="31798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3780000" y="2708280"/>
            <a:ext cx="4968720" cy="32986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4572000" y="1268280"/>
            <a:ext cx="388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varové spoje v automobilovém průmysl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17:46:02Z</dcterms:created>
  <dc:creator>petra</dc:creator>
  <dc:description/>
  <dc:language>en-US</dc:language>
  <cp:lastModifiedBy>kABINET-413</cp:lastModifiedBy>
  <dcterms:modified xsi:type="dcterms:W3CDTF">2010-12-02T10:26:16Z</dcterms:modified>
  <cp:revision>14</cp:revision>
  <dc:subject/>
  <dc:title>Svarové spoje</dc:title>
</cp:coreProperties>
</file>