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195-B225-4A9C-A6E8-113E1ABED0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B7B9-ABD1-427A-A5C3-923F620E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8693-13E4-46D2-BCFA-4BF5CA4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4CFA-EB0A-4B83-8A39-F289633C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2BA8-235D-4707-9188-A57CB3A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FCB2-2B8B-477E-8B6A-F9FB3EA7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39C8-6517-45F7-A3A9-100AA56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AD5-F33C-4AA5-ACBC-143E685B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7C0-9B8C-4A77-B1DA-42ED56E2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389-89BB-4326-BBE2-982C64A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9F81-D054-47D3-AF2B-AA093DB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5E38-9045-4ADE-8971-FBDE75D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7CEC-CE5F-4CA7-9EAB-E5F37E50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F71-3712-45A7-9B06-4835A28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CF5A-7478-4976-8B3D-A341D6E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902-2FD7-4C99-9AC8-2BC7CD96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1A49-7D31-40AD-90F0-E9411E02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8888-AE93-44D8-8A25-085A5BDC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D743-93F6-46AD-818B-91B66D65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65AC-AA06-48DC-91EE-C884203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022B-B6BA-4219-9450-97C39C5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6D8D-4DF1-43FC-B162-8A1FE19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7072-CA16-4913-A2C0-186B411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86C4-7387-49B4-9D42-C8A5577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BD60-CAB8-4FCD-B5A2-F468137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564-05CD-43CA-8453-6E0B6BE95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1B8D-518A-485A-AC60-19E359F9A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ní turbín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16360" y="43657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408120" cy="533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84720" y="134136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62064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49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urtisův stupe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413000"/>
            <a:ext cx="417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žňuje zpracovat v jednom stupni větší tepelný spád než umožňuje stupeň přetlakový (reakční) nebo rovnotlaký (akč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br. dvouvěncový Curtisův stupeň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– rozváděcí statorová lopatková ř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– rotorové lop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 – vratné lop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řetlaková parní turbína s C - ko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632720" cy="52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denzační a protitlaká parní turbí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521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patkové stroje v parních elektrárnách a teplár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18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56944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NÍ TURBÍ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7840" y="198072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ační lopatkové 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elná energie páry se mění v energii kinetickou – kroutící moment na hříd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on generátoru – výroba el. r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on čerpadel, turbodmýchadel, turbokompres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on lo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83 Laval – rovnotlaká turb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84 Parsons – přetlaková turb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parní turbí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avalova turbín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r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287880" cy="37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2789280" cy="32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NÍ CY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pelný oběh přeměny tepla v mechanickou ener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zobarický ohřev vody na teplotu va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ařování v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řev pá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ze v turbí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denzace páry na vo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350400">
            <a:off x="4499280" y="4005360"/>
            <a:ext cx="4464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daje parního oběhu elektrárny 20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tl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,5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a va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a páry na vstu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65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a za kondenzát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 kPa, 29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rmická účin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denzační parní turb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672000" cy="518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DĚLENÍ PARNÍCH TURB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e způsobu přeměny tlakové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vnotla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tla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e výstupu páry z turbí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denz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itla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ěr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řihříváním pá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e počtu pracovních stupň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stupň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ícestupň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921800" cy="5111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vnotlaká parní turbí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řetlaková parní turbí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47160" cy="39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9:00:12Z</dcterms:created>
  <dc:creator>VOŠ a SPŠ Strakonice</dc:creator>
  <dc:description/>
  <dc:language>en-US</dc:language>
  <cp:lastModifiedBy>ucitel</cp:lastModifiedBy>
  <dcterms:modified xsi:type="dcterms:W3CDTF">2012-01-09T14:00:25Z</dcterms:modified>
  <cp:revision>29</cp:revision>
  <dc:subject/>
  <dc:title>PARNÍ TURBÍNY</dc:title>
</cp:coreProperties>
</file>