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BDC-ABC3-4B43-A033-76FE33EF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F83-C21B-4A2D-B215-22B70ED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B8F-C232-43F7-B4EB-D59B4737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354-E7FF-40D9-AD89-D35DF9A7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D5B-D116-4267-8D15-2E763E41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F14-5C20-422C-B893-032926F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29C-B77E-4A78-888E-114E60A9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9AD-22C4-4704-87E2-FBC6CEB9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114-7B81-4FEB-AD3C-E2585CD4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741-6392-4C62-B683-5B14552D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F20-5D31-474E-AA80-09EB311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6A5-4364-4532-9BA6-6991C4F8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293-9BC6-4CF2-9911-2A7505F2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ájené a lepené spo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ovní teplota při páj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ájení naměkk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 tavidlem. Pracovní teplota je pod 500°C. Použití: Nejsou-li na pevnost pájeného spoje kladeny příliš vysoké požadavky, spojení však má být těsné a dobře vodivé. Pájka nesmí být namáhána mechanic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ájení natvr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 tavidlem, v ochranném plynu nebo ve vakuu. Pracovní teplota je nad 500°C. Použití: na spoje s vyšší pev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sokoteplotní páj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 ochranném plynu nebo ve vakuu. Pracovní teplota je nad 900°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pájených spoj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nosové páj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pilární páj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úzká spá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árové pájen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široká spá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ájk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o pájky jsou používány především slitiny kov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ěkké páj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lovo, cín, zi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vrdé páj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- mosaz, bro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sokoteplotní páj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apř. slitiny stří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vary páje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če, dráty, fólie, pásy, vlákna, pájecí prášek, pájecí pasty. Při pájení velkých sérií se tvar pájky přizpůsobuje pájenému mí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 tavení pájky musí být zásadně pod bodem tavení součásti, které mají být pájením spoje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980320" cy="4486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07960" y="529992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ácí výroba plošných spoj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vid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vidla jsou nekovové látky, které odstraňují oxidy z pájeného povrchu a které mají zamezovat  jejich nové tvor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pájená místa jsou nanášena ve formě kapaliny nebo pas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ytky tavidla je nutno po pájení odstranit, neboť by mohla způsobit kor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vidla pro pájení těžkých kovů naměk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ájecí vo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roztok chloridu zinku a chloridu amonného s obsahem kyselin, korodující, účinná teplota: 140°C …..450°C. Zbytky tavidla musí být omyty teplou vod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žití: na silně oxidované těžké kovy jako ocel, měď, slitiny mědi a cí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ájecí pa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lej, směs zinko-chloridu a chloridu amonného s organickými tuky ve formě pasty nebo jako kapalná směs, podmínečně korodující, účinná teplota: 200°C…..400°C. Zbytky se umývají ředid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lafuna, organická pryskyř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korodující, účinná teplota: 200°C…..400°C. Používá se jako prášek nebo v jádru pájecích drátů převážně k pájení naměkko v elektrotechnice a elektronice. Zbytky mohou na spájeném místě zů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vidla pro pájení těžkých kovů natvr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-SH 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jsou sloučeniny bóru a fluoridů, oblast účinné teploty 550°C….80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: u  pracovních teplot přes 600°C, tavidlo pro stříbrné páj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-SH 2 (borax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sloučeniny bóru, oblast účinné teploty: 750°C….110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: u pracovních teplot přes 800°C, tavidlo pro tvrdé pájky ze slitiny mědi a z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-SH 3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loučeniny bóru, silikáty a fosfáty, účinné teploty přes 100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: tavidlo pro vysokotavné tvrdé páj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pené spo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47328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lepených sp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ozebíratelný spoj materiálovým sty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oj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e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ájené sp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857760" cy="27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960720" cy="312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20680" y="50364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a lepeného sp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50880" y="2277360"/>
            <a:ext cx="3156840" cy="1646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 adherend (základní materiá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 adhezní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 přechodová kohezní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, kohezní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, přechodová kohezní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, adhezní z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e kovových i nekovových materi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pení pouzder loži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roba měři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pení obložení na kotouče spojek a br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ravy odlit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o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pení plastů, skla, dř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114960" cy="538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ití lepených sp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38400" y="1047600"/>
            <a:ext cx="6667200" cy="47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566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pení různých materiálů dohrom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dné proved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ě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ladký pov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hodné pro vyšší teploty a agresiv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ěkterá lepidla  mají malou odolnost proti stárnu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menší zatíž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á spára cca 0,1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tloušťka spáry = menší pevnost s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největší styková plocha obr.47 str.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pidla na bázi epoxidové a formaldehydové pryskyřice – pro ko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pidla na bázi syntetických kaučuků – pro nekovové mater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zefyr-grp.com/files/content/image/valcovy_lepeny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oblibene.cz/userdata/shopimg/lepidla/Image/obr.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mlab.cz/Articles/HowTo/How_to_make_PCB/DOC/HTML/How_to_make_PCB/Pistolka_Pajeni_Big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tmelektro.cz/_pict/tistak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zetor25dily.ic.cz/nt/1/2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pájených sp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ozebíratelné spoje materiálovým stykem pomocí přídavného materiál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áj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ení nastává difúzí (prolínání) pájky a spojovaného materi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ované materiály se neroztav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ocel, šedou litinu, barevné kovy, Al, slinuté karbidy, kovokeramické sli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ájení SK (řezné nástroje), pájení pozink. plechů, elektrotechnika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5021.1/D05/135x40 - Kliknutím na obrázek zavřete -"/>
          <p:cNvPicPr/>
          <p:nvPr/>
        </p:nvPicPr>
        <p:blipFill>
          <a:blip r:embed="rId1"/>
          <a:stretch/>
        </p:blipFill>
        <p:spPr>
          <a:xfrm>
            <a:off x="468360" y="476280"/>
            <a:ext cx="3778200" cy="336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ití pájených sp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4560" y="3571920"/>
            <a:ext cx="67870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ázek MIG pájeného přeplátovaného spoj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G pájení"/>
          <p:cNvPicPr/>
          <p:nvPr/>
        </p:nvPicPr>
        <p:blipFill>
          <a:blip r:embed="rId1"/>
          <a:stretch/>
        </p:blipFill>
        <p:spPr>
          <a:xfrm>
            <a:off x="287280" y="1341360"/>
            <a:ext cx="885672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0464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ití pájených sp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oruší se mechanické, elektrické a magnet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ájením mohou být spojovány všechny běžné kovy, rovněž sklo a ker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hou být spojovány konstrukční součásti s velkými rozdíly síly st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ájecí teploty jsou značně nižší než při svařování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ší pnutí a napětí, která vznikají důsledkem rozdílných te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ájené spoje jsou vodotěsné a také elektricky vodiv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ročnost (čistota povrchu před pájení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k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evším u pájení naměkko je dosahováno jen malé pevnosti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ájené spoje jsou napadnutelné korozí – vzhledem k rozdílným materiálům pájky a základního materiálu (rozdíly potenciál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důvodu malých tolerancí na spáry mezi materiály musí být příprava obrobku přes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52:27Z</dcterms:created>
  <dc:creator>VOŠ a SPŠ Strakonice</dc:creator>
  <dc:description/>
  <dc:language>en-US</dc:language>
  <cp:lastModifiedBy>kABINET-413</cp:lastModifiedBy>
  <dcterms:modified xsi:type="dcterms:W3CDTF">2010-09-27T09:35:38Z</dcterms:modified>
  <cp:revision>28</cp:revision>
  <dc:subject/>
  <dc:title>Pájené spoje</dc:title>
</cp:coreProperties>
</file>