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F42-49E6-4227-A173-47712AD4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5FD-ADE2-4227-93E8-FEF2BDB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274-1142-4B78-90BD-8EE9A0E5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9A9-DFF0-464A-9DDB-01405F5D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3F4-6C3F-4BA2-8A4E-9696E5FA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DDE-83D9-416B-B3BC-9678863E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02C-57DF-427A-B3B2-2F0E010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B30-60B7-40D8-896D-61864D59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0A7-0F4A-47A2-9577-B466074F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BC0-10AA-4697-BD4A-A55C85C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40B-64D3-4960-8BDB-F121E199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0C0-11CF-4023-91E4-63C4D2A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FC2E-9CC0-41FC-8454-2862DEF31C7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51D5-70A2-43B8-8D91-B82773D6E2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c/Cshaft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c/Cshaft.gif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pszr.cz/~blazicek/Projekt/klik_mech/klik_mechuzkr.gif&amp;imgrefurl" TargetMode="External"/><Relationship Id="rId2" Type="http://schemas.openxmlformats.org/officeDocument/2006/relationships/hyperlink" Target="http://www.fdhs.cz/obrazky/kolo.gif" TargetMode="External"/><Relationship Id="rId3" Type="http://schemas.openxmlformats.org/officeDocument/2006/relationships/hyperlink" Target="http://speedpro.cz/catalog/images/ojnice%2520lestene%2520skoda%2520racing.jpg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motorkari.cz/upload/images/cache/clanky/3339/20080101183226-7759_jpg_resize_900x800__type_jpg_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pszr.cz/~blazicek/Projekt/klik_mech/klik/klik_mech.htm" TargetMode="External"/><Relationship Id="rId2" Type="http://schemas.openxmlformats.org/officeDocument/2006/relationships/hyperlink" Target="http://www.spszr.cz/~blazicek/Projekt/klik_mech/klik/klik_mech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museum.spstrplz.cz/virtmus/pictures/mechanismy/kriz02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ikový mecha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celkovy_pohled"/>
          <p:cNvPicPr/>
          <p:nvPr/>
        </p:nvPicPr>
        <p:blipFill>
          <a:blip r:embed="rId2"/>
          <a:stretch/>
        </p:blipFill>
        <p:spPr>
          <a:xfrm>
            <a:off x="2771640" y="3357720"/>
            <a:ext cx="3600720" cy="259380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5"/>
          <p:cNvSpPr/>
          <p:nvPr/>
        </p:nvSpPr>
        <p:spPr>
          <a:xfrm>
            <a:off x="6357960" y="61437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g. Bc. Petra Řezáč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lik_mechuzkr"/>
          <p:cNvPicPr/>
          <p:nvPr/>
        </p:nvPicPr>
        <p:blipFill>
          <a:blip r:embed="rId1"/>
          <a:stretch/>
        </p:blipFill>
        <p:spPr>
          <a:xfrm>
            <a:off x="404640" y="1268280"/>
            <a:ext cx="8334720" cy="4286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oubor:Cshaf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7200720" cy="5418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pis mechan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mi prv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jnice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řižá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tní ty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cpáv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leso – kliková skří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í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uje se ve válci přímočaře vrat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dno působí tlak páry, kapaliny, vzduchu (plynu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amezení ztrát tlaku v pracovním prostoru je píst opatřen těsnícími kroužky nebo ucpávka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menšení hmotnosti jsou písty du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"/>
          <p:cNvPicPr/>
          <p:nvPr/>
        </p:nvPicPr>
        <p:blipFill>
          <a:blip r:embed="rId1"/>
          <a:stretch/>
        </p:blipFill>
        <p:spPr>
          <a:xfrm>
            <a:off x="1071720" y="642960"/>
            <a:ext cx="5715000" cy="470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ístní sada Yamaha DT 125 - kovaný píst"/>
          <p:cNvPicPr/>
          <p:nvPr/>
        </p:nvPicPr>
        <p:blipFill>
          <a:blip r:embed="rId2"/>
          <a:stretch/>
        </p:blipFill>
        <p:spPr>
          <a:xfrm>
            <a:off x="6300720" y="3645000"/>
            <a:ext cx="2521080" cy="2392200"/>
          </a:xfrm>
          <a:prstGeom prst="rect">
            <a:avLst/>
          </a:prstGeom>
          <a:ln w="0">
            <a:noFill/>
          </a:ln>
        </p:spPr>
      </p:pic>
      <p:sp>
        <p:nvSpPr>
          <p:cNvPr id="86" name="Line 6"/>
          <p:cNvSpPr/>
          <p:nvPr/>
        </p:nvSpPr>
        <p:spPr>
          <a:xfrm flipH="1" flipV="1">
            <a:off x="4140360" y="2781000"/>
            <a:ext cx="251928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00000" y="544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íst spalovacího mo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trukce pí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žadavky na píst: pevnost, odolnost, kluzné vlastnosti, malá tepelná roztažnost, slévatelnost nebo tvárnost, nízká cen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tiny a oceli na odlitky (odlitky, výkov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slitiny (odlitky, lisovan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ístní če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náší tlak plynů ve válci a setrvačné síly pístu na oj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mentační oceli – 12 020,14 2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tridační oceli 15 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aliz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máhání: ohyb, otlačení v okách pístu a v ojničním 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pisty3"/>
          <p:cNvPicPr/>
          <p:nvPr/>
        </p:nvPicPr>
        <p:blipFill>
          <a:blip r:embed="rId1"/>
          <a:stretch/>
        </p:blipFill>
        <p:spPr>
          <a:xfrm>
            <a:off x="684360" y="765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623_0"/>
          <p:cNvPicPr/>
          <p:nvPr/>
        </p:nvPicPr>
        <p:blipFill>
          <a:blip r:embed="rId2"/>
          <a:stretch/>
        </p:blipFill>
        <p:spPr>
          <a:xfrm>
            <a:off x="4716360" y="2852640"/>
            <a:ext cx="3810240" cy="3000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724360" y="21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ístní č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3347640" y="1916280"/>
            <a:ext cx="280836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j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pojená s pístem pomocí dutého pístního čep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konec je kloubově spojen s kl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konává pohyb obecně rovinný, protože jeden konec se pohybuje s pístem přímočaře a druhý koná rotační pohyb společně s kl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á změnu pohy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jnice_tvrde"/>
          <p:cNvPicPr/>
          <p:nvPr/>
        </p:nvPicPr>
        <p:blipFill>
          <a:blip r:embed="rId1"/>
          <a:srcRect l="-1054" t="0" r="0" b="0"/>
          <a:stretch/>
        </p:blipFill>
        <p:spPr>
          <a:xfrm>
            <a:off x="900000" y="549360"/>
            <a:ext cx="6767640" cy="4967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780000" y="566100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j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chanismy pro převod rotačního pohybu na pohyb přímočarý vratný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bo naopak pohyb přímočarý vratný na rota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tační pohyb na přímočarý (kompresory, pístová čerpad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močarý na rotační (spalovací motor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84360" y="112536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826920" y="1125360"/>
            <a:ext cx="7345440" cy="215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iková hří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dílná nebo slož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ásti: hlavní čepy, klikové čepy, ramena, příruba pro setrvač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éma uspořádání klik a ložisek – viz učeb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: oceli tř. 12,14,15,16, li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z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5829_226_zanovni-klika"/>
          <p:cNvPicPr/>
          <p:nvPr/>
        </p:nvPicPr>
        <p:blipFill>
          <a:blip r:embed="rId1"/>
          <a:stretch/>
        </p:blipFill>
        <p:spPr>
          <a:xfrm>
            <a:off x="1403280" y="90792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363528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ová hří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etrvačník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sazen na stejné hřídeli jako kl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á se o akumulátor kinetické energie, která se podle potřeby uvolňuje -&gt;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rovnání nerovnoměrnosti chod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jednoválcových strojů slouží k překonání krajních poloh pís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dc3"/>
          <p:cNvPicPr/>
          <p:nvPr/>
        </p:nvPicPr>
        <p:blipFill>
          <a:blip r:embed="rId1"/>
          <a:stretch/>
        </p:blipFill>
        <p:spPr>
          <a:xfrm>
            <a:off x="857160" y="500040"/>
            <a:ext cx="4608720" cy="375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064c4_dvouhmotovy_setrvacnik_3"/>
          <p:cNvPicPr/>
          <p:nvPr/>
        </p:nvPicPr>
        <p:blipFill>
          <a:blip r:embed="rId2"/>
          <a:stretch/>
        </p:blipFill>
        <p:spPr>
          <a:xfrm>
            <a:off x="5429160" y="1714680"/>
            <a:ext cx="3435480" cy="4751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403280" y="4797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trvač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Soubor:Cshaf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141720"/>
            <a:ext cx="3457440" cy="2598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84360" y="1557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klikový mechanismus je na obráz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jakých částí se sklád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převádí pohy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bychom mohli tento mechanismus použ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říž,R.: Stavba a provoz strojů, SNTL Praha,19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szr.cz/~blazicek/Projekt/klik_mech/klik_mechuzkr.gif&amp;imgref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dhs.cz/obrazky/kolo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peedpro.cz/catalog/images/ojnice%2520lestene%2520skoda%2520racing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upload.wikimedia.org/wikipedia/commons/a/ac/Cshaft.gif&amp;imgrefurl=http://cs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www.mjauto.cz/editor/image_uploads/064c4_dvouhmotovy_setrvacnik_3.jpg&amp;imgrefurl=http://www.mj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shop.motogelnar.cz/images/sklady/2T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img.motorkari.cz/upload/images/cache/clanky/3339/20080101183226-7759_jpg_resize_1200x800__type_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dvojčinné stroje (pracovní tlak látky působí střídavě na obě strany pístu) např. dvojčinná pístová čerpad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říve: Parní lokomoti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tové spalovací mo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chanické lisy klikov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0080101183226-7759_jpg_resize_450x1000__type_jpg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333360"/>
            <a:ext cx="669600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692360" y="5877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ácený klikový mechanismus spalovacího mo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klikove-lisy-172"/>
          <p:cNvPicPr/>
          <p:nvPr/>
        </p:nvPicPr>
        <p:blipFill>
          <a:blip r:embed="rId1"/>
          <a:stretch/>
        </p:blipFill>
        <p:spPr>
          <a:xfrm>
            <a:off x="503280" y="260280"/>
            <a:ext cx="8137440" cy="5443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132000" y="58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chanické klikové l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kolo"/>
          <p:cNvPicPr/>
          <p:nvPr/>
        </p:nvPicPr>
        <p:blipFill>
          <a:blip r:embed="rId1"/>
          <a:stretch/>
        </p:blipFill>
        <p:spPr>
          <a:xfrm>
            <a:off x="755640" y="404640"/>
            <a:ext cx="7201080" cy="325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ipsko01"/>
          <p:cNvPicPr/>
          <p:nvPr/>
        </p:nvPicPr>
        <p:blipFill>
          <a:blip r:embed="rId2"/>
          <a:stretch/>
        </p:blipFill>
        <p:spPr>
          <a:xfrm>
            <a:off x="4788000" y="3573360"/>
            <a:ext cx="3960720" cy="2640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900000" y="3860640"/>
            <a:ext cx="3024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1. Kulisa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2. Protikl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3. Prodloužená šoupátková ty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4. Předstihová pá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5. Křižák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6. Šoupátková komora s pístovým šoupátk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7. Válec parního stroje s pí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8. Ovládací páka rozvodu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8360" y="537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ý klikový mechanismus parní lokomo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likový mechanismus úplný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mezi ojnicí a pístem (prvkem) s přímočarým pohybem vratným je vodící prvek mechanismu  ==&gt;  křižák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likový mechanismus zkrácený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vynechán křižák a přenos pohybu a síly přímo z ojnice na pí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klik_mechuplny"/>
          <p:cNvPicPr/>
          <p:nvPr/>
        </p:nvPicPr>
        <p:blipFill>
          <a:blip r:embed="rId1"/>
          <a:stretch/>
        </p:blipFill>
        <p:spPr>
          <a:xfrm>
            <a:off x="285840" y="1557360"/>
            <a:ext cx="857232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Zobrazit obrázek v plné velikost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692280"/>
            <a:ext cx="17287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4355640" y="2060640"/>
            <a:ext cx="792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team_engine_in_action"/>
          <p:cNvPicPr/>
          <p:nvPr/>
        </p:nvPicPr>
        <p:blipFill>
          <a:blip r:embed="rId1"/>
          <a:stretch/>
        </p:blipFill>
        <p:spPr>
          <a:xfrm>
            <a:off x="979560" y="714240"/>
            <a:ext cx="7184880" cy="467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telingerova</cp:lastModifiedBy>
  <dcterms:modified xsi:type="dcterms:W3CDTF">2011-10-12T12:56:43Z</dcterms:modified>
  <cp:revision>60</cp:revision>
  <dc:subject/>
  <dc:title>POSLOUPNOSTI</dc:title>
</cp:coreProperties>
</file>