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142-68FC-45BC-ADD2-4417320F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0E2-0288-48D5-AAB9-46C227D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7FE-4D6C-4F2A-B795-D2640334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BFB-212E-4B96-A144-E6475F10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319-8997-40CD-A6BF-6FC6C88B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F7B-1546-445F-BC16-4D0AE9C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DED-2335-4734-A012-05310C4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E83-2607-4B27-974D-CD3EE69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CFE-2A58-4E0C-9618-718A8D93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9C1-9DD5-4529-80C2-919B731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4D3-FF4D-4420-A4E3-DDC741A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A9B-EDC3-4E9C-9F1F-9FC2A341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692B-D41C-4775-AA03-C74EFDE8D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z/imgres?imgurl=http://upload.wikimedia.org/wikipedia/commons/1/14/Gears_animation.gif&amp;imgrefurl=http://cs.wikipedia.org/wiki/Ozuben%25C3%25A9_kolo&amp;usg=__2zdAXWvtw_WV7AX92BxSAzP9h-M=&amp;h=120&amp;w=172&amp;sz=53&amp;hl=cs&amp;start=11&amp;um=1&amp;tbnid=4F-QjSMSmVHLkM:&amp;tbnh=70&amp;tbnw=100&amp;prev=/images%3Fq%3Dozuben%25C3%25BD%2Bp%25C5%2599evod%26um%3D1%26hl%3Dcs%26lr%3D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5/Sprocket01cb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0/02/Sprocket01ca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z/imgres?imgurl=http://upload.wikimedia.org/wikipedia/commons/1/14/Gears_animation.gif&amp;imgrefurl=http://cs.wikipedia.org/wiki/Ozuben%25C3%25A9_kolo&amp;usg=__2zdAXWvtw_WV7AX92BxSAzP9h-M=&amp;h=120&amp;w=172&amp;sz=53&amp;hl=cs&amp;start=11&amp;um=1&amp;tbnid=4F-QjSMSmVHLkM:&amp;tbnh=70&amp;tbnw=100&amp;prev=/images%3Fq%3Dozuben%25C3%25BD%2Bp%25C5%2599evod%26um%3D1%26hl%3Dcs%26lr%3D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zubené převo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686400" cy="27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2592" t="18484" r="41725" b="34482"/>
          <a:stretch/>
        </p:blipFill>
        <p:spPr>
          <a:xfrm>
            <a:off x="539640" y="620640"/>
            <a:ext cx="8282160" cy="53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76280"/>
            <a:ext cx="3024000" cy="211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067280" y="549360"/>
            <a:ext cx="422892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26920" y="2924280"/>
            <a:ext cx="1733760" cy="353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708360" y="3573360"/>
            <a:ext cx="4319640" cy="26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 ozubený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elní kola se zu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římý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šikmý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šípovými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želová kola se zu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římý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šikmý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ruhovým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2072" t="29410" r="40685" b="26076"/>
          <a:stretch/>
        </p:blipFill>
        <p:spPr>
          <a:xfrm>
            <a:off x="684360" y="1052640"/>
            <a:ext cx="7920000" cy="466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ály ozubený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ktory pro volbu materiál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nášené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odová rych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ivotnost a bezp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o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vyráběných kus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lučnost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ály ozubený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edá litina – menší namáhání a malé obvodové rychlosti (do 5m/s), např.42 2420, 42 24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celi na odlitky – kola větších </a:t>
            </a:r>
            <a:r>
              <a:rPr b="0" lang="en-US" sz="2400" spc="-1" strike="noStrike">
                <a:solidFill>
                  <a:srgbClr val="009999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 větší pevnost, např.    42 2630, 42 27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celi tř.11 – výjimečné po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zušlechtěné oceli –12 050, 12 060,13 141,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3 240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, 14 240,15 260,16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mentační oceli – kola namáhaná otěrem,např.12 020, 14 220,16 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itridační oceli – zuby nelze brousit, např. 14 3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z, plasty, dř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snost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contrast="12000"/>
          </a:blip>
          <a:srcRect l="6457" t="13624" r="30537" b="39900"/>
          <a:stretch/>
        </p:blipFill>
        <p:spPr>
          <a:xfrm>
            <a:off x="1547640" y="907920"/>
            <a:ext cx="5865840" cy="595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lní souk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>
            <a:lum contrast="18000"/>
          </a:blip>
          <a:srcRect l="44249" t="8249" r="18795" b="54562"/>
          <a:stretch/>
        </p:blipFill>
        <p:spPr>
          <a:xfrm>
            <a:off x="826920" y="1639800"/>
            <a:ext cx="712980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0200" y="981000"/>
            <a:ext cx="871380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ce ozubení kol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a N – nekorigov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ální ozu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omeze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álním počtem zub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ší únosností past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kými tlaky mezi zuby a skluzy na patě z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ubený převod přenáší otáčivý pohyb a mechanickou energii z jednoho hřídele na druh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ubená kola, která spolu zabírají, tvoří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kol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vod ozubenými koly může bý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dnoduchý nebo složený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kolí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10000"/>
          </a:blip>
          <a:srcRect l="42056" t="27930" r="25216" b="47990"/>
          <a:stretch/>
        </p:blipFill>
        <p:spPr>
          <a:xfrm>
            <a:off x="1042920" y="1628640"/>
            <a:ext cx="597708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zní počet zub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řezání z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ní počet zub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2/sin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ktický počet zub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5/6 z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úhel zábě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= 20°je z</a:t>
            </a:r>
            <a:r>
              <a:rPr b="0" lang="cs-CZ" sz="2800" spc="-1" strike="noStrike" baseline="-25000">
                <a:solidFill>
                  <a:srgbClr val="ff0066"/>
                </a:solidFill>
                <a:latin typeface="Arial"/>
              </a:rPr>
              <a:t>t</a:t>
            </a: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 = 17,              z</a:t>
            </a:r>
            <a:r>
              <a:rPr b="0" lang="cs-CZ" sz="2800" spc="-1" strike="noStrike" baseline="-25000">
                <a:solidFill>
                  <a:srgbClr val="ff00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40530" t="65359" r="30858" b="8384"/>
          <a:stretch/>
        </p:blipFill>
        <p:spPr>
          <a:xfrm>
            <a:off x="4427640" y="2133720"/>
            <a:ext cx="4321080" cy="28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hel záběru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čuje parametry základního profilu a je normalizován na hodnotu 2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ěna úhlu = změna  funkčních i pevnostních vlastnost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ěna úhlu záběru vyžaduje nestandardní výrobní nástro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038480" cy="20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unutí profilu x - kore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kladné – kladná korekce (od středu k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áporné – záporná korekce (do středu k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752472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rigováním ozubení je mož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áhnout přesnou osovou vzdále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bránit podřezání zu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bránit špičatosti zub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it součinitel zábě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it hlučnost a vibrace ozub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it účin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it únosnost ozubení (dotyk, ohyb, zadírání, opotřebení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0920" y="333000"/>
            <a:ext cx="47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změry čelního nekorigovaného ozu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981000"/>
          <a:ext cx="8064000" cy="5111640"/>
        </p:xfrm>
        <a:graphic>
          <a:graphicData uri="http://schemas.openxmlformats.org/drawingml/2006/table">
            <a:tbl>
              <a:tblPr/>
              <a:tblGrid>
                <a:gridCol w="3019680"/>
                <a:gridCol w="2522160"/>
                <a:gridCol w="252216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by, korek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ry základního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u 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,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a* , c* , rf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tečná kruž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 . z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 . z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ladní kružn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m . z</a:t>
                      </a:r>
                      <a:r>
                        <a:rPr b="0" lang="cs-CZ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s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m . z</a:t>
                      </a:r>
                      <a:r>
                        <a:rPr b="0" lang="cs-CZ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s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vá vzdáleno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0,5 . ( 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ní kružn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f2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2,5 . 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f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- 2,5 .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vová kruž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 . 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+ 2 .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oušťka zub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,5 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,5 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ířka mez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,5 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,5 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178600" y="5216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LOVÉ P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217760" cy="482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716360" y="1989000"/>
                <a:ext cx="12956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43280" y="4005360"/>
                <a:ext cx="381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924360" y="12682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elní soukolí s přímými z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43280" y="3141720"/>
                <a:ext cx="25196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716360" y="4724280"/>
                <a:ext cx="20876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íly v ložis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24000"/>
          </a:blip>
          <a:srcRect l="30343" t="11787" r="8393" b="54824"/>
          <a:stretch/>
        </p:blipFill>
        <p:spPr>
          <a:xfrm>
            <a:off x="900000" y="1197000"/>
            <a:ext cx="7559640" cy="56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ČELNÍ SOUKOLÍ SE ŠIKMÝMI ZU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uby jsou natočené 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hel sklonu zubu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volný a plynulý vstup a výstup zubových dvojic do i ze záběru, větší součinitel trvání záběru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dnější a tišší chod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nší dynamické účinky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Arial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xiální síla =&gt; nároky na ulož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ě spoluzabírající kola s rovnoběžnými osami musí mít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tejný úh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klonu, al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pačný smysl stoup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6913800" cy="518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56360" y="5950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vodov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Soubor:Sprocket01c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9280" y="620640"/>
            <a:ext cx="5184720" cy="426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oubor:Sprocket01c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907920"/>
            <a:ext cx="3456000" cy="403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5373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oduchý přev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5373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žený pře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elní ozubené kolo se šikmými zu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3218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42480" y="5300640"/>
            <a:ext cx="56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úhel sklonu zubu (neboli úhel stoupání šroubo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4886" t="0" r="9832" b="5562"/>
          <a:stretch/>
        </p:blipFill>
        <p:spPr>
          <a:xfrm>
            <a:off x="0" y="549360"/>
            <a:ext cx="5148360" cy="4994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5640" y="2781360"/>
            <a:ext cx="33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dul </a:t>
            </a: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cs-CZ" sz="2400" spc="-1" strike="noStrike" baseline="-25000">
                <a:solidFill>
                  <a:srgbClr val="ff0066"/>
                </a:solidFill>
                <a:latin typeface="Arial"/>
              </a:rPr>
              <a:t>t</a:t>
            </a: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 = m</a:t>
            </a:r>
            <a:r>
              <a:rPr b="1" lang="cs-CZ" sz="24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/cos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620640"/>
            <a:ext cx="30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vinné ře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ný – inde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álný - index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 boku z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3357720"/>
            <a:ext cx="39625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1.25m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 =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D = z m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cs-CZ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D+2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D - 2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50920" y="5373720"/>
                <a:ext cx="4933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628640"/>
            <a:ext cx="2303280" cy="1613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580000" y="3789360"/>
            <a:ext cx="3097440" cy="188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68360" y="1628640"/>
            <a:ext cx="1413000" cy="288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195640" y="3860640"/>
            <a:ext cx="2950920" cy="1830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1989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dělte soukolí podle vzájemné polohy 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45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2000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. Kříž a kol.: Stavba a provoz strojů II., Převody, SNTL, Praha 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Soubor:Sprocket01c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Soubor:Sprocket01cb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Ozuben%C3%A9_k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kaps-transmissions.com/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autolexic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autoplanet.cz/blog/diferencial-jo-ten-cha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mmspektrum.com/clanek/prekonavani-gravitace-a-jinych-prekaz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hody a nevý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ubeným kolem se zajistí stálý převodový pomě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ubené převody se vyznačují velkou účinností, spolehlivostí, životností a jednoduchou obsluh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roba je naopak složitá a vyžaduje speciální nástroje a obráběcí stroj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 ozubených převo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661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vod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02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 ozubených převo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48360" y="5516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 ozubených převo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5805360"/>
            <a:ext cx="252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bové čerp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5359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 ozubený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podle vzájemné polohy os                                   dvou hřídel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podle tvaru zubů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 ozubený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y rovnoběžn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čelní soukolí s vnějším ozubení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čelní soukolí s vnitřním ozubení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y různoběžn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kuželová soukolí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y mimoběž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šroubová soukolí válcov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ukolí šnekov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ukolí hypoidní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27:48Z</dcterms:created>
  <dc:creator>petra</dc:creator>
  <dc:description/>
  <dc:language>en-US</dc:language>
  <cp:lastModifiedBy>zak</cp:lastModifiedBy>
  <dcterms:modified xsi:type="dcterms:W3CDTF">2010-12-03T11:38:23Z</dcterms:modified>
  <cp:revision>38</cp:revision>
  <dc:subject/>
  <dc:title>Ozubené převody</dc:title>
</cp:coreProperties>
</file>