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552-629B-4470-98F4-5D561D78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663-A181-44C2-8278-48DFD7E7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655-B18F-41C1-89D1-2E2DCAA4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617-29A1-49B8-B09E-FE011A9B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05AB-054F-444F-8049-A10B3CC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7749-B60D-4ACA-91AB-EC786DE9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C713-251A-45E0-8281-E8DEAB1E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6FD-7AE2-48C3-BFC0-9E25819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6D0-1F79-494B-861F-A36A1C8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6A41-4D30-40FD-9E80-A7D5873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8C03-80FB-448B-A101-B053A4B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253-2F70-432D-8F20-6C491C09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289-F695-47CF-AC60-280455E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E6A-A414-412D-9AD5-13C1A97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F87-AFEF-43DC-96B3-396CF1F0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2596-6208-4CA8-AE4E-ED41B328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DA8-C5FD-4241-B00F-FF969FB3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C47-3125-4068-A48F-775DBD1C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D80-7932-48BD-90B6-F04BCE0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B26-7A82-46FC-A3DF-6BCDB2C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B0D-52A8-4F3A-96EE-B6EED38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AAE-943E-4AC3-8627-DD0FE84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1E3-0565-4C42-B2DA-4F7D8F4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6F1-1EB1-4A65-813D-D65C941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D65-908A-450B-80A9-1AD1A64F6490}" type="datetime">
              <a:rPr b="0" lang="cs-CZ" sz="1200" spc="-1" strike="noStrike">
                <a:solidFill>
                  <a:srgbClr val="000000"/>
                </a:solidFill>
                <a:latin typeface="Garamond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731-CCBE-4463-9C07-4CDE0C994B8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D01-EBD8-43E7-9414-2607D6E096B3}" type="datetime">
              <a:rPr b="0" lang="cs-CZ" sz="1200" spc="-1" strike="noStrike">
                <a:solidFill>
                  <a:srgbClr val="000000"/>
                </a:solidFill>
                <a:latin typeface="Garamond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29E-E6AB-4D03-9B22-4778D73A3CA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9640" y="537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Ing. Václav SLAN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87280" y="2060640"/>
            <a:ext cx="698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INEMATIKA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KA VOZIDEL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194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720" y="220500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6 Grafické znázornění situace předjíždění vozi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70400" cy="3117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4320" y="4797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Pak pla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= l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s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l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a porovnáním a dosazením dostan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= (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/ 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)) . 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(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)  / 2a)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= (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/ 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)) . 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b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+ ((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30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30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3000" spc="-1" strike="noStrike">
                <a:solidFill>
                  <a:srgbClr val="cc9900"/>
                </a:solidFill>
                <a:latin typeface="Arial"/>
              </a:rPr>
              <a:t> )  / 2a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(vysvětlivky viz.obr.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Arial"/>
              </a:rPr>
              <a:t>DYNAMIKA VOZI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pro teoretickou hnací sílu motoru na obvodu hnacího kola plat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m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( M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h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. i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p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. i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r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 / r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h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hnací moment motoru (N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převodové číslo převodov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r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převodové číslo rozvodov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d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dynamický poloměr kola (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teoretickou hnací sílu motoru lze též vypočítat ze vztah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m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P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e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/ 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, k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e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užitečný (efektivní) výkon motoru (W)                                                                                                                      v ... rychlost vozidla (m . s</a:t>
            </a:r>
            <a:r>
              <a:rPr b="0" i="1" lang="cs-CZ" sz="1900" spc="-1" strike="noStrike" baseline="30000">
                <a:solidFill>
                  <a:srgbClr val="006633"/>
                </a:solidFill>
                <a:latin typeface="Arial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ODPORY PŮSOBÍCÍ NA JEDOUCÍ VOZIDL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996600"/>
                </a:solidFill>
                <a:latin typeface="Arial"/>
              </a:rPr>
              <a:t>1. ODPORY ZÁVISLÉ NA KONSTRUKCI VOZID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afbf39"/>
                </a:solidFill>
                <a:latin typeface="Arial"/>
              </a:rPr>
              <a:t>a) odpor tření v převodových ústrojí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p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m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. ( 1 - </a:t>
            </a:r>
            <a:r>
              <a:rPr b="1" lang="cs-CZ" sz="2100" spc="-1" strike="noStrike">
                <a:solidFill>
                  <a:srgbClr val="cc9900"/>
                </a:solidFill>
                <a:latin typeface="Symbol"/>
                <a:ea typeface="Symbol"/>
              </a:rPr>
              <a:t>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c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Symbol"/>
                <a:ea typeface="Symbol"/>
              </a:rPr>
              <a:t>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c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... celková účinnost převodových ústrojí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( 85% u běžných vozidel, 80% i méně u terénních vozidel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skutečná hnací síla na obvodu kol je p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k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m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–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p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nebo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k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( P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e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. </a:t>
            </a:r>
            <a:r>
              <a:rPr b="1" lang="cs-CZ" sz="2100" spc="-1" strike="noStrike">
                <a:solidFill>
                  <a:srgbClr val="cc9900"/>
                </a:solidFill>
                <a:latin typeface="Symbol"/>
                <a:ea typeface="Symbol"/>
              </a:rPr>
              <a:t>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c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 / 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fbf39"/>
                </a:solidFill>
                <a:latin typeface="Arial"/>
              </a:rPr>
              <a:t>b) odpor vzduc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000" spc="-1" strike="noStrike" baseline="-25000">
                <a:solidFill>
                  <a:srgbClr val="cc9900"/>
                </a:solidFill>
                <a:latin typeface="Arial"/>
              </a:rPr>
              <a:t>vz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 = c</a:t>
            </a:r>
            <a:r>
              <a:rPr b="1" lang="cs-CZ" sz="2000" spc="-1" strike="noStrike" baseline="-25000">
                <a:solidFill>
                  <a:srgbClr val="cc99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 . p</a:t>
            </a:r>
            <a:r>
              <a:rPr b="1" lang="cs-CZ" sz="2000" spc="-1" strike="noStrike" baseline="-25000">
                <a:solidFill>
                  <a:srgbClr val="cc9900"/>
                </a:solidFill>
                <a:latin typeface="Arial"/>
              </a:rPr>
              <a:t>d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 . S</a:t>
            </a:r>
            <a:r>
              <a:rPr b="1" lang="cs-CZ" sz="2000" spc="-1" strike="noStrike" baseline="-25000">
                <a:solidFill>
                  <a:srgbClr val="cc9900"/>
                </a:solidFill>
                <a:latin typeface="Arial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d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... dynamický tlak vzduchu, platí p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d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= ( </a:t>
            </a:r>
            <a:r>
              <a:rPr b="0" i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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. v</a:t>
            </a:r>
            <a:r>
              <a:rPr b="0" i="1" lang="cs-CZ" sz="2000" spc="-1" strike="noStrike" baseline="30000">
                <a:solidFill>
                  <a:srgbClr val="006633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)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x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... tvarový součinitel voz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S</a:t>
            </a:r>
            <a:r>
              <a:rPr b="0" i="1" lang="cs-CZ" sz="2000" spc="-1" strike="noStrike" baseline="-25000">
                <a:solidFill>
                  <a:srgbClr val="006633"/>
                </a:solidFill>
                <a:latin typeface="Arial"/>
              </a:rPr>
              <a:t>x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... čelní plocha vozidla ve směru jíz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6633"/>
                </a:solidFill>
                <a:latin typeface="Symbol"/>
                <a:ea typeface="Symbol"/>
              </a:rPr>
              <a:t>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... hustota vzdu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529080" cy="223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94680" y="5445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2. ODPORY ZÁVISLÉ NA VOZOVCE A ZPŮSOBU JÍZDY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fbf39"/>
                </a:solidFill>
                <a:latin typeface="Arial"/>
              </a:rPr>
              <a:t>a) odpor valen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složen ze tření ve stěnách pláště pneumatiky při její deforma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z odporu vzniklého deformací vozovk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z odporu při smýkání kola ve stykové ploše s vozovk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z odporu vzniklého přilnavostí pneumatiky k vozov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z tření v uložení k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v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m . g .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v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0" i="1" lang="cs-CZ" sz="2100" spc="-1" strike="noStrike" baseline="-25000">
                <a:solidFill>
                  <a:srgbClr val="006633"/>
                </a:solidFill>
                <a:latin typeface="Arial"/>
              </a:rPr>
              <a:t>v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... součinitel valení ( 0,01 – 0,04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m ... hmotnost vozidla (k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fbf39"/>
                </a:solidFill>
                <a:latin typeface="Arial"/>
              </a:rPr>
              <a:t>b) odpor stoup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= m . g . sin</a:t>
            </a:r>
            <a:r>
              <a:rPr b="1" lang="cs-CZ" sz="24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... úhel podélného sklonu vozovky ( v promilích i procentech, pro malé úhly platí sin</a:t>
            </a:r>
            <a:r>
              <a:rPr b="0" i="1" lang="cs-CZ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= tg</a:t>
            </a:r>
            <a:r>
              <a:rPr b="0" i="1" lang="cs-CZ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ro stoupavost vozidla (%) platí s = 100tg</a:t>
            </a:r>
            <a:r>
              <a:rPr b="0" i="1" lang="cs-CZ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7705800" cy="1987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49960" y="3500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Obr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fbf39"/>
                </a:solidFill>
                <a:latin typeface="Arial"/>
              </a:rPr>
              <a:t>c) odpor proti zrychlující sí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z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= m . a . </a:t>
            </a:r>
            <a:r>
              <a:rPr b="1" lang="cs-CZ" sz="2800" spc="-1" strike="noStrike">
                <a:solidFill>
                  <a:srgbClr val="cc9900"/>
                </a:solidFill>
                <a:latin typeface="Symbol"/>
                <a:ea typeface="Symbol"/>
              </a:rPr>
              <a:t>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, k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6633"/>
                </a:solidFill>
                <a:latin typeface="Symbol"/>
                <a:ea typeface="Symbol"/>
              </a:rPr>
              <a:t>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6633"/>
                </a:solidFill>
                <a:latin typeface="Arial"/>
              </a:rPr>
              <a:t>... součinitel vyjadřující vliv točivých hmot tělesa na velikost posuvných hmot ( 1,05 – 3,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pro skutečnou hnací sílu vozidla pak platí</a:t>
            </a:r>
            <a:br>
              <a:rPr sz="2800"/>
            </a:b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hn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=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m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–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–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vz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 =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v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+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 + F</a:t>
            </a:r>
            <a:r>
              <a:rPr b="1" lang="cs-CZ" sz="2800" spc="-1" strike="noStrike" baseline="-25000">
                <a:solidFill>
                  <a:srgbClr val="cc99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pro porovnání pohybových vlastností různých vozidel slouží měrná hnací síla vozidla, což je velikost sil a odporů připadajících na jednotku hmotnosti voz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Arial"/>
              </a:rPr>
              <a:t>PŘÍKLAD NA PROCVIČ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Automobil jede rychlostí 16,6m.s</a:t>
            </a:r>
            <a:r>
              <a:rPr b="0" lang="cs-CZ" sz="2600" spc="-1" strike="noStrike" baseline="30000">
                <a:solidFill>
                  <a:srgbClr val="006633"/>
                </a:solidFill>
                <a:latin typeface="Arial"/>
              </a:rPr>
              <a:t>-1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. Do vozovky mu ve vzdálenosti 60m před vozem vběhne dítě. Podaří se řidiči zastavit včas, je-li f</a:t>
            </a:r>
            <a:r>
              <a:rPr b="0" lang="cs-CZ" sz="2600" spc="-1" strike="noStrike" baseline="-25000">
                <a:solidFill>
                  <a:srgbClr val="006633"/>
                </a:solidFill>
                <a:latin typeface="Arial"/>
              </a:rPr>
              <a:t>a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=0,4 a t</a:t>
            </a:r>
            <a:r>
              <a:rPr b="0" lang="cs-CZ" sz="26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=1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s = (v . t</a:t>
            </a:r>
            <a:r>
              <a:rPr b="1" lang="cs-CZ" sz="2600" spc="-1" strike="noStrike" baseline="-25000">
                <a:solidFill>
                  <a:srgbClr val="996600"/>
                </a:solidFill>
                <a:latin typeface="Arial"/>
              </a:rPr>
              <a:t>n</a:t>
            </a: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) + (v</a:t>
            </a:r>
            <a:r>
              <a:rPr b="1" lang="cs-CZ" sz="2600" spc="-1" strike="noStrike" baseline="30000">
                <a:solidFill>
                  <a:srgbClr val="9966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 / 2.g.f</a:t>
            </a:r>
            <a:r>
              <a:rPr b="1" lang="cs-CZ" sz="2600" spc="-1" strike="noStrike" baseline="-25000">
                <a:solidFill>
                  <a:srgbClr val="996600"/>
                </a:solidFill>
                <a:latin typeface="Arial"/>
              </a:rPr>
              <a:t>a</a:t>
            </a: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s = (16,6 . 1) + (16,6</a:t>
            </a:r>
            <a:r>
              <a:rPr b="1" lang="cs-CZ" sz="2600" spc="-1" strike="noStrike" baseline="30000">
                <a:solidFill>
                  <a:srgbClr val="9966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 / 2 . 9,81 . 0,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996600"/>
                </a:solidFill>
                <a:latin typeface="Arial"/>
              </a:rPr>
              <a:t>s = 16,6 + (275,56 / 7,848) = 16,6 + 35,11 = </a:t>
            </a:r>
            <a:r>
              <a:rPr b="1" lang="cs-CZ" sz="2600" spc="-1" strike="noStrike" u="sng">
                <a:solidFill>
                  <a:srgbClr val="996600"/>
                </a:solidFill>
                <a:uFillTx/>
                <a:latin typeface="Arial"/>
              </a:rPr>
              <a:t>51,7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6633"/>
                </a:solidFill>
                <a:latin typeface="Arial"/>
              </a:rPr>
              <a:t>Automobil má dostatečnou dráhu na bezpečné zastaven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Arial"/>
              </a:rPr>
              <a:t>PROCVIČENÍ TÉMA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1.Výpočtem zjistěte,zda automobil jedoucí rychlostí 30m.s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-1 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předjede bezpečně na půlkilometrovém úseku automobil jedoucí rychlostí 25m.s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. Uvažujte délku vozidel 4m, t</a:t>
            </a:r>
            <a:r>
              <a:rPr b="0" lang="cs-CZ" sz="20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= 1s a </a:t>
            </a:r>
            <a:r>
              <a:rPr b="0" lang="cs-CZ" sz="2000" spc="-1" strike="noStrike" u="sng">
                <a:solidFill>
                  <a:srgbClr val="006633"/>
                </a:solidFill>
                <a:uFillTx/>
                <a:latin typeface="Arial"/>
              </a:rPr>
              <a:t>a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= 5m.s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-2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cc9900"/>
                </a:solidFill>
                <a:latin typeface="Arial"/>
              </a:rPr>
              <a:t>2. Zjistěte, které z uvedených vozidel (Trabant 601,Škoda Fabia a Porsche 911) má nejmenší odpor vzduchu a odůvodněte pro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3. Na základě známých hodnot uvedených v tabulce dle obr.3 zjistěte přibližnou vzdálenost brzdné dráhy vozidla jedoucího rychlostí 110km.hod</a:t>
            </a:r>
            <a:r>
              <a:rPr b="0" lang="cs-CZ" sz="2000" spc="-1" strike="noStrike" baseline="30000">
                <a:solidFill>
                  <a:srgbClr val="006633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 na zimních pneumatikách majících vzorek 4,5mm. Svá tvrzení odůvod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cc9900"/>
                </a:solidFill>
                <a:latin typeface="Arial"/>
              </a:rPr>
              <a:t>4. Zjistěte, jaké jsou předpisy pro hloubku dezénu u pneumatik osobních  automobilů v zemích sousedících s Českou republikou a zjištěné výsledky shrňte do přehledné tabulky (včetně Č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5. Zjistěte maximální úhel sklonu překážky, kterou bez problémů překoná vozidlo se stoupavostí 1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cc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Arial"/>
              </a:rPr>
              <a:t>BRZDNÁ DRÁHA VOZID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6633"/>
                </a:solidFill>
                <a:latin typeface="Arial"/>
              </a:rPr>
              <a:t>Dráha potřebná k zastavení vozidla je složen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a)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z dráhy ujeté ještě nebržděným vozidle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5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500" spc="-1" strike="noStrike">
                <a:solidFill>
                  <a:srgbClr val="cc9900"/>
                </a:solidFill>
                <a:latin typeface="Arial"/>
              </a:rPr>
              <a:t> = s</a:t>
            </a:r>
            <a:r>
              <a:rPr b="1" lang="cs-CZ" sz="2500" spc="-1" strike="noStrike" baseline="-25000">
                <a:solidFill>
                  <a:srgbClr val="cc9900"/>
                </a:solidFill>
                <a:latin typeface="Arial"/>
              </a:rPr>
              <a:t>r</a:t>
            </a:r>
            <a:r>
              <a:rPr b="1" lang="cs-CZ" sz="2500" spc="-1" strike="noStrike">
                <a:solidFill>
                  <a:srgbClr val="cc9900"/>
                </a:solidFill>
                <a:latin typeface="Arial"/>
              </a:rPr>
              <a:t> + s</a:t>
            </a:r>
            <a:r>
              <a:rPr b="1" lang="cs-CZ" sz="2500" spc="-1" strike="noStrike" baseline="-25000">
                <a:solidFill>
                  <a:srgbClr val="cc9900"/>
                </a:solidFill>
                <a:latin typeface="Arial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s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r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dráha ujetá za dobu reakce řidiče (0,6 - 2,4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s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z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... dráha ujetá při zpoždění brzd (0,1 – 0,6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( v praxi se nejčastěji počítá se součtem obou dob t</a:t>
            </a:r>
            <a:r>
              <a:rPr b="0" i="1" lang="cs-CZ" sz="1900" spc="-1" strike="noStrike" baseline="-25000">
                <a:solidFill>
                  <a:srgbClr val="006633"/>
                </a:solidFill>
                <a:latin typeface="Arial"/>
              </a:rPr>
              <a:t>n</a:t>
            </a: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 = 1s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6633"/>
                </a:solidFill>
                <a:latin typeface="Arial"/>
              </a:rPr>
              <a:t>b) z vlastní brzdné dráh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b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 v</a:t>
            </a:r>
            <a:r>
              <a:rPr b="1" lang="cs-CZ" sz="21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/ 2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6633"/>
                </a:solidFill>
                <a:latin typeface="Arial"/>
              </a:rPr>
              <a:t>v ... rychlost vozid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35344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1   V.Skopal, J.Adámek, M.Hofírek – Stavba a provoz strojů IV, SNTL 1982, obr.108a, str.1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2   http://cs.autolexicon.net/obr_clanky/brzdna_draha_002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3   http://www.garaze-plzen.cz/data/soubory/pneu/images/brzdna-draha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4   http://img.ihned.cz/attachment.php/990/19463990/ai345BD7GHIKLNOjklPbdfhryz1w2ARm/   brzdna_draha_aut_na_snehu_v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5   V.Skopal, J.Adámek, M.Hofírek – Stavba a provoz strojů IV, SNTL 1982, obr.108b, str.1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6   V.Skopal, J.Adámek, M.Hofírek – Stavba a provoz strojů IV, SNTL 1982, obr.108c, str.1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7   http://obrazky.4ever.sk/data/obrazky/zabavne/zvieratka/%5Bobrazky.4ever.sk%5D%20vtip, %20prasiatko,%20policia,%20znacka,%20cervene%20vozidlo,%20policajt%20507954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8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aerotatra.czweb.org/rumpler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9   V.Skopal, J.Adámek, M.Hofírek – Stavba a provoz strojů IV, SNTL 1982, obr.109, str.1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Arial"/>
              </a:rPr>
              <a:t>POUŽITÉ ZDRO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6633"/>
                </a:solidFill>
                <a:latin typeface="Arial"/>
              </a:rPr>
              <a:t>Pro celkovou dráhu potřebnou k zastavení vozidla plat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s = s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+ s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b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= ( v . t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 + ( v</a:t>
            </a:r>
            <a:r>
              <a:rPr b="1" lang="cs-CZ" sz="21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/ 2a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zpomalení </a:t>
            </a:r>
            <a:r>
              <a:rPr b="0" i="1" lang="cs-CZ" sz="1800" spc="-1" strike="noStrike" u="sng">
                <a:solidFill>
                  <a:srgbClr val="006633"/>
                </a:solidFill>
                <a:uFillTx/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 je závislé na účinnosti brzdového systému a na součiniteli stykového tření (adheze) f</a:t>
            </a:r>
            <a:r>
              <a:rPr b="0" i="1" lang="cs-CZ" sz="1800" spc="-1" strike="noStrike" baseline="-25000">
                <a:solidFill>
                  <a:srgbClr val="006633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 mezi pneumatikami a vozov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Aby nedošlo ke smyku, musí platit  F </a:t>
            </a:r>
            <a:r>
              <a:rPr b="0" lang="cs-CZ" sz="2100" spc="-1" strike="noStrike" u="sng">
                <a:solidFill>
                  <a:srgbClr val="006633"/>
                </a:solidFill>
                <a:uFillTx/>
                <a:latin typeface="Arial"/>
              </a:rPr>
              <a:t>&lt;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F</a:t>
            </a:r>
            <a:r>
              <a:rPr b="0" lang="cs-CZ" sz="2100" spc="-1" strike="noStrike" baseline="-25000">
                <a:solidFill>
                  <a:srgbClr val="006633"/>
                </a:solidFill>
                <a:latin typeface="Arial"/>
              </a:rPr>
              <a:t>t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,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te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m . a  </a:t>
            </a:r>
            <a:r>
              <a:rPr b="1" lang="cs-CZ" sz="2100" spc="-1" strike="noStrike" u="sng">
                <a:solidFill>
                  <a:srgbClr val="cc9900"/>
                </a:solidFill>
                <a:uFillTx/>
                <a:latin typeface="Arial"/>
              </a:rPr>
              <a:t>&lt;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 m . g .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100" spc="-1" strike="noStrike">
                <a:solidFill>
                  <a:srgbClr val="006633"/>
                </a:solidFill>
                <a:latin typeface="Arial"/>
              </a:rPr>
              <a:t> 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a = g .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a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F … brzdící síla v N</a:t>
            </a:r>
            <a:r>
              <a:rPr b="0" lang="cs-CZ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006633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006633"/>
                </a:solidFill>
                <a:latin typeface="Arial"/>
              </a:rPr>
              <a:t>  … třecí síla mezi vozovkou a pneumati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6633"/>
                </a:solidFill>
                <a:latin typeface="Arial"/>
              </a:rPr>
              <a:t>Pro celkovou brzdnou dráhu vozidla pak plat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s </a:t>
            </a:r>
            <a:r>
              <a:rPr b="1" lang="en-US" sz="2100" spc="-1" strike="noStrike" u="sng">
                <a:solidFill>
                  <a:srgbClr val="cc9900"/>
                </a:solidFill>
                <a:uFillTx/>
                <a:latin typeface="Arial"/>
              </a:rPr>
              <a:t>&gt;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( v  . t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 + ( v</a:t>
            </a:r>
            <a:r>
              <a:rPr b="1" lang="cs-CZ" sz="21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/ 2 . g . f</a:t>
            </a:r>
            <a:r>
              <a:rPr b="1" lang="cs-CZ" sz="2100" spc="-1" strike="noStrike" baseline="-25000">
                <a:solidFill>
                  <a:srgbClr val="cc9900"/>
                </a:solidFill>
                <a:latin typeface="Arial"/>
              </a:rPr>
              <a:t>a</a:t>
            </a:r>
            <a:r>
              <a:rPr b="1" lang="cs-CZ" sz="2100" spc="-1" strike="noStrike">
                <a:solidFill>
                  <a:srgbClr val="cc9900"/>
                </a:solidFill>
                <a:latin typeface="Arial"/>
              </a:rPr>
              <a:t>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18200" cy="191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25720" y="198900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 Grafické znázornění brzdné dráhy vozi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492280"/>
            <a:ext cx="756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cc99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avidla silničního provozu doporučují dodržovat minimální bezpečnostní dvousekundovou vzdálenost od vozidla jedoucího před ři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99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tento čas totiž řidič potřebuje pro okamžité rozhodování a reakci v případě, že by došlo k nečekanému incidentu  (vybočení z dráhy, náhlé zabrzdění a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16360" y="4221000"/>
            <a:ext cx="3062160" cy="1756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71040" y="4365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048360" cy="548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99400" y="47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01000" cy="476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2680" y="5661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BEZPEČNÁ VZDÁLENOST MEZI VOZIDL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561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řidič vozu 1 začne brzdit a do zastavení ujede drá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=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/ 2a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řidič vozu 2 po spatření brzdových světel začne brzdit a zastaví na dr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= ( v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) + ( v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/ 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6633"/>
                </a:solidFill>
                <a:latin typeface="Arial"/>
              </a:rPr>
              <a:t>nemá-li dojít k nárazu, pak musí plat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&gt;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( v . t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) + ((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) / 2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437000"/>
            <a:ext cx="6553080" cy="1514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42680" y="5589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za předpokladu stejného zpomalení u obou vo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l =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+  ((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4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) / 2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jedou-li oba vozy stejnou rychlostí v</a:t>
            </a:r>
            <a:r>
              <a:rPr b="0" lang="cs-CZ" sz="2400" spc="-1" strike="noStrike" baseline="-25000">
                <a:solidFill>
                  <a:srgbClr val="006633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 = v</a:t>
            </a:r>
            <a:r>
              <a:rPr b="0" lang="cs-CZ" sz="2400" spc="-1" strike="noStrike" baseline="-25000">
                <a:solidFill>
                  <a:srgbClr val="006633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= v, pak vzdálenost mezi voz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l </a:t>
            </a:r>
            <a:r>
              <a:rPr b="1" lang="cs-CZ" sz="2400" spc="-1" strike="noStrike" u="sng">
                <a:solidFill>
                  <a:srgbClr val="cc9900"/>
                </a:solidFill>
                <a:uFillTx/>
                <a:latin typeface="Arial"/>
              </a:rPr>
              <a:t>&gt;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v . t</a:t>
            </a:r>
            <a:r>
              <a:rPr b="1" lang="cs-CZ" sz="24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vzájemná vzdálenost vozidel musí být rovna alespoň dráze nebržděného vozidla, tj.dráze ujeté vozidlem za reakční dobu řidiče a dobu zpoždění brz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PŘEDJÍŽDĚNÍ VOZIDEL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ctr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předpokládáme, že předjížděné i předjíždějící vozidlo jedou stálou rychlostí (rovnoměrný pohy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vozidlo 2 začne předjíždět vozidlo 1 v kritické vzdále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=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+  ((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–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6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) / 2a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rvá-li předjíždění dobu t, vozidla 1 a 2 ujedou dráh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=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. t 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resp.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s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=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2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 l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= v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1</a:t>
            </a: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 . t</a:t>
            </a:r>
            <a:r>
              <a:rPr b="1" lang="cs-CZ" sz="2600" spc="-1" strike="noStrike" baseline="-25000">
                <a:solidFill>
                  <a:srgbClr val="cc99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0-08-02T20:49:17Z</dcterms:modified>
  <cp:revision>58</cp:revision>
  <dc:subject/>
  <dc:title>POSLOUPNOSTI</dc:title>
</cp:coreProperties>
</file>