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23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A7B8-81AF-4281-8B90-15E77078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F7AD-CDC3-4EE5-BE33-8A4EEE90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05B3-D387-440C-A4A1-EDD4D19F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3327-C9F9-4C3C-B2FA-9F3749CD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6952-7623-4629-9D3C-90785855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ECDA-A199-4878-B253-906A4422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B2C0-3608-471F-8C8F-4344E51B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8889-C356-4F9A-8208-97556123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917B-472D-4C2C-AFF1-3376E16B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90AA-504D-474B-8B80-9C43D6D7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C074-8898-4D44-ABE1-22B85287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34C7-8137-4EB2-8F4A-8AFBDB68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2AB7-D214-46DF-8B5E-9CF2824DBAE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1773360"/>
            <a:ext cx="64008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Dopravní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pracovala Ing. Dana Šejvl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769080" cy="1044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68360" y="2924280"/>
            <a:ext cx="4678560" cy="321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3457440" cy="1342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2881440" cy="1590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292720" y="476280"/>
            <a:ext cx="3476520" cy="18381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334520" y="22766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řemenov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34520" y="50133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ičkov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46520" y="242100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ár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804000" y="3500280"/>
            <a:ext cx="1706760" cy="1463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06160" y="5157720"/>
            <a:ext cx="17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magnetický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idržová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4572000" y="3357720"/>
            <a:ext cx="960480" cy="1307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482720" y="4960800"/>
            <a:ext cx="11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icov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prav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9280" y="179280"/>
            <a:ext cx="683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b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6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nací a vratný, vodící, napín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bubnu může být zabudován poh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vedení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lad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 obložením pryžový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pší přenos síly mezi pásem a bubnem, pryž hladká nebo kosočtverečný vzorek tl. 3 – 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 obložením keramický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těžké provozy s vysokým opotřebením, řeší prokluz pásu za každých podmín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kládací proužky, instalace lepen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kládací proužky upevněny na kovovém plátu, instalace přivaře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236000" y="3284640"/>
            <a:ext cx="1655640" cy="1243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236000" y="5229360"/>
            <a:ext cx="1726920" cy="1296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164360" y="1700280"/>
            <a:ext cx="1657440" cy="135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002360" cy="4983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9280" y="179280"/>
            <a:ext cx="683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álečková stol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álečky – podpírají a vedou pás, vytvářejí ložný průř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zatížené (nosné) větvi jsou blíže u sebe, průřez této větve může být buď rovný nebo korýtkov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nezatížené větvi mají válečky větší rozteč, průřez vždy rov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žadavky na váleč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ý odpor proti otá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ou hmot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ěsněny proti vnikání nečist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11280" y="404640"/>
            <a:ext cx="237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áleč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64000" y="4292640"/>
            <a:ext cx="2624400" cy="2047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9640" y="4149720"/>
            <a:ext cx="1798920" cy="1523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067280" y="260280"/>
            <a:ext cx="2232000" cy="833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3059280" y="1700280"/>
            <a:ext cx="1371600" cy="758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148360" y="1773360"/>
            <a:ext cx="1371600" cy="539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7093080" y="1628640"/>
            <a:ext cx="1371600" cy="749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611280" y="1773360"/>
            <a:ext cx="1371600" cy="722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66360" y="258444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ad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91240" y="270828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gumova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66880" y="27082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12320" y="278136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pad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3059280" y="3789360"/>
            <a:ext cx="1676160" cy="218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97480" y="179280"/>
            <a:ext cx="302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rnovač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05080" y="29973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ěra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62520" y="5734080"/>
            <a:ext cx="15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ěrač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hled zbo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1905120" cy="812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332000" y="4076640"/>
            <a:ext cx="1270080" cy="1524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796000" y="1773360"/>
            <a:ext cx="1933560" cy="2149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19280" y="179280"/>
            <a:ext cx="237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ěrač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435640" y="4508640"/>
            <a:ext cx="3141720" cy="149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9280" y="179280"/>
            <a:ext cx="683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davač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4149720"/>
            <a:ext cx="1352880" cy="1006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176720" cy="2906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971640" y="2060640"/>
            <a:ext cx="2157480" cy="1060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027440" y="524844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ční podava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99080" y="4673520"/>
            <a:ext cx="311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a s vážením pro příprav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mentové smě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19280" y="179280"/>
            <a:ext cx="683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Šikmý pásový dopravní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2482920" cy="21621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361620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95280" y="3789360"/>
            <a:ext cx="1498680" cy="2187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2195640" y="378936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5651640" y="3841920"/>
            <a:ext cx="2952720" cy="221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19280" y="179280"/>
            <a:ext cx="683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Šnekové dopravní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980640"/>
            <a:ext cx="8686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teriál se přepravuje pomocí rotujícího šne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rotaci šneku se materiál přepravuje ve žlabu nebo tru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vodorovnou, šikmou i svislou dopra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sypké mat. i drobné kusové m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ze použít i pro technol. operace – míchání, plastifikace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9640" y="3417840"/>
            <a:ext cx="3357720" cy="2519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978440" y="3405240"/>
            <a:ext cx="3357360" cy="251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Šnekové dopravní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2320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22920" y="4869000"/>
            <a:ext cx="4321080" cy="1328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50920" y="4797360"/>
            <a:ext cx="4105080" cy="1243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63800" y="4097160"/>
            <a:ext cx="56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nek = hřídel + šnekovice (plná, obvodová, lopatkov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8920" y="179280"/>
            <a:ext cx="53989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kteristi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9120" y="1380960"/>
            <a:ext cx="830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ojní zařízení pro dopravu materiá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nakládce či vykládce se nezastavu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dělen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ravní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ožné tra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avač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í paramet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ravované množství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mové nebo hmotnost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ravní vzdál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ravní výš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079640" y="1619280"/>
            <a:ext cx="3085920" cy="4525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35440" y="1619280"/>
            <a:ext cx="323856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vá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093080" y="4365720"/>
            <a:ext cx="1288800" cy="2185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77080" y="0"/>
            <a:ext cx="1289160" cy="2185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7497720" y="2205000"/>
            <a:ext cx="1646280" cy="21938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92200" y="1432080"/>
            <a:ext cx="6572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rečkové dopravní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prava sypkého materiálu, lze i kusov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ška elevátoru je dána prokluzem tažného elementu nebo jeho pevno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rečky jsou pevně uchyceny na tažné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ásu – viz pás. dopr., výška do 3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tězu – výška do 9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a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prava svislá nebo šikmá (úhel větší než 60 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hon elektromotorem umístěným v hlavě dopravn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rečky: tvar a materiál závisí na přepravovaném materiá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spořádání přetržité – velká rozteč koreč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přetržité – malá rozte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nění korečků: nasypáváním, hrabáním, kombinova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prazdňování korečků: gravitační, odstředi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vá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5904000" cy="484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vá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4452840" cy="518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vá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7201080" cy="502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vá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7921440" cy="410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19280" y="179280"/>
            <a:ext cx="683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ávěsné dopravní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dopravu kusového materi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možňují prostorové ved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užívají prostor nad úrovní podla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užití při povrchových úpravách přepravovaných kusů nebo při otryskávání odlitků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vedení: podvěsné (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edno a dvou dráhov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storové (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členité dráhy s velkým počtem oblouk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žné prostředky: ocel. lana, řetě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věsné prostředky: drapáky, háky, korečky, závě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769080" cy="622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561280" cy="623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9280" y="1792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Článkové (řetězové) dopravní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 rot="21540000">
            <a:off x="1115640" y="1267920"/>
            <a:ext cx="7230960" cy="496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9280" y="179280"/>
            <a:ext cx="683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pravníky – rozděl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569080" cy="569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álečkové trat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488360" cy="506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2031840" cy="1524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435640" y="1197000"/>
            <a:ext cx="3556080" cy="3048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042920" y="3284640"/>
            <a:ext cx="6667560" cy="304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álečkové trat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424720" cy="479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97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lu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2538360" cy="33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lerový podava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8064720" cy="532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zduchové polštář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913800" cy="19065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042920" y="4149720"/>
            <a:ext cx="3095640" cy="1800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580000" y="3933720"/>
            <a:ext cx="2718000" cy="187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dičkový dopravní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4878360" cy="489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rava třís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79640" y="1484280"/>
            <a:ext cx="5954760" cy="26780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11280" y="3789360"/>
            <a:ext cx="3097080" cy="252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kopal V., Adámek J., Hofírek M.: Stavba a provoz strojů IV, SNTL Praha 19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emka V., Barták J., Milčák P., Žitek P.: Stavba a provoz strojů, Stroje a zařízení,Informatorium Praha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8920" y="179280"/>
            <a:ext cx="68389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pravníky – rozděl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219880" cy="475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9280" y="179280"/>
            <a:ext cx="683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ásový dopravní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500280"/>
            <a:ext cx="9145440" cy="2305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1197000"/>
            <a:ext cx="864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ásové dopravníky – pro dopravu sypkých hmot na velké i malé vzdálenost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 možností zabezpečit plynulou dopravu. Umožňují  jednosměrné a reverzační stejnoměrné, regulované podávání a dávkování sypkých i kusových materiál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élka až stovky metrů (i 5 k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ychlost obvykle 0,1 – 10 ms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měr dopravy: přímý, lomený, šikmý, lze i vertikál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vedení: stabilní, pojízdné, přenos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pravované množství: až 40 000 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ásti pásového dopravní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197000"/>
            <a:ext cx="864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sná konstrukce – obvykle z válcovaných profi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hon – elektromotor, spojka, brzda, převodovka – může být uvnitř hnacího bub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rzdy 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šikmých dopravníků, aby nedošlo po vypnutí pohonu ke zpětném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hybu pásu s materiálem, čelisťová n. kotoučová brzda na vstupní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řídeli převodov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ub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ás (napínání pás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álečky a válečková sto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sypky – materiál přivádět na pás z malé výšky, ve směru dopr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ističe – ve zpětné větvi pás. dopravn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vádění materiálu z pásu – přepadem na konci nebov lib. místě pomoc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hrnovacího plu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897520" y="4419720"/>
            <a:ext cx="3246480" cy="243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9280" y="179280"/>
            <a:ext cx="683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ásový dopravní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0760" cy="531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9280" y="179280"/>
            <a:ext cx="683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ás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6480" y="981000"/>
            <a:ext cx="8390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nut mezi hnacím a vratným bubnem, možnost dopínání pá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ás je podpírán válečky pod nosnou i zpětnou větví nebo může být pod nosn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ástí podkladový pl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teriál pásů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yžové – nosné vložky textilní, syntetická vlákna, ocelová l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VC, P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celové, drátěné – pro silně abrazivní materiály, materiály s vysok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plotou až 8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volené zatížení pásů, pracovní teploty, abraze, hygien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vedení pásu: hladké, profilové, s unašeči (příčky) různých profi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ás může mít podélné boční vedení (za násypkou nebo po celé dél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čky a boční vedení umožňují šikmou či vertikální přeprav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lon klas. dopravníku (dle sypného úhlu a souč. tření materiál – pás) max. 1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ás s příčkami až do 4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ás  s bočními vlnovci až 6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využití přítlačného pásu až 9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ás může být zakrytov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9280" y="179280"/>
            <a:ext cx="683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ás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1352520" cy="1014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627280" y="1052640"/>
            <a:ext cx="1352520" cy="1014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796000" y="4365720"/>
            <a:ext cx="2232000" cy="1666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68360" y="4581360"/>
            <a:ext cx="1905120" cy="1473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2987640" y="4437000"/>
            <a:ext cx="2233800" cy="1676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684360" y="3141720"/>
            <a:ext cx="1296720" cy="407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2916360" y="2708280"/>
            <a:ext cx="768240" cy="960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3851280" y="2708280"/>
            <a:ext cx="768240" cy="960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>
            <a:off x="5580000" y="2565360"/>
            <a:ext cx="1152720" cy="1216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90240" y="2158920"/>
            <a:ext cx="16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ocelovou kostr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91720" y="2158920"/>
            <a:ext cx="21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yžový s textil. vrstva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4400" y="3778200"/>
            <a:ext cx="118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filový p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97120" y="595008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krytová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56800" y="5805360"/>
            <a:ext cx="188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ční vedení a příč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97840" y="3789360"/>
            <a:ext cx="12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ční ved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9120" y="3778200"/>
            <a:ext cx="128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filové pá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66920" y="5734080"/>
            <a:ext cx="65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říč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5292720" y="981000"/>
            <a:ext cx="865080" cy="1009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363640" y="215892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ás z PV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20:31:11Z</dcterms:created>
  <dc:creator>VOŠ a SPŠ Strakonice</dc:creator>
  <dc:description/>
  <dc:language>en-US</dc:language>
  <cp:lastModifiedBy>ucitel</cp:lastModifiedBy>
  <dcterms:modified xsi:type="dcterms:W3CDTF">2012-01-09T13:55:01Z</dcterms:modified>
  <cp:revision>72</cp:revision>
  <dc:subject/>
  <dc:title>Dopravníky</dc:title>
</cp:coreProperties>
</file>