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C700-543E-4E5F-B81E-0C1AC41F9A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14FD-4F01-4A9C-A36F-464D894477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46E-F4CD-4515-8DE8-DB768AB4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316-6FB4-489E-8DE0-3C135C97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ECE-62AA-47F3-9F06-4F4EB205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18D-691B-4DDF-B1A2-352677CB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9F0-E6D1-41DB-8EDD-8653245C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D9A-EFCA-4FB3-ADE5-B7CD889C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33C-8458-4323-BBB9-4275E915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AE3-B3EE-4DBD-BBF6-91918382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C93-1DD4-483B-834D-20829B41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AAA-BE70-452E-AC89-84E62ED0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718-3303-488A-AEB7-468E181C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BB1-BC3D-4150-9113-F02840D1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DB15-DC83-4F70-AC0B-7CA631AAA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19280" y="2708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ipulace s materiá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20680" y="486900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racovala: Ing. Dana Šejvl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az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če, trubky, úhelníky svazkované páskou, drátem, ... do vhodných jednot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ladují se v stromečkových regál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ládání a vyjímání buď bočním vysokozdvižným vozíkem nebo stohovacím jeřábem a zakladačem (drahé), nebo tzv. „C“ závěsem se stavitelnou výš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35280" y="3860640"/>
            <a:ext cx="1343160" cy="2187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3406680" cy="1673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360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i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ásky, dráty, plec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nější rozměry až 1300 mm, hmotnost až 15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ladují se v stromečkových regálech v horizontální poloze, svítek je pověšen na trnu regálu, manipulace „C“ há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itky větších rozměrů mohou být stohovány do tzv. studní – osa vertik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pulace – vysokozdvižné vozíky, mostové jeřáby, stohovací jeřáby a zaklad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2881440" cy="2133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8600" y="3801960"/>
            <a:ext cx="3956040" cy="1878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43080" cy="2857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800440"/>
            <a:ext cx="21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osvorné kleště pro přepravu svitk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kladování v horizontální či vertikální polo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vazačová manipul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savky – vytváří vakuum pro uchycení plechu zdvihem válce závěsu – jednoduchá instalace a údržba, krátké manipulační časy, ale malá životnost přísavek, ne pro drsné a znečištěné plo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gnety – elektropermanentní před zdvihem se impulzem proudu zmagnetizuje, opačným impulzem se uvolň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908520" cy="214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Vakuový zvedák"/>
          <p:cNvPicPr/>
          <p:nvPr/>
        </p:nvPicPr>
        <p:blipFill>
          <a:blip r:embed="rId2"/>
          <a:stretch/>
        </p:blipFill>
        <p:spPr>
          <a:xfrm>
            <a:off x="395280" y="0"/>
            <a:ext cx="2340000" cy="23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ipulační a dopravní prostřed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sypké materi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brační  a šnekové dopravníky, korečkové elevá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sypké i kusové materi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luzy, pásové, žlabové, článkové dopravníky, lanové drá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kusové materi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álečkové a kladičkové tratě, závěsové dopravníky, dopravní vozíky, jeřáby (mostové, portálové, sloupové, věžové, konzolové, vozidlové, speciální), manipulátory, roboty, regálové zakladače, stohovací jeřá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ravní vozí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používanější manipulační prostřed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zíky s ručním pohon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zíky s motorickým pohon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kčně vedené dopravní prostřed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ční po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3048120"/>
            <a:ext cx="360072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2838600" cy="380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03960" y="2563920"/>
            <a:ext cx="44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 malé přepravní výk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zíky pro plynové láhve a s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341360"/>
            <a:ext cx="867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voukolové vozíky – „rudly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šinové vozí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60640" cy="248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15000" y="4044960"/>
            <a:ext cx="3429000" cy="2813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2108160" cy="2838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132000" y="2852640"/>
            <a:ext cx="2044800" cy="2801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0" y="4257720"/>
            <a:ext cx="3132000" cy="2600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0" y="2205000"/>
            <a:ext cx="2987640" cy="1598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7099200" y="0"/>
            <a:ext cx="2044800" cy="3676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14160" y="141120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snost dle typu až 150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zkozdvižné vozí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924360" cy="3809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435640" y="3048120"/>
            <a:ext cx="3295440" cy="3809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564000" y="141300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vih do 2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kladní vybavení vidlice nebo ploš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sokozdvižné vozí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828880" cy="381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300720" y="4178160"/>
            <a:ext cx="2556000" cy="2384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17040" y="1411200"/>
            <a:ext cx="58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vih 1,5 m i ví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odné pro zakládání předmětů do reg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 stohování pa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aulické jeřábové vozí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327672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IPULACE S MATERIÁ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soubor operací, zahrnující převážně přemisťování, ale patří sem i skladování, balení, vážení, měření, počítání, třídění hmotných částí jak ve výrobním procesu, tak i při obě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úkolem manipulace s materiálem ve sféře výroby je propojit technologické operace a procesy a zajistit jejich plynulo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 sféře oběhu jde o překonání prostorové a časové různosti místa výroby a spotřeb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ický  po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341360"/>
            <a:ext cx="8675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ktrické akumulátorové vozíky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jrozšířenější manipulační prostřede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žadují zpevněnou vozovku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konávají stoupání 6 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íjení po 8 hodiná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ze připojit přívěsné vozíky</a:t>
            </a:r>
            <a:br>
              <a:rPr sz="2400"/>
            </a:br>
            <a:br>
              <a:rPr sz="2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vozíky se spalovacím motorem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žehový i vznětový mot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ětší měrný výkon, větší rychl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avřené prostory – výfukové plyny – katalyzátorový nástavec výfu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589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3381480"/>
            <a:ext cx="3456000" cy="2747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671640" cy="3021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2408040" cy="266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7600" y="292428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ivo – plyn, nosnost až 7 t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8160" y="5877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zíky mohou být vybaven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louženou vidli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ěrnou mříž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řábovým ramen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ážní ploši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čním posuv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aulickou lopa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ěracími čelist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očnou vidli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očnými chapa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095640" cy="2322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43960" y="278136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aulická lop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84720" y="3645000"/>
            <a:ext cx="2395800" cy="244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375600" y="62373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ážní ploš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671640" cy="2498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23080" y="604044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řábové ra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003640" y="189000"/>
            <a:ext cx="3457800" cy="3063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932360" y="30686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. čtyřcestný vozík, nosnost do 15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kčně vedené dopravní prostřed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11280" y="1599840"/>
            <a:ext cx="62755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GV System je automatický vozík s laserovým řízením, který umožňuje maximálně optimalizovat logistiku dopravy v interiérech, snížit tak náklady na pohyb a zabránit přítomnosti stálých prací na zemi. Za pomoci reflexních povrchů umístěných na různých místech skladu vozidla přes laserovou hlavu nepřetržitě ověřují svoji polohu a drá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Vozík AGV řízený laserem"/>
          <p:cNvPicPr/>
          <p:nvPr/>
        </p:nvPicPr>
        <p:blipFill>
          <a:blip r:embed="rId1"/>
          <a:stretch/>
        </p:blipFill>
        <p:spPr>
          <a:xfrm>
            <a:off x="108000" y="206064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maticky vedený vozík pro automobilový průmys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5040000" cy="3686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7280" y="1844640"/>
            <a:ext cx="238788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&amp;K AUTO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6200" y="4942080"/>
            <a:ext cx="8767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ntážní linky (kabina, motory, nápravy, střechy pro kabriolety, elektonické zařízen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icking a montáž s našimi automaticky naváděnými vozíky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rava uvnitř skladu, příchozí a odchozí zbož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utomaticky naváděné vozíky pro tiskařský a papírový průmys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5616720" cy="419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ipulace se sypkými a kapalnými materiá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84464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206064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3618000" cy="2714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ipuláto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3076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3538440" cy="280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9280" y="3016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v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3080" y="63817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kuov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284720" y="1343160"/>
            <a:ext cx="3240000" cy="2628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679880" y="2276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eumat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886360" y="4000680"/>
            <a:ext cx="3257640" cy="2857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583600" y="414972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aulické kleš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2818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členění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ipulace s materiá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0920" y="2133720"/>
            <a:ext cx="8064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objekt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roobjekt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kladové hospodář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alové hospodář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2552760" cy="3333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6880" y="450864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řístranný zaklad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2371680" cy="2857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471840" y="2000160"/>
            <a:ext cx="2200320" cy="28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emka V., Barták J., Milčák P., Žitek P.: Stavba a provoz strojů, Stroje a zařízení,Informatorium Praha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enka, B.: Manipulace s materiálem, CERM Brn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logismarket.cz/prestar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7058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pravovaný materi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zdělujeme pod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upenství (tuhý, kapalný, plynn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ípravy k přepravě (jednotlivé kusy, svazkování,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yzikálních znaků (rozměry, hmotnost, nebezpečí poškození, poloha při přepravě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lších znaků (množství, periodicita přepravování, 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pké materiály jsou klasifikovány zrnitostí, soudržností, chováním během přepravy, objemovou hmotností a teplot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žné operace s materiá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kládka je přemístění materiálu z místa uložení na dopravní prostředek nebo dopravní zařízení do vzdálenosti 3 metr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kládka je bezprostřední přeložení z dopravního prostředku na druh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kládk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přemístění materiálu z dopravního prostředku na místo uložení do vzdálenosti 3 metr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ační jednotky</a:t>
            </a:r>
            <a:br>
              <a:rPr sz="4400"/>
            </a:b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ha vytvořit z přepravovaného materiálu tvarově i objemově optimální manipulační jedno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37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lety (prosté, ohradové, skříňové, sloupkové, speciální + nástavby na pale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ejnery (plošinové, ohradové, skříňové, nádržkové, skládací, speciál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ra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kládací bed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vaz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vi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k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4172040" cy="2625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396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kladní rozměr 800 x 1200, poloviční 600 x 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pory by měly zabírat 40 % ložné plochy pal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hování = ukládání palet na se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čteny na zatížení o 25 % vyšší než udává max. nos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té palety je možné opatřit nástavbami, pal lze stohovat – max. 4 palet nad se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6880" cy="2771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771640" y="692280"/>
            <a:ext cx="1997280" cy="30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tejn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4724280"/>
            <a:ext cx="2820960" cy="200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m nad 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. využití ložného prost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ížení nákladů na ob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ížení rizika ztráty zbož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ze uzamknout a zapečet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hování: max. 5 kontej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38920" y="4127400"/>
            <a:ext cx="2305080" cy="2730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24360" cy="2500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2492280"/>
            <a:ext cx="3906720" cy="2262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Skládací kontejner"/>
          <p:cNvPicPr/>
          <p:nvPr/>
        </p:nvPicPr>
        <p:blipFill>
          <a:blip r:embed="rId5"/>
          <a:stretch/>
        </p:blipFill>
        <p:spPr>
          <a:xfrm>
            <a:off x="4211640" y="4149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90040" y="582624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ládací kontej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pravky a bed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3280" y="1599840"/>
            <a:ext cx="4321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prav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vové, plastové – určené k ruční manipulaci, např. pro tekutin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lahvích či volně ložené zbož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ládací bed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vové, plastové – určeny pro drobný mater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mí se používat pro nebalené potrav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2614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80000" y="4797360"/>
            <a:ext cx="1438200" cy="1886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50920" y="2708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020000" y="5132520"/>
            <a:ext cx="2124000" cy="141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5:46:04Z</dcterms:created>
  <dc:creator>Dana</dc:creator>
  <dc:description/>
  <dc:language>en-US</dc:language>
  <cp:lastModifiedBy>VOŠ a SPŠ Strakonice</cp:lastModifiedBy>
  <dcterms:modified xsi:type="dcterms:W3CDTF">2010-12-12T18:37:17Z</dcterms:modified>
  <cp:revision>89</cp:revision>
  <dc:subject/>
  <dc:title>MANIPULACE S MATERIÁLEM</dc:title>
</cp:coreProperties>
</file>