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BC69-49C3-46E6-AEF8-551025BE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C96F-881C-4702-A40D-7AD62A74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B0C20-B44D-493C-BEB7-C74E6CAE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9686-8A32-4195-A8ED-D3A3CE8B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3DCC-B9A6-4254-AEE7-22F29641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2FEB-CC3C-4745-934B-543EDFD6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0A29-7DAB-4466-A7D6-0FC7A287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CAB3-92DF-4E6E-91C3-179F78DC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C439-CE0B-4768-B79B-445DBCA8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29EE-750A-43DF-BEB8-D60FA262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CE3A-B5BF-46F3-B096-386CC614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EBC4C-718E-4C67-9A97-E06124E9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E2F6-950B-4C11-BFFE-237BCB83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B322-E39C-4112-AE80-D8E75038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1CB2-8A72-4724-A8DB-4B07F2F9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E5B3-53BC-490C-B226-42D676B3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DCE6-EDFF-49E1-8449-953402A4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2BDD-B934-4683-8CA1-6D1C9887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8473-6708-4A77-9246-80566EDC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3A4E-2BE4-453F-BDC4-74209200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7A15-746B-453E-84B5-4B6F0E94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5A94-1B1A-46BF-B095-5B4F5FE6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3B58-C4B1-4E74-90E6-DF466742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5E78-771A-4FA0-BBD3-3436853C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1F6B-0B9B-4CB6-B59A-13177540AE0F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77C2-0DAD-44AC-A247-7DC0043E6133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761E-62E9-439A-862B-43B79350AEF0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57E5-BF99-428E-A31A-811CA70F53C2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0"/>
          <p:cNvSpPr/>
          <p:nvPr/>
        </p:nvSpPr>
        <p:spPr>
          <a:xfrm>
            <a:off x="3419640" y="5373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g. Václav SLANA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12"/>
          <p:cNvSpPr txBox="1"/>
          <p:nvPr/>
        </p:nvSpPr>
        <p:spPr>
          <a:xfrm>
            <a:off x="971640" y="1989000"/>
            <a:ext cx="72486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YKLICKÉ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ARMONICKÉ PŘEVODOVK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zápatí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harmonické (centrální) kolo s vnějším ozubením je pružné - tenkostěnná nádoba nebo vál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v nedeformovaném stavu prochází volně tuhým ozubeným věncem (korunové kolo - má obvykle o 2 až 3 zuby ví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generátor harmonických deformací (unášeč) vytváří deformace po obvodě pružného kola (jejich rychlost závisí na otáčkách generátor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působením generátoru deformací dochází v pracovním prostoru ve směru delší strany elipsy k úplnému záběru ozubení, v okrajových místech pak k polovičnímu a v nepracovním prostoru k záběru nedocház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v záběru je vždy asi 15-20% z celkového počtu zub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pro zápatí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Obr"/>
          <p:cNvPicPr/>
          <p:nvPr/>
        </p:nvPicPr>
        <p:blipFill>
          <a:blip r:embed="rId1"/>
          <a:stretch/>
        </p:blipFill>
        <p:spPr>
          <a:xfrm>
            <a:off x="395280" y="1989000"/>
            <a:ext cx="5689440" cy="301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Obr"/>
          <p:cNvPicPr/>
          <p:nvPr/>
        </p:nvPicPr>
        <p:blipFill>
          <a:blip r:embed="rId2"/>
          <a:stretch/>
        </p:blipFill>
        <p:spPr>
          <a:xfrm>
            <a:off x="6156360" y="1989000"/>
            <a:ext cx="2647800" cy="3024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96720" y="1989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br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8029440" y="1989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b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Zástupný symbol pro zápatí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8"/>
          <p:cNvPicPr/>
          <p:nvPr/>
        </p:nvPicPr>
        <p:blipFill>
          <a:blip r:embed="rId1"/>
          <a:stretch/>
        </p:blipFill>
        <p:spPr>
          <a:xfrm>
            <a:off x="250920" y="1052640"/>
            <a:ext cx="2200320" cy="2847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9"/>
          <p:cNvPicPr/>
          <p:nvPr/>
        </p:nvPicPr>
        <p:blipFill>
          <a:blip r:embed="rId2"/>
          <a:stretch/>
        </p:blipFill>
        <p:spPr>
          <a:xfrm>
            <a:off x="2556000" y="3429000"/>
            <a:ext cx="2009520" cy="279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10"/>
          <p:cNvPicPr/>
          <p:nvPr/>
        </p:nvPicPr>
        <p:blipFill>
          <a:blip r:embed="rId3"/>
          <a:stretch/>
        </p:blipFill>
        <p:spPr>
          <a:xfrm>
            <a:off x="4643280" y="1125360"/>
            <a:ext cx="2000520" cy="2752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11"/>
          <p:cNvPicPr/>
          <p:nvPr/>
        </p:nvPicPr>
        <p:blipFill>
          <a:blip r:embed="rId4"/>
          <a:stretch/>
        </p:blipFill>
        <p:spPr>
          <a:xfrm>
            <a:off x="6516720" y="3357720"/>
            <a:ext cx="2085840" cy="2781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5"/>
          <p:cNvSpPr/>
          <p:nvPr/>
        </p:nvSpPr>
        <p:spPr>
          <a:xfrm>
            <a:off x="1547640" y="54936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99ff"/>
                </a:solidFill>
                <a:latin typeface="Arial"/>
              </a:rPr>
              <a:t>TYPY GENERÁTOROVÝCH V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395280" y="3933720"/>
            <a:ext cx="201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9999ff"/>
                </a:solidFill>
                <a:latin typeface="Arial"/>
              </a:rPr>
              <a:t>a) čtyřkotoučov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(dva kotouče umístěné blízko sebe vytvářejí deformační zó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2556000" y="2060640"/>
            <a:ext cx="201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9999ff"/>
                </a:solidFill>
                <a:latin typeface="Arial"/>
              </a:rPr>
              <a:t>b) vícekotoučov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(umožňuje vytvářet požadované deformace po celém obvodu k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4572000" y="3860640"/>
            <a:ext cx="201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9999ff"/>
                </a:solidFill>
                <a:latin typeface="Arial"/>
              </a:rPr>
              <a:t>c) kotoučov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(vytváří vlny s větším poloměrem oblou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804000" y="2421000"/>
            <a:ext cx="17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9999ff"/>
                </a:solidFill>
                <a:latin typeface="Arial"/>
              </a:rPr>
              <a:t>d) vačkový </a:t>
            </a: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(obdobné jako u případu ad)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973080" y="5300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br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278160" y="1628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br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2"/>
          <p:cNvSpPr/>
          <p:nvPr/>
        </p:nvSpPr>
        <p:spPr>
          <a:xfrm>
            <a:off x="515016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br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7166160" y="198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br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symbol pro zápatí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generátor způsobuje deformace jen v určitých zó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počet zón nebo vln </a:t>
            </a:r>
            <a:r>
              <a:rPr b="0" lang="en-US" sz="2800" spc="-1" strike="noStrike" u="sng">
                <a:solidFill>
                  <a:srgbClr val="9999cc"/>
                </a:solidFill>
                <a:uFillTx/>
                <a:latin typeface="Arial"/>
              </a:rPr>
              <a:t>k</a:t>
            </a: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 vytvořený generátorem se volí vždy </a:t>
            </a:r>
            <a:r>
              <a:rPr b="0" lang="en-US" sz="2800" spc="-1" strike="noStrike" u="sng">
                <a:solidFill>
                  <a:srgbClr val="9999cc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převodový poměr se určuje podobně jako u planetového přev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účinnost harmonických převodovek pro i = 50 -150 bývá </a:t>
            </a:r>
            <a:r>
              <a:rPr b="0" lang="en-US" sz="2800" spc="-1" strike="noStrike">
                <a:solidFill>
                  <a:srgbClr val="9999cc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 = 0,90 až 0,95, pro i = 10</a:t>
            </a:r>
            <a:r>
              <a:rPr b="0" lang="en-US" sz="2800" spc="-1" strike="noStrike" baseline="30000">
                <a:solidFill>
                  <a:srgbClr val="9999cc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99cc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 = 0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sériově vyráběné převodovky mají rozsah výkonů od 50W do 20k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7"/>
          <p:cNvPicPr/>
          <p:nvPr/>
        </p:nvPicPr>
        <p:blipFill>
          <a:blip r:embed="rId1"/>
          <a:stretch/>
        </p:blipFill>
        <p:spPr>
          <a:xfrm>
            <a:off x="324000" y="2637000"/>
            <a:ext cx="3816360" cy="2590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067280" y="1844640"/>
            <a:ext cx="475272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kuličkové ložisko 6 s tenkými pružnými kroužky speciálního provedení je nasunuto na oválnou vačku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pružný člen 5 je přivařen ke hřídeli 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na vstupním hřídeli 1 je ventilátor 2, který ochlazuje žebrované ví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pružná vložka 8 kompenzuje nesouosost a tím snižuje nároky na přesnost proved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755640" y="105264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PROVEDENÍ HARMONICKÉHO PŘEVODU S PRUŽNÝM KULIČKOVÝM LOŽIS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2918160" y="4941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br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Zástupný symbol pro zápatí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VÝHODY HARMONICKÝCH PŘEV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lehčí a menší než ozubené přev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velká kinematická přesnost (v záběru je současně větší počet zub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nepatrný mrtvý c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méně hluč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až pětkrát vyšší tlumící schop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NEVÝH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citlivost na torzní kmit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z hlediska technologie výroby poměrně dra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nejsou dostatečně teoreticky propracov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pro zápatí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ff"/>
                </a:solidFill>
                <a:latin typeface="Arial"/>
              </a:rPr>
              <a:t>POUŽITÍ HARMONICKÝCH PŘEVO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666699"/>
                </a:solidFill>
                <a:latin typeface="Arial"/>
              </a:rPr>
              <a:t>raketová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666699"/>
                </a:solidFill>
                <a:latin typeface="Arial"/>
              </a:rPr>
              <a:t>polohovací zařízení u robo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666699"/>
                </a:solidFill>
                <a:latin typeface="Arial"/>
              </a:rPr>
              <a:t>převody pohyblivých částí obráběcích strojů (posuv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666699"/>
                </a:solidFill>
                <a:latin typeface="Arial"/>
              </a:rPr>
              <a:t>manipulátory a zdvihací za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99ff"/>
                </a:solidFill>
                <a:latin typeface="Arial"/>
              </a:rPr>
              <a:t>PROCVIČENÍ TÉMA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1. Charakterizujte základní excentrické převody a načrtněte jejich proved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999ff"/>
                </a:solidFill>
                <a:latin typeface="Arial"/>
              </a:rPr>
              <a:t>2. V dostupných pramenech vyhledejte zařízení, u něhož je použita cyklická (harmonická) převodovka a zpracujte jeho stručný technický popis včetně obrazových přílo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3. Charakterizujte cyklický pohyb a proveďte konstrukci prosté, zkrácené a prodloužené cykloi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999ff"/>
                </a:solidFill>
                <a:latin typeface="Arial"/>
              </a:rPr>
              <a:t>4. Vyhledejte veškerá dostupná konstrukční řešení generátoru harmonických kmitů a přiložte jejich náčrt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5. Vymodelujte ve 3D sestavu cyklické převodovky dle obr.2 tak, aby dané sestavení složené z dílčích uzlů demonstrovalo provedení tohoto typu převodov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5344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699"/>
                </a:solidFill>
                <a:latin typeface="Arial"/>
              </a:rPr>
              <a:t>Obr.1   R.Kříž, C.Martinisko, K.Weigner – Strojírenská konstrukce I, SNTL 1986, obr.161, str.1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699"/>
                </a:solidFill>
                <a:latin typeface="Arial"/>
              </a:rPr>
              <a:t>Obr.2   R.Kříž, C.Martinisko, K.Weigner – Strojírenská konstrukce I, SNTL 1986, obr.165, str.1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699"/>
                </a:solidFill>
                <a:latin typeface="Arial"/>
              </a:rPr>
              <a:t>Obr.3   http://www.kks.zcu.cz/pro-studenty-KKS/Studijni_podklady/PRIRUCKA/CADIS2/MDOC/F/F22/F22_4/f4_1_e2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699"/>
                </a:solidFill>
                <a:latin typeface="Arial"/>
              </a:rPr>
              <a:t>Obr.4   http://www.kks.zcu.cz/pro-studenty-KKS/Studijni_podklady/PRIRUCKA/CADIS2/MDOC/F/F22/F22_4/f4_1_f2.g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699"/>
                </a:solidFill>
                <a:latin typeface="Arial"/>
              </a:rPr>
              <a:t>Obr.5   http://img.ihned.cz/attachment.php/570/12050570/iosu34DEF7GIJKNOl6PbdhpqxzTUw2AV/Te0405s22.jpg</a:t>
            </a:r>
            <a:r>
              <a:rPr b="0" lang="cs-CZ" sz="14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699"/>
                </a:solidFill>
                <a:latin typeface="Arial"/>
              </a:rPr>
              <a:t>Obr.6   R.Kříž, C.Martinisko, K.Weigner – Strojírenská konstrukce I, SNTL 1986, obr.162, str.1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699"/>
                </a:solidFill>
                <a:latin typeface="Arial"/>
              </a:rPr>
              <a:t>Obr.7   R.Kříž, C.Martinisko, K.Weigner – Strojírenská konstrukce I, SNTL 1986, obr.164, str.1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699"/>
                </a:solidFill>
                <a:latin typeface="Arial"/>
              </a:rPr>
              <a:t>Obr.8   http://www.kks.zcu.cz/pro-studenty-KKS/Studijni_podklady/PRIRUCKA/CADIS2/MDOC/F/F22/F22_4/f4_1_a2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699"/>
                </a:solidFill>
                <a:latin typeface="Arial"/>
              </a:rPr>
              <a:t>Obr.9   http://www.kks.zcu.cz/pro-studenty-KKS/Studijni_podklady/PRIRUCKA/CADIS2/MDOC/F/F22/F22_4/f4_1_b2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699"/>
                </a:solidFill>
                <a:latin typeface="Arial"/>
              </a:rPr>
              <a:t>Obr.10  http://www.kks.zcu.cz/pro-studenty-KKS/Studijni_podklady/PRIRUCKA/CADIS2/MDOC/F/F22/F22_4/f4_1_c2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699"/>
                </a:solidFill>
                <a:latin typeface="Arial"/>
              </a:rPr>
              <a:t>Obr.11  http://www.kks.zcu.cz/pro-studenty-KKS/Studijni_podklady/PRIRUCKA/CADIS2/MDOC/F/F22/F22_4/f4_1_d2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699"/>
                </a:solidFill>
                <a:latin typeface="Arial"/>
              </a:rPr>
              <a:t>Obr.12  http://www.kks.zcu.cz/pro-studenty-KKS/Studijni_podklady/PRIRUCKA/CADIS2/MDOC/F/F22/F22_4/f4_1_z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99ff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99ff"/>
                </a:solidFill>
                <a:latin typeface="Arial"/>
              </a:rPr>
              <a:t>EXCENTRICKÉ PŘEV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99cc"/>
                </a:solidFill>
                <a:latin typeface="Arial"/>
              </a:rPr>
              <a:t>speciální mechanické převody pro dosažení vysokých převodových pomě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obvykle mají v planetovém věnci (korunovém kole) na excentru (poháněném hnacím hřídelem) otočně uložené ozubené k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hnací i hnaný hřídel jsou koaxi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průměr a počet zubů centrálního kola s vnějším ozubením je jen o málo menší než u korunového kola – tím určena excentri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převodový poměr se udává z počtu zubů těchto 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Zástupný symbol pro zápatí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Obr"/>
          <p:cNvPicPr/>
          <p:nvPr/>
        </p:nvPicPr>
        <p:blipFill>
          <a:blip r:embed="rId1"/>
          <a:stretch/>
        </p:blipFill>
        <p:spPr>
          <a:xfrm>
            <a:off x="684360" y="1844640"/>
            <a:ext cx="8135640" cy="3166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7474680" y="1916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zápatí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66ff"/>
                </a:solidFill>
                <a:latin typeface="Arial"/>
              </a:rPr>
              <a:t>A. CYKLICKÉ PŘEV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na hnacím hřídeli excentricky uloženo valivé loži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jeho vnější kroužek nese křivkový kotouč s uzavřenou cykloidou na obv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křivkový kotouč je v záběru se sadou otočných válečků (rozděleny rovnoměrně okolo čepů a upevněny ve skříni převodov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vždy bývá o jeden otočný váleček více než je počet zubů na obvodu křivkového kotou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ff"/>
                </a:solidFill>
                <a:latin typeface="Arial"/>
              </a:rPr>
              <a:t>z</a:t>
            </a:r>
            <a:r>
              <a:rPr b="1" lang="cs-CZ" sz="2400" spc="-1" strike="noStrike" baseline="-25000">
                <a:solidFill>
                  <a:srgbClr val="0066ff"/>
                </a:solidFill>
                <a:latin typeface="Arial"/>
              </a:rPr>
              <a:t>1</a:t>
            </a:r>
            <a:r>
              <a:rPr b="1" lang="cs-CZ" sz="2400" spc="-1" strike="noStrike">
                <a:solidFill>
                  <a:srgbClr val="0066ff"/>
                </a:solidFill>
                <a:latin typeface="Arial"/>
              </a:rPr>
              <a:t> = z</a:t>
            </a:r>
            <a:r>
              <a:rPr b="1" lang="cs-CZ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0066ff"/>
                </a:solidFill>
                <a:latin typeface="Arial"/>
              </a:rPr>
              <a:t> + 1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,   </a:t>
            </a:r>
            <a:r>
              <a:rPr b="0" i="1" lang="cs-CZ" sz="2400" spc="-1" strike="noStrike">
                <a:solidFill>
                  <a:srgbClr val="9999cc"/>
                </a:solidFill>
                <a:latin typeface="Arial"/>
              </a:rPr>
              <a:t>kde z</a:t>
            </a:r>
            <a:r>
              <a:rPr b="0" i="1" lang="cs-CZ" sz="2400" spc="-1" strike="noStrike" baseline="-25000">
                <a:solidFill>
                  <a:srgbClr val="9999cc"/>
                </a:solidFill>
                <a:latin typeface="Arial"/>
              </a:rPr>
              <a:t>1</a:t>
            </a:r>
            <a:r>
              <a:rPr b="0" i="1" lang="cs-CZ" sz="2400" spc="-1" strike="noStrike">
                <a:solidFill>
                  <a:srgbClr val="9999cc"/>
                </a:solidFill>
                <a:latin typeface="Arial"/>
              </a:rPr>
              <a:t> … počet otočných válečk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999cc"/>
                </a:solidFill>
                <a:latin typeface="Arial"/>
              </a:rPr>
              <a:t>                           </a:t>
            </a:r>
            <a:r>
              <a:rPr b="0" i="1" lang="cs-CZ" sz="2400" spc="-1" strike="noStrike">
                <a:solidFill>
                  <a:srgbClr val="9999cc"/>
                </a:solidFill>
                <a:latin typeface="Arial"/>
              </a:rPr>
              <a:t>z</a:t>
            </a:r>
            <a:r>
              <a:rPr b="0" i="1" lang="cs-CZ" sz="2400" spc="-1" strike="noStrike" baseline="-25000">
                <a:solidFill>
                  <a:srgbClr val="9999cc"/>
                </a:solidFill>
                <a:latin typeface="Arial"/>
              </a:rPr>
              <a:t>2</a:t>
            </a:r>
            <a:r>
              <a:rPr b="0" i="1" lang="cs-CZ" sz="2400" spc="-1" strike="noStrike">
                <a:solidFill>
                  <a:srgbClr val="9999cc"/>
                </a:solidFill>
                <a:latin typeface="Arial"/>
              </a:rPr>
              <a:t> … počet cykloidních zub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zápatí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Obr"/>
          <p:cNvPicPr/>
          <p:nvPr/>
        </p:nvPicPr>
        <p:blipFill>
          <a:blip r:embed="rId1"/>
          <a:stretch/>
        </p:blipFill>
        <p:spPr>
          <a:xfrm>
            <a:off x="611280" y="1484280"/>
            <a:ext cx="7848360" cy="37670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612720" y="4869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br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zápatí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POPIS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každá otáčka hnacího hřídele (a tedy i excentru) způsobí protiběžný pohyb křivkového kotouče o 1 z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unášecí otvory v křivkovém kotouči a unášecí válečky na hnaném hřídeli přenášejí pomalý otáčivý pohyb křivkového kotouče na hnaný hří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pro dosažení úplného odlehčení všech částí převodu od ohybového momentu (i lepší vyváženost) se používají dva křivkové kotouče přesazené o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99cc"/>
                </a:solidFill>
                <a:latin typeface="Arial"/>
              </a:rPr>
              <a:t>u běžného sériového provedení lze podle velikosti převodu a počtu stupňů dosáhnout výstupního točivého momentu nad 70.000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ro zápatí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3"/>
          <p:cNvPicPr/>
          <p:nvPr/>
        </p:nvPicPr>
        <p:blipFill>
          <a:blip r:embed="rId1"/>
          <a:stretch/>
        </p:blipFill>
        <p:spPr>
          <a:xfrm>
            <a:off x="900000" y="2565360"/>
            <a:ext cx="3424320" cy="300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4"/>
          <p:cNvPicPr/>
          <p:nvPr/>
        </p:nvPicPr>
        <p:blipFill>
          <a:blip r:embed="rId2"/>
          <a:stretch/>
        </p:blipFill>
        <p:spPr>
          <a:xfrm>
            <a:off x="4572000" y="2637000"/>
            <a:ext cx="3384720" cy="2823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99ff"/>
                </a:solidFill>
                <a:latin typeface="Arial"/>
              </a:rPr>
              <a:t>CYKLOIDÁLNÍ PŘEVOD „CYCLO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117440" y="5229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br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7526160" y="5084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br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Zástupný symbol pro zápatí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převody mají dva hnací kotouče navzájem přesazené o 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k záběru dochází ve dvou protilehlých mís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problém relativně velkých energetických ztrát řeší speciální cykloidní ozubení (ekvidistanta zkrácené epicykloi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korunové kolo 2 má ozubení tvořené válečky 7, otočné na čepech 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hnací hřídel 4 tvoří spolu s excentricky nasazenými kotouči jeden ce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excentry jsou přesazeny o 180° a jsou na nich nasazena valivá ložis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při otáčeni se kolo 1 (nebo 1´) odvaluje po stojícím ko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excentr zde plní funkci unášeče vlnového přev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hnaný hřídel 5 je zakončen přírubou se zalisovanými čepy 8 s otočnými válečky 9 (aby v záběru ozubení nevznikalo velké tř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cc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při otáčeni se tyto válečky odvalují v kruhových otvorech 1 a 1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Zástupný symbol pro zápatí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B. HARMONICKÉ PŘE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Arial"/>
              </a:rPr>
              <a:t>pohyb se přenáší deformacemi, které mají harmonický průběh a postupují po obvodu ko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Te0405s22"/>
          <p:cNvPicPr/>
          <p:nvPr/>
        </p:nvPicPr>
        <p:blipFill>
          <a:blip r:embed="rId1"/>
          <a:stretch/>
        </p:blipFill>
        <p:spPr>
          <a:xfrm>
            <a:off x="2411280" y="2492280"/>
            <a:ext cx="4457880" cy="3276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7021440" y="5373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r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ucitel</cp:lastModifiedBy>
  <dcterms:modified xsi:type="dcterms:W3CDTF">2012-01-09T13:52:44Z</dcterms:modified>
  <cp:revision>88</cp:revision>
  <dc:subject/>
  <dc:title>POSLOUPNOSTI</dc:title>
</cp:coreProperties>
</file>