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9.jpeg" ContentType="image/jpeg"/>
  <Override PartName="/ppt/media/image11.jpeg" ContentType="image/jpeg"/>
  <Override PartName="/ppt/media/image7.gif" ContentType="image/gif"/>
  <Override PartName="/ppt/media/image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7.wmf" ContentType="image/x-wmf"/>
  <Override PartName="/ppt/media/image1.jpeg" ContentType="image/jpeg"/>
  <Override PartName="/ppt/media/image15.wmf" ContentType="image/x-wmf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wmf" ContentType="image/x-wmf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964-F81C-4B48-B21C-95BAED19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F4C-34B1-4804-9680-FCAD07BE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AAB-325D-4FDE-8D2D-CFEE12DC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3B0-E3EF-4712-9627-F546085A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E61-5FBD-443E-B027-4C2626EC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F00-140D-4897-A78F-6A6BEC38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95F-4575-4B30-AC6B-CD27EEE0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3C5-48DC-4691-B11A-B11CE899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8DE-19DD-49BF-901B-EA30528A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4C8-7500-4500-89E8-2B8BB9EE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F88-02EF-4DCE-85B0-70B075F2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4D9-ACBE-4DFD-9B15-C24F938D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6C71-0028-40A7-908A-F2D8FD2E2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Brzdi&#269;ka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auta5p.eu/informace/podvozek/podvozek3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Klotzbremse_MaK_450_C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ukv.cz/zkuseb/okno_z/jizdni-brzdova-zkouska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Brzda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z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6769080" cy="1044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08680" y="5373720"/>
            <a:ext cx="32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acovala ing. Dana Šejvl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4097160" cy="307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Arial"/>
              </a:rPr>
              <a:t>Jednočelisťová brzda s vnější čelist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284720" cy="4680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71840" y="1341360"/>
            <a:ext cx="47721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-li pracovat jako brzda spouštěcí, musí platit rovnost momentu vyvolanému spouštěným břemenem o tíze G a momentu vyvolanému brzdnou silou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 . R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. R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.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 . R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. f . R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. a = F .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F . l /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 . R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F. f . R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. l /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třebná brzdná sí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 = G . R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a / (f . R 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. 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Arial"/>
              </a:rPr>
              <a:t>Dvoučelisťová brzda s pohyblivými vnějšími čelist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201080" cy="42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. R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= 2 . 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. R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2 čelist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. R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(2 . R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 podmínky smykového tření se odvodí normálová síla 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= 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/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R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/ (2 . f . R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 rovnováhy sil na páce tvořené čelistmi 9 se určí síla F3 , kterou musí vyvolat píst 8 v brzdovém válci 7 jednotlivých kol vozidla (obvykle bývá c = d3 / 2 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. d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2 = 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. d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. R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(4 . f . R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le Pascal. zákon na hlavní brzdový válec 3 (síla na píst 2 – F2 ) a brzdové válce kol 7 (síla na píst 8 – F3 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 = 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S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S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4 . 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π . D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 = 4 . 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π . D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= 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. (D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. R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. (D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(4 . f . R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vod na páce pedálu brzdy 1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. d = Fp .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d /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= 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. R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. d . (D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/ (4 . f . R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Arial"/>
              </a:rPr>
              <a:t>Dvoučelisťová brzda hydraulicky ovládaná s vnitřními čelist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905800" cy="4005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31960" y="5373720"/>
            <a:ext cx="441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 osobní automob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tná kontrola množství brzdové kapal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zduchová bublina - nebrz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vouokruhová pneumatická brz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7272360" cy="4755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45400" y="4941720"/>
            <a:ext cx="483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nákladní automob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 menší náchylnost na poško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 vzduch je neustále doplňován kompres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ložitější konstru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utný větší t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84358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lačený vzduch z kompresoru jde přes vyrovnávač tlaku 3 a zpětný ventil 13 do zásobníků tlakového vzduchu 4 a 5 jednotlivých okruhů.  Z nich je zásoben tlakovým vzduchem hlavní brzdový válec (rozdělený na 2 samostatné komory) 16, který při zmáčknutí pedálu brzdy 15 dodává tlakový vzduch do brzdových válců jednotlivých kol 11 a také do brzdiče přívěsu 8, odkud jde tlak přes kohout 9 do hlavice připojení přívěsu 10. Brzdové válce 11 ovládají brzdové čelisti jednotlivých kol 12 stejně jako u hydraulické brzdy. Tlak vzduchu v obou okruzích je průběžně kontrolován pomocí manometrů 14, které příp. pokles tlaku okamžitě signalizují na přístrojové desce řidič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toučová brz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5048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rzdové čelisti svírají kotouč nasazený na brzděném hřídeli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oderní, široce používaná brz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80200" y="2637000"/>
            <a:ext cx="2863800" cy="3241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0920" y="2440080"/>
            <a:ext cx="597672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kotouč – kovový, u dražších aut může být 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 příměsí keramiky (nižší hmotnost, menší opotřebení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brzdový třmen - je součástka, do které je namontován brzdový píst (bývá obvykle jeden; více u sportovních aut) a suvně připevněné brzdové destičky, je pevně připojen k vozidl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brzdový píst – v brzdovém třmenu, k němu hadička s brzdnou kapalino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brzdové destičky - destičky přitlačované brzdovými písty, materiál aramid, kovokeramika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982080"/>
            <a:ext cx="820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hody kotoučových brz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sahují vyššího brzdného účin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á citlivost na změnu součinitele tření (znečištění, zahřátí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bilita brzdného účinku při dlouhodobém použí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adná údrž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seřizuje se žádná vů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ší hmot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mění se funkce při opotřebení oblož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brý odvod tepl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výhoda kotoučových b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ní-li vybavena mechanickým rozpínáním, nedá se použít jako brzda parkovac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29000" y="1197000"/>
            <a:ext cx="5715000" cy="4790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41800" cy="3313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8880" y="342900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toučové brzdy na k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3330720" cy="212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8360" y="358920"/>
            <a:ext cx="8207280" cy="54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79930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rzda je technické zařízení slouží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zastav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omalení pohybujícího se předmě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bo pro jeho udržení v kli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inetická energie je při brzdění zpravidla přeměňována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jiný druh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konstrukce rozlišujeme brz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draul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neuma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dynam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ásová brz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504800"/>
            <a:ext cx="842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ocelový (brzděný) válec dosedá ocelový brzdící pás s nebo bez brzdového oblož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zda je ovládaná poměrně malou silou a dosahuje dobrého účin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ýhoda – snížená možnost odvodu tepla, čímž se brzda často přehřívá a klesá tak její účin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ívá se spíše u pevných zařízení – strojovny lanových drah, jeřá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le způsobu upevnění pásu rozlišuj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lad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tov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ov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0000" y="3860640"/>
            <a:ext cx="2685960" cy="19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ásová brzda jednoduch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504800"/>
            <a:ext cx="41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s je přitlačován k bubnu po celé své stykové délce rovnoměrně. Protože je pás napnut na obou koncích, jsou obvodové síly různé z důvodu otáčení bubnu. Na tom konci řemene, kde napínání působí proti směru otáčení, je větší obvodová síla, než na konci, kde napínání působí ve směru otáčení. Matematicky jsou ty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íly vyjádřeny Eulerovým vzta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716360" y="1413000"/>
          <a:ext cx="4372200" cy="48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413000"/>
                    <a:ext cx="437220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ásová brzda součtov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504800"/>
            <a:ext cx="4537080" cy="20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tato brzda je vhodná pro oba směry otáče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jsou-li obě ramen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ejně velká, nezávisí velikost brzdné síly na poloze sil 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S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S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 = G . R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. a . (e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α.f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 1) / [1 . R2 . (e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α.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1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003640" y="1341360"/>
          <a:ext cx="398952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341360"/>
                    <a:ext cx="398952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64000" y="1268280"/>
          <a:ext cx="3781440" cy="51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1268280"/>
                    <a:ext cx="378144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ásová brzda rozdílov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197000"/>
            <a:ext cx="4969080" cy="50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a konce pásu jsou upevněny na páce spojené s působištěm brzdné síly F. Zatímco při působení brzdné síly F ramen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 kterém působí F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) pás přitlačuje k bubnu, na straně druhé – ramen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 kterém působí F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– se pás „odlehčuje“. Protože ramen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větší než ramen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ýsledným efektem je přitlačování pásu k bub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jeden směr otáčení,obvykle u ručních zdvihad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mi malá síla (při vhodném poměr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/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potřebná k ubrzdění spouštění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jímavostí u tohoto typu brzdy je nastavení poměru ramen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kto: a = e α.f . b V tomto případě je velikost čitatele u výpočtu brzdné síly F = 0, takže brzda brzdí „sama“ bez použití jakékoliv vnější brzdné síly. Tento zdánlivý paradox lze snadno vysvětlit tím, že při otáčení si buben „natahuje“ přes rameno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áku do směru otáčení, tím však rameno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tahuje řemen na bubnu. Protože rameno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b&gt;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, čím více se řemen natahuje na buben, tím více se tento řemen kolem bubnu utahuje“. V praxi se však toto nevyužívá, protože brzdění je trha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padková brz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5048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západka zabrání pohybu - použitelná pouze jako zajišťovací nebo jako pojistka - například na napínacích kladkách pro případ náhlého odlehč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39424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7334280" cy="2962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aulická brz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26828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tor 1 a stator 2 mají lopatky, které jsou vůči sobě axiálně posunu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stor mezi nimi je vyplněn kapalinou (vyšší viskozita – účinnější brzd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uží k měření brzděného momentu, proto je stator uložen pohyblivě na pružině 4 - na ukazateli 5 se odečítá velikost ubrzděného momen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enší účinnost brzdění proti mechanickým brzdá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tyto brzdy nelze použít jako stavěcí – s klesající rychlostí pohybu klesá rychlost kapaliny a při úplném zastavení rotoru kapaliny neproudí, tudíž nepřenáší žádnou energii a brzda nebrzd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tera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7840" y="1576440"/>
            <a:ext cx="83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Br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samurai.terenaky.cz/.../bubnovebrzdy/1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uta5p.eu/informace/podvozek/podvozek3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. Kříž: Stavba a provoz stro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. Zelený: Stavba strojů – strojní součá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8501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le působení síly rozdělujeme brz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á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á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le použi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oz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z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chran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zpečnos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lehč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ezovač rychl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ké brz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504800"/>
            <a:ext cx="84247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ůsobí mechanicky na pohyblivou část vozidla nebo stroje (na kolo, nápravu, převodové mechanismy atd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špalíková brz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bnová brz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toučová brz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ásová brz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ápadková brz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Špalíková brz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341360"/>
            <a:ext cx="86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zdové špalky působí na jízdní plochu kola, do začátku 20. století nejběžnější typ, dodnes se užívá u železni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špalík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dřevěné (kočáry, zemědělské voz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šedá litina (železn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mové (jízdní ko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es – kompozitní materiá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598920"/>
            <a:ext cx="2095560" cy="2790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732720" y="3598920"/>
            <a:ext cx="2093760" cy="277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132000" y="3500280"/>
            <a:ext cx="3384720" cy="275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3860640"/>
            <a:ext cx="3240000" cy="1957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9280" y="476280"/>
            <a:ext cx="8748720" cy="2681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rozpora"/>
          <p:cNvPicPr/>
          <p:nvPr/>
        </p:nvPicPr>
        <p:blipFill>
          <a:blip r:embed="rId4"/>
          <a:stretch/>
        </p:blipFill>
        <p:spPr>
          <a:xfrm>
            <a:off x="250920" y="3357720"/>
            <a:ext cx="2849400" cy="2877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796000" y="3357720"/>
            <a:ext cx="311940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3429000"/>
            <a:ext cx="4067280" cy="29019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bnová brz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197000"/>
            <a:ext cx="842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rzdová páka, spojená s pístnicí brzdového válce, otáčí při brždění klíčem brzdy, který rozevírá brzdové čelisti a přitlačuje jejich obložení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brzdovému bubnu. Při odbrzdění vrací čelisti do původní polohy vratné pružiny. Používána během 20. století v automobilech, dnes na ústup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tlačná síla může být vytvořena dvěma způso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aulic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mocí rozpěrného válečku (provozní brz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hanic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mocí rozpěrné páky (parkovací a nouzová brz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860640"/>
            <a:ext cx="482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zdové bubny – šedá litina, ocelolit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zdové čelisti – ocelový plech, na n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lepeno nebo přinýtováno brzdové oblož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pěrné zařízení – jeden nebo dva rozpěrné válečky a čep. Rozpěrný váleček může mít jeden nebo dva píst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645120"/>
            <a:ext cx="8208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i brždění se obložení a buben opotřebovávají a vzniká vůle. Tím se prodlužuje chod brzdy a klesá její účinnost. Proto vůli seřizujeme na brzdové páce nebo v základní desce brzdy. Nové bubnové brzdy mají automatické seřizovaní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hody bubnových brz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zda je umístěna uvnitř bubnu – je chráněna proti nečistotá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ší životnost obložení (proti kotoučový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výhody bubnových brz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i zahřátí klesá jejich brzdný účin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ben se teplem roztahuje, a tak se snižuje přítlak brzdových čelistí, a při velkém přehřátí se může buben roztáhnout tak, že zdvih brzdového válce již nebude stačit !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o při sjezdu z delšího kopce používáme motorovou brzdu, přeřazení na nižší převodový stupeň nebo retardé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476520" y="1052640"/>
            <a:ext cx="5667480" cy="480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2571840"/>
            <a:ext cx="3360960" cy="428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20:35:18Z</dcterms:created>
  <dc:creator>VOŠ a SPŠ Strakonice</dc:creator>
  <dc:description/>
  <dc:language>en-US</dc:language>
  <cp:lastModifiedBy>ucitel</cp:lastModifiedBy>
  <dcterms:modified xsi:type="dcterms:W3CDTF">2012-01-09T13:40:49Z</dcterms:modified>
  <cp:revision>55</cp:revision>
  <dc:subject/>
  <dc:title>Brzdy</dc:title>
</cp:coreProperties>
</file>