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3D5-7905-4E5C-9E84-C136AFCF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880-503C-4944-BCE1-069CB275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7CE-F41F-4303-A5DC-EDEC431F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786-2252-4863-A3AF-F0210AF8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0D2-E18F-44C5-AB7D-D4401DA4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7F0-6664-493C-8840-FF39B473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731-652B-4E2C-B567-9261A2F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151-773C-4576-ADD6-A390BDE9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7B7-DAEF-4235-BFF6-01A4CBB3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154-DB18-4341-9BB8-509B7FA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21E-6DC6-4091-A3ED-4E08F6FE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857-F5D1-43C7-AD1D-D1EC5EFF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AB3C-7699-4557-BE14-E9EA50720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f/N&#253;ty_-_Pet&#345;&#237;nsk&#225;_rozhledn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ýtové spoj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64000" y="5084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g. Bc. Petra Řezáč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659640" y="1197000"/>
            <a:ext cx="2178000" cy="266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438280" cy="20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203640" y="260280"/>
            <a:ext cx="3093840" cy="4089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260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ýtovací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ýtovací kle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9308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ýtov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světlete přímé a nepřímé nýtová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y použijete nýt s trn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erte vhodné materiály pro přímé nýtování – 12 220, 11 300, 11 500,         11 320, 11 6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ou technologií můžeme nýtování nahra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elený, Jiří: Stavba strojů a strojní součásti, Computer Press Brno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inveber,Jiří – Vávra,Pavel: Strojnické tabulky, Albra – pedagogické nakladatelství, Úval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n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cs.wikipedia.org/wiki/Soubor:N%C3%BDty_-_Pet%C5%99%C3%ADnsk%C3%A1_rozhledn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cyklisti.wz.cz/NARADI/NYTOVAKV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www.modding.cz/images/navody/naradi/nytkleste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kovarna.webzdarma.cz/obrazky/nytovani/nyty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cykl.cz/media/1137/image/otv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ozebíratelné sp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ímé nýtov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j vznikne deformací konce jedné ze spojovaných součástí, vložené do dru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římé nýtov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j vznikne pomocí ný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ímé nýtov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menší součásti v elektrotechnice a jemné mech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římé nýtová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hrazuje se svařováním a lep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spojování plechů z lehkých slitin v leteckém průmy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spoje v nepřístupných místech – nýt s tr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3024360" cy="253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932360" y="3141720"/>
            <a:ext cx="3648240" cy="273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otvirak"/>
          <p:cNvPicPr/>
          <p:nvPr/>
        </p:nvPicPr>
        <p:blipFill>
          <a:blip r:embed="rId4"/>
          <a:stretch/>
        </p:blipFill>
        <p:spPr>
          <a:xfrm>
            <a:off x="900000" y="3357720"/>
            <a:ext cx="243072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32720" y="6021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žití nýtových spoj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603840" cy="495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40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ýtování u leta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Soubor:Nýty - Petřínská rozhled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197000"/>
            <a:ext cx="6469200" cy="484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70360" y="49680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řínská rozhledna v Pr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762440" cy="385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16360" y="83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akové nád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Tlaková nádoba - prodloužení rektifikační kolony Dobrovice"/>
          <p:cNvPicPr/>
          <p:nvPr/>
        </p:nvPicPr>
        <p:blipFill>
          <a:blip r:embed="rId2"/>
          <a:stretch/>
        </p:blipFill>
        <p:spPr>
          <a:xfrm>
            <a:off x="5651640" y="321300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ční zás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malizované nýty –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eriály pro nýtování – s dobrou tažností 11 300, 11 320, 11 34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iník, měď a jejich sli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 nepřímého nýtování – dodržení předesaného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tvoru pro ný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rukce musí být namáhána pouze na sm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4176720" cy="3457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5892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ý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58:26Z</dcterms:created>
  <dc:creator>jirka</dc:creator>
  <dc:description/>
  <dc:language>en-US</dc:language>
  <cp:lastModifiedBy>kABINET-413</cp:lastModifiedBy>
  <dcterms:modified xsi:type="dcterms:W3CDTF">2010-05-06T06:27:10Z</dcterms:modified>
  <cp:revision>11</cp:revision>
  <dc:subject/>
  <dc:title>Nýtové spoje</dc:title>
</cp:coreProperties>
</file>