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1EF-D609-4E2A-8584-85139B41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F1D-90EF-49A2-975B-EE3ACF9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A38-5AE6-441D-AB57-C3832EDE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2D8-44C9-4BE3-B3E7-B795923B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AFF-A798-4E56-BC8D-F472E7C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36E-AB3A-45D1-9CDB-823118C9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DAA-97D0-4FC1-989F-A23053F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DED-43F2-4651-AD90-6FB0DFE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C2F-A047-4BC4-908B-7A22B3E8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A49-ED21-46A1-8E93-8C10980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96E-F2FD-445B-98AC-4D52D4C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7EF-5A9A-495A-8D91-8AEF184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A2A-1276-46AB-A44B-140AF4F82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5BDA-A02F-4F95-A78D-68D98CE5C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5010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Jadern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 elektrárn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40360" y="40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okru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= radioaktivní část elektrár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doba reaktoru a celý primární okruh jsou navrženy na tlak 17,6 MPa a při teplotě 350 °C (provozní tlak je 15,7 MPa při teplotách 290 -320 °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ě velký tlak najdeme například v hloubce 1760 metrů pod volnou hladinou v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ktor – horní bl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ástupný symbol pro obsah 3" descr="Reaktor_horni_blok.jpg"/>
          <p:cNvPicPr/>
          <p:nvPr/>
        </p:nvPicPr>
        <p:blipFill>
          <a:blip r:embed="rId1"/>
          <a:stretch/>
        </p:blipFill>
        <p:spPr>
          <a:xfrm>
            <a:off x="2916360" y="1052640"/>
            <a:ext cx="357192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k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měry - výška 10,9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ům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loušťku stěn 193 mm + 7 - 18 m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erezové výstel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motnost 322 tu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í zóna  - ve spodní části reak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500040"/>
            <a:ext cx="8472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ktor je chlazen 4 hlavními cirkulačními čerpa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kální odstředivá jednostupňová čerpadla umístěna na studených větvích cirkulačních smyček primárního okruh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větlost potrubí 850 m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adivo odvádí teplo z reaktoru do parogener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erpadla jsou vysoká 11,9 m, jejich příkon za nominálního provozu je 5,1 MW, hmotnost je 156 t, průtok jedním čerpadlem - 21 200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3 palivových souborů (tyčí, kazet), výška 4,5 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ždý palivový soubor je tvořen 312 palivovými prout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 každém proutku 386 ks pelet (válečků U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leta váží 4,8 g celkem je použito asi 19,2 milionu pe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eleta nahradí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,6 t hnědého uhlí nebo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80 kg černého uhlí nebo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38 kg benzín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sázka paliva do reaktoru je asi 81 tun uranu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92 tun U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ivové soub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Zástupný symbol pro obsah 3" descr="palivove_soubory.jpg"/>
          <p:cNvPicPr/>
          <p:nvPr/>
        </p:nvPicPr>
        <p:blipFill>
          <a:blip r:embed="rId1"/>
          <a:stretch/>
        </p:blipFill>
        <p:spPr>
          <a:xfrm>
            <a:off x="2916360" y="1341360"/>
            <a:ext cx="37861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 zavážení pal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Reaktor_palivo_zavazeni_detail.jpg"/>
          <p:cNvPicPr/>
          <p:nvPr/>
        </p:nvPicPr>
        <p:blipFill>
          <a:blip r:embed="rId1"/>
          <a:stretch/>
        </p:blipFill>
        <p:spPr>
          <a:xfrm>
            <a:off x="2700360" y="981000"/>
            <a:ext cx="379080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ost jednotlivých zdrojů energie můžeme porovnat i podle jejich výhřevnosti, která udává, kolik tepla na jednotku paliva získáme jeho dokonalým spálením (včetně ochlazení spalin na původní teplotu paliva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aderného paliva nehovoříme o výhřevnosti, ale o vyhoření, které udáváme v jednotkách megawattden na kilogram (MWd/kg). Přitom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 MWd = 8,64 . 104 M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rovnání výhřevnosti pal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liv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řevnost MJ/k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erné uhl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1,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nědé uhl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1,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uché dřevo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6,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enzín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2,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trolej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4,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d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5,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derné palivo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5 MWd/kg = 3,9 . 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J/k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ntáž a kontr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3" descr="Reaktor_pohony_demontaz.jpg"/>
          <p:cNvPicPr/>
          <p:nvPr/>
        </p:nvPicPr>
        <p:blipFill>
          <a:blip r:embed="rId1"/>
          <a:stretch/>
        </p:blipFill>
        <p:spPr>
          <a:xfrm>
            <a:off x="1000080" y="1714680"/>
            <a:ext cx="7142040" cy="46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263664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árn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kundárn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adíc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hranné barié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Nadpis 1"/>
          <p:cNvSpPr/>
          <p:nvPr/>
        </p:nvSpPr>
        <p:spPr>
          <a:xfrm>
            <a:off x="539640" y="1268280"/>
            <a:ext cx="8501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Jaderná elektrárna Temelí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ěpné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ádro uranu 235 rozpadne zpravidla na dvě středně těžká jádra, tzv. štěpné produk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ři každém štěpení se uvolní 2 až 3 neutrony, které mohou rozštěpit další jádro ur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vděpodobnost, že nastane rozštěpení dalšího jádra, je tím větší, čím menší je rychlost neutron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ká energie štěpných produktů se mění na energii tepelnou a jaderné palivo se silně ohří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plota uvnitř palivového proutku dosahuje více než 1200 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plo je odváděno chladicí vodou, která proudí kolem palivových proutků do parogenerát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de končí tzv. primárn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rá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átka která zpomaluje rychlé neutr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 elektrárnách s reaktory typu VVER je moderátorem chemicky upravená v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bsorbé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átka, která pohlcuje neutr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JETE je použit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gulačních tyčí -  rychlost pohybu 0,8 -2,2 ms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e kyselina boritá přidaná do chladicí vody a pohyblivé regulační tyče obsahující bó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ýšením jejich množství v aktivní zóně dochází ke snižování počtu štěpení, a tím ke snižování výkonu reaktoru nebo případně až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odstavení reakt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ej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98064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á dvě základní funk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ánit okolí elektrárny před následky případné provozní havár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ánit vnitřní zařízení před vnějšími vlivy (pád letadla, nájezd hnutí Greenpeace, Duha aj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mě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ýška 56 m, vnitřní průměr 45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nitřní ocelová výstelka tloušťky 8 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ěny jsou silné 1,2 m a jsou vyplněny potrubím z umělé hmoty, kterým jsou protažena ocelová lana, předepnutá na 1000 t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a vše uzavírá kulový vrchlík – stěna 1,1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tejnment je projektován na maximální přetlak 0,49 MPa při 150 °C. 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rvalé udržování podtlaku uvnitř umožňuje v případě malých úniků radioaktivity její odfiltrování a kontrolované odsátí vzduchu do neustále monitorovaného ventilačního komí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5" descr="kontejment.jpg"/>
          <p:cNvPicPr/>
          <p:nvPr/>
        </p:nvPicPr>
        <p:blipFill>
          <a:blip r:embed="rId1"/>
          <a:stretch/>
        </p:blipFill>
        <p:spPr>
          <a:xfrm>
            <a:off x="1187280" y="2133720"/>
            <a:ext cx="676296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okru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obsahuje žádné radioaktivní prv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 tvořen především turbosoustrojí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= turbína + generáto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motnost turbogenerátoru –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10 tu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 parogenerátorech se tvoří pára pro pohon turb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yklus páry a vody v sekundárním okruhu je uzavře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dbytečné teplo je pomocí kondenzátorů odváděno chladicím okruhem do chladicích věž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bosoustroj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5" descr="parni_turbina_JETE.jpg"/>
          <p:cNvPicPr/>
          <p:nvPr/>
        </p:nvPicPr>
        <p:blipFill>
          <a:blip r:embed="rId1"/>
          <a:stretch/>
        </p:blipFill>
        <p:spPr>
          <a:xfrm>
            <a:off x="755640" y="692280"/>
            <a:ext cx="7516800" cy="54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68360" y="333360"/>
          <a:ext cx="8115120" cy="5651640"/>
        </p:xfrm>
        <a:graphic>
          <a:graphicData uri="http://schemas.openxmlformats.org/drawingml/2006/table">
            <a:tbl>
              <a:tblPr/>
              <a:tblGrid>
                <a:gridCol w="4057200"/>
                <a:gridCol w="4057920"/>
              </a:tblGrid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444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444444"/>
                          </a:solidFill>
                          <a:latin typeface="Arial"/>
                          <a:ea typeface="Times New Roman"/>
                        </a:rPr>
                        <a:t>Turbosoustroj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4444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na výrobní bl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dílů turbí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vysokotlaký + 3 nízkotlak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áč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 za minu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ětí na svorkách alternáto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azení alternáto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dík-v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484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arogenerátorů na jeden bl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běr páry z jednoho parogeneráto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0 t za h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ak páry na výstu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 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plota páry na výstu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,5 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ladící vě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3" descr="chlad_vez.jpg"/>
          <p:cNvPicPr/>
          <p:nvPr/>
        </p:nvPicPr>
        <p:blipFill>
          <a:blip r:embed="rId1"/>
          <a:stretch/>
        </p:blipFill>
        <p:spPr>
          <a:xfrm>
            <a:off x="2556000" y="981000"/>
            <a:ext cx="4071960" cy="54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rimárn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derný rea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 cirkulační čerpad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rubí primárního okru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rogenerá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stémy chlazení a čišt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stémy transportu a manipulace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 jaderným paliv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šina těchto zařízení je umístěna uvnitř hermetické obálky, tzv. kontejmen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zpečnostní systémy v Temelín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émy jsou ztrojnásobené a každý má schopnost bezpečně odstavit a dochladit reak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ystémy jsou podle své funkce a významu pro jadernou bezpečnost obecně rozdělovány n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ezpečnostní systémy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émy související s jadernou bezpečností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ruhé jmenované zahrnují přístrojové vybavení pro monitorování bezpečnostně důležitých veličin a stavů jaderné elektrárny a pro automatické spouštění výkonných bezpečnostních systémů, tj. takových systémů, které na základě signálů od ochranných systémů zajišťují plnění příslušných bezpečnostních funkcí. Podpůrné systémy zajišťují funkce ochranných a výkonných systémů (zajištění elektrického napájení, chlazení apod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2602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výkonným bezpečnostním systémům na JE Temelín např. patř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. Pasivní systém (nepotřebuje ke svému zapůsobení zdroj elektřiny, působí na základě fyzikálních zákonů) havarijního chlazení aktivní zóny  reaktoru. Tento systém je tvořen čtyřmi hydroakumulátory a slouží k rychlému zaplavení aktivní zóny při mimořádných situacích, které jsou spojeny s náhlým poklesem tlaku v primárním okruh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. Čtyři aktivní systémy, které jsou zálohované 3 x 100 %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.1. Nízkotlaký systém havarijního chlazení aktivní zóny. Systém slouží k dochlazování aktivní zóny a k dlouhodobému odvodu zbytkového tepelného výkonu reaktor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.2. Vysokotlaký doplňovací systém. Systém slouží k potlačení havárií s rychlým nárůstem výkonu reaktor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.3. Vysokotlaký systém chlazení aktivní. Systém slouží k udržování aktivní zóny v podkritickém stavu při zachování vysokého tlaku a k chlazení aktivní zóny při malé a střední havárii typu LOCA, tj. při havárii spojené se ztrátou chladiv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.4. Sprchový systém ochranné obálky. Systém zajišťuje snížení tlaku v hermetických prostorech po havárii typu LOCA, tj. zabraňuje únikům radioaktivních látek do životního prostřed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Systém ochrany primárního okruhu při převýšení tlaku. Systém zabraňuje porušení integrity primárního okruhu prostřednictvím kompenzátoru objemu a jeho pojišťovacích ventil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. Systém ochrany sekundárního okruhu. Systém zajišťuje regulaci tlaku páry v parovode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 Mechanický systém odstavení reaktoru. Systém zajišťuje pád souboru absorpčních tyčí do aktivní zóny, a tím převedení  reaktoru do podkritického stavu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unkčnost bezpečnostních systémů musí být zachována při všech projektem předpokládaných událostech (normální a abnormální provoz, poruchy, výpadky zařízení a nehody na jaderné elektrárně včetně maximální projektové nehody, zemětřesení, požárů, vichřic, zátop a událostí vyvolaných lidskou činností, kterými jsou pád letadla, exploze, diverzní akce ap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lší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území ČR jsou mimo tyto energetické reaktory ještě další tři reaktory, ovšem podstatně nižšího výkonu, které jsou provozovány pro výzkumné a školicí účely. Dva výzkumné reaktory jsou v Ústavu jaderných výzkumů v Řeži u Prahy a školní reaktory velmi malého výkonu na Fakultě jaderné a fyzikálně inženýrské v Pra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emní literatura J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ekundární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stémy parního potrubí přivádějící páru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parogenerátoru o teplotě 278,5 °C a tlaku 6,3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stémy úpravy napájecí v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urbosoustroj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stémy přepouštěcích st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ciální (chladící) okru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ladící vě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ždý blok má 2 vě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ní průměr 130,7 m (fotbalové hřiště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á asi 120 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ůměr v koruně 82,6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loušťka stěny je 18 - 9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ška 155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da se ochlazuje na 6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 čtyř chladicích věží Temelína se odpaří vod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obsahu  bazénu v pražském Podolí asi za 20 až 30 minu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3" descr="JETE_letecky_4veze.jpg"/>
          <p:cNvPicPr/>
          <p:nvPr/>
        </p:nvPicPr>
        <p:blipFill>
          <a:blip r:embed="rId1"/>
          <a:stretch/>
        </p:blipFill>
        <p:spPr>
          <a:xfrm>
            <a:off x="720720" y="720720"/>
            <a:ext cx="7920000" cy="57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260280"/>
          <a:ext cx="8229600" cy="617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8480">
                <a:tc>
                  <a:txBody>
                    <a:bodyPr lIns="28080" rIns="28080" tIns="14040" bIns="14040" anchor="ctr">
                      <a:noAutofit/>
                    </a:bodyPr>
                    <a:p>
                      <a:pPr marL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44444"/>
                          </a:solidFill>
                          <a:latin typeface="Arial"/>
                          <a:ea typeface="Times New Roman"/>
                        </a:rPr>
                        <a:t>Základní technické údaje reakt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4444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k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akovodní VVER 1000, typ V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alivových soub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alivových proutků v jednom soubo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ohacení pal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. 5%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ivová vsázka (U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 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klus výměny pal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tyřlet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chladicích smyč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m chladiva v primárním okru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7 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plota chladiva na vstu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 290 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924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plota chladiva na výstu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 320 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covní tl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080" rIns="28080" tIns="14040" bIns="140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 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00040" y="78588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čet reaktor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lektrický výkon jednoho reakto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81 M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pelný výkon jednoho reakto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čet palivových souborů v reakto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čet regulačních tyčí z bóru a kadm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čet chladicích čerpadel pro jeden reak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čet turbí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čet chladicích věž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z reakt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3" descr="rez_reaktorem.jpg"/>
          <p:cNvPicPr/>
          <p:nvPr/>
        </p:nvPicPr>
        <p:blipFill>
          <a:blip r:embed="rId1"/>
          <a:stretch/>
        </p:blipFill>
        <p:spPr>
          <a:xfrm>
            <a:off x="539640" y="1014480"/>
            <a:ext cx="770436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0:05:35Z</dcterms:created>
  <dc:creator>Ondra</dc:creator>
  <dc:description/>
  <dc:language>en-US</dc:language>
  <cp:lastModifiedBy>ucitel</cp:lastModifiedBy>
  <dcterms:modified xsi:type="dcterms:W3CDTF">2012-01-09T13:57:56Z</dcterms:modified>
  <cp:revision>43</cp:revision>
  <dc:subject/>
  <dc:title>Jaderná elektrárna Temelín</dc:title>
</cp:coreProperties>
</file>