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3B5-B04C-4108-A9D5-8E5CF720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540-EE2E-468F-A055-FD3182F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B90-99BC-4C5E-8771-B61B269D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738-8FDD-4237-98D7-6773080F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7F28-01BE-4458-A137-D4D16FAD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7D8-5E41-41BB-B106-ECBBFCAA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D8C-44D3-4E83-BCE4-12363C1E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D778-E354-4618-BDC1-22456280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441-661B-45B4-9B4F-43D48BC5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5F4F-1884-4488-96AC-C7851AF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37B8-4305-400C-82EC-45C23B5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B64-7B85-472B-B979-91A548F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50DE-92CD-4B9B-9B81-9AE597E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CA97-9752-4AF7-AB1C-0AE5ACF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183E-564C-4282-8DEC-3FB4E8D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F03-BFBD-4134-A8E3-0B17E5E4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54FB-E90E-43E1-837C-A8D8A4F5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B51-D1AD-4FAC-BA8F-E61A03B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56B-D947-4FFD-8B0F-78CC59B6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69D-E0D4-41AD-98AC-C0C32F85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5AB-F42D-49A0-9A90-46F66753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075-370D-4452-84EC-DA92132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F73-6FA0-454B-9FDC-414E8A6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8BE-5237-4C67-8727-B8AB1ED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96E-9898-4A72-B6E7-2D607CAF6A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051E-8B56-4B26-A566-6DF766FD64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ápustkové kování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racovala Ing. Petra Řezáč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nečné úpravy výkovků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střižení výronku, popř. prostřižení blan v otvorech, rovnání výkov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kovek se zbavuje okují (moření, otryskává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pelně se zpracovává (normalizační žíhání) nebo za studena kalibru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976720" cy="53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řesné kování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kovky s minimálními přídavky na obrábění i úkosy se zhotovují v uzavřených zápustkách, tzv. přesným k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úspěšné kování je třeba přesně dodržovat objem a středění vloženého materiálu do zápustk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výhodnější jsou rotační tv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281800" cy="436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ěkuji za pozornos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292360" y="3573000"/>
            <a:ext cx="180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www.ostroj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www.ksp.tul.cz/cz/kpt/obsah/vyuka/skripta_tkp/sekce/03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www.zbirovi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www.scienceblogs.de/neurons/Kurbelwelle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ttp://speedpro.cz/catalog/images/H_ojnice_escort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ápustkové kov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uží k výrobě velkého počtu tvarově stejných součástí z ocelí nebo jiných tvárných sli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avní předností je vysoká výkonnost a snadná obsl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kovky mají omezené rozměry a hmot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425680" cy="1984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024360" cy="206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2920" y="5300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říklady výkov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3333960" cy="2381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076720" y="2781360"/>
            <a:ext cx="3167280" cy="316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ápust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voudílný nástr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utina zápustky má tvar shodný s tvarem výkov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měry jsou zvětšeny o hodnotu smrštění vychladlého výkovku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cc"/>
                </a:solidFill>
                <a:latin typeface="Tahoma"/>
                <a:ea typeface="Arial"/>
              </a:rPr>
              <a:t>výronková dráž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66"/>
                </a:solidFill>
                <a:latin typeface="Tahoma"/>
                <a:ea typeface="Arial"/>
              </a:rPr>
              <a:t>jednodutinová nebo postup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Jednodutinová zápust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409840" cy="1809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5903640" cy="389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stupová zápust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5184720" cy="412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43640" y="2146680"/>
            <a:ext cx="208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stupová zápustka pro buchar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dutin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1 – prodlužov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2 – rozdělov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3 – předkov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4 – kov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5 – dokončov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680000" cy="1969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277488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00720" y="620640"/>
            <a:ext cx="3384360" cy="253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92360" y="5300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ápust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stupová zápust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: zápustky - oceli 19 423,     19 642, 19 662, vložky – 19 720,      19 7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měnné tvarové vlož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buchar, l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končovací dutina uprostř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eště, rob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stři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ronková drážk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dokončovací finální duti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úžená část se nazývá můstkem, rozšířená zásobník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ronek se dodatečně odstraňuje ostřih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3640" y="4508640"/>
            <a:ext cx="3816360" cy="1573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0360" y="4868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ronková drážka v zápustce (a – buchar, b – li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7:49:11Z</dcterms:created>
  <dc:creator>rezacova</dc:creator>
  <dc:description/>
  <dc:language>en-US</dc:language>
  <cp:lastModifiedBy>kABINET-413</cp:lastModifiedBy>
  <dcterms:modified xsi:type="dcterms:W3CDTF">2011-02-11T07:29:12Z</dcterms:modified>
  <cp:revision>23</cp:revision>
  <dc:subject/>
  <dc:title>Zápustkové kování </dc:title>
</cp:coreProperties>
</file>