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83FA-F1D7-4DF2-9FEA-3F1B438B5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07EE-9B92-45CB-B005-16D96854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6A9F-3A2F-4C58-9722-E79079076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EC6C-A6C5-4C0C-AA9D-E41EC1607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F0CC-43C7-4D40-BCE3-4849DC223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CFA3C-699A-41B7-A98D-0DD5F765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DA1A-5D33-47E5-87DB-CB7847A1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9EA1-C0B0-4F45-91D8-63123F12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CDD4-5FE5-45EE-840B-BCC407CE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ED32-78C4-4308-8DBF-8C67A23C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C215-4B2F-4E07-98EF-9C8B2C24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4444-8007-490F-8083-CF5B7B2F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D00E5-DF71-4F5F-B1F7-8C348B4B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E925-10E6-44EF-8507-3C3E4574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C62D-B277-4E25-8CD7-68F1F586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1698-DE28-4EFE-93DA-8F9FF80B8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1F08-C302-4CE5-9B8D-648846416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6F12-F963-41DC-95E8-0733FA91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802D-35A5-490F-B25D-4394D2B9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DC66-ABBF-4322-A1A9-5BE68FC9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F5D9-CE20-41EE-91F3-C6701E60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8152-42C0-42EE-BB14-0A25A1D7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B25B-C3AD-446B-A88A-CC092F17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510C-1E2D-421D-955C-FFDD8EE9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68F7-1271-4C83-9051-3307C240ACA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AB94-8F9A-4A3A-8382-A83BCC9CB52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ksp.tul.cz/cz/kpt/obsah/vyuka/skripta_tkp/sekce/video/02-hydro.swf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ksp.tul.cz/cz/kpt/obsah/vyuka/skripta_tkp/sekce/05-protlacovani/13-derovani%20polotovaru%20vderovaci%20stolici.jpg" TargetMode="External"/><Relationship Id="rId2" Type="http://schemas.openxmlformats.org/officeDocument/2006/relationships/hyperlink" Target="http://www.ksp.tul.cz/cz/kpt/obsah/vyuka/skripta_tkp/sekce/video/03-indirect.swf" TargetMode="External"/><Relationship Id="rId3" Type="http://schemas.openxmlformats.org/officeDocument/2006/relationships/hyperlink" Target="http://www.ksp.tul.cz/cz/kpt/obsah/vyuka/skripta_tkp/sekce/video/03-indirect.swf" TargetMode="External"/><Relationship Id="rId4" Type="http://schemas.openxmlformats.org/officeDocument/2006/relationships/hyperlink" Target="http://www.ksp.tul.cz/cz/kpt/obsah/vyuka/skripta_tkp/sekce/video/03-indirect.swf" TargetMode="External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ksp.tul.cz/cz/kpt/obsah/vyuka/skripta_tkp/sekce/05-protlacovani/14-nastroj.jpg" TargetMode="External"/><Relationship Id="rId2" Type="http://schemas.openxmlformats.org/officeDocument/2006/relationships/hyperlink" Target="http://www.ksp.tul.cz/cz/kpt/obsah/vyuka/skripta_tkp/sekce/05-protlacovani/14-nastroj.jpg" TargetMode="External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76360" y="1196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66"/>
                </a:solidFill>
                <a:latin typeface="Arial"/>
              </a:rPr>
              <a:t>Protlačování</a:t>
            </a:r>
            <a:endParaRPr b="0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564000" y="2781360"/>
            <a:ext cx="3222720" cy="3062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258920" y="260280"/>
            <a:ext cx="6769080" cy="10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58080" y="3715920"/>
            <a:ext cx="77155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5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rovnání protlačování s hlubokým taže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7488360" cy="549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Výpočet síly a práce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a protlačovaní za studena jsou potřebné velké deformační síly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závisí na chemické složení materiálu, přípravě a tepelném zpracování, mazání, geometrii nástroje (čím větší, tím větší síla), velikosti redukce (čím větší, tím větší síla), tloušťka stěny (čím menší, tím větší síla), druh stroj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řetvárný odpor při protlačování za studena vzrůstá se stupněm zpevnění materiálu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 protlačování za tepla je přetvárný odpor konstantní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Vliv tření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usí se provádět vhodná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povrchová úprava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odstranění povrchových vad (otryskávání, broušení,   moření u Al, …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chemické a mechanické čištění (omývání, sušení, …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fosfátování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anesení vrstvy maziva (např. ponořením do roztoku organického oleje a mýdla)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Vliv tření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elikost třecích sil dále závisí na drsnosti povrchu průtlačníku a průtlačnice a na jejich opotřebení v kritických místech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jako mazivo u hutnického protlačování za tepla se používá sklo, které se při protlačování roztaví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 neželezných kovů se používá tzv.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košilka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, tj. mezera mezi průtlačníkem a průtlačnicí o velikosti 2 až 4 mm, kam zateče materiál, který působí jako maziv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952640" y="0"/>
            <a:ext cx="52387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000160" y="704880"/>
            <a:ext cx="5143680" cy="5448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234040" cy="6608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Rozdělení technologických způsobů protlačování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rotlačování dělíme podle směru pohybu materiálu a nástroje na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Verdana"/>
              </a:rPr>
              <a:t>dopředné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Verdana"/>
              </a:rPr>
              <a:t>zpětné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Verdana"/>
              </a:rPr>
              <a:t>kombinované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Verdana"/>
              </a:rPr>
              <a:t>stranové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cs-CZ" sz="2900" spc="-1" strike="noStrike">
                <a:solidFill>
                  <a:srgbClr val="000000"/>
                </a:solidFill>
                <a:latin typeface="Verdana"/>
              </a:rPr>
              <a:t>radiální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Dopředné protlačování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teriál se pohybuje ve stejném směru jako průtlační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ýchozím polotovarem bývá kalota, získaná např. lisováním plechu nebo upichováním z tyčí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oužívá se při tváření čepů, šroubů, pouzder, apod., tedy výrobků, u kterých není konstantní průřez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658880"/>
            <a:ext cx="9505800" cy="59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   </a:t>
            </a:r>
            <a:r>
              <a:rPr b="0" lang="cs-CZ" sz="1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</a:t>
            </a:r>
            <a:br>
              <a:rPr sz="1800"/>
            </a:b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rincip dopředného protlačování</a:t>
            </a:r>
            <a:br>
              <a:rPr sz="1800"/>
            </a:b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(1, 3 – průtlačnice, 2, 4 - průtlačník, a, – průtlačník, b – stírač, c – průtlačnice, d - vyhazovač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2678040" cy="5950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203640" y="1844640"/>
            <a:ext cx="5435640" cy="265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incip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technologie, kterou můžeme provádět </a:t>
            </a:r>
            <a:r>
              <a:rPr b="1" lang="cs-CZ" sz="2900" spc="-1" strike="noStrike">
                <a:solidFill>
                  <a:srgbClr val="006666"/>
                </a:solidFill>
                <a:latin typeface="Verdana"/>
              </a:rPr>
              <a:t>za tepla, za poloohřevu</a:t>
            </a:r>
            <a:r>
              <a:rPr b="1" i="1" lang="cs-CZ" sz="29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cs-CZ" sz="2900" spc="-1" strike="noStrike">
                <a:solidFill>
                  <a:srgbClr val="006666"/>
                </a:solidFill>
                <a:latin typeface="Verdana"/>
              </a:rPr>
              <a:t>a za studena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nástroje – </a:t>
            </a:r>
            <a:r>
              <a:rPr b="0" i="1" lang="cs-CZ" sz="2900" spc="-1" strike="noStrike">
                <a:solidFill>
                  <a:srgbClr val="000000"/>
                </a:solidFill>
                <a:latin typeface="Verdana"/>
              </a:rPr>
              <a:t>protlačovadl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výrobek se nazývá </a:t>
            </a:r>
            <a:r>
              <a:rPr b="0" i="1" lang="cs-CZ" sz="2900" spc="-1" strike="noStrike">
                <a:solidFill>
                  <a:srgbClr val="000000"/>
                </a:solidFill>
                <a:latin typeface="Verdana"/>
              </a:rPr>
              <a:t>protlaček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výroba finálních výrobků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výroby polotovarů (trubek, tyčí, profilů, apod.)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Zpětné protlačování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materiál se pohybuje v opačném směru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oužívá se k výrobě dutých protlačků i se žebry, kdy tloušťka stěny je v porovnání s průměrem velmi malá anebo naopak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833560" y="3641040"/>
            <a:ext cx="3785040" cy="32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7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incip zpětného protlač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987640" y="333360"/>
            <a:ext cx="2630520" cy="540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24000" y="4436640"/>
            <a:ext cx="8294400" cy="20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7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incip zpětného protlačování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1, 3  – průtlačnice, 2, 4 - průtlačník, a, – průtlačník, b – stírač, c – průtlačnice, d - vyhazova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8713800" cy="2919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Kombinované (sdružené) protlačování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yrábí se tím profilové výrobky, které jsou velmi namáhané a které nemusí být válcového tvaru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68360" y="3357720"/>
            <a:ext cx="8064360" cy="21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87280" y="4075920"/>
            <a:ext cx="655344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incip kombinovaného protlačování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1, 3 – průtlačnice, 2, 4 - průtlačník, a, – průtlačník, b – stírač, c – průtlačnice, d – vyhazovač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345440" cy="392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ranové a radiální protlačování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tvářený materiál se pohybuje kolmo na směr pohybu průtlačníku a slouží k výrobě průtlačků s vnějším i vnitřním oboustranným osazení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radiálním protlačováním rozumíme tváření, při kterém se materiál i části nástroje pohybují v radiálním směru vzhledem k ose materiál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39200" y="3789000"/>
            <a:ext cx="665928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incip stranového (vlevo a uprostřed) a radiálního protlačován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8353440" cy="2436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peciální způsoby protlačování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Ražení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(vtlačování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Protlačování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trube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 u="sng">
                <a:solidFill>
                  <a:srgbClr val="006666"/>
                </a:solidFill>
                <a:uFillTx/>
                <a:latin typeface="Verdana"/>
              </a:rPr>
              <a:t>H</a:t>
            </a: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ydrostatické protlačování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kovů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tlačování trubek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výchozím polotovarem jsou válcované špalky potřebné délk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následuje většinou ohřev a vlastní </a:t>
            </a:r>
            <a:r>
              <a:rPr b="0" lang="cs-CZ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děrování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a </a:t>
            </a:r>
            <a:r>
              <a:rPr b="0" lang="cs-CZ" sz="25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protlačování </a:t>
            </a:r>
            <a:r>
              <a:rPr b="0" lang="cs-CZ" sz="25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dopředným</a:t>
            </a:r>
            <a:r>
              <a:rPr b="0" lang="cs-CZ" sz="25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 způsobe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po skončení procesu zůstává v matrici zbytek, technologický odpad, který se musí odstranit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stupeň deformace je velký, kdy součinitel prodloužení je 8 až 25 (z polotovaru o délce např. 700 mm a průměru 200 mm lze vyrobit trubku délky 6 až 18 m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2532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300720" y="5877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Protlačování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trub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067440" cy="473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946800" y="3499920"/>
            <a:ext cx="7371000" cy="23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33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chnologie výroby trubek protlačová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769080" cy="433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ydrostatické protlačování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olotovar obklopen kapalinou o vysokém tlaku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hydrostatický tlak je až 3000 MPa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řetvoření v jedné operaci může dosáhnou až 80 %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94480" y="3499920"/>
            <a:ext cx="8622360" cy="28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incip hydrostatického protlač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848720" cy="517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TROJE A NÁSTROJE PRO PROTLAČOVÁNÍ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006666"/>
                </a:solidFill>
                <a:uFillTx/>
                <a:latin typeface="Verdana"/>
              </a:rPr>
              <a:t>p</a:t>
            </a:r>
            <a:r>
              <a:rPr b="0" lang="cs-CZ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r</a:t>
            </a:r>
            <a:r>
              <a:rPr b="0" lang="cs-CZ" sz="25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ůtlačníku a průtlačni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nelze volit libovolné úkosy, rádiusy, zaoblení, apod. tvarových částí nástroj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nástroj, který je složen z průtlačníku a průtlačnice jako hlavních částí,  je namáhán vysokými měrnými tlaky, proto závisí na jeho materiálu, tepelném zpracování a drsnosti povrchu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životnost tvarových částí nástrojů je od 3000 do 50000 kusů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STROJE A NÁSTROJE PRO PROTLAČOVÁNÍ</a:t>
            </a: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mechanické klikové lisů a hydraulické lis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lisovací síla je 300 až 120000 k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při protlačování za tepla se zpracovávají materiály, jejichž tvářitelnost je za studena omezená a např. válcování by bylo příliš nákladné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po protlačování jsou protlačky vysunuty z pracovního prostoru vyhazovačem nebo sfouknuty stlačeným vzduchem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58920" y="333360"/>
            <a:ext cx="8785080" cy="455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STROJE A NÁSTROJE PRO PROTLAČOVÁNÍ</a:t>
            </a: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při kombinovaném protlačování se vyhazují protlačky buď vyhazovačem nebo stěračem podle toho, zda ulpí na průtlačníku nebo zůstanou v průtlačnic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vnitřní stěny protlačků jsou mírně kuželové s úkosem 1 až 2°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nástroj musí být opatřen otvory pro únik vzduchu a maziva 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Zdroj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http://www.ksp.tul.cz/cz/kpt/obsah/vyuka/skripta_tkp/sekce/02.ht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http://www.vptechnotron.cz/AMT_images/protlac2.jp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4824360" cy="475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Výhod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SzPct val="70000"/>
              <a:buFont typeface="Symbol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výhodné mechanické vlastnost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SzPct val="70000"/>
              <a:buFont typeface="Symbol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řesnost průtlačků je obvykle velmi vysoká (± 0,05 mm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SzPct val="70000"/>
              <a:buFont typeface="Symbol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využití materiálu je vysoké, 90 až 100 %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539440" y="4076280"/>
            <a:ext cx="521316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3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incip technologie protlačován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352000" cy="4122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Zásady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vzhledem k velikosti přetvárných odporů jsou pro protlačování vhodné materiály s tažností větší, než 10 % (oceli s obsahem uhlíku do 0,2 % C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nevhodné jsou materiály, u kterých je nutno vynaložit specifický tvářecí tlak větší jak 2500 MPa a nebo nelze během jedné operace v důsledku chemického složení (tedy zpevnění) získat deformaci alespoň 25 %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materiály s nízkou přetvárnou pevností, hliník a jeho slitiny, se dají protlačovat na jednu operac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Zásad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celi a ostatní kovy se protlačují na více operací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ěkdy je potřeba provádět i mezioperační žíhání (nejdříve rekrystalizační a potom na měkko)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ximální redukce na jednu protlačovací operaci je omezena přípustným namáháním nástroje. Redukce u oceli např. s obsahem 0,1 % C je až  60 %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řed vlastním protlačováním je nutná úprava materiálu rovnáním a dělením na kaloty včetně tepelného zpracování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ásleduje povrchová úprav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7711" t="0" r="22034" b="37016"/>
          <a:stretch/>
        </p:blipFill>
        <p:spPr>
          <a:xfrm>
            <a:off x="1332000" y="1989000"/>
            <a:ext cx="3673440" cy="2880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724360" y="1700280"/>
            <a:ext cx="2514600" cy="452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07:41:37Z</dcterms:created>
  <dc:creator>VOŠ a SPŠ Strakonice</dc:creator>
  <dc:description/>
  <dc:language>en-US</dc:language>
  <cp:lastModifiedBy>kABINET-413</cp:lastModifiedBy>
  <dcterms:modified xsi:type="dcterms:W3CDTF">2011-05-03T07:10:03Z</dcterms:modified>
  <cp:revision>21</cp:revision>
  <dc:subject/>
  <dc:title>Protlačování</dc:title>
</cp:coreProperties>
</file>