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77F31-AE5F-4590-AA5B-4C67F8B4B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AFB1D-2516-4561-8EFA-C7A1F299A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7927E-4FE3-46F7-A9C5-A3446A765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50EEF-ADAA-4CCE-8BD5-C3D45331A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301B4-C1EC-4795-8531-B9DEEC785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6235E-BDE8-464F-B748-31D7AC663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999B9-A462-4F00-AC36-C307E6036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35E5F-56C2-4047-8978-F54FDE3C8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90707-1FCB-4791-B367-A5507AD55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74EB7-5A11-460D-AB2A-113170D73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C5468-37F3-4854-9DA5-2B77A5A04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6A3C6-E8BF-4694-8892-88DAFDECB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17FF4-7803-4B08-BBE9-0AAD2D7EE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12F30-093B-480B-8E2D-50D6B5A4F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C30B9-CB0F-4CE1-9A07-FDB919E44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01CF0-B3BF-4EBC-BC2E-4CCCB3679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FC423-B6FD-4968-8CCA-F175090E9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D96C9-1895-45F9-B614-C696612F3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B3C08-EFBF-4CE1-B7FB-F97AD6C4D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2663B-49DF-42C2-ADF7-498C477CB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119FD-74ED-4831-BCDE-9D75D5B16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BD708-0DF3-4FFD-BABF-043B51D98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6758B-12E4-47D4-AE1A-CAF2BB6E6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DC038-2A34-4EFD-AF81-99058252B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896B9-003B-4685-B17A-7995AE68136A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D15CD-1553-4488-ABDA-17315D317A1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420D5-204F-4BF9-8156-2DAB498A1E0C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070DD-B405-48EF-8964-6164AAFA850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1258920" y="549360"/>
            <a:ext cx="6769080" cy="104436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ažení drátů a profilů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3132000" y="3357720"/>
            <a:ext cx="3156120" cy="2369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Tažné stolice s přímočarým pohybem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611280" y="2006640"/>
            <a:ext cx="3809880" cy="259884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4572000" y="2989440"/>
            <a:ext cx="3889440" cy="2652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2050920" y="2427120"/>
            <a:ext cx="5042160" cy="322128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ažné stolice s navíjením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ažné stolic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523800" y="1981080"/>
            <a:ext cx="8094600" cy="411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Průvlaky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1260360" y="1981080"/>
            <a:ext cx="6621480" cy="411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4500720" y="3645000"/>
            <a:ext cx="3456000" cy="250164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Průvlak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(shora)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vstupní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kužel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(zaváděcí) – úhel otevření 45 až 60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mazací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– úhel stejný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tažný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– tažný kužel s úhlem 10 až 12°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kalibrační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a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výstupní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ažení drátu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1554120" y="1981080"/>
            <a:ext cx="6033960" cy="411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ažení drátu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2050920" y="1413000"/>
            <a:ext cx="5051520" cy="4525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ažení trubek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826920" y="1413000"/>
            <a:ext cx="2857680" cy="12859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5148360" y="1484280"/>
            <a:ext cx="2971800" cy="13240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971640" y="3840120"/>
            <a:ext cx="2971800" cy="14540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5076720" y="3643200"/>
            <a:ext cx="3184560" cy="198936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971640" y="2852640"/>
            <a:ext cx="302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růvlečné tažení trubek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724360" y="5805360"/>
            <a:ext cx="302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žení trubek na tyč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042920" y="5373720"/>
            <a:ext cx="302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žení trubek na volném trnu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867280" y="2781360"/>
            <a:ext cx="302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žení na trnu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Zdroj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http://www.royas.cz/?ploty=c1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http://www.ksp.tul.cz/cz/kpt/obsah/vyuka/skripta_tkp/sekce/04.ht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ažení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tahování polotovaru otvorem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růvlaku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 při kterém se zmenšuje příčný průřez a zvětšuje délk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osahuje se přesných rozměrů a tvarů, zlepšuje se jakost povrchu a mechanické vlastnost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ástroj je nepohyblivý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usí se provést mezioperační žíhán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71640" y="1268280"/>
            <a:ext cx="7129440" cy="4581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Mazání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zivo musí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nižovat součinitel třen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ddělovat polotovar a průvla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dvádět teplo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zajišťovat hladký povrc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826920" y="549360"/>
            <a:ext cx="7083720" cy="5313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Polotovar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apř.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tyče válcované za tepl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čistí se od okuj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a jednom konci zašpičatí a za takto upravený konec se chytne polotovar kleštěmi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ásleduje proces tažení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Výrobek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drá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dráty mohou být taženy za sucha nebo za mokra s povrchovou (pozinkování, pocínování, atd.) nebo bez povrchové úpravy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tyč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nepravidelné tvary a průřezy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dutá těles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2700360" y="476280"/>
            <a:ext cx="3416400" cy="5505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ažné stolice - stroj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ffff"/>
                </a:solidFill>
                <a:latin typeface="Tahoma"/>
              </a:rPr>
              <a:t>Rozdělení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ffff"/>
                </a:solidFill>
                <a:latin typeface="Tahoma"/>
              </a:rPr>
              <a:t>s přímočarým pohybem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ffff"/>
                </a:solidFill>
                <a:latin typeface="Tahoma"/>
              </a:rPr>
              <a:t>stolice s navíjením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ffff"/>
                </a:solidFill>
                <a:latin typeface="Tahoma"/>
              </a:rPr>
              <a:t>Podle výrobního postupu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bezskluzové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skluzové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13:47:30Z</dcterms:created>
  <dc:creator>ucitel</dc:creator>
  <dc:description/>
  <dc:language>en-US</dc:language>
  <cp:lastModifiedBy>VOŠ a SPŠ Strakonice</cp:lastModifiedBy>
  <dcterms:modified xsi:type="dcterms:W3CDTF">2011-05-31T09:56:14Z</dcterms:modified>
  <cp:revision>48</cp:revision>
  <dc:subject/>
  <dc:title>POSLOUPNOSTI</dc:title>
</cp:coreProperties>
</file>