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B36F-B2BC-42B7-992B-9DB56D61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B981-3041-4DCB-B352-9046ED08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762-D301-4828-B21C-383C654C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2A85-BFB4-4916-9763-9A4A6DDB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2288-1B20-4239-AF28-73D84D2F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C93B-73F0-456C-8C12-3BF345E4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7E06-1D50-49AC-B598-0642F5A2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DE04-4B03-4BC9-8DE6-3017FEC6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0AF1-0447-421C-9E72-40D4520C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0974-1103-4E02-8F6A-2EDB6FB1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6A4C-715D-4299-8444-08BACEDA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07DC-9AC5-4479-860D-7EC7AA8E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6FEA-6294-471E-8609-E323A7A8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0EC1-2FA6-4D2E-972D-9D42DEDB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4AD4-71B5-482C-A598-0F5B768D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E627-3BA3-438B-85B1-CF5B4899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2BCF-D9D7-4562-8BB9-FD65BFA4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8F83-C842-45B7-813D-4C69EF33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CF67-EA2A-4F40-9944-7E93A866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5A63-253E-48A3-8B45-95D8B1DF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1C5A-E508-4D4E-B768-7D3270DE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CD60-84FE-439D-85B4-7B6E6634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AF46-784A-4E2E-9FCF-EB49C6F3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7F95-A220-4E5C-AFB6-9CC77C5E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3865-1035-4CA6-9B5C-B7A4780151B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97FE-5F45-4548-86FF-6EEA238C8B3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I_robot_car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263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TPV</a:t>
            </a:r>
            <a:br>
              <a:rPr sz="60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chnická příprava výrob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enové oddělení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kalkulace ce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kalkulace nákladů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ýrobně dispečerské oddělení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vede evidenci objednávek a rozhoduje o jejich vyřizování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zařizuje zakázky do výroby. Přitom vychází z požadovaných termínů, připravenosti model. Zařízení a kapacitního vytížení výrobních uzlů a priorit. Priorita je přitom kompletace výroby na tavbu.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ddělení řízení kval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vyjadřuje se k požadavkům zakázk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určuje metodiku kontroly a druhu zkouše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podílí se na výrobě zkušebních vzork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statistické vyhodnocování kvality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zděle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dle druhu zakázek a jejich zpracování dělíme výrobu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na novou (větší přípravná fáze, kompletní vývoj nového dolitku, využití podobnosti či třídníku odlitků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na opakovanou výrobu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říprava výroby dle sériovosti se dělí na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kusová a malosériová výroba – méně podrobná příprav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sériová a hromadná – detailní propracování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vace dokument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ákonné požadavky (pro finanční úřad apod.), ISO 9001 ..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pírová i elektronická podoba dokumentů a záznam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činnosti archivování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chivovat = uschovávat dokumen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chivace a dlouhodobé uložení dokumentů v specificky vybavených prostorác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 případě ukončení činnosti společnosti předání místně příslušnému státnímu archiv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ledování a ohlídání skartačních lhůt dokument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yhledávaní v uložených dokumentech a předání jejich originálů či kopií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dpora pro TP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ystém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AD/CAM/CA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RAPID PROTOTYP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PV výpočty – doplněk k Excel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PV 2000 (firma TPV Grou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YSKLAS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VIS výrobní modu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a další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2592360" cy="2122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900000" y="3933720"/>
            <a:ext cx="2592360" cy="2316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651640" y="1341360"/>
            <a:ext cx="3166920" cy="2368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372360" y="4149720"/>
            <a:ext cx="2095200" cy="2232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61080" y="270756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Static Analysi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06160" y="314100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ynamic 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64000" y="371556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esign Optimization &amp; Re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10160" y="4291920"/>
            <a:ext cx="21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Thermal Analysi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PID PROTOTY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ýroba prototypu z 3D dat vytvrzováním epoxidové pryskyřice pomocí laserového paprsku nebo laserovým spékáním nejčastěji polyamidového nebo kovového prášk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2206800"/>
            <a:ext cx="3816360" cy="287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39800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685280" cy="593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7613640" cy="588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rakteristika TP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edná se o souhrn činností spojených se zavedením nového výrobku do výrob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Časově náleží mezi uskutečnění poptávky a zahájení výrob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lastní náklady jsou souhrnem konkrétních položek. Náklady nutno posuzovat komplexně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ávrh použité technologie musí respektovat technologické vybavení konkrétní firmy a kvalifikační strukturu dělníků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829280" cy="60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490160" cy="578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182000" cy="55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324560" cy="565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542000" cy="582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758000" cy="599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758000" cy="599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777080" cy="600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469280" cy="577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ttp://www.volny.cz/vokurkaz/tgpv_0.ht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ttp://www.systemonline.cz/clanky/technicka-priprava-vyroby-v-praxi.ht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ww.kod.tul.cz/info_predmety/Psi/TEP-prednaska-1.ppt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ww.designtech.cz/f/cadinfo/o/automotive/14.png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nahou TPV je: 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držení optimální kval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ízké vlastní náklady (materiál, energie, mzdy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žadovaný termín dodávk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ostup zakázkového říze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Poptávka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přichází ze strany zákazníka na firmu. Zadán je výkres, materiál výrobku, sériovost, požadovaná kvalita, tj. přesnost, vady, opravy, .... Dále jsou určeny dodací požadavky (termín, doprava, ..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Zpracování nabídky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se skládá z posouzení poptávky po stránce technologické (materiálně, další vlastnosti), technologičnosti konstrukce a dosažitelnosti požadavků.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Následuje zpracování technologie a určení nabídkové ceny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ýsledkem je</a:t>
            </a: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 nabídka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(firma na zákazníka) a </a:t>
            </a: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zakázka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(zákazník na firmu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Následuje </a:t>
            </a: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podpis smlouvy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a </a:t>
            </a: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detailní zpracování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technologických postupů, konstrukce přípravků a výroba zařízení (formy apod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Výroba a kontrola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zkušebních výrobků (odsouhlasení) a výroba zakázky – expedice.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Podklady pro zapracování nabídky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86048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ýkres součásti (od zákazník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čet výrobků (celkem, velikost dávky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žadavky na přesnost a vnitřní jakos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chanické vlastnosti a způsob jejich zjišťování (druh zkušebního tělesa a jeho umístění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pelné zpracová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končovací operace např.apretace – čištění a nátě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žadovaný dodací termí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působ dodání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Činnost technických oddělení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PV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posouzení technologičnost konstrukce součást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návrh způsobu výrob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vypracování dokumentace pro výrob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určení pracoviště a strojů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stanovení množství a druhu materiálu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stanovení výrobních časů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2857680" cy="2209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500720" y="620640"/>
            <a:ext cx="2857320" cy="2104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924360" y="3213000"/>
            <a:ext cx="4321080" cy="2838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340000" y="333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m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88360" cy="5243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419640" y="573408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říprava pracov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4500360" cy="3240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932360" y="907920"/>
            <a:ext cx="3943440" cy="48387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00000" y="4437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říprava pracov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1:46:10Z</dcterms:created>
  <dc:creator>VOŠ a SPŠ Strakonice</dc:creator>
  <dc:description/>
  <dc:language>en-US</dc:language>
  <cp:lastModifiedBy>kABINET-413</cp:lastModifiedBy>
  <dcterms:modified xsi:type="dcterms:W3CDTF">2010-11-03T11:47:39Z</dcterms:modified>
  <cp:revision>31</cp:revision>
  <dc:subject/>
  <dc:title>Technická příprava výroby</dc:title>
</cp:coreProperties>
</file>