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FC2-D7C2-4B31-B7ED-9029C7A9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C92-7013-4BC4-BCD2-F3DC4A8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00B-C5F1-43EF-882B-34225BCD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148-11B3-47EF-967E-21DC3821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8DB-F072-4D3D-AAA1-BD7C7202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C51-0825-4FFF-8EE6-ECD5B46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217-18F0-41C8-8B52-F76B58E6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AD3-BB29-4241-8940-63D8A3E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F02-3251-4DF6-8B22-A038330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6E5-AE6B-48D3-BD23-4503D4D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15E-E792-4A49-BF12-17F1123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CB3-886C-4833-AA49-5470C8D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CE40-7E32-4C83-8B5D-173F83A23C1B}" type="datetime">
              <a:rPr b="0" lang="cs-CZ" sz="1200" spc="-1" strike="noStrike">
                <a:solidFill>
                  <a:srgbClr val="898989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76B-F984-4157-959E-61444D05E806}" type="slidenum">
              <a:rPr b="0" lang="cs-C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končovací metody obráb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3052800" cy="228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uperfiniš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10488" t="31374" r="7753" b="30668"/>
          <a:stretch/>
        </p:blipFill>
        <p:spPr>
          <a:xfrm>
            <a:off x="582480" y="1341360"/>
            <a:ext cx="7477200" cy="227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059280" y="3616200"/>
            <a:ext cx="2381040" cy="2400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Lap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troj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apovací kotouče (rotují různou rychlost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litiny, z bronzu (měkčí materiál nástroje než obrobk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rubování – činná plocha je rýhova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končování – činná plocha kotoučů je hlad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zi nástroj a obrobek se dodává lapovací prostře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ap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užití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pracování i kalených, nitridovaných povrchů, 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o rovinné ploc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o vnější rotační plochy (lapovací pouzdra): pís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o vnitřní rotační plochy (lapovací trny): díry kluzných ložisek, vál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ro tvarové plochy: ozubená kol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roj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voukotoučové lapovačky svisl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peciální (pro ozub. kol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ap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4633920" cy="251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826920" y="1422360"/>
            <a:ext cx="4362480" cy="1633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š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klý povrch (ručně, strojně), např. před povrchovou úprav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imální úběr materiálu, nezlepší se rozměry a tv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rubování – brusivo pevně uchyceno na nástroji (brousicí kotouč, pá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mné leštění – brusivo (v oleji, v pastě) volně naneseno mezi nástro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textilní kotouč, pás) a obrob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eš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touč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lamelové – pásky z brousicích pláten, bavlny, kůž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lstěn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uhé – guma, dřevo, korek, ko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bvodová rychlost kotouče v = 25 – 40 m/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artáč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vořené vlákny z umělých hmot, žíní, z ocelových drátů (ø 0,1-1,2 m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ás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konečný pás přitlačovaný k obrobk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valitnější a výkonnější než leštění kotouč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lečk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e na vnější i vnitřní válcové plo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lepšuje přesnost, zhoršuje drsnost povr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váření za stud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dochází k úběru materiálu, ale vzniká plastická deformace povr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ádí se nejčastěji na soustruz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2628720" cy="109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lač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e na vnitřní válcové plo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enšuje drsnost plastickou de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troj je protlačovací trn, který je o několik tisícin větší, než je průměr dí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oje jsou libovolné li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tlačováním dochází k zpevněním materiálu, zvyšuje se tvarová a rozměrová přes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285920" cy="1486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sps-ko.cz/documents/STT_obeslova/Dokon%C4%8Dovac%C3%AD%20metody%20obr%C3%A1b%C4%9Bn%C3%AD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tyrolit.cz/page.cfm?vpath=divisions/metalfabrication/xpertcupwhe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opisuj.cz/dokoncovaci-a-specialni-metody-obrabeni-maturitni-otazka.p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motorkari.cz/forum-detail/?ft=13523&amp;fid=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met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odebráním přídavku na dokončovací operaci (s úběrem materiálu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etvářením povrchové vrstvy (bez úběru materiálu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ýšení jakosti povr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lepšení mechanických a fyzikálních vlastností povrc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snost rozměrů, tva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lepšení vzhledu povrchu (les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končení obrobků s IT 7 – 8, Ra 1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emné obrábění, hla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 0,4 - 0,8 IT 4 -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jemné soustružení, jemné frézová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slinutými karbidy, diamantem – velké řezné rychlosti!!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jemné brouš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ísky malých průřezů (malá hloubka řezu, malý posu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nzivní chlazení – minimální tepelné ovliv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6329520" y="4869000"/>
            <a:ext cx="19144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on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roušení malou rychlostí honovacími kameny (jemné brusivo s pojive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stroj: honovací hlava (až 12 kamen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žený pohyb: rotace + přímočarý vratný, poměr rychlostí 2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eběhy kamenů o 1/3 dél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edběžné honování – větší přítlačná síla (rozpínáním pomocí kužel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končení vnitřních válcových ploch (ale i vnějších) – válce spalova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otorů, kompresorů, hydraulické válce, pneumatické válc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 kalenou i nezakalenou ocel, litinu, bronz, mosaz, SK, chromovan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lochy, sklo,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řezné kapaliny: oleje, petrolej (odplavování třísek, chlaze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on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řezné kapaliny: oleje, petrolej (odplavování třísek, chlazen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řídavky na honování: 0,02 – 0,08 m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čas honování: do 3 m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ibrační honování (produktivnějš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ástroj nebo obrobek: kmitavý pohyb rotační nebo posuvn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(amplituda 1- 4 mm, f = 20Hz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troje: svislá honovačka, vodorovná honovač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peciální (pro vnější válcové plochy, pro rovinné plochy, pr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ibrační honování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rtačky – v kusové výrobě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on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14249" t="19258" r="7333" b="7244"/>
          <a:stretch/>
        </p:blipFill>
        <p:spPr>
          <a:xfrm>
            <a:off x="755640" y="1600200"/>
            <a:ext cx="7777080" cy="4556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uperfiniš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vnější válcové plochy, pomalé brouš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troj: superfinišovací hl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močarý vratný pohyb (kmit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lý tlak (0,25MP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eny – hranol 10×10, 18×18, 25×25 – délka max.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obek: rotace + pos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uperfiniš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chladicí kapalina: jako u honování (oleje, petrolej,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užití: hřídele – vačkové, turbínové, válce pro válcování plechů, valivá tělíska ložisek (válečky, kuželík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o všechny druhy materiálů (litina, ocel, kalená ocel, Al, Cu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roje: soustruh, bruska, vyvrtávačka + přídavná zařízení, speciální poloautomaty a automaty – sériová výr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kABINET-413</cp:lastModifiedBy>
  <dcterms:modified xsi:type="dcterms:W3CDTF">2011-06-24T07:38:25Z</dcterms:modified>
  <cp:revision>43</cp:revision>
  <dc:subject/>
  <dc:title>POSLOUPNOSTI</dc:title>
</cp:coreProperties>
</file>