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AB9-69FC-49AC-A9F8-55DA878E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B83-20A9-4E10-9099-DB059879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9C6-BA3F-4FC6-A12C-1301003D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A53-4605-484D-B211-29444145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AC4-B226-482A-95EA-AD762B09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28D8-EBD7-43F7-8343-C35D6D49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83E0-10C6-4D5E-8DBE-26DEA5C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E167-C12E-49D0-8950-FD52E505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7F0-A8A6-4457-830F-68F0A84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770B-A3B1-4CFC-AAE9-6345E99A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D1BF-25DE-4AC9-B55D-E7FB00E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5F6-48DC-4695-AF7B-4F20DB4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8612-745E-4BAF-B28F-2732DC95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F91-A127-4ACB-91B9-271A55C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E360-57F3-4D30-9417-532DE100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BB2-DCB2-4065-9CE4-8DC3866C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451-D57C-4E22-9645-D4C6AABC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E1A-4E56-40F4-AC42-13F25620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88B-0A6F-4400-95F6-6A497D1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E6E-67E6-44BC-969D-2C8BE44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0FD-FA06-4573-8B80-A637A729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AC4-F6A7-4958-9B08-58FD50C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951-AC51-4EF9-9494-49DA94C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097-27CA-4131-AF5C-1E70A3C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4D86-815D-471A-A748-A82FCA6B2A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E8C1-1FDE-4BD7-9C8B-E75AE6541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vozuschopnost výrobního zařízení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a B má podobné zařízení, avšak aplikuje u něj systém oprav po poru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ktura nákladů na opravy zařízení mělo za stejné období tyto parame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628640"/>
          <a:ext cx="8686800" cy="2333880"/>
        </p:xfrm>
        <a:graphic>
          <a:graphicData uri="http://schemas.openxmlformats.org/drawingml/2006/table">
            <a:tbl>
              <a:tblPr/>
              <a:tblGrid>
                <a:gridCol w="7219800"/>
                <a:gridCol w="14670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é náklady na opravu po poruš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délka prostoje při poruš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prav po poruše za sledované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tráta produkce při 1 hodině prost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00320" y="5012640"/>
            <a:ext cx="61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ovnejte, která z metod je u daného zařízení výhod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31880" y="1595520"/>
          <a:ext cx="5816520" cy="2227320"/>
        </p:xfrm>
        <a:graphic>
          <a:graphicData uri="http://schemas.openxmlformats.org/drawingml/2006/table">
            <a:tbl>
              <a:tblPr/>
              <a:tblGrid>
                <a:gridCol w="3092400"/>
                <a:gridCol w="1511280"/>
                <a:gridCol w="1212840"/>
              </a:tblGrid>
              <a:tr h="38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ešení pro firmu A (systém údržby po prohlíd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na prohlíd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* 7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na opra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* 155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95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tráty produkce při prohlíd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* 12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tráty produkce při opravá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* 9 * 25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79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619280" y="4005360"/>
          <a:ext cx="5880240" cy="1466640"/>
        </p:xfrm>
        <a:graphic>
          <a:graphicData uri="http://schemas.openxmlformats.org/drawingml/2006/table">
            <a:tbl>
              <a:tblPr/>
              <a:tblGrid>
                <a:gridCol w="3092400"/>
                <a:gridCol w="1575000"/>
                <a:gridCol w="12128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ešení pro firmu B (systém údržby po poruš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na oprav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* 1800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tráty produkce při opravá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* 12 * 250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0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80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18120" y="5804640"/>
            <a:ext cx="82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 jinak stejných podmínek by bylo vhodnější uplatnit systém údržby po poru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Zhodnocení ekonomické výhodnosti generální opravy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oce 1997 bylo zakoupeno a instalováno výrobní zařízení. Pořizovací cena byla 600 000 K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lady vynaložené na opravy a údržbu tohoto výrobního zařízení během let 1997 – 2004 jsou v následující tabul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258920" y="549360"/>
          <a:ext cx="5441760" cy="3300480"/>
        </p:xfrm>
        <a:graphic>
          <a:graphicData uri="http://schemas.openxmlformats.org/drawingml/2006/table">
            <a:tbl>
              <a:tblPr/>
              <a:tblGrid>
                <a:gridCol w="692280"/>
                <a:gridCol w="2571480"/>
                <a:gridCol w="21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údržba (v K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GO (v K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00000" y="4508640"/>
            <a:ext cx="748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roce 2006 musí být provedena další generální oprava, jejíž plánovaná cena je 490 000,- Kč. Náklady na údržbu v příštích obdobích jsou předpokládány na úrovni roku 2004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uďte výhodnost provedení této generální opravy a určete nejvhodnější okamžik vyřazení výrobního zaříz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2995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907920"/>
          <a:ext cx="8424720" cy="4969080"/>
        </p:xfrm>
        <a:graphic>
          <a:graphicData uri="http://schemas.openxmlformats.org/drawingml/2006/table">
            <a:tbl>
              <a:tblPr/>
              <a:tblGrid>
                <a:gridCol w="369720"/>
                <a:gridCol w="584280"/>
                <a:gridCol w="1300320"/>
                <a:gridCol w="1044360"/>
                <a:gridCol w="1819440"/>
                <a:gridCol w="1577880"/>
                <a:gridCol w="17287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ržba 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náklady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ržba + GO 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zní průměr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7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 7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4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 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z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6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2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91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 9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Zhodnocení ekonomické výhodnosti generální opravy"/>
          <p:cNvPicPr/>
          <p:nvPr/>
        </p:nvPicPr>
        <p:blipFill>
          <a:blip r:embed="rId1"/>
          <a:stretch/>
        </p:blipFill>
        <p:spPr>
          <a:xfrm>
            <a:off x="2411280" y="476280"/>
            <a:ext cx="5832720" cy="536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908280"/>
            <a:ext cx="143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generální opravy v roce 2006 nevede ke snížení průměrných nákladů na zaří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lorenc.info/3MA112/provozuschopnost-vyrobniho-zarizeni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držba za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držbářský sys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hlídkový systém opra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 oprav po poruš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verzní minim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verzní průmě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adverzního min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enerální opr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řazení výrobního za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říklady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ní adverzního min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ekonomické efektivnosti údržbářských systém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dnocení ekonomické výhodnosti generální opr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Arial"/>
              </a:rPr>
              <a:t>Určení adverzního minim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oce 2000 bylo zakoupeno výrobní zařízení za 3 200 000 K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klady vynaložené na údržbu v jednotlivých let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0" y="1600200"/>
          <a:ext cx="4114800" cy="4530240"/>
        </p:xfrm>
        <a:graphic>
          <a:graphicData uri="http://schemas.openxmlformats.org/drawingml/2006/table">
            <a:tbl>
              <a:tblPr/>
              <a:tblGrid>
                <a:gridCol w="1027080"/>
                <a:gridCol w="3087720"/>
              </a:tblGrid>
              <a:tr h="117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elkové náklady: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údržba + GO (v Kč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5 je nutno provést generální opravu za 2 100 000 Kč. Náklady na ostatní údržbu jsou pro příští roky kalkulovány ve výši 95 000 Kč. Daný druh výrobního zařízení by z hlediska výrobního programu měl být využíván minimálně další tři ro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hodněte, zda je ekonomicky výhodné provádět údržbu daného zařízení v následujícím období (aplikujte metodu adverzního minim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Řešení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é náklady spočteme jako součet pořizovací ceny investice a nákladů na opravy a údržbu v daném ro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rok 2000 tedy 3,2 mil. Kč + 22 000 Kč = 3 222 000 Kč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rok 2001 3,222 mil. Kč + 95 000 Kč = 3 317 000 Kč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erzní průměr je podíl celkových nákladů (ceny investice a nákladů na opravy a údržbu) ku počtu let užívání inve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rok 2000 tedy 3 222 000 / 1 = 3 222 000 Kč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rok 2001 3 317 000 / 2 = 1 658 500 Kč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200160" y="164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1125360"/>
          <a:ext cx="7632360" cy="4824360"/>
        </p:xfrm>
        <a:graphic>
          <a:graphicData uri="http://schemas.openxmlformats.org/drawingml/2006/table">
            <a:tbl>
              <a:tblPr/>
              <a:tblGrid>
                <a:gridCol w="249840"/>
                <a:gridCol w="681120"/>
                <a:gridCol w="1666800"/>
                <a:gridCol w="1773360"/>
                <a:gridCol w="1598400"/>
                <a:gridCol w="1662840"/>
              </a:tblGrid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aea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náklady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ržba + GO 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é náklady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mulativně 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zní průměr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 Kč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1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8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6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55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5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5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1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5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75 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4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06 7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c0c0c0"/>
                      </a:solidFill>
                    </a:lnT>
                    <a:lnB w="72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4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zní mini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76500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é znázornění průběhu průměrných nákla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Určení adverzního minima"/>
          <p:cNvPicPr/>
          <p:nvPr/>
        </p:nvPicPr>
        <p:blipFill>
          <a:blip r:embed="rId1"/>
          <a:stretch/>
        </p:blipFill>
        <p:spPr>
          <a:xfrm>
            <a:off x="2627280" y="115920"/>
            <a:ext cx="5972040" cy="651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3500640"/>
            <a:ext cx="22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verzní minimum nastává v roce 2007, kdy je adverzní průměr 980 250 Kč. Z toho plyne, že v roce 2005 je vhodné do generální opravy inves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lýza ekonomické efektivnosti údržbářských systémů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rma A využívá speciální vyvrtávací centrum pro zajištění výroby a uplatňuje u něj poprohlídkový systém oprav. Rozbor nákladů má následující struktu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2637000"/>
          <a:ext cx="7786800" cy="3813120"/>
        </p:xfrm>
        <a:graphic>
          <a:graphicData uri="http://schemas.openxmlformats.org/drawingml/2006/table">
            <a:tbl>
              <a:tblPr/>
              <a:tblGrid>
                <a:gridCol w="6189840"/>
                <a:gridCol w="1596960"/>
              </a:tblGrid>
              <a:tr h="576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</a:t>
                      </a:r>
                      <a:r>
                        <a:rPr b="1" lang="en-US" sz="1800" spc="-1" strike="noStrike">
                          <a:solidFill>
                            <a:srgbClr val="daea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é náklady na opravu po prohlíd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 na prohlíd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Kč/h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doba opravy po prohlíd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číslená ztráta produkce při 1 hodině prosto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hlídek za rok (1 prohlídka = 1 hod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oprav po prohlíd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28:25Z</dcterms:created>
  <dc:creator>VOŠ a SPŠ Strakonice</dc:creator>
  <dc:description/>
  <dc:language>en-US</dc:language>
  <cp:lastModifiedBy>kABINET-413</cp:lastModifiedBy>
  <dcterms:modified xsi:type="dcterms:W3CDTF">2011-06-01T09:36:02Z</dcterms:modified>
  <cp:revision>14</cp:revision>
  <dc:subject/>
  <dc:title>Provozuschopnost výrobního zařízení </dc:title>
</cp:coreProperties>
</file>