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4.png" ContentType="image/png"/>
  <Override PartName="/ppt/media/image28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7088-2F6A-4D42-A3C2-C01438ED18E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6241-2FEF-45B3-AF1A-E8E19DEFF01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8164-71A5-4B2F-A3BD-503810FDA94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62E2-5316-4618-9A74-64B0E7A7012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0DCD-7515-48B0-A266-593881EE240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EAE9-60F2-408A-9424-D67DECA5334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DEBD-71DB-4410-BC57-65612F1E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F81F-CD93-4D9D-853C-E90160B1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69B6-641D-4532-AF3C-7D6E10EA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3BF9-D337-4B3A-B4DC-983FE5D5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5402-62AD-42DA-B8F6-81EBCAE5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2D1D-9CFF-4439-9DE5-4BD3701D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1CB3-68E4-4EAE-95CC-45D0ECEA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A21D-3A4E-40D3-9B9A-3FB1E2B8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78C3-2B1D-4A6B-BCE1-494D8C5B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7878-79A4-4A31-9038-ED74E1FA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E4D8-E5FE-463C-9A6E-50DCFE36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5E2F-1229-4727-BB9E-84853AF2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90E1-2844-43D3-9314-21FF341F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7379-CEAE-4995-8225-49DC562F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E477-C61F-4115-88E5-49B307CE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ED6F-3A55-4873-9206-06BBCCC1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C747-2149-4D81-851C-4AC6C037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B1DF-1651-4A6B-BAD7-1E9E43A3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3D83-3810-44C6-A3B1-917B946B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492E-61CC-49F4-A985-2B69F878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BA7A-9FFB-4243-87DB-164B3131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DE86-C65C-45C7-A9F1-24940B14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2430-62AC-4586-84F8-438C8E26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901-F902-4E71-8474-2C0A0E74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3E60-DD15-496E-942E-75013DB34D0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5352-C8CD-4B61-86B1-184FB64F902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Výroba tvarových ploch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1" name="Picture 7" descr="loga_bar"/>
          <p:cNvPicPr/>
          <p:nvPr/>
        </p:nvPicPr>
        <p:blipFill>
          <a:blip r:embed="rId2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122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3276720" y="3645000"/>
            <a:ext cx="2516040" cy="2209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4"/>
          <a:stretch/>
        </p:blipFill>
        <p:spPr>
          <a:xfrm>
            <a:off x="684360" y="2997360"/>
            <a:ext cx="2381040" cy="1752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5"/>
          <a:stretch/>
        </p:blipFill>
        <p:spPr>
          <a:xfrm>
            <a:off x="6012000" y="2997360"/>
            <a:ext cx="2305080" cy="17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3744720" cy="34354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435640" y="1268280"/>
            <a:ext cx="2951280" cy="2441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3851280" y="4292640"/>
            <a:ext cx="3240000" cy="1900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187280" y="4005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Závitové fréz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80360" y="4149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rézy na ozub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Broušení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oušení závit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oušení ozubených ko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oušení tvarovými kotouč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" descr="Brusné kotouče"/>
          <p:cNvPicPr/>
          <p:nvPr/>
        </p:nvPicPr>
        <p:blipFill>
          <a:blip r:embed="rId2"/>
          <a:stretch/>
        </p:blipFill>
        <p:spPr>
          <a:xfrm>
            <a:off x="2195640" y="3573360"/>
            <a:ext cx="6121440" cy="2303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00720" y="6021360"/>
            <a:ext cx="29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varové brusné kotouč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4272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195640" y="50133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Způsoby broušení zubů čelních ko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tvarové brouš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odvalovací broušení jedním brusný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kotouč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c) odvalovací broušení talířovitými brusnými kotouč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Elektroerozivní obrábění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4459320" cy="4495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364000" y="1827360"/>
            <a:ext cx="12457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rincip zařízení pr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elektroerozivní obrábění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1 – směr posuvu nástrojov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elektrody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2 – nástrojová elektrod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3 – generátor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4 – pracovní van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5 – tekuté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dielektrikum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6 – obrobek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7 – elektrický výboj</a:t>
            </a:r>
            <a:r>
              <a:rPr b="0" lang="cs-CZ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Elektroerozivní obrábění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4895640" cy="2884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Forma 1"/>
          <p:cNvPicPr/>
          <p:nvPr/>
        </p:nvPicPr>
        <p:blipFill>
          <a:blip r:embed="rId3"/>
          <a:stretch/>
        </p:blipFill>
        <p:spPr>
          <a:xfrm>
            <a:off x="5435640" y="1700280"/>
            <a:ext cx="2981160" cy="1996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-158040" y="4653000"/>
            <a:ext cx="5801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Schéma elektroerozivního stroje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1 – pracovní hlava, 2 – filtrační zařízení, 3 – filtr,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4 – dielektrikum, 5 – čerpadlo, 6 – pracovní stůl,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7 – obrobek, 8 – nástrojová elektroda, 9 – generátor,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10 – CNC řídicí systé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Forma 2"/>
          <p:cNvPicPr/>
          <p:nvPr/>
        </p:nvPicPr>
        <p:blipFill>
          <a:blip r:embed="rId4"/>
          <a:stretch/>
        </p:blipFill>
        <p:spPr>
          <a:xfrm>
            <a:off x="5508720" y="3933720"/>
            <a:ext cx="2950920" cy="1505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724360" y="558972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Formy vyrobené elektroerozivním obráběn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4229280" cy="4762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8360" y="4866480"/>
            <a:ext cx="3457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Garamond"/>
              </a:rPr>
              <a:t>Přívod dielektrika mezi obrobek a nástrojovou elektrodu – vyplachování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Garamond"/>
              </a:rPr>
              <a:t>a) vnější, b) tlakové vnitřní, c), d) odsáváním, e) pulzní, f) kombinované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Garamond"/>
              </a:rPr>
              <a:t>1 – nástrojová elektroda, 2 – pracovní vana, 3 – dielektrikum, 4 – obrobek, 5 – přívod dielektrika, 6 – odsávání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Garamond"/>
              </a:rPr>
              <a:t>dielektrik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932360" y="1413000"/>
            <a:ext cx="3745080" cy="35528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508720" y="5157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ástrojová elektroda z grafi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HSC obrábění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ysokorychlostní (5-10x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ché, tvrd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ýhody: rychlé, krátká tříska, redukce tepla na obrobek, vysoká kvalita povr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výhody: bezpečnost, není pro všechny materiá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059280" y="4724280"/>
            <a:ext cx="32382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Zdroj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Garamond"/>
              </a:rPr>
              <a:t>http://www.cad.cz/component/content/article/2321.html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Garamond"/>
              </a:rPr>
              <a:t>http://www.notyro.cz/notyro/eshop/4-1-1-5-ND-tunning-FG-1-5-Part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Garamond"/>
              </a:rPr>
              <a:t>http://www.sps-vitkovice.cz/?go=prace_studentu/drazk_hridel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Garamond"/>
              </a:rPr>
              <a:t>http://www.ostroj.cz/cs/c/fotogalerie-naradovna-nastroje-naradi-lisovaci-formy-lici-formy-alu-kola-auto-kola/fotogalerie-5.htm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Garamond"/>
              </a:rPr>
              <a:t>http://www.detektorweb.cz/index.4me?s=show&amp;i=3907&amp;mm=1&amp;vd=1&amp;PHPSSIDWx=c71db516b0ebf80585ae135d0e3fd497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Garamond"/>
              </a:rPr>
              <a:t>http://www.lnast.cz/cs/tlakove-liti/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Garamond"/>
              </a:rPr>
              <a:t>http://www.sps-ko.cz/documents/STT_obeslova/Z%C3%A1klady%20obr%C3%A1b%C4%9Bn%C3%AD.pdf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Garamond"/>
              </a:rPr>
              <a:t>http://www.sps-karvina.cz/www/3dmodely/obrazky/technologie/velke/kotoucovy_nuz_sestava.jp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Garamond"/>
              </a:rPr>
              <a:t>http://www.i-zavitniky.cz/fotky3985/fotos/_vyrn_94033350.jp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Garamond"/>
              </a:rPr>
              <a:t>http://www.lavaceramic.cz/_files/1093/fr%C3%A9zov%C3%A1n%C3%AD.jp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Garamond"/>
              </a:rPr>
              <a:t>http://www.mmspektrum.com/multimedia/image/82/8285_big.jp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Garamond"/>
              </a:rPr>
              <a:t>http://www.ergozet.cz/index.php?site=produkty&amp;kategorie=5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Garamond"/>
              </a:rPr>
              <a:t>http://www.brusivojimi.com/brusne-kotouce-tvarove/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Garamond"/>
              </a:rPr>
              <a:t>www.mmspektrum.com/.../image/10/1060_big.jpg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Garamond"/>
              </a:rPr>
              <a:t>http://www.formex.cz/images/vyroba/edm-obrabeni-02.jp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Garamond"/>
              </a:rPr>
              <a:t>http://www.mmspektrum.com/multimedia/image/10/1064_big.jp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varová plocha - příklad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tiny forem a zápust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varové plochy součást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patky turbí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ážkované hříde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zubená kol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ruhy tvarových ploch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nitř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nějš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3492360" y="1484280"/>
            <a:ext cx="2592360" cy="1943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3"/>
          <a:stretch/>
        </p:blipFill>
        <p:spPr>
          <a:xfrm>
            <a:off x="5508720" y="3716280"/>
            <a:ext cx="3024000" cy="2419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4"/>
          <a:stretch/>
        </p:blipFill>
        <p:spPr>
          <a:xfrm>
            <a:off x="755640" y="3933720"/>
            <a:ext cx="2409840" cy="1809720"/>
          </a:xfrm>
          <a:prstGeom prst="rect">
            <a:avLst/>
          </a:prstGeom>
          <a:ln w="0">
            <a:noFill/>
          </a:ln>
        </p:spPr>
      </p:pic>
      <p:sp>
        <p:nvSpPr>
          <p:cNvPr id="135" name="TextovéPole 2"/>
          <p:cNvSpPr/>
          <p:nvPr/>
        </p:nvSpPr>
        <p:spPr>
          <a:xfrm>
            <a:off x="6372360" y="16509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zubené ko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ovéPole 5"/>
          <p:cNvSpPr/>
          <p:nvPr/>
        </p:nvSpPr>
        <p:spPr>
          <a:xfrm>
            <a:off x="6659640" y="314172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ážkovaný hří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ovéPole 6"/>
          <p:cNvSpPr/>
          <p:nvPr/>
        </p:nvSpPr>
        <p:spPr>
          <a:xfrm>
            <a:off x="1547640" y="339876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ápust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2"/>
          <a:stretch/>
        </p:blipFill>
        <p:spPr>
          <a:xfrm>
            <a:off x="828720" y="620640"/>
            <a:ext cx="3173400" cy="2376720"/>
          </a:xfrm>
          <a:prstGeom prst="rect">
            <a:avLst/>
          </a:prstGeom>
          <a:ln w="0">
            <a:noFill/>
          </a:ln>
        </p:spPr>
      </p:pic>
      <p:sp>
        <p:nvSpPr>
          <p:cNvPr id="140" name="TextovéPole 2"/>
          <p:cNvSpPr/>
          <p:nvPr/>
        </p:nvSpPr>
        <p:spPr>
          <a:xfrm>
            <a:off x="611280" y="314172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opatka turbíny Messerschmit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3"/>
          <a:stretch/>
        </p:blipFill>
        <p:spPr>
          <a:xfrm>
            <a:off x="4716360" y="119700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142" name="TextovéPole 3"/>
          <p:cNvSpPr/>
          <p:nvPr/>
        </p:nvSpPr>
        <p:spPr>
          <a:xfrm>
            <a:off x="5292720" y="429264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ma pro tlakové li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4"/>
          <a:stretch/>
        </p:blipFill>
        <p:spPr>
          <a:xfrm>
            <a:off x="995400" y="3645000"/>
            <a:ext cx="3336840" cy="250344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6"/>
          <p:cNvSpPr/>
          <p:nvPr/>
        </p:nvSpPr>
        <p:spPr>
          <a:xfrm>
            <a:off x="4572000" y="5589720"/>
            <a:ext cx="20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ápust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echnologi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oustruže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Frézová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rouše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peciální metod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Elektroerozivní obrábě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ezání drátovou elektrodo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Elektrokontaktní obrábě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HS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řehled obrábění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920880" y="1600200"/>
            <a:ext cx="7300800" cy="4495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692360" y="623736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hlavní řezný pohyb, 2- posuv,3-přísu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oustružení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Tvarové nož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Tvar ostří = tvar obráběné ploch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ože se používají v sériové výrobě, hlavně na revolverových a automatických soustruzích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ýhodou je jejich vysoká produktivita práce, velká životnost břitu a přesnost vyráběných plo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výhodou jsou obtíže při konstrukci i výrobě a nepříznivé pracovní podmínky (mění se geometrie břitu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Dělí se na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radiální </a:t>
            </a: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(ploché, prizmatické, kotoučové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tangenciáln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332000" y="4005360"/>
            <a:ext cx="1828800" cy="1428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258920" y="33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Kotoučový nů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4859280" y="3860640"/>
            <a:ext cx="3745080" cy="2810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5651640" y="404640"/>
            <a:ext cx="2119320" cy="2984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987640" y="6237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izmatický nů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Frézování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varové fréz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dsoustružené zu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álcové, kotoučové, čel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topkové, nástrčn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úhlové, zaoblovací aj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ávitové fréz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frézy na ozube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37684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0:53:34Z</dcterms:created>
  <dc:creator>SPŠ a VOŠ Strakonice</dc:creator>
  <dc:description/>
  <dc:language>en-US</dc:language>
  <cp:lastModifiedBy>kABINET-413</cp:lastModifiedBy>
  <dcterms:modified xsi:type="dcterms:W3CDTF">2011-06-24T07:39:43Z</dcterms:modified>
  <cp:revision>20</cp:revision>
  <dc:subject/>
  <dc:title>Výroba tvarových ploch</dc:title>
</cp:coreProperties>
</file>