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442-8D1A-470B-84FE-F98B49EF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23B-552E-47F0-8851-8DDBD583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7D1-8E3C-4F48-AE2F-E1A22EFB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F3A-1C78-4B13-88C0-902E1751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2F0-4809-45D0-A4CA-42A594D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C23-3E34-488B-8E92-FE30BB2D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59D-8C43-4325-8C8F-96AB1673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5FC-6F4F-4ED4-AFF0-421A5B1C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AF4-66B8-4D4B-B4FF-79C595CA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8D6-8D7E-48D2-B4DF-4BB6CC44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B91-2F00-48D9-B858-0DD8050A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C83-8202-491A-BF1D-62110B9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C6CD-B723-4806-A5E3-24B19C829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rmatmachinery.com/images/38-SF_65-3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9/Rechte-hand-regel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mspektrum.com/multimedia/image/26/2610_big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mmspektrum.com/multimedia/image/26/2611_big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NC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ÍSLICOVĚ ŘÍZENÉ OBRÁBĚCÍ STRO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Zobrazit obrázek v plné velik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789360"/>
            <a:ext cx="3600360" cy="188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666960" cy="2905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4103640" cy="317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3528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zdělení CNC stroj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dnoprofes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íceprofes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obráběcí cen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výrobu rotačních obrobků hřídelových nebo přírubov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výrobu skříňových ob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ožňujících výrobu rotačních i nerotačních součástí s určitým omezením op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hody použití NC techn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kvality i kvantity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tivnější a hospodárnější výr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 vícestrojové obsluhy – nutno méně pracovních 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řesnosti a přizpůsobivosti výr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šší využití základních fondů, úspora výrobních a skladových pl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pracovních podmínek, zvýšení úrovně řídíc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rácení průběžné doby výr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výhod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užití NC technik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soká pořizovací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šší nároky na technologickou přípr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é nároky na údržbu a organizaci pracoviště, organizační práce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akteristické znaky konstrukce CNC stroj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obráběcí stroj je charakterizován kombinac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ineárních – posuvový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tačn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hyb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izace v určování jednotlivých 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avoúhlá soustava prostorových souřadni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kartézský souřadnicový systé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z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 NC stroje závisí na počtu os, ve kterých je stroj schopen operovat. Nejvyspělejší NC stroje umožňují  lineární pohyb ve všech třech směrech, včetně rotací kolem tří os  (systémy s pohybem v šesti osá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aky konstruk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strukce vysoko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host a přesnost proved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řezný režim při automatickém chodu stroje c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jhospodár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dící plochy s vysokou přesností a velkou život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dná vyměnitelnost opotřebených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sná poloha jednotlivých součástí nebo uzlů stroje, aby se zvýšila přesnost a životnost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ká výměna nástroj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aky konstru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ůzné upín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prav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točné a sklopné stoly, speciálně konstruovan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ký cyklus NC strojů vyžaduje tz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třískové hospodářstv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čištění a odvod tří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bavení strojů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bory ná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bezporuchový chod slouží pomocné, kontrolní, seřizovací a jiné přípr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tivní a pasiv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o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ráběných součástí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strukční části NC stroj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část všech číslicově řízených obráběcích strojů tvoř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ože nebo rá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roje z 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ti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bo konstrukčn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cel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vový motor 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ervomot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, který přenáší buď přímo nebo přes ozubený řemen kroutící moment n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roubový přev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vořený kuličkovým šroubem a mati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ony - elektrické nebo hydraulick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40720" cy="5869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920" y="602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NC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nitřní zpracování dat CNC stroj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tupní č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ást zpracování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stupní čá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C str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doplněný o digitální odečítání pohybu souřadnic nástroje, které se zobrazují dělníkovi na disple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usí se odměřovat ruč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stupní čá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teč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kodé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řadič informac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ční předvol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ba korekce nástroje průměrová nebo délkov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ba zpomalovacích bo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ba počát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Část zpracování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řadič aritme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itmetickou jednot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ýstupní čá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stupy funkcí vyhodnocujících údaje o funkcích F, S, T a přes přizpůsobovací obvody řídí výkonné části NC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stupy vypočtených souřadnic, které se zesilují a mění na formu potřebnou k řízení suportu nebo saní stolu NC obráběcího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dměřovací zaříz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uží k odměřování dráhy vykonané řídícím čle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m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řím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NC systém-struktura" descr=""/>
          <p:cNvPicPr/>
          <p:nvPr/>
        </p:nvPicPr>
        <p:blipFill>
          <a:blip r:embed="rId1"/>
          <a:stretch/>
        </p:blipFill>
        <p:spPr>
          <a:xfrm>
            <a:off x="0" y="333360"/>
            <a:ext cx="874404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uřadné systémy NC stroj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cká hlediska js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a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e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tažné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souřadná soustava j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voúhlá pravotočiv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690840"/>
            <a:ext cx="869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ŘADNÝ SYSTÉM SOUSTRU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e rovnoběžná s osou pracovního vřet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adný smysl o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e definován od obrobku k nástroji (nástroj může být za nebo před osou soustružení), osy definují pohyb nást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oustruh1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753160" cy="26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475200"/>
            <a:ext cx="7775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UŘADNÝ SYSTÉM FRÉZ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e rovnoběžná s osou pracovního vřet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adný smysl os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je definován od obrobku k nástroji, os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jí směr a smysl dle pravidla pravé ruky (pohyby v jednotlivých osách se předpokládají jako pohyby nástro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frezka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743360" cy="356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ákladní body CNC st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lový bod stro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ční b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ákladní bod nástro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lový bod obrob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ýchozí bod progra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4751280" cy="4079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1280" y="1341360"/>
            <a:ext cx="2952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ište CNC na obráz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základní konstrukční pr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princip 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é znáte druhy odměřovacího zaříze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é jsou výhody a nevýhody CN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čeho se skládá CNC progr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á souřadná soustava se používá u CN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NC str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C stroj, doplněný o výkonné servomotorpohony na všech vedlejších osách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ně řízený počítač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dí se pro velkosériovou výro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ta se vkládají přímo do počítače na stroji pomocí číslic v osá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amforc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predator-software.eu/editor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infotec-group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5axiscncrout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surfcam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googl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strojnet.cz/clanky/obrabeci-stroje-cnc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stupní čá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teč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snímač informačního média, jejímž úkolem je přečíst údaje na něm zaznamen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kodé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á za úkol přeměnit signál v číslicovém kódu na hodnoty vstupních signálů pro řídící prvky pohonů. Obsahuje kontrolní obvody pro kontrolu správnosti čtecích zn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řadič informa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ijímá signály z dekodéru a ukládá je do paměti bezrozměrných a rozměrných s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ční předvol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ožňuje zásah do spuštěné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ba korekce nástroje průměrová nebo délkov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eší úpravu průměru nebo délky nasazeného nást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ba zpomalovacích bo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ba počátk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ožňuje při obrábění rozměrově a hmotnostně náročných dílců v určitém rozsahu posunout počá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4720" y="623736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10800"/>
                </a:moveTo>
                <a:lnTo>
                  <a:pt x="37197" y="3794"/>
                </a:lnTo>
                <a:lnTo>
                  <a:pt x="371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Část zpracování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řadič aritmetické jednot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terý logicky seřazuje informace pro aritmetickou jedno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metickou jednot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ořenou jedním nebo několika počítači zpracovávající potřebné výpočty naprogramované dráhy nástroje v příslušných osách, dále plnící funkci porovnávacího členu naprogramované a skutečně ujeté dráhy, výpočty spojené s korekcemi, zajišťuje zpomalování posuvů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5877000"/>
            <a:ext cx="1366560" cy="431640"/>
          </a:xfrm>
          <a:custGeom>
            <a:avLst/>
            <a:gdLst>
              <a:gd name="textAreaLeft" fmla="*/ 27720 w 1366560"/>
              <a:gd name="textAreaRight" fmla="*/ 1338840 w 1366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8346" h="21600">
                <a:moveTo>
                  <a:pt x="0" y="0"/>
                </a:moveTo>
                <a:lnTo>
                  <a:pt x="68346" y="0"/>
                </a:lnTo>
                <a:lnTo>
                  <a:pt x="68346" y="21600"/>
                </a:lnTo>
                <a:lnTo>
                  <a:pt x="0" y="21600"/>
                </a:lnTo>
                <a:close/>
              </a:path>
              <a:path fill="lightenLess" w="68346" h="21600">
                <a:moveTo>
                  <a:pt x="0" y="0"/>
                </a:moveTo>
                <a:lnTo>
                  <a:pt x="68346" y="0"/>
                </a:lnTo>
                <a:lnTo>
                  <a:pt x="66946" y="1400"/>
                </a:lnTo>
                <a:lnTo>
                  <a:pt x="1400" y="1400"/>
                </a:lnTo>
                <a:close/>
              </a:path>
              <a:path fill="darken" w="68346" h="21600">
                <a:moveTo>
                  <a:pt x="68346" y="0"/>
                </a:moveTo>
                <a:lnTo>
                  <a:pt x="68346" y="21600"/>
                </a:lnTo>
                <a:lnTo>
                  <a:pt x="66946" y="20200"/>
                </a:lnTo>
                <a:lnTo>
                  <a:pt x="66946" y="1400"/>
                </a:lnTo>
                <a:close/>
              </a:path>
              <a:path fill="darkenLess" w="68346" h="21600">
                <a:moveTo>
                  <a:pt x="68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46" y="20200"/>
                </a:lnTo>
                <a:close/>
              </a:path>
              <a:path fill="lighten" w="68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46" h="21600">
                <a:moveTo>
                  <a:pt x="27167" y="10800"/>
                </a:moveTo>
                <a:lnTo>
                  <a:pt x="41179" y="3794"/>
                </a:lnTo>
                <a:lnTo>
                  <a:pt x="411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přímého odměřov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zařízení umístěno přímo na pohybujících se uzlech stroje např. suportu, stol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mé odměřování se proto vyznačuje větší přesností, protože závisí jen na přesnosti snímání z měřít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žívá se u velmi přesných strojů, zejména u souřadnicových vrtaček, vyvrtávaček a u některých obráběcích center, mají vyšší pořizovací c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5734080"/>
            <a:ext cx="1296720" cy="503280"/>
          </a:xfrm>
          <a:custGeom>
            <a:avLst/>
            <a:gdLst>
              <a:gd name="textAreaLeft" fmla="*/ 32400 w 1296720"/>
              <a:gd name="textAreaRight" fmla="*/ 1264320 w 129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5629" h="21600">
                <a:moveTo>
                  <a:pt x="0" y="0"/>
                </a:moveTo>
                <a:lnTo>
                  <a:pt x="55629" y="0"/>
                </a:lnTo>
                <a:lnTo>
                  <a:pt x="55629" y="21600"/>
                </a:lnTo>
                <a:lnTo>
                  <a:pt x="0" y="21600"/>
                </a:lnTo>
                <a:close/>
              </a:path>
              <a:path fill="lightenLess" w="55629" h="21600">
                <a:moveTo>
                  <a:pt x="0" y="0"/>
                </a:moveTo>
                <a:lnTo>
                  <a:pt x="55629" y="0"/>
                </a:lnTo>
                <a:lnTo>
                  <a:pt x="54229" y="1400"/>
                </a:lnTo>
                <a:lnTo>
                  <a:pt x="1400" y="1400"/>
                </a:lnTo>
                <a:close/>
              </a:path>
              <a:path fill="darken" w="55629" h="21600">
                <a:moveTo>
                  <a:pt x="55629" y="0"/>
                </a:moveTo>
                <a:lnTo>
                  <a:pt x="55629" y="21600"/>
                </a:lnTo>
                <a:lnTo>
                  <a:pt x="54229" y="20200"/>
                </a:lnTo>
                <a:lnTo>
                  <a:pt x="54229" y="1400"/>
                </a:lnTo>
                <a:close/>
              </a:path>
              <a:path fill="darkenLess" w="55629" h="21600">
                <a:moveTo>
                  <a:pt x="55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29" y="20200"/>
                </a:lnTo>
                <a:close/>
              </a:path>
              <a:path fill="lighten" w="55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29" h="21600">
                <a:moveTo>
                  <a:pt x="20808" y="10800"/>
                </a:moveTo>
                <a:lnTo>
                  <a:pt x="34821" y="3794"/>
                </a:lnTo>
                <a:lnTo>
                  <a:pt x="348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U nepřímého odměřová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snímač polohy umístěn na posuvovém kuličkovém šroubu, a to buď přímo, nebo pomocí převod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áha pohybové části stroje se odměřuje nepřímo a závisí na potočení kuličkového šroubu nebo jeho převod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ou tohoto způsobu odměřování je, že nepřesnosti pohonu, kuličkového šroubu, převodu i vlivy silových účinků na snímač polohy se přenáší do vlastního měř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způsob je rozšířený pro svou jednoduchost a c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5589720"/>
            <a:ext cx="1513080" cy="503280"/>
          </a:xfrm>
          <a:custGeom>
            <a:avLst/>
            <a:gdLst>
              <a:gd name="textAreaLeft" fmla="*/ 32400 w 1513080"/>
              <a:gd name="textAreaRight" fmla="*/ 1480680 w 1513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08" h="21600">
                <a:moveTo>
                  <a:pt x="25448" y="10800"/>
                </a:moveTo>
                <a:lnTo>
                  <a:pt x="39461" y="3794"/>
                </a:lnTo>
                <a:lnTo>
                  <a:pt x="394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Soubor:Rechte-hand-reg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6280"/>
            <a:ext cx="7265880" cy="544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020000" y="6165720"/>
            <a:ext cx="1439640" cy="432000"/>
          </a:xfrm>
          <a:custGeom>
            <a:avLst/>
            <a:gdLst>
              <a:gd name="textAreaLeft" fmla="*/ 27720 w 1439640"/>
              <a:gd name="textAreaRight" fmla="*/ 1411920 w 143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40" h="21600">
                <a:moveTo>
                  <a:pt x="0" y="0"/>
                </a:moveTo>
                <a:lnTo>
                  <a:pt x="71940" y="0"/>
                </a:lnTo>
                <a:lnTo>
                  <a:pt x="71940" y="21600"/>
                </a:lnTo>
                <a:lnTo>
                  <a:pt x="0" y="21600"/>
                </a:lnTo>
                <a:close/>
              </a:path>
              <a:path fill="lightenLess" w="71940" h="21600">
                <a:moveTo>
                  <a:pt x="0" y="0"/>
                </a:moveTo>
                <a:lnTo>
                  <a:pt x="71940" y="0"/>
                </a:lnTo>
                <a:lnTo>
                  <a:pt x="70540" y="1400"/>
                </a:lnTo>
                <a:lnTo>
                  <a:pt x="1400" y="1400"/>
                </a:lnTo>
                <a:close/>
              </a:path>
              <a:path fill="darken" w="71940" h="21600">
                <a:moveTo>
                  <a:pt x="71940" y="0"/>
                </a:moveTo>
                <a:lnTo>
                  <a:pt x="71940" y="21600"/>
                </a:lnTo>
                <a:lnTo>
                  <a:pt x="70540" y="20200"/>
                </a:lnTo>
                <a:lnTo>
                  <a:pt x="70540" y="1400"/>
                </a:lnTo>
                <a:close/>
              </a:path>
              <a:path fill="darkenLess" w="71940" h="21600">
                <a:moveTo>
                  <a:pt x="71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40" y="20200"/>
                </a:lnTo>
                <a:close/>
              </a:path>
              <a:path fill="lighten" w="71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40" h="21600">
                <a:moveTo>
                  <a:pt x="28964" y="10800"/>
                </a:moveTo>
                <a:lnTo>
                  <a:pt x="42977" y="3794"/>
                </a:lnTo>
                <a:lnTo>
                  <a:pt x="4297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273800" cy="545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566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ování C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ohraničená posloupnost oddělených skupin znaků, kterým říkáme bloky nebo v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řídící systém jsou zdrojem příkazů logicky uspořádaných a umožňují řízení NC stroje při provádění specifické ope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á věta obsahuje dva druhy informací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ometrické a technolog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 jsou převáděny d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mpuls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ického proudu nebo jiných výstupních signálů, které aktivuj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rvopohony a ostatní zařízení potřebné pro řádný chod st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youtube.com/watch?v=7z8v1JVgQ8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528720" cy="258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4076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ování CNC v programu SURF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4427280" cy="314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92360" cy="329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92360" y="443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gramování CNC v programu Pred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redator CNC Editor - Full of features, yet easy to use!"/>
          <p:cNvPicPr/>
          <p:nvPr/>
        </p:nvPicPr>
        <p:blipFill>
          <a:blip r:embed="rId2"/>
          <a:stretch/>
        </p:blipFill>
        <p:spPr>
          <a:xfrm>
            <a:off x="4716360" y="2924280"/>
            <a:ext cx="424836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áběcí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ářecí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ěřící a rýsovací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ční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palovací stroje, stroje pro svařování, nýtovačky, montážní stroje, stroje pro kontrolu vad materiálu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49360"/>
            <a:ext cx="460836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49360"/>
            <a:ext cx="2228760" cy="2857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Zobrazit obrázek v plné velikosti"/>
          <p:cNvPicPr/>
          <p:nvPr/>
        </p:nvPicPr>
        <p:blipFill>
          <a:blip r:embed="rId5"/>
          <a:stretch/>
        </p:blipFill>
        <p:spPr>
          <a:xfrm>
            <a:off x="3132000" y="3716280"/>
            <a:ext cx="33116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16000" y="486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C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8:28:21Z</dcterms:created>
  <dc:creator>petra</dc:creator>
  <dc:description/>
  <dc:language>en-US</dc:language>
  <cp:lastModifiedBy>VOŠ a SPŠ Strakonice</cp:lastModifiedBy>
  <dcterms:modified xsi:type="dcterms:W3CDTF">2011-01-03T09:27:55Z</dcterms:modified>
  <cp:revision>35</cp:revision>
  <dc:subject/>
  <dc:title>ČÍSLICOVĚ ŘÍZENÉ OBRÁBĚCÍ STROJE </dc:title>
</cp:coreProperties>
</file>