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0C7C-C003-4654-9D0B-A97A274B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C004-84EB-4D56-91D5-0A798C8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509B-C849-40AF-A8E2-750FEFCD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4668-5CE1-432C-A856-6297BC07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31BA-3AD7-47FC-A2F7-7EB99C10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05DD-25F4-4FE4-A6B9-E3C93093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1034-007E-4ACA-B2A5-C57A874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85AF-B592-41D2-8E45-7BE3CE01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49EF-84F0-4AF6-BA61-15AED734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5857-6C9F-47E4-A3C6-A9DF9A8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7AC6-6877-40F5-99BA-50DFD183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BB94-7434-4267-8BBE-0F6B032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8BC0-5BA1-4B85-8F6A-BD7A171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75E-D938-46B9-A4E6-E6CC2B9D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DDF2-F3E7-4336-A92A-32738E7F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681B-4229-46B4-A14A-20E82B4E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41B5-A2CA-4709-977A-F38D005B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8FEF-AB6E-4195-8C4B-57A16871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9AA5-23F9-4511-9F77-9CA283FB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DC9B-ABD8-4253-A507-A6B18B53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F1E0-C606-4493-94A5-BB9E0158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272F-E8C5-4D3D-BA0A-1C296F4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E69F-8E7E-4F61-A04D-8B83A28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8D6D-631A-4D75-AA78-6F56AC8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151D-9474-4213-9B5A-2266AF95E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1EB3-AE0A-40C3-B671-A9C3A0FE70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sp.tul.cz/cz/kpt/obsah/vyuka/skripta_tkp/sekce/09-tazeni/05-rotacnich%20teles.jpg" TargetMode="External"/><Relationship Id="rId2" Type="http://schemas.openxmlformats.org/officeDocument/2006/relationships/hyperlink" Target="http://www.ksp.tul.cz/cz/kpt/obsah/vyuka/skripta_tkp/sekce/09-tazeni/06-hranatych%20tvaru.jpg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Tažení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486900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7056360" cy="517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Výpočet síly a práce,součinitele tažení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F = S . R</a:t>
            </a:r>
            <a:r>
              <a:rPr b="1" i="1" lang="cs-CZ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           S … plocha materiálu, který je              namáhán na tah (S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. d . s) [mm2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A = F</a:t>
            </a:r>
            <a:r>
              <a:rPr b="1" i="1" lang="cs-CZ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. h 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h … výška výtažku [mm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 = d / D = 1 / 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   … součinitel tažení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                             d   … průměr výtažku [mm]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                             D   … průměr přístřihu [mm]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                             K   … stupeň taže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43600" y="5733360"/>
            <a:ext cx="47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ůběh tažné síly v jednotlivých fázích tažen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Určování velikosti a tvaru přístřihu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rotačních tě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se používají různé tabulky z odborných knih a nebo grafické metody stanovení průměru přístřih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ranatých tvarů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se používají různé grafické výpočtové metody a nebo jejich kombin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sadou bývá, že plocha přístřihu se rovná ploše výtažku s přídavkem na odstřižení (bočnice se však tažením mírně prodlužují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743440" cy="55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741672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chnologické zásady, mazání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ška výtažku má být co nejmenš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řednostňovat výtažku rotačního tvaru s rovným dn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hy hranatých výtažků velmi zaob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ruby na výtažku používat jen v nevyhnutelných případ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lerovat rozměry tak, aby se výtažky již nemusely kalibro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lit materiály s dobrými tažnými vlastnost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maže se celý přístřih (mazat mezi přidržovačem a materiálem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3943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Tažení se ztenčením stěny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321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pětné, obrácené, tažení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238640" cy="36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statní způsob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žení stupňovitých, kónických, kulovitých, parabolických výtaž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žení s ohřev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váření pryží – metoda Guer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váření pryží – metoda Mar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váření kapalinou – metoda Whee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váření kapalinou – metoda Hydro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ydromechanické taž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18004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9760" y="2923560"/>
            <a:ext cx="874116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95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Tažení metodou Marform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6696000" cy="53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32360" y="2780640"/>
            <a:ext cx="874116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95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Tažení metodou Hydro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77080" cy="477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86480" y="2059560"/>
            <a:ext cx="54918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 hydromechanického tažení plošného výtaž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190600" cy="49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ÁSTROJE PRO TAŽENÍ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lavní funkční části jsou </a:t>
            </a:r>
            <a:r>
              <a:rPr b="1" lang="cs-CZ" sz="2000" spc="-1" strike="noStrike">
                <a:solidFill>
                  <a:srgbClr val="ffcc00"/>
                </a:solidFill>
                <a:latin typeface="Arial"/>
              </a:rPr>
              <a:t>tažník, tažnice,přidržovač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ažné nástroje jednoduché, sloučené, speciál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rosářské vícebodové lis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ažná hrana bývá vložkována, což umožňuje snadnou výměnu opotřebených hran i změnu tvar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výšení brzdného účinku přidržovače se dociluje použitím tzv. brzdících liš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a díly nástroje se liší při dosednutí pouze o tloušťku plec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stroj tedy žádaný tvar nejen táhne, ale po dosednutí i kalibr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70040" y="3499920"/>
            <a:ext cx="6536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tail zvýšené tažné hrany (vlevo) a brzdící lišty (vprav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6337440" cy="327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54760" y="3357360"/>
            <a:ext cx="6563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5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žný nástr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6120000" cy="538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ttp://www.ksp.tul.cz/cz/kpt/obsah/vyuka/skripta_tkp/sekce/02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inci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ůsob tváření, při kterém se jedním a nebo v několika tazích vyrobí z rovného plechu (přístřihu) duté těleso - polouzavřená nádob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lotovar - přístřih plechu, pás plechu nebo již jinak zpracovaný polotov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ek - výtaž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ástroj – tažidlo (skládá z tažníku a tažnice a ostatních konstrukčních částí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152960" cy="56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té taž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žení se ztenčením stě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pětné taž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žlábk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ování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m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ž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tah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íná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ální způso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2421000"/>
            <a:ext cx="8569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echnologické způsoby tažení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, B - tažení bez přidržovače, 1. a 2. tah, C, D - tažení s přidržovačem, 1. a 2. tah, E – zpětné tažení (obracení), F – tažení se ztenčením stěny, G – zužování, H – rozšiřování, I – lemování (přetahování), J - napín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904000" cy="423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6320" y="-2188080"/>
            <a:ext cx="32882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 tažení válcového tvar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330192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08720" y="184536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tažení se mezikruží přístřihu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 -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změní na válec s průměrem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výško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 dřívějšího rozměru přístřih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V důsledku platnosti zákona stálosti objemu se objem kovu během procesu nemění a proto výšk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ude větší, než šířka mezikruží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 –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3943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Vznik vln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3600" y="4508280"/>
            <a:ext cx="4912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vorba vln na výtažku a nebezpečí utržení 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1086120" y="2059920"/>
            <a:ext cx="118562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5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vorba vln u tažení bez přidržovače (vlevo) a s přidržovačem (vprav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264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4:27Z</dcterms:created>
  <dc:creator>SPŠ a VOŠ Strakonice</dc:creator>
  <dc:description/>
  <dc:language>en-US</dc:language>
  <cp:lastModifiedBy>kABINET-413</cp:lastModifiedBy>
  <dcterms:modified xsi:type="dcterms:W3CDTF">2011-05-03T07:12:13Z</dcterms:modified>
  <cp:revision>22</cp:revision>
  <dc:subject/>
  <dc:title>Tažení</dc:title>
</cp:coreProperties>
</file>