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A3D-FC34-42ED-B5C9-C28F212E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CF1-33DF-45F5-991E-DEAF7163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451-9CB8-472C-ABF2-20F3B40D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AAE-6063-4AA4-B08E-1E155F74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21F5-3A07-48CA-AB84-99F3F531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1CAA-90FA-40F9-B23F-21D014AF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0B1D-1307-4B97-B60B-88A60711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0CE9-C53D-4AFA-8DE1-825FAE48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DC11-09AB-406C-8FD4-A98DAA6D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D049-394C-4237-BA7B-7E8BB105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1434-3863-4C68-B817-22CD289D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85D-0FA4-40FA-93B0-A1FAAAF5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838D-9E82-4B7A-9D78-549364DA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6782-5314-4641-B25F-868D15E4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9651-E8EA-473D-9CDE-465E2D8D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F0B7-A1EC-4B36-9239-C16F69E3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CE6E-FB4F-46F1-9E6A-3686FAEE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0A5-7E38-4CCE-8F7C-1C9DDE7D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EAA-2460-4077-ADB0-E468C734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4D5-942A-472A-9BA5-46C0F8E8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C2C-2419-4C30-9346-6B5EE75E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FA7-CB85-4E9A-A469-67A0D162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E56B-FDA7-4C7D-9697-45D1BD37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496-C698-40E5-9CE5-B1FC64AF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409D-1CA1-47FE-AD09-4704F6264DA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AF57-72D1-4712-8ACC-3E324ABDC6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F6E8-1843-4F4F-B122-3EB2663D7D3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679B-9D93-4955-A1B0-EA56EF6F7B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upload.wikimedia.org/wikipedia/commons/4/4a/Construction_Workers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teslaji.cz/obrazky/1105ccz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c/c5/Conventional-lathe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ntáž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Soubor:Construction Worker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2781360"/>
            <a:ext cx="2476440" cy="3097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Klikněte pro zvětšení obrázku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19280" y="3645000"/>
            <a:ext cx="2952720" cy="22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681440" cy="3027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1280" y="3880440"/>
            <a:ext cx="46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ařízení pro lepení loga na klíček, včetně kamerové kontroly - Vol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580000" y="3429000"/>
            <a:ext cx="3048120" cy="2514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651640" y="292428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iverzální montážní auto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ak postupuje montáž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í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je spojení několika součástek bez vlastní funk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odsestav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je montážní jednotka, která představuje spojení několika součástek a dílů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estav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je spojení řady podsestav a dílů do celku, který má již vlastní funkčnos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Výrob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je to, k čemu jsem chtěli dospě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chnologičnost montáže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ýza konstrukce montovaného výrobku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úprava konstrukce pro automatizovanou montá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ávislost na technologičnosti součá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 počtu součástí, snížení jejich počtu, na orientaci apo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ýza současné úrovně montáž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optimalizace technického organizačního uspořádání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optimalizace řízení montážního proces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výběr montážní techniky</a:t>
            </a:r>
            <a:br>
              <a:rPr sz="2400"/>
            </a:b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ntážní příprav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dnoúčelové pomůcky, které usnadňují sestavování a montáž výrobk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žáky nebo stojany, do kterých se upnou jednotlivé díly v přesně definované poloze, aby bylo možné je spojit šroubováním nebo nýtování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možňují otáčení montovaného celku tak, aby byl snadno přístupný ze všech stra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61080" cy="2984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88000" y="306864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92720" y="20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tážní přípra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ontážní nářadí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šroubováky nebo pneumatického utahovák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19640" y="213372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364968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Zdroj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http://cs.wikipedia.org/wiki/Mont%C3%A1%C5%B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http://www.teslaji.cz/index.php?menu=337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http://parni-turbina.navajo.cz/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http://www.bazar-stroju.cz/nabidka/1248-vyrobni-linka-trapezovy-plech-35-mm.h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http://www.tmt.cz/vyrobni-program/dle-zarizeni/podvesne-dopravniky/index.ph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http://hranicky.denik.cz/zpravy_region/muldisplay-vyroba-hranice20080125.htm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http://www.cbgimpex.com/produkty_mont_zar.ph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http://www.komfi.cz/cs/produkty/zakazkova-vyroba/montazni-automaty/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http://www.seminarky.cz/Montaze-a-repase-11426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http://www.eshop-bosch.cz/aku-razovy-utahovak-bosch-gdr-108-vli-professional-_bosch-naradi_-17.htm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http://www.azurehamaj.cz/eshop/?1141,sada-narad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http://produkty.topkontakt.idnes.cz/region-pardubicky-kraj/p/montazni-pripravky-montazni-pracoviste/940594/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http://www.novrat.cz/pripravky_produkty.ph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ntáž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ontáž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(odvozeno z francouzského termínu pro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spojování dohromad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česky též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ontování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dská činnost, kterou lze obecně popsat jako sestavování dílčích částí v jeden jediný výsledný cele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harakteristika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 strojírenství a elektrotechnice sestrojení (respektive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smontování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) nějakého strojního nebo přístrojového zařízení z jednotlivých součástek či dílčích celků do jednoho výsledného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funkčního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elku (stroj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 stavebnictví znamená montáž sestavení hrubé stavby z nějakých předem připravených dílů (stavebních dílů či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refabrikát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 jiných oblastech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ské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činnosti se používá přenesený význam slova - např. v polygrafii, optice, fotografii (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fotomontá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) apo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Základní způsoby montáže v průmyslu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ntáž v kusové výrob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ntáž v sériové výrob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matizovaná montá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ontáž v kusové výrobě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íhá na jediném pracovišti, kde skupina kvalifikovaných pracovníků sestavuje výrobek od zákla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ařízení vyráběná na zakázku podle individuálních požadavků zákazník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př. výrobní stroje, jako jsou obráběcí stroje, energetická zařízení nebo výrobní linky pro potravinářský průmys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Soubor:Conventional-lath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549360"/>
            <a:ext cx="3408480" cy="2646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84360" y="3429000"/>
            <a:ext cx="3528720" cy="2646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076720" y="1773360"/>
            <a:ext cx="3333960" cy="3333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356000" y="6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ustru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43640" y="5300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ní turbí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5734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ýrobní li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ontáž v sériové výrobě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montážní linky, na které se plynule nebo v pravidelném taktu pohybuje výrobek unášený dopravníke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stanoviště jsou pak vybavena montážními přípravky, nářadím a zásobou díl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každé stanoviště je vybavené pro provádění konkrétních úkon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montážní linka může mít podobu pásu, který přesouvá drobné výrobky, typicky elektrické spotřebič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odvěsné dopravníky v automobilkách, kde kolem každého vozu na každém stanovišti tancuje několik pracovníků vybavených specializovaným nářadím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4032360" cy="3021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3280" y="2852640"/>
            <a:ext cx="3961080" cy="3205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6920" y="378936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dvěsný doprav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2349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ýrobní li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utomatizovaná montáž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bíhá prakticky bez doteku lidské ruk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tážní automaty jsou specializované linky na montáž konkrétního, poměrně jednoduchého výrobku ve stotisícových dávká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ýroba například žárovek,vypínačů a zásuve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ýroba komponent pro automobilový průmys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ipulá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1-05-31T09:55:02Z</dcterms:modified>
  <cp:revision>46</cp:revision>
  <dc:subject/>
  <dc:title>POSLOUPNOSTI</dc:title>
</cp:coreProperties>
</file>