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2BA-A337-4492-A951-808C1B1F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115-4E0E-47F7-BA7A-C5D33587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196-7BC6-4300-B36E-6DF355E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C9C-1048-4BF9-9084-F81F8FB2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B02B-7C86-41F0-B746-03C6860A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BD77-5BE7-49E3-B753-48E627D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90E1-3B2C-4A54-A42A-9B2EF1C1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B13-DE48-4958-834F-64FD90D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E530-8217-4523-AE0B-68C1435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D8A-2F5D-4F2E-9488-499BD29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C081-860D-43C6-B1A9-AA4C8868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69F-DBFC-4AC7-9061-6B95514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424-EE6A-4743-A3B8-2C649423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6BB-4FAD-4241-B063-57ADE65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807-9816-4827-9F93-BBDDAFD5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9CD-72FD-4477-9284-BA43916D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057-FA6E-48ED-9731-97AAA4D5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692-4A42-4252-AA58-AFA5077F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ECF-B2EA-48BB-B7A3-AE1B93F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D81-8B63-40B7-9CCB-664C81F3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108-04B1-4465-8C38-6F4885B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A16-4524-4AC5-9A92-FA3389A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3C6-ADEB-4B0A-9990-4722696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961-80BE-41EB-A43F-FAE32C9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D6B-E347-49C6-8640-C159337F4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DB4-C37A-4650-90B6-87A97202A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ástroje pro tváření za tep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racovala: Ing. Petra Řezáč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474336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race volného k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3200400" cy="582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159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perace volného k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pustkové k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uží k výrobě velkého počtu tvarově stejných součástí z ocelí nebo jiných tvárných sli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ahoma"/>
              </a:rPr>
              <a:t>zápustk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je většinou dvoudílný nástr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avní předností je vysoká výkonnost a snadná obsl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kovky mají omezené rozměry a hmotnost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pustkové k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hřátý materiál se tváří v dutině zápustky, jejíž tvar je shodný s tvarem výkov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změry jsou však zvětšeny o hodnotu smrštění vychladlého výkov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i volnému kování se dosahuje přesnějšího tvaru výkov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snost a jakost povrchu se dá výrazně zlepšit následným kalibrováním tak, že se nemusí již dále používat obráb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sahuje se vysokého stupně prokování a průběh vláken sleduje obrys výkov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Zápustkové kování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914120" y="3860280"/>
            <a:ext cx="55314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stup kování v jednodutinové zápustce na buchar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696000" cy="44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tinu zápustky je možno zaplňovat buď vtlačováním nebo pěch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kování na bucharech je zápustková dutina vyplňována postupně během několika úderů bera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kování na lisech je výkovek zhotoven v průběhu jednoho zdvihu nebo několika zdvihů (postupová zápustk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pustkové k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i konstrukci zápustkových bloků je důležitou částí řešení způsob upnutí zápustky na kovací stroj, hlavně na buch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ázy při kování upevnění zápustek povol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buchary se zápustka opatřuje s úspěchem rybinou  a upíná se pomocí pera a klínu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lisů se upínají pomocí stopek, šroubů a přílože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pínání zápust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jedné dutině se nesnažíme deformovat kov v příčném i podélném směru současn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ělení matriálu v podélném směru provedeme dříve než ve směru příčné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var předkovku navrhneme tak, aby při kování docházelo k posuvu částic v příčných řezech a předkovek měl rotační tv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nstrukce zápust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0077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 kovacích dutin záleží na tvaru výkovku a na tvaru výchozího materiá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stačí jedna dut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dnotlivé dutiny se často umísťují do společného bloku oceli – nást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řenášení výkovku z jedné dutiny do druhé netrvá příliš dlouho, výkovek nechladne rych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 případě složitějších tvarů je tedy nutno kovat ve více dutinách, které zajistí tečení materiálu v dutině zápustky – kování v </a:t>
            </a: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postupových zápustká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nstrukce zápust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6120" y="1119240"/>
            <a:ext cx="8591760" cy="4619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56000" y="549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stup kování v postupové zápust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váření za tep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hospodárná a produktivní metoda výroby výrobků a polotovar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malým množstvím odpadu materiálu (5-1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vářecí procesy lze dobře mechanizovat a automatiz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3319560" cy="540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24320" y="580464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héma tečení materiálu v dutině postupové zápust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Postupová zápustk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může být konstruována pomocí výměnných tvarových vložek kruhového nebo obdélníkového tvar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851840"/>
            <a:ext cx="92170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11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stupová zápustka pro buchar (1 – prodlužovaní, 2 – rozdělovací, 3 – předkovací, 4 – kovací, 5 – dokončovací dutina, a – polotov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42292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345440" cy="53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887640" cy="334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2789280"/>
            <a:ext cx="4248000" cy="3136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6364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pust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 postupové zápustce nejsou dutiny umístěny za sebou podle technologického postu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vací (dokončovací), tj. poslední dutina se umisťuje uprostřed tak, aby její těžiště bylo blízko těžiště celého bloku (síla nebo energie na kování výkovku je větší, než na kování předkovků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tatní dutiny jsou rozmístěny kolem této dokončovací duti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řesné k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kovky s minimálními přídavky na obrábění i úkosy se zhotovují v </a:t>
            </a: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uzavřených zápustk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né kování jsou nejvýhodnější výkovky rotač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30560" y="3774960"/>
            <a:ext cx="2305080" cy="1687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67280" y="5084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řábové kované ko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250400" cy="401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Kování na vodorovných kovacích strojíc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00360" y="2071800"/>
            <a:ext cx="3308400" cy="38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Kování protlačováním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19280" y="2008080"/>
            <a:ext cx="5616720" cy="34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Kování za rotac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1280" y="2008080"/>
            <a:ext cx="7848360" cy="36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váření za tep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stává úplná </a:t>
            </a:r>
            <a:r>
              <a:rPr b="0" lang="cs-CZ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rekryst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usí dojít k rekrystalizaci celého materiálu, aby nevznikly dvě různé struktury s deformovanými a rekrystalizovanými zr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ffff"/>
                </a:solidFill>
                <a:latin typeface="Tahoma"/>
              </a:rPr>
              <a:t>Vícecestné kování</a:t>
            </a: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1557360"/>
            <a:ext cx="5832360" cy="40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Kovací st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Buch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hy buch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vzducho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echanick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draulick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ahoma"/>
              </a:rPr>
              <a:t>Lis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ruhy l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mechanick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hydraulick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ch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ůsobí na tvářený materiál údery beranu, ale prokovou jej jen do určité hloub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konomické je kovat středně velké výkovky, popř. předko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 úderech beranu bucharu odpadají z tvářeného materiálu </a:t>
            </a:r>
            <a:r>
              <a:rPr b="0" lang="cs-CZ" sz="2400" spc="-1" strike="noStrike">
                <a:solidFill>
                  <a:srgbClr val="cc0066"/>
                </a:solidFill>
                <a:latin typeface="Tahoma"/>
              </a:rPr>
              <a:t>okuj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a proto je povrch čist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ázy se přenášejí do základů stroje a působí otřesy i v okol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ychlost dopadu beranu je vyšší jak 6 m za sekund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ychlosti jsou zpravidla vyšší než 12 m/se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uchar nemá omezenou spodní polohu hor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stroje na beranu, kovadla se mohou sraz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s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cují klidným, pozvolna narůstajícím tlakem, rychlostí max. 6 m/sec a prokovou materiál v celém průřez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á přesně vymezenou spodní polohu horního nástroje (nástroje na beran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mezení polohy je dáno klikovým mechanizm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vou se na nich i nejtěžší výkov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áce na lisech je bezpečně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33640" cy="5111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87280" y="551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90528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84720" y="558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likový 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i za pozornost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ww.ksp.tul.cz/cz/kpt/obsah/vyuka/skripta_tkp/sekce/03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ww.polotovary.sk/material_naradie/bazar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ww.ato.c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ww.zdas.cz/user_img/10/0_zapustky2.j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Rekrystaliz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ranice mezi zrny zanikají a vznikají zrna n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ím se sníží pevnost, ale zvýší se tažno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roti překrystalizaci se nemění typ mřížky jen se obnovuje porušený krys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chází ke změně zrn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 větší deformaci se získává jemnější zrno a naop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7380360" y="580536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 volbu teplot platí tyto zásad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ím vyšší teplota tváření, tím menší jsou odpory proti deform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ím vyšší je teplota tváření, tím více hrubne zrno a klesá houževna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ké teploty způsobují značný opal (okuje), při jednom ohřevu 3 až 5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smí se překročit horní teplota tváření a končit se má na dolní teplotě tvář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5905440" cy="5037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24360" y="595008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plota tvář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Vznik vlák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měr největšího normálného napětí součásti má souhlasit se směrem průběhu vlá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čné napětí má být k němu kolm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4753080" cy="16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né kov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 tvářený údery nebo tlakem můž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ol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éc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hlavně ve směru kolmém k působení sí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 kování, kdy používáme jednoduché kovářské nástroje,přípravky a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chylky rozměrů výkovků jsou velk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vrch je hrubý a nerovn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Nástroje a ná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d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vad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ešt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káč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azovací přílož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5246640" cy="562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7:34:11Z</dcterms:created>
  <dc:creator>VOŠ a SPŠ Strakonice</dc:creator>
  <dc:description/>
  <dc:language>en-US</dc:language>
  <cp:lastModifiedBy>zak</cp:lastModifiedBy>
  <dcterms:modified xsi:type="dcterms:W3CDTF">2011-02-11T11:54:52Z</dcterms:modified>
  <cp:revision>33</cp:revision>
  <dc:subject/>
  <dc:title>Nástroje pro tváření za tepla</dc:title>
</cp:coreProperties>
</file>