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804-E744-4E57-A06B-C3D53F8A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716-C09C-4D75-880D-F1D1ACD9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C2D-AE54-4DE1-93EA-7297DBB8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C81-B6FD-4A5C-8B22-D86426BC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46F-AD54-4BD1-AAC0-8808039D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BA5-20F8-42CC-82AF-6BD8E4CE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B50-F453-43EF-AFD8-E638102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2B2-B14B-4C14-BAC9-FBD4D29E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2F4-F587-430A-A0B7-C587501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152-4565-4B06-957C-CFF5797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8B7-9E79-461F-9D75-5A8222B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AA6-1E9F-4DAA-86F0-433016E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9C6E-B0B6-4D2F-BF5F-D0889D9B07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C29D-2B0A-4D46-9573-A83826FC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atojepecka.cz/image.php?id=126&amp;section=product&amp;size=large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2820960"/>
            <a:ext cx="52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t und Gemü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424008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 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otisches Ob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anana"/>
          <p:cNvPicPr/>
          <p:nvPr/>
        </p:nvPicPr>
        <p:blipFill>
          <a:blip r:embed="rId1"/>
          <a:stretch/>
        </p:blipFill>
        <p:spPr>
          <a:xfrm>
            <a:off x="0" y="1413000"/>
            <a:ext cx="4038480" cy="28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kiwi"/>
          <p:cNvPicPr/>
          <p:nvPr/>
        </p:nvPicPr>
        <p:blipFill>
          <a:blip r:embed="rId2"/>
          <a:stretch/>
        </p:blipFill>
        <p:spPr>
          <a:xfrm>
            <a:off x="4648320" y="2484360"/>
            <a:ext cx="4495680" cy="3070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2880" y="46004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Banane-Ban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27440" y="1936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Ki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orange"/>
          <p:cNvPicPr/>
          <p:nvPr/>
        </p:nvPicPr>
        <p:blipFill>
          <a:blip r:embed="rId1"/>
          <a:stretch/>
        </p:blipFill>
        <p:spPr>
          <a:xfrm>
            <a:off x="541440" y="0"/>
            <a:ext cx="3768480" cy="3789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Pomelos_-_Grapefruits"/>
          <p:cNvPicPr/>
          <p:nvPr/>
        </p:nvPicPr>
        <p:blipFill>
          <a:blip r:embed="rId2"/>
          <a:stretch/>
        </p:blipFill>
        <p:spPr>
          <a:xfrm>
            <a:off x="5651640" y="0"/>
            <a:ext cx="3186000" cy="424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andarinky"/>
          <p:cNvPicPr/>
          <p:nvPr/>
        </p:nvPicPr>
        <p:blipFill>
          <a:blip r:embed="rId3"/>
          <a:stretch/>
        </p:blipFill>
        <p:spPr>
          <a:xfrm>
            <a:off x="971640" y="357336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04920" y="1364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Die Apfel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66000" y="3524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e Grape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56815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Die Mand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3" descr="citron"/>
          <p:cNvPicPr/>
          <p:nvPr/>
        </p:nvPicPr>
        <p:blipFill>
          <a:blip r:embed="rId4"/>
          <a:stretch/>
        </p:blipFill>
        <p:spPr>
          <a:xfrm>
            <a:off x="4788000" y="3141720"/>
            <a:ext cx="4248000" cy="2941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72360" y="328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Die Zi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granate"/>
          <p:cNvPicPr/>
          <p:nvPr/>
        </p:nvPicPr>
        <p:blipFill>
          <a:blip r:embed="rId1"/>
          <a:stretch/>
        </p:blipFill>
        <p:spPr>
          <a:xfrm>
            <a:off x="395280" y="18900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Litchi"/>
          <p:cNvPicPr/>
          <p:nvPr/>
        </p:nvPicPr>
        <p:blipFill>
          <a:blip r:embed="rId2"/>
          <a:stretch/>
        </p:blipFill>
        <p:spPr>
          <a:xfrm>
            <a:off x="4859280" y="189000"/>
            <a:ext cx="3745080" cy="29700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3" descr="Kaki churm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42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10720" y="3521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K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74720" y="2655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t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00" y="3305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ntap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Nashi_pear"/>
          <p:cNvPicPr/>
          <p:nvPr/>
        </p:nvPicPr>
        <p:blipFill>
          <a:blip r:embed="rId1"/>
          <a:stretch/>
        </p:blipFill>
        <p:spPr>
          <a:xfrm>
            <a:off x="250920" y="189000"/>
            <a:ext cx="4038480" cy="298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ngo"/>
          <p:cNvPicPr/>
          <p:nvPr/>
        </p:nvPicPr>
        <p:blipFill>
          <a:blip r:embed="rId2"/>
          <a:stretch/>
        </p:blipFill>
        <p:spPr>
          <a:xfrm>
            <a:off x="250920" y="3357720"/>
            <a:ext cx="4033800" cy="263988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3" descr="Pochoutka plná vitaminů"/>
          <p:cNvPicPr/>
          <p:nvPr/>
        </p:nvPicPr>
        <p:blipFill>
          <a:blip r:embed="rId3"/>
          <a:stretch/>
        </p:blipFill>
        <p:spPr>
          <a:xfrm>
            <a:off x="4427640" y="1628640"/>
            <a:ext cx="4608360" cy="295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0160" y="404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N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96560" y="5321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14000" y="1865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müse am T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soll Gemüse täglich 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bringt uns viele Vitamine und Spur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ist Bestandteil für viele Sp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bildet auch Beil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stärkt unsere Org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wirkt auch wie Gewür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Veg"/>
          <p:cNvPicPr/>
          <p:nvPr/>
        </p:nvPicPr>
        <p:blipFill>
          <a:blip r:embed="rId1"/>
          <a:stretch/>
        </p:blipFill>
        <p:spPr>
          <a:xfrm>
            <a:off x="1619280" y="115920"/>
            <a:ext cx="5160960" cy="590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930360" y="15764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Kar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53716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ie Gu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00808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Zw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9120" y="270828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er Knobl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květák"/>
          <p:cNvPicPr/>
          <p:nvPr/>
        </p:nvPicPr>
        <p:blipFill>
          <a:blip r:embed="rId1"/>
          <a:stretch/>
        </p:blipFill>
        <p:spPr>
          <a:xfrm>
            <a:off x="1619280" y="3284640"/>
            <a:ext cx="4464000" cy="288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zelí"/>
          <p:cNvPicPr/>
          <p:nvPr/>
        </p:nvPicPr>
        <p:blipFill>
          <a:blip r:embed="rId2"/>
          <a:stretch/>
        </p:blipFill>
        <p:spPr>
          <a:xfrm>
            <a:off x="4572000" y="476280"/>
            <a:ext cx="4248000" cy="32432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3" descr="Soubor:Koolrabi (Brassica oleracea convar. acephala alef. var. gongylodes).jpg"/>
          <p:cNvPicPr/>
          <p:nvPr/>
        </p:nvPicPr>
        <p:blipFill>
          <a:blip r:embed="rId3"/>
          <a:stretch/>
        </p:blipFill>
        <p:spPr>
          <a:xfrm>
            <a:off x="324000" y="409680"/>
            <a:ext cx="3097080" cy="298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82720" y="6397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hlr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9080" y="784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hl- Sauerkr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5640" y="56088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er Blumenko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Eissalat"/>
          <p:cNvPicPr/>
          <p:nvPr/>
        </p:nvPicPr>
        <p:blipFill>
          <a:blip r:embed="rId1"/>
          <a:stretch/>
        </p:blipFill>
        <p:spPr>
          <a:xfrm>
            <a:off x="0" y="476280"/>
            <a:ext cx="4506840" cy="352908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3" descr=""/>
          <p:cNvPicPr/>
          <p:nvPr/>
        </p:nvPicPr>
        <p:blipFill>
          <a:blip r:embed="rId2"/>
          <a:stretch/>
        </p:blipFill>
        <p:spPr>
          <a:xfrm>
            <a:off x="4319640" y="2492280"/>
            <a:ext cx="4824360" cy="312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53280" y="3448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er Kopfsa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97640" y="5032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er Chinako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prika-S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paprika"/>
          <p:cNvPicPr/>
          <p:nvPr/>
        </p:nvPicPr>
        <p:blipFill>
          <a:blip r:embed="rId1"/>
          <a:stretch/>
        </p:blipFill>
        <p:spPr>
          <a:xfrm>
            <a:off x="539640" y="1125360"/>
            <a:ext cx="3278160" cy="218628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2932200" cy="21862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" descr="náhled obrázku"/>
          <p:cNvPicPr/>
          <p:nvPr/>
        </p:nvPicPr>
        <p:blipFill>
          <a:blip r:embed="rId3"/>
          <a:stretch/>
        </p:blipFill>
        <p:spPr>
          <a:xfrm>
            <a:off x="6227640" y="3716280"/>
            <a:ext cx="1824120" cy="26240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2951280" cy="209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867200" cy="3314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745080" cy="3108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419080" y="15033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To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sen und Trinken, also Lebensmittel, braucht jeder Mensch zu seinem L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sundes Essen und Trinken bringt uns nicht nur Energie, sondern auch wichtige Stoffe für unseren Organismus, Spurelemente und verschiedene Vi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ele Spezialisten empfehlen uns sogenannte Ernährung-Pyr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kürbiss"/>
          <p:cNvPicPr/>
          <p:nvPr/>
        </p:nvPicPr>
        <p:blipFill>
          <a:blip r:embed="rId1"/>
          <a:stretch/>
        </p:blipFill>
        <p:spPr>
          <a:xfrm>
            <a:off x="108000" y="1413000"/>
            <a:ext cx="4500360" cy="3322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9640" y="4862520"/>
            <a:ext cx="16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r Kür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lilek"/>
          <p:cNvPicPr/>
          <p:nvPr/>
        </p:nvPicPr>
        <p:blipFill>
          <a:blip r:embed="rId2"/>
          <a:stretch/>
        </p:blipFill>
        <p:spPr>
          <a:xfrm>
            <a:off x="4875120" y="620640"/>
            <a:ext cx="4017960" cy="504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80200" y="573408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ie Eierfru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ewür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kmín"/>
          <p:cNvPicPr/>
          <p:nvPr/>
        </p:nvPicPr>
        <p:blipFill>
          <a:blip r:embed="rId1"/>
          <a:stretch/>
        </p:blipFill>
        <p:spPr>
          <a:xfrm>
            <a:off x="324000" y="1844640"/>
            <a:ext cx="4038480" cy="33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sůl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2239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53640" y="54658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Kü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2000" y="2297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Sa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r Pfe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feffer-Gew%C3%BCrz"/>
          <p:cNvPicPr/>
          <p:nvPr/>
        </p:nvPicPr>
        <p:blipFill>
          <a:blip r:embed="rId1"/>
          <a:stretch/>
        </p:blipFill>
        <p:spPr>
          <a:xfrm>
            <a:off x="1322280" y="1600200"/>
            <a:ext cx="64976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Koření nové"/>
          <p:cNvPicPr/>
          <p:nvPr/>
        </p:nvPicPr>
        <p:blipFill>
          <a:blip r:embed="rId1"/>
          <a:stretch/>
        </p:blipFill>
        <p:spPr>
          <a:xfrm>
            <a:off x="611280" y="476280"/>
            <a:ext cx="348588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zázvor"/>
          <p:cNvPicPr/>
          <p:nvPr/>
        </p:nvPicPr>
        <p:blipFill>
          <a:blip r:embed="rId2"/>
          <a:stretch/>
        </p:blipFill>
        <p:spPr>
          <a:xfrm>
            <a:off x="5076720" y="549360"/>
            <a:ext cx="3213360" cy="2006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skořice"/>
          <p:cNvPicPr/>
          <p:nvPr/>
        </p:nvPicPr>
        <p:blipFill>
          <a:blip r:embed="rId3"/>
          <a:stretch/>
        </p:blipFill>
        <p:spPr>
          <a:xfrm>
            <a:off x="5219640" y="3573360"/>
            <a:ext cx="2970360" cy="2187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69280" y="51768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P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728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Ing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5805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Zi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Cesnek"/>
          <p:cNvPicPr/>
          <p:nvPr/>
        </p:nvPicPr>
        <p:blipFill>
          <a:blip r:embed="rId1"/>
          <a:stretch/>
        </p:blipFill>
        <p:spPr>
          <a:xfrm>
            <a:off x="395280" y="2602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ibule"/>
          <p:cNvPicPr/>
          <p:nvPr/>
        </p:nvPicPr>
        <p:blipFill>
          <a:blip r:embed="rId2"/>
          <a:stretch/>
        </p:blipFill>
        <p:spPr>
          <a:xfrm>
            <a:off x="4572000" y="2492280"/>
            <a:ext cx="4245120" cy="2832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11800" y="33051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Knobl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51800" y="5465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Zw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ažitka"/>
          <p:cNvPicPr/>
          <p:nvPr/>
        </p:nvPicPr>
        <p:blipFill>
          <a:blip r:embed="rId1"/>
          <a:stretch/>
        </p:blipFill>
        <p:spPr>
          <a:xfrm>
            <a:off x="468360" y="333360"/>
            <a:ext cx="3693960" cy="4925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311640" cy="2951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98720" y="53211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Schnittl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48360" y="37893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40360" y="3376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Petersi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443664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ei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4994280" cy="3287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819680" cy="3210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92920" y="22240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ie Kartoffel-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43280" cy="370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4751280" cy="315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326880"/>
            <a:ext cx="13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Bei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35840" y="3206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O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3457440" cy="2108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664000" cy="2289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663640" cy="2005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5940360" y="404640"/>
            <a:ext cx="2952720" cy="2055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302580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760560" y="10000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ig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889440" cy="321948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641400" cy="2729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671640" cy="2517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3287880" cy="2465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64920" y="308916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r Knö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06360" y="3524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r 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nährung-Pyram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zeigt uns eine richtige Ernährung für unseren Kör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zeigt auch, wie oft man verschiedene Lebensmittel essen s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vergisst nicht auch regelmä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ge Bew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140360" cy="3102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167280" cy="2476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26360" y="281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0360" y="2008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26720" y="4529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54720" y="34480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ndenb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4657680" cy="4968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012000" y="5176800"/>
            <a:ext cx="28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tränke am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sser, Tee, Mil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495880" cy="2514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6920" y="1216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wikipedia.or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www.obrazk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dietologi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recept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nährungspyram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439920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t und Gemü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ch der Pyramide soll man jeden Tag Obst und Gemüse essen, und warum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bringen uns viele Vitamine und Spur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stärken unser Immun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schützen vor Krank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r essen sie nach der Jahreszeit oder nach unserem Gesch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urzeit kann man viele Sorten kau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ablko"/>
          <p:cNvPicPr/>
          <p:nvPr/>
        </p:nvPicPr>
        <p:blipFill>
          <a:blip r:embed="rId1"/>
          <a:stretch/>
        </p:blipFill>
        <p:spPr>
          <a:xfrm>
            <a:off x="250920" y="333360"/>
            <a:ext cx="4537080" cy="28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ruška"/>
          <p:cNvPicPr/>
          <p:nvPr/>
        </p:nvPicPr>
        <p:blipFill>
          <a:blip r:embed="rId2"/>
          <a:stretch/>
        </p:blipFill>
        <p:spPr>
          <a:xfrm>
            <a:off x="4859280" y="333360"/>
            <a:ext cx="3781440" cy="561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laume"/>
          <p:cNvPicPr/>
          <p:nvPr/>
        </p:nvPicPr>
        <p:blipFill>
          <a:blip r:embed="rId3"/>
          <a:stretch/>
        </p:blipFill>
        <p:spPr>
          <a:xfrm>
            <a:off x="250920" y="3213000"/>
            <a:ext cx="453708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549360"/>
            <a:ext cx="20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der Apfel-die Äp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6520" y="33764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Pflaume-die Pfla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6880" y="5684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Die Birne-die Bi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pricots"/>
          <p:cNvPicPr/>
          <p:nvPr/>
        </p:nvPicPr>
        <p:blipFill>
          <a:blip r:embed="rId1"/>
          <a:stretch/>
        </p:blipFill>
        <p:spPr>
          <a:xfrm>
            <a:off x="250920" y="328464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pfirs"/>
          <p:cNvPicPr/>
          <p:nvPr/>
        </p:nvPicPr>
        <p:blipFill>
          <a:blip r:embed="rId2"/>
          <a:stretch/>
        </p:blipFill>
        <p:spPr>
          <a:xfrm>
            <a:off x="4859280" y="692280"/>
            <a:ext cx="372276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řešeň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302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6520" y="2080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Die Kirsche-die Kir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29264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Die Aprik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92880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Der Pfirsich-die Pfirs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oruvka"/>
          <p:cNvPicPr/>
          <p:nvPr/>
        </p:nvPicPr>
        <p:blipFill>
          <a:blip r:embed="rId1"/>
          <a:stretch/>
        </p:blipFill>
        <p:spPr>
          <a:xfrm>
            <a:off x="4500720" y="292428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4716360" y="115920"/>
            <a:ext cx="3527640" cy="26496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3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3598920" cy="475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208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Erdb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7280" y="3089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idelb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lackostruz"/>
          <p:cNvPicPr/>
          <p:nvPr/>
        </p:nvPicPr>
        <p:blipFill>
          <a:blip r:embed="rId1"/>
          <a:stretch/>
        </p:blipFill>
        <p:spPr>
          <a:xfrm>
            <a:off x="5076720" y="260280"/>
            <a:ext cx="3527640" cy="28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Schwarzejohannisbeere"/>
          <p:cNvPicPr/>
          <p:nvPr/>
        </p:nvPicPr>
        <p:blipFill>
          <a:blip r:embed="rId2"/>
          <a:stretch/>
        </p:blipFill>
        <p:spPr>
          <a:xfrm>
            <a:off x="395280" y="3213000"/>
            <a:ext cx="3960720" cy="2916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3889440" cy="2808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76720" y="33051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Johannissb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" y="3524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Himb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54936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Bromb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1-24T09:44:22Z</dcterms:modified>
  <cp:revision>53</cp:revision>
  <dc:subject/>
  <dc:title>POSLOUPNOSTI</dc:title>
</cp:coreProperties>
</file>