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71C7-0970-4094-A855-59354D56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094B-8E0C-4F35-AC68-F0F23C17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0647-15C5-48F0-A591-DF28DDFC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5C41-0B71-496B-AD61-7BC5BDCB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C818-A6E0-49AE-8BB3-EC74D164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F034-10B6-42C4-AF60-D9FE3B55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853E-FC44-4E0C-ADD1-D02F960E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7554-40B4-40F3-82B4-2C3191A3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6468-6201-47D9-8662-5C4F8BD2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BB29-F643-4269-A1BF-8C2C6236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5C32-A282-4F03-BB3B-B05A9766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2CF2-4637-422F-AC4B-66C8D93F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3EAE-E7CC-4E69-B6C5-C8271B83A57B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26D8-7155-4D29-9B1D-AEFAAB940FC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de.wikipedia.org/w/index.php?title=Datei:Mozartkugeln-Fuerst.jpg&amp;filetimestamp=20051102214536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upload.wikimedia.org/wikipedia/commons/0/0a/Salzburg_Mozarteum_Saal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1/Flag_of_Austria.svg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de.wikipedia.org/w/index.php?title=Datei:Austria_Bundesadler.svg&amp;filetimestamp=20090602215721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29280" y="330516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ÖSTER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460044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racovala:Mgr. Anna Eigner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ndustrie- Zwei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ktrotechnische Indus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sen- und Stahlindus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schinenindus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inmecha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emische Indus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ramik und G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hat auch grosse Energiequellen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Wasserkraftwer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lzindus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bensmittelindustrie  ( Bäckerei, Fleischerrei, Brauerei, Mölkerei,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iehzucht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and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ur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ädte in Österreich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alzburg – Hauptstadt von Salzbu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Rectangle 3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42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alzburg – historische Stad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s liegt im Bundesland Salz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s liegt am Fluss Salz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les ist in der Geschichte mit Salz verbu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ier wurde W.A.Mozart geb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tzt sind hier Mozart- Festspie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Rectangle 3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4500720" cy="4340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419800" y="17924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rab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5724360" cy="414972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3" descr=""/>
          <p:cNvPicPr/>
          <p:nvPr/>
        </p:nvPicPr>
        <p:blipFill>
          <a:blip r:embed="rId2"/>
          <a:stretch/>
        </p:blipFill>
        <p:spPr>
          <a:xfrm>
            <a:off x="4675320" y="1268280"/>
            <a:ext cx="4470120" cy="4681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27800" y="20808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hensalz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42720" y="16477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1"/>
          <a:stretch/>
        </p:blipFill>
        <p:spPr>
          <a:xfrm>
            <a:off x="0" y="1844640"/>
            <a:ext cx="3335400" cy="417672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84720" y="4797360"/>
            <a:ext cx="2305080" cy="173196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3" descr="Datei:Salzburg Mozarteum Saal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3280" y="0"/>
            <a:ext cx="6300720" cy="4662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780000" y="299880"/>
            <a:ext cx="32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zart-Festsp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ie in Salzbu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ur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bensmi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schinenbau – Porsche, BM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kommunikationsmi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einmecha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niversitä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egt im OBERÖSTER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andeshauptsta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ine historische und industrielle Sta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s liegt an der Don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s ist nicht weit von Tschechien – Budw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ine Pferdebahn war hier im 18. Jahrhund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ele Kulturdenkmä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ele Indust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itere Städte 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E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4694400" cy="5950080"/>
          </a:xfrm>
          <a:prstGeom prst="rect">
            <a:avLst/>
          </a:prstGeom>
          <a:ln w="0">
            <a:noFill/>
          </a:ln>
        </p:spPr>
      </p:pic>
      <p:pic>
        <p:nvPicPr>
          <p:cNvPr id="88" name="Rectangle 3" descr=""/>
          <p:cNvPicPr/>
          <p:nvPr/>
        </p:nvPicPr>
        <p:blipFill>
          <a:blip r:embed="rId2"/>
          <a:stretch/>
        </p:blipFill>
        <p:spPr>
          <a:xfrm>
            <a:off x="4643280" y="0"/>
            <a:ext cx="4535640" cy="5950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27280" y="2811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r alte und neue 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68640"/>
          </a:xfrm>
          <a:prstGeom prst="rect">
            <a:avLst/>
          </a:prstGeom>
          <a:ln w="0">
            <a:noFill/>
          </a:ln>
        </p:spPr>
      </p:pic>
      <p:pic>
        <p:nvPicPr>
          <p:cNvPr id="92" name="Rectangle 3" descr=""/>
          <p:cNvPicPr/>
          <p:nvPr/>
        </p:nvPicPr>
        <p:blipFill>
          <a:blip r:embed="rId2"/>
          <a:stretch/>
        </p:blipFill>
        <p:spPr>
          <a:xfrm>
            <a:off x="2124000" y="3068640"/>
            <a:ext cx="5040360" cy="325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915080" y="13644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66"/>
                </a:solidFill>
                <a:latin typeface="Arial"/>
              </a:rPr>
              <a:t>Linz in der N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angle 3" descr=""/>
          <p:cNvPicPr/>
          <p:nvPr/>
        </p:nvPicPr>
        <p:blipFill>
          <a:blip r:embed="rId1"/>
          <a:stretch/>
        </p:blipFill>
        <p:spPr>
          <a:xfrm>
            <a:off x="4572000" y="2492280"/>
            <a:ext cx="4398840" cy="347508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371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19120" y="400536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ibelungenbrüc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83440" y="272880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66"/>
                </a:solidFill>
                <a:latin typeface="Arial"/>
              </a:rPr>
              <a:t>Brucknerh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53280" y="136044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Österre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0033"/>
                </a:solidFill>
                <a:latin typeface="Arial"/>
              </a:rPr>
              <a:t>Die Lag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Österreich ist ein Binnensta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s liegt in Mitteleuropa, es ist neutral.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s grenzt an </a:t>
            </a:r>
            <a:r>
              <a:rPr b="0" lang="de-DE" sz="3200" spc="-1" strike="noStrike">
                <a:solidFill>
                  <a:srgbClr val="660033"/>
                </a:solidFill>
                <a:latin typeface="Arial"/>
              </a:rPr>
              <a:t>Deutschland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, an die </a:t>
            </a:r>
            <a:r>
              <a:rPr b="0" lang="de-DE" sz="3200" spc="-1" strike="noStrike">
                <a:solidFill>
                  <a:srgbClr val="660033"/>
                </a:solidFill>
                <a:latin typeface="Arial"/>
              </a:rPr>
              <a:t>Tschechisch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3200" spc="-1" strike="noStrike">
                <a:solidFill>
                  <a:srgbClr val="660033"/>
                </a:solidFill>
                <a:latin typeface="Arial"/>
              </a:rPr>
              <a:t>Slowakische Republi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0" lang="de-DE" sz="3200" spc="-1" strike="noStrike">
                <a:solidFill>
                  <a:srgbClr val="660033"/>
                </a:solidFill>
                <a:latin typeface="Arial"/>
              </a:rPr>
              <a:t>Ungar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3200" spc="-1" strike="noStrike">
                <a:solidFill>
                  <a:srgbClr val="660033"/>
                </a:solidFill>
                <a:latin typeface="Arial"/>
              </a:rPr>
              <a:t>Slowenien, Itali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, an die </a:t>
            </a:r>
            <a:r>
              <a:rPr b="0" lang="de-DE" sz="3200" spc="-1" strike="noStrike">
                <a:solidFill>
                  <a:srgbClr val="660033"/>
                </a:solidFill>
                <a:latin typeface="Arial"/>
              </a:rPr>
              <a:t>Schweiz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und an </a:t>
            </a:r>
            <a:r>
              <a:rPr b="0" lang="de-DE" sz="3200" spc="-1" strike="noStrike">
                <a:solidFill>
                  <a:srgbClr val="660033"/>
                </a:solidFill>
                <a:latin typeface="Arial"/>
              </a:rPr>
              <a:t>Liechtenste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ndustrie in Lin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 hat viele Industriezwei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isen- und Stahlkonz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letrotech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e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bensmi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racht-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ur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nnsbru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 ist Landeshauptstadt von Ti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 liegt am Fluss I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lpenstadt mit Wintersportzent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dustrie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bensmit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ur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Ski- Zentren mit Ski-Schu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nnsbru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Rectangle 3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551664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3" descr=""/>
          <p:cNvPicPr/>
          <p:nvPr/>
        </p:nvPicPr>
        <p:blipFill>
          <a:blip r:embed="rId2"/>
          <a:stretch/>
        </p:blipFill>
        <p:spPr>
          <a:xfrm>
            <a:off x="4392720" y="0"/>
            <a:ext cx="4751280" cy="551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455840" y="551664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oldenes Dac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66360" y="55371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. Jacob-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 ist Landeshauptstadt vom Stei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weitgrösste Sta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 hat viele Industriezwei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bensmit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der- und Schuhfabr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lialen von Siemens, Daimler, Hein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bag, T-Mobi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schinenbauwe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Gr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Rectangle 3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10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Rectangle 3" descr=""/>
          <p:cNvPicPr/>
          <p:nvPr/>
        </p:nvPicPr>
        <p:blipFill>
          <a:blip r:embed="rId1"/>
          <a:stretch/>
        </p:blipFill>
        <p:spPr>
          <a:xfrm>
            <a:off x="0" y="3284640"/>
            <a:ext cx="4356000" cy="2966760"/>
          </a:xfrm>
          <a:prstGeom prst="rect">
            <a:avLst/>
          </a:prstGeom>
          <a:ln w="0">
            <a:noFill/>
          </a:ln>
        </p:spPr>
      </p:pic>
      <p:pic>
        <p:nvPicPr>
          <p:cNvPr id="117" name="Rectangle 3" descr=""/>
          <p:cNvPicPr/>
          <p:nvPr/>
        </p:nvPicPr>
        <p:blipFill>
          <a:blip r:embed="rId2"/>
          <a:stretch/>
        </p:blipFill>
        <p:spPr>
          <a:xfrm>
            <a:off x="3635280" y="0"/>
            <a:ext cx="4465800" cy="335772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3" descr=""/>
          <p:cNvPicPr/>
          <p:nvPr/>
        </p:nvPicPr>
        <p:blipFill>
          <a:blip r:embed="rId3"/>
          <a:stretch/>
        </p:blipFill>
        <p:spPr>
          <a:xfrm>
            <a:off x="6526080" y="2852640"/>
            <a:ext cx="2617920" cy="3789360"/>
          </a:xfrm>
          <a:prstGeom prst="rect">
            <a:avLst/>
          </a:prstGeom>
          <a:ln w="0">
            <a:noFill/>
          </a:ln>
        </p:spPr>
      </p:pic>
      <p:pic>
        <p:nvPicPr>
          <p:cNvPr id="119" name="Rectangle 3" descr=""/>
          <p:cNvPicPr/>
          <p:nvPr/>
        </p:nvPicPr>
        <p:blipFill>
          <a:blip r:embed="rId4"/>
          <a:stretch/>
        </p:blipFill>
        <p:spPr>
          <a:xfrm>
            <a:off x="179280" y="0"/>
            <a:ext cx="2665440" cy="3600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050920" y="1647720"/>
            <a:ext cx="20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Energieh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1364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usikunivers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39840" y="580536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66"/>
                </a:solidFill>
                <a:latin typeface="Arial"/>
              </a:rPr>
              <a:t>Univers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61640" y="58244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66"/>
                </a:solidFill>
                <a:latin typeface="Arial"/>
              </a:rPr>
              <a:t>Glocktu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lagenf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 ist Hauptstadt von Kär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 liegt im Becken am Wörther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at viele Konsul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iele Industriezweige – Werke von Siemens, Phi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einmecha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bensmittel – Getränke und Obst, Gemü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Rectangle 3" descr=""/>
          <p:cNvPicPr/>
          <p:nvPr/>
        </p:nvPicPr>
        <p:blipFill>
          <a:blip r:embed="rId1"/>
          <a:stretch/>
        </p:blipFill>
        <p:spPr>
          <a:xfrm>
            <a:off x="0" y="2492280"/>
            <a:ext cx="4856040" cy="3291120"/>
          </a:xfrm>
          <a:prstGeom prst="rect">
            <a:avLst/>
          </a:prstGeom>
          <a:ln w="0">
            <a:noFill/>
          </a:ln>
        </p:spPr>
      </p:pic>
      <p:pic>
        <p:nvPicPr>
          <p:cNvPr id="128" name="Rectangle 3" descr=""/>
          <p:cNvPicPr/>
          <p:nvPr/>
        </p:nvPicPr>
        <p:blipFill>
          <a:blip r:embed="rId2"/>
          <a:stretch/>
        </p:blipFill>
        <p:spPr>
          <a:xfrm>
            <a:off x="4643280" y="1125360"/>
            <a:ext cx="4500720" cy="3009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995080" y="359244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Stadtt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82000" y="27288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72160" y="145260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AGENF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ädte Österreic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07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molková,B., Geschichte und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egewart der deutschsprachigen Länder, nakladatelství Frau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rozšířené vydání,2002, ISBN 80-7238-038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usilová,D.,kol.,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Sprechen Sie deutsch?,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učebnice němčiny pro střední a jazykov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škol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2. vydání, Polyglot Praha, 2001, ISBN-80-86195-14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ww.wikipedia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ww.seznam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Österre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Einwohnerzahl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es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at etwa 8 Millionen Einwoh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Fläche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-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st etwa  84 863 km2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0033"/>
                </a:solidFill>
                <a:latin typeface="Arial"/>
              </a:rPr>
              <a:t>Staatsfor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Österreich besteht aus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Bundesländern 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s sind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9900"/>
                </a:solidFill>
                <a:latin typeface="Arial"/>
              </a:rPr>
              <a:t>Öberösterreich, Niederösterreich, Tirol, Salzburg, Kär</a:t>
            </a: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0" lang="de-DE" sz="3200" spc="-1" strike="noStrike">
                <a:solidFill>
                  <a:srgbClr val="009900"/>
                </a:solidFill>
                <a:latin typeface="Arial"/>
              </a:rPr>
              <a:t>ten, Steiermark,Vorarlberg, Burgenland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0" lang="de-DE" sz="3200" spc="-1" strike="noStrike">
                <a:solidFill>
                  <a:srgbClr val="009900"/>
                </a:solidFill>
                <a:latin typeface="Arial"/>
              </a:rPr>
              <a:t>W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aatssymb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Die Flag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bilden 3 waagenrechte Streifen – rot-weiβ-r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60033"/>
                </a:solidFill>
                <a:latin typeface="Arial"/>
              </a:rPr>
              <a:t>Staatswapp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Adle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9999"/>
                </a:solidFill>
                <a:latin typeface="Arial"/>
              </a:rPr>
              <a:t>Währung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: der Euro ( früher – Schill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äsident: Heinz Fis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undeskanzler: Werner Fayman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Datei:Flag of Austr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060640"/>
            <a:ext cx="4033800" cy="2687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Bundeswappen (Österreich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8360" y="1773360"/>
            <a:ext cx="3197160" cy="3384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70000" y="50324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e Flag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51640" y="5229360"/>
            <a:ext cx="24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s Staatswa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e Oberflä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liedert sich in </a:t>
            </a:r>
            <a:r>
              <a:rPr b="0" lang="cs-CZ" sz="2800" spc="-1" strike="noStrike">
                <a:solidFill>
                  <a:srgbClr val="660033"/>
                </a:solidFill>
                <a:latin typeface="Arial"/>
              </a:rPr>
              <a:t>3 Tei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- Hochgebi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Alpen, weiter finden wir Salzkammergut, Niedere Tauern und Hohe Tau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höchste Berg ist: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oßglockn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 3797 m in d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hen Tauer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Mittelgebirg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das sind Mühlviertel, Waldviertel, Weinviertel,…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Tieflan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 Tiefebene) – Wiener Becken an der Donau, am Fluss 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en und Flü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größten </a:t>
            </a: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Se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sind: 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Der Bodense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de-DE" sz="3200" spc="-1" strike="noStrike">
                <a:solidFill>
                  <a:srgbClr val="009999"/>
                </a:solidFill>
                <a:latin typeface="Arial"/>
              </a:rPr>
              <a:t>der Neusiedler Se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3200" spc="-1" strike="noStrike">
                <a:solidFill>
                  <a:srgbClr val="006600"/>
                </a:solidFill>
                <a:latin typeface="Arial"/>
              </a:rPr>
              <a:t>Attersee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660033"/>
                </a:solidFill>
                <a:latin typeface="Arial"/>
              </a:rPr>
              <a:t>d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660033"/>
                </a:solidFill>
                <a:latin typeface="Arial"/>
              </a:rPr>
              <a:t>Traunse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und andere. Der Bodensee gehört zu Österreich, Deutschland und zur Schwei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wichtigsten </a:t>
            </a: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Flüss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sind: </a:t>
            </a:r>
            <a:r>
              <a:rPr b="0" lang="de-DE" sz="3200" spc="-1" strike="noStrike">
                <a:solidFill>
                  <a:srgbClr val="6600cc"/>
                </a:solidFill>
                <a:latin typeface="Arial"/>
              </a:rPr>
              <a:t>Donau</a:t>
            </a:r>
            <a:r>
              <a:rPr b="0" lang="cs-CZ" sz="3200" spc="-1" strike="noStrike">
                <a:solidFill>
                  <a:srgbClr val="6600cc"/>
                </a:solidFill>
                <a:latin typeface="Arial"/>
              </a:rPr>
              <a:t>, </a:t>
            </a:r>
            <a:r>
              <a:rPr b="0" lang="de-DE" sz="3200" spc="-1" strike="noStrike">
                <a:solidFill>
                  <a:srgbClr val="6600cc"/>
                </a:solidFill>
                <a:latin typeface="Arial"/>
              </a:rPr>
              <a:t>In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3200" spc="-1" strike="noStrike">
                <a:solidFill>
                  <a:srgbClr val="6600cc"/>
                </a:solidFill>
                <a:latin typeface="Arial"/>
              </a:rPr>
              <a:t>Salzach, Drau, Mu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– hier finden wir auch Tief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hstoffe - Bodenschät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werde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hier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förder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dö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d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aunkoh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al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le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ol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l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asser  - Wasser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ucitel</cp:lastModifiedBy>
  <dcterms:modified xsi:type="dcterms:W3CDTF">2012-01-25T11:57:59Z</dcterms:modified>
  <cp:revision>50</cp:revision>
  <dc:subject/>
  <dc:title>POSLOUPNOSTI</dc:title>
</cp:coreProperties>
</file>