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464-2F12-48E4-86FE-151E66C4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9E5-AC4F-4F49-BA46-3A0C9DF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774-F7CC-4724-AC4F-F0AB3007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75C-A7BB-4E53-881A-827E1FA6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FA5-AC9C-4870-ADA2-E05F7A49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F7D-9E1C-4B73-AAAF-C15A37E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86-AAD1-4689-9144-0D5F6A40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369-3FE6-4841-B6E8-DC8060C0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DB0-4E48-400A-A426-7EF73D6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473-00A3-420D-B339-DD75A50D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6AA-4607-46F9-88AB-DD3C5BC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ADB-51A4-4BD2-A511-A3529898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C444-B1D5-416B-AEF4-36CFA960EF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3633-4422-45AA-A95A-F3198FC77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Praha" TargetMode="External"/><Relationship Id="rId2" Type="http://schemas.openxmlformats.org/officeDocument/2006/relationships/hyperlink" Target="http://cs.wikipedia.org/wiki/St&#345;edo&#269;esk&#253;_kraj" TargetMode="External"/><Relationship Id="rId3" Type="http://schemas.openxmlformats.org/officeDocument/2006/relationships/hyperlink" Target="http://cs.wikipedia.org/wiki/Praha" TargetMode="External"/><Relationship Id="rId4" Type="http://schemas.openxmlformats.org/officeDocument/2006/relationships/hyperlink" Target="http://cs.wikipedia.org/wiki/Jiho&#269;esk&#253;_kraj" TargetMode="External"/><Relationship Id="rId5" Type="http://schemas.openxmlformats.org/officeDocument/2006/relationships/hyperlink" Target="http://cs.wikipedia.org/wiki/&#268;esk&#233;_Bud&#283;jovice" TargetMode="External"/><Relationship Id="rId6" Type="http://schemas.openxmlformats.org/officeDocument/2006/relationships/hyperlink" Target="http://cs.wikipedia.org/wiki/Plze&#328;sk&#253;_kraj" TargetMode="External"/><Relationship Id="rId7" Type="http://schemas.openxmlformats.org/officeDocument/2006/relationships/hyperlink" Target="http://cs.wikipedia.org/wiki/Plze&#328;" TargetMode="External"/><Relationship Id="rId8" Type="http://schemas.openxmlformats.org/officeDocument/2006/relationships/hyperlink" Target="http://cs.wikipedia.org/wiki/Karlovarsk&#253;_kraj" TargetMode="External"/><Relationship Id="rId9" Type="http://schemas.openxmlformats.org/officeDocument/2006/relationships/hyperlink" Target="http://cs.wikipedia.org/wiki/Karlovy_Vary" TargetMode="External"/><Relationship Id="rId10" Type="http://schemas.openxmlformats.org/officeDocument/2006/relationships/hyperlink" Target="http://cs.wikipedia.org/wiki/&#218;steck&#253;_kraj" TargetMode="External"/><Relationship Id="rId11" Type="http://schemas.openxmlformats.org/officeDocument/2006/relationships/hyperlink" Target="http://cs.wikipedia.org/wiki/&#218;st&#237;_nad_Labem" TargetMode="External"/><Relationship Id="rId12" Type="http://schemas.openxmlformats.org/officeDocument/2006/relationships/hyperlink" Target="http://cs.wikipedia.org/wiki/Libereck&#253;_kraj" TargetMode="External"/><Relationship Id="rId13" Type="http://schemas.openxmlformats.org/officeDocument/2006/relationships/hyperlink" Target="http://cs.wikipedia.org/wiki/Liberec" TargetMode="External"/><Relationship Id="rId14" Type="http://schemas.openxmlformats.org/officeDocument/2006/relationships/hyperlink" Target="http://cs.wikipedia.org/wiki/Kr&#225;lov&#233;hradeck&#253;_kraj" TargetMode="External"/><Relationship Id="rId15" Type="http://schemas.openxmlformats.org/officeDocument/2006/relationships/hyperlink" Target="http://cs.wikipedia.org/wiki/Hradec_Kr&#225;lov&#233;" TargetMode="External"/><Relationship Id="rId16" Type="http://schemas.openxmlformats.org/officeDocument/2006/relationships/hyperlink" Target="http://cs.wikipedia.org/wiki/Pardubick&#253;_kraj" TargetMode="External"/><Relationship Id="rId17" Type="http://schemas.openxmlformats.org/officeDocument/2006/relationships/hyperlink" Target="http://cs.wikipedia.org/wiki/Pardubice" TargetMode="External"/><Relationship Id="rId18" Type="http://schemas.openxmlformats.org/officeDocument/2006/relationships/hyperlink" Target="http://cs.wikipedia.org/wiki/Kraj_Vyso&#269;ina" TargetMode="External"/><Relationship Id="rId19" Type="http://schemas.openxmlformats.org/officeDocument/2006/relationships/hyperlink" Target="http://cs.wikipedia.org/wiki/Jihlava" TargetMode="External"/><Relationship Id="rId20" Type="http://schemas.openxmlformats.org/officeDocument/2006/relationships/hyperlink" Target="http://cs.wikipedia.org/wiki/Jihomoravsk&#253;_kraj" TargetMode="External"/><Relationship Id="rId21" Type="http://schemas.openxmlformats.org/officeDocument/2006/relationships/hyperlink" Target="http://cs.wikipedia.org/wiki/Brno" TargetMode="External"/><Relationship Id="rId22" Type="http://schemas.openxmlformats.org/officeDocument/2006/relationships/hyperlink" Target="http://cs.wikipedia.org/wiki/Olomouck&#253;_kraj" TargetMode="External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900000" y="2673360"/>
            <a:ext cx="819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schechische Republ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5276520" y="503244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6498000" y="58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lden viele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Gebirge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Böhmerwald, Erzgebirge, Isergebirge, Riesengebirge mit der Schneekoppe ( 1602 m), Adlergebir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senke mit Altva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492 m) in Mähren, Beskiden, Weisse Karpaten, Böhmisch-mährische Hö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An der Elbe und March sind Tiefebenen - Tief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ü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er sind viele Flüsse, die in die  Nordsee, Ostsee und ins Schwarze Meer entwass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ldau – Otawa, Malsch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aftwer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nen für die Elektro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asserkraftwerk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Lipno, Orlík, Ří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cc00"/>
                </a:solidFill>
                <a:latin typeface="Arial"/>
              </a:rPr>
              <a:t>Kohlenkraftwerk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Teplice, Jáchy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indkraftwerk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ordmä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cc00"/>
                </a:solidFill>
                <a:latin typeface="Arial"/>
              </a:rPr>
              <a:t>Atomkraftwerk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ukovany, Teme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olar- oder Sonnenkraftwerk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Bušanovice, Dobev, Vacov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nden wir vor allem in Südböhmen, aber auch a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kannte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Teich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Macha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žm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d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usicker T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el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dustriezwei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chwerindustr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tahlwerke, Hütten – Plzeň, Třinec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Leichtindustri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Automobilwerke – Ško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PCA – Kolín + Nošovice - Hyun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přivnice,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dere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agen und Maschin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Uherský Brod, Studénka, Uherské Hradiště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dere 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Elektroindustr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Bosch – Č. Budějovice, Písek,Vimperk – Rohde-Schwarz,  Plzeň,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einmechani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Messgeräte, Op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ürotechni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KMP, Koh-i-n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usgeräte – Eta, Tescoma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ele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schinenbauwerk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fast jede Sta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aschmittel, Kosmetik, techniche Mittel, Medikamente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dec Králové, Kolín, Pardub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alupy an der Mold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lník, Litví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í an der Elbe, Děč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jeder Stadt –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Bäckere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Odkolek, D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Mölkere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nín, Madeta, O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Brauere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Pilsner Urquell, Budwar, Starop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Käseproduktio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e Mölk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Fleischerei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zeň, Písek, Příbram, Vimp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Konservenfabri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lín, Znojmo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st mit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inter- und Sommerzentr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st oft in </a:t>
            </a: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Kurorte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Poděbrady, Kladruby, Jánské Lázně, Luhačovice, Karlsbad, Marienbad, Franzensbad, Třeboň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 Gebirgen ist Holzverarbeitende Industrie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henswürdigk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der Tschechischen Republik befinden sich viele atraktive </a:t>
            </a: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Denkmäle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nicht nur in P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Burgen und Schloss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Karlstein, Orlík, Křivoklat, Bezděs, Hluboká, Bouzov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Arial"/>
              </a:rPr>
              <a:t>Ruinen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Helfenburg, Rabí, Kašperk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schechische Republ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ge – sie liegt in Mitteleu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e ist ein Binnenstaat, also sie hat kein M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e hat diese Nachbaren-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lowakei, Österreich, Deutschland, P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e ist ein demokratischer 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sch besteht sie aus 3 Tei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800000"/>
                </a:solidFill>
                <a:latin typeface="Arial"/>
              </a:rPr>
              <a:t>Böhmen, Mähren und Schles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gt an der Mold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ist ein historisches, politisches, ökonomisches und kulturelles Zen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Hauptstadt – Sitz des Präsid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tz des Parl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tz der Reg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rtretung von allen Botscha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ele ausländische F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ČR"/>
          <p:cNvPicPr/>
          <p:nvPr/>
        </p:nvPicPr>
        <p:blipFill>
          <a:blip r:embed="rId1"/>
          <a:stretch/>
        </p:blipFill>
        <p:spPr>
          <a:xfrm>
            <a:off x="-684360" y="-453960"/>
            <a:ext cx="10944360" cy="7311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Gebirge kennst du h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Flüsse sind bei 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Industrie kennst 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Kraftwerke sind bei 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n einige wichtige Städ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n einige Sehenswürdigkeiten-Denkmä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silová,D.,kol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rechenSie deutsch?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čebnice němčiny pro střední a jazykov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škol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olyglot Praha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wikipedi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sezna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ČR"/>
          <p:cNvPicPr/>
          <p:nvPr/>
        </p:nvPicPr>
        <p:blipFill>
          <a:blip r:embed="rId1"/>
          <a:stretch/>
        </p:blipFill>
        <p:spPr>
          <a:xfrm>
            <a:off x="-684360" y="-453960"/>
            <a:ext cx="10944360" cy="7311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schech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atsfor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ein demokratischer Staat mit 14 Regio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e hat einen Präsidenten, Parlament 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Währun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tschechische K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Flagg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bilden 2 waagenrechte Streifen – weiss +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rot, mit dem blauen K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atswapp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Löwe mit doppeltem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wanz und Adlerin für Mä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ag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čr-vlajka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326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atsw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2643120" y="1428840"/>
            <a:ext cx="4005360" cy="4773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g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14 Regionen – Bezirke -</a:t>
            </a: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  mit dem Si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Hauptstadt 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h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ředočes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S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Jihočes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C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České Budějov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lzeňs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lz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arlovars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Karlovy 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Ústec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U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Ústí nad La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Liberec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L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Lib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Královéhradec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H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radec Král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dubic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E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ard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ysoč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Jih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Jihomoravs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B)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lomoucký kr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)Olomo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línský kraj (Z)Z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avskoslezský kraj (T)Ost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800px-CZ-cleneni"/>
          <p:cNvPicPr/>
          <p:nvPr/>
        </p:nvPicPr>
        <p:blipFill>
          <a:blip r:embed="rId1"/>
          <a:stretch/>
        </p:blipFill>
        <p:spPr>
          <a:xfrm>
            <a:off x="250920" y="1700280"/>
            <a:ext cx="8562960" cy="4924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e hat 78 864 k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wohnerzahl beträgt über 10,4 Mill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n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Hauptstadt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liegt in der Mitte Böhmens an der Mold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2-01-25T06:59:14Z</dcterms:modified>
  <cp:revision>44</cp:revision>
  <dc:subject/>
  <dc:title>POSLOUPNOSTI</dc:title>
</cp:coreProperties>
</file>