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40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43.png" ContentType="image/png"/>
  <Override PartName="/ppt/media/image4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FB74-303A-42E7-83C1-F4B0C589CA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B686-C4D1-41CF-99DD-8CD34DF0F7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778-30A9-48BD-9FE7-99C1EAC206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F12-D97C-4B70-8C25-21499612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392-72E8-4628-A83D-E695898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667-6B76-46DB-A46E-346EED60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6B1-924B-4C8E-B7C7-CF1AA94B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0BD-A62F-4935-A868-02B1DBA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113-4693-45EF-84F3-BED6F6C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08C-7F51-4ECF-B773-5D09A249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06B-55C2-4463-8016-2190586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334-1D66-48DD-AEF3-B967B1BC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269-0FE6-49A7-BBC7-580BD83E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4D3-A66B-4308-9F9D-F03F097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4CA-4682-41D7-8FA5-1EC0B3B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068-64BF-4766-83CC-E08B37F4C4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BAD-D55C-4A86-8A54-62143C7D5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.wikipedia.org/w/index.php?title=Datei:SquareDefinition.svg&amp;filetimestamp=20080913161946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de.wikipedia.org/w/index.php?title=Datei:4-eck.png&amp;filetimestamp=20061128174332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brazky.cz/detail?q=kostka&amp;offset=1&amp;limit=20&amp;bUrlPar=filter%3D1&amp;resNum=13&amp;ref=http%3A//obrazky.cz/%3Fq%3D%25C4%258Dtverec%26from%3D61&amp;resID=fOmkrarEmTbrXnKXoeBxZX-u-uS4Atyvo3biIjdW5ZU&amp;imgURL=http%3A//www.vaclavak.net/images/fotoblog/photos/kostka.jpg&amp;pageURL=http%3A//www.vaclavak.net/fotoblog/kostky-jsou-vrzeny&amp;imgX=492&amp;imgY=370&amp;imgSize=34&amp;thURL=http%3A//media5.picsearch.com/is%3FfOmkrarEmTbrXnKXoeBxZX-u-uS4Atyvo3biIjdW5ZU&amp;thX=128&amp;thY=96&amp;qNoSite=kostka&amp;siteWWW=&amp;sId=1-8bdqO2w8WKj2hMV7ho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hyperlink" Target="http://www.kovelisplasty.cz/kategorie_navleky_koule.html" TargetMode="External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brazky.cz/detail?q=ku&#382;el&amp;offset=101&amp;limit=20&amp;bUrlPar=filter%3D1&amp;resNum=105&amp;ref=http%3A//obrazky.cz/%3Fstep%3D20%26filter%3D1%26s%3D%26size%3Dany%26sId%3D1-8bdqO2wGFBj2hU0wqr%26orientation%3D%26q%3Dku%25C5%25BEel&amp;resID=yB3SFPicDF1zC1_SLvDrpVFdN86snK5FHNusK_aM6Xc&amp;imgURL=http%3A//www.exodus.cz/img/new/new_katalog/svicky_kuzel_s1.jpg&amp;pageURL=http%3A//www.exodus.cz/html/katalog_svicek.html&amp;imgX=170&amp;imgY=226&amp;imgSize=6&amp;thURL=http%3A//media3.picsearch.com/is%3FyB3SFPicDF1zC1_SLvDrpVFdN86snK5FHNusK_aM6Xc&amp;thX=96&amp;thY=128&amp;qNoSite=ku&#382;el&amp;siteWWW=&amp;sId=1-8bdqO2wf3Xj2LO3AHR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nekupujto.cz/index.php?match=zahradni-technika&amp;product=48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pojdmesihrat.cz/images/53045_bruder_valec_cat.1.jpg" TargetMode="External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hyperlink" Target="http://obrazky.cz/detail?q=ku&#382;el&amp;offset=39&amp;limit=20&amp;bUrlPar=filter%3D1&amp;resNum=41&amp;ref=http%3A//obrazky.cz/%3Fstep%3D20%26filter%3D1%26s%3D%26size%3Dany%26sId%3D1-8bdqO2Cggsj2h0ynK6%26orientation%3D%26q%3Dku%25C5%25BEel%26from%3D21&amp;resID=xPtWISyUtUTTJLRvZa2D_T9BSJ4z4tGYxgLmSk13nHI&amp;imgURL=http%3A//www.refotal.cz/images/produkty/starlet/treninkove_pomucky/maxidelimitatori251m.jpg&amp;pageURL=http%3A//www.refotal.cz/starlet/treninkove.asp%3FPN%3D2&amp;imgX=314&amp;imgY=235&amp;imgSize=38&amp;thURL=http%3A//media4.picsearch.com/is%3FxPtWISyUtUTTJLRvZa2D_T9BSJ4z4tGYxgLmSk13nHI&amp;thX=128&amp;thY=95&amp;qNoSite=ku&#382;el&amp;siteWWW=&amp;sId=1-8bdqO2CQzFjKLQli6b" TargetMode="External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racky.eplzen.cz/index.php?produkt=84052&amp;zpet=Stavebnice&amp;meno=Skl&#225;dac&#237;%20krabi&#269;ka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49640" y="3181320"/>
            <a:ext cx="38383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metrische F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e Formen um 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findet verschiedene Formen um uns im L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inder haben diese Formen zum Sp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kann die Formen als Tapette benu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sieht sie beim Wohnen, 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braucht sie für die Mathema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infache Forme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67840" y="1863720"/>
            <a:ext cx="529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Der Satz des Phytagoras für Dreiec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2 + b2  = 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Umfang des Kreis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π × d = 2 × π × r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Umfang des Dreiec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=a+b+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Oberfläche des Kre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π × d²/4 = π × r²[m²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047600"/>
            <a:ext cx="8713800" cy="4757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80160" y="6397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ere Form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989000"/>
            <a:ext cx="2095560" cy="192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2205000"/>
            <a:ext cx="2879640" cy="2120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94720" y="7840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Quad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1216080"/>
            <a:ext cx="29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ben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Soubor:Circle - black simple.svg"/>
          <p:cNvPicPr/>
          <p:nvPr/>
        </p:nvPicPr>
        <p:blipFill>
          <a:blip r:embed="rId1"/>
          <a:stretch/>
        </p:blipFill>
        <p:spPr>
          <a:xfrm>
            <a:off x="755640" y="242100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Soubor:Shape Area.svg"/>
          <p:cNvPicPr/>
          <p:nvPr/>
        </p:nvPicPr>
        <p:blipFill>
          <a:blip r:embed="rId2"/>
          <a:stretch/>
        </p:blipFill>
        <p:spPr>
          <a:xfrm>
            <a:off x="493236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84200" y="184464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15080" y="100008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Viereck, das Drei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misst viele Sachen im Haushalt, im Garten, in der Produk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spricht über -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ie Lä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-  die Bre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-  die Hö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-  die Tie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 misst  - den Durchmesser, Halbmesser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Radiu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Datei:Kreis.svg"/>
          <p:cNvPicPr/>
          <p:nvPr/>
        </p:nvPicPr>
        <p:blipFill>
          <a:blip r:embed="rId1"/>
          <a:stretch/>
        </p:blipFill>
        <p:spPr>
          <a:xfrm>
            <a:off x="468360" y="112536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4200" y="404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reis –  der Zirkel, der Mittelpu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Datei:BogenSektorSegment.svg"/>
          <p:cNvPicPr/>
          <p:nvPr/>
        </p:nvPicPr>
        <p:blipFill>
          <a:blip r:embed="rId2"/>
          <a:stretch/>
        </p:blipFill>
        <p:spPr>
          <a:xfrm>
            <a:off x="3492360" y="3357720"/>
            <a:ext cx="523872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16560" y="2565360"/>
            <a:ext cx="29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Teilmenge des Kre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Datei:Dreieck-umkreis.svg"/>
          <p:cNvPicPr/>
          <p:nvPr/>
        </p:nvPicPr>
        <p:blipFill>
          <a:blip r:embed="rId1"/>
          <a:stretch/>
        </p:blipFill>
        <p:spPr>
          <a:xfrm>
            <a:off x="1403280" y="404640"/>
            <a:ext cx="63817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spricht über den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Umfa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über den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Mittelpunk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über den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FIächeninhal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 über die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Oberfläch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über den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Winke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über die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Ellip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über den </a:t>
            </a: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B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les braucht man für unser Le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rechnet viele Sachen, aber man muss bestimmte Formeln w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se Begriffe – Formeln findet man in  Mathema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55840" y="692280"/>
            <a:ext cx="53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aumformen – die Kör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oubor:Basic shapes.svg"/>
          <p:cNvPicPr/>
          <p:nvPr/>
        </p:nvPicPr>
        <p:blipFill>
          <a:blip r:embed="rId1"/>
          <a:stretch/>
        </p:blipFill>
        <p:spPr>
          <a:xfrm>
            <a:off x="1258920" y="1197000"/>
            <a:ext cx="6638760" cy="479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4200" y="40053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Der K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3840" y="45086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Die Ku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1640" y="4960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r Ku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etr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 versteht  unter „Geometrie“ die zwei- und dreidimensionale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euklidische Geometr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mentargeometrie, die wird  auch im Schulunterricht geleh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e beschäftigt sich mit Punkten, Geraden, Ebenen, Abständen, Wink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jenigen Begriffsbildungen und Methoden, die im Zuge einer systematischen und mathematischen Behandlung dieses Themas entwickelt wurden, trifft man in der Mathemat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35640" y="62064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ie Ku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er Kegel – der Ko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er Würfel – der Ku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er Z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as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ie Pyr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Datei:Koordinatenebenen.png"/>
          <p:cNvPicPr/>
          <p:nvPr/>
        </p:nvPicPr>
        <p:blipFill>
          <a:blip r:embed="rId1"/>
          <a:stretch/>
        </p:blipFill>
        <p:spPr>
          <a:xfrm>
            <a:off x="0" y="692280"/>
            <a:ext cx="5184720" cy="47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náhled obráz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708280"/>
            <a:ext cx="1656000" cy="124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549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2565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4508640"/>
            <a:ext cx="228600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755640" y="333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55640" y="4149720"/>
            <a:ext cx="2808360" cy="1860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227160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r Würfel – der Ku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21337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e Ku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náhled obráz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565360"/>
            <a:ext cx="1457640" cy="194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Válec zahradní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4653000"/>
            <a:ext cx="2703600" cy="140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BRUDER Válec CA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2781360"/>
            <a:ext cx="2736720" cy="16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443640" y="404640"/>
            <a:ext cx="1351080" cy="223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1187280" y="260280"/>
            <a:ext cx="167976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náhled obrázku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4653000"/>
            <a:ext cx="2374920" cy="176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205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r Kegel – der K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1480" y="23432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r Z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1944720" cy="1816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1873440" cy="167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8526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96000" y="333360"/>
            <a:ext cx="2095560" cy="2009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156360" y="2781360"/>
            <a:ext cx="1523880" cy="1352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náhled obrázku"/>
          <p:cNvPicPr/>
          <p:nvPr/>
        </p:nvPicPr>
        <p:blipFill>
          <a:blip r:embed="rId6"/>
          <a:stretch/>
        </p:blipFill>
        <p:spPr>
          <a:xfrm>
            <a:off x="6300720" y="458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08200" y="191124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yra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8560" y="23432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s Pr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gen zum T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Formen findet man um 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bedeutet 2D und 3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Programme dienen uns am Compu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Programme kennst du selb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Formeln kennst du in Mathemati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yšková Z. a kol: Němčina pro strojírenské obory, Praha 2008, Informatori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de.wikipedia.org/wiki/Geo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obrazky.cz/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skolaklic.cz/kevzdelav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en aus der Sch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der Schule lernt man Grundf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äter weitere Formen und dann die Eb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 muss einzelne  Begriffe kennen,            zum Beispiel –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ie Linie -     č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          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ie Gerade - přím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          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er Punkt -   b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          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ie Strecke - úse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der Winkel -  ú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nn einzelne Formen, sie sind Bestanteile unserer 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oubor:Two parallel lines a b.svg"/>
          <p:cNvPicPr/>
          <p:nvPr/>
        </p:nvPicPr>
        <p:blipFill>
          <a:blip r:embed="rId1"/>
          <a:stretch/>
        </p:blipFill>
        <p:spPr>
          <a:xfrm>
            <a:off x="611280" y="1628640"/>
            <a:ext cx="3305160" cy="386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78408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allele Ger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380988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0720" y="8571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Punkt auf der Ge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Datei:Nebenwinkel.png"/>
          <p:cNvPicPr/>
          <p:nvPr/>
        </p:nvPicPr>
        <p:blipFill>
          <a:blip r:embed="rId1"/>
          <a:stretch/>
        </p:blipFill>
        <p:spPr>
          <a:xfrm>
            <a:off x="2987640" y="3933720"/>
            <a:ext cx="3313080" cy="214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Datei:Complementary angles.png"/>
          <p:cNvPicPr/>
          <p:nvPr/>
        </p:nvPicPr>
        <p:blipFill>
          <a:blip r:embed="rId2"/>
          <a:stretch/>
        </p:blipFill>
        <p:spPr>
          <a:xfrm>
            <a:off x="324000" y="765000"/>
            <a:ext cx="3887640" cy="29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Datei:Supplementary angles.png"/>
          <p:cNvPicPr/>
          <p:nvPr/>
        </p:nvPicPr>
        <p:blipFill>
          <a:blip r:embed="rId3"/>
          <a:stretch/>
        </p:blipFill>
        <p:spPr>
          <a:xfrm>
            <a:off x="4859280" y="765000"/>
            <a:ext cx="3927600" cy="29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13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 W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2000" y="380844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chter Wi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500720" y="6381720"/>
            <a:ext cx="28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 der ersten Klas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bene 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195640" y="2708280"/>
            <a:ext cx="13683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476360" y="2492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1785960" y="4429080"/>
            <a:ext cx="3097080" cy="129708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5796000" y="4508640"/>
            <a:ext cx="1295280" cy="12254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716360" y="2708280"/>
            <a:ext cx="2880000" cy="1081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06000" y="22971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Quad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84920" y="227664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Recht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6360" y="416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Dreie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48200" y="414972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K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Plastová okna trojdílná"/>
          <p:cNvPicPr/>
          <p:nvPr/>
        </p:nvPicPr>
        <p:blipFill>
          <a:blip r:embed="rId1"/>
          <a:stretch/>
        </p:blipFill>
        <p:spPr>
          <a:xfrm>
            <a:off x="900000" y="3716280"/>
            <a:ext cx="2951280" cy="1708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Trojdílná plastová okna"/>
          <p:cNvPicPr/>
          <p:nvPr/>
        </p:nvPicPr>
        <p:blipFill>
          <a:blip r:embed="rId2"/>
          <a:stretch/>
        </p:blipFill>
        <p:spPr>
          <a:xfrm>
            <a:off x="3059280" y="981000"/>
            <a:ext cx="1873080" cy="168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71640" y="981000"/>
            <a:ext cx="1563480" cy="165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78720" y="4968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Fe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Dům v Kunraticích"/>
          <p:cNvPicPr/>
          <p:nvPr/>
        </p:nvPicPr>
        <p:blipFill>
          <a:blip r:embed="rId4"/>
          <a:stretch/>
        </p:blipFill>
        <p:spPr>
          <a:xfrm>
            <a:off x="4211640" y="2852640"/>
            <a:ext cx="480204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Obývací stěna ALFA 2297PO10 bílá/černý lak"/>
          <p:cNvPicPr/>
          <p:nvPr/>
        </p:nvPicPr>
        <p:blipFill>
          <a:blip r:embed="rId1"/>
          <a:stretch/>
        </p:blipFill>
        <p:spPr>
          <a:xfrm>
            <a:off x="4427640" y="1916280"/>
            <a:ext cx="4211640" cy="3117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03280" y="3645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1052640"/>
            <a:ext cx="313380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9640" y="5684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u H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1790640" cy="1447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Skládací krabičk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484280"/>
            <a:ext cx="4011840" cy="401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Neocube - magnetické kuličky"/>
          <p:cNvPicPr/>
          <p:nvPr/>
        </p:nvPicPr>
        <p:blipFill>
          <a:blip r:embed="rId4"/>
          <a:stretch/>
        </p:blipFill>
        <p:spPr>
          <a:xfrm>
            <a:off x="5940360" y="3645000"/>
            <a:ext cx="187164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56880" y="63972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ukasten für Kleine und Jugendl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1-24T09:42:47Z</dcterms:modified>
  <cp:revision>64</cp:revision>
  <dc:subject/>
  <dc:title>POSLOUPNOSTI</dc:title>
</cp:coreProperties>
</file>