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B03B-1571-494D-95B3-4376BF8F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CB54-B7BF-4F3C-B7E5-991ADC23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8E1B-2B4C-4613-8E61-7A288BC7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49F1-4670-4133-9C60-CECB5C71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B931-0FB8-43A4-B46D-1D8F6F01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8D9F-1A9A-4F66-A4AB-4AE43834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AA3F-E587-4A9A-97E0-DD9C305A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BEF2-83F9-4B30-8204-4598FC53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3D23-C600-40D3-884A-F0B1A59D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8FB5-99C3-4620-83EE-6C4D2CF5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2D5-01E1-4F04-BAB3-AEC95E2E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2C48-C435-4DAE-8F59-16DF0F78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6A87-C449-4D9F-A158-0A1B88CC6A0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F1F2-B7D2-40FD-87DF-0F9320CE8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9"/>
          <p:cNvSpPr/>
          <p:nvPr/>
        </p:nvSpPr>
        <p:spPr>
          <a:xfrm>
            <a:off x="4123800" y="3376440"/>
            <a:ext cx="462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SCHINEN - 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pravovala: Mgr. Anna Eigner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 -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Žehlička Braun SI 18830 TexStyle Control"/>
          <p:cNvPicPr/>
          <p:nvPr/>
        </p:nvPicPr>
        <p:blipFill>
          <a:blip r:embed="rId1"/>
          <a:stretch/>
        </p:blipFill>
        <p:spPr>
          <a:xfrm>
            <a:off x="539640" y="260280"/>
            <a:ext cx="3189240" cy="2621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Šicí stroj Singer 4220 Inspiration"/>
          <p:cNvPicPr/>
          <p:nvPr/>
        </p:nvPicPr>
        <p:blipFill>
          <a:blip r:embed="rId2"/>
          <a:stretch/>
        </p:blipFill>
        <p:spPr>
          <a:xfrm>
            <a:off x="5796000" y="549360"/>
            <a:ext cx="3024000" cy="2368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7" descr="mandl2"/>
          <p:cNvPicPr/>
          <p:nvPr/>
        </p:nvPicPr>
        <p:blipFill>
          <a:blip r:embed="rId3"/>
          <a:stretch/>
        </p:blipFill>
        <p:spPr>
          <a:xfrm>
            <a:off x="3708360" y="3429000"/>
            <a:ext cx="2463840" cy="2521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8"/>
          <p:cNvSpPr/>
          <p:nvPr/>
        </p:nvSpPr>
        <p:spPr>
          <a:xfrm>
            <a:off x="6443640" y="45291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e Wäscheman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e Wäschero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663480" y="299736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s Bügeleisen – die Dampf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6284520" y="3305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e Nähmas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2" descr="Parní stanice IMETEC model ZEROLUCIDO"/>
          <p:cNvPicPr/>
          <p:nvPr/>
        </p:nvPicPr>
        <p:blipFill>
          <a:blip r:embed="rId4"/>
          <a:stretch/>
        </p:blipFill>
        <p:spPr>
          <a:xfrm>
            <a:off x="539640" y="3645000"/>
            <a:ext cx="2381400" cy="2771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schinen und Gerä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ese Geräte helfen uns im Haushalt – beim Was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ir müssen nach 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dem Materia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ein gewünschtes optimales Programm wähl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bei beachten wir auch 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die Temperatu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beim Was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ir folgen auch den 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Energie- und Wasserverbra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dere Geräte dienen für Verbesserung der Wäs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kliknutím obrázek zavřete"/>
          <p:cNvPicPr/>
          <p:nvPr/>
        </p:nvPicPr>
        <p:blipFill>
          <a:blip r:embed="rId1"/>
          <a:stretch/>
        </p:blipFill>
        <p:spPr>
          <a:xfrm>
            <a:off x="324000" y="1052640"/>
            <a:ext cx="3695400" cy="4762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6919n1"/>
          <p:cNvPicPr/>
          <p:nvPr/>
        </p:nvPicPr>
        <p:blipFill>
          <a:blip r:embed="rId2"/>
          <a:stretch/>
        </p:blipFill>
        <p:spPr>
          <a:xfrm>
            <a:off x="5651640" y="476280"/>
            <a:ext cx="3168360" cy="3112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x20_6a"/>
          <p:cNvPicPr/>
          <p:nvPr/>
        </p:nvPicPr>
        <p:blipFill>
          <a:blip r:embed="rId3"/>
          <a:stretch/>
        </p:blipFill>
        <p:spPr>
          <a:xfrm>
            <a:off x="4140360" y="2924280"/>
            <a:ext cx="2070000" cy="3238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"/>
          <p:cNvSpPr/>
          <p:nvPr/>
        </p:nvSpPr>
        <p:spPr>
          <a:xfrm>
            <a:off x="883440" y="49680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r Kühlschrank – der Gefrie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643440" y="409716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e Gefriertru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ühlschrank und Gefier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e sind wichtige Helfer im Haush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 kann sich sein Leben ohne sie nicht vor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e dienen für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Lager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er Nahrungsmittel oder behalten die Lebensmittel fri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friere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Lebensmittel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  findet dort bestimmt –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Fleisch, Milchprodukte, Getränke, Obst und Gemüse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Kitchen aid robot-profi"/>
          <p:cNvPicPr/>
          <p:nvPr/>
        </p:nvPicPr>
        <p:blipFill>
          <a:blip r:embed="rId1"/>
          <a:stretch/>
        </p:blipFill>
        <p:spPr>
          <a:xfrm>
            <a:off x="1908000" y="765000"/>
            <a:ext cx="2000520" cy="2000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Kitchen aid robot-profi"/>
          <p:cNvPicPr/>
          <p:nvPr/>
        </p:nvPicPr>
        <p:blipFill>
          <a:blip r:embed="rId2"/>
          <a:stretch/>
        </p:blipFill>
        <p:spPr>
          <a:xfrm>
            <a:off x="5219640" y="692280"/>
            <a:ext cx="2448000" cy="244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Kitchen aid robot-artisan"/>
          <p:cNvPicPr/>
          <p:nvPr/>
        </p:nvPicPr>
        <p:blipFill>
          <a:blip r:embed="rId3"/>
          <a:stretch/>
        </p:blipFill>
        <p:spPr>
          <a:xfrm>
            <a:off x="684360" y="3357720"/>
            <a:ext cx="2663640" cy="266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Sendvičovač Ariete Disney 198 červený"/>
          <p:cNvPicPr/>
          <p:nvPr/>
        </p:nvPicPr>
        <p:blipFill>
          <a:blip r:embed="rId4"/>
          <a:stretch/>
        </p:blipFill>
        <p:spPr>
          <a:xfrm>
            <a:off x="5292720" y="3716280"/>
            <a:ext cx="2619360" cy="1733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5418720" y="32320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r To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521640" y="12160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811080" y="294480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r Rob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Mikrovlnná trouba Baumatic BMC253SS"/>
          <p:cNvPicPr/>
          <p:nvPr/>
        </p:nvPicPr>
        <p:blipFill>
          <a:blip r:embed="rId1"/>
          <a:stretch/>
        </p:blipFill>
        <p:spPr>
          <a:xfrm>
            <a:off x="539640" y="4005360"/>
            <a:ext cx="2619360" cy="1714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Rakletovací gril Ovation - grily (TEFAL)"/>
          <p:cNvPicPr/>
          <p:nvPr/>
        </p:nvPicPr>
        <p:blipFill>
          <a:blip r:embed="rId2"/>
          <a:stretch/>
        </p:blipFill>
        <p:spPr>
          <a:xfrm>
            <a:off x="684360" y="1052640"/>
            <a:ext cx="2857320" cy="210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Fritéza Fagor F-110"/>
          <p:cNvPicPr/>
          <p:nvPr/>
        </p:nvPicPr>
        <p:blipFill>
          <a:blip r:embed="rId3"/>
          <a:stretch/>
        </p:blipFill>
        <p:spPr>
          <a:xfrm>
            <a:off x="6012000" y="393372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SENCOR SBR 930SS pekárna chleba"/>
          <p:cNvPicPr/>
          <p:nvPr/>
        </p:nvPicPr>
        <p:blipFill>
          <a:blip r:embed="rId4"/>
          <a:stretch/>
        </p:blipFill>
        <p:spPr>
          <a:xfrm>
            <a:off x="5148360" y="620640"/>
            <a:ext cx="2666880" cy="26672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2"/>
          <p:cNvSpPr/>
          <p:nvPr/>
        </p:nvSpPr>
        <p:spPr>
          <a:xfrm>
            <a:off x="882000" y="6397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r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596160" y="359244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e Mikrow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5276520" y="323208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e Hausbäcker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6354360" y="57531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e Frit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537102"/>
          <p:cNvPicPr/>
          <p:nvPr/>
        </p:nvPicPr>
        <p:blipFill>
          <a:blip r:embed="rId1"/>
          <a:stretch/>
        </p:blipFill>
        <p:spPr>
          <a:xfrm>
            <a:off x="5435640" y="692280"/>
            <a:ext cx="2286000" cy="2568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Fotografie předmětu"/>
          <p:cNvPicPr/>
          <p:nvPr/>
        </p:nvPicPr>
        <p:blipFill>
          <a:blip r:embed="rId2"/>
          <a:stretch/>
        </p:blipFill>
        <p:spPr>
          <a:xfrm>
            <a:off x="611280" y="3789360"/>
            <a:ext cx="2663640" cy="2664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Kávovar Bosch TKA 6024"/>
          <p:cNvPicPr/>
          <p:nvPr/>
        </p:nvPicPr>
        <p:blipFill>
          <a:blip r:embed="rId3"/>
          <a:stretch/>
        </p:blipFill>
        <p:spPr>
          <a:xfrm>
            <a:off x="6227640" y="3645000"/>
            <a:ext cx="2146320" cy="30178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2"/>
          <p:cNvSpPr/>
          <p:nvPr/>
        </p:nvSpPr>
        <p:spPr>
          <a:xfrm>
            <a:off x="1403280" y="1364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r Ents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5364000" y="3524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e Schnellkochka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971640" y="34480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r Obsttrock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4771080" y="359244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e Kaffeemas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7" descr="Kliknutím zavřete obrázek"/>
          <p:cNvPicPr/>
          <p:nvPr/>
        </p:nvPicPr>
        <p:blipFill>
          <a:blip r:embed="rId4"/>
          <a:stretch/>
        </p:blipFill>
        <p:spPr>
          <a:xfrm>
            <a:off x="1042920" y="476280"/>
            <a:ext cx="2408400" cy="2813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myčka Siemens SN26T890EU"/>
          <p:cNvPicPr/>
          <p:nvPr/>
        </p:nvPicPr>
        <p:blipFill>
          <a:blip r:embed="rId1"/>
          <a:stretch/>
        </p:blipFill>
        <p:spPr>
          <a:xfrm>
            <a:off x="1332000" y="981000"/>
            <a:ext cx="2197080" cy="2592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myčka"/>
          <p:cNvPicPr/>
          <p:nvPr/>
        </p:nvPicPr>
        <p:blipFill>
          <a:blip r:embed="rId2"/>
          <a:stretch/>
        </p:blipFill>
        <p:spPr>
          <a:xfrm>
            <a:off x="900000" y="3716280"/>
            <a:ext cx="2243160" cy="2624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Mora Varná deska plyn.  VD 4200.0002 nerez"/>
          <p:cNvPicPr/>
          <p:nvPr/>
        </p:nvPicPr>
        <p:blipFill>
          <a:blip r:embed="rId3"/>
          <a:stretch/>
        </p:blipFill>
        <p:spPr>
          <a:xfrm>
            <a:off x="5219640" y="1012680"/>
            <a:ext cx="2630520" cy="2346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1100000001457"/>
          <p:cNvPicPr/>
          <p:nvPr/>
        </p:nvPicPr>
        <p:blipFill>
          <a:blip r:embed="rId4"/>
          <a:stretch/>
        </p:blipFill>
        <p:spPr>
          <a:xfrm>
            <a:off x="5796000" y="3841920"/>
            <a:ext cx="2479680" cy="2163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4"/>
          <p:cNvSpPr/>
          <p:nvPr/>
        </p:nvSpPr>
        <p:spPr>
          <a:xfrm>
            <a:off x="739800" y="496800"/>
            <a:ext cx="28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e Geschirrspülmas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5851440" y="4968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r Spar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Gerä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ese Geräte sind sehr oft in der Küche zu se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e helfen uns beim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Braten, Backen, Panieren, Grillen, Kochen, Dünst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e erleichtern uns die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Zubereitung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er Sp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e schlagen oder mischen Teig, hacken oder zerkleinern Nüsse, Zwiebel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220px-Vacuum_cleaner"/>
          <p:cNvPicPr/>
          <p:nvPr/>
        </p:nvPicPr>
        <p:blipFill>
          <a:blip r:embed="rId1"/>
          <a:stretch/>
        </p:blipFill>
        <p:spPr>
          <a:xfrm>
            <a:off x="6588000" y="1125360"/>
            <a:ext cx="2095560" cy="3905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Robotický vysavač v pracovním nasazení"/>
          <p:cNvPicPr/>
          <p:nvPr/>
        </p:nvPicPr>
        <p:blipFill>
          <a:blip r:embed="rId2"/>
          <a:stretch/>
        </p:blipFill>
        <p:spPr>
          <a:xfrm>
            <a:off x="2700360" y="342900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448-vysavac-makita"/>
          <p:cNvPicPr/>
          <p:nvPr/>
        </p:nvPicPr>
        <p:blipFill>
          <a:blip r:embed="rId3"/>
          <a:stretch/>
        </p:blipFill>
        <p:spPr>
          <a:xfrm>
            <a:off x="468360" y="4762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1"/>
          <p:cNvSpPr/>
          <p:nvPr/>
        </p:nvSpPr>
        <p:spPr>
          <a:xfrm>
            <a:off x="3832200" y="2276640"/>
            <a:ext cx="19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r Staubsau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3276720" y="63972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Unsere Hilfe bei Ord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sch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schine ist eine technische Einrichtung, die eine Energieart oder eine Kraft in eine andere umwande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rüher waren Maschinen nur mechani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urzeit spricht man über viele Ty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Žehlička na vlasy Zelmer 33Z021 šedo-červená"/>
          <p:cNvPicPr/>
          <p:nvPr/>
        </p:nvPicPr>
        <p:blipFill>
          <a:blip r:embed="rId1"/>
          <a:stretch/>
        </p:blipFill>
        <p:spPr>
          <a:xfrm>
            <a:off x="5219640" y="765000"/>
            <a:ext cx="3024360" cy="2600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Bateriový holící strojek Princeshave"/>
          <p:cNvPicPr/>
          <p:nvPr/>
        </p:nvPicPr>
        <p:blipFill>
          <a:blip r:embed="rId2"/>
          <a:stretch/>
        </p:blipFill>
        <p:spPr>
          <a:xfrm>
            <a:off x="755640" y="112536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Vysoušeč vlasů Philips HP4881"/>
          <p:cNvPicPr/>
          <p:nvPr/>
        </p:nvPicPr>
        <p:blipFill>
          <a:blip r:embed="rId3"/>
          <a:stretch/>
        </p:blipFill>
        <p:spPr>
          <a:xfrm>
            <a:off x="5724360" y="4076640"/>
            <a:ext cx="1990800" cy="2086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BRAUNEE1055"/>
          <p:cNvPicPr/>
          <p:nvPr/>
        </p:nvPicPr>
        <p:blipFill>
          <a:blip r:embed="rId4"/>
          <a:stretch/>
        </p:blipFill>
        <p:spPr>
          <a:xfrm>
            <a:off x="826920" y="4005360"/>
            <a:ext cx="2095560" cy="21906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2"/>
          <p:cNvSpPr/>
          <p:nvPr/>
        </p:nvSpPr>
        <p:spPr>
          <a:xfrm>
            <a:off x="1095480" y="76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s Rasierger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5559480" y="333360"/>
            <a:ext cx="22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s Haarbügelei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1095480" y="357336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s Epilierger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5724360" y="3573360"/>
            <a:ext cx="22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r Haartrock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592920" y="27936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Geräte für unsere Pf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ragen zum Th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ie unterteilen wir Maschinen und Geräte zu Ha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s beachten wir  bei Gerä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s hilft uns beim Aufräum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s dient uns für Unterhaltu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elche Geräte hat man oft in der Küc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ozu dient der Kühlschr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671480" y="1596960"/>
            <a:ext cx="66456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yšková Z. a kol: Němčina pro strojírenské obory. Praha 2008, Informator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ww.obrazky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ww.de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sch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e </a:t>
            </a: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Maschin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st ein Gerät mit bewegten Teilen, durch ein Antriebssystem.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ir kennen heute ein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ichtige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olle von den feinmechanischen Geräten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– das ist </a:t>
            </a: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Automatisierung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in der Produktio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abei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übernehmen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aschinen und Geräte vor allem Routine- und auch gefährliche Arbeite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er Mensc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yp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ese Typen der Maschinen teilt man nach der Energie des Motors oder  der K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ft spricht man über die Elektrogeräte 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e findet man überall au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er der Herstellung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vor allem im Haush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Geräte und Masch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e dienen uns im Haushalt für unsere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Unterhal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e dienen als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Hilfsmittel - Helfe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bei unseren Hausarb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ei diesen Geräten beachtet man den Verbrauch des Elektrostromes (A+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A+++) oder den Wasserverbrau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televizor-gogen-tvl19800ump2-lcd"/>
          <p:cNvPicPr/>
          <p:nvPr/>
        </p:nvPicPr>
        <p:blipFill>
          <a:blip r:embed="rId1"/>
          <a:stretch/>
        </p:blipFill>
        <p:spPr>
          <a:xfrm>
            <a:off x="1116000" y="260280"/>
            <a:ext cx="3382920" cy="3382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a68b51b6c87d1bac4b70f125db19ff48"/>
          <p:cNvPicPr/>
          <p:nvPr/>
        </p:nvPicPr>
        <p:blipFill>
          <a:blip r:embed="rId2"/>
          <a:stretch/>
        </p:blipFill>
        <p:spPr>
          <a:xfrm>
            <a:off x="5651640" y="90792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radio"/>
          <p:cNvPicPr/>
          <p:nvPr/>
        </p:nvPicPr>
        <p:blipFill>
          <a:blip r:embed="rId3"/>
          <a:stretch/>
        </p:blipFill>
        <p:spPr>
          <a:xfrm>
            <a:off x="5867280" y="4005360"/>
            <a:ext cx="2248200" cy="1552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1-KC2439"/>
          <p:cNvPicPr/>
          <p:nvPr/>
        </p:nvPicPr>
        <p:blipFill>
          <a:blip r:embed="rId4"/>
          <a:stretch/>
        </p:blipFill>
        <p:spPr>
          <a:xfrm>
            <a:off x="900000" y="414972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4"/>
          <p:cNvSpPr/>
          <p:nvPr/>
        </p:nvSpPr>
        <p:spPr>
          <a:xfrm>
            <a:off x="971640" y="37368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r Fernse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724360" y="3305160"/>
            <a:ext cx="30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s Radio – r Rundf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716360" y="135000"/>
            <a:ext cx="40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Für unsere Unterhal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39117_0a_3"/>
          <p:cNvPicPr/>
          <p:nvPr/>
        </p:nvPicPr>
        <p:blipFill>
          <a:blip r:embed="rId1"/>
          <a:stretch/>
        </p:blipFill>
        <p:spPr>
          <a:xfrm>
            <a:off x="395280" y="278136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163"/>
          <p:cNvPicPr/>
          <p:nvPr/>
        </p:nvPicPr>
        <p:blipFill>
          <a:blip r:embed="rId2"/>
          <a:stretch/>
        </p:blipFill>
        <p:spPr>
          <a:xfrm>
            <a:off x="3492360" y="333360"/>
            <a:ext cx="2667240" cy="20192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9"/>
          <p:cNvSpPr/>
          <p:nvPr/>
        </p:nvSpPr>
        <p:spPr>
          <a:xfrm>
            <a:off x="6516720" y="148428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e Play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Počítač"/>
          <p:cNvPicPr/>
          <p:nvPr/>
        </p:nvPicPr>
        <p:blipFill>
          <a:blip r:embed="rId3"/>
          <a:stretch/>
        </p:blipFill>
        <p:spPr>
          <a:xfrm>
            <a:off x="4788000" y="2565360"/>
            <a:ext cx="3333600" cy="34862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2"/>
          <p:cNvSpPr/>
          <p:nvPr/>
        </p:nvSpPr>
        <p:spPr>
          <a:xfrm>
            <a:off x="954360" y="229716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s Hausk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762000" y="568152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r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Geräte und Masch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nsere klassischen Medien – Radio und Fernseher – bringen uns nicht nur 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Informationen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us der Politik, Kultur und aus dem 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e dienen uns zur 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Unterhal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ir sehen uns verschiedene Filme, Konzerte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ir können durch elektronisches Netz (Facebook, Chat)  an der Diskussion teilneh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Geräte und Masch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Pračka"/>
          <p:cNvPicPr/>
          <p:nvPr/>
        </p:nvPicPr>
        <p:blipFill>
          <a:blip r:embed="rId1"/>
          <a:stretch/>
        </p:blipFill>
        <p:spPr>
          <a:xfrm>
            <a:off x="539640" y="2565360"/>
            <a:ext cx="2422800" cy="3167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Indesit Pračka  WITL 105 EU"/>
          <p:cNvPicPr/>
          <p:nvPr/>
        </p:nvPicPr>
        <p:blipFill>
          <a:blip r:embed="rId2"/>
          <a:stretch/>
        </p:blipFill>
        <p:spPr>
          <a:xfrm>
            <a:off x="3851280" y="2637000"/>
            <a:ext cx="1390680" cy="2666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Sušička Siemens WT 46W560BY"/>
          <p:cNvPicPr/>
          <p:nvPr/>
        </p:nvPicPr>
        <p:blipFill>
          <a:blip r:embed="rId3"/>
          <a:stretch/>
        </p:blipFill>
        <p:spPr>
          <a:xfrm>
            <a:off x="6156360" y="2349360"/>
            <a:ext cx="2381040" cy="31719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2"/>
          <p:cNvSpPr/>
          <p:nvPr/>
        </p:nvSpPr>
        <p:spPr>
          <a:xfrm>
            <a:off x="950760" y="1916280"/>
            <a:ext cx="22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e Waschmas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6138720" y="16477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r Wäschetrock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1022760" y="13590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Zur Reinigung der Klei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VOŠ a SPŠ Strakonice</cp:lastModifiedBy>
  <dcterms:modified xsi:type="dcterms:W3CDTF">2011-11-21T11:47:30Z</dcterms:modified>
  <cp:revision>59</cp:revision>
  <dc:subject/>
  <dc:title>POSLOUPNOSTI</dc:title>
</cp:coreProperties>
</file>