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6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9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4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8.jpeg" ContentType="image/jpeg"/>
  <Override PartName="/ppt/media/image5.gif" ContentType="image/gif"/>
  <Override PartName="/ppt/media/image14.jpeg" ContentType="image/jpeg"/>
  <Override PartName="/ppt/media/image4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2AEB-A408-4174-8399-A098FE5D1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6003-40A1-484A-AE7B-EC0DA4EA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0BB3-DBA3-498C-BD40-367C8C5B5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4B2A-B2E1-4351-A719-CE3C7A458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2768-E581-42A9-AB26-60A611F4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2A3F-18D5-4166-B3E6-3F457FB4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DDEC-05C2-4AED-81F2-367004B1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3A15-EEBB-44E9-B89B-911156E6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5C84-1DFE-49C5-94A8-5588AEEC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0896-2E89-4F93-9D44-6A284FF4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B5CB-42F6-41D0-BA19-737B6556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1738-1761-4C14-84A9-E279EE37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4F70-F985-4FE2-A36C-C4355AAB59A3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E935-7E57-4B5F-8254-636D475B8B0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de.wikipedia.org/wiki/Kraftstoff" TargetMode="External"/><Relationship Id="rId2" Type="http://schemas.openxmlformats.org/officeDocument/2006/relationships/hyperlink" Target="http://de.wikipedia.org/wiki/Verbrauch" TargetMode="External"/><Relationship Id="rId3" Type="http://schemas.openxmlformats.org/officeDocument/2006/relationships/hyperlink" Target="http://de.wikipedia.org/wiki/Emission_(Umwelt)" TargetMode="External"/><Relationship Id="rId4" Type="http://schemas.openxmlformats.org/officeDocument/2006/relationships/hyperlink" Target="http://de.wikipedia.org/wiki/Schadstoff" TargetMode="External"/><Relationship Id="rId5" Type="http://schemas.openxmlformats.org/officeDocument/2006/relationships/hyperlink" Target="http://de.wikipedia.org/wiki/Leistung_(Physik)" TargetMode="External"/><Relationship Id="rId6" Type="http://schemas.openxmlformats.org/officeDocument/2006/relationships/hyperlink" Target="http://de.wikipedia.org/wiki/Betriebssicherheit" TargetMode="External"/><Relationship Id="rId7" Type="http://schemas.openxmlformats.org/officeDocument/2006/relationships/hyperlink" Target="http://de.wikipedia.org/wiki/Lebensdauer_(Technik)" TargetMode="External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de.wikipedia.org/w/index.php?title=Datei:Skoda_1999.png&amp;filetimestamp=20100121201810" TargetMode="External"/><Relationship Id="rId2" Type="http://schemas.openxmlformats.org/officeDocument/2006/relationships/image" Target="../media/image7.png"/><Relationship Id="rId3" Type="http://schemas.openxmlformats.org/officeDocument/2006/relationships/hyperlink" Target="http://upload.wikimedia.org/wikipedia/commons/3/33/Skoda_fabia_kombi_v_sst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koda-auto.cz/CZE/model/newsuperb" TargetMode="External"/><Relationship Id="rId2" Type="http://schemas.openxmlformats.org/officeDocument/2006/relationships/hyperlink" Target="http://www.skoda-auto.cz/CZE/model/superbcombi/" TargetMode="External"/><Relationship Id="rId3" Type="http://schemas.openxmlformats.org/officeDocument/2006/relationships/hyperlink" Target="http://www.skoda-auto.cz/CZE/model/superbcombi/" TargetMode="External"/><Relationship Id="rId4" Type="http://schemas.openxmlformats.org/officeDocument/2006/relationships/hyperlink" Target="http://www.skoda-auto.cz/CZE/model/superbcombi/" TargetMode="External"/><Relationship Id="rId5" Type="http://schemas.openxmlformats.org/officeDocument/2006/relationships/hyperlink" Target="http://www.skoda-auto.cz/CZE/model/yeti" TargetMode="External"/><Relationship Id="rId6" Type="http://schemas.openxmlformats.org/officeDocument/2006/relationships/hyperlink" Target="http://www.skoda-auto.cz/CZE/model/newoctavia" TargetMode="External"/><Relationship Id="rId7" Type="http://schemas.openxmlformats.org/officeDocument/2006/relationships/hyperlink" Target="http://www.skoda-auto.cz/CZE/model/newoctaviacombi" TargetMode="External"/><Relationship Id="rId8" Type="http://schemas.openxmlformats.org/officeDocument/2006/relationships/hyperlink" Target="http://www.skoda-auto.cz/CZE/model/newoctaviacombi" TargetMode="External"/><Relationship Id="rId9" Type="http://schemas.openxmlformats.org/officeDocument/2006/relationships/hyperlink" Target="http://www.skoda-auto.cz/CZE/model/newoctaviacombi" TargetMode="External"/><Relationship Id="rId10" Type="http://schemas.openxmlformats.org/officeDocument/2006/relationships/hyperlink" Target="http://www.skoda-auto.cz/CZE/model/tour" TargetMode="External"/><Relationship Id="rId11" Type="http://schemas.openxmlformats.org/officeDocument/2006/relationships/hyperlink" Target="http://www.skoda-auto.cz/CZE/model/tour" TargetMode="External"/><Relationship Id="rId12" Type="http://schemas.openxmlformats.org/officeDocument/2006/relationships/hyperlink" Target="http://www.skoda-auto.cz/CZE/model/tour" TargetMode="External"/><Relationship Id="rId13" Type="http://schemas.openxmlformats.org/officeDocument/2006/relationships/hyperlink" Target="http://www.skoda-auto.cz/CZE/model/newfabia" TargetMode="External"/><Relationship Id="rId14" Type="http://schemas.openxmlformats.org/officeDocument/2006/relationships/hyperlink" Target="http://www.skoda-auto.cz/CZE/model/newfabiacombi" TargetMode="External"/><Relationship Id="rId15" Type="http://schemas.openxmlformats.org/officeDocument/2006/relationships/hyperlink" Target="http://www.skoda-auto.cz/CZE/model/newfabiacombi" TargetMode="External"/><Relationship Id="rId16" Type="http://schemas.openxmlformats.org/officeDocument/2006/relationships/hyperlink" Target="http://www.skoda-auto.cz/CZE/model/newfabiacombi" TargetMode="External"/><Relationship Id="rId17" Type="http://schemas.openxmlformats.org/officeDocument/2006/relationships/hyperlink" Target="http://www.skoda-auto.cz/CZE/model/roomster" TargetMode="External"/><Relationship Id="rId18" Type="http://schemas.openxmlformats.org/officeDocument/2006/relationships/hyperlink" Target="http://www.skoda-auto.cz/CZE/model/praktik" TargetMode="External"/><Relationship Id="rId19" Type="http://schemas.openxmlformats.org/officeDocument/2006/relationships/image" Target="../media/image9.jpeg"/><Relationship Id="rId2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7/76/Hyundai_i30_EditionPlus_front_20090318.jp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upload.wikimedia.org/wikipedia/de/b/b1/Hyundai.svg" TargetMode="Externa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f/Citroen_C1_front_20080417.jp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cs.wikipedia.org/wiki/Soubor:Peugeot_107_20090809_front.JPG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cs.wikipedia.org/wiki/Soubor:Toyota_Aygo_Fair_2005.jpeg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de.wikipedia.org/wiki/Daimler_AG" TargetMode="External"/><Relationship Id="rId2" Type="http://schemas.openxmlformats.org/officeDocument/2006/relationships/hyperlink" Target="http://de.wikipedia.org/wiki/Daimler-Motoren-Gesellschaft" TargetMode="External"/><Relationship Id="rId3" Type="http://schemas.openxmlformats.org/officeDocument/2006/relationships/hyperlink" Target="http://de.wikipedia.org/wiki/Benz_%26_Cie." TargetMode="External"/><Relationship Id="rId4" Type="http://schemas.openxmlformats.org/officeDocument/2006/relationships/hyperlink" Target="http://de.wikipedia.org/wiki/Chrysler" TargetMode="External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6/69/Mercedes_Double_Phaeton.jp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upload.wikimedia.org/wikipedia/commons/e/e8/Mercedes-Benz_CLC_front_20081206.jpg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a/Mercedes_C197_SLS_AMG.jp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upload.wikimedia.org/wikipedia/commons/7/77/Mercedes_C-Klasse_%28W204%29_Elegance_front.jpg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de.wikipedia.org/wiki/Rettungswagen" TargetMode="External"/><Relationship Id="rId2" Type="http://schemas.openxmlformats.org/officeDocument/2006/relationships/hyperlink" Target="http://de.wikipedia.org/wiki/Krankentransportwagen" TargetMode="External"/><Relationship Id="rId3" Type="http://schemas.openxmlformats.org/officeDocument/2006/relationships/hyperlink" Target="http://de.wikipedia.org/wiki/MB-Trac" TargetMode="External"/><Relationship Id="rId4" Type="http://schemas.openxmlformats.org/officeDocument/2006/relationships/hyperlink" Target="http://de.wikipedia.org/wiki/MB-Trac" TargetMode="External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6/68/Mercedes-benz-museum-stuttgart-see-2006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de.wikipedia.org/w/index.php?title=Datei:Porsche_headquarter_Stuttgart-Zuffenhausen_Werk_II.jpg&amp;filetimestamp=20070401212216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upload.wikimedia.org/wikipedia/commons/b/b2/Porsche-Panamera_at_Porsche-Museum.JPG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c/c5/Porsche_Museum_Nacht.jpg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de.wikipedia.org/wiki/Deutschland" TargetMode="External"/><Relationship Id="rId2" Type="http://schemas.openxmlformats.org/officeDocument/2006/relationships/hyperlink" Target="http://de.wikipedia.org/wiki/Automobil" TargetMode="External"/><Relationship Id="rId3" Type="http://schemas.openxmlformats.org/officeDocument/2006/relationships/hyperlink" Target="http://de.wikipedia.org/wiki/Motorrad" TargetMode="External"/><Relationship Id="rId4" Type="http://schemas.openxmlformats.org/officeDocument/2006/relationships/hyperlink" Target="http://de.wikipedia.org/wiki/Motor" TargetMode="External"/><Relationship Id="rId5" Type="http://schemas.openxmlformats.org/officeDocument/2006/relationships/hyperlink" Target="http://de.wikipedia.org/wiki/Unternehmen" TargetMode="External"/><Relationship Id="rId6" Type="http://schemas.openxmlformats.org/officeDocument/2006/relationships/hyperlink" Target="http://de.wikipedia.org/wiki/M&#252;nchen" TargetMode="External"/><Relationship Id="rId7" Type="http://schemas.openxmlformats.org/officeDocument/2006/relationships/hyperlink" Target="http://de.wikipedia.org/wiki/Aktie" TargetMode="External"/><Relationship Id="rId8" Type="http://schemas.openxmlformats.org/officeDocument/2006/relationships/hyperlink" Target="http://de.wikipedia.org/wiki/DAX" TargetMode="External"/><Relationship Id="rId9" Type="http://schemas.openxmlformats.org/officeDocument/2006/relationships/hyperlink" Target="http://de.wikipedia.org/wiki/Frankfurter_Wertpapierb&#246;rse" TargetMode="External"/><Relationship Id="rId10" Type="http://schemas.openxmlformats.org/officeDocument/2006/relationships/hyperlink" Target="http://de.wikipedia.org/wiki/Frankfurter_Wertpapierb&#246;rse" TargetMode="External"/><Relationship Id="rId11" Type="http://schemas.openxmlformats.org/officeDocument/2006/relationships/hyperlink" Target="http://de.wikipedia.org/wiki/Frankfurter_Wertpapierb&#246;rse" TargetMode="External"/><Relationship Id="rId1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cs.wikipedia.org/wiki/Soubor:Bmw-hochhaus_1.jpg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upload.wikimedia.org/wikipedia/commons/d/d1/M&#252;nchen_-_BMW-Museum.JPG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a/a7/BMW_535i_%28F10%29_front_20100425.jpg" TargetMode="External"/><Relationship Id="rId2" Type="http://schemas.openxmlformats.org/officeDocument/2006/relationships/image" Target="../media/image26.jpeg"/><Relationship Id="rId3" Type="http://schemas.openxmlformats.org/officeDocument/2006/relationships/hyperlink" Target="http://upload.wikimedia.org/wikipedia/commons/2/28/BMW_X1_sDrive18d.JPG" TargetMode="External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f/Formula_one.jpg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upload.wikimedia.org/wikipedia/commons/0/05/BMW_X3_Equipo_Argentino.JPG" TargetMode="External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6/Rolls-Royce_Ghost_Heck.JPG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de.wikipedia.org/wiki/Ingolstadt" TargetMode="External"/><Relationship Id="rId2" Type="http://schemas.openxmlformats.org/officeDocument/2006/relationships/hyperlink" Target="http://de.wikipedia.org/wiki/Bayern" TargetMode="External"/><Relationship Id="rId3" Type="http://schemas.openxmlformats.org/officeDocument/2006/relationships/hyperlink" Target="http://de.wikipedia.org/wiki/Volkswagen_AG" TargetMode="External"/><Relationship Id="rId4" Type="http://schemas.openxmlformats.org/officeDocument/2006/relationships/hyperlink" Target="http://upload.wikimedia.org/wikipedia/de/b/b2/Audi-Logo_2009.png" TargetMode="External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de.wikipedia.org/wiki/Wolfsburg" TargetMode="External"/><Relationship Id="rId2" Type="http://schemas.openxmlformats.org/officeDocument/2006/relationships/hyperlink" Target="http://de.wikipedia.org/wiki/Muttergesellschaft" TargetMode="External"/><Relationship Id="rId3" Type="http://schemas.openxmlformats.org/officeDocument/2006/relationships/hyperlink" Target="http://de.wikipedia.org/wiki/Automobilhersteller" TargetMode="External"/><Relationship Id="rId4" Type="http://schemas.openxmlformats.org/officeDocument/2006/relationships/hyperlink" Target="http://de.wikipedia.org/wiki/Audi" TargetMode="External"/><Relationship Id="rId5" Type="http://schemas.openxmlformats.org/officeDocument/2006/relationships/hyperlink" Target="http://de.wikipedia.org/wiki/Bentley" TargetMode="External"/><Relationship Id="rId6" Type="http://schemas.openxmlformats.org/officeDocument/2006/relationships/hyperlink" Target="http://de.wikipedia.org/wiki/Bugatti" TargetMode="External"/><Relationship Id="rId7" Type="http://schemas.openxmlformats.org/officeDocument/2006/relationships/hyperlink" Target="http://de.wikipedia.org/wiki/Lamborghini" TargetMode="External"/><Relationship Id="rId8" Type="http://schemas.openxmlformats.org/officeDocument/2006/relationships/hyperlink" Target="http://de.wikipedia.org/wiki/SEAT" TargetMode="External"/><Relationship Id="rId9" Type="http://schemas.openxmlformats.org/officeDocument/2006/relationships/hyperlink" Target="http://de.wikipedia.org/wiki/&#352;koda_Auto" TargetMode="External"/><Relationship Id="rId10" Type="http://schemas.openxmlformats.org/officeDocument/2006/relationships/hyperlink" Target="http://de.wikipedia.org/wiki/Volkswagen" TargetMode="External"/><Relationship Id="rId11" Type="http://schemas.openxmlformats.org/officeDocument/2006/relationships/hyperlink" Target="http://de.wikipedia.org/wiki/Volkswagen_Nutzfahrzeuge" TargetMode="External"/><Relationship Id="rId12" Type="http://schemas.openxmlformats.org/officeDocument/2006/relationships/hyperlink" Target="http://de.wikipedia.org/wiki/Volkswagen_Nutzfahrzeuge" TargetMode="External"/><Relationship Id="rId13" Type="http://schemas.openxmlformats.org/officeDocument/2006/relationships/hyperlink" Target="http://de.wikipedia.org/wiki/Scania" TargetMode="External"/><Relationship Id="rId14" Type="http://schemas.openxmlformats.org/officeDocument/2006/relationships/hyperlink" Target="http://de.wikipedia.org/wiki/Porsche_Automobil_Holding" TargetMode="External"/><Relationship Id="rId1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de/2/28/Nibbler-volkswagenwerkwolfsburg.jpg" TargetMode="External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b/VW_Golf_VI_1.4_TSI_160PS_Comfortline_Reflexsilber.JPG" TargetMode="External"/><Relationship Id="rId2" Type="http://schemas.openxmlformats.org/officeDocument/2006/relationships/image" Target="../media/image38.jpeg"/><Relationship Id="rId3" Type="http://schemas.openxmlformats.org/officeDocument/2006/relationships/hyperlink" Target="http://upload.wikimedia.org/wikipedia/commons/9/9b/VW_Passat_CC_Lightbrown.JPG" TargetMode="External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media.novinky.cz/217/252179-original1-5l4ra.jpg" TargetMode="External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4/Skoda_Roomster_Facelift_1.2_TSI_Comfort_Plus_Edition_front_20100529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hyperlink" Target="http://de.wikipedia.org/w/index.php?title=Datei:Two-Stroke_Engine.gif&amp;filetimestamp=20060816162549" TargetMode="External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067280" y="31608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S A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4365720"/>
            <a:ext cx="384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pracovala:Mgr. Anna Eigner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-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nforderungen an Au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1)  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ein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e 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hohe Wirkun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g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 besitz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2)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de-DE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raftstoff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 optimal und daher bei geringem </a:t>
            </a:r>
            <a:r>
              <a:rPr b="0" lang="de-DE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Verbrauch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 ausnut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0000"/>
                </a:solidFill>
                <a:latin typeface="Arial"/>
              </a:rPr>
              <a:t>3) </a:t>
            </a:r>
            <a:r>
              <a:rPr b="0" lang="de-DE" sz="2000" spc="-1" strike="noStrike">
                <a:solidFill>
                  <a:srgbClr val="990000"/>
                </a:solidFill>
                <a:latin typeface="Arial"/>
              </a:rPr>
              <a:t>wenig </a:t>
            </a:r>
            <a:r>
              <a:rPr b="0" lang="de-DE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missionen</a:t>
            </a:r>
            <a:r>
              <a:rPr b="0" lang="de-DE" sz="2000" spc="-1" strike="noStrike">
                <a:solidFill>
                  <a:srgbClr val="990000"/>
                </a:solidFill>
                <a:latin typeface="Arial"/>
              </a:rPr>
              <a:t> verursachen oder  wenig </a:t>
            </a:r>
            <a:r>
              <a:rPr b="0" lang="de-DE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chadstoffe</a:t>
            </a:r>
            <a:r>
              <a:rPr b="0" lang="de-DE" sz="2000" spc="-1" strike="noStrike">
                <a:solidFill>
                  <a:srgbClr val="990000"/>
                </a:solidFill>
                <a:latin typeface="Arial"/>
              </a:rPr>
              <a:t> ausstoß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8000"/>
                </a:solidFill>
                <a:latin typeface="Arial"/>
              </a:rPr>
              <a:t>4) </a:t>
            </a:r>
            <a:r>
              <a:rPr b="0" lang="de-DE" sz="2000" spc="-1" strike="noStrike">
                <a:solidFill>
                  <a:srgbClr val="008000"/>
                </a:solidFill>
                <a:latin typeface="Arial"/>
              </a:rPr>
              <a:t>eine möglichst hohe </a:t>
            </a:r>
            <a:r>
              <a:rPr b="0" lang="de-DE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Leistung</a:t>
            </a:r>
            <a:r>
              <a:rPr b="0" lang="de-DE" sz="2000" spc="-1" strike="noStrike">
                <a:solidFill>
                  <a:srgbClr val="008000"/>
                </a:solidFill>
                <a:latin typeface="Arial"/>
              </a:rPr>
              <a:t> bei geringem Gewicht entwicke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Arial"/>
              </a:rPr>
              <a:t>5) </a:t>
            </a:r>
            <a:r>
              <a:rPr b="0" lang="de-DE" sz="2000" spc="-1" strike="noStrike">
                <a:solidFill>
                  <a:srgbClr val="009999"/>
                </a:solidFill>
                <a:latin typeface="Arial"/>
              </a:rPr>
              <a:t>hohe </a:t>
            </a:r>
            <a:r>
              <a:rPr b="0" lang="de-DE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Betriebssicherheit</a:t>
            </a:r>
            <a:r>
              <a:rPr b="0" lang="de-DE" sz="2000" spc="-1" strike="noStrike">
                <a:solidFill>
                  <a:srgbClr val="009999"/>
                </a:solidFill>
                <a:latin typeface="Arial"/>
              </a:rPr>
              <a:t> und </a:t>
            </a:r>
            <a:r>
              <a:rPr b="0" lang="de-DE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Lebensdauer</a:t>
            </a:r>
            <a:r>
              <a:rPr b="0" lang="de-DE" sz="2000" spc="-1" strike="noStrike">
                <a:solidFill>
                  <a:srgbClr val="009999"/>
                </a:solidFill>
                <a:latin typeface="Arial"/>
              </a:rPr>
              <a:t> aufweis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0000"/>
                </a:solidFill>
                <a:latin typeface="Arial"/>
              </a:rPr>
              <a:t>6) </a:t>
            </a:r>
            <a:r>
              <a:rPr b="0" lang="de-DE" sz="2000" spc="-1" strike="noStrike">
                <a:solidFill>
                  <a:srgbClr val="990000"/>
                </a:solidFill>
                <a:latin typeface="Arial"/>
              </a:rPr>
              <a:t>weitere spezielle Eigenschaften</a:t>
            </a:r>
            <a:r>
              <a:rPr b="0" lang="cs-CZ" sz="2000" spc="-1" strike="noStrike">
                <a:solidFill>
                  <a:srgbClr val="990000"/>
                </a:solidFill>
                <a:latin typeface="Arial"/>
              </a:rPr>
              <a:t> und Ausrüs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0" lang="cs-CZ" sz="2000" spc="-1" strike="noStrike">
                <a:solidFill>
                  <a:srgbClr val="990000"/>
                </a:solidFill>
                <a:latin typeface="Arial"/>
              </a:rPr>
              <a:t>(z. B. Lenkungsservo, Air-Bag, Navigation)</a:t>
            </a:r>
            <a:r>
              <a:rPr b="1" lang="cs-CZ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990000"/>
                </a:solidFill>
                <a:latin typeface="Arial"/>
              </a:rPr>
              <a:t>besitzen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utoindust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uss diese Bedingungen erfü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In der Welt gibt es viele Konzerne mit der Autoindust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0033"/>
                </a:solidFill>
                <a:latin typeface="Arial"/>
              </a:rPr>
              <a:t>Bei uns sind das – Škoda Auto in Mladá Boleslav, Hyundai Nošovice, TPCA Kolí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8000"/>
                </a:solidFill>
                <a:latin typeface="Arial"/>
              </a:rPr>
              <a:t>In der BRD findet man viele Autofirmen  mit vielen Ma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utoindutrie spielt wichtige Rolle in der Wirtschaft des Sta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Skoda 1999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191628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Datei:Skoda fabia kombi v sst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5280" y="1773360"/>
            <a:ext cx="5832360" cy="3616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175120" y="758880"/>
            <a:ext cx="35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Škoda  Auto Mladá Bolesla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91080" y="42400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7640" y="13604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a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11280" y="1873800"/>
            <a:ext cx="6408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uperb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» 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uperb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omb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» 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Yet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» 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Octavi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» 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Octavia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Comb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» 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Octavia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Tour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» 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Fabi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» 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Fabia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Comb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» 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Roomster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» 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Praktik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73640" y="71136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en der Mar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9"/>
          <a:stretch/>
        </p:blipFill>
        <p:spPr>
          <a:xfrm>
            <a:off x="2700360" y="1413000"/>
            <a:ext cx="6335640" cy="3887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276720" y="5373720"/>
            <a:ext cx="50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Škoda SUV Yeti Champion 2011 Ka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Soubor:Hyundai i30 EditionPlus front 2009031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205000"/>
            <a:ext cx="6408720" cy="3660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67080" y="1432080"/>
            <a:ext cx="13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yundai i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24000" y="476280"/>
            <a:ext cx="57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utofirma Hyundai in Nošo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Datei:Hyundai.sv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32720" y="1197000"/>
            <a:ext cx="2124000" cy="1085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7620120" cy="42861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171080" y="532116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yundai ix 20 (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Soubor:Citroen C1 front 2008041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71640" y="765000"/>
            <a:ext cx="4211640" cy="2695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Peugeot 10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3357720"/>
            <a:ext cx="3711600" cy="2568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Toyota Aygo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8000" y="3141720"/>
            <a:ext cx="3744720" cy="2816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20920" y="42372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PCA Kolí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Ursprung von Daimler-Benz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in Stuttg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aimler-Benz AG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war ein Vorgängerunternehmen der heutigen </a:t>
            </a:r>
            <a:r>
              <a:rPr b="0" lang="de-DE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imler AG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. Daimler-Benz entstand 1926 durch die Fusion der </a:t>
            </a:r>
            <a:r>
              <a:rPr b="0" lang="de-DE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aimler-Motoren-Gesellschaft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mit der </a:t>
            </a:r>
            <a:r>
              <a:rPr b="0" lang="de-DE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enz &amp; Cie.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Im Jahre 1998 fusionierten die Daimler-Benz AG und die amerikanische </a:t>
            </a:r>
            <a:r>
              <a:rPr b="0" lang="de-DE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hrysler Corporatio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Datei:Mercedes Double Phaet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476280"/>
            <a:ext cx="4248000" cy="3184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559480" y="76500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d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Datei:Mercedes-Benz CLC front 20081206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48000" y="2774880"/>
            <a:ext cx="5796000" cy="3390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82360" y="39528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07080" y="229716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LC-Kla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50760" y="242100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-Klasse (W2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Datei:Mercedes C197 SLS AMG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33336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Datei:Mercedes C-Klasse (W204) Elegance front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8000" y="2924280"/>
            <a:ext cx="5761080" cy="3160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570000" y="402444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1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AU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nders der Personenkraftwagen = PKW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as Kraftfahrzeug, das Automob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st das häufigste Verkehrsmittel in der Fami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n produziert zurzeit viele Typen von A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e Autos haben auch verschiedene Typen von Motoren und vielfältige Ausrüst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Daimler-Benz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uttg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99"/>
                </a:solidFill>
                <a:latin typeface="Arial"/>
              </a:rPr>
              <a:t>Einsatzfahrzeuge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nderschutzfahrzeuge</a:t>
            </a:r>
            <a:br>
              <a:rPr sz="3200"/>
            </a:br>
            <a:r>
              <a:rPr b="0" lang="cs-CZ" sz="3200" spc="-1" strike="noStrike">
                <a:solidFill>
                  <a:srgbClr val="660066"/>
                </a:solidFill>
                <a:latin typeface="Arial"/>
              </a:rPr>
              <a:t>Taxis</a:t>
            </a:r>
            <a:br>
              <a:rPr sz="3200"/>
            </a:b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ettungswagen</a:t>
            </a:r>
            <a:br>
              <a:rPr sz="3200"/>
            </a:br>
            <a:r>
              <a:rPr b="0" lang="cs-CZ" sz="3200" spc="-1" strike="noStrike">
                <a:solidFill>
                  <a:srgbClr val="006600"/>
                </a:solidFill>
                <a:latin typeface="Arial"/>
              </a:rPr>
              <a:t>Transportw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u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Krankentransportwagen</a:t>
            </a:r>
            <a:br>
              <a:rPr sz="3200"/>
            </a:br>
            <a:r>
              <a:rPr b="0" lang="cs-CZ" sz="3200" spc="-1" strike="noStrike">
                <a:solidFill>
                  <a:srgbClr val="990033"/>
                </a:solidFill>
                <a:latin typeface="Arial"/>
              </a:rPr>
              <a:t>spezielle Nutzfahrzeu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MB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Trac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6600"/>
                </a:solidFill>
                <a:latin typeface="Arial"/>
              </a:rPr>
              <a:t>Traktore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Datei:Mercedes-benz-museum-stuttgart-see-200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907920"/>
            <a:ext cx="7200720" cy="5400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827800" y="279360"/>
            <a:ext cx="35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rcedes-Benz-Muse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620640"/>
            <a:ext cx="3189240" cy="4248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Soubor:Porsche-Panamera at Porsche-Museum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80000" y="2133720"/>
            <a:ext cx="5040000" cy="3628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272200" y="1628640"/>
            <a:ext cx="22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rsche - Panam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94720" y="423720"/>
            <a:ext cx="325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RSCHE – zurzeit unter V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Datei:Porsche Museum Nach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052640"/>
            <a:ext cx="7619760" cy="5067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388880" y="496800"/>
            <a:ext cx="539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ues Porsche-Museum in Stuttgart- Zuffenhau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BMW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München ( Bayer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ayerische Motorwerke wurden im Jahr 1916 gegründ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e   ist ein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eutscher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Hersteller von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utomobile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Motorräder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Motore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 Der Hauptsitz des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Unternehmens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befindet sich in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Münche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 Die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Akti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es Unternehmens ist im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DAX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n der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Frankfurter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ertpapierbörs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otier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260280"/>
            <a:ext cx="3533760" cy="5977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Datei:München - BMW-Museum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404640"/>
            <a:ext cx="4286160" cy="5715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909680" y="471600"/>
            <a:ext cx="238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üros und Muse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Datei:BMW 535i (F10) front 2010042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213000"/>
            <a:ext cx="4818240" cy="2873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92200" y="2492280"/>
            <a:ext cx="123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MW 535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Datei:BMW X1 sDrive18d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32320" y="189000"/>
            <a:ext cx="5611680" cy="3395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96160" y="56664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d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94720" y="380844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MW X1 sD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Datei:Formula on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333360"/>
            <a:ext cx="4896000" cy="29606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810000" y="337644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el – 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12000" y="2349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ll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Datei:BMW X3 Equipo Argentino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56000" y="2852640"/>
            <a:ext cx="4608720" cy="345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Datei:Rolls-Royce Ghost Hec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341360"/>
            <a:ext cx="7619760" cy="47815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954360" y="784080"/>
            <a:ext cx="46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lls-Royce Ghost – Genf 2009 unter B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euigkeiten bei BM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Wasserstoff-Fahrzeu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MW entwickelte weltweit als Erster die alltagtauglichen Wasserstoff-Fahrzeu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MW setzte  auf die Verbrennung des Wasserstoffes (H2) mit dem Oxidationsmittel Sauerstoff (O2) aus der Umgebungslu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as Au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ifft man täglich auf der Strasse im Verke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n muss dafür Dokumente hab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00"/>
                </a:solidFill>
                <a:latin typeface="Arial"/>
              </a:rPr>
              <a:t>Führerschein, Fahrerlaubn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00"/>
                </a:solidFill>
                <a:latin typeface="Arial"/>
              </a:rPr>
              <a:t>Technische Bescheinigung = Fahrzeugsch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00"/>
                </a:solidFill>
                <a:latin typeface="Arial"/>
              </a:rPr>
              <a:t>Bestätigung über Emiss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00"/>
                </a:solidFill>
                <a:latin typeface="Arial"/>
              </a:rPr>
              <a:t>Haftpflicht = grüne Ka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n muss Verkehrsordnung beachten und Pflichtausrüstung ha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Ersatzteile, Warndreieck, Warnweste, Reiseapothekekasten = Erste-Hilfe-Kast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68360" y="1628640"/>
            <a:ext cx="3816360" cy="23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Die  Firma  mit Si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ngolstad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ay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sie  ist ein deutsc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utomobilherstell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r dem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Volkswage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zern  angehö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Datei:Audi-Logo 2009.p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48000" y="1341360"/>
            <a:ext cx="5472000" cy="306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968200" y="3510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U D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Datei:Audi A4 Allroad quattro.JPG"/>
          <p:cNvPicPr/>
          <p:nvPr/>
        </p:nvPicPr>
        <p:blipFill>
          <a:blip r:embed="rId1"/>
          <a:stretch/>
        </p:blipFill>
        <p:spPr>
          <a:xfrm>
            <a:off x="0" y="2492280"/>
            <a:ext cx="4284720" cy="33004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Datei:Audi A1 1.4 T.JPG"/>
          <p:cNvPicPr/>
          <p:nvPr/>
        </p:nvPicPr>
        <p:blipFill>
          <a:blip r:embed="rId2"/>
          <a:stretch/>
        </p:blipFill>
        <p:spPr>
          <a:xfrm>
            <a:off x="4140360" y="576360"/>
            <a:ext cx="5003640" cy="33591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813600" y="100008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eutige Mod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80880" y="2368440"/>
            <a:ext cx="4175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tz – Rüsselsheim (Hess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weitere Fabrik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ochum, Kaiserslau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isenach, Düsseldor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rma wurde von Adam Opel gegründ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später gehörte zu Konzer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eneral Mo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326760" y="7840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P E 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944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Opel-logo mit schriftzug im ring 2009.png"/>
          <p:cNvPicPr/>
          <p:nvPr/>
        </p:nvPicPr>
        <p:blipFill>
          <a:blip r:embed="rId1"/>
          <a:stretch/>
        </p:blipFill>
        <p:spPr>
          <a:xfrm>
            <a:off x="5148360" y="2060640"/>
            <a:ext cx="3095640" cy="243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Datei:Opel Meriva B 1.4 ECOTEC Innovation front 20100907.jpg"/>
          <p:cNvPicPr/>
          <p:nvPr/>
        </p:nvPicPr>
        <p:blipFill>
          <a:blip r:embed="rId1"/>
          <a:stretch/>
        </p:blipFill>
        <p:spPr>
          <a:xfrm>
            <a:off x="179280" y="981000"/>
            <a:ext cx="4889520" cy="3403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10720" y="4968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el Meriv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Datei:Vec C2006.jpg"/>
          <p:cNvPicPr/>
          <p:nvPr/>
        </p:nvPicPr>
        <p:blipFill>
          <a:blip r:embed="rId2"/>
          <a:stretch/>
        </p:blipFill>
        <p:spPr>
          <a:xfrm>
            <a:off x="4932360" y="2924280"/>
            <a:ext cx="3960720" cy="29401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922000" y="22971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el Vectra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Volkswagen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Wolfsburg (Niedersachse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e Volkswagen AG, VW abgekürzt , mit Sitz in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olfsburg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ist die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uttergesellschaf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des Volkswagen-Konzerns und der größte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utomobilhersteller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Europas. Der Konzern, zu dem heute die Marken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ud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Bentle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Bugatt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Lamborghin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SEA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Škod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Volkswage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Volkswagen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Nutzfahrzeug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Scani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gehören, soll im Jahr 2011 mit der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orsche Automobil Holding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erschmolzen wer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lksw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at viele Filialen – Niederlassung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as ist nach der Automark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 der BRD – Ingolstadt, Hannover, Dresden, Chemnitz, Braunschweig, Kas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 Europa – ČR, Slowakei, Belgien, Polen, Spanien, Ukraine, Ungarn, Ital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Datei:Nibbler-volkswagenwerkwolfsburg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Datei:VW Golf VI 1.4 TSI 160PS Comfortline Reflexsilb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119160"/>
            <a:ext cx="5076720" cy="3382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Datei:VW Passat CC Lightbrow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2924280"/>
            <a:ext cx="4716360" cy="32716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94360" y="2440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ssat 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11840" y="3716280"/>
            <a:ext cx="8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lf 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711360"/>
            <a:ext cx="32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Heutige Mod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Volkswagen XL1 (prototyp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1125360"/>
            <a:ext cx="7127640" cy="40100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818720" y="5392800"/>
            <a:ext cx="33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W XL1 – Prototyp Katar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ragen dazu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Was braucht man zum Autofahr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Woraus besteht das staatliche Kennzeich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Welche Typen von Motoren kann man fin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Welche Marken produziert man bei u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Welche Autohersteller gibt es in der B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Wo gibt es Automessen = einen Autosal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Datei:Skoda Roomster Facelift 1.2 TSI Comfort Plus Edition front 2010052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333360"/>
            <a:ext cx="6840720" cy="5273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rot="20958600">
            <a:off x="5651640" y="414936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ennzei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26920" y="568152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in staatliches Kennzeichen besteht aus Ziffern und Buchsta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025640" y="1865160"/>
            <a:ext cx="308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www.novinky.cz/a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www.skoda-auto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www.de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824360" cy="6237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20920" y="9288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Äu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re Te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84360" y="0"/>
            <a:ext cx="4681440" cy="6308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200" y="1432080"/>
            <a:ext cx="221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Innere Ausrüs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as Au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as Auto entwickelt sich seit vielen Jah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e Produzenten stellen immer mehr Neuigkeiten auf den verschiedenen Messen v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n spricht über die Anforderungen an A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shalb gibt es viele Ty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otoren nach der Arb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Rectangle 3" descr=""/>
          <p:cNvPicPr/>
          <p:nvPr/>
        </p:nvPicPr>
        <p:blipFill>
          <a:blip r:embed="rId1"/>
          <a:stretch/>
        </p:blipFill>
        <p:spPr>
          <a:xfrm>
            <a:off x="2050920" y="1413000"/>
            <a:ext cx="2225880" cy="4824360"/>
          </a:xfrm>
          <a:prstGeom prst="rect">
            <a:avLst/>
          </a:prstGeom>
          <a:ln w="0">
            <a:noFill/>
          </a:ln>
        </p:spPr>
      </p:pic>
      <p:pic>
        <p:nvPicPr>
          <p:cNvPr id="59" name="Rectangle 3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51640" y="1700280"/>
            <a:ext cx="2482560" cy="4392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97080" y="2133720"/>
            <a:ext cx="156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1-Ansau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2-Verdich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3-Zü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4-Aussto</a:t>
            </a:r>
            <a:r>
              <a:rPr b="1" lang="el-GR" sz="1800" spc="-1" strike="noStrike">
                <a:solidFill>
                  <a:srgbClr val="333399"/>
                </a:solidFill>
                <a:latin typeface="Arial"/>
              </a:rPr>
              <a:t>β</a:t>
            </a: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1280" y="128916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iertaktmo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76920" y="1289160"/>
            <a:ext cx="17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weitaktmo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otoren nach dem Kraftsto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toren - Treibst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1) Benzinmo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2) Dieselmo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3) Gasmo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4) Elektromo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5) Wasserstoffmo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6) Solarkraftmo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7) Hybrid-Moto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ucitel</cp:lastModifiedBy>
  <dcterms:modified xsi:type="dcterms:W3CDTF">2011-02-18T07:50:12Z</dcterms:modified>
  <cp:revision>54</cp:revision>
  <dc:subject/>
  <dc:title>POSLOUPNOSTI</dc:title>
</cp:coreProperties>
</file>