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8151F-8DBA-4F13-9061-E57798B93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2DBF-3978-4360-BBB8-5378CEA8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AF31C-4804-4D64-B7E9-ED9FE3301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823F3-9057-45C9-A049-C30CD839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19C23-AD09-46DE-96E7-E159ABD8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7C1F5-2A6A-4FB7-90C8-6DE41444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63DAE-E3A6-4D38-9951-E5FE05DAB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74C8D-5095-44C3-9819-E7F2BD531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1A2EB-672A-4702-A8FD-CFA014753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5720-8E3C-48B5-A0AD-9090D51E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7C7A-835F-49A9-9FD1-8CE3A8EA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B4E0-6D42-4CE0-92D2-707829531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3110-762D-4A59-BF0E-F325CC207F4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8261-C99E-4C97-8B93-4556AB11B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258920" y="549360"/>
            <a:ext cx="6769080" cy="1044360"/>
          </a:xfrm>
          <a:prstGeom prst="rect">
            <a:avLst/>
          </a:prstGeom>
          <a:ln w="0">
            <a:noFill/>
          </a:ln>
        </p:spPr>
      </p:pic>
      <p:sp>
        <p:nvSpPr>
          <p:cNvPr id="42" name=""/>
          <p:cNvSpPr txBox="1"/>
          <p:nvPr/>
        </p:nvSpPr>
        <p:spPr>
          <a:xfrm>
            <a:off x="900000" y="2492280"/>
            <a:ext cx="734400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 HRABAL, HISTORICKÁ  PRÓZA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LITERATURA  JAKO  ZDROJ  ZÁBAVY  A  POZNÁNÍ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1" name=""/>
          <p:cNvSpPr/>
          <p:nvPr/>
        </p:nvSpPr>
        <p:spPr>
          <a:xfrm>
            <a:off x="900000" y="932400"/>
            <a:ext cx="7272360" cy="49849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 - F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JOSEF  NESVAD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aik, vůdčí představitel i mluvčí dnešní vědeckofantastické prózy. Jeho tvorba se vyvíjí od klasické science fiction k útvarům na pomezí vědecké fantastiky, cestopisu a detektivního příběh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rzanova smrt (19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insteinův mozek (19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ýprava opačným směrem (19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středil svůj zájem k „základním otázkám života“ a k člověku dneška a jeho přítomným problémů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jná zpráva z Prahy (197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jobsáhlejší a nejzávažnější dílo – filozoficko – politické - úvahy o vztahu k vlastní zemi, o historickém smyslu social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Zítra vstanu a opařím se čajem (19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Zabil jsem Einsteina, pánové (19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énáře pro známé filmy.</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2" name=""/>
          <p:cNvSpPr/>
          <p:nvPr/>
        </p:nvSpPr>
        <p:spPr>
          <a:xfrm>
            <a:off x="971640" y="1470240"/>
            <a:ext cx="720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6391440"/>
                <a:tab algn="l" pos="6400800"/>
                <a:tab algn="l" pos="7315200"/>
                <a:tab algn="l" pos="8229600"/>
                <a:tab algn="l" pos="9144000"/>
                <a:tab algn="l" pos="10058400"/>
              </a:tabLst>
            </a:pPr>
            <a:r>
              <a:rPr b="1" i="1" lang="en-US" sz="1800" spc="-1" strike="noStrike">
                <a:solidFill>
                  <a:srgbClr val="0066ff"/>
                </a:solidFill>
                <a:latin typeface="Arial"/>
              </a:rPr>
              <a:t>LUDVÍK  SOUČEK</a:t>
            </a:r>
            <a:r>
              <a:rPr b="0" lang="en-US" sz="1800" spc="-1" strike="noStrike">
                <a:solidFill>
                  <a:srgbClr val="0066ff"/>
                </a:solidFill>
                <a:latin typeface="Arial"/>
              </a:rPr>
              <a:t>.</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Bratři černé planety (1969)</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en-US" sz="1800" spc="-1" strike="noStrike">
                <a:solidFill>
                  <a:srgbClr val="000000"/>
                </a:solidFill>
                <a:latin typeface="Arial"/>
              </a:rPr>
              <a:t>Soubor čtyř vědeckofantastických povídek, nejzdařilejší práce – otázky sněžného muže, obřích sépií a mimozemských civilizací.</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Případ jantarové komnaty (1970)</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en-US" sz="1800" spc="-1" strike="noStrike">
                <a:solidFill>
                  <a:srgbClr val="000000"/>
                </a:solidFill>
                <a:latin typeface="Arial"/>
              </a:rPr>
              <a:t>Autor si všímá nacistických krádeží uměleckých předmětů a vývoje německých zbraní za druhé světové války.</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Pevnost bílých mravenců (1972)</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en-US" sz="1800" spc="-1" strike="noStrike">
                <a:solidFill>
                  <a:srgbClr val="000000"/>
                </a:solidFill>
                <a:latin typeface="Arial"/>
              </a:rPr>
              <a:t>O existenci různých forem života ve vesmíru.</a:t>
            </a:r>
            <a:endParaRPr b="0" lang="en-US" sz="1800" spc="-1" strike="noStrike">
              <a:solidFill>
                <a:srgbClr val="000000"/>
              </a:solidFill>
              <a:latin typeface="Arial"/>
            </a:endParaRPr>
          </a:p>
        </p:txBody>
      </p:sp>
      <p:sp>
        <p:nvSpPr>
          <p:cNvPr id="53" name=""/>
          <p:cNvSpPr/>
          <p:nvPr/>
        </p:nvSpPr>
        <p:spPr>
          <a:xfrm flipV="1" rot="10800000">
            <a:off x="971640" y="4517640"/>
            <a:ext cx="7200720" cy="14187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JAN  WEI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ružice a hvězdoplavci (19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ádání o budoucím (19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chycuje psychické problémy dnešního i budoucího člověka. Jeho tvorba je prostoupena obavami o úděl lidstv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4" name=""/>
          <p:cNvSpPr/>
          <p:nvPr/>
        </p:nvSpPr>
        <p:spPr>
          <a:xfrm>
            <a:off x="1769760" y="2170800"/>
            <a:ext cx="5604480" cy="251604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TURA  JAKO  ZDROJ  ZÁBAVY - POZNÁ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OTA  PA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ukla mezi mrakodrapy (19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ná bedna šampaňského (19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hár od Pánaboha (19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yn celerového krále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hádka o Raškovi (1974)</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5" name=""/>
          <p:cNvSpPr/>
          <p:nvPr/>
        </p:nvSpPr>
        <p:spPr>
          <a:xfrm>
            <a:off x="900000" y="932400"/>
            <a:ext cx="7272360" cy="49849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66ff"/>
                </a:solidFill>
                <a:latin typeface="Arial"/>
              </a:rPr>
              <a:t>BOHUMIL  HRAB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erlička na dně (19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ábitelé (19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bírky povídek. Autor sleduje příhody lidí z okraje společnosti, vagabundů, cikánů, pivních přeborníků, ale i dělníků a umělecké bohémy. „Perlička na dně“ – přesvědčení o dobrém jádru lid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ábitel: „Pábitel zpravidla skoro nic nečetl, ale zato se hodně díval a hodně slyšel.Je zaujat svým vnitřním monolog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Taneční hodiny pro starší a pokročilé (19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istorky z doby Rakousko – Uhers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ostřižiny (19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pomínka na svého otce Francina a nezdolného vypravěče strýce Pepina. Ústředním motivem je zde zkracování času a vzdále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Krasosmutnění (197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říliš hlučná samota (19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lavnosti sněženek (197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6" name=""/>
          <p:cNvSpPr/>
          <p:nvPr/>
        </p:nvSpPr>
        <p:spPr>
          <a:xfrm>
            <a:off x="971640" y="1211400"/>
            <a:ext cx="7129440" cy="44362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66ff"/>
                </a:solidFill>
                <a:latin typeface="Arial"/>
              </a:rPr>
              <a:t>RADEK  JOH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M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66ff"/>
                </a:solidFill>
                <a:latin typeface="Arial"/>
              </a:rPr>
              <a:t>VÁCLAV  DUŠ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Tuláci, Panna nebo orel, Druhý dech, Lovec ště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66ff"/>
                </a:solidFill>
                <a:latin typeface="Arial"/>
              </a:rPr>
              <a:t>JAN  WE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Italské prázdni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Cestopisné reportáže z cesty po Itálii a Rakous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Fimfá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oderní variace pohádkových motivů, boj proti lidské hlouposti  –  podle J. Wericha  –  „největší nepřítel člověk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7" name=""/>
          <p:cNvSpPr/>
          <p:nvPr/>
        </p:nvSpPr>
        <p:spPr>
          <a:xfrm>
            <a:off x="971640" y="2172600"/>
            <a:ext cx="7200720" cy="25160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MIROSLAV  HORNÍČ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bře utajené hous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bor čtyřiadvaceti fejetonů – humorné příběhy z rodinného živo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v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Úvahy o divadle, televizi, filmu, smíchu … Vznikly z Hovorů 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vize + divadlo A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3" name=""/>
          <p:cNvSpPr/>
          <p:nvPr/>
        </p:nvSpPr>
        <p:spPr>
          <a:xfrm>
            <a:off x="971640" y="1351080"/>
            <a:ext cx="7200720" cy="4161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HISTORICKÝ  ROM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66ff"/>
                </a:solidFill>
                <a:latin typeface="Arial"/>
              </a:rPr>
              <a:t>VLADIMÍR  NEFF (1909 – 1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od mládí projevoval nechuť pracovat v dědově a otcově železářstv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 studiích, v roce 1935, nastupuje do nakladatelství Melantrich jako cizojazyčný lek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 roku 1939, po úspěchu prvotin, zvolil dráhu umělce na volné noze. Stává se i filmovým scénáristou. Od komunistického režimu si udržoval odstup, přesto mu byl udělen titul – národní uměl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den z nejvýznamnějších epiků české prózy 20. století. Autor parodií na detektivky, psychologických studií měšťácké malosti, dobrodružných a pseudohistorických román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4" name=""/>
          <p:cNvSpPr/>
          <p:nvPr/>
        </p:nvSpPr>
        <p:spPr>
          <a:xfrm>
            <a:off x="971640" y="1343160"/>
            <a:ext cx="7200720" cy="4161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Lidé v tógách (1934)</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bor malých próz, převážně parodií na detektivky.</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rpnovští páni (1953)</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mán z přelomu 13. a 14. století.</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ňatky z rozumu</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entalogie, která líčí vzestup a úpadek ideálů, činů a majetku měšťanské třídy, reprezentované rody Bornů a Nedobylů (od konce 50. let 19. století do roku 1945). Jednotlivé díly se jmenují:</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ňatky z rozumu (1957)</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Císařské fialky (1958)</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Zlá krev (1959)</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Veselá vdova (1961)</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Královský vozataj (1963)</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ětšina postav je autentická, seznámíme se s představiteli dějin českého národa (A. Dvořák, E. Destinnová).</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5" name=""/>
          <p:cNvSpPr/>
          <p:nvPr/>
        </p:nvSpPr>
        <p:spPr>
          <a:xfrm>
            <a:off x="971640" y="801000"/>
            <a:ext cx="7200720" cy="52592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Trampoty pana Humbla (19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mán, v němž se snaží znázornit v postavě pana Humla „malého českého člověka, který je ochoten přizpůsobit se každému režimu od Rakouska po komunismus, román je napsán formou zpovědi hlavního hrdiny, který se lituje, přestože je ve svém pochlebování nebezpečný i pro své přát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Královny nemají no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rsten Borgi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Krásná čaroděj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mánová trilogie, postava Petra Kukaně z Kukaně má být jakýmsi českým baronem Prášilem, jehož hlavním cílem je též uniknout před jakýmikoli nástrah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Roucho pana de Balz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obyčejný příběh obyčejného středoškolského profesora zaujme zejména jako vtipná variace na stevensonovské téma pana Hydea a dr. Jeky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6" name=""/>
          <p:cNvSpPr/>
          <p:nvPr/>
        </p:nvSpPr>
        <p:spPr>
          <a:xfrm>
            <a:off x="971640" y="2034720"/>
            <a:ext cx="7200720" cy="27903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OLDŘICH  DANĚ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tik, filmový scénárista, autor her jevištních, rozhlasových i televizních, romanopis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rál utíká z bo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ba panování Jana Lucemburské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rál bez přil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vní protagonista – král Václav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7" name=""/>
          <p:cNvSpPr/>
          <p:nvPr/>
        </p:nvSpPr>
        <p:spPr>
          <a:xfrm>
            <a:off x="971640" y="934200"/>
            <a:ext cx="7200720" cy="4984920"/>
          </a:xfrm>
          <a:prstGeom prst="rect">
            <a:avLst/>
          </a:prstGeom>
          <a:noFill/>
          <a:ln w="0">
            <a:noFill/>
          </a:ln>
        </p:spPr>
        <p:style>
          <a:lnRef idx="0"/>
          <a:fillRef idx="0"/>
          <a:effectRef idx="0"/>
          <a:fontRef idx="minor"/>
        </p:style>
        <p:txBody>
          <a:bodyPr lIns="90000" rIns="90000" tIns="46800" bIns="0" anchor="ctr">
            <a:spAutoFit/>
          </a:bodyPr>
          <a:p>
            <a:pPr>
              <a:tabLst>
                <a:tab algn="l" pos="0"/>
                <a:tab algn="l" pos="449280"/>
                <a:tab algn="l" pos="6391440"/>
                <a:tab algn="l" pos="6400800"/>
                <a:tab algn="l" pos="7315200"/>
                <a:tab algn="l" pos="8229600"/>
                <a:tab algn="l" pos="9144000"/>
                <a:tab algn="l" pos="10058400"/>
              </a:tabLst>
            </a:pPr>
            <a:r>
              <a:rPr b="1" i="1" lang="cs-CZ" sz="1800" spc="-1" strike="noStrike">
                <a:solidFill>
                  <a:srgbClr val="0066ff"/>
                </a:solidFill>
                <a:latin typeface="Arial"/>
              </a:rPr>
              <a:t>JARMILA  LOUKOTKOVÁ</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cs-CZ" sz="1800" spc="-1" strike="noStrike">
                <a:solidFill>
                  <a:srgbClr val="000000"/>
                </a:solidFill>
                <a:latin typeface="Arial"/>
              </a:rPr>
              <a:t>Spisovatelka, dramatička a překladatelka. Tématem jsou vždy osudy výjimečného jedince v dějinách – muž činu, který zasahuje do dějin a svou epochu v jistém směru předběhl – proto musí skončit tragicky.</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cs-CZ" sz="1800" spc="-1" strike="noStrike">
                <a:solidFill>
                  <a:srgbClr val="ff0000"/>
                </a:solidFill>
                <a:latin typeface="Arial"/>
              </a:rPr>
              <a:t>Není římského lidu (1949)</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cs-CZ" sz="1800" spc="-1" strike="noStrike">
                <a:solidFill>
                  <a:srgbClr val="000000"/>
                </a:solidFill>
                <a:latin typeface="Arial"/>
              </a:rPr>
              <a:t>První vyzrálé dílo – osudy básníka Petronia za vlády císaře Nerona.</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cs-CZ" sz="1800" spc="-1" strike="noStrike">
                <a:solidFill>
                  <a:srgbClr val="ff0000"/>
                </a:solidFill>
                <a:latin typeface="Arial"/>
              </a:rPr>
              <a:t>Spartakus (1950)</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cs-CZ" sz="1800" spc="-1" strike="noStrike">
                <a:solidFill>
                  <a:srgbClr val="000000"/>
                </a:solidFill>
                <a:latin typeface="Arial"/>
              </a:rPr>
              <a:t>Román zachycující nejmohutnější vzpouru otroků ve starověku.</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cs-CZ" sz="1800" spc="-1" strike="noStrike">
                <a:solidFill>
                  <a:srgbClr val="ff0000"/>
                </a:solidFill>
                <a:latin typeface="Arial"/>
              </a:rPr>
              <a:t>Smrtí boj nekončí (1957)</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cs-CZ" sz="1800" spc="-1" strike="noStrike">
                <a:solidFill>
                  <a:srgbClr val="000000"/>
                </a:solidFill>
                <a:latin typeface="Arial"/>
              </a:rPr>
              <a:t>Volné pokračování románu Spartakus.</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cs-CZ" sz="1800" spc="-1" strike="noStrike">
                <a:solidFill>
                  <a:srgbClr val="ff0000"/>
                </a:solidFill>
                <a:latin typeface="Arial"/>
              </a:rPr>
              <a:t>Navzdory básník zpívá (1957)</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cs-CZ" sz="1800" spc="-1" strike="noStrike">
                <a:solidFill>
                  <a:srgbClr val="000000"/>
                </a:solidFill>
                <a:latin typeface="Arial"/>
              </a:rPr>
              <a:t>Nejúspěšnější román, hlavní hrdina Francois Villon, básník lidské bídy a vzdoru, mluvčí těch, kdo patřili ve feudální společnosti k opovrhovaným.</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cs-CZ" sz="1800" spc="-1" strike="noStrike">
                <a:solidFill>
                  <a:srgbClr val="ff0000"/>
                </a:solidFill>
                <a:latin typeface="Arial"/>
              </a:rPr>
              <a:t>Pod maskou smích (1977)</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cs-CZ" sz="1800" spc="-1" strike="noStrike">
                <a:solidFill>
                  <a:srgbClr val="ff0000"/>
                </a:solidFill>
                <a:latin typeface="Arial"/>
              </a:rPr>
              <a:t>Doma lidé umírají (198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8" name=""/>
          <p:cNvSpPr/>
          <p:nvPr/>
        </p:nvSpPr>
        <p:spPr>
          <a:xfrm>
            <a:off x="1050120" y="1073520"/>
            <a:ext cx="7043400" cy="47106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66ff"/>
                </a:solidFill>
                <a:latin typeface="Arial"/>
              </a:rPr>
              <a:t>MILOŠ  VÁCLAV  KRATOCHVÍ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zaik, autor historických próz, filmových scénářů, divadelních 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Král obléká halenu (19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mán o Václavu I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ochodeň (19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Mistr Jan (195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itské ro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yl autorem scénářů pro filmovou trilog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Jan H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Jan Žiž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Proti vš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Evropa tančila valčík (19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Evropa v zákopech (19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logie, zachycení atmosféry první světové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49" name=""/>
          <p:cNvSpPr/>
          <p:nvPr/>
        </p:nvSpPr>
        <p:spPr>
          <a:xfrm>
            <a:off x="936720" y="1760040"/>
            <a:ext cx="7270200" cy="3339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TURA  FAK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MIROSLAV  IVANO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zaik, scénárista, reportér a autor knih pro dě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jemství RKZ (19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Záhada Rukopisu královédvorského (19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ůvěrná zpráva o Karlu Hynku Máchovi (19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r se soustředil na posledních třináct dnů života známého básní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dy umírá vojevůdce (1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iha o záhadách spjatých s osobností Jana Žižky z Trocnov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50" name=""/>
          <p:cNvSpPr/>
          <p:nvPr/>
        </p:nvSpPr>
        <p:spPr>
          <a:xfrm>
            <a:off x="971640" y="1625400"/>
            <a:ext cx="7200720" cy="3613320"/>
          </a:xfrm>
          <a:prstGeom prst="rect">
            <a:avLst/>
          </a:prstGeom>
          <a:noFill/>
          <a:ln w="0">
            <a:noFill/>
          </a:ln>
        </p:spPr>
        <p:style>
          <a:lnRef idx="0"/>
          <a:fillRef idx="0"/>
          <a:effectRef idx="0"/>
          <a:fontRef idx="minor"/>
        </p:style>
        <p:txBody>
          <a:bodyPr lIns="90000" rIns="90000" tIns="46800" bIns="0" anchor="ctr">
            <a:spAutoFit/>
          </a:bodyPr>
          <a:p>
            <a:pPr>
              <a:tabLst>
                <a:tab algn="l" pos="0"/>
                <a:tab algn="l" pos="449280"/>
                <a:tab algn="l" pos="6391440"/>
                <a:tab algn="l" pos="6400800"/>
                <a:tab algn="l" pos="7315200"/>
                <a:tab algn="l" pos="8229600"/>
                <a:tab algn="l" pos="9144000"/>
                <a:tab algn="l" pos="10058400"/>
              </a:tabLst>
            </a:pPr>
            <a:r>
              <a:rPr b="1" i="1" lang="en-US" sz="1800" spc="-1" strike="noStrike">
                <a:solidFill>
                  <a:srgbClr val="0066ff"/>
                </a:solidFill>
                <a:latin typeface="Arial"/>
              </a:rPr>
              <a:t>LUDVÍK  SOUČEK</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en-US" sz="1800" spc="-1" strike="noStrike">
                <a:solidFill>
                  <a:srgbClr val="000000"/>
                </a:solidFill>
                <a:latin typeface="Arial"/>
              </a:rPr>
              <a:t>Autor vědeckofantastických povídek a románů, literatury faktu, populárně vědních děl, fotografických příruček a monografií.</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Rakve útočí (1976)</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0" lang="en-US" sz="1800" spc="-1" strike="noStrike">
                <a:solidFill>
                  <a:srgbClr val="000000"/>
                </a:solidFill>
                <a:latin typeface="Arial"/>
              </a:rPr>
              <a:t>Nejrůznější pozemské i vesmírné záhady.</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Velké otazníky (1967)</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Nebeské detektivky, senzace a záhady (1971)</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Tušení stínu (1974)</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Tušení souvislosti (1978)</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r>
              <a:rPr b="1" lang="en-US" sz="1800" spc="-1" strike="noStrike">
                <a:solidFill>
                  <a:srgbClr val="ff0000"/>
                </a:solidFill>
                <a:latin typeface="Arial"/>
              </a:rPr>
              <a:t>Otazníky nad hroby (1982)</a:t>
            </a:r>
            <a:endParaRPr b="0" lang="en-US" sz="1800" spc="-1" strike="noStrike">
              <a:solidFill>
                <a:srgbClr val="000000"/>
              </a:solidFill>
              <a:latin typeface="Arial"/>
            </a:endParaRPr>
          </a:p>
          <a:p>
            <a:pPr>
              <a:tabLst>
                <a:tab algn="l" pos="0"/>
                <a:tab algn="l" pos="449280"/>
                <a:tab algn="l" pos="639144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Šance pro všechny CZ.1.07/1.2.06/02.0012</a:t>
            </a: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3:47:30Z</dcterms:created>
  <dc:creator>ucitel</dc:creator>
  <dc:description/>
  <dc:language>en-US</dc:language>
  <cp:lastModifiedBy>hula</cp:lastModifiedBy>
  <dcterms:modified xsi:type="dcterms:W3CDTF">2012-02-27T10:10:03Z</dcterms:modified>
  <cp:revision>83</cp:revision>
  <dc:subject/>
  <dc:title>POSLOUPNOSTI</dc:title>
</cp:coreProperties>
</file>