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136-40C9-4E3C-B3ED-6BFCCB6D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30B-7859-4B9A-9DD2-9FD9A8C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977-5200-4645-8D7E-41E9DCA2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A9B-E2A0-4133-9BF8-ECA6C214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EC0-3C0E-4FD3-A3FC-0506038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B89-680D-4649-9F19-D55EED4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E6C-C529-441F-A06D-FA191D3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6DF-EEC9-4ADA-B87E-5BBC7FF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66F-ED52-4285-92CA-986D20B8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F22-D5E9-42FF-8A88-B9EF3C6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3AC-4B4D-4336-B625-EC42D81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176-0A94-4479-A782-C67A5AC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92D-02E7-40A7-A0B6-BF93619EDF3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F63-0D65-43D7-A417-0E25F1E4A9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243080" y="2421000"/>
            <a:ext cx="7056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PRVNÍ  A  DRUHÉ  OBDOBÍ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NÁRODNÍHO  OBROZENÍ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50840" y="5442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ří Hů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727360" y="522936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Dobrovský 1753 - 1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059280" cy="3732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84160" y="1144440"/>
            <a:ext cx="675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brany a br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Obrana jazyka českého proti zlobivým jeho utrhač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lbínova obrana, která nebyla ve své době vydána, přelo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očátku NO do češtiny – K. I. Thám, J. Rul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rus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sali je puristé (purus = čistý), snaha očistit češtinu od cizích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pěšnověd Sýkora z románu F. L. Věk, sestromuž =šva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František Martin Pe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ědec, první profesor českého jazyka na 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Nová kronika čes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měla nahradit Hájkovu k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áclav Matěj Krame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.1789 vydává </a:t>
            </a: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Krameriovy CK pražské poštovní n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ížky lidového čtení – nakladatelství Česká expe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40720" y="1073160"/>
            <a:ext cx="418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áclav Th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rec, dramatik, básní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ladatel divadla Bo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Básně v řeči váz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Břetislav a J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Vlasta a Šár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A. J. Puchma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ladatel české básnické ško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Óda na jazyk če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Óda na Jana Žižku z Troc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3425760" cy="4827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85600" y="1144440"/>
            <a:ext cx="7360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B) 2. etap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Tvůrčí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zvoj básnického a odborného jazyka, slovní zásob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a vlastenectví, vědecká literatura psána česky. V krá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eratuře se uplatňuje preromantis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osef Jungmann (1773 – 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ědec, básník, překladatel, středoškolský profesor – Litoměř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ha, vyučoval zadarmo češtinu, r. 1816 povolena nepovinná če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gymnáziích. Překládal z francouzštiny, angličtiny, němčiny, rušt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Slovník česko – něme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tidílný, 120 000 hesel, s kolektivem na něm pracoval téměř 40 l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jímá ze slovanských jazyků – ruština, polština, slova z nářeč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ivuje starší slova (veleslavínská doba), vlastní slova (nerost, ozvě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82720" y="1073160"/>
            <a:ext cx="299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Historie literatury čes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ázal na Dobrovské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íše současná lit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Slove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vní česká čítank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e z teorie litera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73520" y="90792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971640" y="5661000"/>
            <a:ext cx="36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Jungmann 1773 - 18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476440" y="189000"/>
            <a:ext cx="4040280" cy="5499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19320" y="580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tišek Ladislav Čelakovský 1779 - 18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576600" cy="4943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724120" y="543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tišek Palacký 1798 - 1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554200" y="5589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Jiří Kolár 1812 - 1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158920" y="551664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dní 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96720" y="739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773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ášková T. a kol.: Literatura – přehled středoškolského učiva. Třebíč. PV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87040" y="1144440"/>
            <a:ext cx="735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ÁRODNÍ  OBROZENÍ  (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utváření novodobého národa, kladení základů novodob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rodní kultury a vzkříšení národa. Ideologie NO byla podpoř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ouzským osvícenstvím a stavěla na myšlenkách demokra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rodního sebevědomí a slovanské vzájem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říč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olečenský vývoj a rozvoj kapitalistických výrobní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77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rušení jezuitství – konec cenzury, monopolu na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7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leranční patent – návrat vzdělanců z emigrace – nábožens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oboda nekatolickým vy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7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rušení nevolnictví – příliv českého obyvatelstva z ven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mě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í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ytvoření soudobého národa s rovnoprávným postavením me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atními evropskými národy, NO má jazykový charak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2440" y="1144440"/>
            <a:ext cx="8168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sitel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eská buržoazie a  inteligence, které se opíraly o venkovský 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ráře, učit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zvíjí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ědecká čin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Královská česká společnost nauk - jazykově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České muzeum (18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tice česká (1831) – rozvoj českého písemn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) vydavatelská čin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Česká expedice – V. M. Krame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ůs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ědecký pro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bhajuje právo národa na samostatnou existen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očištění českých děj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) lidový pro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světa lidu: divadlo, knížky lid. čtení, noviny, buditelé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5960" y="1144440"/>
            <a:ext cx="658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i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žce se prosazovalo v konkurenci německé a italské scé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177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 Kotcích uvedena jednoaktovka Kníže Honz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178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aloženo Stavovské divadlo – česky se hrálo jen zřídk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emiéra opery Don Giovany – dirigoval přímo Moz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178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789 – Bo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ňský trh (Václavské náměst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hradně české divadlo – staré české h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92360" y="961920"/>
            <a:ext cx="5543640" cy="4368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340000" y="5589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ňský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330200"/>
            <a:ext cx="7186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Čtyři období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obrann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lasicismus, osvícenst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0. léta 18. stol. – počátek 19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ozv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věda – jazyk, historie – J. Dobrovský, F. M. Pe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vočeská publicistika – V. M. Krame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vočeská poezie – V. Thám, A. J. Puchma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vočeské divadlo – V. Tham (Bo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tvůrčí fáze – preromant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átek 19.stol. – 20. léta 19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rozv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dovršení jazykovědy – J. Jung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voj novočeské poezie – Kollár, Čelako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erární podělky – rukopisy – Linda, H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adlo – V. K. Klic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0" y="1144440"/>
            <a:ext cx="67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mantism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0. léta – konec 40. let 19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zv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rcholy novočeské poezie – Mácha, 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voj divadla – J. K. T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voj vědy – historie – Pala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znívání romantismu + počátky realism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50. léta 19. s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zv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viny – K.Havlíček Boro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rická poezie – K. Havlíček Boro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vní vrcholy české prózy – B. Němc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eská politika – formování požadavků – 184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úspěch - út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85240" y="1073160"/>
            <a:ext cx="72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) 1. etap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osef Dobrovský (1753 – 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postava 1. etapy NO. Studoval filosofii, teologii. Oblé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do modrého – „MODRÝ  ABBÉ.“ Vychovatel v rodině hrab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stice, sekretář Královské společnosti na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Názory na jazy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ština nemá budoucnost – píše německy, latinsky (česky až na ko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a – několik statí) objekt vědeckého zájmu – zachytit stav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 jazyka zkoumal souběžně s literatur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Zevrubná mluvnice českého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vědecká mluvnice, návaznost na češtinu Kralické b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difikace spisovné jazykové normy, nevěří v budoucnost češt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cc"/>
                </a:solidFill>
                <a:latin typeface="Arial"/>
              </a:rPr>
              <a:t>Německo český 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oudílný, dokumentuje bohatost češtin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8280" y="765000"/>
            <a:ext cx="720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Dějiny českého jazyka a litera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a – prostředek k zjišťování osudů českého jazy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iodizace dějin české litera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počátku do přijetí křesťa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vymření Přemyslovců (13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upálení Husa (14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ástupu Habsburků na č. trůn (15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ba veleslavínská (16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počátku emigrace nekatolíků do Dobrovského souč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zodická re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oměrná prozódie (založena na pravidelném opakování krát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louhých slabik) – neodpovídala přirozené zvukové podobě češt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zvučná prozódie (založena na pravidelném opakování přízvuč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přízvučných slab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akladatel slavisti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dpůrce pravosti RUKOPIS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1-28T21:00:55Z</dcterms:modified>
  <cp:revision>128</cp:revision>
  <dc:subject/>
  <dc:title>POSLOUPNOSTI</dc:title>
</cp:coreProperties>
</file>