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BEFD-3756-4648-8BA6-071A1146B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9092-9619-41C4-808A-6281EE93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AE19-5CF5-4BE4-84B8-1B541B72A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3795-F53A-46E7-BE43-20D982E88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C261-3280-4934-87B6-12C7B654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12BA-58BE-4688-941B-4BF2DEA3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F99A-90B4-4027-B221-DB62F607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E27F-04BA-4FCA-83C1-573D0F55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2EF3-A80C-49E2-B60B-1252C401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77A6-CC0B-4159-A35B-0E0E2219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E616-0CDE-4C8F-B37C-F86048DB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6017-D914-4A46-8510-67DE63CC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AC02-475B-4EB3-8FF2-29AE743CB19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1912-A5BF-4AED-B8B9-751D7B479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loga_bar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3" name="WordArt 9"/>
          <p:cNvSpPr txBox="1"/>
          <p:nvPr/>
        </p:nvSpPr>
        <p:spPr>
          <a:xfrm>
            <a:off x="1042920" y="2492280"/>
            <a:ext cx="727416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ČESKÁ  AVANTGARDA PRVNÍ POLOVINY  20.STOLETÍ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6590520" y="508464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ří Hů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636000" y="620280"/>
            <a:ext cx="185868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SEF  KOP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485440" y="691920"/>
            <a:ext cx="452556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HAIL  ALEXANDROVIČ  ŠOLOCH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26920" y="981000"/>
            <a:ext cx="779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vní světová literatura způsobila v celé Evropě hluboký společenský i duchovní otřes. Zobrazování válečné tematiky si klade za cíl vylíčit válečné hrůzy a varovat před nimi. Řada světově známých spisovatelů se angažuje v protiválečném hnutí.( R.Rolland, H.Barbuss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72320" y="901440"/>
            <a:ext cx="470988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ICH  MARIA  REMARQUE (1898 – 19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348720" y="828360"/>
            <a:ext cx="203688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NOLD  ZWE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349440" y="980640"/>
            <a:ext cx="235260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MAIN  ROL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422520" y="764640"/>
            <a:ext cx="229896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NRI  BARBU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05080" y="901440"/>
            <a:ext cx="268308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NEST  HEMING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704320" y="836280"/>
            <a:ext cx="383364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ROSLAV  HAŠEK (1883 – 192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917800" y="828360"/>
            <a:ext cx="345744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GIONÁŘSKÁ  LIT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5440" y="1483920"/>
            <a:ext cx="208584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DOLF  MED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VOŠ a SPŠ Strakonice</cp:lastModifiedBy>
  <dcterms:modified xsi:type="dcterms:W3CDTF">2011-03-10T12:29:20Z</dcterms:modified>
  <cp:revision>66</cp:revision>
  <dc:subject/>
  <dc:title>POSLOUPNOSTI</dc:title>
</cp:coreProperties>
</file>