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475-E1C4-426F-B095-99FF00E3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A2E-1F9F-4691-9872-D38AB711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CBF-8B70-4DC6-8DA3-B243FDF1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00D-1D44-43EE-9A44-8359F1E6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2E8-AB93-487A-A634-4A6135D9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8B0-7DB0-4F62-B9F3-F4D64A07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A55-746C-43E1-BBF3-F53CAFF8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689-0149-4C32-8402-5B6652FD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364-F60E-4849-BCAD-74BF1CF4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227-5935-4F6E-B81F-DFF6E6E3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EDEE-C9A0-4CFB-9080-EA279314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938-DDEE-4C48-B17B-0EFA1EAA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BB0C-0DEC-499D-99BF-ABFC02C5B08D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FE57-2C3A-40BD-A791-0D5D6722525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Claude_Monet-Waterlilies.jpg" TargetMode="External"/><Relationship Id="rId2" Type="http://schemas.openxmlformats.org/officeDocument/2006/relationships/hyperlink" Target="http://cs.wikipedia.org/wiki/Soubor:Claude_Monet-Waterlilies.jpg" TargetMode="External"/><Relationship Id="rId3" Type="http://schemas.openxmlformats.org/officeDocument/2006/relationships/hyperlink" Target="http://cs.wikipedia.org/wiki/Soubor:Claude_Monet-Waterlilies.jpg" TargetMode="External"/><Relationship Id="rId4" Type="http://schemas.openxmlformats.org/officeDocument/2006/relationships/hyperlink" Target="http://cs.wikipedia.org/wiki/Soubor:Claude_Monet-Waterlilies.jpg" TargetMode="External"/><Relationship Id="rId5" Type="http://schemas.openxmlformats.org/officeDocument/2006/relationships/hyperlink" Target="http://cs.wikipedia.org/wiki/Soubor:Claude_Monet-Waterlilies.jpg" TargetMode="External"/><Relationship Id="rId6" Type="http://schemas.openxmlformats.org/officeDocument/2006/relationships/hyperlink" Target="http://cs.wikipedia.org/wiki/Soubor:Claude_Monet-Waterlilies.jpg" TargetMode="External"/><Relationship Id="rId7" Type="http://schemas.openxmlformats.org/officeDocument/2006/relationships/hyperlink" Target="http://cs.wikipedia.org/wiki/Soubor:Claude_Monet-Waterlilies.jpg" TargetMode="External"/><Relationship Id="rId8" Type="http://schemas.openxmlformats.org/officeDocument/2006/relationships/hyperlink" Target="http://cs.wikipedia.org/wiki/Soubor:Claude_Monet-Waterlilies.jpg" TargetMode="External"/><Relationship Id="rId9" Type="http://schemas.openxmlformats.org/officeDocument/2006/relationships/hyperlink" Target="http://cs.wikipedia.org/wiki/Soubor:Claude_Monet-Waterlilies.jpg" TargetMode="External"/><Relationship Id="rId10" Type="http://schemas.openxmlformats.org/officeDocument/2006/relationships/hyperlink" Target="http://cs.wikipedia.org/wiki/Soubor:Claude_Monet-Waterlilies.jpg" TargetMode="External"/><Relationship Id="rId11" Type="http://schemas.openxmlformats.org/officeDocument/2006/relationships/hyperlink" Target="http://cs.wikipedia.org/wiki/Soubor:Claude_Monet-Waterlilies.jpg" TargetMode="External"/><Relationship Id="rId12" Type="http://schemas.openxmlformats.org/officeDocument/2006/relationships/hyperlink" Target="http://cs.wikipedia.org/wiki/Soubor:Claude_Monet-Waterlilies.jpg" TargetMode="External"/><Relationship Id="rId13" Type="http://schemas.openxmlformats.org/officeDocument/2006/relationships/hyperlink" Target="http://cs.wikipedia.org/wiki/Soubor:Claude_Monet-Waterlilies.jpg" TargetMode="External"/><Relationship Id="rId14" Type="http://schemas.openxmlformats.org/officeDocument/2006/relationships/hyperlink" Target="http://cs.wikipedia.org/wiki/Soubor:Claude_Monet-Waterlilies.jpg" TargetMode="External"/><Relationship Id="rId15" Type="http://schemas.openxmlformats.org/officeDocument/2006/relationships/hyperlink" Target="http://cs.wikipedia.org/wiki/Soubor:Claude_Monet,_Impression,_soleil_levant,_1872.jpg" TargetMode="External"/><Relationship Id="rId16" Type="http://schemas.openxmlformats.org/officeDocument/2006/relationships/hyperlink" Target="http://cs.wikipedia.org/wiki/Soubor:Claude_Monet,_Impression,_soleil_levant,_1872.jpg" TargetMode="External"/><Relationship Id="rId17" Type="http://schemas.openxmlformats.org/officeDocument/2006/relationships/hyperlink" Target="http://cs.wikipedia.org/wiki/Soubor:Claude_Monet,_Impression,_soleil_levant,_1872.jpg" TargetMode="External"/><Relationship Id="rId18" Type="http://schemas.openxmlformats.org/officeDocument/2006/relationships/hyperlink" Target="http://cs.wikipedia.org/wiki/Soubor:Claude_Monet,_Impression,_soleil_levant,_1872.jpg" TargetMode="External"/><Relationship Id="rId19" Type="http://schemas.openxmlformats.org/officeDocument/2006/relationships/hyperlink" Target="http://cs.wikipedia.org/wiki/Soubor:Claude_Monet,_Impression,_soleil_levant,_1872.jpg" TargetMode="External"/><Relationship Id="rId20" Type="http://schemas.openxmlformats.org/officeDocument/2006/relationships/hyperlink" Target="http://cs.wikipedia.org/wiki/Soubor:Claude_Monet,_Impression,_soleil_levant,_1872.jpg" TargetMode="External"/><Relationship Id="rId21" Type="http://schemas.openxmlformats.org/officeDocument/2006/relationships/hyperlink" Target="http://cs.wikipedia.org/wiki/Soubor:Claude_Monet,_Impression,_soleil_levant,_1872.jpg" TargetMode="External"/><Relationship Id="rId22" Type="http://schemas.openxmlformats.org/officeDocument/2006/relationships/hyperlink" Target="http://cs.wikipedia.org/wiki/Soubor:Claude_Monet,_Impression,_soleil_levant,_1872.jpg" TargetMode="External"/><Relationship Id="rId23" Type="http://schemas.openxmlformats.org/officeDocument/2006/relationships/hyperlink" Target="http://cs.wikipedia.org/wiki/Soubor:Claude_Monet,_Impression,_soleil_levant,_1872.jpg" TargetMode="External"/><Relationship Id="rId24" Type="http://schemas.openxmlformats.org/officeDocument/2006/relationships/hyperlink" Target="http://cs.wikipedia.org/wiki/Soubor:Claude_Monet,_Impression,_soleil_levant,_1872.jpg" TargetMode="External"/><Relationship Id="rId25" Type="http://schemas.openxmlformats.org/officeDocument/2006/relationships/hyperlink" Target="http://cs.wikipedia.org/wiki/Soubor:Claude_Monet,_Impression,_soleil_levant,_1872.jpg" TargetMode="External"/><Relationship Id="rId26" Type="http://schemas.openxmlformats.org/officeDocument/2006/relationships/hyperlink" Target="http://cs.wikipedia.org/wiki/Soubor:Claude_Monet,_Impression,_soleil_levant,_1872.jpg" TargetMode="External"/><Relationship Id="rId27" Type="http://schemas.openxmlformats.org/officeDocument/2006/relationships/hyperlink" Target="http://cs.wikipedia.org/wiki/Soubor:Claude_Monet,_Impression,_soleil_levant,_1872.jpg" TargetMode="External"/><Relationship Id="rId28" Type="http://schemas.openxmlformats.org/officeDocument/2006/relationships/hyperlink" Target="http://cs.wikipedia.org/wiki/Soubor:Claude_Monet,_Impression,_soleil_levant,_1872.jpg" TargetMode="External"/><Relationship Id="rId29" Type="http://schemas.openxmlformats.org/officeDocument/2006/relationships/hyperlink" Target="http://cs.wikipedia.org/wiki/Soubor:Claude_Monet,_Impression,_soleil_levant,_1872.jpg" TargetMode="External"/><Relationship Id="rId30" Type="http://schemas.openxmlformats.org/officeDocument/2006/relationships/hyperlink" Target="http://cs.wikipedia.org/wiki/Soubor:Claude_Monet,_Impression,_soleil_levant,_1872.jpg" TargetMode="External"/><Relationship Id="rId31" Type="http://schemas.openxmlformats.org/officeDocument/2006/relationships/hyperlink" Target="http://cs.wikipedia.org/wiki/Soubor:Claude_Monet,_Impression,_soleil_levant,_1872.jpg" TargetMode="External"/><Relationship Id="rId32" Type="http://schemas.openxmlformats.org/officeDocument/2006/relationships/hyperlink" Target="http://cs.wikipedia.org/wiki/Soubor:Claude_Monet,_Impression,_soleil_levant,_1872.jpg" TargetMode="External"/><Relationship Id="rId33" Type="http://schemas.openxmlformats.org/officeDocument/2006/relationships/hyperlink" Target="http://cs.wikipedia.org/wiki/Soubor:ClaudeMonet.jpg" TargetMode="External"/><Relationship Id="rId34" Type="http://schemas.openxmlformats.org/officeDocument/2006/relationships/hyperlink" Target="http://cs.wikipedia.org/wiki/Soubor:ClaudeMonet.jpg" TargetMode="External"/><Relationship Id="rId35" Type="http://schemas.openxmlformats.org/officeDocument/2006/relationships/hyperlink" Target="http://cs.wikipedia.org/wiki/Soubor:ClaudeMonet.jpg" TargetMode="External"/><Relationship Id="rId36" Type="http://schemas.openxmlformats.org/officeDocument/2006/relationships/hyperlink" Target="http://cs.wikipedia.org/wiki/Soubor:ClaudeMonet.jpg" TargetMode="External"/><Relationship Id="rId37" Type="http://schemas.openxmlformats.org/officeDocument/2006/relationships/hyperlink" Target="http://cs.wikipedia.org/wiki/Soubor:ClaudeMonet.jpg" TargetMode="External"/><Relationship Id="rId38" Type="http://schemas.openxmlformats.org/officeDocument/2006/relationships/hyperlink" Target="http://cs.wikipedia.org/wiki/Soubor:ClaudeMonet.jpg" TargetMode="External"/><Relationship Id="rId39" Type="http://schemas.openxmlformats.org/officeDocument/2006/relationships/hyperlink" Target="http://cs.wikipedia.org/wiki/Soubor:ClaudeMonet.jpg" TargetMode="External"/><Relationship Id="rId40" Type="http://schemas.openxmlformats.org/officeDocument/2006/relationships/hyperlink" Target="http://cs.wikipedia.org/wiki/Soubor:ClaudeMonet.jpg" TargetMode="External"/><Relationship Id="rId41" Type="http://schemas.openxmlformats.org/officeDocument/2006/relationships/hyperlink" Target="http://cs.wikipedia.org/wiki/Soubor:ClaudeMonet.jpg" TargetMode="External"/><Relationship Id="rId42" Type="http://schemas.openxmlformats.org/officeDocument/2006/relationships/hyperlink" Target="http://cs.wikipedia.org/wiki/Soubor:ClaudeMonet.jpg" TargetMode="External"/><Relationship Id="rId43" Type="http://schemas.openxmlformats.org/officeDocument/2006/relationships/hyperlink" Target="http://cs.wikipedia.org/wiki/Soubor:ClaudeMonet.jpg" TargetMode="External"/><Relationship Id="rId44" Type="http://schemas.openxmlformats.org/officeDocument/2006/relationships/hyperlink" Target="http://cs.wikipedia.org/wiki/Soubor:ClaudeMonet.jpg" TargetMode="External"/><Relationship Id="rId45" Type="http://schemas.openxmlformats.org/officeDocument/2006/relationships/hyperlink" Target="http://cs.wikipedia.org/wiki/Soubor:Paul_C&#233;zanne_157.jpg" TargetMode="External"/><Relationship Id="rId46" Type="http://schemas.openxmlformats.org/officeDocument/2006/relationships/hyperlink" Target="http://cs.wikipedia.org/wiki/Soubor:Paul_C&#233;zanne_157.jpg" TargetMode="External"/><Relationship Id="rId47" Type="http://schemas.openxmlformats.org/officeDocument/2006/relationships/hyperlink" Target="http://cs.wikipedia.org/wiki/Soubor:Paul_C&#233;zanne_157.jpg" TargetMode="External"/><Relationship Id="rId48" Type="http://schemas.openxmlformats.org/officeDocument/2006/relationships/hyperlink" Target="http://cs.wikipedia.org/wiki/Soubor:Paul_C&#233;zanne_157.jpg" TargetMode="External"/><Relationship Id="rId49" Type="http://schemas.openxmlformats.org/officeDocument/2006/relationships/hyperlink" Target="http://cs.wikipedia.org/wiki/Soubor:Paul_C&#233;zanne_157.jpg" TargetMode="External"/><Relationship Id="rId50" Type="http://schemas.openxmlformats.org/officeDocument/2006/relationships/hyperlink" Target="http://cs.wikipedia.org/wiki/Soubor:Paul_C&#233;zanne_157.jpg" TargetMode="External"/><Relationship Id="rId51" Type="http://schemas.openxmlformats.org/officeDocument/2006/relationships/hyperlink" Target="http://cs.wikipedia.org/wiki/Soubor:Paul_C&#233;zanne_157.jpg" TargetMode="External"/><Relationship Id="rId52" Type="http://schemas.openxmlformats.org/officeDocument/2006/relationships/hyperlink" Target="http://cs.wikipedia.org/wiki/Soubor:Paul_C&#233;zanne_157.jpg" TargetMode="External"/><Relationship Id="rId53" Type="http://schemas.openxmlformats.org/officeDocument/2006/relationships/hyperlink" Target="http://cs.wikipedia.org/wiki/Soubor:Paul_C&#233;zanne_157.jpg" TargetMode="External"/><Relationship Id="rId54" Type="http://schemas.openxmlformats.org/officeDocument/2006/relationships/hyperlink" Target="http://cs.wikipedia.org/wiki/Soubor:Paul_C&#233;zanne_157.jpg" TargetMode="External"/><Relationship Id="rId55" Type="http://schemas.openxmlformats.org/officeDocument/2006/relationships/hyperlink" Target="http://cs.wikipedia.org/wiki/Soubor:Paul_C&#233;zanne_157.jpg" TargetMode="External"/><Relationship Id="rId56" Type="http://schemas.openxmlformats.org/officeDocument/2006/relationships/hyperlink" Target="http://cs.wikipedia.org/wiki/Soubor:Paul_C&#233;zanne_157.jpg" TargetMode="External"/><Relationship Id="rId57" Type="http://schemas.openxmlformats.org/officeDocument/2006/relationships/hyperlink" Target="http://cs.wikipedia.org/wiki/Soubor:Netsurf17_-_Paul_Verlaine.png" TargetMode="External"/><Relationship Id="rId58" Type="http://schemas.openxmlformats.org/officeDocument/2006/relationships/hyperlink" Target="http://cs.wikipedia.org/wiki/Soubor:Netsurf17_-_Paul_Verlaine.png" TargetMode="External"/><Relationship Id="rId59" Type="http://schemas.openxmlformats.org/officeDocument/2006/relationships/hyperlink" Target="http://cs.wikipedia.org/wiki/Soubor:Netsurf17_-_Paul_Verlaine.png" TargetMode="External"/><Relationship Id="rId60" Type="http://schemas.openxmlformats.org/officeDocument/2006/relationships/hyperlink" Target="http://cs.wikipedia.org/wiki/Soubor:Netsurf17_-_Paul_Verlaine.png" TargetMode="External"/><Relationship Id="rId61" Type="http://schemas.openxmlformats.org/officeDocument/2006/relationships/hyperlink" Target="http://cs.wikipedia.org/wiki/Soubor:Netsurf17_-_Paul_Verlaine.png" TargetMode="External"/><Relationship Id="rId62" Type="http://schemas.openxmlformats.org/officeDocument/2006/relationships/hyperlink" Target="http://cs.wikipedia.org/wiki/Soubor:Netsurf17_-_Paul_Verlaine.png" TargetMode="External"/><Relationship Id="rId63" Type="http://schemas.openxmlformats.org/officeDocument/2006/relationships/hyperlink" Target="http://cs.wikipedia.org/wiki/Soubor:Netsurf17_-_Paul_Verlaine.png" TargetMode="External"/><Relationship Id="rId64" Type="http://schemas.openxmlformats.org/officeDocument/2006/relationships/hyperlink" Target="http://cs.wikipedia.org/wiki/Soubor:Netsurf17_-_Paul_Verlaine.png" TargetMode="External"/><Relationship Id="rId65" Type="http://schemas.openxmlformats.org/officeDocument/2006/relationships/hyperlink" Target="http://cs.wikipedia.org/wiki/Soubor:Netsurf17_-_Paul_Verlaine.png" TargetMode="External"/><Relationship Id="rId66" Type="http://schemas.openxmlformats.org/officeDocument/2006/relationships/hyperlink" Target="http://cs.wikipedia.org/wiki/Soubor:Netsurf17_-_Paul_Verlaine.png" TargetMode="External"/><Relationship Id="rId67" Type="http://schemas.openxmlformats.org/officeDocument/2006/relationships/hyperlink" Target="http://cs.wikipedia.org/wiki/Soubor:Netsurf17_-_Paul_Verlaine.png" TargetMode="External"/><Relationship Id="rId68" Type="http://schemas.openxmlformats.org/officeDocument/2006/relationships/hyperlink" Target="http://cs.wikipedia.org/wiki/Soubor:Netsurf17_-_Paul_Verlaine.png" TargetMode="External"/><Relationship Id="rId69" Type="http://schemas.openxmlformats.org/officeDocument/2006/relationships/hyperlink" Target="http://cs.wikipedia.org/wiki/Soubor:Charles_Baudelaire2.jpg" TargetMode="External"/><Relationship Id="rId70" Type="http://schemas.openxmlformats.org/officeDocument/2006/relationships/hyperlink" Target="http://cs.wikipedia.org/wiki/Soubor:Charles_Baudelaire2.jpg" TargetMode="External"/><Relationship Id="rId71" Type="http://schemas.openxmlformats.org/officeDocument/2006/relationships/hyperlink" Target="http://cs.wikipedia.org/wiki/Soubor:Charles_Baudelaire2.jpg" TargetMode="External"/><Relationship Id="rId72" Type="http://schemas.openxmlformats.org/officeDocument/2006/relationships/hyperlink" Target="http://cs.wikipedia.org/wiki/Soubor:Charles_Baudelaire2.jpg" TargetMode="External"/><Relationship Id="rId73" Type="http://schemas.openxmlformats.org/officeDocument/2006/relationships/hyperlink" Target="http://cs.wikipedia.org/wiki/Soubor:Charles_Baudelaire2.jpg" TargetMode="External"/><Relationship Id="rId74" Type="http://schemas.openxmlformats.org/officeDocument/2006/relationships/hyperlink" Target="http://cs.wikipedia.org/wiki/Soubor:Charles_Baudelaire2.jpg" TargetMode="External"/><Relationship Id="rId75" Type="http://schemas.openxmlformats.org/officeDocument/2006/relationships/hyperlink" Target="http://cs.wikipedia.org/wiki/Soubor:Charles_Baudelaire2.jpg" TargetMode="External"/><Relationship Id="rId76" Type="http://schemas.openxmlformats.org/officeDocument/2006/relationships/hyperlink" Target="http://cs.wikipedia.org/wiki/Soubor:Charles_Baudelaire2.jpg" TargetMode="External"/><Relationship Id="rId77" Type="http://schemas.openxmlformats.org/officeDocument/2006/relationships/hyperlink" Target="http://cs.wikipedia.org/wiki/Soubor:Charles_Baudelaire2.jpg" TargetMode="External"/><Relationship Id="rId78" Type="http://schemas.openxmlformats.org/officeDocument/2006/relationships/hyperlink" Target="http://cs.wikipedia.org/wiki/Soubor:Charles_Baudelaire2.jpg" TargetMode="External"/><Relationship Id="rId79" Type="http://schemas.openxmlformats.org/officeDocument/2006/relationships/hyperlink" Target="http://cs.wikipedia.org/wiki/Soubor:Carjat_Arthur_Rimbaud_1872_n2.jpg" TargetMode="External"/><Relationship Id="rId80" Type="http://schemas.openxmlformats.org/officeDocument/2006/relationships/hyperlink" Target="http://cs.wikipedia.org/wiki/Soubor:Carjat_Arthur_Rimbaud_1872_n2.jpg" TargetMode="External"/><Relationship Id="rId81" Type="http://schemas.openxmlformats.org/officeDocument/2006/relationships/hyperlink" Target="http://cs.wikipedia.org/wiki/Soubor:Carjat_Arthur_Rimbaud_1872_n2.jpg" TargetMode="External"/><Relationship Id="rId82" Type="http://schemas.openxmlformats.org/officeDocument/2006/relationships/hyperlink" Target="http://cs.wikipedia.org/wiki/Soubor:Carjat_Arthur_Rimbaud_1872_n2.jpg" TargetMode="External"/><Relationship Id="rId83" Type="http://schemas.openxmlformats.org/officeDocument/2006/relationships/hyperlink" Target="http://cs.wikipedia.org/wiki/Soubor:Carjat_Arthur_Rimbaud_1872_n2.jpg" TargetMode="External"/><Relationship Id="rId84" Type="http://schemas.openxmlformats.org/officeDocument/2006/relationships/hyperlink" Target="http://cs.wikipedia.org/wiki/Soubor:Carjat_Arthur_Rimbaud_1872_n2.jpg" TargetMode="External"/><Relationship Id="rId85" Type="http://schemas.openxmlformats.org/officeDocument/2006/relationships/hyperlink" Target="http://cs.wikipedia.org/wiki/Soubor:Carjat_Arthur_Rimbaud_1872_n2.jpg" TargetMode="External"/><Relationship Id="rId86" Type="http://schemas.openxmlformats.org/officeDocument/2006/relationships/hyperlink" Target="http://cs.wikipedia.org/wiki/Soubor:Carjat_Arthur_Rimbaud_1872_n2.jpg" TargetMode="External"/><Relationship Id="rId87" Type="http://schemas.openxmlformats.org/officeDocument/2006/relationships/hyperlink" Target="http://cs.wikipedia.org/wiki/Soubor:Carjat_Arthur_Rimbaud_1872_n2.jpg" TargetMode="External"/><Relationship Id="rId88" Type="http://schemas.openxmlformats.org/officeDocument/2006/relationships/hyperlink" Target="http://cs.wikipedia.org/wiki/Soubor:Carjat_Arthur_Rimbaud_1872_n2.jpg" TargetMode="External"/><Relationship Id="rId89" Type="http://schemas.openxmlformats.org/officeDocument/2006/relationships/hyperlink" Target="http://cs.wikipedia.org/wiki/Soubor:Carjat_Arthur_Rimbaud_1872_n2.jpg" TargetMode="External"/><Relationship Id="rId90" Type="http://schemas.openxmlformats.org/officeDocument/2006/relationships/hyperlink" Target="http://cs.wikipedia.org/wiki/Soubor:Carjat_Arthur_Rimbaud_1872_n2.jpg" TargetMode="External"/><Relationship Id="rId91" Type="http://schemas.openxmlformats.org/officeDocument/2006/relationships/hyperlink" Target="http://cs.wikipedia.org/wiki/Soubor:Carjat_Arthur_Rimbaud_1872_n2.jpg" TargetMode="External"/><Relationship Id="rId92" Type="http://schemas.openxmlformats.org/officeDocument/2006/relationships/hyperlink" Target="http://cs.wikipedia.org/wiki/Soubor:Carjat_Arthur_Rimbaud_1872_n2.jpg" TargetMode="External"/><Relationship Id="rId93" Type="http://schemas.openxmlformats.org/officeDocument/2006/relationships/hyperlink" Target="http://cs.wikipedia.org/wiki/Soubor:Carjat_Arthur_Rimbaud_1872_n2.jpg" TargetMode="External"/><Relationship Id="rId94" Type="http://schemas.openxmlformats.org/officeDocument/2006/relationships/hyperlink" Target="http://cs.wikipedia.org/wiki/Soubor:Carjat_Arthur_Rimbaud_1872_n2.jpg" TargetMode="External"/><Relationship Id="rId95" Type="http://schemas.openxmlformats.org/officeDocument/2006/relationships/hyperlink" Target="http://cs.wikipedia.org/wiki/Soubor:Sova_portret01.jpg" TargetMode="External"/><Relationship Id="rId96" Type="http://schemas.openxmlformats.org/officeDocument/2006/relationships/hyperlink" Target="http://cs.wikipedia.org/wiki/Soubor:Sova_portret01.jpg" TargetMode="External"/><Relationship Id="rId97" Type="http://schemas.openxmlformats.org/officeDocument/2006/relationships/hyperlink" Target="http://cs.wikipedia.org/wiki/Soubor:Sova_portret01.jpg" TargetMode="External"/><Relationship Id="rId98" Type="http://schemas.openxmlformats.org/officeDocument/2006/relationships/hyperlink" Target="http://cs.wikipedia.org/wiki/Soubor:Sova_portret01.jpg" TargetMode="External"/><Relationship Id="rId99" Type="http://schemas.openxmlformats.org/officeDocument/2006/relationships/hyperlink" Target="http://cs.wikipedia.org/wiki/Soubor:Sova_portret01.jpg" TargetMode="External"/><Relationship Id="rId100" Type="http://schemas.openxmlformats.org/officeDocument/2006/relationships/hyperlink" Target="http://cs.wikipedia.org/wiki/Soubor:Sova_portret01.jpg" TargetMode="External"/><Relationship Id="rId101" Type="http://schemas.openxmlformats.org/officeDocument/2006/relationships/hyperlink" Target="http://cs.wikipedia.org/wiki/Soubor:Sova_portret01.jpg" TargetMode="External"/><Relationship Id="rId102" Type="http://schemas.openxmlformats.org/officeDocument/2006/relationships/hyperlink" Target="http://cs.wikipedia.org/wiki/Soubor:Sova_portret01.jpg" TargetMode="External"/><Relationship Id="rId103" Type="http://schemas.openxmlformats.org/officeDocument/2006/relationships/hyperlink" Target="http://cs.wikipedia.org/wiki/Soubor:Sova_portret01.jpg" TargetMode="External"/><Relationship Id="rId104" Type="http://schemas.openxmlformats.org/officeDocument/2006/relationships/hyperlink" Target="http://cs.wikipedia.org/wiki/Soubor:Sova_portret01.jpg" TargetMode="External"/><Relationship Id="rId10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9"/>
          <p:cNvSpPr txBox="1"/>
          <p:nvPr/>
        </p:nvSpPr>
        <p:spPr>
          <a:xfrm>
            <a:off x="1042920" y="2781360"/>
            <a:ext cx="72741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OČÁTKY MODERNÍHO UMĚNÍ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E  SVĚTĚ  I  V ČECHÁCH 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 2. POL. 19. STOLETÍ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6590520" y="52689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ří Hů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629080" y="8366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aul Ver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347640" y="30780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rokletí básní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3873240" cy="4680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622800"/>
            <a:ext cx="74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 u="sng">
                <a:solidFill>
                  <a:srgbClr val="333399"/>
                </a:solidFill>
                <a:uFillTx/>
                <a:latin typeface="Arial"/>
              </a:rPr>
              <a:t>Charles Baudelaire ( 1821 – 1867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bohaté rodiny, před maturitou vyloučen ze školy, odmítá stálé zaměstnání, hodně cestuje, kritiky, překlady z angličtiny (Poe)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dí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cc0000"/>
                </a:solidFill>
                <a:uFillTx/>
                <a:latin typeface="Arial"/>
              </a:rPr>
              <a:t>sb. Květy z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857)  - překlad Karel Čap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jádření rozporného životního poc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melancholie a skepse x touha po lásce a krá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okující náměty – b. Zdechlina – kontrast: zářivé letní ráno, procházka  s krásnou zbožňovanou ženou x obraz rozkládající se mrš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mys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vot jako jednota lásky a ošklivosti, každá krása končí nicotou x krása uchována duchov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cc0000"/>
                </a:solidFill>
                <a:uFillTx/>
                <a:latin typeface="Arial"/>
              </a:rPr>
              <a:t>sb. Malé básně v pró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ydána roku 1869 – posmrtně -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.Odcizen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tyl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ivita, zamyšlení se nad životem, nad jeho smyslem, nevinnost, idealizuje, nadnáší se nad realistický život, klade důraz na celkový výraz, chce šokovat, přirovnává k tajemným věcem, originalita, pesimismus, autor je odmítán společností, důraz na fantazii čtená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053800" y="83664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Charles Baude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3908520" cy="4535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00000" y="838440"/>
            <a:ext cx="741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 u="sng">
                <a:solidFill>
                  <a:srgbClr val="333399"/>
                </a:solidFill>
                <a:uFillTx/>
                <a:latin typeface="Arial"/>
              </a:rPr>
              <a:t>Jean Arthur Rimbaud ( 1854 – 1891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žský rošťák,“ vychovávala ho jeho nábožensky založená a tyranská matka – vztah k Verlainovi, všechny své verše napsal do konce 19. st. , (píše od 15 do 20 let), nechal se naverbovat – na Jávě dezertuje – jezdí s cirkusem, umírá po amputaci nohy na rakovi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dí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cc0000"/>
                </a:solidFill>
                <a:uFillTx/>
                <a:latin typeface="Arial"/>
              </a:rPr>
              <a:t>sb. Iluminace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. Mé bohém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portrét (tulák a uličník v roztrhaných kalhotách s dírami v kapsách x vnímavý a citlivý pro všechny krásy svě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arakteristika způsobu života prokletých básníků (hmotná bída, tuláctví, bezstarostnost, snivost, splynutí se s přírodou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. Opilý korá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ásník okouzlený a posedlý dálkami a krásami života, ale zároveň si uvědomuje pouto živo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lost volností x touha po jistotě, bezpečí a zakotv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cc0000"/>
                </a:solidFill>
                <a:uFillTx/>
                <a:latin typeface="Arial"/>
              </a:rPr>
              <a:t>sb. Sezóna v pek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205080" y="765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rthur Rimb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2987640" y="1413000"/>
            <a:ext cx="3063960" cy="4636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75600" y="700920"/>
            <a:ext cx="697032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cc0000"/>
                </a:solidFill>
                <a:uFillTx/>
                <a:latin typeface="Arial"/>
              </a:rPr>
              <a:t>ČESKÁ  MODERNA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generace 90.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gramové vystoupení = </a:t>
            </a:r>
            <a:r>
              <a:rPr b="0" i="1" lang="cs-CZ" sz="1800" spc="-1" strike="noStrike" u="sng">
                <a:solidFill>
                  <a:srgbClr val="cc0000"/>
                </a:solidFill>
                <a:uFillTx/>
                <a:latin typeface="Arial"/>
              </a:rPr>
              <a:t>Manifest české moderny</a:t>
            </a:r>
            <a:r>
              <a:rPr b="0" lang="cs-CZ" sz="1800" spc="-1" strike="noStrike">
                <a:solidFill>
                  <a:srgbClr val="cc0000"/>
                </a:solidFill>
                <a:latin typeface="Arial"/>
              </a:rPr>
              <a:t> (18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-"/>
              <a:tabLst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epsá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básníci (Antonín Sova, Josef Svatopluk Machar, Otokar Břez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prozaici (Mrští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 kritici (František Xaver Šal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3363840"/>
            <a:ext cx="396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u="sng">
                <a:solidFill>
                  <a:srgbClr val="cc0000"/>
                </a:solidFill>
                <a:uFillTx/>
                <a:latin typeface="Arial"/>
              </a:rPr>
              <a:t>Umělecké směry v české moderně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realismus – J.S.Ma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symbolismus – A.Sova, O.Břez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 impresionismus – A.S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) dekadence – K.Hlaváč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71640" y="1053000"/>
            <a:ext cx="7559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 u="sng">
                <a:solidFill>
                  <a:srgbClr val="cc0000"/>
                </a:solidFill>
                <a:uFillTx/>
                <a:latin typeface="Arial"/>
              </a:rPr>
              <a:t>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) „Chceme individualitu, volnost slova, bezohlednost…, ne echa cizích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ónů, nechceme realistickou plochou objektivnost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) Rozchod se současnou českou politikou, politikařením a frázem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suzují hejslovanství a kdedom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) Rozchod s ruchovci a lumírov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) Pozornost sociálním problémů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) Odmítnutí živení národnostních a náboženských rozpor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1640" y="824760"/>
            <a:ext cx="79088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ntonín S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ihovník Městské knihovny v Praze, vztah k Marii Kovaříkové. Věnoval jí mnohé básně a povídky. Přecitlivělý, plachý a samotářský člově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í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a) vliv impresionis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b.Květy intimních ná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b.Z mého kra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ávrat k přírodě, útěk před bolestmi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. Olš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raz krajiny poskládán z čichových, sluchových a zrakových vjemů. Zachycení atmosféry a nálady. (sluka = černý bod x sen = zlatý ptá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vliv symbolis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b. Zlomená du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b. Údolí nového králov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b. Dobrodružství odva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. Kdo vám tak zacuchal tmavé vlas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ostná poezie, pocit stárnutí - stesk nad láskou, která přišla pozdě. Chmurné pocity nostalgie vyjádřeny pomocí symbolů (sad = básníkův život, umlklé zvony = uprchlé mládí, spící slunce = blížící se stáří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844360" y="76500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tonín S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348000" y="30780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Česká mod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2824200" cy="4465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00000" y="622440"/>
            <a:ext cx="746136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Josef Svatopluk Ma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itik měšťácké společnosti – kritický realism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úsilí o pravdivé zobrazení skut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kritika pokrytectví, morálky, politiky, církve a postavení ž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 forma (střídmé prostředky, stručnost, úsečnost, ironie, sarkasmus) – vychází z Nerudy a Karla Havlíčka Borovs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matika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) osudy ž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 Zde by měly kvést rů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yrická dramata. Devíti ženám se nenaplnily představy o lásce a štěs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. T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a: monolog ženy, která rezignovala. Kritika společnosti („Každý musí jít za svým, nedívá se po druhém“). Kritika manželství bez citu -  ž vyplývají v něm povinnosti pro ženu a výhody pro muže. Sála omlouvá svého muže, protože jinak by ztratila svoji důstoj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5229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gda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šovaný román. Biblická postava hříšné kajícnice – Luc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1053360"/>
            <a:ext cx="1311300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UMĚLECKÁ  MOD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harakteristické jevy společ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zrychlení životního tempa -  rozvoj techniky, výroby a dopr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zvýšení životní nejistoty -  zesílení konkurenčního bo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rušení mezilidských vztahů, růst sociálních problémů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životní pocit: zklamání, deprese ( konec století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3500640"/>
            <a:ext cx="95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333399"/>
                </a:solidFill>
                <a:uFillTx/>
                <a:latin typeface="Arial"/>
              </a:rPr>
              <a:t>Odraz v umě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) individualismus (důraz na tvůrčí svobodu umělce, original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osobitost jeho tvorby a projev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) rychlé střídání uměleckých směrů (impresionismus, symbolism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) protispolečenské, hlavně protiměšťanské 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) bohémství (uvolněný životní styl, recese, dobrodruž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z konvence, touha po nezávislos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71640" y="1111680"/>
            <a:ext cx="72547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) kritika měšťá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Confiteor I-III </a:t>
            </a:r>
            <a:r>
              <a:rPr b="0" lang="cs-CZ" sz="1800" spc="-1" strike="noStrike">
                <a:solidFill>
                  <a:srgbClr val="cc0000"/>
                </a:solidFill>
                <a:latin typeface="Arial"/>
              </a:rPr>
              <a:t>(z lat. vyznávám 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é dílo má podobu zpovědi - rozchod se společností, odmítnutí tradiční formy literatury (odmítá mnohomluvnost lumírovců, lakování na „růžovo“) x důraz na prostý jazyk (důraz na samo sdělen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mám rád té poezie, jež jak oslazená voda padá do té mizérie zoufalého století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 Tristum Vindob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obnost s Ovidiem. Kritika politiky tehdejších str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) oslava ant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 V záři helénského slu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. Po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itva u Thermopyl – posel přináší do Sparty zprávy o porážce Řeků – rozmlouvá s matkou jednoho z řeckých vojáků – dává přednost citu vlasteneckému před citem mateřským (Machar nachází v antice vlastenectví, které chybí současníků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053080" y="83664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Josef Svatopluk Ma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411280" y="1341360"/>
            <a:ext cx="2924280" cy="4464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00000" y="759240"/>
            <a:ext cx="758844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Otokar Březina ( 868 – 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čanským jménem Václav Jebavý. Syn obuvníka, stal se učitelem v Nové Říši na Moravě – klášterní knihovna – studium antické, orientální a středověké filosofie. Symbolista světového významu, jeho básně připomínají náboženskou meditaci, bohatství metaf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gický životní poc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mrt obou rodičů (1890) – přecitlivělý, samotářský, citově závislý na matce, neschopný najít si životní partner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ysl lidského snažení vidí v péči o lidskou duš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í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b. Tajemné d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ázev = posmrtný život. Osobní bolestné prožitky – smrt matky, nenaplněná lás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b. Moje ma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čin život (chudý, odříkavý, pokorně přijímající), kontrast v symbol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tiv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mavá léta (pozemská) x světlo, zář, zlatý šíp (posmrtný život), smrt = vysvobození, vykoup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azy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tafory: strom času, plod žití; přirovnání: matka = kajícnice; přívlastky, cizí či knižní sl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910080"/>
            <a:ext cx="720108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 Svítání na zápa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ev = oxymoron (západ = symbol smrti; svítání = vykoupen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. Tys neš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obní situace hrdiny (touha po lásce x zůstala nevyslyšena), pocity smutku, zbytečnosti – překonány vírou v lásku člověka k člově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ymboly v závěru: Srdce, Zrání = duchovní zrání člověka = předpoklad pro změnu ve vztazích mezi lidmi k lepším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stup autorovy skep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 Stavitelé chrá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rám = symbol lidské civilizace. Jeho stavitelé = jedinci pracující duševně – nositelé pokroku – autorův ob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R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rok způsobuje kolektiv lidí, kteří pracují duševně i fyzicky. Spojené ruce = symbol bratrství, vzájemné pomoci, soudržnosti a propojení generací. Zamyšlení se nad smyslem práce básníka: inspiraci nachází a hledá v rodné zemi, její kráse, osudu a histor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205080" y="69228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tokar Břez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2843280" y="1197000"/>
            <a:ext cx="3298680" cy="4824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V="1" rot="10791000">
            <a:off x="971640" y="1197720"/>
            <a:ext cx="7418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Karel Hlaváček ( 1874 – 189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rodil se v rodině chudého dělníka, filosofická fakulta + kurz kreslení na umělecko – průmyslové škole, zemřel na tuberkulózu.Angažoval se v sokolském hnutí, představitel deka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 u="sng">
                <a:solidFill>
                  <a:srgbClr val="cc0000"/>
                </a:solidFill>
                <a:uFillTx/>
                <a:latin typeface="Arial"/>
              </a:rPr>
              <a:t>DEKADENCE</a:t>
            </a:r>
            <a:r>
              <a:rPr b="0" lang="cs-CZ" sz="1800" spc="-1" strike="noStrike" u="sng">
                <a:solidFill>
                  <a:srgbClr val="cc0000"/>
                </a:solidFill>
                <a:uFillTx/>
                <a:latin typeface="Arial"/>
              </a:rPr>
              <a:t>:</a:t>
            </a:r>
            <a:r>
              <a:rPr b="0" lang="cs-CZ" sz="1800" spc="-1" strike="noStrike">
                <a:solidFill>
                  <a:srgbClr val="cc0000"/>
                </a:solidFill>
                <a:latin typeface="Arial"/>
              </a:rPr>
              <a:t>  (z franc. décadence = úpadek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ýraz původně sloužil jako souhrnné, hanlivé označení zejména francouzské poezie konce 19.stol., která se pohrdavě stavěla k dobové měšťanské kultuře a k jejím tradicí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ři demonstrovali rozchod se společností i s uměním – důvod – neřešitelná mravní krize. Převažují motivy únavy, skepse, smr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oblibou sahala po tabuizovaných tématech: erotika, morbidita, poetizace násilí a zla, neuctivý vztah k Bohu, oslava Satana a kult smr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71640" y="868680"/>
            <a:ext cx="69879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í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b. Pozdě k rá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ajina na přechodu noci a dne, přírodní obrazy = symboly básníkova nitra a nálad, dekadentní pocity melancholie, smutku, únavy, mar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b. Mstivá kantilé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. Hrál kdosi na hob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y: hráč = aut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boj = smutek, zklamán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a na pobřeží = samo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eň = naděje a touha přiblížit se lid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ál a pastevec = odcizení se od li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135960" y="69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arel Hlaváč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2877840" cy="4680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71640" y="910080"/>
            <a:ext cx="739908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rantišek Xaver Šalda (1867 – 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jvětší český literární kritik. Posouzení: 1. a 2. generace 90. let, proletářská poezie, básnická avantga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Noviná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asopis Tvorba (20. lé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pisník (1928 – 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Kri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ej: prozaický útvar na rozhraní odborného a uměleckého styl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éma: kulturní, filosofické – bohatý jazyk, osobitý pohled na problém, náročný slovník a skladba, expresivní prostřed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oje o zítř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ázory na lit. kritiku a požadavky na literární tvorbu –  eseje o Máchovi, Sovovi, Nerudovi, Němcové, Svobodové, Nová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uše a dí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názory na lit. kritiku a požadavky na literární tvorbu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Pravdivost a opravdovost, osobitost, právo na individuální vidění – nepodřizovat se šablonám, schématům a konvencím, umění má být odrazem reality, umělec má překonávat stereotyp vidění, vnímání, nacházet stále něco nového, překonávat všednost a fád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71640" y="910080"/>
            <a:ext cx="735336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Vilém Mršt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l na Moravě, hlavní propagátor realismu a naturalismu. Existenční problémy, brzký rozpad České moderny, choroba – sebevraž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el se na proměnách tehdejší prózy a dramatu tzv.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lyr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de o líčení děje, ale jde především o zachycení a zobrazení hrdinových vnitřních stavů, prožitků, myšlenek, nálad, dojmů a pocit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Pohádka má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 – mladý pražský student přichází na venkov. Zde upoutá jeho pozornost naivní a upřímná dívka. Počáteční bohémský flirt ustupuje hlubokému citu – šťastný kon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anta Lu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ev podle známé italské písně o lásce k městu Neapoli.Jde vš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lásku k Praze. Venkovský mladík přichází do vytouženého města. V tvrdé realitě velkoměsta brzy vystřízliví ze svých životních snů. Nakonec onemocní tuberkulózou a záhy umírá. Retrospek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00000" y="765000"/>
            <a:ext cx="7417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Myšlenkové smě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) Nihilismus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(z lat. voluntas = n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yšlenkový směr vyjadřující přesvědčení, že nic na světě nem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bsolutní hodnotu nebo platnost.Toto téma se poprvé obje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německého filosofa Friedricha Nietzscheho, který odmí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bsolutní základ pravdy či dobra, jemuž by byl člověk bezvýhrad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vázán. Nietzsche popřel hodnoty evropské kultury a jako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oucího lidstva proti nim postavil ideu nadčlověka, který je zmí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ůlí k mo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4142160"/>
            <a:ext cx="748836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b) Voluntarismus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(z lat. voluntas = vů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osofický směr pokládající vůli za základní složku poznán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nejvvšší podstatu bytí nebo za rozhodující základ vědom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sychiky. Podle německého filosofa Arthura Schopenhau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vůle k životu prazákladem tohoto svě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059280" y="76500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Vilém Mršt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2676600" cy="4608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71640" y="909360"/>
            <a:ext cx="74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c0000"/>
                </a:solidFill>
                <a:latin typeface="Arial"/>
              </a:rPr>
              <a:t>Protispolečenští buřiči (2. gener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jí blízko k prokletým básníků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.Gellner, F.Šrámek, K.Toman, V.Dyk, S.K.Neumann, P. Bezru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arakteristi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gace současné společnosti – pohrdání, cynismus, revolta v duchu anarchismu, odmítají státní moc, disciplínu, organizovanost, hlásají bezvládí, kult svobodné osobnosti, násilnou cestu přeměně společnosti, v čele S.K.Neumann = anarchistický papež – časopis Nový k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lon od individualismu 1. generace, příklon ke kolektivnímu cítění, přístupná písňová forma, sbližování s dělnickým hnutím, antimilitaristický postoj, vitalistický postoj k životu = důraz na prosté hodnoty života (láska, bezprostřednost, důvěřivost a upřímnost v mezilidských vztazích, prostota životního stylu, kontakt s přírodo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1334520"/>
            <a:ext cx="7004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rovnání s první genera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generace                                  2.gene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ismus                                   kolektivní cít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ivita                                               společenská aktiv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zignace, marnost vzpoury               důraz na vzpo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etická funkce literatury                   důraz na společenskou funk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iv nových uměleckých směrů           poezie prokletých básníků +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ová tra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žitá obrazná pojmenování              přímá pojmen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lečné: upřímnost, otevřenost, touha po plném životě, negace současné společ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71640" y="909720"/>
            <a:ext cx="748980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František Gellner (1881 – 19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vinář (Lidové noviny), kreslíř, básník, zahynul neznámo kde v 1. roce vál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karikatu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nadsázka některých rysů tak, aby bylo dosaženo komického nebo satirického účinku – funkce politická, morál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ás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yrický hrdina: „ Já držím pohár ve své dlani, jež čeká na rty člověka. Já držím pohár ve své dlani: své srdce, které přetéká.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lověk citlivý, nabízející své přátelství a lásku druhým, čekající na přátelskou odezvu x zrazen ve své důvěřivosti, nasazuje si masku člověka lehkomyslného, bez zábran, šokujícím způsobem otevřeného, ironika, cynika. Poezie někdy neuhlazená, hrubá až vulgární (scenérie hospod a předměstí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 Po nás ať přijde pot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 Radosti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772720" y="83664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František Gel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2637000" cy="4494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71640" y="991080"/>
            <a:ext cx="756108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Fráňa Šrámek  (1877 – 19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rodil se v Sobotce, studoval gymnázium v Písku, studium práv, roku 1905 byl uvězněn za účast při studentských demonstrac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za protimilitaristickou báseň Píšou mi psaní. Básník, prozaik, dramati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e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chodisko : vital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 Života bído, přec tě mám rá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duchá písňová forma, hrdina – tulák – radost z pocitu svobody, není omezován konvencí, kontakt s přírod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 Modrý a rud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titul Verše o vojáčcích, protest proti vojenskému dril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drá = barva rakouské uniformy x rudá = barva anarchist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. Zas mě držíš kolem krku, vojno moje mil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iro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. Rapor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e válce trpí i nevinní (motiv umírajícího kon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71640" y="1054080"/>
            <a:ext cx="712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 Spl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az chlapectví s vnímavostí a vnitřními zmatky, hrdina v bezprostředním kontaktu s přírodou, vliv vitalismu, protiválečný postoj, poezie konkrétní, smyslová, bez symbo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ró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tříbrný vít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mpresionistický román je příběhem citového dospívání studenta Ratk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Tělo</a:t>
            </a:r>
            <a:r>
              <a:rPr b="0" lang="cs-CZ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talistický román – oslavuje smyslové okouzlení mladé ž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d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Lé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Měsíc nad ře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vadelní hry ovlivněné impresionis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495600" y="83664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ráňa Šrám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3762360" cy="4254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00000" y="1062000"/>
            <a:ext cx="727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Karel Toman  (1877 – 1946, vl. jménem Antonín Bernáš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klidný, bohémský život (nedostudoval práva), střídání různých míst, časté toulky po Evropě, příslušnost k anarchistickému hnu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í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 Torz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. Píse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a hlavní motiv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červený mák – protest proti pokrytectví, konvenci, vášnivý cit, nespoutanost + rudá barva = protispolečenské g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pomněnka - falešná cudnost, přetvářka, předsudky, sentimentalit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a: stručnost, úsečnost, iro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71640" y="1197000"/>
            <a:ext cx="655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b.Měsí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pozi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básní (měsíce), každá má dvě rov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reálnou – obraz přírodního dění a lidské činnosti v ně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symbolickou – důraz na nějakou hodnotu v životě člověka či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ár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. Ú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tání, skryté probouzení přírody, prameny pod sněhovým příkrov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„…že v zoufalství snad, ve víře však nejsme sami.“ – důraz na naději, solidar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b. Sluneční hodin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ně negace než sbírky předchozí, odmítá moralism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00000" y="581400"/>
            <a:ext cx="720108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 u="sng">
                <a:solidFill>
                  <a:srgbClr val="cc0000"/>
                </a:solidFill>
                <a:uFillTx/>
                <a:latin typeface="Arial"/>
              </a:rPr>
              <a:t>IMPRESIONISMUS </a:t>
            </a:r>
            <a:r>
              <a:rPr b="0" lang="cs-CZ" sz="1800" spc="-1" strike="noStrike">
                <a:solidFill>
                  <a:srgbClr val="cc0000"/>
                </a:solidFill>
                <a:latin typeface="Arial"/>
              </a:rPr>
              <a:t>(z lat. impressio = otisk, doj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ělecký směr, který původně označoval výtvarnou orientaci volné skupiny mladých malířů, kteří se představili v Paříži r. 18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ev je odvozen od obrazu Clauda Moneta Imprese vycházejícího slunce. Impresionismus chce zachytit okamžitý dojem nezkreslený racionálním ani empirickým poznán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u="sng">
                <a:solidFill>
                  <a:srgbClr val="333399"/>
                </a:solidFill>
                <a:uFillTx/>
                <a:latin typeface="Arial"/>
              </a:rPr>
              <a:t>malíř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laude Monet (Dojem, Východ slu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ul Cézanne (Koup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guste Renoir (Lóže, Akt na slun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u="sng">
                <a:solidFill>
                  <a:srgbClr val="333399"/>
                </a:solidFill>
                <a:uFillTx/>
                <a:latin typeface="Arial"/>
              </a:rPr>
              <a:t>spisovatelé ovlivnění impresionism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. Šrámek, A. Sova, V. Mrštík, K. Hlaváček, A. P. Čech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910080"/>
            <a:ext cx="773100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Stanislav Kostka Neumann (1875 – 19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přerušení středoškol. studií se věnuje literatuře. Zakládá anarchistický časopis Nový kult, spolupracuje s Lidovými novinami. Bojuje v 1. svět. válce, v r. 1921 vstupuje do KSČ, v r. 1929 vystupuje proti novému vedení v KSČ v čele s K. Gottwaldem. Prošel vývojem od anarchismu, dekadence a symbolismu přes civilismus a kritický realismus až k proletářské poezii. Bojoval za autonomii + demokracii a sociální reformy – vězení na Bor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 Satanova sláva mezi ná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tan = ztělesnění dekadentní radosti ze zla – symbol společ. vzpou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 Kniha lesů, vod a str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kouzlení krásou přírody a chvála její moudrosti (vitalismus), radost ze života. Jeden z vrcholů české přírodní lyri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 Nové zpě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ět moderní civilizace, technických zázraků, a moderního velkomě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053800" y="83664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nislav Kostka Neu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71640" y="636840"/>
            <a:ext cx="721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Viktor Dyk (1877 – 19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ukončení studia práv pracoval jako novinář. Za svoji literární a politickou činnost byl vězněn (1916 - 191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roce 1925 zvolen za senátora, tragicky zahynul v Jaderském moř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ás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čátky -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dekadence -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cit zklamání ze situace v republ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b. Milá sedmi loupež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ívka z měšťanské rodiny trpí nedostatkem citu, odchází mezi loupežníky, zamiluje se do poutníka, zabit loupežníky, dívka se mst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lada: odpor vůči bezcitnosti společnosti, proti vztahům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eným jen na rozu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naky romantismu: výjimečné prostředí a postavy, protest proti společnosti, motivy smrti, zrady, tragické lásky a pomsty, kontras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naky ULS: opakování slov, refrén, zdrobněliny, citově zabarvená slova, přímá pojmenování, bez básnických prostředk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71640" y="909720"/>
            <a:ext cx="705636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 Satiry a sarkas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bírka poukazuje na nedostatky české pova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 Pohádky z naší ves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ironie: pohádky x ostré útoky na společenské nešvary, vesnice x Praha – funkce: kritika poměr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lastenecká poe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  Válečná tetra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. Země mlu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a: monolog matky = vlast – naléhavé výzvy k národu (= syn), aby bránil svou národní svobodu, nevzdával se ani za cenu největších obětí, nezapomínal na budoucnost a příští gener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mboly: matka, syn, „ neprodej úděl za čočovici“ = biblický motiv ze Starého zákona o Ezanovi, který prodal za talíř čočky své prvorozenectví bratru Jákobo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áseň posilovala národ i za 2. svět. vál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00000" y="622800"/>
            <a:ext cx="755964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proza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Krysa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vela – staroněmecká pověst o krysaři, který z města Hamelu za trest odvedl všechny děti, protože mu radní nechtěli zaplatit za prá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ěj: Krysař = typ romantického hrdiny – bez majetku, bez domova, bez pevných vazeb, beze jména. Zbaví město krys, konšelé odmítnou zaplatit. Krysař se zamiluje do Agnes a kvůli ní chce město ušetřit. Agnes čeká dítě s Kristiánem – člověkem v očích ostatních počestným a zbožným x jen Agnes ví, že Kristian čeká na strýcovu smrt, aby mohl dědit. Agnes se utopí – krysař se mstí – odvádí (píšťala) všechny na horu Koppel. Všichni se zřítí do propasti x rybář, prostomyslný Sepp Jörgen + nemluvně (nezkažení) se zachrání. Rybář hledá ženu, která by dítě nakrmila. Jediný, který neztratil schopnost po lidsku cítit a soucítit = symbol nesmrtelnosti lásky a soucitu. Kritika měšťáckého svě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drama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Zmoudření Dona Quij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moudření“ = přizpůsobení – iro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78520" y="6922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Viktor D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3355920" cy="4656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26920" y="630360"/>
            <a:ext cx="7817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Petr Bezruč (1867 – 1958, vl. jménem Vladimír Vaš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rodil se v Opavě, syn Antonína Vaška – známého buditele, odpůrce pravosti rukopisů, gym. Profesora. Nedokončil studium latiny a řečtiny na FF v Brně. Poštovní úředník – poznání sociálních problém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í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 Slezské pís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básně vycházejí anonymně – časopisecky, nižně 1909. Protispolečenská vzpoura, symboly, jednoduché vyjadřování, iro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matické okruh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ociální útis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Ostrava, Maryčka Magdónova – nový typ sociální balady. Kontrasty: bída horníků x majitel dolů, autor nestranný vypravěč, jinde postava horníka – obžaloba spojená s revolt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árodnostní útisk ze strany Němců a Polá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lada: Kantor Halfar – marná vzpoura proti popolšťování – zůstává stále učitelským mládencem – nemůže se oženit – sebevražda – pochován v rohu hřbitova (ironie – dostal místo).Hovorová + nespisovná češ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lašské nářeč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26920" y="565560"/>
            <a:ext cx="7758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kritika české buržoa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n Palackého – okázalé vlastenectví na vlasteneckých slavnostech v Praze x útisk ve Slezku je nezajímá. Autor burcuje, provokuje x pocit mar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intimní a milostný nám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myšlení nad úlohou básníka: nechce dojímat měšťáky, nechce psát líbivou poezii s kudrlinkami x citlivý, chápavý vztah k slezskému li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. Jen jedenkr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ě čá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Pověst o národu, který se bál nepoznaného a odmítl z nevědomosti naději na lepší živ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Milostný příběh autora: nesmělý, plachý, unavený životem zaskočený příliš velkým štěstím, odmítá lásku krasavice – rezignace na vlastní štěs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li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symbolismus, dekadence, kritický realismus, dynamizující prostředky: oslovení, zvolací a tázací věty, řečnické otázky, dialog – naléhavost (aha?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279600" y="5493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etr Bezru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2484360" y="1125360"/>
            <a:ext cx="3478320" cy="4751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132000" y="54936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ční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539640" y="1268280"/>
            <a:ext cx="7777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ikip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Soubor: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Claud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_Monet-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aterlilie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c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ikip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/Soubor: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Claud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_Monet,_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Impression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,_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soleil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_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levant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,_1872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c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wikip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/Soubor: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ClaudeMonet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c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wikip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/Soubor:Paul_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Cézann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_157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c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wikip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/Soubor:Netsurf17_-_Paul_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Verlain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9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0"/>
              </a:rPr>
              <a:t>c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1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2"/>
              </a:rPr>
              <a:t>wikip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3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4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5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6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7"/>
              </a:rPr>
              <a:t>/Soubor:Charles_Baudelaire2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8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9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0"/>
              </a:rPr>
              <a:t>c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1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2"/>
              </a:rPr>
              <a:t>wikip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3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4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5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6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7"/>
              </a:rPr>
              <a:t>/Soubor: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8"/>
              </a:rPr>
              <a:t>Carjat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9"/>
              </a:rPr>
              <a:t>_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0"/>
              </a:rPr>
              <a:t>Arthur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1"/>
              </a:rPr>
              <a:t>_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2"/>
              </a:rPr>
              <a:t>Rimbaud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3"/>
              </a:rPr>
              <a:t>_1872_n2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4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5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6"/>
              </a:rPr>
              <a:t>c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8"/>
              </a:rPr>
              <a:t>wikip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9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0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1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2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3"/>
              </a:rPr>
              <a:t>/Soubor:Sova_portret01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4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MacharJS192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Brezina_otokar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Bezruc_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Viktor_Dy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Frana_Sramek_192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Gellner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Karel_Hlavacek_189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Vilem_Mrstik_1897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052000" y="83664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Claude Mo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1187280" y="1913040"/>
            <a:ext cx="1619280" cy="22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2"/>
          <a:stretch/>
        </p:blipFill>
        <p:spPr>
          <a:xfrm>
            <a:off x="4932360" y="692280"/>
            <a:ext cx="3065400" cy="235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3"/>
          <a:stretch/>
        </p:blipFill>
        <p:spPr>
          <a:xfrm>
            <a:off x="5076720" y="3429000"/>
            <a:ext cx="2808360" cy="2757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3742200" y="25956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742560" y="56228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kní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421280" y="43592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portr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053440" y="836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aul Céza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2872080" cy="371628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1483920" y="544500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portr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053080" y="83664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uguste Ren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003320" y="1628640"/>
            <a:ext cx="2095560" cy="2762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1396080" y="45086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portr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4788000" y="1125360"/>
            <a:ext cx="2879640" cy="43866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5731920" y="56214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zahra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717840"/>
            <a:ext cx="728676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 u="sng">
                <a:solidFill>
                  <a:srgbClr val="cc0000"/>
                </a:solidFill>
                <a:uFillTx/>
                <a:latin typeface="Arial"/>
              </a:rPr>
              <a:t>SYMBOLISMUS </a:t>
            </a:r>
            <a:r>
              <a:rPr b="0" lang="cs-CZ" sz="1800" spc="-1" strike="noStrike">
                <a:solidFill>
                  <a:srgbClr val="cc0000"/>
                </a:solidFill>
                <a:latin typeface="Arial"/>
              </a:rPr>
              <a:t>(z řec. symbolon = zn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umělecký směr, který vzniká v opozici vůči „ smyslově povrchnímu“ impresionismu a „popisnému“ naturalismu. Základním výrazovým prostředkem se v literatuře stalo nepřímé pojmenování – symbol, náznak, obraz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u="sng">
                <a:solidFill>
                  <a:srgbClr val="333399"/>
                </a:solidFill>
                <a:uFillTx/>
                <a:latin typeface="Arial"/>
              </a:rPr>
              <a:t>symbol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az konkrétního předmětu pro vyjádření abstraktního pojmu. (holubice – symbol klidu, volnosti, nevinnosti, křehkos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mboly na konci století: neustálené, náročné pro vníma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u="sng">
                <a:solidFill>
                  <a:srgbClr val="333399"/>
                </a:solidFill>
                <a:uFillTx/>
                <a:latin typeface="Arial"/>
              </a:rPr>
              <a:t>malíři: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n Preisler (Pohádka, Černé jez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 Švabinský (Chudý kra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00000" y="549360"/>
            <a:ext cx="59785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KLETÍ  BÁS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kupina francouzských básníků 60. – 70.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vzor pro naše dvě gener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5480" y="1774800"/>
            <a:ext cx="8318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 u="sng">
                <a:solidFill>
                  <a:srgbClr val="333399"/>
                </a:solidFill>
                <a:uFillTx/>
                <a:latin typeface="Arial"/>
              </a:rPr>
              <a:t>Paul Verlaine ( 1844 – 1896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stou dobu úředník, spořádané manželství x seznámení se s Rimbaudem – toulky po Francii a Belgii. Rimbauda ze žárlivosti postřelil – konec „vztahu“ s Rimbaudem – vězněn, po návratu do Paříže umírá jako alkoholi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ůkopník synestézie (splývání a míšení vjemů – či spíše počitků z různých smyslových oblastí) v poez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dí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Saturnské ver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. Podzimní píse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kadentní, pesimisticky laděná (pocity osamělosti, marnosti, melancholie, malosti) – motiv housl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ynutí času, pomíjivost života – odbíjení ho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ití eufonie (l, ou) – navozuje pocity smut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ití zvukomalby (i, s) – představa zvuku větru a pocitu bezmocnosti, sam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1-10-08T15:45:13Z</dcterms:modified>
  <cp:revision>102</cp:revision>
  <dc:subject/>
  <dc:title>POSLOUPNOSTI</dc:title>
</cp:coreProperties>
</file>