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D64-C59A-4F49-83F3-F9A3CED9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A96-0FAC-41A8-A8FA-276ACF5C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267-B2BE-4437-B50A-F30DB635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3BC-199C-4923-AF18-BE9CD7F1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CB7-BA5C-4F37-A1B0-BF4129CF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F47-296D-4799-AD1A-AD932A13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D27-2C3F-4AE2-8E43-9F0BAD1F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F26-7D90-40F7-B64F-FD85D3F8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FB5-1F29-4169-8660-55569C83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1F2-BF8F-4205-A4C6-BA00A65A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23A-13D5-4789-8868-1367066E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039-C899-4AC7-A8D8-CA43AF98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1B88-448E-4675-8EC8-56FE550E69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19BE-3036-498D-9136-8D28F7747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26920" y="1916280"/>
            <a:ext cx="741708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OČÁTKY  SVĚTOVÉ  LITERATU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46530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pracoval: Jiří H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01520" y="368280"/>
            <a:ext cx="5764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TICKÁ  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ý věk – 14.stol. př.n.l. – 4 st. n .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řec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9. stol. př. n. l. až 5. stol. n.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říms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3. stol. př. n. l. až 5. stol. n.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40320" y="2205000"/>
            <a:ext cx="7648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ŘECKÁ  LIT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á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ýty): nejstarší výklad svě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a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istence bohů, jejich zasahování do života lid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íra v osud,metamorfó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olog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oubor bájí určitého nár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ozsáhlá epická skladba, volná kompozi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žství odboček, zobrazuje války, hrdins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iny, významné udál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) Lidový e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viz sumerská litera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46520" y="511200"/>
            <a:ext cx="800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99"/>
                </a:solidFill>
                <a:latin typeface="Arial"/>
              </a:rPr>
              <a:t>b) Pololidový e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ILIAS  A  ODYSSE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slepý pěvec Homé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Il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Illion = Trója), 16 000 verš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áje o trojské válce, Hera, Athéna, Afrodita, Paris, He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neláos, Achilles, Agamemnón, Patrokles, He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l. myšlen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oslava statečnosti, přátelství, smy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čest a povinno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6160" y="3897360"/>
            <a:ext cx="71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Odys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ysseovo putování na rodnou Ithaku, 12 000verš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eidon - nástrahy: Polyfémos, Sirény, Kirk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10 letech návrat k Penelopě a Telemacho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99"/>
                </a:solidFill>
                <a:latin typeface="Arial"/>
              </a:rPr>
              <a:t>c) umělý epo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viz římská literatu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39840" y="368280"/>
            <a:ext cx="886788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Řecká ly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) Anakreonská poez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oslava lásky, vína, život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dostí básník Anakreon – 6. st. př. n.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) Milostné ver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ásnířka Sapfó – ostrov Lesbos – Dům mú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) Ó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oslavná báseň na příslušníky řecké aristokra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vítěze olympijských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ásník Pindaros – sborový přednes + hud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) Epi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nápisy na pomníku a listy k dar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tníče, zvěstuj Lakidaimonským, že my tu mrtvi leží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zákony kázaly nám.“ Nápis na pomníku u Thermopy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) Baj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stručný jinotajný příběh, z něhož plyne pou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ířatům, rostlinám a věcem se přisuzují vlastnosti lid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zop – zakladatel bajek (později např. Kryl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27840" y="547560"/>
            <a:ext cx="847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ŘECKÉ  DIVADLO  A  D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Divadl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jeden herec několik rolí,výborná akustik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rci v maskách, vysoké podrážky, jen muž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Dram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vzniká z nábož. slavností boha Dionýsa (ja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ky – jednota místa, času, dě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Žán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géd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náměty z historie, mytologie, hrdin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rození lidé a bohové, spis. jazyk, filosofické neb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rální problémy. Hrdina bojuje proti přesile, osud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itru.Hra končí většinou porážkou nebo smrtí hrd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) Komed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všední náměty, postavy z lidových vrst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aktuálních problémů, humorné ladě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spisovný citově zabarvený jazyk. Zesměšň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orné vlastnosti a společ. nešvary, končí smír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36000" y="376200"/>
            <a:ext cx="88722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Aischylo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zakladatel tragédie, uvedl na scé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ého h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restei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lidské činy mohou soudit jen lid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Sofokl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uvedl na scénu třetího h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ntigo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člověk se má postavit proti zločinu, bezpráví a moc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lnější je ten, kdo v sobě nosí mravní zá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Euripid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zavedl prolog = předmlu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de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štěstí nelze budovat na neštěstí druh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Aristofan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nejslavnější autor komed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ysistrat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protiválečná sat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Plat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nejvýznamnější filosof, psal formou dialo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09800" y="476280"/>
            <a:ext cx="84834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ŘIMSKÁ  LIT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chází z řecké, napodobuje ji, cílem je origin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ac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) d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Titus Maccius Plau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stavitel římské komedie – zamilovaní mladíci, nevěstk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) ep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Publius Vergilius M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eneis – epos líčící hrdinu prchajícího z hořící Tró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) Ly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Publius Ovidius N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nadanější římský básní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43120" y="46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640" y="439560"/>
            <a:ext cx="729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mění milovat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ásnická 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omě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metamorfó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měny lidí v části přírody, většinou trest bo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Arach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roměna v pavou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yramos a Thisb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lody moruše ztmav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iob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plačící ká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Filemón a Baus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roplete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"/>
              </a:rPr>
              <a:t>Marcus Valerius Marti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brazil Řím v epigram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7640" y="7650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6360" y="1628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ilgameshTable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Kamasutra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utenburg_bibl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Abydos_Koenigsliste_Sethos_Ramse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332100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ášková T. a kol.: Literatura – přehled středoškolského učiva. Třebíč. PV 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76360" y="692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NEJSTARŠÍ  KUL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5280" y="1989000"/>
            <a:ext cx="689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 vznikem řecké litera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. a 3. tisíciletí před naším letopoč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odí velkých řek: Eufrat, Tigrid, Indus, Gang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ahmaputra a Čína, Afr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08000" y="404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umerská 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08000" y="944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pos o Gilgameš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08000" y="1700280"/>
            <a:ext cx="44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taroegyptská 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08000" y="2852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dická 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09800" y="3321000"/>
            <a:ext cx="395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hábhá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masútra = Umění mil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08000" y="43290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Čínská 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08000" y="2168640"/>
            <a:ext cx="62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ázkové písmo – stěny chrámů, sarkofá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11240" y="483408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olace –Velká čínská ze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516720" cy="4764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97640" y="57164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lustrace z Kamasú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17920" y="476280"/>
            <a:ext cx="4378320" cy="532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38360" y="596916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os o Gilgameš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03680" y="620640"/>
            <a:ext cx="3128760" cy="496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90720" y="575316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ázka klínového pí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76400" y="571680"/>
            <a:ext cx="6483240" cy="529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2720" y="604044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ázka obrázkového pí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08000" y="333360"/>
            <a:ext cx="33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rabská 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3040" y="76500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án – základní text islá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íc a jedna noc – vyprávění princezny Šeherezá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08000" y="144936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ebrejská 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08000" y="195264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ble = Písmo sva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7600" y="2347920"/>
            <a:ext cx="61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jčtenější kniha na světě, soubor pravi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áboženské víry.Přeložena do 495 jazy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12320" y="3500280"/>
            <a:ext cx="78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rý zák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5 knih, základ židovského 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ět knih Mojžíšových, Knihy proroků, S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27280" y="12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1480" y="37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10520" y="4653000"/>
            <a:ext cx="76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ový zák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27 knih, památky křesťanské litera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 evangelia – život a umučení Ježiše Krista, Sku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poštolů – Kristových žáků, Listy, Zjevení Jano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988920"/>
            <a:ext cx="6769080" cy="4587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91440" y="593244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utenbergova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ABINET-413</cp:lastModifiedBy>
  <dcterms:modified xsi:type="dcterms:W3CDTF">2010-12-09T08:52:26Z</dcterms:modified>
  <cp:revision>74</cp:revision>
  <dc:subject/>
  <dc:title>POSLOUPNOSTI</dc:title>
</cp:coreProperties>
</file>