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73A7-1BDB-42CA-96D0-9802AD85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27C-F87E-4B15-B20E-D6B0A9DE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CD1-3F58-4CE7-96C4-36AA581B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368-7ED4-4F40-809F-3D624EE5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9A3-BF2C-4F07-B439-68A66E20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FCE-0B7B-48A8-BAEB-F933CC8C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6C4-C57C-461D-9780-46B02579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3D7-4773-4BEB-8390-759C013B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D79-809E-458F-93B5-F9B2853C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2AA-2D58-49FB-B350-8824278D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819-B18F-4913-B1DD-7B754E43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540-583B-4869-B7B0-EB2C6141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4A0F-8E2A-494C-A329-D9C73E7E02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B40A-EE6C-4DAD-8128-3F0FFDA76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8/Karolina_Svetl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3/Jakub_Arbes.jpe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c/Jan_Vil&#237;mek_-_Svatopluk_&#268;ech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c/Jan_Vil&#237;mek_-_V&#237;t&#283;zslav_H&#225;lek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0/Jan_Vil&#237;mek_-_Jan_Nerud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2492280"/>
            <a:ext cx="7273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ájovci, ruchovci, lumírovci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90520" y="50846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ří Hů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26920" y="551160"/>
            <a:ext cx="7875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. bás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Hřbitovní kví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sal ji v době Bachova absolutismu pod pseudonymem Janko Hov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nět k napsá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sob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boj o existenci, milostné problémy, smrt otce a pří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polečens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odpor k morálce společnosti a společenské situaci 50-tých let, bolestně cítí sociální nerovnosti, které nesetře ani smrt – blízké romantickému životnímu pocitu: marnost, ztráta iluzí, ideálů, rezignace, zklam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mě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polečens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boj chudých o existenci – skepse, pesim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 „Živil ses, bys jednou mohl zemřít“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lás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pochyby o existenci opravdového citu, láska jako hra plná přetvář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lenka: rozmazlený a úskočný t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lenec: zmatený, rozkolísa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literatu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výsměch „panenské“ literatuře, která utíká od skutečného života, idealizuje – nepříznivá kritika  i ohlas u čtenářů, odmlka v tvorb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34880" y="694440"/>
            <a:ext cx="83851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Knihy verš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niha veršů výpravných – význam pro vývoj sociální ba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. Dědova mí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Kniha veršů lyrických a smíše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tah k otci: nikdy neprojevený, spoutaný rozpaky, neschopností jej vyjádřit navenek chladný od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tah k matce: není komplikovaný, nemá zábrany vyjádřit vřelý cit a lásku, matka je jediný člověk, který mu vytváří záze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tah k Anně Holinové: složitý vztah k „věčné nevěstě“ – komplex sociální méněcen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Kniha veršů časových a příležitost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. Vším jsem byl rá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hled na básníka: řadový člen nár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ztah k národu: ztotožnění se s jeho osudem, přijímá jeho úděl – vyrovnání, hrdost, sebevědomí, vůle překonávat nástrahy osu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droj vyrovnanosti : čisté svědomí, vědomí toho, že vždy jednal čest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40716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b. Písně kosm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spir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vědecké poznatky o vesmíru – úvahy o vesmíru, životě člověka „ Já myslím nebe širé si jak naše Země a při hvězdách si myslím na lidi…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ásnická metoda: paralelismus – vesmír polidšťuje, přibližuje ho člověku, věří, že je v silách člověka poznat jeho zákony a využít je (x Mácha – úcta, strach z vesmíru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b. Prosté moti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imní poezie stárnoucího básníka ( vztah k Aničce Tich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řírodní rám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4 roční období, 4 období lidského života, naznačení průběhu milostného vztahu od nesmělého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návání, okouzlení, vášně, až po ochladnutí c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b. Balady a ro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írá rozdíl mezi baladou a roman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zdíl u Neru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ada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vztahuje se k běžným věcem života (nevěra, nemanželské dítě, sm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m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otýká se otázek politických a národnostn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ámě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národ:    Romance o Karlu IV. – úvahy o charakteru českého nár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biblické:  netradiční pojetí – zlidovění biblických postav, české prostředí, česká jména, humor (B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štědrovečerní, Balada rajská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74840" y="398880"/>
            <a:ext cx="820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b. Zpěvy páte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dáno posmrtně – sestavil Jaroslav Vrchlický, je oslavou národního boje a vzpomínkou na jeho oběti, obsahuje žalozpěvy a hym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áze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elký pátek = den ukřižování Krista = symbol velkého utrpení a bolesti národa, motivy vzkříšení = symbol nadě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jznámější básn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Jen d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zývá k sebevědomí, sounáležitosti, aktivní práci, uskutečnění ideálů demokracie, varuje před sebeuspokojením a zaostáváním za světem, před obracením se do minul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né minulosti nemusí odpovídat slavná přítomnost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Ve lví stop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itika malosti a zakřiknut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lekli jsme se jako národ své vlastní odvahy, jsme dlužni své vlastní historii a pověsti statečného národa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Lá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jí pojetí lásky: a) k matce ( vyrovnal se s její ztrátou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k ženě ( vyrovnal se s její ztrátou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k národu ( = naplnění Nerudova citového živo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be bych, tebe bych nepřežil…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803880"/>
            <a:ext cx="8137440" cy="39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proza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ovídky malostransk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13 povíd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ředí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zavřený svět s vlastními zákony a zvyklostmi, svět poklidný, ale uvnitř se odehrávají dramata, tragédie, svět stereotypů – těžko bychom v Praze hledali čtvrť příznačnější a charakterističtější pro konec stole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itika měšťáctví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mluvy, přetvářka, neústupnost, sobectví, falešná účast, povrchnost, neschopnost přijmout něco nového, pohrdání českým jazykem, honba za majetkem, předstírání citů a ideálních vztahů, rodinná soudrž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ba a míst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0. léta 19. století, Dům U dvou sluncí, Praha a okolí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é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říběhy obyvatel jednoho domu na Malé Straně, vyjádření maloměšťáckého způsobu života a jeho kritika – mistrovské charakterist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4857840"/>
            <a:ext cx="676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víd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ýden v tichém dom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k si pan Vorel nakouřil pěnov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ivedla žebráka na miz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33440" y="4762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arolína Světl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85840"/>
            <a:ext cx="532764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seudonym podle vsi Světlá pod Ještědem, rodiště jejího mu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ím jménem Johana Rott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cházela ze zámožné pražské rod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livnilo jí dílo B.Němcové a George Sandové – emancipace žen – ve svých dílech: žena kladný typ, silný jedinec, přirozeně inteligentní, obětavá, spolehlivá, rozhodná, usiluje o do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tah k J. Nerudo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í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tšinou vesnická próza – Podještědí (ještědské romá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běhy emancipovaných ž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Soubor:Karolina Svetl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557360"/>
            <a:ext cx="1847880" cy="283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716400"/>
            <a:ext cx="777564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esnický rom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vní moderní román v české literatu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lavní myšlenk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ěť = nejvyšší mravní hodnota, děti má vychovávat matka, není-li to možné, o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ěj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želství Antoše Jírovce s vdovou po rychtáři není šťastné. Rychtářka je sobecká, nesnášenlivá, marnivá, na Antoše žárlí a nepečuje o své děti. Na statek přichází do služby Sylva (praktická a obětavá dívka), stará se o děti v době jejich nemoci, kdy je vlastní matka opouští. Sylva a Antoš chtějí spolu žít, ale Antošova matka se staví proti. Sylva se zříká Antoše,když je oba rychtářka prokleje, a odchází do kláštera. Zlomený Antoš umír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Úloha ženy: K.Světlá vychází z vlastní zkušenosti (vztah k Nerudovi), potřeba oběti a odříkání pro mravní obrodu spol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55640" y="694440"/>
            <a:ext cx="78120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Kříž u poto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ě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rotek Evička (vzdělaná a citlivá dívka) se rozhodne sejmout kletbu z rodiny Potockých (žádný muž z této rodiny neměl být v manželství šťastný). Evička se provdá za Štěpána Potockého a kletbu vykupuje velkou láskou, pokorou, trpělivostí a svým vlastním utrpením – zlu se dá čelit láskou a obě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Kantůrč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nefa vysvobodí Otíka, který podlehl svodům velkoměsta – zušlechťující moc lá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Nemodlen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 zobrazuje konflikt mezi láskou a pomst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135240" y="4762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akub Ar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846360"/>
            <a:ext cx="482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jmladší májovec – do almanachu Máj přispěl ještě jako student gymnázia, nedostudoval techniku – věnuje se žurnalistice (Národní listy) – z nich vyhozen pro sympatie k dělnickému hnu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ohatil českou literaturu o nový žánr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mane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název od J.Nerudy).Tato próza je považována za základní kámen české science f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manet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la, která se vyznačuje napínavým dějem a fantastickými či detektivními prvky. obsahuje nepochopitelnou záhadu, která je v závěru racionálně vysvět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ěj slouží jako záminka k popisu jiných problémů: sociálních, etických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ava vypravěče s autobiografickými pr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Soubor:Jakub Arbes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268280"/>
            <a:ext cx="2981160" cy="381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909360"/>
            <a:ext cx="799128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Ďábel na skřipci, Sivooký démon, Ukřižovaná, Etiopská li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vatý Xaveri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jznáměj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ěj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adík Xaverius hledá cestu k pokladu v obrazu svatého Xaveria. Na určeném místě nad Prahou začal kopat, ale poklad nenašel. Vypravěč příběhu – žurnalista – se s nim setkává po letech ve vídeňském vězení, kde je nespravedlivě odsouzen. Než mu může pomoci umírá – utěšuje se tím, že hledání posílilo jeho du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ewtonův mo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íky stroji času mohou hrdinové podniknout cestu do minulosti, aby v ní objevili nikdy nekončící násilí a sociální nespravedl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26920" y="1269360"/>
            <a:ext cx="777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ladá generace básníků a prozaiků, odvozený od almanachu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áj.( 1858 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rganizátorem Vítězslav Hálek, doslov napsal Karel Sabina. Ze starších autorů do almanachu přispěli i K.J.Erben a B.Němcová. Na první straně je domnělá podobizna K.H.Má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ovat a zobrazovat skute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ýbat se negativním jevům (realizm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á témata – sociální probl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znést úroveň české literatury na světovou úroveň (po ideové i umělecké stránce) – kritizováni pro nedostatek vlasteneckého cít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4868640"/>
            <a:ext cx="80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isovatel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n Neruda, Vítězslav Hálek, Karolína Světlá, Jakub Arbes (Václav Šulc, Adolf Heyduk, Rudolf Mayer, Gustav Pfleger Moravsk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5080" y="40464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ájov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71640" y="1485720"/>
            <a:ext cx="741672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 70. a 80. letech 19.st. se literatura diferencuje na dva směry reprezentované dvěma literárními skupinami, které se od sebe liší svým zaměřen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cho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upina spisovatelů kolem almanach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vyšel ku příležitosti položení základního kamene Národníh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ad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ěnovali se aktuálním národním a sociálním problémům, usilovali o osvobození české literatury od cizích vlivů, zdůrazňovali národní tra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sou označováni jak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škola náro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43640" y="476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uchovci a lumírov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34520" y="47628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vatopluk Č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487520"/>
            <a:ext cx="518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hý, samotá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ustil advokátní prá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ěnoval se novinářství a literatu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 80. letech mluvčím národa („Jménem, srdcem stejně Čech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iv otce – vlastenec, milovník kn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Soubor:Jan Vilímek - Svatopluk Če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268280"/>
            <a:ext cx="2455920" cy="367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688320"/>
            <a:ext cx="81360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ep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. námět histor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skladby: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usita na Bal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dam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Žiž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) námět soci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s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ešetínský ková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várnu chce koupit německý podnikatel – vzpoura x neúspěšná – kovář umírá, nevěrohodný závěr – syn nového majitele prodá kovárnu českému zemanovi a ten ženichovi kovářovy že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) námět vlastene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s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e stínu lí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ylický epos, oslava klidného venkovského života, ryzího češství, líbezné české přírody a dobrých sousedských vztahů. Rázovité venkovské postavy vyprávějí své příběhy: hostinská, vysloužilec, kantor, krejčí, mlyná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) námět slovan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gorický epos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lá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ázev lodi plující po Černém moři, veze pasažéry z různých slovanských zemí, posádka se vzbouří – cestující se semknou kolem Rusa a šťastně doplují do přísta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6920" y="549360"/>
            <a:ext cx="72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) námět satir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an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ký opičí král zavádí lidské zvyklosti – kritika bezpáteřnictví úředníků, vychytralosti právníků, neschopnosti lékařů, pedanterie učitelů, pokrytectví církve, bohémství umělců, jejich napodobování geniálních vzor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uman je chycen – zavřen do klece – opičení, které neodpovídá tradicím, končí tragic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998080"/>
            <a:ext cx="770580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Pravý výlet pana Broučka do Měsí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žský měšťák se setkává s Měsíčňany ( říše fantazie ), Brouček neschopen fantazie, Měsíčňané neschopni všímat si reálného svě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Nový epochální výlet pana Broučka, tentokráte do XV. stole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ěj Brouček se ocitá v době husitské den před bitvou na Vítkově, sleduje hlavně svůj prospěch, vydává se za katolíka, pražana, táboritu podle potřeby, málem za to zaplatí živo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837360"/>
            <a:ext cx="774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lyr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írk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ísně otro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gorie – tropická krajina + otroci + otrokáři –útisk sociální i národnostní – výzva k boji, později chápáno jako apel k boji za jakoukoli svob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írk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Jitřní pís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ra v lepší budoucnost českého národa, kterého dosáhne duchovními zbraněmi a pilnou pra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írk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ové pís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55640" y="1629720"/>
            <a:ext cx="424800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ím jménem Alžběta Pech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ákyně K.Světlé, básnířka, kritička, iniciátorka ženského h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kladatelka – Mickiewicz, Byron, Puš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Ze Šumav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bírka intimní a přírodní lyr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breta k operám B.Smetany: </a:t>
            </a: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Hubička, Tajemství, Čertova stě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5240" y="476280"/>
            <a:ext cx="31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liška Krásnohors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Soubor:Jan Vilímek - Eliška Krásnohorská.jpg"/>
          <p:cNvPicPr/>
          <p:nvPr/>
        </p:nvPicPr>
        <p:blipFill>
          <a:blip r:embed="rId1"/>
          <a:stretch/>
        </p:blipFill>
        <p:spPr>
          <a:xfrm>
            <a:off x="5651640" y="1484280"/>
            <a:ext cx="2604960" cy="364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1116360"/>
            <a:ext cx="74167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Lumíro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kupeni kolem časopisu Lumí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azují na májovce, prosazují svobodu básnické tvorby a její světo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těli bohatstvím forem obohatit českou literaturu a smazat rozdíly mezi českou a evropskou literatur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značujeme je jako školu kosmopolit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enovými autory: J.Vrchlický, J.Ze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34880" y="47628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osef Václav Slád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Soubor:Jan Vilímek - Josef Václav Sládek HL.jpg"/>
          <p:cNvPicPr/>
          <p:nvPr/>
        </p:nvPicPr>
        <p:blipFill>
          <a:blip r:embed="rId1"/>
          <a:stretch/>
        </p:blipFill>
        <p:spPr>
          <a:xfrm>
            <a:off x="5724360" y="1413000"/>
            <a:ext cx="2489400" cy="321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 rot="10800000">
            <a:off x="538200" y="1500120"/>
            <a:ext cx="439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ekladatel ( 33 Shakespearových her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ladatel moderní poezie pro d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oří spojnici mezi skupinou ruchovskou a lumírovs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davatel almanachu Ruch se charakterem své tvorby blíží škole národní, ale stává se zastáncem tvorby lumírov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oval přírodní vědy, matematiku, cizí jazyky, literaturu, procestoval Ameriku, po návratu z ciziny redaktor časopisu Lumí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71640" y="415440"/>
            <a:ext cx="7586640" cy="58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básně inspirované pobytem v 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ásn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votina, vyjadř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smutek nad úmrtím manželky i dítěte – deprese, myšlenky na sebevraž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náměty ze života a vymírání amerických indiá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kritika českého politické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lastenecké bás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elské písně,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České znělk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slavuje český venkov, práci sedláka a jeho vztah k rodné zemi, vklád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ěj naději v budoucnost náro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yrika intimní a soci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Na prahu rá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timistický pohled na svět, vním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větlou stop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olečenských otá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ětská lyr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vony a zvo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latý má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křivánčí pís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tip, nenásilné vedení, autor nepoučuje, vychovává příkladem k pracovitosti, lásce a přátelst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34520" y="47628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aroslav Vrchl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Soubor:Jan Vilímek - Jaroslav Vrchlický.jpg"/>
          <p:cNvPicPr/>
          <p:nvPr/>
        </p:nvPicPr>
        <p:blipFill>
          <a:blip r:embed="rId1"/>
          <a:stretch/>
        </p:blipFill>
        <p:spPr>
          <a:xfrm>
            <a:off x="5724360" y="1125360"/>
            <a:ext cx="2481480" cy="3721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6920" y="1626480"/>
            <a:ext cx="4537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lastním jménem Emil Fr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studoval filosofii, vychovatel v Itálii, učitel a profesor na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al 270 knih (z toho180 překladů – z angličtiny, italštiny, francouzšti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kládal z 18 jazyků.V 90.letech – rozpad manželství, působila na něj a útočila mladá generace – mozková mrt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l odvahu zkoušet různé básnické formy mistr so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1205280"/>
            <a:ext cx="792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olečenské pozad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2.pol. 19. stol. je v Rakousku – Uhersku ve znamení rozmachu kapitalismu a po porážce revoluce 1848 nastal Bachův absolutistický režim – policejní perzekuce spojené se snahou zlikvidovat český národní život (cenzur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muto stavu se snažily čelit kulturní iniciativ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ložení deníku Národní listy, Čas, Lumí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okola – Miroslav Tyr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Umělecké besedy – středisko českých umělců, zakladatel V. Hálek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vatoboru – středisko českých umělců, zakladatel F. Pala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evření prozatimního divadla (186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početí stavby Národního divadla (18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767520"/>
            <a:ext cx="831708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Lyr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bdobí průpravné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Z hlu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ásnická prvotina, prozrazuje vliv hořké poezie Nerudova Hřbitovního kvítí, v dalších sbírkách pesimismus miz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Sny o ště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to sbírka vznikla v Itálii – milostná lyrika, optimistická, opojení životem, plná smyslových dojmů. ( návaznost na Hálk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 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bdobí vrchol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Dojmy a rozmary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ásnické sbírky plné radostného pocitu z lásky – k ženě a rodině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Poutí k Eldorádu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ezie odvážná eroti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Eklogy a pís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 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krize – 90. lé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Okna v bouři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odinný rozvrat – milostné zklamání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Písně poutní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Meč Damoklů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ředtucha smrti – počátek 20. st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838080"/>
            <a:ext cx="783612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Ep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Zlomky epop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yklus, ve kterém rozebírá filosofické otázky života – dějiny chápe jako souboj dobra a zla, kladně hodnotí antiku, zavrhuje středověk. Součástí epopeje jsou i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Selské balad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noval je A. Jiráskovi, zachycuje v nich selská povstání ze 16. a 17. st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ra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Noc na Karlštej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Karel IV. odpouští své ženě, že porušila jeho přísný zákaz, protože jednala ve jménu lá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Hyppod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tragédie – čerpá z řecké hist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133440" y="476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ius Ze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Soubor:Julius Zeyer Vilimek.jpg"/>
          <p:cNvPicPr/>
          <p:nvPr/>
        </p:nvPicPr>
        <p:blipFill>
          <a:blip r:embed="rId1"/>
          <a:stretch/>
        </p:blipFill>
        <p:spPr>
          <a:xfrm>
            <a:off x="5580000" y="1413000"/>
            <a:ext cx="2933640" cy="3644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55640" y="1710360"/>
            <a:ext cx="4343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oval literaturu, filosofii, dějiny umění, jazy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l střídavě v Praze a Vodňan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tel Vrchl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itizuje českou společnost a ukazuje slávu české minul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838800"/>
            <a:ext cx="786312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Vyšeh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ické básně – ukazuje bájné počátky našich dějin, čerpá z Hájkovy kroni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Jan Maria Ploj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biografický psychologický román – hlavní postava osamocena – sám autor – hrdinou muž zmítaný touhou po činu a neschopností ho vykon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Dům u tonoucí hvěz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, kde se odráží vnitřní stav J. Zeyera – pesimismus, zoufalst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Radúz a Mahu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amatická báchorka. Radůz, kralevic, přichází do sousední země, kde se mu líbí královská dcera Mahulena. Král Stojmír zde vládne se svojí zlou ženou Runou – ta stojí v cestě Radůzovi – nechá ho přikovat ke skále (prometheovský motiv). Mahulena ho osvobodí, Runa oba prokleje, ale láska nakonec zvítězí. Radůz přikovaný ke skále – obraz zotročeného Slovens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907920"/>
            <a:ext cx="82072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cs.wikipedia.org/wiki/Soubor:Jan_Vil%C3%ADmek_-_V%C3%ADt%C4%9Bzslav_H%C3%A1lek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cs.wikipedia.org/wiki/Soubor:Jan_Vil%C3%ADmek_-_Jan_Nerud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cs.wikipedia.org/wiki/Soubor:Karolina_Svetl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cs.wikipedia.org/wiki/Soubor:Jakub_Arbes.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cs.wikipedia.org/wiki/Soubor:Jan_Vil%C3%ADmek_-_Svatopluk_%C4%8Cech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cs.wikipedia.org/wiki/Soubor:Jan_Vil%C3%ADmek_-_Eli%C5%A1ka_Kr%C3%A1snohorsk%C3%A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cs.wikipedia.org/wiki/Soubor:Jan_Vil%C3%ADmek_-_Josef_V%C3%A1clav_Sl%C3%A1dek_HL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cs.wikipedia.org/wiki/Soubor:Jan_Vil%C3%ADmek_-_Jaroslav_Vrchlick%C3%BD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cs.wikipedia.org/wiki/Soubor:Julius_Zeyer_Vilimek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1080" y="33336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5800" y="4762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Vítězslav Há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6800"/>
            <a:ext cx="543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é první texty publikoval už na gymnáz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i vůli rodičů se nestal farářem, ale pokračoval ve studiu na filosofické fakultě UK – nedostud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l se soukromým učitelem v zámožné rodině advokáta Horáčka – jeho dcera Dorotka se stala Hálkovou životní láskou a později že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 redaktorem Národních listů (rubrika literární a divadel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sal fejetony a redigoval několik časopisů (Kvě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života byl více oceňován než jeho přítel Ner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dně cestoval – Polsko, Itálie, Balkán – cestovní fejet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úspěšný dramatik x zásluhy o postavení Prozatimního divad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ganizátor kultur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átor ruského realismu – Gog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oubor:Jan Vilímek - Vítězslav Hále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413000"/>
            <a:ext cx="2343240" cy="321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261360"/>
            <a:ext cx="8192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Lyr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b. Večern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ís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avní motiv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áska a žena – podstatná součást smyslu života, obohacení člověka, předpoklad štěstí – Dorotka Horáčková = krásná, čistá bytost, je básníkovi souz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  básník a jeho poslání poezie – člověk citlivý, vnímavý, výjimečný (pěvec, prorok), nesmí rezignovat, musí mít odvahu bránit svůj národ, měl by být ctěn, mělo by se mu naslouc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  příroda – nejčastěji životodárná síla jarní přírody, harmonická, dokonalá, čistá a svěží, pocit uklidnění a optimis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má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melodické, prosté, líbivé verše, některé zhudebněny (B.Smetan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422100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b. V přírodě I-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m tématem je filosofická úvaha o vztahu člověka a přírody ( lidská společnost = skepse, příroda je vždy dobrá ). Lidstvo bude zachráněno, „až příroda a člověčenství / se pojmou v svatém objetí“.Básník dává přednost citovému prožitku a navazuje na osvícenského filosofa Jeana-Jacquesa Roussea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23880" y="629280"/>
            <a:ext cx="805176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b. Pohádky z naší ves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cké básně (vyšly po jeho smrti),  zobrazuje venkovské figurky – humorně i tragické osudy – sociálně kritické zabarve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Draž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žba krávy – poslední majetek rodiny. Monolog vdovy (matka pěti dětí) -  vzpomínky na dřívější život – přerušován výkřiky drába (umocňují tíživou situaci matky a vrací ji zpět do skutečnost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415440"/>
            <a:ext cx="820404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. Ep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rostřed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venkov, výjimečně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ámě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mezilidské vztahy narušené peně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) povídky s venkovskou temati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                                                    </a:t>
            </a: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Na statku v chaloup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í do protikladu charakterové vlastnosti a způsob života chudých a bohatý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ěj: Jíra žije s otcem v chaloupce na břehu Vltavy, když otce zastřelili při pytlačení, odchází sloužit na statek, zamiluje se do sedlákovy dcery Lenky. Macecha jejich lásce nepřeje – návrat do chaloupky. Macecha opustí své vlastní dítě – žárlí, závidí, spáchá sebevraždu.Sedlák ctí zákon peněz x Jíra žít v souladu s přírodou, se svým svědomím. Sedlák přijímá Jurův zák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Muzikantská Lidu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ěj: Liduška má ráda Toníka. Rodiče ji chtějí provdat za Krejzu – o něm si myslí, že je bohatý – koná se svatba. Toník odchází na vojnu, Liduška se v kostele odmítá provdat za Krejzu. Zešílí – hledá Toníka, v pomatenosti chodí za potulnými muzikanty – rodiče trpí a svého činu lituj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6920" y="837720"/>
            <a:ext cx="781236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) povídky s městskou temati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Poldík ruma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= povozní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ěj: Poldík se nezištně stará o syna své bývalé lásky, která ho odmítla a kterou otec dítěte opustil – mravní ušlechtilost prostého člově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) dra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Záviš z Falkenštej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Král Vukaší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o jím otevřeno prozatimní diva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38160" y="47628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an Ner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963360"/>
            <a:ext cx="489744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významnější z májovců – básník, novinář, proza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rozen v Praze, dětství na Malé Stra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ec vojenský vysloužilec – majitel traf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ka posluhovačka – citlivý vůči sociální problema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ymnázium, nedokončil filosofii a práva – úředník, suplující učitel, noviná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coval v Národních listech (jako Hál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adostný život – hmotný nedostatek, nechápán, odsuz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ho láska k Anně Holinové nenaplněna, platonický vztah ke Karolíně Svět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ůstal dlouho sám, dlouho nemocný, majetek odkázal své posluhovač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Soubor:Jan Vilímek - Jan Nerud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484280"/>
            <a:ext cx="2633760" cy="35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zak</cp:lastModifiedBy>
  <dcterms:modified xsi:type="dcterms:W3CDTF">2010-11-18T14:30:59Z</dcterms:modified>
  <cp:revision>67</cp:revision>
  <dc:subject/>
  <dc:title>POSLOUPNOSTI</dc:title>
</cp:coreProperties>
</file>