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57E-29BD-4C01-9082-9C61DB33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1FA-A0EF-4021-BE5E-FA1874F7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89F-34CD-4887-82E1-ACCD186C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39E-470C-4EB4-BC91-DCF82D49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D48-4D60-449F-927B-78764DF3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86E-4ABB-4068-B112-25FCC96D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1D2-96E3-41C7-955E-06AF19F8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465-B695-45D8-BDA1-88B813FE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A42-7FEF-40E1-94E4-85C0DC2E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38B-42F3-4705-9137-C7FB9FDE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FC9-96F6-4097-B0D1-9CF11189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A38-9018-4783-9B24-1AA1E85B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3DF-6505-47FC-A932-C2DBEF14CC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1031-BE43-4CC8-875F-F2AB78723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104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1484280"/>
            <a:ext cx="7561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LITERATURA  BAROKNÍHO  OBDOBÍ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  ÚSTNÍ  LIDOVÁ  SLOVESNOS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6966720" y="54500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024080" cy="4968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3228840" cy="4444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6720" y="5321160"/>
            <a:ext cx="33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ter Paul Rubens: Autoportr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9240" y="566100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tr Paul Rubens: Tři Gr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3602160" cy="439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492720" cy="4608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97640" y="54658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el Škréta: Autoportr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11240" y="573408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tr Brandl: Autoportr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86680" y="1144440"/>
            <a:ext cx="669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Čtyři stupně vzdělávání – po šesti le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– 6 let – mateřské – důležitá úloha ma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 -12 let – obecné – v každé větší ul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2 -18 let – latinské – ve větším měs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 -24 let – akademie – každé hlavní mě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stování – dovršení vzděl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Informatorium školy mateř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dílo věnované předškolní výchov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Orbis pictus (Svět v obraz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ilustrovaná učebnice cizích jazyků – čeština, maďaršti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tina, němč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Škola hrou (Schola ludus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učebnice latiny dramatickou form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56000" y="620640"/>
            <a:ext cx="3563640" cy="4751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56000" y="5373720"/>
            <a:ext cx="38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rdinand Brokoff – Karlův mos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. Jan Nepomu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43240" y="1144440"/>
            <a:ext cx="837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BAROKNÍ  LIT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Charakteristika d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62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zpory mezi nekatolickou šlechtou a králem – stavovské povstán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tva na Bílé ho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62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oprava 27 pánů na Staroměstském náměstí – Jan Jesen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6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 Obnovené zřízení zemské – dědičné právo Habsburků na če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ůn, rekatolizace – jediná povolená církev ( římsko-katolick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igrace evangelíků (únik mozků), úřední jazyk – němč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emigrantská lit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an Amos Komenský (1592 – 16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arozen v Nivnici u Uherského Br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českobratrské školy – Přerov, Stráž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univerzity: Herborn, Heidel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kněz a učitel Jednoty brat., vytvořil program české vědy a jejího rozv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48160" y="1144440"/>
            <a:ext cx="7676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6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krývá se na panství Karla ze Žerot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6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 polské Lešno - po vydání Obnoveného zřízení zems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632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 zvolen biskupem a písařem je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641 – 164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žije v Ang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650 -  165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 Maďar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 roku 165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žil v Amsterod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ýká se s evropskými vzdělanci a panovníky, hledá pomoc pro če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rod proti Habsburk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mřel v Amsterodamu – pohřben v Naarde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edagogická d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Didaktika česká (Velká didakt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rčená světové veřejnosti, psána latinsky, vyšla v zahranič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celená soustava zásad moderní pedagogiky – vzdělání, výcho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85240" y="1144440"/>
            <a:ext cx="7030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lavní didaktické zás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dělání pro všech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učování v rodném jazy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ta výuky a výcho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esanční požadavek – jednota všech složek výchovy: estetick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umové, tělesné, mravní – všestranně vzdělaný člově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ůraz na logické myšlení a aktivitu ž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sada názo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řiměřenosti věku a posloupnos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tné působení školy a ro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mítnutí tělesných tres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ládání cizích jazy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jiné způsoby vzdělávání - cest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86680" y="1144440"/>
            <a:ext cx="669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tyři stupně vzdělávání – po šesti le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– 6 let – mateřské – důležitá úloha ma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 -12 let – obecné – v každé větší ul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2 -18 let – latinské – ve větším měs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 -24 let – akademie – každé hlavní mě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stování – dovršení vzděl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atorium školy mateř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dílo věnované předškolní výchov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bis pictus (Svět v obraz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ilustrovaná učebnice cizích jazyků – čeština, maďaršti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tina, němč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kola hrou (Schola ludus) – učebnice latiny dramatickou form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40360" y="1144440"/>
            <a:ext cx="8444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2) Filosoficko – náboženská d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Labyrint světa a ráj srd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Labyrint svě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trá kritika jednotlivých společenských vrstev, důrazné odsouzení vál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stava Komenského o světě (alegorie) jako o velkém městě: širo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lice, obehnáno pevnými zdmi, nad městem světlo, okolo tma, rozděle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ulice, rynky, domy, všude lid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chodní brána – Brána života, na opačné straně Brána rozch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Šest hlavních u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livé stavy: domovní stav, řemeslníci, stav učených, stav duchovní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chnost, rytí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d světa – rynk uprostřed mě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d bohyně Moudrosti – sídlo vědců a uče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lác bohyně Štěsteny – životní ště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78400" y="1144440"/>
            <a:ext cx="7628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lác Fortuny – v přízemí bohatí – nemají klid, bojí se o své bohat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 prvním patře rozkošemi a slávou spoutaní lidé, neumě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e svého bohatství radovat ani ho použít – sob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poutníka – (autor) – je zvídavý, kritický, spoléhá na svůj náz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 uspokojivou činnost – alegorie hledání s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vodci: Všezvěd – alegorie lidské zvída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udybud – alegorie lidsk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mení – alegorie povrchnosti a pohodlnosti – nasaz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tníkovi růžové brýle – snaží se ho omámit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 věří svému roz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Ráj srd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lamání světem - záchrana v návratu do vlastního srdce, život v ústran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ý, pokorný, pas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907920"/>
            <a:ext cx="770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BARO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portugal.Barocco = nepravidelná perla – od pol. 16. stol. (Itál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nělsko) během 17. stol. celá Evropa (u nás 1620 – počátky N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Vliv d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urecká inva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ol. 16. stol. – brzda společnosti a kulturního rozv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icetiletá vá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pory mezi evropskými panovníky = bída, hl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idemie – ztráta víry v lidský roz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pevnění pozice katolické církv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inkvizice, založení jezuitského řá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u 1540 – zesílení víry v Boha, nedůvěra ve vlastní síly, pesimism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lon od pozemsk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Životní náz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yslem je posmrtný život, cit proti rozumu, člověk se odvra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pozemského života, nejdokonalejší bytost je Bůh, člověk ztrácí důvě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své schopnosti a rozum, odklon od přírody, zaměření na vlastní ni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83440" y="1144440"/>
            <a:ext cx="791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enský odchází z tohoto města (světa) – nachází tu jen závist, krut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hodlnost, sobectví, pýchu, bezcitnost – jediná blaženost na svět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odevzdat se boží vů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sy renesance – aktivita a zvídavost, důraz na rozum, snaha o poz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sy baroka – Bůh hovoří k poutníkovi, únik do světa srdce, dů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víru, pokora, pasivita, rozum poutníka zkla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egorie = jinota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způsob nepřímého vyjádření obsahu – postava, mo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bo celý příběh mají ještě jiný výz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mělecké dí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vní čá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elmi moderní – blízká dramatu: dramatizace, dia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tníka a průvodců, živý hovorový jazyk, hříčky, příslov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čení, vtipný jazy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há čá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ložitější spisovný jazyk, nábožensko – filosofický traktát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84520" y="1144440"/>
            <a:ext cx="7463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Kšaft umírající matky jednoty bratrské (kšaft = závěť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enský je přesvědčen o zániku jednoty. Alegorie – matka Je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trské hovoří k českému národu – Komenský se lozčí s vlastí, odk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omkům – péče o český jazyk, doufá v lepší budouc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3) Pansofická díla ( spisy vševěd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Všeobecná porada o nápravě věcí lids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ním je možno dospět k životu v míru, lásce, moudrosti a harmon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naha vytvořit soustavu poznatků ze všech vědních obor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orové rozdíly budou odstraněny stejným vzděláním – encyklopedi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84520" y="1144440"/>
            <a:ext cx="6866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4) Díla k rozvoji českého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Kancion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bírka české duchovní lyri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Poklad jazyka českého - Thesa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o – latinský slovník (shořel v Lešně) – zachoval se pou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jstřík – podklad pro slovníky z doby NO – Jungmann, Dobro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Význam d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éza předcházejícího vývoje naší kultury, dovršil dílo Huso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řil ve výchovné poslání literatury – všechny vrstvy nár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kladatel moderní pedagogi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iloval o vytvoření české vědy a poez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il sociální otáz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čitel národů – požadavky na vzdělání převzal celý svě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32360" y="981000"/>
            <a:ext cx="3227400" cy="396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3245040" cy="3673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42360" y="481644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 Amos Komen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9960" y="522936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yrint světa a ráj srd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1052640"/>
            <a:ext cx="23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476280"/>
            <a:ext cx="16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3080" y="1144440"/>
            <a:ext cx="667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rovnání Jana Husa a Jana Amose Komens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ěží v rozporu s círk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atika věnována ženám (matka, vychovatelka) a mládež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rají mimo v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ice vzděl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í význam u nás i ve svě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sten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s – jazyková reforma, Dekret kutnohorský, kázání, píše če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enský – vzdělávání v raném obdo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tizují společnost – vyšší společenské vrstv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120" y="1144440"/>
            <a:ext cx="7207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zdí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men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ímsko-katolická církev                         Jednota bratr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tika                                                     Renesance, baro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dl reformu jazyka                           Neprovedl jazykovou refor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íše latinsky, později česky                    Píše jen latin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lečensky se angažuje                       Řeší nadčasové probl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uje na aktuální události                  Učitel nár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avní vliv na literaturu v Čechách má jezuitský řá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okní literatura je psána česky, latinsky, později němec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85960" y="1144440"/>
            <a:ext cx="761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Bohuslav Balb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enec, učitel na jezuitských škol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ozprava na obranu jazyka slovanského, zvláště české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ávo národa na vlastní jazyk, obhajuje češtinu, psána latinsky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ední věta česky („Nedej zahynouti nám, ni budoucím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Antonín Koniá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zuitský kněz – hromadně ničil nekatolické knihy, snažil se zabrá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ivu protestantis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Clav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Klíč kacířské bludy k rozeznání otevírající, k vykořenění zamykají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oretická část – jak se pozná kacířská kn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á část  -  seznam kacířských kn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Bedřich Bri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l tiskárnu v pražském Klementinu, píše česky, lyri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Co bůh? Člověk?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meditativní báseň ( božská velikost x nicotnost živo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280" y="1144440"/>
            <a:ext cx="565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dová a pololidová tv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dobí NO, vytvořeny podmínky pro sběr US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ústní lidová slove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útv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veršovan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ís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sloví, pranos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prozaick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da klas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há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ě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á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j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3080" y="6922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naky US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982800"/>
            <a:ext cx="813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 anonymní, kolektivnost (vyjádření názoru lid. kolektivu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riabilita (více podob), jedna dějová linie, jednoduchý příbě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j řazen chronolog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Specifické zna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ff"/>
                </a:solidFill>
                <a:latin typeface="Arial"/>
              </a:rPr>
              <a:t>a) v ideově tematickém plá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eurčitá doba a místo dě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jednoduchý příbě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jeden záži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álo po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jednoduchá charakterist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ělení postav na dobré a z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ff"/>
                </a:solidFill>
                <a:latin typeface="Arial"/>
              </a:rPr>
              <a:t>b) v kompozičním plán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línání lyriky, epiky a dramatu (bal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chronologické řazení dě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evládá autorská ře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stup vyprávěcí a popis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časté opakování motivů, někdy bývají v kontra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138312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ff"/>
                </a:solidFill>
                <a:latin typeface="Arial"/>
              </a:rPr>
              <a:t>c) v jazykovém plán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hovorová češ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vky nespisovného jazyka ( nářečí, obecná čeština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jednoduchá stavba vě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álo básnických přívlastků ( personifikace, přirovnání k přírodním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vům opakování slov, velká frekvence zájmen, zdrobněliny,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itoslovce, magická čísla ( 3,9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56520" y="1144440"/>
            <a:ext cx="7462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ecné rysy baro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čnost, teatrálnost, rozbujelost tvarů, nadsázky, ohromující do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trast (světlo a stí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chitektura – zna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lenitý půdorys, kopule s freskami (iluze pohledu do nebe), zlato, štu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amor (i imitace), zdobnost, honosnost (římsy, portály, šroubovi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čené sloupy), lucerna, oválná okna, mnoho křivek, mohut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v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írkevní (jezuitský) barok, gotický lomený oblouk + barokní honos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mek Kuks, Černínský palác, Klementin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lský ba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oblený štít, zakončený volutou (spirála), malá okna, silné zdi, na ští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opočet, špejchar (hospodářská budova), vrat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83808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) Pololidová tvor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rozdíly oproti lidové tvorb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řechod mezi oficiální literaturou ( barokní ) a U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idový hrdina karikován (zesměšněn, přehnaně zveličuje negativní rys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mělá tvorba – autor znám (měšťan, venkovská intelig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ce písemná (zaznamenává 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Útvary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ud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krátké frašky o hlouposti a těžkopádnosti sedl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ální písn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ěžký život nevolní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ížky lidového čte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říběhy hrůzostrašné, loupežnické, milostné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stopisy, pohádky, pově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amářská (jarmareční) píse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delší texty, epické jádro, veřejná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kce s hudbou a obrázky, příběhy hrůzostrašné, milostn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řírodních pohromách, nízká jazyková úrove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ělá jarmareční píse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.Werich – o Golemovi, I.Mlád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4360" y="855000"/>
            <a:ext cx="79214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ff"/>
                </a:solidFill>
                <a:latin typeface="Arial"/>
              </a:rPr>
              <a:t>c) B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yricko-epická báseň, popis prostředí, citů a nálad postav, končí tragicky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základu je konflikt, provinění člověka (proti morálním zásadám), následuje trest, popř. pokání a odpuštění, konflikt se společností – sociální ba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deově-tematický plá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neurčitá doba, a místo, konflikt – trest, nebouří se proti trestu, někdy sebevraž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lavní myšlen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každé provinění proti mravnímu řádu musí být potrestá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zyk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pisovný, hovorový, málo básnických prostředků – anafora, epifora, přirovnání, symboly, oslovení, lidové obraty, zdrobněl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lasická bala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lakovský, Erben, částečně Ner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b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uda, Bezruč, Wol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96720" y="7398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773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ášková T. a kol.: Literatura – přehled středoškolského učiva. Třebíč. PV 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44920" y="56088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mek Ku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07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3240" y="5734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ement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443640" cy="4832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39960" y="580536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lské baroko Holašo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214800" cy="393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3403800" cy="453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3600" y="515772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le Božího těla v Olomou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43080" y="510552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ám sv. Mikuláše v Pr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82360" y="1144440"/>
            <a:ext cx="7899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Malíř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ky: kontrast světla a stínu, pohyb, křečovité gesto, citový výra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ž znetvořené obličeje, rozevlátý oděv, diagonální kompoz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te Praul Rube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Kleopatra (NG), Paridův soud, Tři Grácie, Autoportré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mbrandt van Rij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oční hlídka, Autoportr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tr Brand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imeon s Ježíškem, Autoportr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rel Škré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dina brusiče drahokamů, Autoportr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Sochař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tyáš Bra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ochy ctností a neřestí - zámek Ku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ochy na Karlově mos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erdinand Brokof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ochy na Karlově mos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Hu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á opera a ba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ohann Sebastian  Ba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arhanní hu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tonio Vival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italský houslista a skladat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032000" cy="3373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3197160" cy="3932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8720" y="517680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brant van Rijn: Autoportr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6320" y="530064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brant van Rijn: Noční hlí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11-28T19:04:01Z</dcterms:modified>
  <cp:revision>84</cp:revision>
  <dc:subject/>
  <dc:title>POSLOUPNOSTI</dc:title>
</cp:coreProperties>
</file>