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B63-9D35-4A70-8883-8EF89B5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C00-6B24-4844-8A55-C8B2615E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A2E-E7CE-428E-B60E-69489705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E8F-763F-4B84-B043-3B29BA27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919-7A39-493C-9175-C1EF4EFC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0EA-CEA2-4D95-A8EF-08A4776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128-9A7D-42BB-9470-13F7C94A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2F1-A1F1-47BA-9CC4-3B1CA8A3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433-DD60-47E3-B589-CBDFDE1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4EA-D0B4-437C-AD31-F37A26E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22E-415F-4587-A3A1-8E2034B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E0D-5047-4779-B1DC-3BA2EB5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461-8025-431C-A33F-F031795BD6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490-DBD7-456D-94CF-71B67913A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RAZ  ČESKÉ  SPOLEČNOSTI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  2. SVĚT.   VÁLC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    LITERATUŘE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107208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DVÍK  VACUL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nář a spisovatel. Původně dělník. Vystudoval VŠ politickou, redaktor Literárních novin – v roce 1969 zakázány. Vaculík od roku 1969 v Československu zakázán. Zakladatel samizdatové edice Petlice, podílí se na činnosti Charty 77. Byl mu udělen Řád T. G. Masaryka a dostal řadu vyznamenání a ocenění za novinářskou a společenskou čin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k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 deziluze, životní příběh Vaculíkova otce, přesvědčeného komunisty, který přichází o své  ideály.Minulost i přítomnost se v jednotlivých epizodách prolínají a z jejich porovnání vychází, že nový svět, který zrušením soukromého vlastnictví chtěl dospět ke společnosti hojnosti, nastolil v životě jenom novou chudobu: chudobu ducha a mezilidských vztahů. Kritika řadila román mezi vrcholná díla tehdejší doby. Psáno bohatým jazykem – spisovná čeština, dialekt – valašské náře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107532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rč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 vyslovující kritiku společnosti – pocity člověka v ohrožení a nesvobodě, která v něm rodí nálady beznaděje a bezmo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 době normalizace, kdy měl zakázáno publikovat a veřejně vystupovat, vydaný jako první svazek edice Pet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Český sn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íkové záznamy zapisované od 22.1.1979 do 2.2.1980. Snář je originálním svědectvím o době. V jednotlivých příbězích vystupují skutečné postavy a v zájmu autentičnosti s nimi autor zacházel bez jakýchkoli ohledů – uveřejnil i nesouhlas a námitky jednotlivých postav. Autor byl obviněn z exhibicionismu a nactiutrh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dle uvedených děl vznikaly průběžně  Vaculíkovy fejet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d diktaturou lidu (19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chovná úvaha o tom, co se stalo s Čechy a Slováky, žijícími tak dlouho a smířeně v diktatuře bez viditelného diktát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1349640"/>
            <a:ext cx="7200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aro je t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jeton s tímto názvem píše Vaculík každý rok od r.1981 – 19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pnový 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jetony z let 1988 –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lí spolužác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 souhrnným názvem se skrý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iha indián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iha děln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niha Student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bor zápisů a dopisů – obraz dospívání Vaculíka i obrázek myšlenkového života jeho gen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1623960"/>
            <a:ext cx="720072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 70. LET PO SOUČA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roce 1968 je zastaveno veškeré uvolňování a tvůrčí svoboda. Veřejný odpor byl potlačová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20 000 lidí zůstalo po sovětské okupaci v srpnu 1968 za hranicemi – ze spisovatelů: J. Škvorecký, A. Lustig, P. Kohout, M. Kundera a dal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knihoven byly vyřazovány desítky titulů – nemluvilo se o cenzuře, ale o schvalování. Byli autoři, kteř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směli publik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směli publikovat jen občas a jen ně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nesměli publik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skupiny a) patřili např.: Ladislav Fuks, Vladimír Pá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kraji oficiální literatury se ocitly prózy O.Pavla a B. Hrab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31200" y="1463040"/>
            <a:ext cx="4945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nikem byly např. oddechové knížk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z lékařské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lja Stýblová – Skalpel, pros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na Frýbová – Připravte operační s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a Dub – Přísahám a slibu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) téma ven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Otčen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Kostr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c) téma přír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romír Tome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) historická pró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rmila Loukot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ří Šot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148572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MIZ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ouší se postavit vedle oficiální literatury i literaturu neoficiální. První kroky byly velmi opatrné – strojopisné exempláře. Rozmach samizdatu nastává koncem 70.let v souvislosti se vznikem Charty 77. Smyslem tohoto hnutí bylo nalézání vyšších hodnot, nenechat se ovládat prospěchářstvím a strachem. Vzniklo velké protichartistické hnutí – V.Havel a další zatče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samizdatu se přidávají další: J.Kratochvíl, J.Hutka, E.Kantůrková, I.Klíma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tlice -     vznik – 1972, řídí ji L.Vacul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t   -      polovina 70.let – poezie – Jiří Kol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edice -  V.H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07352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VLADIMÍR  PÁ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zaik působící od 60. let, pozorovatel zmechanizovaného životního stereotypu. Zviditelnil morální i fyzické důsledky bezperspektivního živoření.Odhaluje protekci, korupci, kariérismus, moc založenou na funkcích – důsledek socialismu. Hrdinové jeho próz propadají apatii, stereotypu, nudě nebo se snaží vymanit pokleslými aktivitami. Tematicky čerpá z prostředí severočeských chemič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tudoval VŠ chemickotechnologickou v Pardubicích a působí v různých funkcích, od roku 1967 je umělcem na volné no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á pentalogi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etrh splněných př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hrdina – chemik Milan Renč z Ústí nad Labem – se v zaměstnání cítí jako loutka, práce ho přestává zajímat. Záchranu a únik hledá v erotických dobrodružstvích, která se po čase dostávají do stejného stereotypu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1761120"/>
            <a:ext cx="71294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oukromá vichř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a Vinš z Ústí nad Labem je ženatý mladý muž. Pracuje jako ředitel chemičky a s manželkou Jóžou navštěvují přátele, hledají nějaké povyražení. Jejich přátelé, Standa a Bohunka se vyžívají v erotice. Vymění si partnery a Áda se do Bohunky zamiluje. I jí se to líbí, protože ví, že s Ádou by byla dobře zajištěna. Áda chce požádat o rozvod a odstěhuje se s Bohunkou na chatu. Vychutnávají si společný život, ale Ádovi začíná vadit, že Bohunka neumí vařit, prát… Dojde k hádce. Áda odjíždí a v hospodě se setká se Standou. Opijí se a pohádají. Áda se vrací k manželce a do stereotypu, který tak nenáviděl. Je to vlastně to jediné, co mu vyhov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107532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tap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k Jacek Jošt utíká z rodinného stereotypu v sedminásobném milostném vztahu, které si hledá podle inzerátu. Po určité době je „unaven“ ze služebních cest a rozhodne se vrátit k vlastní rodině. Vystřelený projektil katapultu již nelze zastavit – Jacek umírá katapultován na pilotní kabinu letadla při drobné závad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mová podo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ilenci a vr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ově nejhlubší dílo. Autor dochází k závěru, že člověk je pro uspokojení především fyzických potřeb – dobrého jídla, sexu, bydlení – schopen obětovat svůj charak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fesionální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ladý muž a bílá velry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mová podo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93420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PAVEL  KO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matik, prozaik, publicista, básník, autor lit. pro děti, scénárista, překladatel a filmový režisér, autor písní. Vystudoval FFUK, pracoval v Čs. rozhlase, kulturní atašé v Moskvě, šéfredaktorem satirického týdeníku Dikobraz, působil v redakci čas.  Česk. voják a v Čs. televizi. 1957 -  spis. z povolání, spolupracoval s Realistickým divadlem a Divadlem Na Vinohradech. Postava „Pražského jara“. Po r. 1968 nesměl publikovat, v roce 1978 mu byl povolen pobyt v Rakousku, návrat ne. Ztrácí státní občanství. Žije ve Vídni. 1989 - Praha. Jeho hry a adaptace zaznamenávaly úspěch na světových jeviští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Verše a písně ( 195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b. Čas lásky a boje ( 195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ě psal od svých 17 do 25 let. Tvořil je z upřímného přesvědčení, že pomáhá budovat lepší svět, než byl ten dosavadní. Povrchní optimismus, kliš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325520"/>
            <a:ext cx="72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. a 60. LÉ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lověk se stává produktem společnosti a především zástupcem jisté sociální třídy. Člověk může být jedině dobrý, pokud je zastáncem proklamované ideologie, a jedině špatný, pokud se jeho názory liší od toho, co je předepsáno. Literatura má vychovávat uvědomělé dělníky, družstevníky, kteří svůj „boj za mír“ nemohou za žádnou cenu vzdát. K typickým žánrům nálež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udovatelský rom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azuje na předválečný městský a venkovský román – popis prostředí, schematičtí hrdinové (pozitivní = dělníci, funkcionáři; negativní = intelektuálové, špioni); třídní srážky, sabotáže, obraz znárodňování, budování, združstevňování vesnice, osídlovaní pohranič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107208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 deníku kontrarevolucion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óza zachycující osobní zážitky z období Pražského jara. Byla v roce 1969 zakázána – vyšla německy ve Švýcars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tyně (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, na osudu Lízinky, která prochází školením ve Středním učilišti popravních věd, chce autor popsat společenské zlo, jež produkuje nekontrolovatelná totalitní moc. Hlavní myšlenka – dvacáté stolení ve srovnání s ostatními dějinnými epochami nenajde v oblasti mučení a popravování konkuren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de je zakopán pes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biografický román, ve kterém Kohout popisuje vlastní boj, ale i boj jedince proti totalitnímu bezpečnostnímu aparátu. Období let 1968 – 1978, vznik Charty 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onec velkých prázd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rozsáhlejší román,televizní zpracování – pohnuté osudy skupiny českých a slovenských emigrantů v Rakous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98316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VÁCLAV  HAVEL (narozen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ově uznávaný dramatik, esejista, publicista. Vyučen chemickým laborantem, střední školu vystudoval při zaměstnání, po maturitě pracoval jako jevištní technik, asistent režie a dramaturg v divadle ABC a v divadle Na zábradlí.Při zaměstnání absolvoval DAMU. Mluvčí Charty 77, opakovaně vězněn. Vůdčí osobností událostí  roku 1989 – prezidentem republiky (do r. 2003). Po roce 1968 vedl disidentské hnutí. Svými eseji dokonale analyzoval společenskou situaci a trvale vystupoval proti mocenské zvů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adlo – viz prezentace divad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 lidskou ident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seje, fejetony a různé stati z let 1969 – 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opisy O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isy, které Havel zasílal z vězení své že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álkový výs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robnosti o názorech a vývoji V.Havla – K.Hvížďala v rozhovorech s V.Hav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71640" y="93708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IVAN  KLÍMA ( 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zaik, dramatik, publicista, esejista, autor rozhlasových her. Prožil tři roky v terezínském ghettu. Vystudoval FFUK. Byl redaktorem v Květech, Literárních listech, v letech 1969 – 1970 byl hostujícím profesorem na Michiganské univerzitě v USA. Publikoval v samizd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á veselá j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je první lá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je zlatá řem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tší prózy těžící z vlastní autorovy zkuše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dce z mi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, který vznikl přepracováním román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jí, stojí šibenič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éma – střet jedince s mocí. Její působení na vnitřní svět člověka. Proměny moderních dějin, které si pohrávají s idejemi, které mohou člověka zneužít, izolovat od okolního svě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148896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 spisovatelů dříve oficiálních a neoficiálních začínají v 90. letech publikovat autoři noví.Svými prózami dosáhl největšího čtenářského úspěch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MICHAL  VIEWE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áječná léta pod 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ýchova dívek v Čech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ě prózy byly převedeny do filmové pod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Účastníci zájez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mán pro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bíje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914760"/>
            <a:ext cx="72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yžet budovatelského román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rdina, obvykle komunista, vstupuje do děje, když je třeba zasáhnout v nějakém problémovém podniku – zaostávající závod, zastaralý důl, nedobře řízená stavba, vesnice před založením JZD – hrdinovým zásahem nastává zásadní obrat k lepší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A. Zápoto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 Vstanou noví bojovníci, Rudá záře nad Klad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V. Řezá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 Nástup, Bi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ff"/>
                </a:solidFill>
                <a:latin typeface="Arial"/>
              </a:rPr>
              <a:t>B. Říh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 Země dokoř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duchu doby tvořili: M.Pujmanová, M.V.Kratochvíl, Z.Pluh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literatura se postupně oprošťovala od tradičních společensko-politických povinností – její rozkvět provází celá 60. léta. Kromě druhé vlny válečné tematiky se rozvíjí psychologická próza i inspirace historická, literatura faktu a sci-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 slovu přicházejí v próze i experimenty – díla se zaměřují na hledání nových jazykových a stylových prostředků. Uplatňuje se fantastika a imaginace, střídání vypravěčských perspek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937080"/>
            <a:ext cx="7129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OSEF  ŠKVORE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babě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ima se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ankový pr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populárnější (1954) – filmová podoba až po revoluci – původně vycházel v cenzurovaných částech v Literárních novinách. Knižně vydaný v Toron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nny Smiřický zde vystupuje jako velitel tanku. Děj se odehrává na podzim roku 1951. Škvorecký byl inspirován vlastní prezenční službou, při níž se setkával s nesmyslnou byrokracií,  tupými a omezenými důstojní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 obsahuje devět scének z vojenského života – Noc v posádkovém vězení, Sedmý tankový prapor v útoku na spěšně vybudovanou obranu nepřítele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atmosféře prostředí volil autor drsnou vojenskou mlu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148572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irákl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podtitul Politická detektivka – Danny Smiřický se v ní pokouší objasnit pozadí inscenovaného „čihošťského zázraku“. Nejde zde pouze o život lidí mezi lety 1949 – 1970 v Československu a za hranicemi, ale o porovnání víry – srovnává zde víru katolickou a komunismus. Pokud nestojí na okraji, stávají se mocenskou sil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íběh inženýra lidských duší 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dějově navazuje na Zbabělce a Mirákl, vyvolává nelichotivý obraz české společnosti od války až po dobu Škvoreckého působení v exilu – Toronto. Z dopisů a vzpomínek vstupují do románu přátelé z doby Dannyho mládí i celá řada emigrantů – i k nim zaujímá ironický postoj. Dany zmoudří: „ Život je krásny, když všechno ztratí smysl a člověk začne žít jen pro život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48896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Legenda Emö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ela, tragický příběh o lásce ničené lidskou nenávistí a hloup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Sedmiramenný sví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lepší povídkový soubor –jednotlivé příběhy o osudech Židů ve druhé světové vál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Smutek poručíka Bo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„detektivní pohádka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Hříchy pro pátera Kno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onec poručíka Borů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ávrat poručíka Borů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tektivní příběhy – klasická pravidla detektivky, později i kritika společ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93240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MILAN  KUN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ík, prozaik, esejista a překladatel. AMU – asistent, docent. Roku 1970 ztratil zaměstnání. 1975 Francie – univerzita  Rennes. 1979 zbaven čs. Stát. občanství. Žije ve Francii a píše pouze francouz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lověk, zahrada š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snická sbírka v duchu 50.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nology (Kniha o lás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ostná poezie. Erotika zobrazena ve své sladkosti i hoř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ajitelé klí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 z období protektorátu, vynesla mu státní cenu za literatu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měšné lá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 povídek, které jsou na jedné straně anekdotickými příběhy milostných vztahů, na druhé straně zobrazují jedince, který se snaží vymanit z běžného živ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064160"/>
            <a:ext cx="720108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Falešný auto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hem cesty na společnou dovolenou chlapec a dívka hrají zdánlivě nevinnou hru – dívka hraje vyzývavou stopařku a mladík galantního,  řidiče. Vše se změní v tragédii. Chlapci se svůdkyně znechu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Žert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48 – 1965. Celý příběh se sestává z vnitřních monologů obou protagonistů. Ludvík pošle z recese své lásce Markétě provokativně lístek s textem: „Optimismus je opium lidstva. Ať žije Trockij!“ Lístek se dostane do nesprávných rukou. Ludvík vyslýchán, přítel Zemánek ho  označí za zrádce. Ludvík vyloučen ze studia, ze strany a dostává se k „černým baronům“. Přemýšlí o tom, jak se pomstí. 1956 je rehabilitován, vrátí se k vědecké práci. Seznamuje se s reportérkou Helenou a zjišťuje, že je to Zemánkova žena. Rozhodne se, že ji svede, rozvrátí manželství a pomstí se. Zemánek nevěru uvítá, rozvede se. Když Helena zjistí, že šlo o pomstu, pokusí se spáchat sebevraždu. U Ludvíka se nedostavuje pocit zadostiučině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485720"/>
            <a:ext cx="7272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Život je j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, který byl napsán v Čechách, ale vydán až v Torontu 1979. Básník Jaromil se stal udavačem – oznámil na policii, že bratr jeho dívky se chystá ilegálně opustit zemi. Udavačství se mu stává osudný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snesitelná lehkost by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zachycuje rok 1968 v Československu, problémy emigrace, normalizaci. Příběh je zaměřen na osud dvou dvojic, které ovlivněny dobou, nenaleznou k sobě c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smr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, odehrává se v současné Francii a ve Švýcarsku, vystupují v něm však i postavy z dějin literatury – Goethe, Hemingwa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2-01-07T13:07:05Z</dcterms:modified>
  <cp:revision>73</cp:revision>
  <dc:subject/>
  <dc:title>POSLOUPNOSTI</dc:title>
</cp:coreProperties>
</file>