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97B4-9019-4309-9436-BF9D6B6E1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A769-B95C-493B-A8FB-2A8B652F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107C-DFEC-4F8B-AD96-648B8AEC9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F5B2-F269-4F85-89E3-6BFEF12A7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2C76-5B63-4018-8FDA-207125C6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38D8-7BDB-4AE7-ABCE-861C6558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4FD5-9A24-49E9-95D6-C4D138FB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A60A-924B-4EAA-8C69-ABEC2336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9B0A-5041-43F4-8270-25941A87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FC63-F28A-4BB7-AE1E-D1C60C88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716C-6AB2-4BA4-B1F8-CEEBBE6F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C699-8D34-4F6E-BF91-C0615847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4505-BC30-457C-A5CB-B74F0C5E3128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F0A4-9861-4011-97A4-DC5176D01E6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5/5e/Ivan_Olbracht_1929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3/35/MajerovaMarie1923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00000" y="2492280"/>
            <a:ext cx="75628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AKCE ČESKÉ  LITERATURY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  SPOLEČENSKÉ  UDÁLOSTI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18 - 194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26920" y="1078560"/>
            <a:ext cx="727416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4. období tvorby – oku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O mudrci Bidpajovi a jeho zvířátk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Biblické příbě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děti a mládež převyprávěný Starý zák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lbrachtův sty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složitá stavba vět – bohaté přívlastky, několikanásobné větné členy, používání knižních prostředk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prostředků ULS – fantazijní postavy, magické číslovky, černobílé vidění posta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ělecké prostředky – perzonifikace (Zakarpatská Ukrajina = svébytná živá bytost s vlastním řáde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ynamizující řazení motivů – používá gradace, opakování motivů, kontra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Soubor:Ivan Olbracht 192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765000"/>
            <a:ext cx="3484440" cy="5162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26920" y="797760"/>
            <a:ext cx="756144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JAROSLAV  HAVLÍČ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sychologická próza – vliv S. Freuda. Hrdinové postiženi patologickými jevy společnosti. Líčí degeneraci a marnost měšťáckého živo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etrolejové lam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rdinka: Štěpka Kiliánová - těžkopádná, neženská, obhroublá, odpuzuje  nápadníky x touží se vdát, pečovat o rodinu. Setkává se s bratrancem Pavlem – důstojník, který prohýřil jmění a zadlužil statek. Za peníze Štěpky si chce zajistit klidný život. Ta si ve své touze po rodině a naivitě myslí, že Pavel ji skutečně miluje a provdá se za něho. Na dítě se však těší marně, Pavel má syfilis, propadá šílenství a umírá v blázinci. Štěpka se vrhne do hospodaření se švagrem Janem, ten ocení její vlastn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Neviditel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sychologická studie, popisuje osudy rodu Hajnů, jemuž vládne šílený strýc postižený představou, že je neviditelný. Rodovému „prokletí“ neunikne ani muž přiženěný do rodiny z vypočítavosti a touhy po majetku, který ztrácí svou ženu a zjišťuje, že také jeho syn je duševně postižen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00000" y="656640"/>
            <a:ext cx="734400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EDUARD  BASS (1888 – 1946, vl. jménem Eduard Schmid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rodil se v Praze, krátce pracoval ve firmě otce – utekl ke kabaretu: zpěvák, konferenciér a textař v kabaretu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Červená sedma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sal kuplety.  Šéfredaktor Lidových novin – autorem tzv.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rozhlásk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veršovaných komentářů k týdenním událostem, napsal jich více než 7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Klapzubova jedenác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niha pro děti – zmodernizovaná pohádka o světoznámé jedenáctce   chudého chalupáře – parodie na opojení z úspěchů české kopan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Cirkus Humb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sáno za okupace – oslava odvahy, pracovitosti českého člověka. Vašek Karas - bystrý, ctižádostivý, dělá rychlou kariéru - stane se ředitelem cirkusu. Obraz cirkusového prostředí: zachovává mu jeho vzrušivost x zbavuje ho pozlátka falešné romantiky – úspěchů v tomto světě se dosahuje pouze dřinou vš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Lidé z maringo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tavé příběhy z cirkusového prostředí. Deset artistů vypráví své příběhy – artistický dekamer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42920" y="799200"/>
            <a:ext cx="720108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JAN  DRDA (1915 – 19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zaik, dramatik, fejetonista, filmový scénárista, autor knih pro děti a mládež.Nedostudoval UK, pracoval v redakci Lidových novin, po r.1948 zastával vysoké funkce v KS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Městečko na dl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mánová prvotina – podoba městečka Rukapáň prvky reáln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 fiktivní. Různorodé postavy: sedláci, voraři, obchodníci, havíři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Němá bariká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enáct různě komponovaných příběhů. Hlavní postavy – pekař, zámečník, uhlíř, strážník se teprve stávají hrdi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Dalskabáty, hříšná ves aneb Zapomenutý č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České pohád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Filmové náměty a scénář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Vyšší princ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Hrátky s čer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42920" y="661320"/>
            <a:ext cx="727416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Reakce básníků na společenské události roku 1938 - 19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ff"/>
                </a:solidFill>
                <a:latin typeface="Arial"/>
              </a:rPr>
              <a:t>J.Seif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ětlem oděná – obrací se ke zdroji naděje a jistoty – k Pra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menný most – alegorická protiokupační poez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ějíř Boženy Němcové – symbol českého jazyka a dom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ff"/>
                </a:solidFill>
                <a:latin typeface="Arial"/>
              </a:rPr>
              <a:t>F.Ha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orzo naděje – reakce na r.19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á se tam vrátím – doba okupace – rodný kr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še paní Božena Němcová – vyzdvihuje lásku k mateřšti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ff"/>
                </a:solidFill>
                <a:latin typeface="Arial"/>
              </a:rPr>
              <a:t>J.H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mov – reakce na r.19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hrada Popelčina – vzdor proti zlu ohrožujícímu národ i celé lidst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ff"/>
                </a:solidFill>
                <a:latin typeface="Arial"/>
              </a:rPr>
              <a:t>J.Or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remiášův plá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hnice - pocity lidského zmaru, absurdity doby a odci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042920" y="935640"/>
            <a:ext cx="720108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SVOBOZENÉ  DIVADLO (1926 – 1938) – autorské divad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skou a hereckou dvojicí zde byli Jiří  Voskovec a Jan Weri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žiséři: Jindřich Honzl a Jiří Frejk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r. 1929 spoluprace s jazzovým skladatelem Jaroslavem Ježk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 svých hrách se pohybují od studentské recese až po ostrou aktuální společenskou kriti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erci: F.Filipovský, L.Hermanová, R.Hrušinský + balet Josefa Jenčíka (Jenčíkovy girl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mítají jevištní naturalismus – odstraňují kulisy, chtějí vést s divákem dialog, učinit ho partnerem. Od humoru a parodie přecházejí k politické satiře (kritika hospodářské krize a varování před fašisme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ku 1938 bylo divadlo úředně zavřeno. Voskovec, Werich i Ježek odjíždějí do USA. Po válce se Werich vrátil a působil v divadle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+ Miroslav Horníček), Voskovec zůstává v USA, Ježek umírá za války v U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71640" y="929160"/>
            <a:ext cx="741672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Vest Pocket Revue (Malá kapesní rev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hra – napsána pod vlivem poetismu – sled dramatických, hudebních a tanečních čísel ve scénickém celku tvoří parodii na tradiční postupy. Vychází ze studentského humoru. Výsměch snobům, zlaté mládeži,  parodie na obvyklé postupy dramatik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znik FORBÍ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improvizovaný dialog na aktuální téma na předscéně. „Vše, co se tváří být důstojné a hlubokomyslné, převrátili naruby.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ory: Chaplin, Commedia dell´ar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ovník komika: „Vši vodní“ x „Vši vod Ní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ologismy: cukatura, napnelis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Caes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itická satira – hra zaměřená proti fašismu, kritizuje stávající stav v politice, přetvářku, honbu za vlastním prospěch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istorie = prostředek přiblížení dobových problémů; nejúčinnější způsob, jak najít pravdu o své době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6920" y="1065600"/>
            <a:ext cx="741708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Těžká Barbora (= děl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ěsto Eidam se brání proti Yberblandu. Učitel Gustav posluhuje mocným ve městě x později se vzepře, říká pravdu o městské honoraci, varuje město před nepříte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mysl hry: dobové narážky; boj člověka se svými slabostmi, důraz na svornost a přátelstv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sáno v duchu dramatické báchor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Balada z hadrů (= divadlo na divad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ěkolik tuláků připravuje hru o Francoa Villonovi, píseň Hej pane krá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Kat a blá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 se rodí diktátoři a kam spějí hrdinov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71640" y="1206720"/>
            <a:ext cx="727236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Osel a st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ehrává se v Abdéře = řecký Kocourko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mět: podle Lukianovy bajky O oslu a stínu (aktualizace: politická atmosféra v Evropě po roce 193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slovy Kontokorentose připomínají Hitlerovy proslovy – zfanatizují lid, až na zásah Dionýsa lid prohlédne, osla sní – vítězí zdravý roz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yšlenk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boj proti fašis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satira na politické str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tira na hloupost, omezenost, frivolnost lepší společ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ra vyvolala ostré diplomatické protesty německého velvyslance v Pra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71640" y="938880"/>
            <a:ext cx="712944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dle demokratického proudu se ve 20. a 30. letech vyvíjí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ALISTICKÝ  REALISM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terý usiluje o zobrazení skutečnosti ve společenském vývoji, ovlivněný levicovým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ociálními myšlenkami, zejména marxism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avním tématem socialisticko-realistického proudu byl život proletariátu a jeho revoluční perspektiva – nejčastěji zobrazován jednotlivec, jeho osudy, proměny a jeho odpovědnost ke kolektiv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MARIE  MAJEROVÁ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( 1882 – 1967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inářka, spisovatelka. Nevlastní otec byl hutník na Kladně. Účastnila se schůzí sociální demokracie, blízko k anarchistů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) literatura pro dě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r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obinson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mová podoba. Po smrti své matky se cítí hlavní hrdinka, malá dívka, opuštěná jako Robinson na pustém ostrov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16000" y="1075320"/>
            <a:ext cx="712800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ÉČKO ( „D 34 – 41“)  E. F. BUR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žisérské divad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áměr = proniknout s nejnáročnějšími uměleckými díly k lidovému diváko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rtoá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borové recitace (Máj), adaptace klasických dramat (Kupec Benátský), inscenace lidových dramat (o Dorotě), dramatizace prozaických děl, montáž lidové poezie, hry současníků (Žebrácká opera – B.Brech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yntetické divad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využití všech druhů umění (mluvené slovo, tanec, scéna, hudba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 roce 1941 divadlo zavřeno a E. F. Burian odvlečen do koncentračního tábora. Po válce bylo divadlo znovu otevřeno jako „D 46“ a přejmenováno na divadlo E. F. Buri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00000" y="796320"/>
            <a:ext cx="770436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b) literatura pro dospěl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iré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enerační román – obraz Kladenska (od druhé pol. 19. st.do 1. svět.  války) – čtyři generace Hudců. Próza je montáží vyprávění, dokumentů a reportážního popis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1.genera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Hudec vynálezce – uhlíř. Hloubavý, schopný. Na Kladně navrhuje své vynálezy x majitel dolu odmítá jeho lanovku – sebevraž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2.genera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Pepek-frajer - valcíř v době konjunktury, má peníze, ale pije,  hraje karty, surový k ženě a dětem; úraz – propuštěn – rodina živoří x jeho žena Hudcovka je přes vše zlé optimistick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.genera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Hudec – policajt - doba hospod. krize, přezdíván policaj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své organizační schopnosti a spravedlnost. Formuje  požadavky dělníků, organizuje boj proti stávkokazům, pomoc rodinám stávkujíc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Kompozice -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dnotlivé kapitoly se částečně překrývají – konfrontace různých pohledů na tutéž skutečn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55640" y="989280"/>
            <a:ext cx="741672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Havířská ba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olně navazuje na Sirénu. Doba: 1920 – 1938, Porýní, Čech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1.kapito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monolog Rudly Hudce (syn Hudcovky): zamyšlení nad životem po odchodu z Čech do Německa; odchází kvůli účasti ve stávce. Našel práci, kamarády – vyrovnaný, důvěřuje lidem, přístupný, spontánní jazyk + havířský slang. Je zatčen, deportován do Č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2.kapito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autorské vyprávění: bohatý, obrazný styl, válečné události Hudcem otřesou. Má pocit nejistoty, ztrácí důvěru v lidi (válka z nich udělala zvířata, zbavila je ohledů a slušnosti). Znovu pracuje v dolech – dělí lidi na ty pod povrchem (přátelství, solidarita) x na ty nad povrchem (závist, sobectví); Velké důlní neštěstí (smrt syna), utrpí pracovní úraz – invalida – odkázán na ren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.kapito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Hudec – invalida se živí podomním obchodem, žebráním – těžce nese ztrátu práce, důstojnosti – zlomen psychic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5555880"/>
            <a:ext cx="70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yšlenky o prác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člověk má právo na práci a na odměnu za ni,  práce je radost, přináší klid a uspokojení (marxistické myšlenky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Soubor:MajerovaMarie192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549360"/>
            <a:ext cx="3511440" cy="518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5640" y="934200"/>
            <a:ext cx="734544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MARIE  PUJMANOVÁ ( 1893 – 1958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) povídk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ředtu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 období okupace – psychologie 15-tileté Jarmily, která dospívá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acientka doktora Heg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ívka z měšťanské rodiny, Karla, odmítá výhodný sňatek (před svatbou se zamiluje do lékaře), vybojuje si právo být svobodnou matkou – doktor Hegl je ženatý a pohodlný, má strach z komplika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2) romány - tri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Lidé na křižovat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0. léta, Pr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Hra s ohně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. léta, zapálení Říšského sněmu 1933, proces s Jiřím Dimitrovem až do r. 1938, Praha, Lipsk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Život proti smr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světová válka, koncentrační tábory, vypálení Lid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94520"/>
            <a:ext cx="756144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08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IVAN  OLBRACHT (1882 – 1952, vl. jménem Kamil Zem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8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n spisovatele Antala Staška. Žurnalista: Dělnické listy – Právo lidu – Rudé právo. Roku 1929 se rozchází s KSČ. Účastnil se ilegálního odboje za 2. svět. války. Pobyt na Podkarpatské Rusi – motivy pro prác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8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8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1. období tvorby – do r. 19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8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tah jedince a společnosti - marnost individuální vzpou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8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8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O zlých samotář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8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ři povídky. Hrdinové: komedianti, lidé ze dna společnosti – ta jimi opovrhuje x Olbracht - sympatizuje - nespoutanost majetkem, konvencí, vztah k přírodě, k sobě navzájem. Jejich vzpoura neúspěšná – zabi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8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8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Žalář nejtemněj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8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sychologický román. Hlavní hrdina – policejní komisař Mach, vážený, obávaný. Žárlí na svou mladou ženu – oslepne a jeho žárlivost se stane chorobnou (představa milence, kterého uvězní v ložnici a vede s ním dialog). Sobectví = žalář nejtemnější (horší než slepota) – odsuzuje člověka k samotě – opustí ho přátelé, žena, přijde o prá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55640" y="1075320"/>
            <a:ext cx="741672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2.období tvorby – 20. lé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Anna proletář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ůvodně na pokračování v novinách, román, děj i postavy jsou schematické, poplatné lidovému čtení – angažovaná účast na společenském dění – agitace pro revoluci, výchova dělnického čtenář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mět: vývoj hlavní hrdinky na pozadí událostí v Praze 1920 – 192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generální stávka, boj o Lidový dů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voj hrdinky v krátkém časovém úseku od naivní venkovské dívky k uvědomělé proletář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Zamřížované zrcad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ámcová novela z ostravské věznice – příběhy vězňů a jednoho dozorce. Prvky publicistického stylu: interview + novinářská klišé („Žít na účet cizí práce“) + uměleckého stylu (v úvahách autora). Olbracht využil vlastní zkušenost z věz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00000" y="935640"/>
            <a:ext cx="755964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3. období tvorby – 30. lé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rcholné období Olbrachtovy tvorby – náměty z Podkarpatské Rus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Golet v údol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olet = vyhnanství z vlasti – židovské slovo. Soubor tří povídek – svět ortodoxních Žid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Nikola Šuhaj loupež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ět. válka, Zakarpatská Ukrajina – Koločava. Lidové pově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 loupežnících + reálný příběh Nikoly (studium soudních protokolů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ojenský zběh, toulal se, bydlel se svým kamarádem u staré vědm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pil její nápoj – dar uniknout každé kulce.Chce se vrátit k Eržice, ožen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x dostává se pro krádež do vězení – útěk, skrývá se, je honě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etníky, nechce zabíjet - v sebeobraně zastřelí četníka – stává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bojníkem, lidé chtějí, aby se mstil, aby dokázal to, co oni nedokáž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mrt Nikoly a jeho bratra Jury (jeho vraždu podporuje Žid Abrah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eer, který chce majetek Šuhajových).Na dopadení Nikoly je vypsá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měna – je zavražděn vesnickými rolník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hula</cp:lastModifiedBy>
  <dcterms:modified xsi:type="dcterms:W3CDTF">2012-01-03T20:07:42Z</dcterms:modified>
  <cp:revision>61</cp:revision>
  <dc:subject/>
  <dc:title>POSLOUPNOSTI</dc:title>
</cp:coreProperties>
</file>