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904-2B5B-4FC8-9B32-2D30275B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FC3-3D20-4C09-B647-C1F0E615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0ED-2B55-4A51-BBBD-7217D8F8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4D0-1670-40FE-B48F-DF656021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ADC-C937-4427-AA09-E1A573B7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46B-CF92-441D-8BD6-A9675AA7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79F4-378F-458D-A393-EF5BF922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913-3857-4729-9E1C-6CE7AEEC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21FA-D14D-441E-B592-BC3C4094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1A0-0F06-4176-B0D1-B0953B7E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F73-D2DD-4D65-878E-55A0DA7C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A42-FEC7-405D-B3A7-C4A38EC1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A3BF-7A27-4667-BE30-CC591212A078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54E2-646A-4A82-A893-8E5D42A72DC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2492280"/>
            <a:ext cx="7344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IKULÁŠEK, KAINAR, HOLUB, SKÁCEL, KRYL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00000" y="1349640"/>
            <a:ext cx="72723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JAN  SKÁCEL (1922 – 19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48 působil jako redaktor kulturní rubriky brněnského deníku Rovnost, od roku 1953 pracuje jako redaktor v Československém rozhlasu Brno, v letech 1963 až 1968 působí jako šéfredaktor měsíčníku Host do domu. V roce 1970 byl vyloučen z KSČ a nesměl  do roku 1981 publikovat. Jeho sbírky v těchto letech vycházely v samizda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roce 1989 byl básník odměněn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etrarcovou cenou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 roce 1969, stejně jako Kainar, Holub, Mikulášek, reagoval na smrt Jana Pala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svou stručnost a klasičnost bývá Skácel připodobňován tvůrcům typu: Erben, Neruda, Toman, Ha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Knížky pro dě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Jak šel brousek na van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ohádka o velikém samova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1640" y="105408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b. Kolik příležitostí má růže (19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ásnická prvotina, poezie spjatá s jeho venkovským domovem, dětstvím, bez okras a pestrých obrazů – nutí čtenáře přemýš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b. Co zbylo z anděla (19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b. Hodina mezi psem a vlkem (196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 témat se nevytrácí dětství a moravský venkov, přibývají však motivy smutku, bolesti a smr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b. Kdo pije potmě víno (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lední sbírka vydaná za básníkova života, zařadil do ní i básně, které dříve neprošly cenzur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b. A znovu láska (19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mrtně vydaná, nedokončená, sbírka, v níž autor věří, že bude jinak a lé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71640" y="1349640"/>
            <a:ext cx="720072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KAREL  KRYL (1944 – 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mi rychle se proslavil písněmi vyjadřující protest, zoufalství vyvolané událostmi roku 1968. U nás se jeho texty tajně opisovaly a tajně poslouchaly – staly se symbolem odporu proti sovětské okupaci. Vycházejí 1969 na des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Bratříčku, zavírej vrá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lší jeho desky (Rakovina, Maškary) vycházejí v exilu (Německo), kde žil až do roku 198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a domácí scéně dominov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66ff"/>
                </a:solidFill>
                <a:uFillTx/>
                <a:latin typeface="Arial"/>
              </a:rPr>
              <a:t>Jaromír Nohav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66ff"/>
                </a:solidFill>
                <a:uFillTx/>
                <a:latin typeface="Arial"/>
              </a:rPr>
              <a:t>Vladimír M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66ff"/>
                </a:solidFill>
                <a:uFillTx/>
                <a:latin typeface="Arial"/>
              </a:rPr>
              <a:t>Jiří Dědeč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71640" y="1899720"/>
            <a:ext cx="720072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KAREL  ŠIKTA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ásník, pracoval v rozhlase a nakladatelství Mladá fronta. V prvních sbírkách je ovlivněn komunistickou ideologií, v době normalizace nesměl publikovat. Postupně v jeho tvorbě zesiluje pocit existenciální úzkosti, rezignuje na optimistický postoj ke světu. V básních se objevuje středočeská vesnice, její řád, prvky lidové řeč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b. Český orl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anáctidílná symbolická básnická sbírka – soubor „kalendářových básní“ od ledna do prosince. Autobiografické rysy, usazení do přírodního a historického času, dialog mezi synem a otc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937080"/>
            <a:ext cx="727236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LDŘICH  MIKULÁŠ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livněn tvorbou F.Halase. Tvůrce meditativní lyriky - svou podstatou útočí na nehybnost totalitní společnosti – v 70. letech vydává díla  samizdatem.Jeho tvorba je typem poezie myslitelské, reflex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b. Pulsy (19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jdeme zd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rické uchvá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iklad života a smr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život jako nepřestávající d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haté používání syno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či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tráta perspektiv demokratického vývoje společenské struk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ět rozdělený „železnou oponou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šení pádu hodnot lidsk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bezpečí atomové smr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tie, netečnost, lhostejnost li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71640" y="934200"/>
            <a:ext cx="720072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 Horoucí zpěvy (195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 Divoké kačeny (19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í svět jako dějiště dramatického svá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nto protiklad se nejvíce vyhrotil v poemě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rajem táhne praši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 Ortely a mil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ásně jsou založeny na protikladech smutku, smrti – lásky, krásy ženského těla, tance. Způsob vyjádření: poetismy, neologismy, výrazy hovorové, nářeč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Báseň  </a:t>
            </a:r>
            <a:r>
              <a:rPr b="0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Vyvolava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yla zamítnuta kvůli pocitům bezvýchod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kulášek zde vyjádřil dvě polohy své tvor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yvolava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je duch zmaru a smr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rašive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je ztělesnitelem bouřlivosti a rozběsněnosti živo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Sbírka Ortely a mil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náší rozsudek nad Vyvolavači, hlásajícími krásu smr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losti jsou uděleny životu – ten je skutečným životem jen tehdy, probíhá-li stále s prudkou intenzitou a s plným využitím možností, které nabíz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1072080"/>
            <a:ext cx="72007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 Svlékání ha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válí „krásné užovky“ a odhaluje „chřestýše hubící život“. Pronásleduje lhostejnost, apeluje na charakter člověka, bojuje proti  odlidštění, podněcuje nasadit život, jestliže je ohrožena lidská důstojnost nebo život. Své poslání na tomto světě realizuje lásk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 Šokovaná růže (19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minuje zde autorův nesouhlas s invazí vojsk Varšavské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 Ago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ána v roce 1980 v Mnichově – patří k vrcholům Mikoláškovy tvorby. Agogh – název navozuje představu nějaké tajemné, temné a hrozivé síly, tragicky chmurného hrdiny. V textu se přelévá tragika, skepse, ohrožení světa bě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zyková stránka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afory, paralelismy, dialogy, fragmenty lidové písně, současný jazy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71640" y="1068840"/>
            <a:ext cx="72007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JOSEF  KA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ásník, kreslíř, hudebník, dramatik a novinář. Od roku 1947 spisovatel z povolání. Jeho poezie prošla složitým vývojem – byl ovlivněn Skupinou 42, později podléhá dobové ideologi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 Nové mýty (19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áseň –</a:t>
            </a:r>
            <a:r>
              <a:rPr b="0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 Stříhali dohola malého chlapečka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íky Mišíkovu zhudebnění dnes nejznámější báseň. Ústřední obraz – stříhání chlapce – vyrůstá z jediné metafory. Hledá odpověď, zda je člověk hrdinou, obětí, svědkem, pozorovatelem nebo se spolupodílí na lidské degradaci svého bližní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 Veliká láska ( 195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 Český sen ( 1953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bírky  jsou poznamenané dobou a schematis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71640" y="797760"/>
            <a:ext cx="7200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 Člověka hořce mám rá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 Lazar a píse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á si argumenty – proč může mít rád člověka – bere ho takového, jaký je. Přechází životní klopýtnutí, moraliz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 Včela na sně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bírka vychází až jedenáct let po jeho smrti (1982). „Chvilky štěstí“ spatřuje ve zcela obyčejných věcech – rybaření, tich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ezie pro dě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Říkadla (19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latovláska (19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rše doplňuje často svými ilustracemi, dítě bere jako svého partnera – hra slovem i obraz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oje blues (19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ísňové texty, často zhudebněny samotným Kainarem – pocity smutku a beznadě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71640" y="1351080"/>
            <a:ext cx="720072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MIROSLAV  HO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ékař, vědecký pracovník v oboru imunologie, náš nejpřekládanější básník (Anglie, Německo, Polsko, Nizozemsko, Indie, USA). Sám překládá z polštiny a angličtiny. Vědu považuje za inspirativní zdroj básnické tvorby, usiluje o sloučení vědy a u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to zvýrazňuje paradoxy, kritizuje lidské nešvary, píše eseje o vědě a reportá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Denní služba (19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ásnický debut – zobrazuje všední den (pracoviště imunolog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Achilles a želva (19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haluje rakovinové formy lidského charakteru: tupost, surovost, pokrytectví, povrchnost, lhostejnost, vysmívá se těm, kteří chtějí zabít pohyb myšlen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1463040"/>
            <a:ext cx="720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b. Slabikář (19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nekonvenčně pojatých portrétech významných osobností ukazuje jejich lidskost, houževnatost, nebo je naopak podává v ironickém světle. Kritizuje rozum, který se pohybuje jen ve sféře osvědčeného, dovoleného, ve světě, kde chybí vlastní myšlení a hledání vlastního postupu, kde vládne diktatura beztvarosti, všednosti a průměr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b. Jdi a otevři dveře (19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důraznění mravně hodnotných činů – záchrana tonoucího p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áseň Pes v lom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b. Kam teče krev (19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še kladli důraz na lidskou aktivitu, básně z prostředí laboratoří a nemocn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1349640"/>
            <a:ext cx="70581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 Ačkoli (19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některých básních reaguje na okupaci Československa. Především báseň napsaná na smrt Jana Palacha Holubovi „zajistila „ omezenou možnost publikovat a byl prohlášen za ideově dezorientovaného básní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 Beton (19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ochybňuje zde optimismus a důvěru ve vědu a techniku. Podrobuje kritice vyčichlost slov, protože ztratila lidský rozměr. Snaží se vytvořit řád v básni, protože v době normalizace je neřádu až po k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Anděl na kolečkách (19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Žít v New Yorku (19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portáže z U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hula</cp:lastModifiedBy>
  <dcterms:modified xsi:type="dcterms:W3CDTF">2012-01-03T20:18:24Z</dcterms:modified>
  <cp:revision>64</cp:revision>
  <dc:subject/>
  <dc:title>POSLOUPNOSTI</dc:title>
</cp:coreProperties>
</file>