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BF4-30B5-42C4-ABE3-4934E335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BD3-332F-46EA-BE10-782593C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104-FF95-4852-B3ED-5B64E4A2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A1D-DD02-4CEC-8BE3-1EE6207E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2F8-DB98-4173-8D58-EAF17CA2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FFE-54ED-44DE-9C97-5BF0B0C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A05-27ED-42DD-8BF9-68A107B3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312-5307-49DD-B11F-0D669DA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1B8-7851-4ABF-82C1-4685895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E83-49C0-4935-AB70-671FF39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EDA-1C4F-44EA-B98A-AAF8004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2BA-A0BF-44B3-A602-CB5A4BE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A181-8979-4B67-896C-B5DBA5DE8A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0E3-0116-4287-A734-9A6439C6E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042920" y="249228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akce literatur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a 1. světovou válk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000" y="605880"/>
            <a:ext cx="2046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JOSEF  KO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2920" y="677520"/>
            <a:ext cx="5016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HAIL  ALEXANDROVIČ  ŠOLOCH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46560" y="6206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formační zdr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170028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12280" y="1341360"/>
            <a:ext cx="63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Romain_Rolland_191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Henri-Barbuss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98100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světová literatura způsobila v celé Evropě hluboký společenský i duchovní otřes. Zobrazování válečné tematiky si klade za cíl vylíčit válečné hrůzy a varovat před nimi. Řada světově známých spisovatelů se angažuje v protiválečném hnutí.( R.Rolland, H.Barbuss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1680" y="620280"/>
            <a:ext cx="5231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RICH  MARIA  REMARQUE (1898 – 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oubor:Bundesarchiv Bild 183-R04034, Erich Maria Remarque.jpg"/>
          <p:cNvPicPr/>
          <p:nvPr/>
        </p:nvPicPr>
        <p:blipFill>
          <a:blip r:embed="rId1"/>
          <a:stretch/>
        </p:blipFill>
        <p:spPr>
          <a:xfrm>
            <a:off x="5796000" y="1557360"/>
            <a:ext cx="2149560" cy="354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47640" y="813960"/>
            <a:ext cx="2245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RNOLD  ZWE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46920" y="966240"/>
            <a:ext cx="26010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ROMAIN  ROL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oubor:Romain Rolland 1915.jpg"/>
          <p:cNvPicPr/>
          <p:nvPr/>
        </p:nvPicPr>
        <p:blipFill>
          <a:blip r:embed="rId1"/>
          <a:stretch/>
        </p:blipFill>
        <p:spPr>
          <a:xfrm>
            <a:off x="5435640" y="1844640"/>
            <a:ext cx="260496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21080" y="750240"/>
            <a:ext cx="25430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ENRI  BARBU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oubor:Henri-Barbusse.jpg"/>
          <p:cNvPicPr/>
          <p:nvPr/>
        </p:nvPicPr>
        <p:blipFill>
          <a:blip r:embed="rId1"/>
          <a:stretch/>
        </p:blipFill>
        <p:spPr>
          <a:xfrm>
            <a:off x="6227640" y="177336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04720" y="887040"/>
            <a:ext cx="29649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RNEST  HEMING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8200" y="821880"/>
            <a:ext cx="42559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JAROSLAV  HAŠEK (1883 – 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17800" y="828360"/>
            <a:ext cx="34574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ONÁŘSKÁ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360" y="1469520"/>
            <a:ext cx="23022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RUDOLF  ME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zak</cp:lastModifiedBy>
  <dcterms:modified xsi:type="dcterms:W3CDTF">2011-03-10T14:36:30Z</dcterms:modified>
  <cp:revision>67</cp:revision>
  <dc:subject/>
  <dc:title>POSLOUPNOSTI</dc:title>
</cp:coreProperties>
</file>