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7FB-FA79-4F46-9870-FA88D49E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631-F5DB-4F1C-B4E6-55E04285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C9E-B0AF-43EC-AF74-582DBEEB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874-1EF5-4C39-A8DF-E4AC33E4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D29-3A95-4CA4-BFC9-1E3AF3B2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1C6-3452-45C2-BDD7-3DC66E65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8CE-CA6E-4D27-9EC6-4594D224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0D1-803D-4C96-86F3-E8019D4E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D59-3BD1-4E5D-9A11-0F37156E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D4E-7C62-4182-85F2-9248882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54F-A578-4EDE-B458-3484BBF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6CC-5379-4E59-9455-CDC466A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0F64-CDA3-4683-A1FC-5E72E47DA9E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AF7E-BE88-4D19-9F85-D8A76B669F9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b/Modigliani%2C_Juan_Gris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1/Prag_Prague_Hauptbahnhof_Eingang_%282005%29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2/Charles_Rennie_Mackintosh_00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b/b6/Mucha_window_in_St_Vitus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7/FilippoTommasoMarinetti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042920" y="249228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VĚTOVÁ  LITERATURA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POLOVINY 20. STOLETÍ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6590520" y="5084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494880" y="54936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b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629720"/>
            <a:ext cx="734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 z lat. cubus = krychle ) – je umělecký směr úzce související s futuri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nější reality byla rozkládána až na své nejjednodušší geometrické tvary a prostřednictvím umělcova intelektu a fantazie skládána jako mozaika do nové podoby – výtvarné, sloves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výtvarný směr jej založili v Paříž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Georges Brague a Pablo Pica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ští kubist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líři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Josef Čapek, Emil Filla, Bohumil Kubiš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Datei:Modigliani, Juan Gri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484280"/>
            <a:ext cx="2605320" cy="3794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1407960" y="566100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edeo Modigli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Datei:'Unique Forms of Continuity in Space', 1913 bronze by Umberto Boccioni.jpg"/>
          <p:cNvPicPr/>
          <p:nvPr/>
        </p:nvPicPr>
        <p:blipFill>
          <a:blip r:embed="rId3"/>
          <a:stretch/>
        </p:blipFill>
        <p:spPr>
          <a:xfrm>
            <a:off x="4932360" y="1413000"/>
            <a:ext cx="3179880" cy="3959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5583240" y="566028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berto Bocc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File:Guillaume Apollinaire 1914.jpg"/>
          <p:cNvPicPr/>
          <p:nvPr/>
        </p:nvPicPr>
        <p:blipFill>
          <a:blip r:embed="rId1"/>
          <a:stretch/>
        </p:blipFill>
        <p:spPr>
          <a:xfrm>
            <a:off x="6516720" y="1773360"/>
            <a:ext cx="2362320" cy="3311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700720" y="76500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GUILLAUME  APOLLIN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141920"/>
            <a:ext cx="5973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ancouzský básník, dramatik, prozaik, umělecký kritik, propagátor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bismu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autorem názvu dalšího uměleckého směru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rrealismu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brovolně se přihlásil v r.1914 na frontu – dvakrát raně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jej přeložil K.Čapek, celé jeho dílo ovlivnilo českou poezii – J.Wolkra, V.Nezvala, K.Bieb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sb. Alkoho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ejslavnější, obsahuje báseň: 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Pás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olytematická, spontánní proud představ, obrazů, narušená logická souvislost veršů, bez interpunkce, stírají se rozdíly mezi lyrikou a epikou. Tato všehochuť pocitů dává dohromady mnohotvárný pro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sb. Kaligra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apsaná za války na frontě, tvoří ji básně – obrazy ( básně typograficky upravené do rozmanitých tvarů podle námětu básně, např. Eiffelova věž ), spojil tak poezii s malířstv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Zavražděný básn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autobiogra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052360" y="620640"/>
            <a:ext cx="48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VLADIMIR  VLADIMIROVIČ  MAJAKOVSK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File:Mayakovsky 1929 a.jpg"/>
          <p:cNvPicPr/>
          <p:nvPr/>
        </p:nvPicPr>
        <p:blipFill>
          <a:blip r:embed="rId1"/>
          <a:stretch/>
        </p:blipFill>
        <p:spPr>
          <a:xfrm>
            <a:off x="539640" y="1989000"/>
            <a:ext cx="1963800" cy="2735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00360" y="1191240"/>
            <a:ext cx="61927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ký básník, dramatik, výtvarník a prozaik. Spoluautor futuristického sborní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líček veřejnému vku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 jeho tvorby byla dříve ceněna poezie pro sovětský režim, dnes se vracíme k tvorbě předrevoluč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loval o vytvoření nového typu poezie, který by odpovídal cítění člověka moderní d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tvořil si vlastní „stupňovitý“ verš, vnášel do poezie hovorový jazyk, neologismy i neobvyklé metafory, liboval si v hyperbolách, provokoval ustálený vk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Štěni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satirické h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rká láze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 nichž útočil na maloměšťá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Vojna a svět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létna páte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oemy psané za 1. světové války, spojují téma nenaplněné lásky s předtuchou revolu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írou v osvobození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87280" y="1414800"/>
            <a:ext cx="74170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 z fr. Dada = koníček, hračka, náhodně nalezené slovo ) – umělecký směr, který se zrodil za 1. svět. války v Curychu v kabaretu Voltaire z protestu proti fyzickému a duševnímu mrzačení lidstva; dadaisté odmítali všechny hodnoty, řád a logi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ásali anarchii v životě i kultuře, libovali si v nesmyslnosti a náhodě, vymýšleli si naschvály a recese, aby „namíchli“ měšťáky, chtěli šokovat, burcovat, provokovat.Proti rozumu, který dovedl svět k válce, stavěli dadaisté nerozum, nesmysl, náhodu. Proti umění stavěli neu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ás byli dadaismem ovlivněni V.Vančura a F.Halas. Dadaismus podnítil vytvoření ryze českého směru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etis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ná centra: Berlín, Paříž, New York, v r.1922 dadaismus končí vystřídán surreali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9600" y="620640"/>
            <a:ext cx="228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A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349440" y="76500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RISTAN  TZ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[Tristan Tzara]"/>
          <p:cNvPicPr/>
          <p:nvPr/>
        </p:nvPicPr>
        <p:blipFill>
          <a:blip r:embed="rId1"/>
          <a:stretch/>
        </p:blipFill>
        <p:spPr>
          <a:xfrm>
            <a:off x="6372360" y="1700280"/>
            <a:ext cx="1752480" cy="2752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1916280"/>
            <a:ext cx="54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kusil se zformulovat program dadais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anifest dadaism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918,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b. Jízdní řád srd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78880" y="404640"/>
            <a:ext cx="26938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io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1115280"/>
            <a:ext cx="684036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 z lat. expressio = výraz ) – zachycuje bezprostřední, rozumem nekontrolované vnitřní, zejména citové stavy a projevy lidské psychiky. Svou podstatou jsou expresivní tanec, hudba, poezi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jeden ze směrů moderního, avantgardního umění první čtvrtiny 20.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vuje se ve výtvarném umění, literatuře a dramatickém umě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resionismus vyjadřuje pocity tísně, úzkosti, vyvolané přesvědčením, že je člověk bezmocně ztracen v odlidštěném světě ( 1.svět. válka ). Vyjadřuje i touhu po vytvoření nového lidství na základě všeobecného sbratř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českém prostředí vynikl expresionismus nejvíce po 1.svět. vál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livnil: J.Klímu, bratry Josefa a Karla Čapka ( drama Ze života hmyzu ), V.Vančuru ( román Pole orná a válečná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495240" y="907560"/>
            <a:ext cx="22579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rreal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79240" y="104472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ANDRÉ  BR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r%C3%A9_Breton_1938"/>
          <p:cNvPicPr/>
          <p:nvPr/>
        </p:nvPicPr>
        <p:blipFill>
          <a:blip r:embed="rId1"/>
          <a:stretch/>
        </p:blipFill>
        <p:spPr>
          <a:xfrm>
            <a:off x="6156360" y="1557360"/>
            <a:ext cx="155268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432600" y="828000"/>
            <a:ext cx="25689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ROBINSON  JE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38240" cy="2494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478440"/>
            <a:ext cx="7213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očátku 20.stol. zaznamenávala věda svůj doposud největší rozmach: Enstein – teorie relativity, Freud – psychoanalýza, první automobil, letadlo, rozhlas, dobytí severního a jižního pó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literaturu 1. pol. 20. stol. jsou významné tyto myšlenkové smě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gma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( pragma = čin ) – vychází z názoru, že zákony a pojmy jsou pravdivé jen tehdy, pokud jsou prospěšné v praxi. (americké podnikání – individualismus).U nás nejvíce ovlivnil K.Čap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nanim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( una anima = jedna duše ) – zdůrazňuje kolektiv. Po vypjatém individualismu je smysl pro kolektivnost přitažlivý. Nejvíce ovlivnil francouzskou literatu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x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pracoval jej německý filozof Karel Marx. Zdůrazňuje protiklady spojené s rozvojem kapitalismu, mluví o antagonistických společenských třídách. V.I.Lenin doplnil o teorii revoluce marxismus leninism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orií socialistického realismu byli ovlivněni: M.Majerová, I.Olbracht, V.Nezval, V.Vančura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860560" y="902160"/>
            <a:ext cx="3676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FRANCIS  SCOTT  FITZGER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527800" y="1700280"/>
            <a:ext cx="2574720" cy="3322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785320" y="828000"/>
            <a:ext cx="26190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THEODORE  DRE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5796000" y="774720"/>
            <a:ext cx="2192400" cy="3054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65440" y="764640"/>
            <a:ext cx="218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UPTON  SINCL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749920" y="1557360"/>
            <a:ext cx="2057400" cy="2771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74440" y="836280"/>
            <a:ext cx="21772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SINCLAIR   LEW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181240" cy="2954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78160" y="828360"/>
            <a:ext cx="22381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MARCEL  PRO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047680" cy="30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637440" y="764640"/>
            <a:ext cx="1678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ANDRÉ  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329080" y="1413000"/>
            <a:ext cx="2478240" cy="3433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3565080" y="972720"/>
            <a:ext cx="19468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MAXIM  GORK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173320" cy="3166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629080" y="620280"/>
            <a:ext cx="43077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MICHAIL  AFANASJEVIČ  BULGA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580000" y="1700280"/>
            <a:ext cx="2190960" cy="3114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488320" y="691920"/>
            <a:ext cx="41673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SERGEJ  ALEXANDROVIČ  JESE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156360" y="2170080"/>
            <a:ext cx="2104920" cy="3059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2430720" cy="32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421800" y="620280"/>
            <a:ext cx="18813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FRANZ  KAF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 rot="10800000">
            <a:off x="971280" y="184428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ece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 z lat. secessio = odloučení, odstoupení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cký směr, jenž reaguje na přelomu 19.a 20. století  na rozvoj vědy, techniky a civilizace prosazováním návratu k přírodě, vystupuje proti tradi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jím cílem je kultivovat moderní prostředí jako cel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literatuře splýval secesní sloh s prvky symbolismu, impresionismu a deka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781800" y="54936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132720" y="549000"/>
            <a:ext cx="2582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EGON  ERWIN  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446280" cy="2465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421440" y="620280"/>
            <a:ext cx="18694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JAMES  JOY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162160" cy="2897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26920" y="1268280"/>
            <a:ext cx="79678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en.wikipedia.org/wiki/File:FilippoTommasoMarinetti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en.wikipedia.org/wiki/File:Guillaume_Apollinaire_191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en.wikipedia.org/wiki/File:Mayakovsky_1929_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upload.wikimedia.org/wikipedia/commons/a/aa/Andr%C3%A9_Breton_193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Andr%C3%A9_Breton_193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Robinson_Jeff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Francis_Scott_Fitzgerald_1937_June_4_(2)_(photo_by_Carl_van_Vechten)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Upton_Beall_Sinclair_J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Lewis-Sinclair-LOC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Marcel_Proust_190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Gide_189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Maxim_Gorky_LOC_3c00472u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Kafka_portrai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KischMelbourne193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Revolutionary_Joyce_Better_Contras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069440" y="6922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Soubor:Prag Prague Hauptbahnhof Eingang (2005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268280"/>
            <a:ext cx="3997440" cy="3638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479240" y="522936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avní nádraží v Pr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V%C3%A1clavsk%C3%A9_n%C3%A1mest%C3%AD_Hotel_Evropa_2005-03-26_00"/>
          <p:cNvPicPr/>
          <p:nvPr/>
        </p:nvPicPr>
        <p:blipFill>
          <a:blip r:embed="rId3"/>
          <a:stretch/>
        </p:blipFill>
        <p:spPr>
          <a:xfrm>
            <a:off x="5580000" y="1341360"/>
            <a:ext cx="2702160" cy="3600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778720" y="524844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hotel Evropa v Pr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oubor:Charles Rennie Mackintosh 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765000"/>
            <a:ext cx="1666800" cy="4608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047960" y="56602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arles Rennie Mackinto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File:Mucha window in St Vit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836640"/>
            <a:ext cx="3292560" cy="4390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5869800" y="5589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fons Mu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42920" y="1844640"/>
            <a:ext cx="72043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řeby literárního vývoje vedly ke vzniku četných směrů, vedle základního uměleckého proud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smu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erý se přizpůsobuje podmínkám nové doby, se objevují významné směry s odlišnými koncepcemi, které znamenaly obrat v umění, mnohé vycházely z výtvarného u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2320" y="83664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NÍ  BÁSNICKÉ  SM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566520" y="33336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933840"/>
            <a:ext cx="7142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 z lat. futurus = budoucí ) – je umělecký směr projevující se v literatuře a výtvarném umění v 1. čtvrtině 20. stol. Představuje spolu s fauvismem počátek avantgardy. Obdivoval techniku a městskou civilizaci, chtěl vytvořit umění, které by odpovídalo ruchu a tempu nadcházejícího průmyslového vě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futuristy měly vliv myšlenky německého filozofa F. Nietzscheho týkající se kultu nadčlověka, jenž svou vůlí k moci sám stanovuje měřítka dobra a zla, pravdy a omy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ejně jako futurismus hlásal potřebu osvobození člověka z dosavadních vazeb, v literatuře chtěl  osvobodit i slovo z věty a větných spojení, aby mohlo vyjádřit onomatopoií ( zvukomalbou ) a kakofonií ( nelibozvučností ) rachot strojů a letadel, aby působilo zrakově ( typogramy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em futurismus je zkratkovitost a mnohotvárnost. Básnický obraz vytvářeli autoři na základě představ volně sdružujících objekty i vzájemně vzdálené a nesourod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00px-Umberto_Boccioni_001"/>
          <p:cNvPicPr/>
          <p:nvPr/>
        </p:nvPicPr>
        <p:blipFill>
          <a:blip r:embed="rId1"/>
          <a:stretch/>
        </p:blipFill>
        <p:spPr>
          <a:xfrm>
            <a:off x="1908000" y="1268280"/>
            <a:ext cx="5832720" cy="3497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3783240" y="50133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berto Bocc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54920" y="62064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ILIPPO  TOMMASO  MARIN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File:FilippoTommasoMarinett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557360"/>
            <a:ext cx="256860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640" y="1558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ladatel futurismu, italský básník a dramatik, au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ifestu futurismu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chází z teorie osvobozených slov, odstraňuje interpunkci, posiluje úlohu podstatných jmen a sloves na úkor přídavných jmen a příslovcí, skládá slova bez ohledu na logické vazby a pravidle syntax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b. Osvobozená s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zak</cp:lastModifiedBy>
  <dcterms:modified xsi:type="dcterms:W3CDTF">2011-02-24T14:45:23Z</dcterms:modified>
  <cp:revision>62</cp:revision>
  <dc:subject/>
  <dc:title>POSLOUPNOSTI</dc:title>
</cp:coreProperties>
</file>