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20C17-1D5D-4724-B6B8-54A061AD6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060FC-E45C-4E38-A717-CC5E5EA43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E64F5-150D-4F03-A73D-116DF91B6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7E863-149D-4B61-BC13-767128482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96A89-9406-4F7E-A088-D37F119DF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0BDC8-17AC-4BD1-A0D4-6F1B8B8B8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E6EE6-94AE-435D-B5E9-C16DB49CB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0A733-2D76-4D17-BC1C-F71D1EF4E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10065-73E1-4C99-927C-C6688FD34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91A2A-7FD1-440E-B0C5-061D61677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9D1CA-5AEB-4D5E-8B47-B39FB9D04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64B79-47BF-480A-81A7-5FA38E0C7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62FF2-C85A-42A0-9381-64B1F4200AA6}" type="datetime">
              <a:rPr b="0" lang="cs-CZ" sz="1400" spc="-1" strike="noStrike">
                <a:solidFill>
                  <a:srgbClr val="000000"/>
                </a:solidFill>
                <a:latin typeface="Arial"/>
              </a:rPr>
              <a:t>30.07.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DE66C-C926-484A-9660-499E959F0E57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f/f9/Jan_Vil&#237;mek_-_Alois_Jir&#225;sek.jpg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4/49/Zikmund_Winter_Vilimek.jpg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d/de/Karel_Vaclav_Rais_1896.png" TargetMode="Externa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1/16/Jan_Vil&#237;mek_-_Bo&#382;ena_N&#283;mcov&#225;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1/10/Gabriela_Preissova_Vilimek.jpg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cs.wikipedia.org/wiki/Soubor:Vilem_Mrstik_1897.png" TargetMode="Externa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d/de/Jan_Vil&#237;mek_-_Karel_Havl&#237;&#269;ek_Borovsk&#253;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7" descr="loga_bar"/>
          <p:cNvPicPr/>
          <p:nvPr/>
        </p:nvPicPr>
        <p:blipFill>
          <a:blip r:embed="rId1"/>
          <a:stretch/>
        </p:blipFill>
        <p:spPr>
          <a:xfrm>
            <a:off x="1258920" y="549360"/>
            <a:ext cx="6769080" cy="1044360"/>
          </a:xfrm>
          <a:prstGeom prst="rect">
            <a:avLst/>
          </a:prstGeom>
          <a:ln w="0">
            <a:noFill/>
          </a:ln>
        </p:spPr>
      </p:pic>
      <p:sp>
        <p:nvSpPr>
          <p:cNvPr id="43" name="WordArt 9"/>
          <p:cNvSpPr txBox="1"/>
          <p:nvPr/>
        </p:nvSpPr>
        <p:spPr>
          <a:xfrm>
            <a:off x="971640" y="2492280"/>
            <a:ext cx="7273800" cy="15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Česká realistická tvorba 19. století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4" name="Text Box 10"/>
          <p:cNvSpPr/>
          <p:nvPr/>
        </p:nvSpPr>
        <p:spPr>
          <a:xfrm>
            <a:off x="6590520" y="5084640"/>
            <a:ext cx="101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iří Hů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3205440" y="907920"/>
            <a:ext cx="206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99"/>
                </a:solidFill>
                <a:latin typeface="Arial"/>
              </a:rPr>
              <a:t>Alois Jirás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5"/>
          <p:cNvSpPr/>
          <p:nvPr/>
        </p:nvSpPr>
        <p:spPr>
          <a:xfrm>
            <a:off x="3133800" y="333360"/>
            <a:ext cx="255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c0000"/>
                </a:solidFill>
                <a:latin typeface="Arial"/>
              </a:rPr>
              <a:t>Historická pró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7" descr="Soubor:Jan Vilímek - Alois Jirásek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12000" y="1136520"/>
            <a:ext cx="2612880" cy="3068640"/>
          </a:xfrm>
          <a:prstGeom prst="rect">
            <a:avLst/>
          </a:prstGeom>
          <a:ln w="0">
            <a:noFill/>
          </a:ln>
        </p:spPr>
      </p:pic>
      <p:sp>
        <p:nvSpPr>
          <p:cNvPr id="73" name="Obdélník 1"/>
          <p:cNvSpPr/>
          <p:nvPr/>
        </p:nvSpPr>
        <p:spPr>
          <a:xfrm>
            <a:off x="709560" y="1628640"/>
            <a:ext cx="4978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chází z Hronova, středoškolský profesor – Litomyšl, Prah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Znaky tvorby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)    velká popisn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edostatečné prokreslení psychologie postav (zejména ženskýc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oncepce dějin – vychází z Palackého – dějiny netvoří jedinec, ale masy lid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bohatý dě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umělecký směr = kritický realismus – úsilí po pravdivém zobrazení minulosti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Zástupný symbol pro zápatí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Obdélník 2"/>
          <p:cNvSpPr/>
          <p:nvPr/>
        </p:nvSpPr>
        <p:spPr>
          <a:xfrm>
            <a:off x="1116000" y="692280"/>
            <a:ext cx="72010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62673"/>
                </a:solidFill>
                <a:latin typeface="Arial"/>
              </a:rPr>
              <a:t>Období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) Husitstv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Mezi proudy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počátky husitství do roku 14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1409 = Dekret kutnohorsk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rozpory – Václav IV. x Jan z Nepomuku (pro Václavovy sympatie k Husovi a reform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 poměry na UK v době působení Jana Hu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Proti všem</a:t>
            </a:r>
            <a:r>
              <a:rPr b="0" lang="cs-CZ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vrchol husitství, budování Tábora, bitva na Vítkově, bitva pod Vyšehradem, křížová výprava Zikmunda proti Pražanům a Táboritům, osudy adamit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Bratrst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doznívání husitstv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osud bratříků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Husitský krá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vláda Jiřího z Poděbr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60. léta 15. stolet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Zástupný symbol pro zápatí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Obdélník 2"/>
          <p:cNvSpPr/>
          <p:nvPr/>
        </p:nvSpPr>
        <p:spPr>
          <a:xfrm>
            <a:off x="468360" y="117360"/>
            <a:ext cx="835164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b) doba pobělohorsk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) husitské bouře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Skál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Čáslavsk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Skaláci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Náchodsk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Psohlavci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Chodsk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2) období rekatoliz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Tem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20. léta 18.století – severovýchod Če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ámět: osud rodiny tajného nekatolíka – myslivce Machovce a jeho dvou dospívajících dětí (Helena a Tomáš). Správce Machovce udá – útěk , děti dány na výchovu do Prahy – katolická rodina Březinových, Helena se zamiluje do Jiřího Březiny, který se má stát knězem, Tomáš pracuje na vinici. Otec s ním naváže kontakt a obě děti s ním odcház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typický osud nekatolík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typizace románových post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černobílé vidění postav (katolíci x nekatolíci) – páter Koniáš, správce panství x Machovec a rodina + slušní katolíci, podrobují se tlaku do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odsouzení fanatičnosti, nesvobo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Zástupný symbol pro zápatí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Obdélník 2"/>
          <p:cNvSpPr/>
          <p:nvPr/>
        </p:nvSpPr>
        <p:spPr>
          <a:xfrm>
            <a:off x="1187280" y="981000"/>
            <a:ext cx="6031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3) Národní obroze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F.L.Vě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– pětidílný román z národního obroze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Filosofská histor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tudenti filosofie v Litomyšli – Vavřena, Špína, Frýb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říprava zakázaného majálesu, účast na revolučních událostech roku 1848 – Špína umírá v Praze na barikádě x aktuár Boubínek = pohodlný, zbabělý, lhostejn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Zástupný symbol pro zápatí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Obdélník 2"/>
          <p:cNvSpPr/>
          <p:nvPr/>
        </p:nvSpPr>
        <p:spPr>
          <a:xfrm>
            <a:off x="1116000" y="1125360"/>
            <a:ext cx="7326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4) dram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Jan Hus, Jan Žižka, Jan Roháč z Dubé</a:t>
            </a:r>
            <a:r>
              <a:rPr b="0" lang="cs-CZ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trilogie z husitského obdob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Vojnark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– ze současnosti – dá přednost dítěti před milenc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Lucern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– pohádkový námět – symbol podřízenosti panstvu – mladý mlynář je povinen svítit na cestu k lesnímu zámečku paní kněžně – ta lucernu rozbíjí – ukončení poddanstv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ůraz na lidové postavy – čestnost, hrdost, muzikálnost, smysl pro humor (později Drd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 románech A. Jiráska není hrdinou jedna postava, ale lid typizovaný několika postavami. Děj bývá bohatý, několikaproudý – dochází k prolínání. Barvitě představuje dobovou atmosféru a dramaticky zobrazuje válečné scény. Některé romány mají spíše podobu kronik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3203280" y="476280"/>
            <a:ext cx="24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99"/>
                </a:solidFill>
                <a:latin typeface="Arial"/>
              </a:rPr>
              <a:t>Zikmund Wi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6" descr="Soubor:Zikmund Winter Vilimek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508720" y="1341360"/>
            <a:ext cx="3002040" cy="3721320"/>
          </a:xfrm>
          <a:prstGeom prst="rect">
            <a:avLst/>
          </a:prstGeom>
          <a:ln w="0">
            <a:noFill/>
          </a:ln>
        </p:spPr>
      </p:pic>
      <p:sp>
        <p:nvSpPr>
          <p:cNvPr id="85" name="Obdélník 1"/>
          <p:cNvSpPr/>
          <p:nvPr/>
        </p:nvSpPr>
        <p:spPr>
          <a:xfrm>
            <a:off x="468360" y="177336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tředoškolský profesor historie a archivář. Autor kratších próz a jednoho románu – využívá hojně archaismů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Zástupný symbol pro zápatí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Obdélník 2"/>
          <p:cNvSpPr/>
          <p:nvPr/>
        </p:nvSpPr>
        <p:spPr>
          <a:xfrm>
            <a:off x="250920" y="836640"/>
            <a:ext cx="85690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Rakovnické obráz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edním z nejzdařilejších  rakovnických obrázků je povídk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Nezbedný bakalář</a:t>
            </a:r>
            <a:r>
              <a:rPr b="0" lang="cs-CZ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o konfliktech lehkovážného učitele s rakovnickými měšťany (fil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Pražské obráz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Ústředními postavami jsou lidé ocitající se ve vleku svých vášní (sexuálních, majetkových). Tyto vášně jsou příčinou jejich pád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Rozina sebranec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ostředí a jeho vliv na osud hrdiny, Rozina nemá šanci se zbavit cejchu nalezence – za peníze je možné získat vše – i smr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Mistr Kampan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omán líčící osudy Jana Kampana Vodňanského, rektora university, a události kolem roku 1620  - politický převrat, poprava 27 českých pánů, poměry na U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rovnání s Jiráske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3134880" y="836640"/>
            <a:ext cx="272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99"/>
                </a:solidFill>
                <a:latin typeface="Arial"/>
              </a:rPr>
              <a:t>Karel Václav Ra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3135600" y="333360"/>
            <a:ext cx="266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c0000"/>
                </a:solidFill>
                <a:latin typeface="Arial"/>
              </a:rPr>
              <a:t>Venkovská pró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7" descr="Soubor:Karel Vaclav Rais 1896.p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372360" y="1484280"/>
            <a:ext cx="2106360" cy="3429000"/>
          </a:xfrm>
          <a:prstGeom prst="rect">
            <a:avLst/>
          </a:prstGeom>
          <a:ln w="0">
            <a:noFill/>
          </a:ln>
        </p:spPr>
      </p:pic>
      <p:sp>
        <p:nvSpPr>
          <p:cNvPr id="92" name="Obdélník 1"/>
          <p:cNvSpPr/>
          <p:nvPr/>
        </p:nvSpPr>
        <p:spPr>
          <a:xfrm>
            <a:off x="1287360" y="2044800"/>
            <a:ext cx="457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arodil se v rodině rolníka a tkalce z Lázní Bělohrad. Pracoval jako učitel – Trhová Kamenice, Hlinecko, Praha.Ve svých povídkách zobrazil rozkládající se rodinné svazky, spory dětí a rodičů, moc peněz, touh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 „panském“ životě – osudy těch, kteří se nemohou bránit – dětí a starých lid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Zástupný symbol pro zápatí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Obdélník 2"/>
          <p:cNvSpPr/>
          <p:nvPr/>
        </p:nvSpPr>
        <p:spPr>
          <a:xfrm>
            <a:off x="1116000" y="620640"/>
            <a:ext cx="6318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) povídkové sbír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Rodiče a děti</a:t>
            </a:r>
            <a:r>
              <a:rPr b="0" lang="cs-CZ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vedle narušených rodinných vztahů i kladné vz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Horské kořeny</a:t>
            </a:r>
            <a:r>
              <a:rPr b="0" lang="cs-CZ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obyvatelé horské přírody – drsní, ale mravně ušlechtilí, vlasten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Výminkáři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– vlastní zážitky, touha po majetku, krutost v mezilidských vztazích, týrání starých rodič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1187280" y="3429000"/>
            <a:ext cx="7272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b) romá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Kalibův zloč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říběh vojty Kaliby, jenž je uštván ženou, tchýní i okolím, jenž ochotně věří pomluvám. Kvůli intrikám je odsouzen a uvězněn. Při návratu z vězení pozná, že jeho láska k ženě není opětována a že ani dítě není jeho. V rozrušení zabije svoji ženu a sám rovněž umírá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Zástupný symbol pro zápatí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Obdélník 2"/>
          <p:cNvSpPr/>
          <p:nvPr/>
        </p:nvSpPr>
        <p:spPr>
          <a:xfrm>
            <a:off x="274680" y="1052640"/>
            <a:ext cx="84247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Zapadlí vlasten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40.léta 19.století – Podkrkonoší – konec 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Inspirace: paměti lidového písmáka – V. Metel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cenění role vesnické inteligence – idealizace postav. ( farář Stehlík, učitel Čermák, řídící Čížek 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Pantáta Bezouš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umoristický román – oslava prostého venkovana – sedlák, který přijíždí do Prahy navštívit svého syna si svou upřímnou povahou podmaňuje tamní společnost – očišťuje ji od vlivu velkoměs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Záp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ejzdařilejší román. Psychologická charakteristika hrdiny – farář  Kalous (obětavý, pomáhá farníkům x je dán do výslužby, těžce to nes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Bída na venkově, kritika pražské buržoazie – zapomíná na odlehlý venkov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7"/>
          <p:cNvSpPr/>
          <p:nvPr/>
        </p:nvSpPr>
        <p:spPr>
          <a:xfrm>
            <a:off x="611280" y="1499400"/>
            <a:ext cx="48243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arodila se ve Vídni (datum, původ a další okolnosti nejasné). Dětství prožila v rodině Panklových v Ratibořicích. Nejvíce ji ovlivnila babička – Magdaléna Novotná. V deseti letech dána na vychování do zámečku v Chvalšovicích – zde se seznamuje s literaturou. V 17 letech provdána za Josefa Němce – častokrát se stěhovali – Praha, Litomyšl, Chodsko, Slovensko. Měla čtyři děti – syn Hynek umírá. V manželství nebyla nikdy šťastná – často trpěli bído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8"/>
          <p:cNvSpPr/>
          <p:nvPr/>
        </p:nvSpPr>
        <p:spPr>
          <a:xfrm>
            <a:off x="2055240" y="836640"/>
            <a:ext cx="270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99"/>
                </a:solidFill>
                <a:latin typeface="Arial"/>
              </a:rPr>
              <a:t>Božena Němcov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0" descr="Soubor:Jan Vilímek - Božena Němcová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84720" y="1268280"/>
            <a:ext cx="2571840" cy="328932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3207960" y="476280"/>
            <a:ext cx="266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99"/>
                </a:solidFill>
                <a:latin typeface="Arial"/>
              </a:rPr>
              <a:t>Tereza Novákov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1"/>
          <p:cNvSpPr/>
          <p:nvPr/>
        </p:nvSpPr>
        <p:spPr>
          <a:xfrm>
            <a:off x="1042920" y="1557360"/>
            <a:ext cx="6624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chází z pražské poloněmecké rodiny. Znalost cizích jazyků – znalost evropské literatury. Po svatbě se odstěhovala do Litomyšle – zde národopisné studie, ženské hnutí. Návrat do Prahy – rediguje časopis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Ženský svět.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bdivovatelka Karoliny Světlé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áměty románů pocházejí z východních Čech. Všechny hlavní postavy skutečně žily. Hrdinové jsou ušlechtilí lidé, bojující podle svých možností za společenský pokro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Zástupný symbol pro zápatí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Obdélník 2"/>
          <p:cNvSpPr/>
          <p:nvPr/>
        </p:nvSpPr>
        <p:spPr>
          <a:xfrm>
            <a:off x="755640" y="620640"/>
            <a:ext cx="7848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Jiří Šmatlá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říběh chudého tkalce, který se vyznačoval velkou čtenářskou hloubavostí. Po celý život hledá pravdu. Přechází od katolictví k evangelictví. Získává povědomí o dělnickém hnutí a socialistických ideálech. Stává se stoupencem utopického socialismu a umírá s vírou, že je blízko té „opravdové pravdy“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Děti čistého živéh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rdinové, členové sekty adamitů z druhé poloviny 19.století, vyznávají „čistého a živého“ neosobního Boha. Postupem času se stávají obětí vzájemných sporů, pomluv okolí a zjednodušených názorů. Sekta se rozpadá a následuje série osobních tragédií (i sebevražda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Na Librově gruntě</a:t>
            </a:r>
            <a:r>
              <a:rPr b="0" lang="cs-CZ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východočeská vesnice v polovině 19.století – útlak, robota, daně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Maloměstský román</a:t>
            </a:r>
            <a:r>
              <a:rPr b="0" lang="cs-CZ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osudy dcery K. Havlíčka Borovského – obětuje z vlasteneckých důvodů svou lásk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                        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 cizin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3109320" y="1989000"/>
            <a:ext cx="292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99"/>
                </a:solidFill>
                <a:latin typeface="Arial"/>
              </a:rPr>
              <a:t>Josef Karel Šlejh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3494520" y="404640"/>
            <a:ext cx="211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c0000"/>
                </a:solidFill>
                <a:latin typeface="Arial"/>
              </a:rPr>
              <a:t>Naturalism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Obdélník 1"/>
          <p:cNvSpPr/>
          <p:nvPr/>
        </p:nvSpPr>
        <p:spPr>
          <a:xfrm>
            <a:off x="684360" y="981000"/>
            <a:ext cx="77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 Čechách dlouho odmítán coby nemravné umění – šablonovité, chorobně pesimistické.Proti se stavěli E.Krásnohorská, T.G.Masaryk, F.X.Šald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bdélník 2"/>
          <p:cNvSpPr/>
          <p:nvPr/>
        </p:nvSpPr>
        <p:spPr>
          <a:xfrm>
            <a:off x="655560" y="3068640"/>
            <a:ext cx="7804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Kuře melancholi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říběh dítěte, které je vystaveno po smrti matky bezcitnosti okolí v čele s macechou – umírá v ústraní staré kůlny jako slabé, nevyvinuté kuř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4"/>
          <p:cNvSpPr/>
          <p:nvPr/>
        </p:nvSpPr>
        <p:spPr>
          <a:xfrm>
            <a:off x="2773800" y="476280"/>
            <a:ext cx="366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99"/>
                </a:solidFill>
                <a:latin typeface="Arial"/>
              </a:rPr>
              <a:t>Karel Matěj Čapek Ch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Obdélník 1"/>
          <p:cNvSpPr/>
          <p:nvPr/>
        </p:nvSpPr>
        <p:spPr>
          <a:xfrm>
            <a:off x="1116000" y="1700280"/>
            <a:ext cx="72010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Turbí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hroucení podnikatelských záměrů ambiciózního muže – úpadek celé rodin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Kašpar Lén mstit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sychologická studie vzniku zločinu zedníka, kterého bezpráví přivede až k vraždě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Zástupný symbol pro zápatí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Obdélník 2"/>
          <p:cNvSpPr/>
          <p:nvPr/>
        </p:nvSpPr>
        <p:spPr>
          <a:xfrm>
            <a:off x="900000" y="981000"/>
            <a:ext cx="70567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2060"/>
                </a:solidFill>
                <a:latin typeface="Arial"/>
              </a:rPr>
              <a:t>Národní divad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863 – položen základní kámen 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881 – zahájen provoz, první představení = Smetanova Libuš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883 – definitivně otevřeno ND – na jeho scéně se ujal realismus – jedinec v přirozeném, reálně prokresleném prostředí. Vymizela lyričnost a subjektivnost, verš střídá próza. Objevuje se běžně mluvený jazyk i nářeč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rchitektura – Josef Zítek (pochován v Malenicíc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ochy – Myslbek – socha hudby v hlavní h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rigy = koně pod střechou - Šni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pona – Vojtěch Hina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resby – Mikoláš Ale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3205080" y="836640"/>
            <a:ext cx="35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99"/>
                </a:solidFill>
                <a:latin typeface="Arial"/>
              </a:rPr>
              <a:t>Ladislav Stroupežnick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3422160" y="333360"/>
            <a:ext cx="277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c0000"/>
                </a:solidFill>
                <a:latin typeface="Arial"/>
              </a:rPr>
              <a:t>Realistické dra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9" descr="Stroupeznicky"/>
          <p:cNvPicPr/>
          <p:nvPr/>
        </p:nvPicPr>
        <p:blipFill>
          <a:blip r:embed="rId1"/>
          <a:stretch/>
        </p:blipFill>
        <p:spPr>
          <a:xfrm>
            <a:off x="6372360" y="1773360"/>
            <a:ext cx="1904760" cy="2419200"/>
          </a:xfrm>
          <a:prstGeom prst="rect">
            <a:avLst/>
          </a:prstGeom>
          <a:ln w="0">
            <a:noFill/>
          </a:ln>
        </p:spPr>
      </p:pic>
      <p:sp>
        <p:nvSpPr>
          <p:cNvPr id="117" name="Obdélník 1"/>
          <p:cNvSpPr/>
          <p:nvPr/>
        </p:nvSpPr>
        <p:spPr>
          <a:xfrm>
            <a:off x="236520" y="1484280"/>
            <a:ext cx="59612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ramaturg ND.První úspěšné hry – historické komedie o záletech Mikuláše Dačického z Heslov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Zvíkovský raráš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Paní mincmistrov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o rozvoj českého dramatu byla významná hr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Naši furian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dehrává se na soudobé vesnici na Písecku. Jde o spor dvou radních – výběr kandidáta na místo ponocného. Vytvoření typů venkovského obyvatelstva. Sedlák –pyšný, tvrdohlavý i dobrosrdečn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dstartovala sérii her z vesnického prostředí na scéně N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4"/>
          <p:cNvSpPr/>
          <p:nvPr/>
        </p:nvSpPr>
        <p:spPr>
          <a:xfrm>
            <a:off x="3205440" y="476280"/>
            <a:ext cx="292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99"/>
                </a:solidFill>
                <a:latin typeface="Arial"/>
              </a:rPr>
              <a:t>Gabriela Preissov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6" descr="Soubor:Gabriela Preissova Vilimek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796000" y="1268280"/>
            <a:ext cx="2647800" cy="3500640"/>
          </a:xfrm>
          <a:prstGeom prst="rect">
            <a:avLst/>
          </a:prstGeom>
          <a:ln w="0">
            <a:noFill/>
          </a:ln>
        </p:spPr>
      </p:pic>
      <p:sp>
        <p:nvSpPr>
          <p:cNvPr id="121" name="Obdélník 1"/>
          <p:cNvSpPr/>
          <p:nvPr/>
        </p:nvSpPr>
        <p:spPr>
          <a:xfrm>
            <a:off x="539640" y="1305000"/>
            <a:ext cx="5112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Gazdina roba</a:t>
            </a:r>
            <a:r>
              <a:rPr b="0" lang="cs-CZ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venkovská švadlena odchází od muže k milenci – končí sebevraždo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Její pastorkyňa</a:t>
            </a:r>
            <a:r>
              <a:rPr b="0" lang="cs-CZ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stará mlynářka Kostelnička pomáhá zatajit své schovance narození nemanželského dítěte a zabít je, aby nebránilo jejímu novému milostnému štěstí. Pravda vyjde najev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rsnost a otevřenost her vynesla Preissové ostrou kritiku. Obě její hry byly zhudebněn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ejí pastorkyňa – Leoš Janáč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Gazdina roba – pod názvem Eva – Bohuslav Foer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2626920" y="441360"/>
            <a:ext cx="358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99"/>
                </a:solidFill>
                <a:latin typeface="Arial"/>
              </a:rPr>
              <a:t>Alois a Vilém Mrštíkov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6" descr="220px-Vilem_Mrstik_189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443640" y="1268280"/>
            <a:ext cx="2095560" cy="3610080"/>
          </a:xfrm>
          <a:prstGeom prst="rect">
            <a:avLst/>
          </a:prstGeom>
          <a:ln w="0">
            <a:noFill/>
          </a:ln>
        </p:spPr>
      </p:pic>
      <p:sp>
        <p:nvSpPr>
          <p:cNvPr id="125" name="Obdélník 1"/>
          <p:cNvSpPr/>
          <p:nvPr/>
        </p:nvSpPr>
        <p:spPr>
          <a:xfrm>
            <a:off x="611280" y="1147680"/>
            <a:ext cx="55450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Maryš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ilém měl na hře větší autorský podí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říběh dívky Maryši ze slovácké vesnice, která je svým otcem donucena provdat se za vdovce, mlynáře Vávru  (mnohem starší, bohatý). Její milý, Francek, odchází na vojnu. Maryša je v manželství nešťastná. Její otec, Lízal, ji pozdě lituje. Francek se vrací do vsi a přemlouvá Maryšu k útěku do města. Pokračují spory mezi Lízalem a Vávrou o Maryšino věno. Maryša otráví Vávru – nemá sílu ho opustit – společenské a náboženské předsudky. Hra je doplněna písněmi, kroji a psána ve slováckém nářeč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4"/>
          <p:cNvSpPr/>
          <p:nvPr/>
        </p:nvSpPr>
        <p:spPr>
          <a:xfrm>
            <a:off x="3132000" y="549360"/>
            <a:ext cx="272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Informační zdro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5"/>
          <p:cNvSpPr/>
          <p:nvPr/>
        </p:nvSpPr>
        <p:spPr>
          <a:xfrm>
            <a:off x="971640" y="1268280"/>
            <a:ext cx="7704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ttp://cs.wikipedia.org/wiki/Soubor:Jan_Vil%C3%ADmek_-_Karel_Havl%C3%AD%C4%8Dek_Borovsk%C3%BD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ttp://cs.wikipedia.org/wiki/Soubor:Jan_Vil%C3%ADmek_-_Alois_Jir%C3%A1sek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ttp://cs.wikipedia.org/wiki/Soubor:Jan_Vil%C3%ADmek_-_Bo%C5%BEena_N%C4%9Bmcov%C3%A1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ttp://cs.wikipedia.org/wiki/Soubor:Zikmund_Winter_Vilimek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ttp://cs.wikipedia.org/wiki/Soubor:Karel_Vaclav_Rais_1896.p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ttp://upload.wikimedia.org/wikipedia/commons/0/07/Stroupeznicky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ttp://cs.wikipedia.org/wiki/Soubor:Gabriela_Preissova_Vilimek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ttp://cs.wikipedia.org/wiki/Vil%C3%A9m_Mr%C5%A1t%C3%AD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Zástupný symbol pro zápatí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Obdélník 2"/>
          <p:cNvSpPr/>
          <p:nvPr/>
        </p:nvSpPr>
        <p:spPr>
          <a:xfrm>
            <a:off x="746280" y="549360"/>
            <a:ext cx="330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Obrazy z okolí domažlickéh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Obdélník 3"/>
          <p:cNvSpPr/>
          <p:nvPr/>
        </p:nvSpPr>
        <p:spPr>
          <a:xfrm>
            <a:off x="679320" y="1052640"/>
            <a:ext cx="755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ájem o sociální vztahy a skutečný život na Chodsku. (realistické díl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30080" y="177336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Národní báchorky a pověs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Slovenské pohádky a pověs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Obdélník 5"/>
          <p:cNvSpPr/>
          <p:nvPr/>
        </p:nvSpPr>
        <p:spPr>
          <a:xfrm>
            <a:off x="733320" y="2565360"/>
            <a:ext cx="72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utorka ukázala především vypravěčský talent (Erben se omezoval na dějovou linii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Obdélník 6"/>
          <p:cNvSpPr/>
          <p:nvPr/>
        </p:nvSpPr>
        <p:spPr>
          <a:xfrm>
            <a:off x="755640" y="3357720"/>
            <a:ext cx="6246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Babič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ozsáhlá povídka čerpající ze vzpomínek na babičku, která tráví poslední léta života na Starém bělidle a stará se o vnoučata – Adélku, Barunku (autorka), Jana a Vilímka. Kniha zachycuje jeden rok života, děj má souvislou linii, jde o zachycení jednotlivých obrazů. Babička je zidealizovanou postavo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Babička: moudrá, pracovitá s vztahem k pozitivnímu životu a vlastenectví, umí urovnat sp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omanticky tragická postava Viktork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Zástupný symbol pro zápatí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Obdélník 2"/>
          <p:cNvSpPr/>
          <p:nvPr/>
        </p:nvSpPr>
        <p:spPr>
          <a:xfrm>
            <a:off x="971640" y="1028880"/>
            <a:ext cx="63180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Divá Bára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vídka o dívce, jež překonává strach a pověry a umí vzepřít společenské nespravedlnosti a konvencím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Karla</a:t>
            </a:r>
            <a:r>
              <a:rPr b="0" lang="cs-CZ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atka vydává svého syna za dívku, aby nemusel na voj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Pan učit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utorka se vrací do dětství – vytváří obraz ideálního učite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V zámku a v podzámč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onfrontace života pánů a lidí v podzámč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Pohorská vesn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ociálně-utopické dílo o lidumilné šlechtě. Idealizovaná vesnice, má didaktický charakter – rozmluvy postav jsou nabádavé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4"/>
          <p:cNvSpPr/>
          <p:nvPr/>
        </p:nvSpPr>
        <p:spPr>
          <a:xfrm>
            <a:off x="2991960" y="549360"/>
            <a:ext cx="373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99"/>
                </a:solidFill>
                <a:latin typeface="Arial"/>
              </a:rPr>
              <a:t>Karel Havlíček Borovsk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6" descr="Soubor:Jan Vilímek - Karel Havlíček Borovský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56360" y="1125360"/>
            <a:ext cx="2446200" cy="3044880"/>
          </a:xfrm>
          <a:prstGeom prst="rect">
            <a:avLst/>
          </a:prstGeom>
          <a:ln w="0">
            <a:noFill/>
          </a:ln>
        </p:spPr>
      </p:pic>
      <p:sp>
        <p:nvSpPr>
          <p:cNvPr id="60" name="Obdélník 1"/>
          <p:cNvSpPr/>
          <p:nvPr/>
        </p:nvSpPr>
        <p:spPr>
          <a:xfrm>
            <a:off x="900000" y="1341360"/>
            <a:ext cx="504036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Novinář, literární kritik, básník, satirik a překladatel (ruština, polština). Narodil se v Borové (u Německého Brodu) v rodině kupce. Studoval gymnázium, kněžský seminář (kněz – může působit na lidi) – věnoval se otázkám náboženské svobody – zrušení celibátu, zrušení latiny, církevní cenzury – vyloučen (údajně za špatnou známku z hebrejštiny). Začíná psát epigramy proti církvi. Odjíždí do Moskvy – vychovatel v rodině profesora Povodin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Odjel jako obhájce myšlenky vzájemnosti x vrací se jako kritik carského absolutismu (nevolnictví, útlak Poláků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 roce 1851, bez vynesení rozsudku, násilně převezen do Brixenu (Tyrolsko).1855 povolen návrat – tuberkulóza, 1856 umírá – pohřeb = tichá demonstrace odporu proti Bachovi. (B. Němcová – věnec z trnových růží na rakev = souhlas s názory  K.Havlíčka Borovského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Zástupný symbol pro zápatí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bdélník 2"/>
          <p:cNvSpPr/>
          <p:nvPr/>
        </p:nvSpPr>
        <p:spPr>
          <a:xfrm>
            <a:off x="1187280" y="1166760"/>
            <a:ext cx="646272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Novinářská prá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) Pražské noviny = vládní list – agitace pro založení ND a pořádání sbíre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požadavek austroslavismu = samostatný politický, kulturní a hospodářský rozvo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Čech v rámci Rakous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b) Národní noviny = vlastní novi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litické popěvky + články proti ústavě – noviny zakázá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c) Slovan – politický týdeník (Kutná Hora), ve kterém ostře kritizuje Bachovský absolutismus – zakázá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Zástupný symbol pro zápatí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bdélník 2"/>
          <p:cNvSpPr/>
          <p:nvPr/>
        </p:nvSpPr>
        <p:spPr>
          <a:xfrm>
            <a:off x="1187280" y="1197000"/>
            <a:ext cx="6247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Spisovatelská prá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) epigramy – přiváží jich desítky z Moskvy a rozděluje na pět oddílů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Církvi – využívá zážitky ze semináře – kritika círk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ráli -    kritika absolutismu ruského i rakouskéh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lasti, Múzám,, Světu – problémy českého národa, obecnější otáz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Forma dvojdílná: konkrétní situace, předsta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utorovo stanovisko ( pointa 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ostředky: parodie = zesměšnění napodobení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etymologizování – vychází z původního významu slo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lovní hříčky – rak = Rakousk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formy ÚLS (ukolébavka, modlitba …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nižně vycházejí až posmrtně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Zástupný symbol pro zápatí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Obdélník 2"/>
          <p:cNvSpPr/>
          <p:nvPr/>
        </p:nvSpPr>
        <p:spPr>
          <a:xfrm>
            <a:off x="324000" y="620640"/>
            <a:ext cx="8424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b) publicistická próz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Obrazy z R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ukazuje na zaostalost a neutěšené národnostní poměry – cenzur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c) satirické sklad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Král Láv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otiv: německá pohádka, řecká pověst o králi Midasovi. Hloupost a omezenost mocných odnáší prostý člověk. Popravy holičů = brutální trest proti každému, kdo pozná pravý stav věci, pasivita a odevzdanost poddaný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Tyrolské eleg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ikoliv žalozpěv, ale satira. Popis cesty do Brixen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ompozice: retrospektivní – 1. sloka – měsíc nad Brixenem, dále chronologicky: zatčení, loučení s rodinou, cesta přes Alpy, splašení koní – skutečná příhoda – dopis Palackému, příjezd do Brixen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Úvaha o rakouské vládě, policii, armádě, církv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azyk neelegický: slova citově zabarvená, nespisovná, přejatá, zkomolená do nespisovné podoby, dobová slova – němčina, opakování slov, bezespoječná spojování vět, málo básnických prostředků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Zástupný symbol pro zápatí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bdélník 2"/>
          <p:cNvSpPr/>
          <p:nvPr/>
        </p:nvSpPr>
        <p:spPr>
          <a:xfrm>
            <a:off x="684360" y="549360"/>
            <a:ext cx="81356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Křest svatého Vladimíra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legenda z Nestorova rukopisu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Inspirace: staroruské dílo, které oslavuje vítězství křesťanství nad pohanstvím na Kyjevské Rusi (utopení pohanského Peruna v Dněpru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ktualizace historického námětu = satirické dílo, které vznešený námět záměrně zpracovává primitivním znevažujícím způsob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Car Vladimír: typ despoty,samovládce a tyra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Bůh Perun: bručoun, prudký, vznětlivý, je pod pantoflem ( polidštění 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říběh: Car má svátek a nařídí Perunovi, aby zahřměl na jeho počest. Perun odmítne – je uvězněn, souzen civilním soudem – ten na něj nemá paragrafy. Je souzen vojenským soudem – ten paragrafy nepotřebuje – odsouzen k trestu smrti utopením. Po Perunově smrti nechtějí lidé platit desátky, neposlouchají – je vypsán konkurz – do Ruska se sjíždějí představitelé všech církví – horlivostí vynikají jezuité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lavní myšlenky: - kritika absolutistické vlá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ritika názorové nesvobo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ritika lidské pas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13:47:30Z</dcterms:created>
  <dc:creator>ucitel</dc:creator>
  <dc:description/>
  <dc:language>en-US</dc:language>
  <cp:lastModifiedBy>admin</cp:lastModifiedBy>
  <dcterms:modified xsi:type="dcterms:W3CDTF">2012-05-20T14:03:39Z</dcterms:modified>
  <cp:revision>93</cp:revision>
  <dc:subject/>
  <dc:title>POSLOUPNOSTI</dc:title>
</cp:coreProperties>
</file>