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A243-A3FA-45D8-81EF-E138DFB3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A89C-AA2E-4802-AD0B-3F89743D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7B28-6E02-405B-9C86-63748A5D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EF62-DF98-4125-A4DC-08F763C9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DCC8-A4FD-479F-A628-53BB03E0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D7D6-2ADB-4226-A50F-ECCB9FC3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AEE3-634A-46FE-AF61-4E755462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BF8C-6F08-45D3-A9E4-87447DB1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1C86-E361-4820-A444-D2005BB3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A055-0F54-4C6C-8E65-E8CCC5AC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3F9-E4F4-4004-87C5-B4EC7DC7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954C-59DA-4ED4-A654-5FFA3A0C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688C-AFFE-4E05-A912-EBC16A49F61B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62F1-DB77-4637-ADA6-C62ED343A1E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2492280"/>
            <a:ext cx="7344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ISTENCIONALISMUS, MODERNÍ  REALISMU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POSTMODERNISMUS  VE SVĚTOVÉ  LITERATUŘE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42920" y="1208160"/>
            <a:ext cx="712944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5) Další významní světoví spisovatelé 2. pol. 20. stole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to autory nelze přiřadit k vyhraněným literárním tendencí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elká Britá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CLAVELL  J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zv. autor jedné kni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Král kry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ivot v japonském zajateckém táboře Čangi v Singapuru – nepřirozené podmínky zajetí zvláštním způsobem ovlivňují vztahy mezi těmi, kdo se v něm ocitli. Původ, hodnost, vzdělání zde nic neznamenají. Důležitá je schopnost se přizpůsobit, využít situace ve svůj prospěch, využít smysl pro podnikání a obch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ní postavy:  desátník King – vydělává na prodeji krysího masa, Peter Marlowe – obdivuje 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1351080"/>
            <a:ext cx="720072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Fra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PRÉVERT JACGUES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ancouzský básník, dramatik a filmový scénárista, mnohými kritiky je považován za nejčtenějšího básníka své doby. Prévertova poezie je prostředkem k odhalování zdánlivě samozřejmého a neproblematického každodenního živo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běr jeho tvorby je široký: milostná lyrika, šansonové texty, společenská kritika, libreta pantomim, scénky pro kabarety, knihy pro děti, filmové scénář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b. Sl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b. Déšť a krásné počas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b. Slunce no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ohádky pro nehodné dět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kniha pro dě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26920" y="932400"/>
            <a:ext cx="749016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Němec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BÖLL  HEINR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belova cena (1972). Od dětství vychován v duchu humanismu a odporu k násilí. V řadě povídek a novel líčí válečnou mašinérii, která deformuje to, co je v člověku lidské: schopnost lásky, pocit odpovědnosti, smysl pro krásu a duchovní hodn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Biliár o půl desá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ůzný obraz toho, kam až může člověka dovést ztráta soudnosti a podlehnutí davové psychóze. Příběh tří generací stavitelské rodiny Fähmelů - Jindřich postavil opatství, Robert ho nzničí za 2.svět. války,  Josef ho znovu postavil – symbol dějin Němec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SIMMEL  JOHANES  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vydávanější německý spisovatel, který ve svých románech citlivě a poutavě přibližuje a rozebírá různé společenské problé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Láska je jen slo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šichni lidé bratry js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00000" y="932400"/>
            <a:ext cx="748836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Němec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BÖLL  HEINR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belova cena (1972). Od dětství vychován v duchu humanismu a odporu k násilí. V řadě povídek a novel líčí válečnou mašinérii, která deformuje to, co je v člověku lidské: schopnost lásky, pocit odpovědnosti, smysl pro krásu a duchovní hodn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Biliár o půl desá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ůzný obraz toho, kam až může člověka dovést ztráta soudnosti a podlehnutí davové psychóze. Příběh tří generací stavitelské rodiny Fähmelů - Jindřich postavil opatství, Robert ho nechal za 2.svět. války vyhodit do vzduchu, Josef ho znovu postavil – symbol dějin Němec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SIMMEL  JOHANES  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vydávanější německý spisovatel, který ve svých románech citlivě a poutavě přibližuje a rozebírá různé společenské problé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Láska je jen slo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šichni lidé bratry js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71640" y="934200"/>
            <a:ext cx="727236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HELLER  JOSE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 2. svět. válce letec, pak přednáší na univerzitě v Yale. Nejslavnější americký válečný romá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Hlava XX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a XXII = nesmyslné nařízení: voják, který chce být uvolněn pro psychickou chorobu z armády se musí sám nahlásit – to znamená, že není nemocný. Román přiřazován k vrcholům antimilitaristické satiry x  považován mnohými čtenáři za znesvěcení památky statečně bojujících a umírajících amerických voják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kladní osnovou románu je příběh kapitána Yossariana, který vykonává svou povinnou leteckou službu. Neustále se snaží vymanit se z válečné mašinérie – po opakovaném zvyšování povinného počtu letů (Hlava XXII) dezertuj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a XXII je vlastně symbolem nesmyslnosti celého válečného běsnění. Paradoxní je, že v knize proti sobě nestojí americký voják a nepřítel, ale voják a armá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42920" y="2013480"/>
            <a:ext cx="712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rovnání k Haškovu románu Švejk – společn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armáda jako nesmyslná mašiné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velící důstojníci jsou omezení hlupá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dobná místa děje – lazaret – simulování nemo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uze sled histo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obné prostředky – ironie, nadsázka, groteska, vulgaris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án byl v roce 1969 zfilmován v USA. Ostatní romány J.Hellera nedocílily úrovně a úspěchu Hlavy XX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71640" y="1346760"/>
            <a:ext cx="705636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HAILEY  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ou pozornost zaměří vždy do problematiky nějaké profese. Čtenáři nabízí vždy to, co chce číst: dojímavý příběh, lásku, nenávist, krize v lidských vztazích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íše také tzv. katastrofické romány – filmové podob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tiš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onečná diagnó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71640" y="4163040"/>
            <a:ext cx="712944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SALINGER  JEROME  DAV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zv autor jedné knihy, proslavil se román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Kdo chytá v ži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to příběh vyprávěný s odstupem jednoho roku – vypravěčem je sedmnáctiletý chlapec Holden, který nás seznamuje s necelými třemi dny své cesty domů. Autor zde citlivě vystihl dospívání chlap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71640" y="1075320"/>
            <a:ext cx="712944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STYRON  WILLI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dílech autora se objevuje otázka svědomí a viny, bere na sebe roli burcovatele národního svědom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Ulehni v temnot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Zapal tento dů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ophiina vol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pravěč Stingo (vlastně autor sám) se seznamuje s mileneckým párem – schizofrenik a narkoman Žid Nathan a Polka Sophie. Ta přežije Osvětim (z ní si odnesla hrůzný zážitek, kdy byla postavena před rozhodnutí, které z jejich dětí má jít do plynu a které bude žít dál). Stingo se stává jejich přítelem a sleduje jejich zoufalý zápas s životem, který Nathan i Sophie ukončí sebevražd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životě Sophie byla i další rozhodnutí – většinou mylná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neangažovat se v okupované Varša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kusit se svést nacistu Hösse, aby pomohla svému dítě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volba či žít nebo neží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71640" y="1898280"/>
            <a:ext cx="7200720" cy="30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FEUCHTWANGER  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idovský spisovatel, jež musel opustit 1933 Německo – USA. Je vynikajícím vypravěčem sáhodlouhých příběhů. Psal převážně historické romány s židovskou tematik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Go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ivotopisné vyprávění o španělském malíř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Bratři Lautensack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án v němž líčí období, kdy se nacisté drali k mo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00000" y="1623960"/>
            <a:ext cx="7417080" cy="36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) Existencionalismus (Franc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 literatuře je to přímá reakce na události doby, reakce na tíživou situaci během války a po válce.Existencionalisté zachycují krizi měšťácké společnosti a její dopad na jedince – izolovaného, plného úzkosti.V mezních životních situacích prožívá stav beznaděje, zoufalství a hnus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Základní myšlenky existencionalis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je uznávána jen existence jedi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život člověka je star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člověku je dána svoboda, ale on si ji neuvědom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vidí člověka opuštěného Bohem, sleduje jeho osamoc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71640" y="1609200"/>
            <a:ext cx="7200720" cy="36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66ff"/>
                </a:solidFill>
                <a:latin typeface="Arial"/>
              </a:rPr>
              <a:t>ALBERT  C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ancouz, mládí prožil v Alžírsku, pak pracuje v Paříži jako novinář. V roce 1957 mu byla udělena Nobelova cena za literaturu. Hledal odpověď na základní otázku: jak se má chovat člověk, který nevěří ani v Boha, ani v sílu rozumu – řešení nachází ve vzdorování osudu. Zahynul při autohavárii roku 196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án, hlavní postava, lékař Bernard Rieux, popisuje chování lidí ve městě zamořeném morem; mor si můžeme vysvětlit jako nemoc či nějaký násilný režim či duševní pokřivenost, kterou nese každý sám v sob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71640" y="1073520"/>
            <a:ext cx="727236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2) Neorealismus (Itál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nto termín se spojuje s literární tvorbou i s kinematografi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z ital. neorealismo, lat. neos = nový, realis = skutečn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ělecký směr, který se rozvíjel od 40. až do 50. let. Rozvíjí postupy, prostředky a žánry kritického realismu, převládá sociální tematika. Všímá si stinných stránek italské maloměšťácké společnosti, kritizuje italský fašismus a dostává se do konfliktu s pravicovými silami, které v něm vidí pošpinění Itálie před svě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Charakteristické rys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návrat k realistické tradici v umění, pravdivé vylíčení poválečné Itálie se všemi jejími protiklady, pozornost je soustředěna především na každodenní život prostých lidí, důraz je kladen na dokumentárnost a hodnověrnost (kritičnost) zobraz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z hlediska formy se nejvíce uplatňují deníky, memoáry ap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užívají nekomplikovaný jazyk blízký lidové řeč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00000" y="932400"/>
            <a:ext cx="755964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ALBERTO  MORAVIA (1907 – 1990 vl. jm. Alberto Pincher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tal, žid, 10 let se léčí – tuberkulóza, před fašisty utíká – Mexiko, U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Říman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ena v hlavní roli i jako vypravěčka – prostitutka Adriana. Všechny postavy v románě jsou lidé nešťastní, plní strachu, zoufalství je izoluje, jejich představy o vlastním životě stojí v ostrém kontrastu k realit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Římské povíd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bory obsahují povídky ostře zaměřené na jednotlivce, na jeho izolovaný osud; jedná se o lidi žijící na pokraji společ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Horal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án se odehrává v letech 1943 – 1944. V Itálii se hroutí fašistický režim. Vyprávění italské vdovy, která utíká s dospívající dcerou před válkou do hor. Ukazuje, jak válka mění psychiku lidí. Největší příkoří nalezne paradoxně matka i dcera při cestě zpět do osvobozeného Ří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LUCHINO  VISCONTI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avný režisér neorealism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oumrak bo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Gep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6920" y="1485720"/>
            <a:ext cx="72741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3) Nový rom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období 50. let až do konce 70. let. Je označován jako antiromán. Ovlivnil literaturu i film. Odmítavý postoj k tradičnímu románu 19. 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Charakteristické rys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nový román útočí proti ději a posta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v knize není vypravěč, táž situace je nahlížena z nejrůznějších úhlů prostřednictvím zúčastněných post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kutečnost je redukována na popis věcí a jevů bez časové chronologie – nesnadná orientace v č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stavy jsou nezřetelné – on, 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detektivní témata, motivy bloudění a pátr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experimentování s jazy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1351080"/>
            <a:ext cx="734400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4) Postmodernis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60.let je přirozenou reakcí proti modernismu. Dnes se takto označují všechny tendence v umění, které jsou charakteristické svým negativním postojem k pouhému formálnímu experiment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Charakteristické rysy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ve většině postmoderních románů se uplatňuje dvojí úroveň vnímání dí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promlouvá k masovému čtenář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promlouvá i k náročnému publ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juje odlišné stylové prvky a žánrové postupy – odborné, pokleslé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rásné i publicistické litera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stmoderní romány mají často sklon k mystifik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stmoderní dílo umožňuje velké množství interpret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1640" y="1073520"/>
            <a:ext cx="712944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ff"/>
                </a:solidFill>
                <a:latin typeface="Arial"/>
              </a:rPr>
              <a:t>UMBERTO  E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niverzitní profesor v Itálii – estetika, poeti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Jméno rů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filmováno, román nabízí dobrodružný příběh, detektivní zápletku, mystifikaci, erotiku, problematiku středověku, složitou symboliku, promyšlená kompozice – 7 kapitol, každý den smr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ladý chlapec Adso, spolu se svým mistrem, učeným františkánem Vilémem z Baskervillu, pátrají po stopách záhadných smrtí  mnichů. Dostávají se až do knihovny, která má podobu labyrintu. Rozluštění  tajemství vražd je spojeno právě s ní: v knihovně je ukrýván vzácný rukopis Aristotelovy Poetiky, jejíž stránky jsou napuštěny jed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ff"/>
                </a:solidFill>
                <a:latin typeface="Arial"/>
              </a:rPr>
              <a:t>MILAN  KUND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Nesnesitelná lehkost by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Nesmrtel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hula</cp:lastModifiedBy>
  <dcterms:modified xsi:type="dcterms:W3CDTF">2012-01-03T20:22:02Z</dcterms:modified>
  <cp:revision>50</cp:revision>
  <dc:subject/>
  <dc:title>POSLOUPNOSTI</dc:title>
</cp:coreProperties>
</file>