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4F39-EE5C-4458-8D3F-222BB914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E6CD-EAA1-47F7-89DB-216D4A57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C395-63A3-4F79-BAB0-9DFAF07E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784A-5BFC-4ECD-AE89-1806AF4E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825E-A91D-4031-B846-56977538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0751-4EC5-4141-8D8B-A3F3BA11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0A83-EFCF-43B3-840D-B872BD47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03B0-BC1E-478E-BB91-43C6CAF9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CA1B-F981-49FD-BC56-97B8FF09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59EF-0EF0-4429-BA4A-2309BDE8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EF9-06FA-45E7-B303-1FAC3149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328A-DE0D-4C56-BFF5-AA467089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1362-121E-4BA3-B13F-E3F2552D0AF5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54C0-42D2-4400-921B-D64F923A64D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cz/images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3"/>
          <p:cNvSpPr/>
          <p:nvPr/>
        </p:nvSpPr>
        <p:spPr>
          <a:xfrm>
            <a:off x="971640" y="234936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Verdana"/>
              </a:rPr>
              <a:t>Drama 20. stolet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4"/>
          <p:cNvSpPr/>
          <p:nvPr/>
        </p:nvSpPr>
        <p:spPr>
          <a:xfrm>
            <a:off x="7020000" y="5373720"/>
            <a:ext cx="18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gr. Lenka Kroup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Documents and Settings\My PC\Plocha\theatre.jpg"/>
          <p:cNvPicPr/>
          <p:nvPr/>
        </p:nvPicPr>
        <p:blipFill>
          <a:blip r:embed="rId2"/>
          <a:stretch/>
        </p:blipFill>
        <p:spPr>
          <a:xfrm>
            <a:off x="2700360" y="3573360"/>
            <a:ext cx="3657600" cy="2401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ovéPole 2"/>
          <p:cNvSpPr/>
          <p:nvPr/>
        </p:nvSpPr>
        <p:spPr>
          <a:xfrm>
            <a:off x="468360" y="549360"/>
            <a:ext cx="8567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60. lé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„zlaté období české literatury“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zejména v letech 1963 – 19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chází k uvolňování mocenského tla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r. 1968 – srpnová okupace (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21. 8. 1968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vpád vojsk Varšavské smlouvy do Československa → zastavení reformního procesu Pražského jara), mnoho autorů nesmí publikovat, odchody do exilu,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nástup normal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2"/>
          <p:cNvSpPr/>
          <p:nvPr/>
        </p:nvSpPr>
        <p:spPr>
          <a:xfrm>
            <a:off x="179280" y="907920"/>
            <a:ext cx="8569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Josef Topol (1935)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ásník a dramatik, psal pro pražské Divadlo za bra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7030a0"/>
                </a:solidFill>
                <a:latin typeface="Verdana"/>
              </a:rPr>
              <a:t>Půlnoční vítr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1955) – veršovaná hra, střetnutí knížete Václava s jeho bratrem Boleslav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7030a0"/>
                </a:solidFill>
                <a:latin typeface="Verdana"/>
              </a:rPr>
              <a:t>Konec masopustu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196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7030a0"/>
                </a:solidFill>
                <a:latin typeface="Verdana"/>
              </a:rPr>
              <a:t>Kočka na kolejích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196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7030a0"/>
                </a:solidFill>
                <a:latin typeface="Verdana"/>
              </a:rPr>
              <a:t>Slavík k večeři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196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4932360" y="2781360"/>
            <a:ext cx="2944800" cy="2879640"/>
          </a:xfrm>
          <a:prstGeom prst="rect">
            <a:avLst/>
          </a:prstGeom>
          <a:ln w="0">
            <a:noFill/>
          </a:ln>
        </p:spPr>
      </p:pic>
      <p:sp>
        <p:nvSpPr>
          <p:cNvPr id="80" name="TextovéPole 6"/>
          <p:cNvSpPr/>
          <p:nvPr/>
        </p:nvSpPr>
        <p:spPr>
          <a:xfrm>
            <a:off x="179280" y="2602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ýrazné osobnosti generace 60. l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ovéPole 2"/>
          <p:cNvSpPr/>
          <p:nvPr/>
        </p:nvSpPr>
        <p:spPr>
          <a:xfrm>
            <a:off x="179280" y="981000"/>
            <a:ext cx="86043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áclav Havel (19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ramatik, esejista, kritik komunistického režimu, poli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eho hry jsou ovlivněny tradicí absurdního divad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Verdana"/>
              </a:rPr>
              <a:t>Zahradní slavnost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19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Verdana"/>
              </a:rPr>
              <a:t>Vyrozumění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19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Verdana"/>
              </a:rPr>
              <a:t>Ztížená možnost soustředění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Další hry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cs-CZ" sz="1800" spc="-1" strike="noStrike">
                <a:solidFill>
                  <a:srgbClr val="7030a0"/>
                </a:solidFill>
                <a:latin typeface="Verdana"/>
              </a:rPr>
              <a:t>Audienc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1975), </a:t>
            </a:r>
            <a:r>
              <a:rPr b="1" lang="cs-CZ" sz="1800" spc="-1" strike="noStrike">
                <a:solidFill>
                  <a:srgbClr val="7030a0"/>
                </a:solidFill>
                <a:latin typeface="Verdana"/>
              </a:rPr>
              <a:t>Vernisáž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197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cs-CZ" sz="1800" spc="-1" strike="noStrike">
                <a:solidFill>
                  <a:srgbClr val="7030a0"/>
                </a:solidFill>
                <a:latin typeface="Verdana"/>
              </a:rPr>
              <a:t>Protest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1978), </a:t>
            </a:r>
            <a:r>
              <a:rPr b="1" lang="cs-CZ" sz="1800" spc="-1" strike="noStrike">
                <a:solidFill>
                  <a:srgbClr val="7030a0"/>
                </a:solidFill>
                <a:latin typeface="Verdana"/>
              </a:rPr>
              <a:t>Largo desolato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1984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cs-CZ" sz="1800" spc="-1" strike="noStrike">
                <a:solidFill>
                  <a:srgbClr val="7030a0"/>
                </a:solidFill>
                <a:latin typeface="Verdana"/>
              </a:rPr>
              <a:t>Odcházení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227640" y="2060640"/>
            <a:ext cx="2737080" cy="1886040"/>
          </a:xfrm>
          <a:prstGeom prst="rect">
            <a:avLst/>
          </a:prstGeom>
          <a:ln w="0">
            <a:noFill/>
          </a:ln>
        </p:spPr>
      </p:pic>
      <p:sp>
        <p:nvSpPr>
          <p:cNvPr id="84" name="TextovéPole 4"/>
          <p:cNvSpPr/>
          <p:nvPr/>
        </p:nvSpPr>
        <p:spPr>
          <a:xfrm>
            <a:off x="250920" y="33336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ředstavitelé absurdního drama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ovéPole 5"/>
          <p:cNvSpPr/>
          <p:nvPr/>
        </p:nvSpPr>
        <p:spPr>
          <a:xfrm>
            <a:off x="250920" y="4653000"/>
            <a:ext cx="8497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avel Kohout (19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Verdana"/>
              </a:rPr>
              <a:t>August, August, August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1967) – nejúspěšnější hra 60.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Verdana"/>
              </a:rPr>
              <a:t>Život v tichém domě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19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ovéPole 2"/>
          <p:cNvSpPr/>
          <p:nvPr/>
        </p:nvSpPr>
        <p:spPr>
          <a:xfrm>
            <a:off x="324000" y="40464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očátek 60. let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krize návštěvnosti ve velkých oficiálních kamenných divadlech → proto začala vznikat </a:t>
            </a:r>
            <a:r>
              <a:rPr b="1" lang="cs-CZ" sz="2400" spc="-1" strike="noStrike" u="sng">
                <a:solidFill>
                  <a:srgbClr val="00b050"/>
                </a:solidFill>
                <a:uFillTx/>
                <a:latin typeface="Verdana"/>
              </a:rPr>
              <a:t>divadla malých forem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velkým vzorem bylo Osvobozené divadlo V+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ovéPole 3"/>
          <p:cNvSpPr/>
          <p:nvPr/>
        </p:nvSpPr>
        <p:spPr>
          <a:xfrm>
            <a:off x="179280" y="2924280"/>
            <a:ext cx="8496360" cy="32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Ivan Vyskočil (19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ramatik, spisovatel, herec, režisér a divadelní pedag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utor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text-appealů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spolu s Jiřím Suchým – přitažlivost textů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z ang. sex-appe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poluzakladatel </a:t>
            </a:r>
            <a:r>
              <a:rPr b="1" lang="cs-CZ" sz="2000" spc="-1" strike="noStrike">
                <a:solidFill>
                  <a:srgbClr val="00b050"/>
                </a:solidFill>
                <a:latin typeface="Verdana"/>
              </a:rPr>
              <a:t>Divadla Na zábradlí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195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7030a0"/>
                </a:solidFill>
                <a:latin typeface="Verdana"/>
              </a:rPr>
              <a:t>Malé hry aneb Maléry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196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7030a0"/>
                </a:solidFill>
                <a:latin typeface="Verdana"/>
              </a:rPr>
              <a:t>Haprdáns neboli HAmlet PRinc DÁNSký ve zkratce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1980) – hra doplněná scénami, které Shakespeare údajně vynech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7236000" y="1700280"/>
            <a:ext cx="1411200" cy="2016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ovéPole 2"/>
          <p:cNvSpPr/>
          <p:nvPr/>
        </p:nvSpPr>
        <p:spPr>
          <a:xfrm>
            <a:off x="250920" y="333360"/>
            <a:ext cx="8497800" cy="57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b050"/>
                </a:solidFill>
                <a:latin typeface="Verdana"/>
              </a:rPr>
              <a:t>Divadlo Husa na provázku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založeno r. 196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r. 1969 po cenzurním zásahu přejmenována na </a:t>
            </a:r>
            <a:r>
              <a:rPr b="1" lang="cs-CZ" sz="1800" spc="-1" strike="noStrike">
                <a:solidFill>
                  <a:srgbClr val="00b050"/>
                </a:solidFill>
                <a:latin typeface="Verdana"/>
              </a:rPr>
              <a:t>Divadlo na prováz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brněnské divadlo malých f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B. Polívka, M. Donu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Verdana"/>
              </a:rPr>
              <a:t>Balada pro banditu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Milan Uhde) - zfilmová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b050"/>
                </a:solidFill>
                <a:latin typeface="Verdana"/>
              </a:rPr>
              <a:t>Semafor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založen r. 1959) = Sedm Malých F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ejznámější z malých divadel, založen Jiřím Suchým (dvojice Suchý – Šlit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Verdana"/>
              </a:rPr>
              <a:t>Jonáš a tingl-tangl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196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b050"/>
                </a:solidFill>
                <a:latin typeface="Verdana"/>
              </a:rPr>
              <a:t>„</a:t>
            </a:r>
            <a:r>
              <a:rPr b="1" lang="cs-CZ" sz="2000" spc="-1" strike="noStrike">
                <a:solidFill>
                  <a:srgbClr val="00b050"/>
                </a:solidFill>
                <a:latin typeface="Verdana"/>
              </a:rPr>
              <a:t>Ypsilonka“ – Studio Y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19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ůvodně liberecké divadlo, koncem 70. let přestěhováno do Pra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b050"/>
                </a:solidFill>
                <a:latin typeface="Verdana"/>
              </a:rPr>
              <a:t>Divadlo Járy Cimrmana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19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utorům šlo od počátku především o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přesvědčivost mystifik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Verdana"/>
              </a:rPr>
              <a:t>Akt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19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Verdana"/>
              </a:rPr>
              <a:t>Vyšetřování ztráty třídní knihy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Verdana"/>
              </a:rPr>
              <a:t>Hospoda na mýtince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19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Další tvorba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cs-CZ" sz="1800" spc="-1" strike="noStrike">
                <a:solidFill>
                  <a:srgbClr val="7030a0"/>
                </a:solidFill>
                <a:latin typeface="Verdana"/>
              </a:rPr>
              <a:t>Vražda v salonním coupé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1800" spc="-1" strike="noStrike">
                <a:solidFill>
                  <a:srgbClr val="7030a0"/>
                </a:solidFill>
                <a:latin typeface="Verdana"/>
              </a:rPr>
              <a:t>Němý Bobeš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1800" spc="-1" strike="noStrike">
                <a:solidFill>
                  <a:srgbClr val="7030a0"/>
                </a:solidFill>
                <a:latin typeface="Verdana"/>
              </a:rPr>
              <a:t>Dlouhý, Široký a Krátkozraký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1800" spc="-1" strike="noStrike">
                <a:solidFill>
                  <a:srgbClr val="7030a0"/>
                </a:solidFill>
                <a:latin typeface="Verdana"/>
              </a:rPr>
              <a:t>Dobytí severního pólu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1800" spc="-1" strike="noStrike">
                <a:solidFill>
                  <a:srgbClr val="7030a0"/>
                </a:solidFill>
                <a:latin typeface="Verdana"/>
              </a:rPr>
              <a:t>Blaník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1800" spc="-1" strike="noStrike">
                <a:solidFill>
                  <a:srgbClr val="7030a0"/>
                </a:solidFill>
                <a:latin typeface="Verdana"/>
              </a:rPr>
              <a:t>Záskok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ovéPole 2"/>
          <p:cNvSpPr/>
          <p:nvPr/>
        </p:nvSpPr>
        <p:spPr>
          <a:xfrm>
            <a:off x="324000" y="2602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větové drama 20. stol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ovéPole 3"/>
          <p:cNvSpPr/>
          <p:nvPr/>
        </p:nvSpPr>
        <p:spPr>
          <a:xfrm>
            <a:off x="250920" y="855720"/>
            <a:ext cx="8713800" cy="58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Anton Pavlovič Čechov (1860 – 19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ruský dramatik, povídkář a proza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tvořil tzv. </a:t>
            </a:r>
            <a:r>
              <a:rPr b="1" lang="cs-CZ" sz="2000" spc="-1" strike="noStrike">
                <a:solidFill>
                  <a:srgbClr val="ff0000"/>
                </a:solidFill>
                <a:latin typeface="Verdana"/>
              </a:rPr>
              <a:t>lyrické drama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– děj neprobíhá v reálném životě, ale v citovém životě, hrdinové prožívají vnitřní d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ákladní znak jeho her: </a:t>
            </a:r>
            <a:r>
              <a:rPr b="1" lang="cs-CZ" sz="2000" spc="-1" strike="noStrike">
                <a:solidFill>
                  <a:srgbClr val="0066ff"/>
                </a:solidFill>
                <a:latin typeface="Verdana"/>
              </a:rPr>
              <a:t>nedějov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Lyrická dramata: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7030a0"/>
                </a:solidFill>
                <a:latin typeface="Verdana"/>
              </a:rPr>
              <a:t>Racek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(18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7030a0"/>
                </a:solidFill>
                <a:latin typeface="Verdana"/>
              </a:rPr>
              <a:t>Strýček Váňa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18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7030a0"/>
                </a:solidFill>
                <a:latin typeface="Verdana"/>
              </a:rPr>
              <a:t>Tři sestry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19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7030a0"/>
                </a:solidFill>
                <a:latin typeface="Verdana"/>
              </a:rPr>
              <a:t>Višňový sad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1904) -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chybí záplet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- důraz se klade na postupné odhalování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charakteru posta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- užití symbol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- úvahy o štěstí, smyslu živ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- velká emocional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Děj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odlehlý statek šlechtičny L. Raněvské s proslulým višňovým sadem –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řijíždí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 dcerou Aňou z Paříže – krátký pobyt, prodej sadu. Nudný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tereotyp života na statku, jednotlivé postavy reprezentují postoj a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ázory různých společenských vrste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380360" y="1989000"/>
            <a:ext cx="1550880" cy="2016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ovéPole 2"/>
          <p:cNvSpPr/>
          <p:nvPr/>
        </p:nvSpPr>
        <p:spPr>
          <a:xfrm>
            <a:off x="179280" y="260280"/>
            <a:ext cx="8856720" cy="58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ertolt Brecht (1898 – 195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ěmecký drama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yl ovlivněn: marxismem, expresionis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EPICKÉ  DIVADLO: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aktuálnos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námět ze součas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angažovanos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dílo má zasahovat do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oučas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antiiluzivnos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divák má mít odstup, ne se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žívat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– „Nečumte tak romantick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aktivizace diváka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- předem seznamuje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iváka s děj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  střídání různých druhů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umění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  epi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  málo rekviz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7030a0"/>
                </a:solidFill>
                <a:latin typeface="Verdana"/>
              </a:rPr>
              <a:t>Dobrý člověk ze S´čchua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Documents and Settings\My PC\Plocha\Obrázky do prezentací\Bertolt-Brecht.jpg"/>
          <p:cNvPicPr/>
          <p:nvPr/>
        </p:nvPicPr>
        <p:blipFill>
          <a:blip r:embed="rId1"/>
          <a:stretch/>
        </p:blipFill>
        <p:spPr>
          <a:xfrm>
            <a:off x="395280" y="1989000"/>
            <a:ext cx="1944720" cy="2837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179280" y="491760"/>
            <a:ext cx="874872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7030a0"/>
                </a:solidFill>
                <a:latin typeface="Verdana"/>
                <a:ea typeface="Times New Roman"/>
              </a:rPr>
              <a:t>Matka kuráž a její děti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193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Jednotlivá bojiště třicetileté vál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ATKA  KURÁŽ –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nna Fierlingová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= energická markytánka, žije za války v mylné představě, že ji válka nezasáhne = symbol německého národa za 2. světové vál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Její dě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ilip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- nejstarší, vznětlivý, nechá se naverbovat přes matčin zákaz – nejprve vyznamenán X v době příměří za stejný čin popra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Švejcar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– prostomyslný, plachý, poctivý – opatruje až příliš poctivě plukovní kasu – obviněn z pokusu o krádež - popr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Katrin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– němá, touží se vdát a mít děti X matka realizaci jejího snu stále odkládá; zastřelena, když varovala spící nepřátelské město před napadení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odíl matky na tragickém osudu dětí – v tragických okamžicích není přítomna, ale smlouvá a obchoduje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Závěr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matka táhne vozík sama dál – na začátku jí pomáhaly děti – markytánka neprohlédla – jde o to, aby prohlédl divák. Na válce se nedá vydělat, ale naop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2"/>
          <p:cNvSpPr/>
          <p:nvPr/>
        </p:nvSpPr>
        <p:spPr>
          <a:xfrm>
            <a:off x="539640" y="333360"/>
            <a:ext cx="835344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amuel Beckett (1906 – 19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irský dramatik a prozaik, představitel absurdního divad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žil v Paříži – jeho tvorba ovlivněna francouzským prostřed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 roce 1969 mu byla udělena Nobelova c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7030a0"/>
                </a:solidFill>
                <a:latin typeface="Verdana"/>
              </a:rPr>
              <a:t>Čekání na Godota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 hra uvedena poprvé v roce 19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 tragigrote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 hlavním motivem je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čekání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nikdo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eví, kdo Godot 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Documents and Settings\My PC\Plocha\Obrázky do prezentací\samuel becket.jpg"/>
          <p:cNvPicPr/>
          <p:nvPr/>
        </p:nvPicPr>
        <p:blipFill>
          <a:blip r:embed="rId1"/>
          <a:stretch/>
        </p:blipFill>
        <p:spPr>
          <a:xfrm>
            <a:off x="468360" y="3573360"/>
            <a:ext cx="2232000" cy="3057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2"/>
          <p:cNvSpPr/>
          <p:nvPr/>
        </p:nvSpPr>
        <p:spPr>
          <a:xfrm>
            <a:off x="395280" y="333360"/>
            <a:ext cx="84247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Eugéne Ionesco (1909 – 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rumunský dramatik, představitel absurdního dram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vlivněn dadaismem, v jeho hrách se objevuje tragická a bezradná vize světa, hum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eho díla – mementa proti osa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7030a0"/>
                </a:solidFill>
                <a:latin typeface="Verdana"/>
              </a:rPr>
              <a:t>Plešatá zpěvačka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19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7030a0"/>
                </a:solidFill>
                <a:latin typeface="Verdana"/>
              </a:rPr>
              <a:t>Amédée aneb jak se ho zbavit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1954)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 kome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 téma – strach z bytí, ze zla, moci, spravedl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 řešení – únik z tohoto svě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Documents and Settings\My PC\Plocha\Obrázky do prezentací\eugéne ionesco.jpg"/>
          <p:cNvPicPr/>
          <p:nvPr/>
        </p:nvPicPr>
        <p:blipFill>
          <a:blip r:embed="rId1"/>
          <a:stretch/>
        </p:blipFill>
        <p:spPr>
          <a:xfrm>
            <a:off x="5905440" y="3933720"/>
            <a:ext cx="2752920" cy="244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Obsa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ské drama 20. stol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vantgard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rel Čap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vadlo těsně po osvobo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0. lé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0. léta, 70. léta, drama po r. 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ětové drama 20. stol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ARPATSKÝ, D. (2001)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Malý labyrint literatur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 Praha: Alba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LEHÁR, J. - STICH, A. - JANÁČKOVÁ, J. - HOLÝ, J. (2004)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Česká literatura od počátků k dnešku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Praha: Nakladatelství Lidové novi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google.cz/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ovéPole 2"/>
          <p:cNvSpPr/>
          <p:nvPr/>
        </p:nvSpPr>
        <p:spPr>
          <a:xfrm>
            <a:off x="971640" y="260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České drama 20. stol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TextovéPole 3" descr=""/>
          <p:cNvPicPr/>
          <p:nvPr/>
        </p:nvPicPr>
        <p:blipFill>
          <a:blip r:embed="rId1"/>
          <a:stretch/>
        </p:blipFill>
        <p:spPr>
          <a:xfrm>
            <a:off x="12600" y="1000080"/>
            <a:ext cx="9028080" cy="522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My PC\Plocha\Obrázky do prezentací\osvobozené divadlo.jpg"/>
          <p:cNvPicPr/>
          <p:nvPr/>
        </p:nvPicPr>
        <p:blipFill>
          <a:blip r:embed="rId2"/>
          <a:stretch/>
        </p:blipFill>
        <p:spPr>
          <a:xfrm>
            <a:off x="6875640" y="765000"/>
            <a:ext cx="1904760" cy="1390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ovéPole 3"/>
          <p:cNvSpPr/>
          <p:nvPr/>
        </p:nvSpPr>
        <p:spPr>
          <a:xfrm>
            <a:off x="179280" y="33336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Karel Čapek (1890 – 19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rama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Lásky hra osud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Loupež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R.U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e života hmy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Věc Makrop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Adam stvoř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Bílá nem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Ma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C:\Documents and Settings\My PC\Plocha\Obrázky do prezentací\karel čapek.jpg"/>
          <p:cNvPicPr/>
          <p:nvPr/>
        </p:nvPicPr>
        <p:blipFill>
          <a:blip r:embed="rId1"/>
          <a:stretch/>
        </p:blipFill>
        <p:spPr>
          <a:xfrm>
            <a:off x="971640" y="4076640"/>
            <a:ext cx="188892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My PC\Plocha\Obrázky do prezentací\rur.jpg"/>
          <p:cNvPicPr/>
          <p:nvPr/>
        </p:nvPicPr>
        <p:blipFill>
          <a:blip r:embed="rId2"/>
          <a:stretch/>
        </p:blipFill>
        <p:spPr>
          <a:xfrm rot="20378400">
            <a:off x="5347800" y="3261960"/>
            <a:ext cx="2143080" cy="277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Documents and Settings\My PC\Plocha\Obrázky do prezentací\bílá nemoc.jpg"/>
          <p:cNvPicPr/>
          <p:nvPr/>
        </p:nvPicPr>
        <p:blipFill>
          <a:blip r:embed="rId3"/>
          <a:stretch/>
        </p:blipFill>
        <p:spPr>
          <a:xfrm>
            <a:off x="5435640" y="189000"/>
            <a:ext cx="1619280" cy="2952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Documents and Settings\My PC\Plocha\Obrázky do prezentací\matka.jpg"/>
          <p:cNvPicPr/>
          <p:nvPr/>
        </p:nvPicPr>
        <p:blipFill>
          <a:blip r:embed="rId4"/>
          <a:stretch/>
        </p:blipFill>
        <p:spPr>
          <a:xfrm rot="1606200">
            <a:off x="6916320" y="1082520"/>
            <a:ext cx="1724040" cy="2648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véPole 2"/>
          <p:cNvSpPr/>
          <p:nvPr/>
        </p:nvSpPr>
        <p:spPr>
          <a:xfrm>
            <a:off x="324000" y="620640"/>
            <a:ext cx="85690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České divadlo těsně po osvobození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(po 2. světové vál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Jan Drda (1915 – 19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rama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Hrátky s čertem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1946) –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rvní významnější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 česká poválečná h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cuments and Settings\My PC\Plocha\Obrázky do prezentací\jan drda.jpg"/>
          <p:cNvPicPr/>
          <p:nvPr/>
        </p:nvPicPr>
        <p:blipFill>
          <a:blip r:embed="rId1"/>
          <a:stretch/>
        </p:blipFill>
        <p:spPr>
          <a:xfrm>
            <a:off x="3132000" y="2997360"/>
            <a:ext cx="2448000" cy="3060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2"/>
          <p:cNvSpPr/>
          <p:nvPr/>
        </p:nvSpPr>
        <p:spPr>
          <a:xfrm>
            <a:off x="250920" y="765000"/>
            <a:ext cx="878508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Divadlo sat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polupracoval s ním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Vratislav Blažek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– později napsal námět a scénář k muzikálu </a:t>
            </a:r>
            <a:r>
              <a:rPr b="1" lang="cs-CZ" sz="2000" spc="-1" strike="noStrike">
                <a:solidFill>
                  <a:srgbClr val="7030a0"/>
                </a:solidFill>
                <a:latin typeface="Verdana"/>
              </a:rPr>
              <a:t>Starci na chme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Divadlo V + W U Novák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ávrat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Voskovce a Wericha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 Ameriky, hráli hry cizích autorů, do nichž si přidávali improvizované glosy – </a:t>
            </a:r>
            <a:r>
              <a:rPr b="1" lang="cs-CZ" sz="2000" spc="-1" strike="noStrike">
                <a:solidFill>
                  <a:srgbClr val="7030a0"/>
                </a:solidFill>
                <a:latin typeface="Verdana"/>
              </a:rPr>
              <a:t>Divotvorný hrnec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americká hra se zpě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E. F. Burian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– obnovil divadelní činnost v déč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ovéPole 2"/>
          <p:cNvSpPr/>
          <p:nvPr/>
        </p:nvSpPr>
        <p:spPr>
          <a:xfrm>
            <a:off x="250920" y="620640"/>
            <a:ext cx="87138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50. lé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ramatická tvorba je značně ovlivněna razantním nástupem socialis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oba tuhé cenz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vorba budovatelská a socialisticko-realistická (hry z vojenského, továrenského či venkovského prostřed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ivadla často měnila provozovatele, název i umělecký pro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aniká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Divadlo satiry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Osvobozené divadlo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po odchodu Voskov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2. pol. 50. let = „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tání“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ústup stalinismu, rehabilitace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ovéPole 2"/>
          <p:cNvSpPr/>
          <p:nvPr/>
        </p:nvSpPr>
        <p:spPr>
          <a:xfrm>
            <a:off x="324000" y="476280"/>
            <a:ext cx="856908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avel Kohout (19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Dobrá píseň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1952)–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režimní hra, mnoho vtipných scén – muž jde místo svatební noci do ocelárny, ve své době hojně hran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ářijové noci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1955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 – div. hra z vojenského prostřed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Taková láska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1957)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– jedna z nejúspěšnějších 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ítězslav Nezval (1900 – 19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Dnes ještě zapadá slunce nad Atlantidou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1956)–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ebezpečí atomové války, hra přeložena do Aj, Fj, Rj a esper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826920" y="4365720"/>
            <a:ext cx="1657440" cy="2205000"/>
          </a:xfrm>
          <a:prstGeom prst="rect">
            <a:avLst/>
          </a:prstGeom>
          <a:ln w="0">
            <a:noFill/>
          </a:ln>
        </p:spPr>
      </p:pic>
      <p:sp>
        <p:nvSpPr>
          <p:cNvPr id="69" name="TextovéPole 4"/>
          <p:cNvSpPr/>
          <p:nvPr/>
        </p:nvSpPr>
        <p:spPr>
          <a:xfrm>
            <a:off x="255600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vel Ko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6588000" y="4221000"/>
            <a:ext cx="1706760" cy="2376720"/>
          </a:xfrm>
          <a:prstGeom prst="rect">
            <a:avLst/>
          </a:prstGeom>
          <a:ln w="0">
            <a:noFill/>
          </a:ln>
        </p:spPr>
      </p:pic>
      <p:sp>
        <p:nvSpPr>
          <p:cNvPr id="71" name="TextovéPole 6"/>
          <p:cNvSpPr/>
          <p:nvPr/>
        </p:nvSpPr>
        <p:spPr>
          <a:xfrm>
            <a:off x="5148360" y="4869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ítězslav Nez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ovéPole 2"/>
          <p:cNvSpPr/>
          <p:nvPr/>
        </p:nvSpPr>
        <p:spPr>
          <a:xfrm>
            <a:off x="755640" y="549360"/>
            <a:ext cx="7704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František Hrubín (1910 – 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Srpnová neděle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(1958)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cs-CZ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 nastudování Otomara Krejči v Národním divadle, odvrácení od pracovního prostředí – volí prostředí jihočeského ryb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203640" y="3068640"/>
            <a:ext cx="2852640" cy="29829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Lenka</cp:lastModifiedBy>
  <dcterms:modified xsi:type="dcterms:W3CDTF">2011-01-24T21:07:01Z</dcterms:modified>
  <cp:revision>104</cp:revision>
  <dc:subject/>
  <dc:title>POSLOUPNOSTI</dc:title>
</cp:coreProperties>
</file>