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C71-9058-414C-8D12-12E1843F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207-A28E-41EC-AB9A-BFBAD9EB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1B6-FC35-4B95-BA75-2E84688E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71C-008B-470C-9F1E-5ABFAEFB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7A3-4E66-4BED-ABE4-887EB6C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833-159C-4C06-B666-C67EA703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43D-9802-4AB2-9237-FF6E4941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C6F-733E-4CBF-B9F7-9D34A50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35A-D7A8-403E-A6E4-C77C936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6E0-04D9-419F-BBEE-C22CFF5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FE0-56EE-4445-9CE9-CD219A6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42D-E3CC-4218-BF6B-B6F2586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EB5-785C-4C8F-AA2C-403F3972ED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41C-5311-4AEF-91D9-AD088CB6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a/Jan_Vil&#237;mek_-_Karel_Jarom&#237;r_Erbe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5/Jan_Vil&#237;mek_-_Karel_Hynek_M&#225;ch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5/Jan_Vil&#237;mek_-_Josef_Kajet&#225;n_Tyl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2133720"/>
            <a:ext cx="7274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Česká literatura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. a 40. let 19. stolet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5800" y="907920"/>
            <a:ext cx="52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áměty histo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an 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an Ži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Drahomíra a její synové aneb krvavé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Kutnohorští havíři aneb krvavý 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5640" y="81108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Karel Jaromír E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oubor:Jan Vilímek - Karel Jaromír Erb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692280"/>
            <a:ext cx="2484720" cy="343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77336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rozen v Miletíně ( Sev. Čech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gymnázium v Hradci Králové, filozofie, práva v 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polupráce s F. Palackým, sekretář Národního muz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rchivář města Prahy, básník, sběratel ULS, národních pís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9800" y="1269000"/>
            <a:ext cx="829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. editorské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Legenda o Sv. Kateřině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Husovy s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Nestorův letopis rusk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skytl Havlíčkovi námět pro Křest Sv. Vladimí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běratelská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Prostonárodní české písně a říka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hád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rnečku vař, Zlatovláska, Otesánek, Dlouhý, Široký a Bystrozra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kouzelné – hrdina vítězí pomocí nadpřirozených s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novelistické – hrdina si pomůže sá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89460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iterární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ytic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1853)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niha se skládá z 13 básní (lid. pověsti, legendy, báje, převažuje klas, bal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východisk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dový mýtus (ve fantastické podobě uchovává nejstarší zkušenosti lidstva a primitivní tradic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podkla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) lidové písně (Poklad, Věštky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idové povídky (Zlatý kolovra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egendy (Záhořovo lož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báje (Holoubek, vrba, Lilie: převtělování duše člověka v součást přírody, víra v osud a  nadpřirozené bytost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5018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hl. po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žena = matka = ztělesnění domova, zobrazení mateřské lásky, mužských postav má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960480"/>
            <a:ext cx="8211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zákl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konflik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řetnutí člověka s nadpřirozenými silami, hrdina se provinil, porušil morální pravidla mezilidských vztahů – trest: matka pro peníze zapomněla na dítě, žena zabije muže, protože má milence, trest není někdy úměrný provinění (Polednice) někdy vykoupí hrdina svou vinu pokáním (Svatební koši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hlavní myšlenka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lava lidské moudrosti, mateřství ( hrdinka = často matka = ztělesnění domova, uchovatelka rodu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ředí a doba neurč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kompozice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úvodní báseň Kytice – lidová báje o vzniku mateřídoušky (obraz matky = vlast, její děti = národ, mateřídouška = lidová slovesnost = kultura č. 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dy - závěrečná báseň Věštkyně – víra v lepší budoucnost 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</a:rPr>
              <a:t>jazyk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řevládá přímé pojmenování x symboly (holoubek = symbol svědomí),vliv 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99280" y="7650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Karel Hynek Má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oubor:Jan Vilímek - Karel Hynek Mách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052640"/>
            <a:ext cx="2232000" cy="3213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684360" y="1558080"/>
            <a:ext cx="4970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zen v Pr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oval práva a filosof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atizoval s evropským revolučním hnutím nadán pro více druhů umění: kreslíř, ochotnické divadlo, první lyrické básně psal něme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ád chodil na osamělá místa : Krkonoše, Alpy, hrady zříceniny - s oblibou na nich noc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porná osob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ouha po bohatém životě, lásce, uplatnění x uzavřený, samotářský, žárlivý, panovačný, výstřední, provok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áska: Eleonora Šomkov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xe v Litoměřicích – nemoc, smrt, pochován na Vyšehr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03280" y="631080"/>
            <a:ext cx="619308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Má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cholné dílo – lyricko-epická skladba – 4 zpěvy + 2 interm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1.zpě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známení s náladou prvomájového večera. Jarmila čeká na Viléma – člun přijíždí opožděně, ale pouze s členem Vilémovy družiny, aby oznámil Jarmile, že Vilém byl uvězněn a bude popraven, neboť zabil svého o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byl současně i jeho sokem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ělecký popis přírody: májový podvečer – pohyb, napětí, barvy, skály, jezero, měsíc, velké množství sloves, přirovnání, neshodné přívlastky ( líčení přírody všemi smysly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běh Jarmily: ztráta smyslu života, zachycení vztahu příroda + člověk – nejdříve soulad, postupně posun: harmonická příroda x tragédie post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1061640"/>
            <a:ext cx="772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. zpě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ém je v tmavém hlubokém vězení, bezesná noc, přemýšlí o svém minulém životě ( otec ho vyhnal do světa – vůdce loupežníků ), o budoucnosti, touží se vrátit do dětství, slyší lesní troubu – nechá se unášet hudbou, svůj osud svěřuje stráž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émovy úvahy:a) otázka viny - necítí se vinen – jeho činy předurčeny osu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b) otázka posmrtného živ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xistuje, smrt = tma, nicota, prázdno, jediná existenc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emský život – Vilém se loučí se životem, odmítá kněze, uznává materialismus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) úvahy o vesmí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e nekonečný, lhostejný k osudu člověka – pocit strachu, stísně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484920"/>
            <a:ext cx="70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.zpě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áno je Vilém vyveden z vězení – všichni lidé se jdou podívat – Vilém se dívá na poslední východ slunce a vzpomíná na svoji dívku, o které neví, že už není na živu, kat vykonává popra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roda – májové ráno – barevné vidění, zachycení světla a stínu, vnímání zrakem, sluchem x osud hrdiny – krása země ho zbaví úzkosti ze smrti, před smrtí se obrací k zemi, smutek nad uplynulým životem – touha po něčem krásném, co nebylo naplně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3437280"/>
            <a:ext cx="729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4 zpě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cha popisuje své první setkání s Vilémem – příběh ho zaujal, vrací se k němu ve svých myšlenkách, znovu rozebírá události, které se staly před sedmi lety, jeho dětství – své dětství – nenávratně pryč – nynější život je beznadějný, bez cíle – zklamán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hlas na Máj: nepochopili jej současníci – Tyl, Čelakovský, navázali na něj moderní básníci – Halas, Hrubín, Seifert, Ho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550080"/>
            <a:ext cx="75960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Már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yricko- epická povídka – děj:básník se prochází zahradou, starý muž mu předá dopis od své dcery – pozvání k návštěvě. Márinka je nemocná, ví, že brzy zemře, Mácha ji navštíví, dívka na něho silně zapůsobí svou krásou, vztahem k hudbě a k literatuře. Po návratu z Krkonoš ( smrt přítele ) se dovídá, že Márinka zemř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sy romantismu: schopnosti, mládí x nemoc, smrt, její zjev x prostředí, autor = hr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sy realismu: popis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358440"/>
            <a:ext cx="81723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Křivo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cká povídka – obdob´husitství – pouze kulisa, hlavní je konfrontace krále Václava IV. ( únava z panování) s jeho katem ( touha vládnout) – úloha osudu v životě – člověk se nemůže svobodně rozhod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Ciká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– vykonstruovaný příběh o domnělých cikánech – o lásce a nenávisti. Zklamaný muž hledá ve světě svůdce své milé, najde ho a zabije, děj se odehrává na Kokoříně. Rozpor snu x skuteč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2680" y="1413000"/>
            <a:ext cx="760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vrcholení procesu NO ( třetí etapa NO ) došlo v letech 1830 – 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íhaly revoluce na mnoha místech v Evrop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hází k rozkvětu poezie, venkovské prózy, satiry, publicistiky a diva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oubor:Jan Vilímek - Josef Kajetán Ty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341360"/>
            <a:ext cx="2374920" cy="314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6920" y="62064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Josef Kajetán T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309320"/>
            <a:ext cx="57592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inář, dramatik, překlad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ál jeho života = sloužit okamžité potřebě národa, prospět svému nár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rozen v Kutné Hoře – s otcem hrál loutkové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ymnázium v Praze a Hradci Králové (vliv Jungmanna a Klicp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 herecké kočovné společnosti – divadlo = cesta k srdci národa, škola ná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omě vlastních her i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ekl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Král Lear, Romeo a J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cený odchod z Prahy – bída, nemoc – smrt v Plzni (poslední divadelní představení v Č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558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novin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aktor časopisu Kvě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enze div. představení, publikace prací začínajících autorů, posouzení výkonů herců i mimo Pra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cc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Selské nov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 venkovské obyvatelstvo),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Pražský po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olitické náz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goval čas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7664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 proz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povíd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a) </a:t>
            </a:r>
            <a:r>
              <a:rPr b="0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histor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(Dekret Kutnohorský, Rozina Ruthardova, Braniboři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v Čech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historie = kulisa, důraz na obětavou lásku k vla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ze souč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800" spc="-1" strike="noStrike">
                <a:solidFill>
                  <a:srgbClr val="ff33cc"/>
                </a:solidFill>
                <a:latin typeface="Arial"/>
              </a:rPr>
              <a:t>Rozervan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kritika romantického životního 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2 hrdinové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l – autobiografická postava – záporný postoj k životu může mít opodstatnění a lze ho překo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nek – do nešťastnosti se nutí, vyhledává rozpory, cítí se nepochopený, sám sobě se zdá být výjimečný, všechno kolem sebe vidí křivě, talentovaný bás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6922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cc"/>
                </a:solidFill>
                <a:latin typeface="Arial"/>
              </a:rPr>
              <a:t>Poslední Č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lastenec je ten, kdo vlastenecký cit povyšuje nad cit rodinný a milostný, zamýšlí se nad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dmětem Havlíčkovy kritiky – odmítá šlechtu jako rozhodující sílu nár. obro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800" spc="-1" strike="noStrike">
                <a:solidFill>
                  <a:srgbClr val="ff33cc"/>
                </a:solidFill>
                <a:latin typeface="Arial"/>
              </a:rPr>
              <a:t>Pomněnky z hrobu nejstaršího Č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zpomínky na Šebestiána Hněvkovského, zakladatele osvobozenecké poezie a dramatu – Tyl ho vnímá jako svého předchů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096920"/>
            <a:ext cx="840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. dra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 letech 1846 – 1851 dramaturg Stavovského divad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)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áměty ze součas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800" spc="-1" strike="noStrike">
                <a:solidFill>
                  <a:srgbClr val="ff33cc"/>
                </a:solidFill>
                <a:latin typeface="Arial"/>
              </a:rPr>
              <a:t>Fidlovačka aneb žádný hněv a žádná rv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= nástroj ševců na uhlazování kůže + tradiční jarní slavnost Nuselských ševců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emiéra r. 1834 – do r. 1917 zakázá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píseň Kde domov mů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 scéně Stavovského divadla zpíval Karel Strakatý – 1. sloka = chvá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. krajiny, 2. sloka = chvála mravní ušlechtilosti l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cs-CZ" sz="1800" spc="-1" strike="noStrike" u="sng">
                <a:solidFill>
                  <a:srgbClr val="333399"/>
                </a:solidFill>
                <a:uFillTx/>
                <a:latin typeface="Arial"/>
              </a:rPr>
              <a:t>hl. myšlenk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mokratičnost (povýšená máselnice Mastilková, odmítá vše české, mluví zkomoleně německy, je poučena a zesměšněna – dá svou dceru Lidušku synovi chudého ševce Kroutila), vlastenectví (myšlenka národní svornosti + lidové postavy kladné – mluví jadrnou češtinou x komické postavy měšťanstva – prvky němč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2000" y="989640"/>
            <a:ext cx="741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aličova d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ozárka Valentová = typ ušlechtilé, obětavé, prosté, moudré dívky, láskyplně pečující o své mladší sestry a ze smrti nešťastného otce, myslí víc na druhé než na sebe – bere na sebe i vinu otce, který zapálil ze zlosti st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áměty pohádkové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báchor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kračovatelé J. Zeyer, A. Jirásek, J. Drd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Jiříkovo vi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Tvrdohlavá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Lesní pana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60768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Strakonický dudák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konicko, 19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stav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nadpřiro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ka Rosava + víly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reál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ové: Dorotka, Kalafuna, Kordula, rychtář Kodě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rodilci: Vocilka, Šavli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ské: Zulika, Alamír, Alenor 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v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sti i zápory čes. národní povahy: dobré srdce, podnikavý, přátelský, muzikální x věčná č. nespokojenost, doma se cítí být spoután, ješitný, příliš důvěřivý, zachraňuje ho láska Rosavy a Doro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437000"/>
            <a:ext cx="825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myšlenk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raz na vítězství lásky a oběta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mítnutí hmotných hod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rodní síly člověku pomáhají, chová-li se jako člo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raz na vztah k vlasti, oslava českého lidu, jeho síly, lásky a obětavo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erá vítězí nad pochybným leskem ciz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1-28T21:24:26Z</dcterms:modified>
  <cp:revision>45</cp:revision>
  <dc:subject/>
  <dc:title>POSLOUPNOSTI</dc:title>
</cp:coreProperties>
</file>