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974-2CEE-4217-AD5E-750B1FAD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31D-68A5-4080-935D-C23A8461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339-2B88-41C1-A61C-A5895A96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42D-C089-4CE9-80F7-50DADB9D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943-D4BD-47E5-8404-BE2A2823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73E-1579-4387-90E8-B82BC0BC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C93-5552-474B-BB69-BD1C1485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2BB-43C1-40AD-843E-8F036B7D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269-AAB8-45E3-8DF2-812AB21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6B7-F32A-4815-846B-B73AB57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766-226C-4555-8F72-8FCE3E8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27A-D0FD-457C-9DD0-BFF721B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3396-E1C9-435B-8D97-1F47DD186D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B5D5-35CF-4647-AB51-6E72A460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c/c6/Gustave_flaubert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7/Emile_Zola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8/GDMaupassant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b/Ilya_Efimovich_Repin_%281844-1930%29_-_Portrait_of_Leo_Tolstoy_%281887%29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c/Dostoevsky_1872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a/a7/Charles_Dickens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6/6e/Balzac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2276640"/>
            <a:ext cx="7777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polečnost v tvorbě světových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ritických realist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5080" y="475560"/>
            <a:ext cx="2670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ustave Flau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Soubor:Gustave flauber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620640"/>
            <a:ext cx="2602080" cy="273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1324800"/>
            <a:ext cx="511164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hází z lékařské r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studoval 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ětšinu života prožil na venkovském sí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 se mistrem v zobrazování lidských vášní a citový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501000"/>
            <a:ext cx="81723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Paní Bovary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 ženy, která nenachází ve všedním manželství s venkovským lékařem uspokojení. Hledá opravdovou lásku a vášeň. Prožívá milostná dobrodružství se světákem Rudolfem a s advokátním praktikantem Leonem, jehož finančně vydržuje. Peněžní tíseň ji žene k lichváři, iluze se rozprchnou, nenachází východiska z milostných dobrodružství a finančních problémů, svůj život končí sebevražd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Salam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historický román ze starověkého Kartá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Citová výcho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mán o ztrátě iluzí mladé generace romanti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08360" y="403920"/>
            <a:ext cx="1706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Émile Z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oubor:Emile Zol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1700280"/>
            <a:ext cx="2541600" cy="3163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1067040"/>
            <a:ext cx="504036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ýraznější představitel natural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Paříži a po smrti otce, stavitele železnic, se rodina ocitá ve finanční tís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odaří se mu dokončit středoškolská studia (2x propadl u matu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však přijat do nakladatelství – to mu otevírá nové možnosti – stává se spis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oval vliv prostředí na člověka, seznámil se s nejnovějšími teoriemi o dědi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první naturalistický román označil Paní Bovaryov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těl vytvořit podobný románový cyklus jako Balzac, ale situovaný do nových společenských podmínek Francie 2.pol.19.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al všestranný rozbor francouzské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981000"/>
            <a:ext cx="75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ální rom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ománová teorie, kterou přednesl na vědeckém kongresu – román musí být postaven na vědeckém základě – faktory, které určují vývoj postav jsou: dědičnost a prostředí – člověk je omezen fyziologickými potřebami – podobá se zvíře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645640"/>
            <a:ext cx="817416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Rougon – Macquar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 ružón – mekártů ) – dvacetisvazkový románový cyklus, v němž aplikoval svou teorii romá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Zabij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áví o osudech venkovské dívky Gervaisy ( žervézy ), která přijíždí do Paříže se dvěma malými dětmi a druhem Lentierem, jenž ji brzy opouští. Pracuje jako pradlena a seznamuje se s klempířem, za kterého se provdá. Narodí se jim dcera Nana. Poklidný život se mění v boj o přežití. Manžel po úrazu nemůže pracovat, opíjí se. Bezvýchodnou situaci řeší žena také alkoholem. Stává se z ní žebračka a smrt je pro ni vysvoboze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32000" y="1053360"/>
            <a:ext cx="68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rvaisina dcera, z níž se stane prostitutka, se stává hrdinkou čtenářsky nejúspěšnějšího rom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Břicho Paří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prostředí pařížské tržnice – použití reportážních prv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Germinal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 (žermi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ociální román z prostředí hor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60360" y="691560"/>
            <a:ext cx="3059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uy de Maupa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Soubor:GDMaupassa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1844640"/>
            <a:ext cx="1809720" cy="2438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1342800"/>
            <a:ext cx="54007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rodině statká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astnil se francouzsko – pruské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ímluvu rodinného přítele Flauberta se stává úředníkem ministerstva ško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aubert ho také seznamuje s významnými literáty (Turgeně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upassant se proslavil hlavně jako autor povídek a novel (napsal jich přes tři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nemocněl duševní chorobou a po neúspěšné sebevraždě byl dán do ústavu pro choromyslné – zde umírá ve 43 le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1343160"/>
            <a:ext cx="790740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Příběh jedno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román, vystihuje metodu založenou na principu zobrazení obyčejného života bez zbytečných příkras a dramatiz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íčí osud Jany de Lamarové, kterou v životě potkávají jen samá zklamání: matka byla nevěrná otci, manžel je záletník a lakomec, syn je zkažený. Jedinou nadějí je pro ni právě narozená vnučka. Děj i prostředí románu vychází z příběhů vlastní rodiny Maupassan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Milá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slavnější román, jehož hlavním hrdinou je ambiciózní, bezohledný muž, který díky úspěchu u žen pronikne až do nejvyšších společenských kruhů. Celý příběh je zasazen do zkorumpovaného novinářského prostředí, které autor důvěrně z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908640"/>
            <a:ext cx="75549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Kul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povíd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prusko-francouzské války je zastaven dostavník, v kterém cestují Francouzi, pruským důstojníkem. Nesmí jet dál, dokud se mu nepodvolí jedna z cestujících – Kulička (Alžběta Roussetová – prostitutka).Ostatní cestující ji nutí důstojníkovo přání splnit.Když tak učiní, dostavník pokračuje v jízdě, ale místo vděku se Kulička dočká jen urážek a pohrd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71280" y="1051920"/>
            <a:ext cx="3467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v Nikolajevič Tolst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oubor:Ilya Efimovich Repin (1844-1930) - Portrait of Leo Tolstoy (1887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1628640"/>
            <a:ext cx="20512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60000" y="475560"/>
            <a:ext cx="28555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KÁ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844640"/>
            <a:ext cx="541368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odil se ve šlechtické rod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studoval 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ložil školu pro vesnické děti a učil na 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ěnoval se venkovskému hospodaření, později v Moskvě novinař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 svých dílech často odsuzuje bídu, opilství, negramotnost, despot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ho životní filosofie: neodporovat zlu, žít životem prostého člověka, pracovat pro dru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18000"/>
            <a:ext cx="7416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Vojna a m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tyřdílná románová epopej – napoleonské války ( tažení do Ruska a ústup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cké postavy: Napoleon, Kutuzov, Alexandr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ové postavy: velkoměstská šlechta = nositelé názorů autora ( opravdoví, silný vztah k vlasti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Anna Karenin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zobrazuje dva milostné a rodinné osudy. Anna odchází od svého staršího manžela, opouští i svého syna pro vášnivou lásku k Vronskému. Zrazená a odmítaná šlechtickou společností končí sebevraždou. Protikladem je milostné štěstí manželů Levinských. Na příbězích těchto dvojic ukazuje Tolstoj zničující a povznášející moc lá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Sevastopolské poví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žitky z bojů o Sevastopol v Krymské vál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2200" y="619920"/>
            <a:ext cx="4739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Fjodor Michajlovič Dostojevsk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Soubor:Dostoevsky 187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1341360"/>
            <a:ext cx="2347920" cy="2928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1488240"/>
            <a:ext cx="4714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házel z moskevské lékařské rodiny, studoval vojenskou tech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ěnoval se překladatelství (Balz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účast v pokrokovém hnutí trest smrti – změněn na 10 let Sibi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ději se věnuje novinař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akladatelem psychologického rom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68160" y="4046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190160"/>
            <a:ext cx="78055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lat. realis = věcný, skuteč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umělecký směr, který vstoupil do literatury ve třicátých letech 19. stol. a uplatňoval v průběhu 20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založen na kritickém poznávání skutečnosti, které vychází z pravdivého zobrazení lidské osobnosti s jejími rozmanitými vztahy k reali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ismus se neobrací do minulosti, zajímá jej především souča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916200"/>
            <a:ext cx="804060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Zločin a t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je příběhem chudého petrohradského studenta Raskolnikova, který spáchal loupežnou vraždu, z níž je však obžalován nevinný člověk. Zabil starou bezcitnou lichvářku a její dceru. Zahladil stopy, ale nemohl se zbavit pocitu viny, strachu a nejistoty. Seznámil se s prostitutkou Soňou na jejíž radu se přiznává. Je odsouzen na 8 let nucených prací – Soňa ho na Sibiř doprováz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3358080"/>
            <a:ext cx="79930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Idi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hrdina, kníže Myškin, je ztělesněním vnitřní krásy a lidské ušlechtilosti, jež však ostatní v nepochopení vnímají jako idiotism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Bratři Karamaz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 popisuje problém otcovraždy a hledání viníka mezi 3 sy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440" y="619920"/>
            <a:ext cx="3855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Ivan Sergejevič Turgeně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Soubor:IvanTurgenev.jpeg"/>
          <p:cNvPicPr/>
          <p:nvPr/>
        </p:nvPicPr>
        <p:blipFill>
          <a:blip r:embed="rId2"/>
          <a:stretch/>
        </p:blipFill>
        <p:spPr>
          <a:xfrm>
            <a:off x="6516720" y="549360"/>
            <a:ext cx="1646280" cy="2303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4360" y="1342440"/>
            <a:ext cx="468144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hází ze šlechtické r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oval v Berlí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ně cestoval –Francie – přítel Flau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788920"/>
            <a:ext cx="850896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Lovcovy záp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 povídek a črt vykreslujících kontrast mezi nádhernou přírodou středního Ruska (romantická východis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zbídačeným venkovským člově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Otcové a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lo představuje kontrastní životní postoje dvou generací, „otců“ a „dětí“. Hlavní postava Bazarov  je vykreslen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hil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dmítá morálku, vše neužitečné, nevěří v ideály ani principy, uznává pouze jevy hmotně existující či ověřitel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svých dílech také vykreslil typ „zbytečného člověka“. Na rozdíl od Lermontova nebo Puškina to byl obyčejný člověk spoutaný předsudky, společenskými závazky a malomyslností – např. Šlechtické hnízdo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3574080"/>
            <a:ext cx="668340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ac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rýček Váň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ři s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šňový 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í znak dě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naplněné s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rovská kresba mravů a snů, každodenní lidská dramata – osudy žen a mužů, kteří se brání diktá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2520" y="619920"/>
            <a:ext cx="356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ton Pavlovič Čech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557360"/>
            <a:ext cx="460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 rodiny obchodníka, studoval medicínu v Mosk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al humoristické příběhy, romány a na sklonku života divadelní 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Soubor:Anton Tschechow.jpg"/>
          <p:cNvPicPr/>
          <p:nvPr/>
        </p:nvPicPr>
        <p:blipFill>
          <a:blip r:embed="rId2"/>
          <a:stretch/>
        </p:blipFill>
        <p:spPr>
          <a:xfrm>
            <a:off x="5292720" y="1413000"/>
            <a:ext cx="2975040" cy="359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49800" y="980280"/>
            <a:ext cx="200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nrik Ib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Soubor:Henrik Ibsen.jpg"/>
          <p:cNvPicPr/>
          <p:nvPr/>
        </p:nvPicPr>
        <p:blipFill>
          <a:blip r:embed="rId2"/>
          <a:stretch/>
        </p:blipFill>
        <p:spPr>
          <a:xfrm>
            <a:off x="6156360" y="1268280"/>
            <a:ext cx="2265480" cy="2662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18160" y="475560"/>
            <a:ext cx="26967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ŠÍ  LITERA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629720"/>
            <a:ext cx="5184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ský realistický dra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ivil se jako lékárenský učeň a pomoc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ději dramaturg divadla a umělecký vedo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al divadelní hry – zavedl retrospekci (minulost posta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508640"/>
            <a:ext cx="777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ická analýza postavení ženy ve společnosti a v rodině. Výzva k boji za emancip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32720" y="619920"/>
            <a:ext cx="184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ark Tw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Soubor:Mark Twain young.JPG"/>
          <p:cNvPicPr/>
          <p:nvPr/>
        </p:nvPicPr>
        <p:blipFill>
          <a:blip r:embed="rId2"/>
          <a:stretch/>
        </p:blipFill>
        <p:spPr>
          <a:xfrm>
            <a:off x="6659640" y="1413000"/>
            <a:ext cx="2035080" cy="3024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1417680"/>
            <a:ext cx="540036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erický kritický re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podnikatelské rodině na Flori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l pouze základní vzdělání, vyučil se tiskařem, sebevzdělával se, mnoho povolání: lodivod, voják, hledač stří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nikl cestu kolem s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Dobrodružství Toma Sawy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Dobrodružství Huckleberryho Fi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y s dětskými hrdiny, do nichž se promítají autorovy zážitky z dětství i kritický pohled na soudobou Ameriku. Používá hovorového jazy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33800" y="619920"/>
            <a:ext cx="3009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Henryk Sienkie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Soubor:Henryk Sienkiewicz.PNG"/>
          <p:cNvPicPr/>
          <p:nvPr/>
        </p:nvPicPr>
        <p:blipFill>
          <a:blip r:embed="rId2"/>
          <a:stretch/>
        </p:blipFill>
        <p:spPr>
          <a:xfrm>
            <a:off x="6300720" y="1268280"/>
            <a:ext cx="2332080" cy="279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177336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ák – získal Nobelovu cenu za literaturu dí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Quo vad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 = kam kráčíš ?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o životě a pronásledování prvních křesťanů za císaře Ner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Pouští a prales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mán pro mláde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81080" y="3333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1341360"/>
            <a:ext cx="700416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Soubor:Charles_Dickens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Soubor:Balzac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Soubor:Gustave_flauber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Soubor:Emile_Zol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Soubor:GDMaupassan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Soubor:Ilya_Efimovich_Repin_(1844-1930)_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_Portrait_of_Leo_Tolstoy_(1887)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Dostoevsky_187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IvanTurgenev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Anton_Tschechow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Henrik_Ibse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Mark_Twain_you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Henryk_Sienkiewicz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837000"/>
            <a:ext cx="7662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era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člověk, jeho prostředí a společenský život jsou zobrazeny s úsilím o co největší pravdiv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hledává tabuizovaná témata – prostituce, kariérismus, nevěry, problémová manželstv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zace – snaží se vystihnout na hlavním hrdinovi obecný charakterový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é výrazové prostředky – archaismy, argot, nářečí, hovorové prostř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ánr – prozaické útvary ( romá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89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lířs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Gustav Coubert – zakladatel realismu „ Krásné je to, co je pravdivé“. Důraz na zobrazení všedního života a prostého člověka (Štěrkař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lja Repin - Burlaci na Vo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ud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G.Verdi, G.Pucc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771480"/>
            <a:ext cx="76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itický realism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e umělecký směr, který patří k nejvýraznější odrůdě realismu, je v něm zesílen rys kritično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uj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žoazní revol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mach vědy a techn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voj společnosti, která nedokázala snít jako v době romant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357360"/>
            <a:ext cx="724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( z lat. natura = příroda ) – je krajním směrem realismu, vychází z nejnovějších studií – člověk je omezen a ovlivněn dědičností a prostředím, v němž se vyvíjí nebo v němž ž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19600" y="2275920"/>
            <a:ext cx="2550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harles Dic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oubor:Charles Dickens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2781360"/>
            <a:ext cx="2131920" cy="299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671040"/>
            <a:ext cx="3294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LICKÁ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0480" y="1196640"/>
            <a:ext cx="76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rvky literárního realismu je možno spatřovat už v dílech Angliča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niela Def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onathana Swif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2670840"/>
            <a:ext cx="5016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 vládního úřed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iče ve vězení pro dluž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12 let pracuje v továrně na černidla – pocity ponížení a 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ělává se jako samouk (četb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15 letech písař, píše do různých časopi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 24 letech uznávaný humorista a spiso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1197720"/>
            <a:ext cx="7200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Oliver Tw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íčí osud dítěte vydaného na pospas sirotčinci a ul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David Copper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biografické dí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Kronika Pickwickova klu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umoristický román, sledující příhody čtyř členů klubu, kteří cestují po Anglii. Mistrná charakteristika postav, slovní hu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8880" y="1267560"/>
            <a:ext cx="2736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Honoré de Balz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oubor:Balza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1052640"/>
            <a:ext cx="1812960" cy="241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72000" y="597960"/>
            <a:ext cx="39175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COUZSKÁ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821960"/>
            <a:ext cx="45799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mi pilný 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úspěšný podnik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mřel uštván úmornou noční pr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574080"/>
            <a:ext cx="78483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Lidská komed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 = 100 románů a povíde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íl: zachytit všechny lidské typy, společenské vrstvy, životní prostředí a situ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třední tri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Otec Gori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Ztracené ilu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Lesk a bída kurtizá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1280" y="480960"/>
            <a:ext cx="7956360" cy="56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rakter Balzakova romá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 cyklus spojený některými postavami (Vautrin, Rastignac) a hlavní myšlenkou (odsouzení peněžní morál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ice podrobný a přesný popis prostředí (velká frekvence přídavných j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é množství postav – i z okrajových vrstev společnosti – mistrovsky individualizované a zároveň typické (mají i nadčasovou plat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tailní seznamování s postavami (zevnějšek, fyziognomie, dosavadní život, prostředí v němž vyrůstaly, zásah historických událost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é postavy mladých lidí na vzestupu, obklopeni společenským zlem brzy ztrácejí iluze i charakter, přijímají morálku společnosti (Rastignac, Luci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inci morálně čistí jsou většinou pasivní, slabí, neúspěšní (Viktor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lelní kompoz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y charakterizovány i jazy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557640"/>
            <a:ext cx="74199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Evženie Grande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popisuje ubohý život chamtivce, je však obrazem celé společnosti a jejího ch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av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Grandet – sebevědomý, svérázný, lakomý, chamtivý, vypočítavý, ve své rodině vládne despoticky, od svého názoru neustoupí, má raději peníze než rod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vženie -  tichá, navyklá tvrdému režimu života, bojí se udělat cokoliv proti vůli otce, její myšlení se mění příjezdem bratrance Karla, její život však zůstává stejný i po smrti jejího o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ysy realismu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lmi důkladný popis prostředí a duševního stavu hrdinů, kritický pohled na společnost, neschopnost vymanit se z navyklého řá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ysy romantismu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esta do Indie, prostředí milionářské rodiny, jež žije v bídě, duševní a tělesná krása Evženi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ast s jejím osu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1-28T20:05:01Z</dcterms:modified>
  <cp:revision>81</cp:revision>
  <dc:subject/>
  <dc:title>POSLOUPNOSTI</dc:title>
</cp:coreProperties>
</file>