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6894-2FD9-4C16-9380-49F3CCE6E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AAEF-0371-45CD-8147-7BCEE9A63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C9E1-15D5-4606-9AC4-06983B400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DAF4-5BD6-404F-8DDA-9C5233FEB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2CA3-B086-477A-869D-24FAF0352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9CC5-56FA-4519-BF82-A09403A1A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3793-7495-4EFF-A3ED-2AD3EB95C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BAF9-CB19-43D2-A5A3-C71F44ED5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F5DF-0E59-4829-8492-2BE4A5E12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8B88-2E55-4D68-AB7F-F79C9A5A4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C7E8-D4CF-4BB3-BACB-5AE2D4283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A683-BD41-4771-B2F4-AE1A462FA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A00D3-BACC-45C3-BB24-2BE8C4A1356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01CC7-898C-44FC-8725-8C516620C9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258920" y="549360"/>
            <a:ext cx="6769080" cy="10443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900000" y="2492280"/>
            <a:ext cx="734400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OVĚTSKÁ  LITERATURA, BEATNÍCI,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MAGICKÝ  REALISMUS  A  FANTAZIJNÍ  LITERATURA 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900000" y="1346400"/>
            <a:ext cx="7272360" cy="41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771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.Hledají vnitřní svobodu – anarchistické výstřednosti, šokující móda, nebo naopak odvržení jakékoliv péče o zevnějše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71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71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2. Snaha docílit extáze: džezová hudba, tuláctví, rychlá jízda automobilem, narkotika, alkohol, sexuální nevázano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71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71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3. Sklon vyznávat praktiky Dálného východu – budhismus – odmítavé gesto vůči myšlenkovým tradicím západní civiliz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71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71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Čím obohatili americké a světové písemnictví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71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ezprostřednost a otevřenost výpově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71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dvaha individuální obžalo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71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ulgarism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71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rotická otevře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71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éma nového životního styl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71640" y="662760"/>
            <a:ext cx="7200720" cy="55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JACK  KEROU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ynikající student na univerzitě, odchází k námořnictvu – propuštěn, vystřídal mnoho zaměstnání, cesta napříč Amerikou – potkává předlohu pro svůj romá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Na cest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niha se stala biblí beatnického hnutí – kult tuláka. Celý příběh vznikl v průběhu tří týdnů roku 1951, autor ho napsal na stroji na stojardovou roli papíru a bez interpunkčních znamének – spontánně chrlil na papír vše, co ho napadl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GINSBERG  ALL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merický básník, nestydatý homosexuál, rozvraceč společnosti a vousatý šarlatán. Celý jeho život je protkán cestami po světě. Roku 1956 vyšla básnická sbírk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Kvíl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bírka zachycuje některé důležité krizové momenty – jsou to obrazy plné naturalismu a obscénnost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900000" y="937080"/>
            <a:ext cx="7272360" cy="49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MAGICKÝ  REALISM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) magický realismus (zázračné reálno) přítomný v zemích, kde je silná tradice mytologie či ústní slovesnosti – mytologický výklad světa tak ovlivňuje vyprávění autora (Kolumbie, Argentina, Kuba, Brazíli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2) základním principem magického realismu je prolínání dvou světů.  í Vyprávění spisovatele x svět magický, mytologický, snový a fantazijn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3) během vyprávění lze těžko postřehnout hranici těchto dvou rov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GABRIEL  GARCÍA  MÁRQU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olumbijský spisovatel, Nobelova cena za literaturu z roku 198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to roků samo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ozsáhlá kronika provinčního městečka Maconda, kde žije rozvětvená rodina Buendiíů – její osudy sledujeme od koloniálních časů minulého století až do šedesátých let 20.století. Vše ústí do nepoučitelnosti člověka a na jeho neschopnost zbavit se samo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042920" y="1213200"/>
            <a:ext cx="4827600" cy="44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ff"/>
                </a:solidFill>
                <a:latin typeface="Arial"/>
              </a:rPr>
              <a:t>ČINGIZ  AJTMAT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tanice bouřn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opravišt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ff"/>
                </a:solidFill>
                <a:latin typeface="Arial"/>
              </a:rPr>
              <a:t>MICHAIL  BULGAK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istr a Markét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ff"/>
                </a:solidFill>
                <a:latin typeface="Arial"/>
              </a:rPr>
              <a:t>JOHNA  STEINBEC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a východ od rá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Kenta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971640" y="1349640"/>
            <a:ext cx="7200720" cy="41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FANTAZIJNÍ  LITERA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d roku 1929 je tato literatura označována termínem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cience fiction.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V USA také vzniká prestižní cena pro nejlepší sci – fi roku zvaná HUG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66ff"/>
                </a:solidFill>
                <a:latin typeface="Arial"/>
              </a:rPr>
              <a:t>RAY  BRADBU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merický spisovat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Marťanská kronik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povídkový soub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451 stupňů Fahrenhei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román, teplota při níž se papír vznítí a hoří. Upozorňuje na hrozbu odumírání lidského ducha – školy chrlí mnoho běžců, skokanů, závodníků, příživníků, hračičkářů, ale žádné badatele, vědce a kritiky. Intelektuálové se stávají štvaná zvěř – příliš ruší svou zvídavostí a pochybování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042920" y="1487520"/>
            <a:ext cx="7058160" cy="38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66ff"/>
                </a:solidFill>
                <a:latin typeface="Arial"/>
              </a:rPr>
              <a:t>GEORGE  ORW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1984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- antiutop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66ff"/>
                </a:solidFill>
                <a:latin typeface="Arial"/>
              </a:rPr>
              <a:t>KEN  KES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merický aut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Přelet nad kukaččím hnízd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ilm Miloše Formana, důkaz, že tendence k totalitarismu se nevyhýbá ani tak zavedené demokracii, jakou představují dnešní US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66ff"/>
                </a:solidFill>
                <a:latin typeface="Arial"/>
              </a:rPr>
              <a:t>JOHN  RONALD  REUEL  TOLKI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nglický spisovat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Pán prsten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042920" y="1072080"/>
            <a:ext cx="6122880" cy="47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OKRAJOVÁ  LITERA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66ff"/>
                </a:solidFill>
                <a:latin typeface="Arial"/>
              </a:rPr>
              <a:t>Série románů ANNE a SERGE  GOLONOVÝ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Angelika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filmové zpracová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66ff"/>
                </a:solidFill>
                <a:latin typeface="Arial"/>
              </a:rPr>
              <a:t>IAN  FLE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James Bond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filmové zpracová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66ff"/>
                </a:solidFill>
                <a:latin typeface="Arial"/>
              </a:rPr>
              <a:t>FREDERICK  FORSY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Den pro Šaka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66ff"/>
                </a:solidFill>
                <a:latin typeface="Arial"/>
              </a:rPr>
              <a:t>MARIO  PUZ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Kmot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66ff"/>
                </a:solidFill>
                <a:latin typeface="Arial"/>
              </a:rPr>
              <a:t>AGATHA  CHRIST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vní dáma anglické detektivky – </a:t>
            </a: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Hercule Poirot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900000" y="1211400"/>
            <a:ext cx="7272360" cy="44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LITERATURA  FAK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Literatura zdůrazňující reálná fakta. Pohybuje se na pomezí publicistiky, vědecké tvorby, věcné i fiktivní literatury. Vnitřně se diferencuje na: autobiografie, cestopisy, deníky, reportáže, faktografický romá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66ff"/>
                </a:solidFill>
                <a:latin typeface="Arial"/>
              </a:rPr>
              <a:t>ALEXANDR  ISAJEVIČ  SOLŽENICY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Souostroví Gul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66ff"/>
                </a:solidFill>
                <a:latin typeface="Arial"/>
              </a:rPr>
              <a:t>C.W.CE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ěmecký spisovatel, který napsal strhující knihy o dějinách archeologi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Bohové, hroby a učen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Oživená minul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71640" y="1487520"/>
            <a:ext cx="7345440" cy="38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VĚTSKÁ  LITERATURA – SOCIALISTICKÝ  REALISM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ávě skončená válka – obnova země – vytvořily požadavek vychovávat socialistického člověka. Literární hrdina se vyznačoval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) vysokou uvědomělost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) věrností Stalinovi, straně a dělnické tříd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) kladl si nadosobní cí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) byl komunista – člověk zvláštního raž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 literárních dílech se vyžadovala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) ideovost – byla řízena komunistickou stran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) stranickost – spisovatel posuzoval vše z hlediska komunistické ideolog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) lidovost – díla musela najít nejširší ohlas mezi čtenář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71640" y="1599840"/>
            <a:ext cx="72007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771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ntgardní umění nepřipadalo v úvah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71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éma druhé světové války bylo využito k manipulaci čtenářů a k cílům vybudovat komunistickou společnos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71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šechny pokusy o kritiku a nepřikrášlenou pravdu byly velmi tvrdě umlčován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71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linův režim poslal do koncentračních táborů přes 600 spisovatelů – mnozí zde zahynul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71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ěkterá díla mohla vyjít až o několik let (století) pozděj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71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 popularitě ruských spisovatelů nerozhodovaly umělecké kvality, ale politické přesvědčen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71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 jeden ze čtyř ruských držitelů Nobelovy ceny za literaturu nebyl v českých učebnicích do roku 1990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71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71640" y="1488960"/>
            <a:ext cx="7200720" cy="38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66ff"/>
                </a:solidFill>
                <a:latin typeface="Arial"/>
              </a:rPr>
              <a:t>ALEXANDR  ISAJEVIČ  SOLŽENICY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Laureát Nobelovy ceny z roku 197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tudoval matematiku, historii a literatur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ěhem války – 1945 – zatčen a za nevhodné výroky o Stalinovi v soukromé korespondenci odsouzen k osmi letům nucených prací. Po operaci rakovinového nádoru se směl léčit a v roce 1956 byl rehabilitová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 polovině 60. let mu bylo zakázáno publikovat – další romány vycházejí v podobě samizdatu (Německo) – vyloučen ze Svazu spisovatelů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 vydání knihy (samizdat) Souostroví Gulag byl obviněn z vlastizrady a násilím vyvezen do Německa – 197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 dvou letech přesídlil do USA. V roce 1994 se vrátil do Rusk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71640" y="995760"/>
            <a:ext cx="7272360" cy="49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Jeden den Ivana Děnisovič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 této novele nesměl publikovat. Je to příběh člověka nespravedlivě odsouzeného k nuceným pracím v lágru (vlastní vězení autora). Jeho den je naplněn těžkou dřinou na stavbě v podmínkách sibiřské zimy a hlavně nezměrnou snahou o přežití, která se projevuje v jeho vztahu ke spoluvězňům a k bídnému, ale vzácnému jídlu. Vyprávění je střízlivé, nepatetické, ale o to působivějš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Souostroví Gul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ozsáhlá trilogie o sovětských koncentračních táborech,  je časově ohraničena (1918–1956  historie, vznik a existence represivního aparátu). Je psána jako kronika. Vzpomínky – svědectví o zločinnosti, třídním boji, o kultu osobnosti a společ. systému postavenému na lž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Dopis vládě sovětského svaz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tevřeně se v něm staví proti komunistické ideologii, požaduje svobodu pro neruské národ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71640" y="1072080"/>
            <a:ext cx="7272360" cy="47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66ff"/>
                </a:solidFill>
                <a:latin typeface="Arial"/>
              </a:rPr>
              <a:t>ČINGIZ  TOREKULOVIČ  AJTMAT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irgizský spisovatel, studoval zemědělství a literaturu. Jádrem díla jsou zkušenosti z období 2. svět. války a stalinismu, sleduje osudy lidí z rodné vesnice Ail, kritizuje sociální poměry ve své zemi a dotýká se ekologické problematiky. Využívá bohatství mýtů a lege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Džami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ilostná novela. Období 2. svět. války – žena frontového vojáka, opouští (proti morálním zásadám své vesnice) svého muže a své bydliště kvůli milovanému muži (Danijar). Přestože se prohřeší proti starým zvykům, příběh vyznívá jako obhajoba práva na lásku a štěst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jslavnější román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Popravišt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Stanice Bouřn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Životní osudy železničáře žijícího na malé staničce uprostřed kazašské stepi. V nich se prolínají minulost, současnost i budoucnost, starobylý mýtus a legendy s realistickým příběh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71640" y="796320"/>
            <a:ext cx="7056360" cy="52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66ff"/>
                </a:solidFill>
                <a:latin typeface="Arial"/>
              </a:rPr>
              <a:t>GEORGE  ORWELL ( 903 – 1950, vl. jménem E.A.Blai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nglický prozaik – novinářské zkušenosti. Živil se jako učitel, knihkupecký pomocník, psal reportáže, recenze a román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Zvířecí far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omán – alegorická bajka, parodie totalitní diktatury a revoluce. Jeden druh zvířat tyranizuje jiné. Je smutným obrazem despotismu a násilí, demaskuje všechny skutečnosti, které k totalitě vedo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schopný farmář Jones = car Mikuláš II., vepř Major = Marx § Lenin, vepř Sněhurka = Trockij, psi = KGB, vepř Napoleon = Stal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198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dsouzení totalitního režimu. Hlavní hrdina = Winston Smi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zaměstnanec ministerstva pravdy). Opravuje minulost, aby i staré noviny odpovídaly současnosti a nebylo možné současným vládcům prokázat lež. Hlavní cíl = vychovat lidi bez historické paměti. Vede si deník  a zamiluje se - nejtěžší zločiny. Je zatčen „myšlenkovou policií“ a mučen. Zlomen se vzdává jakékoli svobodné myšlenky – zradí své přesvědčení – ztrácí úctu k sobě samému = základní prostředek totalitního systém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71640" y="1349640"/>
            <a:ext cx="7345440" cy="41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66ff"/>
                </a:solidFill>
                <a:latin typeface="Arial"/>
              </a:rPr>
              <a:t>JOHN  STEINBE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 roce 1962 obdržel Nobelovu cenu za literaturu. Venkov mu je útočištěm před chaosem a vřavou velkoměstské civilizace, půda a příroda dostávají v jeho knihách až nádech mýt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Hrozny hněv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Na východ od rá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O myších a lide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va námezní dělníci, Jiří Milton a slabomyslný Lenda Small, putují po kraji – pracují na farmě. Jiří musí svého kamaráda hlídat – má zálibu v hlazení, ale svojí silou zabíjí. Žena farmáře Lendu svádí – ten jí hladí, ale když se jí to znelíbí, začne křičet. Lenda ji „ucpe“ rukou ústa – zlomí jí vaz. Jiří mu naposledy vypráví o budoucím štěstí a poté ho zastřelí, aby jej uchránil před lynčování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900000" y="1464840"/>
            <a:ext cx="7272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BEATNI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Generační hnutí v USA v padesátých letech, které se vzbouřilo proti konzumnímu ideálu prosperující americké poválečné společnost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lovo „beat“ nelze přeložit jednoznačně. Znamená to jednak „zbitý“ či „unavený životem“ (vystihuje stav generace), ale stejně tak znamená „blažený“ (naznačuje únik z tohoto stavu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eatníci se vysmívali tradičním americkým hodnotám, jakými jsou bohatství, rodina, jistá loajalita či národní hrdost. Odmítali společnost s její disciplínou, dobrými mravy a morálkou. Zaměřili veškeré snažení na to, aby je společnost nepohltila, aby se do ní nezařadili a aby se nestali jejími člen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13:47:30Z</dcterms:created>
  <dc:creator>ucitel</dc:creator>
  <dc:description/>
  <dc:language>en-US</dc:language>
  <cp:lastModifiedBy>hula</cp:lastModifiedBy>
  <dcterms:modified xsi:type="dcterms:W3CDTF">2011-12-30T10:41:01Z</dcterms:modified>
  <cp:revision>55</cp:revision>
  <dc:subject/>
  <dc:title>POSLOUPNOSTI</dc:title>
</cp:coreProperties>
</file>