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00D-45B9-4FC3-831A-71671323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9CB-EBEE-4192-904B-5A743AA9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E8B-F15C-459F-9778-D94F9C35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72F-3D05-4561-A81B-74C1FCBA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E57-337B-482B-83A8-72E0BEA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B9B-2B33-4BC3-BEDA-059EE2D7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0CA-7522-4F26-8FD8-1A13E82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2B9-EA90-4D8F-8817-F2D79C64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B29-F6B7-471C-A7F4-E8E6EAE4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B58-85A8-48F1-91EF-1517D92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D52-7BF3-4C5B-8C50-77E4F5BE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DD3-9294-4CA2-9F50-1BAE92A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48E-332F-4A94-86DC-1997F3BE8B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3ABE-D30F-4E2E-9DBE-2DFECF164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2565360"/>
            <a:ext cx="619308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enesance a humanism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97160" y="1803240"/>
            <a:ext cx="6349680" cy="325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5600" y="5373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lední veče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85960" y="576360"/>
            <a:ext cx="3219480" cy="486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11240" y="56610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a 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4960" y="476280"/>
            <a:ext cx="3593880" cy="4897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46720" y="553716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áma s hranosta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85600" y="423720"/>
            <a:ext cx="76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R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nutí, jehož cílem bylo přetvořit římskokatolickou církev, směřo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nápravě společenských rozporů a sociálních problé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Erasmus Rotterdam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ůdčí osobnost evropského humanismu –velmi kritický postoj k círk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vála bláznov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John Wycl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glický reformátor, vystupoval proti moci církve, odpustkům, navazov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něj Hus a Chelč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os, satira, lyrická píseň, epigram, historická povídka, komedie, tragé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o literární tvorby psané latinsky pronikají  národní jazy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85960" y="4968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ENESANČNÍ 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tal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Dante Alighi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žská ko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sy středověku – zájem o posmrtný život, Be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sy renesance – antické postavy, touha po poz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 – najít smysl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ory – katolický středověk x rene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ozice – tři části ( Očistec, Peklo, Rá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 Dante zabloudí v lese, pronásledován třemi šelmami (tři hříc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ít nemáte jak tupé zvíře, však především dbát poznání a ctnosti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vý ž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borník milostné poezie věnovaný Bea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84880" y="423720"/>
            <a:ext cx="748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Francesko Petra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ec humanismu, přítel Karla IV. – snaha sjednotit Itál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nety Lau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pěvník 366 sonetů – opěvování dívky Laury – krá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tnost, činy, nevyslyšená lá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á Itál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ýzva k míru a sje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Giovany Boccac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kamer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oubor 100 novel (10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 mladých lidí (7 dívek, 3 chlapci) utíká r. 1348 před morem z Flor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venkov. Téma – láska (manželská, milenecká, platonická). Os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emského života, pravdivost, otevřenost, přiroze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ela – z ital. novella = novi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nr středního rozsahu, se zajímavým a napínavým příběhem. Děj m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ý spád a nečekanou pointu (závěr).Základ k novodobému rom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5905440" cy="533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79960" y="5805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kam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84160" y="423720"/>
            <a:ext cx="7332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ncouz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Francois V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rokletý básník – v rozporu se společností, pohrdavý vztah k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pší společnosti, kritizuje sociální uspořádání, církev (pokrytectv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llonská balada – lyrickoepická báseň, 4 sloky (3 delší + poslání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e hlavní myšlen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alada ze soutěž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íše o so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alada o zobáčcích Pařížan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bdivuje se schopnostem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kaz (Malá závěť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ejvýznamnější dílo franc. středověké litera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balad, satirické rozloučení s přá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ká závě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básně o pomíjivosti a bídě lidského života, o stra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smrti, lítosti nad ztraceným mlád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 a dílo Villonovo inspiroval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Voskovce a J. Wericha – Balada z had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Loukotkovou – Navzdory básník zpívá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83440" y="423720"/>
            <a:ext cx="73512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paněl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Miguel de Cervantes de Save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myslný rytíř don Quijote de la Man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oudílný román, původně psán jako parodie na rytířské romá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n Quijo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tíř čistého srdce, čte středověké rytířské romány a chce obnov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ich slávu. Jde do světa, aby získal čest pro svou dívku Dulcine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ští se do předem prohraného boje, snílek, vše obětuje sv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stav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ouží po spravedlnosti a svobodě x naráží na tvrdou real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ragikomická postava – společnost si takových lidí neváží 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mívá se j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ancho P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uha – zdravý selský rozum. Praktický zbrojnoš, netouží po hrdinstv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chce si obstarat bezstarostné živobytí. Po smrti dona Quij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račuje v naplňování jeho ideá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094200" cy="445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4680" y="522936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n Quijote de La Man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57960" y="423720"/>
            <a:ext cx="7485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enes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znovuzrození, obnovení an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azuje na ideály antických národů (Řeků, Říma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ví se proti nadvládě teologie (boží exist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azuje rozvoj přírodních věd (astrologie, geografie, medic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ílem poznání není Bůh, ale člověk (neznamená to ztrátu víry v Bo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on k radostem pozemského života (ženy, víno, zpěv, záb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ra v lidský rozum, schopnosti a poznání, aktivita osobnosti (strůj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ého osudu), sebevědomí (víra v sebe samého), láska = význam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ivot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umanism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lid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ní časově vyme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dná se o životní a vzdělanostní program zdůrazňující rozvoj os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yl zaměřen proti feudalismu a nadvládě církve, vyústil v r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osvíce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Vzni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á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3. – 14. stol., Francie – 15. stol., Anglie, Španělsko – 16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ec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5. – 16. stol. – neprožívají renesanci v pravém slova smys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85600" y="496800"/>
            <a:ext cx="74743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gl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William 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anglický a světový dramatik. Roku 1588 přichází do Londý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rodného Stratfordu nad Avo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7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umajitel společnosti The Globe 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ad J. V. Slá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hakespearovské d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achovává trojí je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hrdina má kladné i záporné vlastnosti, prohrává i vítězí, ale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 zachovává svou přirozenost a hrd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íčinou tragédie je vášeň nebo ná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rše se střídají s próz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ické prvky nejsou ostře odděleny od tragic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ženy samostatně rozhodují o svém živo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541680" cy="5010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6320" y="56610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illiam Shakespe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41440" y="496800"/>
            <a:ext cx="360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Í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o roku 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a) Historická 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chard 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chard 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dřich 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b) Ko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n noci svatoján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ho povyku pro 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selé paničky windsor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ocení zlé 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nátský ku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84880" y="496800"/>
            <a:ext cx="503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uhé období tvorby – 1601 – 16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ze renesančního optimismu (30-ti letá vál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ůvěra v lidské 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simistický názor na vzdělávání, kulturu, sv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ch ze smrti, návrat k Bo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lavných tragé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c) Trag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eo a J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c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am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l 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tonius a Kleopa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62120" y="549360"/>
            <a:ext cx="3165480" cy="4535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79960" y="5445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eo a J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1320" y="571680"/>
            <a:ext cx="3963960" cy="4944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10520" y="5661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1440" y="423720"/>
            <a:ext cx="8454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ENESANCE  A  HUMANISMUS  V  ČESKÝCH  ZEM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polovina 15. století – 1. polovina 17 století – dvě linie tvor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58 – založena Jednota bratrská, stává se významnou v oblasti vzdě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akládá tiskárny). Vydala Kralickou bibli – tvořena šesti svazky, stal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m (v době národního obrození) spisovného jazy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) Humanismus psaný lat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teratura zaměřená na nejvyšší vrstvy. Rozvoj díky učencům a studentů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Bohuslav Hasištejnský z Lobko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atá knihovna, znalost antické litera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aloba k svatému Václav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báseň o českých mrav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Jan Kampanus Vodńan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kan a rektor 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retisla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lastenecká hra z českých děj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240" y="423720"/>
            <a:ext cx="76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) Humanismus psaný če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evším měšťané, využívají literatury jako prostředku v politickém bo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Viktorin Kornel ze Vše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ík, profesor na UK. Formuloval program českého humanism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iloval o rozvoj literatury psané dobrou češt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nihy o napravení padlé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hajoba českého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Václav Hájek z Libo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olický kněz, autor kron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onika če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příchodu Čechů do r. 152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dy – vlastenectví, vypravěčské umění, nebyla zakázána v době tem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pory – podpora šlechty a katolické církve, malá histor. hodn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Jan Blahosl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ěz, biskup jednoty bratrské v níž prosadil názor na vzděl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amatika če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ručka pro vyšší školy bratrské – čistota českého jazy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85240" y="423720"/>
            <a:ext cx="692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ble kral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dílo českého humanismu – jazykový vzor pro NO – zá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é češtiny, doklad o vyspělosti knihtisku, grafiky a vaz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Daniel Adam z Veleslav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itní profesor, doba veleslavínská (1570 – 1620) – zlatý vě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é literatury, majitel tiskárny, zeť Jiřího Melantri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lendář histor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iné autorské dílo – zaznamenal v něm významné histor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dál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96720" y="739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773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2160" y="423720"/>
            <a:ext cx="82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Periodiz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ná renesance (guattrocento) – souběžně s pozdní goti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lná renesance (cinguecento) – sloupy, voluty, ští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dní renesance (marýnismus) – ornamentika, port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Příčiny vzn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spodářský rozvoj, bohatnutí italského měšťa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Rozvoj lidského pozn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trologie – Mikuláš Koperník, Galileo Gali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mořské plavby a objevy – Kryštof Kolumbus, Amerigo Vespu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cína – Ján Jese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Archite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ějí se paláce, zámky s lodžiemi  a arkádami, měšťanské domy, mé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ů. Fasády jsou zdobeny tzv. sgrafity, reliéfy z ant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álie – chrám sv. Petra v Ří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cie – palác Louvre v Paříži, zámky na Loi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ha – Vladislavský sál – Hradčany, Volyně, Český Krumlov, Pracha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10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91800" y="582444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ohrádek Hvězda (královny Anny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576360"/>
            <a:ext cx="6792840" cy="509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4000" y="582444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mek Litomy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392560" cy="345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2295360" cy="30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81640" y="474516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xtínská kaple - fre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70720" y="4745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topeterská katedrá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076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6600" y="423720"/>
            <a:ext cx="7340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lířst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novuobjevilo přírodu a perspektivu, znalost anatomie, zachyc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ychiky – stav duše, em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lejomalba, portréty, náměty náboženské i an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ndro Botticelli – Zrození Venuše, ilustrace Božské ko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onardo da Vinci – malíř, sochař, architekt, hudebník, vynález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večeře, Dáma s hranostajem, Mona 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chelangelo Buonarroti – fresky v Sixtinské kap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hař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nost se obrací k proporcím a anatomii tě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natelo – socha Da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chelangelo Buonarroti – David, Mojžíš, P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81160" y="549360"/>
            <a:ext cx="3884760" cy="460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05400" y="530064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chelengelo Buonarr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16872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92720" y="836640"/>
            <a:ext cx="3130560" cy="417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80680" y="5229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chelangelo - P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9040" y="5300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chelangelo - 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07-22T19:42:45Z</dcterms:modified>
  <cp:revision>85</cp:revision>
  <dc:subject/>
  <dc:title>POSLOUPNOSTI</dc:title>
</cp:coreProperties>
</file>