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724-01F0-47FD-BD20-BB39ED31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EE6-74A9-4792-808C-D620E84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CC9-0D4C-492B-AC1A-7BF64C19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D06-BBE5-4FF7-8050-0AC05065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02C-76F8-4039-9905-64961D32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673-2E3B-4AC1-909F-D6B18B76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C85-F3C3-4AB4-9E93-7B8225F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805-9715-4504-8F31-2AA2EFB2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C16-B2A6-42AD-946A-80155898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60C-5E1A-422A-B433-6B248AF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DF9-EF95-47CC-8CD9-6758BA2F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E20-C15D-4E7B-AF71-7640FF8D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C07A-7977-4EE6-A033-A52C069DEE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5B1-876F-45B4-9FFF-BAF17209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d/Jan_Vil&#237;mek_-_Jaroslav_Vrchlick&#253;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b/Julius_Zeyer_Vilime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f/Anton_Tschechow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4/Henrik_Ibsen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Gabriela_Preissova_Vilimek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971640" y="2492280"/>
            <a:ext cx="72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ývoj dramatu do nástupu modern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amlet-Eugène_Ferdinand_Victor_Delacroix_018"/>
          <p:cNvPicPr/>
          <p:nvPr/>
        </p:nvPicPr>
        <p:blipFill>
          <a:blip r:embed="rId1"/>
          <a:stretch/>
        </p:blipFill>
        <p:spPr>
          <a:xfrm>
            <a:off x="2281320" y="571680"/>
            <a:ext cx="3963960" cy="494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710520" y="5661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40720" y="1144440"/>
            <a:ext cx="731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tragé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Pierre Corneill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pjér korne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ůrce moderní tragédie – pevná kompoz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Cid (p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: povinnost x láska (vítězí láska), oba hájí čest r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ean Racine (žán rasé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Fai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ostavě Faidry se sváří cit s rozumem – Faidra podlehne ci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rt obou hrdin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1"/>
          <p:cNvSpPr/>
          <p:nvPr/>
        </p:nvSpPr>
        <p:spPr>
          <a:xfrm>
            <a:off x="3815640" y="4366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lasic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905040" y="765000"/>
            <a:ext cx="7044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) Ko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Moliére (vl. jménem Jean – Baptiste Poquel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rec, režisér, dramatik, člen herecké kočovné společnosti (13 le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ditel královského divadla v Paříži. Umírá na tuberkulózu, pohř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nesvěceného hrobu jako sebevra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al odvážné satirické veselohry – zesměšňoval pokrytectví, círke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ýšenou morál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Tartuffe (tartif = svatouš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tira na církev a její představi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Lakom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tirická komedie na téma: lakota a chamtiv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arpagon – šedesátiletý lichvář. Harpago = kořistní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ověk má jíst, aby žil, a ne žít, aby jedl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Měšťák šlechtic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Zdravý nemoc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679840" y="620640"/>
            <a:ext cx="3774960" cy="4751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414324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12960" y="1073160"/>
            <a:ext cx="711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Carlo Gold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matik a reformátor italského divadla – posledních 30 let sv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a žil v Paříži podporován králem Ludvíkem XVI. Napsal 267 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hranější italský dramatik na svě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Sluha dvou p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Benátská vdov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Poprask na lagu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Baj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2"/>
          <p:cNvSpPr/>
          <p:nvPr/>
        </p:nvSpPr>
        <p:spPr>
          <a:xfrm>
            <a:off x="755640" y="105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áclav Th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rec, dramatik, básní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kladatel divadla Bo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Básně v řeči váz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Břetislav a J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Vlasta a Šár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059520" y="900000"/>
            <a:ext cx="2100240" cy="296064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4"/>
          <p:cNvSpPr/>
          <p:nvPr/>
        </p:nvSpPr>
        <p:spPr>
          <a:xfrm>
            <a:off x="3645360" y="331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árodní obro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9640" y="960120"/>
            <a:ext cx="840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 letech 1846 – 1851 dramaturg Stavovského divad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)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náměty ze souč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800" spc="-1" strike="noStrike">
                <a:solidFill>
                  <a:srgbClr val="ff33cc"/>
                </a:solidFill>
                <a:latin typeface="Arial"/>
              </a:rPr>
              <a:t>Fidlovačka aneb žádný hněv a žádná rv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= nástroj ševců na uhlazování kůže + tradiční jarní slavnost Nuselský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evců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emiéra r. 1834 – do r. 1917 zakázá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píseň Kde domov mů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 scéně Stavovského divadla zpíval Kar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katý – 1. sloka = chvála české krajiny, 2. sloka = chvála mrav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šlechtilosti l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hl. myšlenk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mokratičnost (povýšená máselnice Mastilková, odmítá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české, mluví zkomoleně německy, je poučena a zesměšněna – 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ou dceru Lidušku synovi chudého ševce Kroutila), vlastenect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yšlenka národní svornosti + lidové postavy kladné – mluví jadrno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štinou x komické postavy měšťanstva – prvky němč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332000" y="989640"/>
            <a:ext cx="741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Paličova d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ozárka Valentová = typ ušlechtilé, obětavé, prosté, moudré dívky, láskyplně pečující o své mladší sestry a ze smrti nešťastného otce, myslí víc na druhé než na sebe – bere na sebe i vinu otce, který zapálil ze zlosti st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áměty pohádkové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báchor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kračovatelé J. Zeyer, A. Jirásek, J. Drd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Jiříkovo vid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Tvrdohlavá 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Lesní pana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55640" y="47052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Strakonický dudák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konicko, 19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stav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nadpřiro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ka Rosava + víly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reál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ové: Dorotka, Kalafuna, Kordula, rychtář Kodě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rodilci: Vocilka, Šavl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ské: Zulika, Alamír, Alenor 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v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sti i zápory čes. národní povahy: dobré srdce, podnikav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átelský, muzikální x věčná č. nespokojenost, doma se cítí být spoután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itný, příliš důvěřivý, zachraňuje ho láska Rosavy a Doro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58920" y="4437000"/>
            <a:ext cx="76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myšlenk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raz na vítězství lásky a oběta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mítnutí hmotných hod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rodní síly člověku pomáhají, chová-li se jako člově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raz na vztah k vlasti, oslava českého lidu, jeho síly, lásky a obětavos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erá vítězí nad pochybným leskem ciz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45800" y="907920"/>
            <a:ext cx="52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áměty histor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Jan 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Jan Ži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Drahomíra a její synové aneb krvavé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Kutnohorští havíři aneb krvavý 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46480" y="907920"/>
            <a:ext cx="656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Divad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jeden herec několik rolí,výborná akustik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rci v maskách, vysoké podrážky, jen muž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Dra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zniká z nábož. slavností boha Dionýsa (ja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y – jednota místa, času, dě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Žán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agé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áměty z historie, mytologie, hrdin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ození lidé a bohové, spis. jazyk, filosofické ne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ální problémy. Hrdina bojuje proti přesile, osud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tru. Hra končí většinou porážkou nebo smrtí hrd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Kom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šední náměty, postavy z lidových vrste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aktuálních problémů, humorné ladě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pisovný citově zabarvený jazyk. Zesměšň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porné vlastnosti a společ. nešvary, končí smírně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3"/>
          <p:cNvSpPr/>
          <p:nvPr/>
        </p:nvSpPr>
        <p:spPr>
          <a:xfrm>
            <a:off x="3809160" y="436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34520" y="47628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aroslav Vrchl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oubor:Jan Vilímek - Jaroslav Vrchlický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1152360"/>
            <a:ext cx="1784520" cy="2675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826920" y="1123200"/>
            <a:ext cx="4537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lastním jménem Emil Fr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tudoval filosofii, vychovatel v Itálii, učitel a profesor na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al 270 knih (z toho180 překladů – z angličtiny, italštiny, francouzšt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ádal z 18 jazyků.V 90.letech – rozpad manželství, působila na něj a útočila mladá generace – mozková mrt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l odvahu zkoušet různé básnické formy mistr so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46200" y="4441680"/>
            <a:ext cx="78357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Noc na Karlštej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arel IV. odpouští své ženě, že porušila jeho přísný zákaz, protože jednala ve jménu lá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Hyppod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ragédie – čerpá z řecké his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133440" y="476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ius Ze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Soubor:Julius Zeyer Vilim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933480"/>
            <a:ext cx="2141640" cy="266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755640" y="107388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oval literaturu, filosofii, dějiny umění, jazy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l střídavě v Praze a Vodňa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tel Vrchl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tizuje českou společnost a ukazuje slávu české minu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50880" y="3942000"/>
            <a:ext cx="78627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Radúz a Mahu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matická báchorka. Radůz, kralevic, přichází do sousední země, kde se mu líbí královská dcera Mahulena. Král Stojmír zde vládne se svojí zlou ženou Runou – ta stojí v cestě Radůzovi – nechá ho přikovat ke skále (prometheovský motiv). Mahulena ho osvobodí, Runa oba prokleje, ale láska nakonec zvítězí. Radůz přikovaný ke skále – obraz zotročeného Sloven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39640" y="3574080"/>
            <a:ext cx="668340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ac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rýček Váň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ři s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šňový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znak dě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naplněné s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rovská kresba mravů a snů, každodenní lidská dramata – osudy žen a mužů, kteří se brání diktá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702520" y="619920"/>
            <a:ext cx="356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on Pavlovič Čech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1557360"/>
            <a:ext cx="460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 rodiny obchodníka, studoval medicínu v Mosk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al humoristické příběhy, romány a na sklonku života divadelní 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oubor:Anton Tschech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413000"/>
            <a:ext cx="2975040" cy="3598560"/>
          </a:xfrm>
          <a:prstGeom prst="rect">
            <a:avLst/>
          </a:prstGeom>
          <a:ln w="0">
            <a:noFill/>
          </a:ln>
        </p:spPr>
      </p:pic>
      <p:sp>
        <p:nvSpPr>
          <p:cNvPr id="107" name="TextovéPole 6"/>
          <p:cNvSpPr/>
          <p:nvPr/>
        </p:nvSpPr>
        <p:spPr>
          <a:xfrm>
            <a:off x="3648600" y="23184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větový re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349800" y="980280"/>
            <a:ext cx="200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nrik Ib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oubor:Henrik Ibs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268280"/>
            <a:ext cx="2265480" cy="2662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39640" y="1629720"/>
            <a:ext cx="5184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ský realistický dra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ivil se jako lékárenský učeň a pomoc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ději dramaturg divadla a umělecký vedo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al divadelní hry – zavedl retrospekci (minulost posta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84360" y="4508640"/>
            <a:ext cx="777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ická analýza postavení ženy ve společnosti a v rodině. Výzva k boji za emancip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22160" y="33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alistické d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1"/>
          <p:cNvSpPr/>
          <p:nvPr/>
        </p:nvSpPr>
        <p:spPr>
          <a:xfrm>
            <a:off x="917640" y="907920"/>
            <a:ext cx="725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rodní 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63 – položen základní kámen 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81 – zahájen provoz, první představení = Smetanova Libu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83 – definitivně otevřeno ND – na jeho scéně se ujal realismus – jedinec v přirozeném, reálně prokresleném prostředí. Vymizela lyričnost a subjektivnost, verš střídá próza. Objevuje se běžně mluvený jazyk i náře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hitektura – Josef Zítek (pochován v Malenic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hy – Myslbek – socha hudby v hlavní 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y = koně pod střechou - Šn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ona – Vojtěch H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esby – Mikoláš Ale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Stroupeznicky"/>
          <p:cNvPicPr/>
          <p:nvPr/>
        </p:nvPicPr>
        <p:blipFill>
          <a:blip r:embed="rId1"/>
          <a:stretch/>
        </p:blipFill>
        <p:spPr>
          <a:xfrm>
            <a:off x="6372360" y="2182680"/>
            <a:ext cx="1904760" cy="2419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989440" y="6080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Ladislav Stroupežn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délník 4"/>
          <p:cNvSpPr/>
          <p:nvPr/>
        </p:nvSpPr>
        <p:spPr>
          <a:xfrm>
            <a:off x="611280" y="1166760"/>
            <a:ext cx="624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maturg 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úspěšné hry – historické komedie o záletech Mikulá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čického z He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víkovský rar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aní mincmist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5"/>
          <p:cNvSpPr/>
          <p:nvPr/>
        </p:nvSpPr>
        <p:spPr>
          <a:xfrm>
            <a:off x="673200" y="3789360"/>
            <a:ext cx="779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rozvoj českého dramatu byla významná h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ši furi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hrává se na soudobé vesnici na Písecku. Jde o spor dvou radních – výběr kandidáta na místo ponocného. Vytvoření typů venkovského obyvatelstva. Sedlák –pyšný, tvrdohlavý i dobrosrdeč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startovala sérii her z vesnického prostředí na scéně 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05440" y="4762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abriela Preiss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Soubor:Gabriela Preissova Vilim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268280"/>
            <a:ext cx="2647800" cy="350064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"/>
          <p:cNvSpPr/>
          <p:nvPr/>
        </p:nvSpPr>
        <p:spPr>
          <a:xfrm>
            <a:off x="539640" y="1413000"/>
            <a:ext cx="50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azdina rob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enkovská švadlena odchází od muže k milenci – končí sebevraž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ejí pastorkyň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tará mlynářka Kostelnička pomáhá zatajit své schovance narození nemanželského dítěte a zabít je, aby nebránilo jejímu novému milostnému štěstí. Pravda vyjde naj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snost a otevřenost her vynesla Preissové ostrou kritiku. Obě její hry byly zhudebně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í pastorkyňa – Leoš Janá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zdina roba – pod názvem Eva – Bohuslav Foer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916000" y="4762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lois a Vilém Mrští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20px-Vilem_Mrstik_1897"/>
          <p:cNvPicPr/>
          <p:nvPr/>
        </p:nvPicPr>
        <p:blipFill>
          <a:blip r:embed="rId1"/>
          <a:stretch/>
        </p:blipFill>
        <p:spPr>
          <a:xfrm>
            <a:off x="6443640" y="1268280"/>
            <a:ext cx="2095560" cy="3610080"/>
          </a:xfrm>
          <a:prstGeom prst="rect">
            <a:avLst/>
          </a:prstGeom>
          <a:ln w="0">
            <a:noFill/>
          </a:ln>
        </p:spPr>
      </p:pic>
      <p:sp>
        <p:nvSpPr>
          <p:cNvPr id="128" name="Obdélník 1"/>
          <p:cNvSpPr/>
          <p:nvPr/>
        </p:nvSpPr>
        <p:spPr>
          <a:xfrm>
            <a:off x="611280" y="1773360"/>
            <a:ext cx="56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ary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lém měl na hře větší autorský podí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 dívky Maryši ze slovácké vesnice, která je svým otcem donucena provdat se za vdovce, mlynáře Vávru  (mnohem starší, bohatý). Její milý, Francek, odchází na vojnu. Maryša je v manželství nešťastná. Její ote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ízal, ji pozdě lituje. Francek se vrací do vsi a přemlouvá Maryšu k útěku do města. Pokračují spory mezi Lízalem a Vávrou o Maryšino věno. Maryša otráví Vávru – nemá sílu ho opustit – společenské a náboženské předsudky. Hra je doplněna písněmi, kroji a psána ve slováckém náře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132000" y="549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6360" y="1197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ilgameshTable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Kamasutra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utenburg_bibl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Abydos_Koenigsliste_Sethos_Ramse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Anton_Tschechow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Henrik_Ibse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upload.wikimedia.org/wikipedia/commons/0/07/Stroupeznic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abriela_Preissova_Vilime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Vil%C3%A9m_Mr%C5%A1t%C3%A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08080" y="400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1197000"/>
            <a:ext cx="74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Aischyl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akladatel tragédie, uvedl na scé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ého h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este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idské činy mohou soudit jen li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Sofok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uvedl na scénu třetího h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tigo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člověk se má postavit proti zločinu, bezpráví a moci, silnější je ten, kdo v sobě nosí mravní zá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Euripi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avedl prolog = předmlu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d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štěstí nelze budovat na neštěstí druh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Aristofa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ejslavnější autor kome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sistra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rotiválečná sa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484280"/>
            <a:ext cx="73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divadlo a d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ec 12. stol. vzniká v kostele – hry váno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likonoč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stol. – hry se hrají na veřejnosti – lidový jazyk, humor (často vliv studentů), vykázány z kos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3"/>
          <p:cNvSpPr/>
          <p:nvPr/>
        </p:nvSpPr>
        <p:spPr>
          <a:xfrm>
            <a:off x="3781440" y="9079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o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284640"/>
            <a:ext cx="7127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tičk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starší dochované české drama, autor neznámý (stud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běh z bible – tři Marie kupují masti, aby mohly pomaz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tvé tělo Krista. Masti kupují u mastičkáře – sati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šarlatány a středověké lékaře – zázračné lé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46800" y="1125360"/>
            <a:ext cx="747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William 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anglický a světový dramatik. Roku 1588 přichází do Londý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rodného Stratfordu nad Avo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7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umajitel společnosti The Globe 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ad J. V. Slá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akespearovské d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achovává trojí je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hrdina má kladné i záporné vlastnosti, prohrává i vítězí, ale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 zachovává svou přirozenost a hrd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íčinou tragédie je vášeň nebo ná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rše se střídají s próz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ické prvky nejsou ostře odděleny od tragic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ženy samostatně rozhodují o svém živo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3"/>
          <p:cNvSpPr/>
          <p:nvPr/>
        </p:nvSpPr>
        <p:spPr>
          <a:xfrm>
            <a:off x="3782880" y="549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ne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w-shakespeare"/>
          <p:cNvPicPr/>
          <p:nvPr/>
        </p:nvPicPr>
        <p:blipFill>
          <a:blip r:embed="rId1"/>
          <a:stretch/>
        </p:blipFill>
        <p:spPr>
          <a:xfrm>
            <a:off x="2627280" y="549360"/>
            <a:ext cx="3541680" cy="501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136320" y="56610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illiam 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48280" y="496800"/>
            <a:ext cx="360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o roku 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a) Historická 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chard 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chard 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dřich 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b) Ko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n noci svatoján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ho povyku pro 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selé paničky windsor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ocení zlé 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nátský ku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84880" y="496800"/>
            <a:ext cx="503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uhé období tvorby – 1601 – 16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ze renesančního optimismu (30-ti letá vál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ůvěra v lidské 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simistický názor na vzdělávání, kulturu, sv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ch ze smrti, návrat k Bo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lavných tragé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c) Trag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eo a J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c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am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l 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tonius a Kleopa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romeo-Francesco_Hayez_053"/>
          <p:cNvPicPr/>
          <p:nvPr/>
        </p:nvPicPr>
        <p:blipFill>
          <a:blip r:embed="rId1"/>
          <a:stretch/>
        </p:blipFill>
        <p:spPr>
          <a:xfrm>
            <a:off x="2562120" y="549360"/>
            <a:ext cx="3165480" cy="4535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3279960" y="5445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eo a J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2-31T16:17:17Z</dcterms:modified>
  <cp:revision>87</cp:revision>
  <dc:subject/>
  <dc:title>POSLOUPNOSTI</dc:title>
</cp:coreProperties>
</file>