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098-A57C-4BD0-976A-2EFF29DB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B03D-E453-471C-AD25-8132BA28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ECB0-DA4C-4280-985E-6CECA764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F21-24E0-4DAB-9153-389679AC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5FCE-4DF4-4370-9A05-1797A67A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72BC-F484-4EE3-9CD3-B6ECB965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9E2-E2D3-484D-AE6A-08CCF380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ABB-8872-4A00-950A-F753E920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54B6-6750-4F16-8EB0-A254E25F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72E-20BA-42C7-BC90-48C2D45C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5965-E6C5-4C9A-805E-88F47FA9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EE92-C370-46C1-BC76-99BA3440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B77C-A427-4943-937F-218A7BA6FB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1B53-15BE-4DC5-A1B4-01EEC323E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2492280"/>
            <a:ext cx="7344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OBRAZENÍ  2. SVĚTOVÉ  VÁLKY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  ČESKÉ  LITERATUŘE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1463040"/>
            <a:ext cx="720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OTA  PAVEL (1930 – 1973, vl. jménem Ota Popp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ůvodně pracoval jako barvíř, po střední škole nastoupil jako sportovní redaktor v Československém rozhlase. Sport ho provázel po celý život jako novináře, autora i jako aktivního sportovce. Jeden z nejuznávanějších autorů tzv. menších prozaických žánrů v celé naší poválečné literatuře. Vypravěč s neopakovatelným lyrickým darem, moudrý znalec lidských du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olympiády v Insbrucku sváděl boj s těžkou duševní chorob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mrt krásných sr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Jak jsem potkal ry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vídkové knihy, autobiografické příběhy ze života autorovy rodiny a známých. Oběma sbírkám dominuje postava Pavlova tatínka a také pan Prošek – převozník, pytlák a rybá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1640" y="1371240"/>
            <a:ext cx="712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mrt krásných sr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filmovány prózy: Smrt krásných srnců, Kapři pro wehrmacht, Zlat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úho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vídka, podle níž je nazvána celá kniha. Přichází protektorát a okupace, rodině je zakázán volný pohyb. V třetím roce války jsou povoláni do koncentračního tábora oba starší synové. Otec se rozhodne, že jim sežene maso. Odjíždí za Proškem a půjčí si vlčáka Holana. Ačkoli nikdy neposlechl jiného pána s tatínkem jde lovit. Když se pak bratři vrátí z koncentráku, věří, že srnec jim zachránil živ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71640" y="1072080"/>
            <a:ext cx="72007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JOSEF  ŠKVORE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zaik, básník, literární kritik, překladatel. UK. Redaktor Státního nakladatelství krásné literatury a časopisu Světová literatura. 1963 spisovatel z povolání,  1969 kanadský exil. Toronto univerzita. Za literaturu Řád bílého lva. V roce 1999 získal Státní cenu za literatu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Zbaběl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ova prvotina. Události osmi dnů (4. – 11. května 1945). Autor  vykreslil české maloměsto na konci války, životní pocity mladé generace, její revoltu proti pokrytectví generace otců. Hlavní hrdina Danny – naivita mládí, odpor k patosu, slang mladých lidí. Nejvyšší hodnoty života – džez a kontakty s opačným pohlav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rima se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 - doba mládí – protektorát, okupace. Danny Smiřický - jeden válečný rok. Snaží se „ulovit“ dívku – žádný plán mu nevyj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71640" y="934200"/>
            <a:ext cx="712944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JAN  OTČENÁŠ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Romeo, Julie a t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dobí heydrichiády v Praze. Na příběhu Pavla a Ester se Otčenáškovi podařilo vystihnout nelidskost fašismu i obžalovat  rasismus. Pavel, student a syn krejčího, dokončil maturitní zkoušky. Na procházce parkem potkal plačící dívku – Ester, nenastoupila do terezínského transportu. Pavel jí nabídl pomoc – svůj studentský pokojík vedle dílny otce. Před rodiči to tajil – stanné právo – trest smrti za přechovávání nehlášené osoby. Oba se do sebe zamilovali, mluvili o svatbě. Žijí v nejistotě. V domě je zatčen malíř – komunista – Ester to vidí oknem a pochopí, co se děje. Chtěla pryč, aby Pavlovi neublížila. Pavel jí slíbí, že ji odveze na venkov. V noci obsadilo gestapo a SS každou ulici – pátrání po pachatelích atentátu na Heydricha. Druhý den se objevuje v dílně soused Rejsek – udavač a snaží se dostat k Ester – tovaryš i krejčí mu v tom zabrání. Ester vyznává Pavlovi lásku -   loučí se s ním. Vyběhla na ulici a je zastřele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71640" y="799200"/>
            <a:ext cx="7200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BOHUMIL  HRABAL (1914 – 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zaik, básník a scénárista, právnická fakulta, zaměstnání: pivovar, kurs telegrafisty, výpravčí vlaků, pojišťovací agent, obchodní cestující, od roku 1963 se věnuje literatu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stře sledované vla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ojil lidské trampoty mladého hrdiny při získávání prvních sexuálních zkušeností s jeho účastí na protifašistickém odbo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více tuto prózu proslavilo filmové zpracování Jiřího Menzla, za něž získal v roce 1967 Osc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bsluhoval jsem anglického krá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ývalý číšník J. Dítě vypráví své životní osudy. Satira české přizpůsobivosti. Sen mladého pikolíka – stát se zámožným hoteliér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krušná doba učení v nádražní restaur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působení v osamělém penziónu Hotel Tich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ýznamné období kariéry v hotelu Paříž, kde byl velkým vzorem pan vrchní, který obsluhoval anglického krá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71640" y="105408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. Dítě - chlapec, který je trvale pronásledován pocitem méněcennosti pro svůj malý vzrůst. Za války poznává učitelku Lízu – bere si ji za ženu – narodí se jim debilní chlapec, Líza je zabita při nále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válce je odsouzen za kolaboraci, ale poté prodává poštovní známky, které mu zbyly po Líze (ukořistěné v okupovaných zemích). Splní se jeho životní sen – postaví exkluzivní hot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roce 1948 únorový převrat ho zbavuje majetku milionáře – Dítě se ocitá v pracovním táboře. Po propuštění odchází na lesní brigádu do pohraničí – Šumava – je na samotě ve společnosti koníka, psa, kočky a kozy a sepisuje své vzpomín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ábite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dé, kteří hledají své sny v běžném životě, jsou jimi doslova posedlí, jsou to lidé, které dokáže udivit a zaujmout třeba i zdánlivě nejobyčejnější vě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71640" y="2448360"/>
            <a:ext cx="720072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KAREL  PTÁČ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očník jedenadvac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án o skupině chlapců totálně nasazených v říši – příběh myšlenkového a citového zrání a mravní diferenciace generace, která dospívala v době vál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1640" y="1216080"/>
            <a:ext cx="712944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1. Vězeňská lit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Julius Fučík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Reportáž psaná na oprát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a sestavena záměrně tak, aby pokrok reprezentovali výhradně příslušníci komunistického odboje. Editoři – Gusta Fučíková a Ladislav Štoll záměrně vypustili pasáže, které tomuto obrazu zcela neodpovída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číkovy vzpomínky na zatčení, výslechy a věznění na Pankráci jsou jedním z mnoha dokumentárních text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Norbert Frýd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rabice živ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ff"/>
                </a:solidFill>
                <a:latin typeface="Arial"/>
              </a:rPr>
              <a:t>Ferdinand Peroutk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blak a valč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0000" y="1760040"/>
            <a:ext cx="71280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. Próza, která se objevuje těsně po skončení vál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JAN  D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ěmá barikáda (19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vídkový soubor – hrdina z lidu, schopný bez váhání nalézt své místo v boji s nepříte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ncéřová pě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edmnáctiletý Pepík Hošek zalehne mezi obránce barikády. Najíždějí německé tanky – postupně střílejí tři střelci z pancéřových pěstí. První je zastřelen, druhý je roztrhán, třetí Pepík svým podařeným výstřelem zachraňuje barikád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1485720"/>
            <a:ext cx="72007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JIŘÍ  WEIL (1900 – 195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zaik, literární kritik, reportér, překladatel a publicista. Za okupace nenastoupil do transportu Židů, skrýval se, pobýval nehlášen v nemocnici, fingoval sebevraždu a přežil tak do konce vál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Život s hvězdou (19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án o židovském úředníkovi Roubíčkovi, který čeká na povolání do transportu. Je to obraz zápasu slabého člověka s totalitní nacistickou mašinérií i s vlastní slabostí – odjet s transportem,  být degradován na pouhé číslo a vydán na pospas zvůli tyranů nebo volit svobodnou existenci, vz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avní hrdina nenastoupí do transportu (tak jako autor sám) a snaží se přežít protektorátní tem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71640" y="935640"/>
            <a:ext cx="720072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3 Próza v 60. le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ARNOŠT  LUSTI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roce 1941 (Žid) vyloučen ze školy. Učil se krejčím, v roce 1942  Terezín, prošel i Buchenwald a Osvětim. Při převozu vězňů (1945) uprchl, skrýval se v Praze. Po válce redaktorem, novinářem. V roce 1968 emigroval (Washington), kde přednášel na universitě. Po roce 1989 návrat. Lustigovo dílo je tematicky orientováno na problematiku bezbranného člověka v mezních situacích (válka, okupace, židovská tematika). Zdrojem inspirace mu byly především vlastní zážit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oc a nadě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Démanty no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vídkové soubory, příběhy se odehrávají vesměs v terezínském ghettu a v koncentračních táborech, jejich postavy jsou často děti a starci, lidé povahou nehrdinští, kteří se ocitají v situacích, kde je vystavena zkoušce základní lidská kvalita – mravní svědomí – to z podvědomí vystupuje na povrch teprve v kritických chvíl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71640" y="1211400"/>
            <a:ext cx="720072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Ulice ztracených bratř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vídka –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Můj známý Vili Fel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říběh o blahobytu pražského židovského podnikatele, jenž si dovedl poradit v krutých podmínkách koncentráku. Nedokáže si však poradit v poválečném světě – ani v socialismu, odkud uprchl, ani v kapitalismu, kde mu chybí domácí zázemí. Jde o židovské téma osudů „vykořeněné existence“, jež v poválečném světě nenalézá své mí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Dita Sax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vela, vrchol Lustigových prací. Příběh židovské dívky, citově založené a velmi chytré. Charaktery - dělník a student s perspektivou  kariéry – oba se ucházejí o Ditu.Ta odmítá oba. Student - citově prázdný, dělník - ideologií vzdálen realitě. Emigruje do Švýcarska,  volí dobrovolnou smrt, než aby ztratila úctu sama k sobě. Problém rozděleného světa – ideologické předsudky – ničivé následky pro ty, kteří se odmítají přizpůsob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71640" y="1899720"/>
            <a:ext cx="720072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odlitba pro Kateřinu Horovitzov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vela, jejíž inspirací byla skutečná událost z roku 1943, kdy nacisté zatkli v Itálii několik bohatých Židů, slíbili jim, že pokud vydají svůj majetek, budou propuštěni; všichni jsou však v Osvětimi zavražděni; vzepření hlavní hrdinky je postaveno do kontrastu k pasivitě ostatních vězň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Bílé břízy na podz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vídka – motiv lásky uprostřed pošlapané lidské důstojnosti – z prostředí vojenských pracovních táborů – P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1068840"/>
            <a:ext cx="72007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ff"/>
                </a:solidFill>
                <a:latin typeface="Arial"/>
              </a:rPr>
              <a:t>LADISLAV  FUKS (1923 – 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 psychologické prózy. Doktorát z filozofie - UK. Zažil perzekuci židovských spolužáků a díky své odlišné sexuální orientaci se cítil ohrožen. Jeho texty jsou založeny na zamlžování, nedořečenosti. Napomáhá čtenářům orientovat se v jejich vlastních duševních pochodech. V 70. letech podlehl normalizačnímu procesu – klesající úroveň jeho tvorby. V roce 1994 byl nalezen ve svém bytě mrt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an Theodor Mund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 je příběhem starého Žida, osamělého, nenápadného úředníka, který očekává předvolání k transportu. Rozhodne se na transport připravit: jí co nejméně, spí na žehlicím prkně, cvičí rychlou chůzi s těžkým zavazadlem, nacvičuje jednotlivé možnost útrap a ponížení, trénuje vlastní smrt. Absurdita a grotesknost celé situace vrcholí Mundstockovou skutečnou smrtí – na cestě k seřadišti je sražen nákladním automobilem. Děj je vyprávěn v er-formě, ale téměř vše je vnímáno očima ústřední posta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1640" y="1209960"/>
            <a:ext cx="727236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í černovlasí brat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ymnazista Michal vypráví o svých židovských spolužácích – utrpení, ponižování, přestože se provinili jen svým rasovým původem. Talentovaní chlapci jeden po druhém umírají sebevraždou či v ghet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palovač mrtv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639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. postava - pan Konferkingl, zaměstnanec pražského krematoria. Vyšinutý psychopat, zatížený svým povoláním. Žije spokojeně do doby, kdy mu kamarád, člen Henleinovy strany, „vysvětlí“, jak je důležitý a schopný. Kopfrkingl začíná sám sebe vidět jako jiného člověka – objevuje v sobě árijství, udává své kamarády, vystrnadí ředitele. Vadí mu položidovský původ jeho ženy – sebevražda. Na cestě ke kariéře zabije syna, dceru spálí v krematoriu, oběsí kočku. Zůstává sám, naplněn radostí, spokojen – cítí se být Němcem, ale neumí německy. Když po válce vidí lidi z koncentráku, nepochopí a dál se má za správného člověka - je ztělesněním fašistického z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hula</cp:lastModifiedBy>
  <dcterms:modified xsi:type="dcterms:W3CDTF">2012-01-01T13:50:08Z</dcterms:modified>
  <cp:revision>66</cp:revision>
  <dc:subject/>
  <dc:title>POSLOUPNOSTI</dc:title>
</cp:coreProperties>
</file>