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41C-2ECC-4846-8419-5676EBA6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718-B92E-4FAF-927B-80FAB51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E79-9BD2-4703-8057-3A3B4C5D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5F7-DE42-4394-B8A1-1542E254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3B1-B10D-433A-AA4F-C25C806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E63-0D83-47DC-82E5-6194FC47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74F-DD16-494B-98B0-07FB69AC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4CD-D8A9-417C-B7E1-1D6AF1E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917-788E-4E09-A991-B75C5A9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49B-978A-4098-88C2-F9B5161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335-3689-45E2-A1AA-48939BB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7F7-639D-43C4-A899-1A33FC0B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F55-1323-4A9E-ACA4-7F03ACAD7C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192-E47B-48F8-A2FE-BEE82A44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e/Karel_&#268;apek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Karel_&#268;apek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1916280"/>
            <a:ext cx="7417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emokratický proud v české literatuř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6530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pracoval: 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1351080"/>
            <a:ext cx="71643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větro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ud letce, který havaroval, poskládán z vymyšlených příběhů jasnovidce,  básníka a jeptišky. Relativnost poznání – každý z vypravěčů  dává do příběhu něco ze sebe, z vlastní zkuše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byčejný ž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 hrdina: bývalý železniční úředník – rekapituluje svůj život; navenek obyčejný,  nedramatický, mírně šťastný a uvnitř jako střetávání  protichůdných možností. Nebyl jen řádný a pedantický pracovník,  ale i vypočítavec a kariérista. Byl v něm i kus hrd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iskoval svůj život sabotováním válečné doprav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věr: vnitřní svět člověka je mnohotvárný – právě 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ohotvárnost dává člověku možnost, aby lépe chápal druhého člově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263240"/>
            <a:ext cx="705636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5. konec 30.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í je ovlivněno hrozbou války a iktatury; Čapek se neohroženě staví na stranu demokracie a mí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Válka s mlo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otiválečný alegorický rom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Bílá nem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ázka morálního postoje jedince k fašismu: Galén umírá, protože jedinec nemá proti organizovanému násilí a fanatismu šan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ázka budoucnosti lidstva: postava maršálovy dcery  Anety a Krügova synovce Pavla – je nutné mít důvěru k příštím pokol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300920"/>
            <a:ext cx="1271592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j: pravděpodobně ve Španělsku (matka = De´Lores). Matka postu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louvá s manželem a čtyřmi syny, kteří odešli zemřít pro „věc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chápe jejich názory a přesvědčení, trpí a brání odchodu nejmladší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a Toniho. Otřesená zprávami o brutálním bombardování škol a úmr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ha nevinných dětí sama podá Tonimu zbra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63640" y="1126080"/>
            <a:ext cx="7547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Život a dílo skladatele Foltýn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končený rom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dební skladatel Bedřich Foltýn touží po umělecké slávě x jeho hudební nadání na tvůrčí činnost nestačí – kupuje si hudeb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pady mladých hudebníků a skládá z nich operu x neúspě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týnova smrt = příležitost k rekonstruování jeho osudu z pohledu manželky, jejich rodičů, lékaře a známých. Otázka umělecké morálk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ění není prostředkem  k uspokojení ctižádosti, ale služba lidem…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63640" y="2911320"/>
            <a:ext cx="6880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88000" y="1413000"/>
            <a:ext cx="2665440" cy="35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3640" y="907920"/>
            <a:ext cx="599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JOSEF  ČAPEK (1887 – 1945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íř, grafik, spisovatel. Zatčen v roce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řel na tyfus v koncentračním táboř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rgen-Bel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aktor Lidových novin. Malíř – ilus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 pro děti.(Devatero poháde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yklus obrazů Oheň = reakce na Mnich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2997360"/>
            <a:ext cx="59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SOVATE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íla vytvořená s bratrem Kar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Krakonošova zah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Ze života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3640" y="4413600"/>
            <a:ext cx="82803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) samostatná dí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tín kaprad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ém viny a tres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ásně z koncentračního táb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oboda, právo, spravedlnost mají být hájeny kdekoliv na světě, ne-li, jsou kdekoliv na světě ohroženy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552920" cy="45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52640" y="1204920"/>
            <a:ext cx="3438720" cy="44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01480" y="727560"/>
            <a:ext cx="41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KAREL  POLÁČEK (1892 – 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88000" y="1521000"/>
            <a:ext cx="2484360" cy="356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34920" y="1880280"/>
            <a:ext cx="43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házel z rodiny židovského kup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oval v redakci  Lidových nov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de proslul jako autor vynikají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niček, sloupků, fejetonů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ídek. Redakci musel  z rasov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vodů v roce 1939 opustit, zahy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koncentračním táboře v Osvět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kázal výstižně zobrazit typ mal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eského tyrana a chování maloměšťák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eré ostře kritiz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63640" y="1157040"/>
            <a:ext cx="79660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urnalistický 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joval jím proti frázím. „Ve skutečnosti je prokázáno,  že zál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 frázích vzniká z neznalosti fakt, z nepřítomnosti  myšlenek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ostatku vlastního názoru… Stírá rozdíl  mezi pravdou a nepravdou. Kdyby nebylo frází, nebylo by demagogie…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) humoristická d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ži v ofsaj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án se stal velmi populární (film). Autorovi se v něm podař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vtipem proniknout hluboko do psychologie fotbalových fanouš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ům na předmě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63640" y="945000"/>
            <a:ext cx="77184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ylo nás 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pod jménem Vlastimil Rada v době, kdy čekal na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koncentráku – loučení s rodným krajem a se životem vůb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městečko v průběhu jednoho roku. Vypravěč = Petr Bajza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jval Antonín, Zilvar z chudobince, Čenda Jirsák, Eda Kemling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va Svobodov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uha po dobrodružství a objevovat nový svět; upřím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prostřednost, naivita, opravdovost, oceňování dle skuteč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klukovských)  hodnot. V čele party Zilvar (uměl nejdále doplivnou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chránit před utopením malého Venouška) x dospěl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reotyp, nechuť měnit životní styl, konvence, přetvářka, mentor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ylový kontr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jazyce ( klukovský slovník x čítanko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ný nepřirozený jazyk učitele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jsme se vyhrnuli ze školy, tak jsme moc křičeli a moc jsme utíkali, jenom Páta Karel kráčel k domovu slušně, jelikož je pitomec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8560" y="691560"/>
            <a:ext cx="37468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AREL  ČAPEK (1890 – 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oubor:Karel Čap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29868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454760"/>
            <a:ext cx="42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sovatel, novinář, překladatel.Narodil se v Malých Svatoňovicích v rodině lékaře. Studium na filosofické fakultě v Praze a na vysokých školách v Berlíně a v Paříži. V roce 1915 doktorát, pracuje jako domácí učitel, v knihovně národního muzea a v redakci Národních listů. Později i s bratrem v redak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ových novin. Dramaturg Divadla na Vinohrad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184640"/>
            <a:ext cx="4537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émy v jeho dílech mají obecnou platnost, potvrzují neobyčejný rozsah vědomostí a znalostí. Humanista  a demokrat – zdůrazňuje lidskost, úctu k člověku, snášenliv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prosinci se při povodni nachladil, dostal zápal plic a umí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31320" y="786240"/>
            <a:ext cx="754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) satirická d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mánová penta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resní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rdinové táhnou do b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zemní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rodá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ý díl nezvěst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e maloměšť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době míru – zařazení lidí do jednotlivých  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stev – konzervativnost, stejná gesta,  poplatnost veřejn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 V době války – měšťák je nezničitelný, dovede  se přizpůsob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iérismus, schopnost žít z války – černý obchod, spek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avenek vše zastírají vlasteneckými fráz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ar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měšťáci se stávají, svou pohodlností a nedostat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ího myšlení, snadno manipulovatelnou mas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87640" y="4046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6360" y="836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.wikipedia.org/wiki/Soubor:Karel_%C4%8Cape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google.cz/imgres?imgurl=http://www.odaha.com/sites/default/files/josef-capek.jpg&amp;imgrefurl=http://www.odaha.com/josef-capek&amp;h=889&amp;w=671&amp;sz=28&amp;tbnid=xrGzgPFjbx7qTM:&amp;tbnh=103&amp;tbnw=78&amp;prev=/search%3Fq%3Djosef%2B%25C4%258Dapek%26tbm%3Disch%26tbo%3Du&amp;zoom=1&amp;q=josef+%C4%8Dapek&amp;docid=qoSWpdjCK9LOMM&amp;hl=cs&amp;sa=X&amp;ei=qmuJTpyoFIGI0AXE47UC&amp;ved=0CEIQ9QEwAw&amp;dur=16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google.cz/imgres?imgurl=http://img.radio.cz/pictures/osobnosti/polacek_karel1x.jpg&amp;imgrefurl=http://www.radio.cz/cz/rubrika/naslouchatko/z-romanu-hraci-karla-polacka&amp;h=179&amp;w=123&amp;sz=24&amp;tbnid=v8v7irJGo51UmM:&amp;tbnh=93&amp;tbnw=64&amp;prev=/search%3Fq%3Dkarel%2Bpol%25C3%25A1%25C4%258Dek%26tbm%3Disch%26tbo%3Du&amp;zoom=1&amp;q=karel+pol%C3%A1%C4%8Dek&amp;docid=PcfmrnKF3L50UM&amp;hl=cs&amp;sa=X&amp;ei=qmyJTqnKKoKk0AWnsqToDw&amp;ved=0CD4Q9QEwBA&amp;dur=2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1640" y="551664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79840" y="324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1000" y="868680"/>
            <a:ext cx="690372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dobí do roku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Boží m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bor povídek, pesimistické – autor je přesvědč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e lidé nemohou poznat absolutní prav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Loupežní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řetnutí mladé a starší generace, spontán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vaha mladých x Profesor: zkostnatělost, opatr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chybuje o své pravdě, nechal si ve svém živo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lněném prací, starostmi, odpovědností za jin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jít něco krásného a nenávratnéh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 z dcer profesora utíká z domova, ale pak se vrací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manželským dítětem, vliv realismu – každý m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ou pravdu, nárok na svůj způsob živ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3640" y="983160"/>
            <a:ext cx="770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bdobí od roku 1921 - 1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R.U.R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opická hra.R.U.R. = Rossum´s Universal Robots; slovo „robo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l K.Čapek z podnětu bratra Josefa – mezinárodně používané slo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nález robotů – jsou výkonné, poslušné, mají minimální potřeby, nezn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lest, cit – záměr řiditele Domina zbavit lidi dřiny – budou se věn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víjení svých schopností x stavitel Alquist = cesta zahálky, poživačnos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padá mravnost, člověk ztrácí charakter, vzpoura robotů proti lidem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ubení lidí (x Alquist) – roboti nové generace = Primus a Hel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bližují se lidem schopností cítit, vnímat krásu = záchrana lid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šlen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varovat před zneužitím techniky: pokrok, který se obrací proti l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varovat před přílišným technickým rozvojem, nebezpečí odlidštění lid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boti = symbol lidí, kteří se podobají robotům, ztrácí cit pro druh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varování před státností, slepou poslušností, fanatism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boti = symbol zfanatizovaného davu, nemyslící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důraz na práci (= mravní hodnot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) důraz na cit, lásku, krásu (záchrana člově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264240"/>
            <a:ext cx="68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Věc Makropulos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 Leoše Janáč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ická hra = otázka vhodnosti prodloužení lidsk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na Makropulos (= dcera dvorního lékaře Rudolfa II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e 300 let, operní zpěvačka, slavná, hýčkan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atá x unavená, neschopná radovat se, bezděčně půs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em v okolí z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šlenk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dloužení života není žádoucí, jeho krátkost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tivací pro intenzivní proži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Ze života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ě s Josefem Čapkem, nepřímo vyjádře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 (pomocí brouků) = alegorie, jino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 dějstv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týly = kritika povýšeného chování, zahálčivého a poživač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 chrobáci = symbol upachtěné touhy po majetku a štěstíčku (= kulička hnoj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 lumíci a mravenci – násilí, krutost, dobyvačnost, touha po mo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+ postava Tuláka (= komentát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3640" y="664920"/>
            <a:ext cx="734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Krakatit</a:t>
            </a: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dle sopečného ostrova Krakatoa. Utopicko-fantastický rom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film O. Vávry) = výbušnina nebývalé síly a účinnosti, její vynálezce = ing. Prokop, zájem světových mocností–sledování–únos–vězení – v horečkách prozradí podstatu vynálezu - výbuch zničí civilizaci x závěr: rozhovor Prokopa s dědečkem: „ Musíš vynalézt něco pro lidi, něco, aby to hřálo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Továrna na absolut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utopistický rom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nález karburátoru, který dokonale spaluje hmotu, zdá se to být převratný vynález ve prospěch lidstva x při spalování se uvolňuje „ absolutno“ (- člověk nikdy nemůže dopředu odhadnout vedlejší účinky a důsledky vynálezů), absolutno se zmocňuje lidí – válka všech pr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m – lidstvo se vyvraždí, zbude jen malá skupina vojáků, válku ukončí a jdou do hos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mysl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Čapek je proti fanatismu, nesnášenlivosti, pro toleranci, lidskou družnost a obyčejné lidské ra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08000" y="664560"/>
            <a:ext cx="698508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. Přelom 20.- 3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gmatis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idealistická filosofie, podle níž mají věci význam podle toho, jak je člověk potřebuje, jak jsou mu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teč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lativismus 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aždý člověk má svou pravdu, uznání pravdy druhého vede ke snášenlivosti, žádný člověk není v jádru zl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Povídky z jedné kap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cc"/>
                </a:solidFill>
                <a:uFillTx/>
                <a:latin typeface="Arial"/>
              </a:rPr>
              <a:t>Povídky z druhé kap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tektivní příběhy – nechává se inspirovat denními zpráv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černé kroniky. Hovorová čeština, kontaktová slova („poslouchejte“) naznačuje citový vztah, častá frekvence osobních a ukazovacích zájmen, lidové obra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vídka Bás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surrealistické metody ve vyšetřování. Za úsvitu přej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rší ženu, doktor Mejstlík (policejní inspektor) hledá svědky. Objeví mladého básníka, který ten den napsal báseň, pomocí níž odhalí viníka ( SPZ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12680" y="938880"/>
            <a:ext cx="73602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stopisné feje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Italské l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Anglické l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Výlet do Španě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Obrázky z Holand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Cesta na 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tavě líčí dojmy z cest, vtipnost, originalita,  charakteristické deta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ního stylu obyvatel a národní povahy, vlastní ilust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Kniha apokryf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mrt Archymé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radice slavný vědec, roztržitý a odtržený od života byl  za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Syrakusách neznámým římským vojákem. Podle K.Čapka: věde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enec, rozumně uvažující obč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ktualiz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mská touha po světovládě = 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dná velká říše založená na násilí není věčná,  odsouzení velikášst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ověka, člověk má dělat věci lidstvu užiteč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2760" y="1078560"/>
            <a:ext cx="73846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Devatero pohá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souboru jsou spojovány tradiční pohádkové motivy  s reálie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dobého světa ( Pošťácká, Doktorská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Dášenka čili Život štěn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4. 30.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ová trilogie je ovlivněna pragmati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Hordu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film Juraje Hertze), Juraj Hordubal (sedlák z Ukrajiny) se vrací po o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tech z Ameriky, těší se na ženu Polanu a dceru  Nafii x žena m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ence ( čeledín Štěpán ), dcera přilne  ke Štěpánovi, cizího (ot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chmuřeného muže se bojí – citlivý  Hordubal onemocní, v nemoci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it (asi Štěpán) – soudní  vyšetřování bez jednoznačného závěr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ý z hrdinů má svou prav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10-08T15:27:09Z</dcterms:modified>
  <cp:revision>103</cp:revision>
  <dc:subject/>
  <dc:title>POSLOUPNOSTI</dc:title>
</cp:coreProperties>
</file>