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9B7D-754A-4333-B3B3-939CD213E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F6D2-FE46-451B-A4CF-C582576C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9F78-4EEC-4979-8909-CBF1AABF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B6B2-F51F-415C-BB00-8C7B63943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C517-7942-405E-8863-74AA6E62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7B0B-9873-4CA7-8457-297767BE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D025-9959-4507-9ED6-767F2F45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DED1-D781-411E-A6CF-371B53EB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A9FD-50E6-4E35-903C-1447DE54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D9FE-A1E0-4140-92AE-EC1CC3DD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5ADF-4152-4B1B-9C97-0C16BCCC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B109-6BC6-4FB0-A619-F1F2CCD5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AFC5-FFEF-4048-AAF3-0BA919F3782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8756-A9D9-4686-9747-5BED8549E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00000" y="2492280"/>
            <a:ext cx="7344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EIFERT,  ZAHRADNÍČEK, HRUBÍN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71640" y="1761840"/>
            <a:ext cx="720072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JAROSLAV  SEIF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válečné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ho verše nejsou bojovné, obrací se ke vzpomínkám z mládí, k motivům české krajiny a domova, k některým postavám české kultu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b. Přilba hlí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kce na válku (b. Květnová noc) – zdůrazňuje podíl Pražanů na osvobození Prahy, přátelství Čechů a Rusů vyjádřeno velice střídmě prostřednictvím symbolu ruky („jeho ruku držím dodneška“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00000" y="1602720"/>
            <a:ext cx="7272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bírky pro dě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čista od válečných hrů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b. Šel malíř chudě do svě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irován obrazy Mikoláše Aleš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b. Chlapec a hvěz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irace v obrázcích La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b. Mamin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Maminčino zrcát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symbol plynutí času, prostota , vroucnost. Působivé vyjádření vztahu syna k mat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71640" y="934200"/>
            <a:ext cx="734544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edmdesátá léta -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ifert vydává tři básnické sbírky za sebo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Koncert na ostrov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Halleyova kom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Odlévání zvo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ázně přerušil kontakt s předcházející tvorbou. Dříve jeho poezie „zpívala“, nyní reaguje na změnu doby – úzkost, realita totalitní moci. Zachraňuje se obdivem k lásce a k ženě. Po roce 1969 vystupuje proti sovětské okupaci a totalitě = publikuje v samizdatech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Morový sl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971 – obsahuje trpké verše (1968-1970). Představuje vrchol tvorb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b.Deštník z Piccadi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b. Býti básní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pomínání – ne smutek ze ztraceného, ale zdůraznění významu vzpomínky, která obohac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71640" y="1211400"/>
            <a:ext cx="720072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JAN  ZAHRADNÍČ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šechny Zahradníčkovy válečné zkušenosti ho utvrzovaly v přesvědčení, že válku zrodila pošetilá pýcha člověka věřícího ve svou všemocnost a že rozumné uspořádání věcí lidských je možné jedině tehdy, jestliže člověk naopak pokorně přijme svůj úděl a své vztahy k okolí založí na prostotě a lásce. Proto nebyl schopen sdílet nadšení a úlevu, která se zmocnila světa v roce 194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lmi záhy vytušil, že si lidé nevzali skutečné ponaučení a znovu přetírají svět „ošklivou barvou nenávisti“, že znovu ubývá lásky – řítíme se opět ke katastrof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b. La Salet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urcoval proti hrozbě katastrofy (nenávist, další válka), ukázal nezbytnost návratu lidstva k Bohu – životní filosofie, vzájemné porozumění, respekt, toler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42920" y="791280"/>
            <a:ext cx="712944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Znamení mo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iná skutečná vláda nad světem spočívá v rukou Ježíše Kri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r. 1951 odsouzen za údajnou velezradu na 13 let. V r. 1956 - žena Marie a děti Jan, Zdislava a Klárka se otrávily houbami. Je dočasně propuštěn na svobodu. Holčičky otravu nepřežily. Po intervenci Seiferta u prezidenta Zápotockého snížen trest na devět let a dostal příslib, že bude propuštěn. Slib nebyl splněn – po čtrnácti dnech se vrací do vězení. Propuštěn  v r. 1960 – následně umírá. Ve vězení vzniklo kolem sta básní, které byly zařazeny do sbí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Dům str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dána v nakladatelství manželů Škvoreckých – 1981 ( Toronto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Čtyři lé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969 – zahrnují básně ze zbývajících let vězení a posledních měsíců života po návratu na svobodu. Básně jsou naplněny nadějí, že vše špatné jednou skončí, opojením nádhery ze života na svobodě (poznamenaný tragickou smrtí dcerek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71640" y="1349640"/>
            <a:ext cx="720072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FRANTIŠEK  HRUB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Jobova noc – 1945, po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ůvodně byla určena k scénickému ztvárnění v divadle E.F.Buriana D 46.V pěti zpěvech monumentalizuje osud české země na křižovatce dějin.Na scénu uvádí básníka Joba (sebe sama). Svůj další osud ztotožňuje v duchu doby se společností – dělníky. Marxistická literární kritika toto vysoce ocenila, byla nadšena, že Hrubín, do té doby tak vzdálen socialistické poezii,souzní s myšlenkami socialismu. Tento soud byl však předčasný – Hrubín i nadále vyjadřoval ve svých dílech věčný svár života a smrti, touhy a bolesti, rozletu i pá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 když v závěru Jobovy noci naznačil víru v socialistické perspektivy, nevydal se cestou, která by ho zavedla k „zářným komunistickým zítřkům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71640" y="793080"/>
            <a:ext cx="734544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Hirošima (194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pozorňuje v ní na nebezpečí nové války. Byl tvrdě odsouzen marxistickou kritikou. Propojuje svržení bomby s životem na pražském předměstí. To, co se odehrává na Zemi, má společný prostor, vesmí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roměna (195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letech, kdy nemohl publikovat, znovu varuje před smrtelným ohrožením planety – držet v rovnováze rozum a srd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rpnová neděle – drama (195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echovská lyrická hra – napětí není v ději, ale v odhalování charakteru postav. Třeboňsko, rybník Hejtman, hosté z Prahy x místní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ražáci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xová: manželka příliš zaměstnaného úspěšného muže, trpí pocitem nenaplněnosti vlastního živ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lfréd Morák: redaktor, zatrpklý slaboch, dělá si iluze o svých možnostech, nemá odvahu se přiznat, že není básní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nželé Vachovi: pár maloměšťáků, omezených, malých lidí. Vach oslovuje Merry – zdání příslušnosti k určité vrstvě, snobství, slova zhrubělá, vulgární, z obecné češt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71640" y="1622160"/>
            <a:ext cx="7200720" cy="36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Romance pro křídlovku (1962) – báseň – příběh, zfilmová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udent přijíždí do Lešan a prožívá tu první milostné opojení – seznamuje se s Terinou, dívkou z komediantského vozu, a chtějí spolu uprchnout. Dojde mezi nimi k roztržce, Terina s rodinou odjíždějí. Retrospektivně se dovídáme, že si Terinu vzal za ženu Viktor, majitel pouťové střelnice a ona pak brzy zemřela. Souběžně prožívá student smrt dědečka – přirozená smrt proti smrti mladé dív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Křišťálová n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vadelní hra – věnuje se mezilidským vztahům a konfliktům mezi mladou a starší generací či mezi muži a ženami, odehrává se ve venkovském prostřed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hula</cp:lastModifiedBy>
  <dcterms:modified xsi:type="dcterms:W3CDTF">2011-12-30T15:52:06Z</dcterms:modified>
  <cp:revision>59</cp:revision>
  <dc:subject/>
  <dc:title>POSLOUPNOSTI</dc:title>
</cp:coreProperties>
</file>