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33B-8F70-4981-BC09-57C60465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3D5-8524-4F3E-92A4-D04C6B76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7B4-2669-4977-A25D-1F1BF78E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738-5C6A-4E6E-9C3A-510FE915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A92-8543-457D-8F93-F883D488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4EC-6E60-4B0F-BE92-646D0938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6AC-C06A-4EC6-862E-B5F92895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2CC-0013-4B7C-8728-AA949636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7AB-CAC5-46F5-A9F5-1D90DF53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5B5-6A7A-4F45-8311-0A8006D5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DF3-E9BB-4CC9-B6C3-914A5FD8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CE0-18D7-4E09-ACAF-A0DF5915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C91C-52B4-442C-9833-16F36C5AB40E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0F68-D2F9-4455-92F7-86CC2CA995E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4/Str&#225;nka_z_Kroniky_trojansk&#233;_1468.gi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1480" y="236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2708280"/>
            <a:ext cx="568944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tředověká  literatur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62640" y="620640"/>
            <a:ext cx="62935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ff"/>
                </a:solidFill>
                <a:latin typeface="Arial"/>
              </a:rPr>
              <a:t>POČÁTKY  ČESKY  PSANÉ  LITERA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atinsky psané texty – pouze pro kněží a stud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lom 11. a 12. století – české glo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losy = vpisky – vysvětlují některá latinská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Hospodine, pomiluj n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ruhá pol. 10. stol. – první česká duchovní píseň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unkce hym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Svatý Václave, vévodo české zem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lom 12. a 13. stol. – druhá česká duchovní píseň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unkce hym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tiv sv. Václava – J. V. Myslbek – socha sv. Václ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Václavském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65440" y="471600"/>
            <a:ext cx="81482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ff"/>
                </a:solidFill>
                <a:latin typeface="Arial"/>
              </a:rPr>
              <a:t>GO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ovina 12. stol. Vznik – Francie, Anglie, Německo, Itálie, Če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Zna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pasení v nebi, lomený oblouk – symbol rukou modlíc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k Bohu. Národnostní rozpory – Češi x Něm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Architektur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žebrová klenba + lomený oblouk, vysoké štíhlé sloup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rliče, mozaiková okna, kulaté okno = roz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rám sv. Víta, chrám sv. Barbory, katedrála v Notre Dame v Paříž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rady – Karlštejn, Zvíkov, Strakon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menný most v Písku – první v Čech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vitelé – Matyáš z Arasu + Petr Parléř – chrám sv. Ví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Malířstv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námět – svatí, citový výraz v obličeji, jednobarevné pozadí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udá, zlatá, neznalost perspekti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str Theodorik – malíř Karla IV. – kaple sv. Kříže na Karlštej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Sochařstv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ochy svatých, madony - Strakonick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38560" y="476280"/>
            <a:ext cx="4160520" cy="5545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072560" y="2055960"/>
            <a:ext cx="102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. Ví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66520" y="398520"/>
            <a:ext cx="7126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VÝVOJOVÉ  T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iciza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zesvětštění – světské náměty, auto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mokratiz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zlidovění – autoři příslušníci z nižších vrst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hemiz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očešt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ktualiz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zpřítomnění – aktuální otázky a probl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24880" y="471600"/>
            <a:ext cx="8575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6600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Šlechtická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exandre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lom 13. a 14. stol. Autor – vyšší šlechtic, námět – život Alexan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donské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andr – ideální panovník – silný český kr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lastene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české prostředí ( Mladota, Radova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české zbra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dpor proti Němc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y Aristotela Alexandru    - obklopit se šlecht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řežit se zrád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atečnost a osobní pří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skavost k chud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dměny dle záslu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25760" y="549360"/>
            <a:ext cx="3529080" cy="4967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11280" y="587232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st Jan H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65800" y="471600"/>
            <a:ext cx="6909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alimilova kro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čátek 14. stol. – nejstarší česky psaná veršovaná kro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r patrně šlech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isuje dějiny od příchodu praotce Čecha až po 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11 – korunovace Jana Lucemburské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por proti Němc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kratické smýš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říběh o Oldřichovi a Bože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stenectví, národní sebevěd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řich si bere prostou Češku x ne urozenou Něm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489800" cy="4503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50400" y="565632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imilova kro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1840" y="34956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23440" y="398520"/>
            <a:ext cx="81957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00cc"/>
                </a:solidFill>
                <a:latin typeface="Arial"/>
              </a:rPr>
              <a:t>b) měšťanská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Hradecký ruk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ev podle místa nálezu, autor měšťan, sati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satero kázanie bož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šované, kritika lidí, kteří desatero nedodržují, první náz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volučního řešení v české literatuř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: O krejčík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Satiry o řemeslnících a konšel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itizuje nepoctiv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: Satira o řezníc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66880" y="398520"/>
            <a:ext cx="7272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c) studentská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ajka o lišce a džbá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íseň veselé chu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ec 14. stol. – život chudých studentů x neztrácejí smy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humor, ironie. Satira – kritika poměrů ve společ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dkoní a ž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r (ve formě dialogu), který vedou panský sluha a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tom, kdo se má lépe. Vyústí v ironické shrnutí nuzoty 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agonistů – sociální sati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divadlo a d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ec 12. stol. vzniká v kostele – hry vánoční a velikonoč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stol. – hry se hrají na veřejnosti – lidový jazyk, humor (ča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iv studentů), vykázány z kost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59040" y="620640"/>
            <a:ext cx="7768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OBDOBÍ RANNÉHO FEUDALISMU  9. STOL. – 13. ST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Románský st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vní umělecký směr středověku 11. stol. – 1.pol. 13. 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: Francie, Itálie, Německ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mánské umění přetvořilo tradici antického a byzantského um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áni – duchovní – poddaní. Učení o trojím li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zdělanější duchovní – klášt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men – b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 – lat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65440" y="398520"/>
            <a:ext cx="7006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Mastičká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starší dochované české drama, autor neznámý (stud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běh z bible – tři Marie kupují masti, aby mohly pomaz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rtvé tělo Krista. Masti kupují u mastičkáře – sati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šarlatány a středověké lékaře – zázračné lé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00cc"/>
                </a:solidFill>
                <a:latin typeface="Arial"/>
              </a:rPr>
              <a:t>e) lyr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Ztratila jsem miléh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chod milenců – vyjádření poci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řěvo se listem odie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karonská poezie – střídání českých a latinských tex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66880" y="471600"/>
            <a:ext cx="68072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ff"/>
                </a:solidFill>
                <a:latin typeface="Arial"/>
              </a:rPr>
              <a:t>CHARAKTERISTIKA 15. STO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ciální rozpory, odpor nižších vrstev proti šlechtě a círk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chůdci Jana H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4.stol – většinou traktáty – učený spis o otázkách ví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zásadách správného křesťanského živo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ředisko kazatelství – Betlémská ka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Tomáš Štítný ze Štítné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aný, jihočeský zeman, překládá do češtiny, a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řístupnil díla nižším vrstvám, obhajoval právo člově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jeho mateřský jazy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Knížky šestery o obecných věcech křesťansk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itika soudobé společnosti a círk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24880" y="398520"/>
            <a:ext cx="85402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Mistr Jan H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rozen v Husinci, děkan, později rektor UK. Zásluha o vyd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retu kutnohorského. Od r.1402 káže v Betlémské kapli. Kri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rkve proti prodávání odpustků – pouliční bouře – dán do klatb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ovězen z Prahy – káže na Kozím hrádku a v Krakovci. Vyzv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ikmundem, aby své myšlenky obhájil v Kostnici – zrazen, uvězně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pálen za kacířství – 6. července 1415 – první národní mučední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00cc"/>
                </a:solidFill>
                <a:latin typeface="Arial"/>
              </a:rPr>
              <a:t>náboženské spi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O církv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hlavou církve není papež, ale Kris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Výklad Viery, Desatera a Páteř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ýklad třech modliteb – Věřím v Boha, Desatero, Otče ná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itika církve, která se proti těmto přikázáním prohřešu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Knížky o svatokupectv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revolučnější a nejkritičtější dílo – služebnictvo, drahé do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pování úřadů, nestřídmost v jídle, pití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67960" y="398520"/>
            <a:ext cx="69364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00cc"/>
                </a:solidFill>
                <a:latin typeface="Arial"/>
              </a:rPr>
              <a:t>b) soubor káz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sti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ýklad svatých č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00cc"/>
                </a:solidFill>
                <a:latin typeface="Arial"/>
              </a:rPr>
              <a:t>c) listy z Kost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dresoval je celému národu, nabádá je, aby žili v pravd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m věrným Čechó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00cc"/>
                </a:solidFill>
                <a:latin typeface="Arial"/>
              </a:rPr>
              <a:t>d) úprava pravopi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il spře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vedl diakritická znaménka – nabodeníčko krátké a dlú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il stará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období vrcholného husitství měla důležité poslání i píse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Jistebnický kancioná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tož jsú boží bojovní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staň, povstaň veliké město pražs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38880" y="471600"/>
            <a:ext cx="77396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Petr Chelčic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hočeský zeman, odmítal vzdělání, prosazoval rovnost všech lid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neodporovat z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O trojiem lid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dsuzuje dělení společnosti na 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Sieť viery prav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největší hříšníci jsou panovník a pape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O boji duchovní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kritika panov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Jednota bratrs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vázala na P. Chelčického – vznik 145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ory – zvolili chudobu, fyzickou práci, rovnost, odmítají vzděl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dikální hnutí – adam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bavná literatur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cestopi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Václav Šašek z Bířko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Z Čech až na konec svě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46800" y="471600"/>
            <a:ext cx="40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ih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70 – Plzeň – první tištěná kni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ojánská kro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76720" y="620640"/>
            <a:ext cx="2880000" cy="535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96720" y="73980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773360"/>
            <a:ext cx="856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upload.wikimedia.org/wikipedia/commons/7/79/Rotunda_na_Ripu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www.g2.cz/img/edee/u/clanky/2009_12/cestovani/obraz-zeme/kosma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upload.wikimedia.org/wikipedia/commons/e/e4/Saint_Vitus_Cathedral_in_Prague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www.kb.dk/permalink/2006/manus/645/dan/65+recto/?var=3 - Alexandr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upload.wikimedia.org/wikipedia/commons/c/c4/Dalimilova_kronika_parizsky_fragment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upload.wikimedia.org/wikipedia/commons/e/e1/Muttich%2C_Kamil_Vladislav_-_Mistr_Jan_Hus_na_hranici_v_Kostnici_141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upload.wikimedia.org/wikipedia/commons/8/84/Str%C3%A1nka_z_Kroniky_trojansk%C3%A9_1468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lášková T. a kol.: Literatura – přehled středoškolského učiva. Třebíč. PV 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62280" y="476280"/>
            <a:ext cx="6761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ROMÁNSKÁ  K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chitek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hrámy, kláštery, baziliky, kos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otu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v. Jiří na Řípu masivní pilíře, zdi, malá ok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ůlkruhové oblouky, těžká valená klen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láš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ázavský (centrum staroslověnštin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chařstv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figurální – strnulý postoj, schematický oblič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boženské náměty, bronzové plasti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ezba ve slonovin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lířstv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nástěnné – církevní námě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knižní – iluminace, málo bar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4181400" cy="575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42560" y="508464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unda na Ří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60480" y="404640"/>
            <a:ext cx="7793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ff"/>
                </a:solidFill>
                <a:latin typeface="Arial"/>
              </a:rPr>
              <a:t>EVROPSKÁ  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00cc"/>
                </a:solidFill>
                <a:latin typeface="Arial"/>
              </a:rPr>
              <a:t>a) Hrdinská ep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hrdinský epos – hrdina statečný, vytrval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rný panovníkovi a vl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íseň o Roland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íseň o Nibelunz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Slovo o pluku Igoro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íseň o Cid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y národního hrdinu nemáme – v NO vyrobeny RZ a RK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00cc"/>
                </a:solidFill>
                <a:latin typeface="Arial"/>
              </a:rPr>
              <a:t>b) Rytířská ep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rytíř (král Artuš) – stejné vlastnosti ja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lechtic v hrdinském ep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Tristan a Izold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keltská pověst o lá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00cc"/>
                </a:solidFill>
                <a:latin typeface="Arial"/>
              </a:rPr>
              <a:t>c) Dvorská lyr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ětšinou zpívaná nebo přednáše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 doprovodu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rubadúři – Francie, minesengři – Anglie, minstři – Němec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mět: vyznání ženě – ideál, anděl, nedostupná, láska – služ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nry: epištola – milostný list, pastorela – milostná pastýřská píse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7720" y="542880"/>
            <a:ext cx="85892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TŘEDOVĚKÁ  ČESKÁ 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ká Morava – kníže Rastislav – snížení vlivu Němců – žád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omoc Michala I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3 – příchod Konstantina a Metodě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zn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lit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oslabení vlivu Východofrancké říše, Posílení konta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Byzan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ábožens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založení biskupství, staroslověnština – nábožens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zykov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taroslověnština – jazyk literární, vznik písma – cyril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aholice, azbu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333360"/>
            <a:ext cx="77551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ff"/>
                </a:solidFill>
                <a:latin typeface="Arial"/>
              </a:rPr>
              <a:t>STAROSLOVĚNSKÉ  PÍSEM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rogla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2.pol. 9. stol. – nejstarší dochovaná slovanská báseň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šovaná předmluva k překladu bible, vysoká lit. úrove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avní myšlenky: jednota při dorozumívání, kultuře a nábož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Život Konstantinův, Život Metodějů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rvní staroslověnská legenda o sv. Václ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ruhá staroslověnská legenda o sv. Václ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Legend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zaické nebo veršované vyprávění ze života svat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českých zemích se rozvíjela kultura staroslověnská (Sázavs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lášter) i latinská vedle sebe. Postupně staroslověnská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lačová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 10.stol. výsadní postavení latinská litera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cem 11. stol. zrušení Sázavského klášt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24880" y="471600"/>
            <a:ext cx="87246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ff"/>
                </a:solidFill>
                <a:latin typeface="Arial"/>
              </a:rPr>
              <a:t>LATINSKY  PSANÁ 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Kristiánova legend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brana staroslověnské litera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ff"/>
                </a:solidFill>
                <a:latin typeface="Arial"/>
              </a:rPr>
              <a:t>KOS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Kronika česk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sána latinsky, prózou i verši. Zachycuje čes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ějiny od mýtických počátků až po Kosmovu sm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ři kni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ájné vyprávění star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ávění svě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záži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xt prokládán anekdotami a filosofickými úvahami, vysoká uměle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rove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K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literární žánr, který zaznamenává události a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časovém sle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152960" cy="53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telingerova</cp:lastModifiedBy>
  <dcterms:modified xsi:type="dcterms:W3CDTF">2011-10-10T11:08:10Z</dcterms:modified>
  <cp:revision>79</cp:revision>
  <dc:subject/>
  <dc:title>POSLOUPNOSTI</dc:title>
</cp:coreProperties>
</file>