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AF0-0F73-4E99-91CF-2D86B00D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B93-CA2B-48ED-ADE2-9CE33510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CA8-5315-45F4-A8B6-C917616B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8DC-603B-40D5-9EFF-FF0405F9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0D1-A035-42FA-A984-6A6AE434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088-D70C-4B56-AF4A-032FFF36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5B8-C195-4A83-A821-EE22FBF7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46A5-294F-4736-89D9-B6D6E681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5F9-416F-4297-BD1E-72180455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9F5-993F-4319-B33B-D9783B8D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9A0-7363-49E8-BF19-C8BBFD81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84F-B427-4498-A141-628FEDDD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4CCE-0C97-4FFE-9AB4-BEF9692EEE8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C33B-CA39-48ED-B7D5-52C652EF426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hameleonstvo.blog.cz/0810/deti-abeced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979640" y="249228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Verdana"/>
              </a:rPr>
              <a:t>Vyjmenovaná slov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6875640" y="508464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Lenka Kroup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My PC\Plocha\HRN1e9414_bflmpsvz.gif"/>
          <p:cNvPicPr/>
          <p:nvPr/>
        </p:nvPicPr>
        <p:blipFill>
          <a:blip r:embed="rId2"/>
          <a:stretch/>
        </p:blipFill>
        <p:spPr>
          <a:xfrm rot="19478400">
            <a:off x="611280" y="4292280"/>
            <a:ext cx="2903400" cy="1762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My PC\Plocha\19.jpg"/>
          <p:cNvPicPr/>
          <p:nvPr/>
        </p:nvPicPr>
        <p:blipFill>
          <a:blip r:embed="rId1"/>
          <a:stretch/>
        </p:blipFill>
        <p:spPr>
          <a:xfrm>
            <a:off x="6805440" y="2060640"/>
            <a:ext cx="2338560" cy="216036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3"/>
          <p:cNvSpPr/>
          <p:nvPr/>
        </p:nvSpPr>
        <p:spPr>
          <a:xfrm>
            <a:off x="250920" y="404640"/>
            <a:ext cx="662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jmenovaná slova po 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yn, sytý, sýr, syrový, sychravý, usychat, sýkora, sýček, sysel, syčet, sy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4"/>
          <p:cNvSpPr/>
          <p:nvPr/>
        </p:nvSpPr>
        <p:spPr>
          <a:xfrm>
            <a:off x="179280" y="249228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ěkterá slova příbuzn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ynovec, zlosyn, dosyta, nasytit, syreček, syrovátka, sýrárna, syrovinka, sychravo, Sychrov, vysychat, sýčkovat, syslík, sykavka, syčák, sypkovina, osypky, zásyp, prosypat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ovéPole 5"/>
          <p:cNvSpPr/>
          <p:nvPr/>
        </p:nvSpPr>
        <p:spPr>
          <a:xfrm>
            <a:off x="250920" y="5229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ysvětlete rozdíl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sýrový  x  sírov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sypat  x  sípa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rý  x  sir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My PC\Plocha\22.jpg"/>
          <p:cNvPicPr/>
          <p:nvPr/>
        </p:nvPicPr>
        <p:blipFill>
          <a:blip r:embed="rId1"/>
          <a:stretch/>
        </p:blipFill>
        <p:spPr>
          <a:xfrm>
            <a:off x="3132000" y="333360"/>
            <a:ext cx="2664000" cy="1996920"/>
          </a:xfrm>
          <a:prstGeom prst="rect">
            <a:avLst/>
          </a:prstGeom>
          <a:ln w="0">
            <a:noFill/>
          </a:ln>
        </p:spPr>
      </p:pic>
      <p:sp>
        <p:nvSpPr>
          <p:cNvPr id="85" name="TextovéPole 3"/>
          <p:cNvSpPr/>
          <p:nvPr/>
        </p:nvSpPr>
        <p:spPr>
          <a:xfrm>
            <a:off x="179280" y="907920"/>
            <a:ext cx="3024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jmenovaná slova po 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, vysoký, výt, výskat, zvykat, žvýkat, vydra, výr, vyžle, povyk, výheň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 slova s předponou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vy- / v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véPole 4"/>
          <p:cNvSpPr/>
          <p:nvPr/>
        </p:nvSpPr>
        <p:spPr>
          <a:xfrm>
            <a:off x="5508720" y="907920"/>
            <a:ext cx="331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ěkterá slova příbuzn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kat, vyšší, výška, vysočina, Vyšehrad, navýsost, zavýt, zavýsknout, výskot, zvyk, zlozvyk, obvykle, žvýkačka, přežvýkavec, Povydří, vyžlátko, povykovat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5"/>
          <p:cNvSpPr/>
          <p:nvPr/>
        </p:nvSpPr>
        <p:spPr>
          <a:xfrm>
            <a:off x="324000" y="5084640"/>
            <a:ext cx="46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Jaký je rozdíl mezi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   x  ví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kat  x  vís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a  x  víž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My PC\Plocha\26.jpg"/>
          <p:cNvPicPr/>
          <p:nvPr/>
        </p:nvPicPr>
        <p:blipFill>
          <a:blip r:embed="rId1"/>
          <a:stretch/>
        </p:blipFill>
        <p:spPr>
          <a:xfrm>
            <a:off x="3348000" y="3933720"/>
            <a:ext cx="2592360" cy="228132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3"/>
          <p:cNvSpPr/>
          <p:nvPr/>
        </p:nvSpPr>
        <p:spPr>
          <a:xfrm>
            <a:off x="250920" y="404640"/>
            <a:ext cx="561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jmenovaná slova po 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rzy, jazyk, nazývat se, Ruzy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ovéPole 4"/>
          <p:cNvSpPr/>
          <p:nvPr/>
        </p:nvSpPr>
        <p:spPr>
          <a:xfrm>
            <a:off x="3635280" y="220500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ěkterá slova příbuzn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ýček, jazylka, jazykovědec, jazykověda, vyzývat, ozývat se, vyzyvatel, vzývat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ovéPole 5"/>
          <p:cNvSpPr/>
          <p:nvPr/>
        </p:nvSpPr>
        <p:spPr>
          <a:xfrm>
            <a:off x="179280" y="3573360"/>
            <a:ext cx="30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Vysvětlete rozdí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rzy  x  brzič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zývat  se x  nazívat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2"/>
          <p:cNvSpPr/>
          <p:nvPr/>
        </p:nvSpPr>
        <p:spPr>
          <a:xfrm>
            <a:off x="179280" y="189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oplň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3"/>
          <p:cNvSpPr/>
          <p:nvPr/>
        </p:nvSpPr>
        <p:spPr>
          <a:xfrm>
            <a:off x="250920" y="76500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jeli k nám příbuzní z B_lan, Hrab_ně a Přib_sla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ům měl pod okny v om_tce tmavorudé ozdobné vl_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jevoval nel_čený  zájem o knihu Františka Nep_la Střev_ce z l_č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v_v_šenině nad městem zazněl pov_k a brz_čko se změnil ve v_z_vavý ř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zor na l_šky, které se chtějí l_sat, mají vztekl_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 starověkých ženách se říká, že sl_nuly krás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_zina je želatina z plovacích měchýřů v_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_žle značilo původně psa slídiče, později se přeneslo na nev_v_nuté dít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usíš uv_t pěknou kyt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ovéPole 2"/>
          <p:cNvSpPr/>
          <p:nvPr/>
        </p:nvSpPr>
        <p:spPr>
          <a:xfrm>
            <a:off x="324000" y="115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Řeš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6"/>
          <p:cNvSpPr/>
          <p:nvPr/>
        </p:nvSpPr>
        <p:spPr>
          <a:xfrm>
            <a:off x="324000" y="692280"/>
            <a:ext cx="849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jeli k nám příbuzní z B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an, Hrab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ě a Přib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la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ům měl pod okny v om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ce tmavorudé ozdobné v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jevoval ne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čený  zájem o knihu Františka Nep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a Střev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e z 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ý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č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v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ý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šenině nad městem zazněl pov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 a brz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čko se změnil ve v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ý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avý ř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zor na 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šky, které se chtějí 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at, mají vztek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 starověkých ženách se říká, že s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uly krás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ina je želatina z plovacích měchýřů v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žle značilo původně psa slídiče, později se přeneslo na nev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uté dít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usíš uv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 pěknou kyt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chameleonstvo.blog.cz/0810/deti-abeced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30. 12.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ARTMANNOVÁ, V. a kol. (1996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ravidla českého pravopisu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Olomouc: Nakladatelství F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ELICHAR, J. – STYBLÍK, V. (1998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Český jazyk. Přehled učiva základní školy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aha: Fort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ULC, P. (2002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vičení z české gramatiky. Vyjmenovaná slova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aha: Pier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s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jsou vyjmenovaná slo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jsou obojetné souhlásk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jmenovaná slova p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jmenovaná slova po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jmenovaná slova po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jmenovaná slova po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jmenovaná slova po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jmenovaná slova po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jmenovaná slova po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jmenovaná slova po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2"/>
          <p:cNvSpPr/>
          <p:nvPr/>
        </p:nvSpPr>
        <p:spPr>
          <a:xfrm>
            <a:off x="250920" y="260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o jsou vyjmenovaná slo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3"/>
          <p:cNvSpPr/>
          <p:nvPr/>
        </p:nvSpPr>
        <p:spPr>
          <a:xfrm>
            <a:off x="324000" y="98100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yjmenovaná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aké vyňatá nebo vybraná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lov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je označení skupiny českých  slov domácího původu, v jejichž kořenech se po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obojetné souhlás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píše 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y / 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y / ý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e píše ale i v kořenech příbuzných slov  nebo slov odvoze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romě kořenů je ve vyjmenovaných slovech obsažena i předpona 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vy- / v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lastní jména se mohou od obecných pravidel odchylovat (Přibyl x Přibil, Syrovátka x Sirovátka,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3"/>
          <p:cNvSpPr/>
          <p:nvPr/>
        </p:nvSpPr>
        <p:spPr>
          <a:xfrm>
            <a:off x="1187280" y="47628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o jsou obojetné souhlásk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6"/>
          <p:cNvSpPr/>
          <p:nvPr/>
        </p:nvSpPr>
        <p:spPr>
          <a:xfrm>
            <a:off x="395280" y="1557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ojetnými souhláskami v češtině jso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, F, L, M, P, S, V,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souhláska F se v základech domácích slov téměř nevyskytuje, po písmenu F v základech domácích slov y/ý nepíše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zapamatování obojetných souhlásek se využívá mnemotechnická pomůck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eFeLeMe Pes Se V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Documents and Settings\My PC\Plocha\2.jpg"/>
          <p:cNvPicPr/>
          <p:nvPr/>
        </p:nvPicPr>
        <p:blipFill>
          <a:blip r:embed="rId1"/>
          <a:stretch/>
        </p:blipFill>
        <p:spPr>
          <a:xfrm>
            <a:off x="0" y="1773360"/>
            <a:ext cx="2195640" cy="1644480"/>
          </a:xfrm>
          <a:prstGeom prst="rect">
            <a:avLst/>
          </a:prstGeom>
          <a:ln w="0">
            <a:noFill/>
          </a:ln>
        </p:spPr>
      </p:pic>
      <p:sp>
        <p:nvSpPr>
          <p:cNvPr id="57" name="TextovéPole 4"/>
          <p:cNvSpPr/>
          <p:nvPr/>
        </p:nvSpPr>
        <p:spPr>
          <a:xfrm>
            <a:off x="2124000" y="189000"/>
            <a:ext cx="69120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jmenovaná slova po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ýt, bydlit, obyvatel, byt, příbytek, nábytek, dobytek, obyčej, bystrý, bylina, kobyla, býk, Přibyslav, babyka, Byd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5"/>
          <p:cNvSpPr/>
          <p:nvPr/>
        </p:nvSpPr>
        <p:spPr>
          <a:xfrm>
            <a:off x="611280" y="5373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ysvětlete rozdíl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bydlo  x  bidl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nabýt  x  nabí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býlí  x  bíl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7"/>
          <p:cNvSpPr/>
          <p:nvPr/>
        </p:nvSpPr>
        <p:spPr>
          <a:xfrm>
            <a:off x="2124000" y="242100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ěkterá slova příbuzn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ych, bys, by, aby, kdyby, živobytí, bytost, dobýt, starobylý, bývat, bývalý, přebývat, bytná, ubytovna, obyčejně, bystřina, zbystřit, bylinářka, býlí, býložravec, kobylí, býkovec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My PC\Plocha\6.jpg"/>
          <p:cNvPicPr/>
          <p:nvPr/>
        </p:nvPicPr>
        <p:blipFill>
          <a:blip r:embed="rId1"/>
          <a:stretch/>
        </p:blipFill>
        <p:spPr>
          <a:xfrm>
            <a:off x="179280" y="189000"/>
            <a:ext cx="2249640" cy="1976400"/>
          </a:xfrm>
          <a:prstGeom prst="rect">
            <a:avLst/>
          </a:prstGeom>
          <a:ln w="0">
            <a:noFill/>
          </a:ln>
        </p:spPr>
      </p:pic>
      <p:sp>
        <p:nvSpPr>
          <p:cNvPr id="62" name="TextovéPole 3"/>
          <p:cNvSpPr/>
          <p:nvPr/>
        </p:nvSpPr>
        <p:spPr>
          <a:xfrm>
            <a:off x="1258920" y="2276640"/>
            <a:ext cx="74898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žádné slovo českého původu s 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po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exist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ěkteré učebnice uvádějí jako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jmenovaná slova po F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lova cizího původu nap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fyzika, fyzička, refýž, zefý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My PC\Plocha\12.jpg"/>
          <p:cNvPicPr/>
          <p:nvPr/>
        </p:nvPicPr>
        <p:blipFill>
          <a:blip r:embed="rId1"/>
          <a:stretch/>
        </p:blipFill>
        <p:spPr>
          <a:xfrm>
            <a:off x="179280" y="260280"/>
            <a:ext cx="2030400" cy="172872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3"/>
          <p:cNvSpPr/>
          <p:nvPr/>
        </p:nvSpPr>
        <p:spPr>
          <a:xfrm>
            <a:off x="2484360" y="333360"/>
            <a:ext cx="6408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jmenovaná slova po 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lyšet, mlýn, blýskat se, polykat, plynout, plýtvat, vzlykat, lysý, lýtko, lýko, lyže, pelyněk, ply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5"/>
          <p:cNvSpPr/>
          <p:nvPr/>
        </p:nvSpPr>
        <p:spPr>
          <a:xfrm>
            <a:off x="395280" y="2565360"/>
            <a:ext cx="8497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ěkterá slova příbuzn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slyšící, nedoslýchavý, mlýnek, mlynář, blýskavice, blyštět se, blýskavý, spolykat, polykač, plyn, splynout, vyplývat, plýtvání, vzlykání, zalykat se, lýčí, lýčený, lýtkový, lysina, olysalý, lyžovat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6"/>
          <p:cNvSpPr/>
          <p:nvPr/>
        </p:nvSpPr>
        <p:spPr>
          <a:xfrm>
            <a:off x="395280" y="5157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Jaký je rozdíl mezi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lýčený  x  líčený        slynout  x  slini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yska  x  lí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My PC\Plocha\13.jpg"/>
          <p:cNvPicPr/>
          <p:nvPr/>
        </p:nvPicPr>
        <p:blipFill>
          <a:blip r:embed="rId1"/>
          <a:stretch/>
        </p:blipFill>
        <p:spPr>
          <a:xfrm>
            <a:off x="6372360" y="765000"/>
            <a:ext cx="2604960" cy="17272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3"/>
          <p:cNvSpPr/>
          <p:nvPr/>
        </p:nvSpPr>
        <p:spPr>
          <a:xfrm>
            <a:off x="250920" y="260280"/>
            <a:ext cx="6049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jmenovaná slova po 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y, mýt, myslit, mýlit se, hmyz, myš, hlemýžď, mýtit, zamykat, smýkat, dmýchat, chmýří, nachomýtnout se, Litomy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4"/>
          <p:cNvSpPr/>
          <p:nvPr/>
        </p:nvSpPr>
        <p:spPr>
          <a:xfrm>
            <a:off x="250920" y="285264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ěkterá slova příbuzn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yčka, mýdlo, mýval, myšlenka, průmysl, mýlka, mylný, zmýlená, hmyzožravec, myšák, mýto, mýtné, vymýtit, nedomykavost, výmyk, smyk, smyčka, smyčec, průsmyk, dmychadlo, přichomýtnout se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5"/>
          <p:cNvSpPr/>
          <p:nvPr/>
        </p:nvSpPr>
        <p:spPr>
          <a:xfrm>
            <a:off x="324000" y="537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ysvětlete rozdíl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my  x  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mys  x  mis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mýlí se  x  mil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My PC\Plocha\16.jpg"/>
          <p:cNvPicPr/>
          <p:nvPr/>
        </p:nvPicPr>
        <p:blipFill>
          <a:blip r:embed="rId1"/>
          <a:stretch/>
        </p:blipFill>
        <p:spPr>
          <a:xfrm>
            <a:off x="179280" y="4653000"/>
            <a:ext cx="2411640" cy="201924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3"/>
          <p:cNvSpPr/>
          <p:nvPr/>
        </p:nvSpPr>
        <p:spPr>
          <a:xfrm>
            <a:off x="250920" y="333360"/>
            <a:ext cx="8569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jmenovaná slova po 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ýcha, pytel, pysk, netopýr, slepýš, pyl, kopyto, klopýtat, třpytit se, zpytovat, pykat, pýr, pýřit se, čepýřit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ovéPole 4"/>
          <p:cNvSpPr/>
          <p:nvPr/>
        </p:nvSpPr>
        <p:spPr>
          <a:xfrm>
            <a:off x="250920" y="2708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ěkterá slova příbuzn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yšný, zpychnout, přepych, hrdopýška, pytlovina, pytlačit, strašpytel, ptakopysk, Solopysky, opylovat, sudokopytník, lichokopytník, nevyzpytatelný, jazykozpyt, pykání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ovéPole 5"/>
          <p:cNvSpPr/>
          <p:nvPr/>
        </p:nvSpPr>
        <p:spPr>
          <a:xfrm>
            <a:off x="3635280" y="515772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Jaký je rozdíl mezi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ysky  x  pí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epýš  x  slepí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ylovat  x  opi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Lenka</cp:lastModifiedBy>
  <dcterms:modified xsi:type="dcterms:W3CDTF">2011-01-02T17:49:11Z</dcterms:modified>
  <cp:revision>129</cp:revision>
  <dc:subject/>
  <dc:title>POSLOUPNOSTI</dc:title>
</cp:coreProperties>
</file>