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73A-0182-4EDE-B12E-70E972D3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841-C912-43F4-9717-17C7A735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C9B-7604-4A10-B385-F3C17174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F38-2881-4737-8EEB-43076074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1AC-391A-491C-AE57-BF6D6BF7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CFF-79ED-41CB-A18E-25F676BA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F4A-A7A8-4FD9-B655-BF4FFCB2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116-C62F-4AAC-A106-B5636BA8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45E-5206-4482-AAAC-852F947A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070-BAD8-41CA-811C-D9E53BB1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010-49A6-486A-AE46-2AECE38A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392-008A-4F21-BDD4-69F2DA62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FC82-F394-493C-9006-1B10A8C00DB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B435-223F-4267-A76B-7467065E288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3"/>
          <p:cNvSpPr/>
          <p:nvPr/>
        </p:nvSpPr>
        <p:spPr>
          <a:xfrm>
            <a:off x="1835280" y="2565360"/>
            <a:ext cx="54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Verdana"/>
              </a:rPr>
              <a:t>Přejatá slov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4"/>
          <p:cNvSpPr/>
          <p:nvPr/>
        </p:nvSpPr>
        <p:spPr>
          <a:xfrm>
            <a:off x="6804000" y="5300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Lenka Kroup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RTMANNOVÁ, V. a kol. (1996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ravidla českého pravopisu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Olomouc: Nakladatelství F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UBÁČEK, J. - JANDOVÁ, E. - SVOBODOVÁ, J. (2002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Čeština pro učitel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Nakladatelství Vade Mecum Bohemiae, s. r. 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lektiv autorů Ústavu českého jazyka FF Masarykovy univerzity v Brně (2003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říruční mluvnice češtin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Praha: Nakladatelství Lidové nov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ELICHAR, J. – STYBLÍK, V. (1998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Český jazyk. Přehled učiva základní školy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aha: Fort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MILAUER, V. (1972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Nauka o českém jazyku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aha: SP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ozdělení slov přejat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lova přejatá z jiných vrstev národního jazy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lova přejatá z cizích jazy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avopis slov přejat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dchylky v psaní cizích s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395280" y="3068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Slova se přejímaj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 jiných vrstev národ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 cizích jazy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3"/>
          <p:cNvSpPr/>
          <p:nvPr/>
        </p:nvSpPr>
        <p:spPr>
          <a:xfrm>
            <a:off x="1476360" y="549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Rozdělení slov přejat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4"/>
          <p:cNvSpPr/>
          <p:nvPr/>
        </p:nvSpPr>
        <p:spPr>
          <a:xfrm>
            <a:off x="1116000" y="15573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ejímání slov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jde o </a:t>
            </a:r>
            <a:r>
              <a:rPr b="1" lang="cs-CZ" sz="2400" spc="-1" strike="noStrike">
                <a:solidFill>
                  <a:srgbClr val="0070c0"/>
                </a:solidFill>
                <a:latin typeface="Verdana"/>
              </a:rPr>
              <a:t>proces rozmnožování (rozšiřování) slovní zásoby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2"/>
          <p:cNvSpPr/>
          <p:nvPr/>
        </p:nvSpPr>
        <p:spPr>
          <a:xfrm>
            <a:off x="324000" y="476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1. Slova přejatá z jiných vrstev národ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3"/>
          <p:cNvSpPr/>
          <p:nvPr/>
        </p:nvSpPr>
        <p:spPr>
          <a:xfrm>
            <a:off x="395280" y="1413000"/>
            <a:ext cx="849780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eustálé přesuny mezi jednotlivými vrstvami národního jazyka (z jedné vrstvy do druhé)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nejčastěji z obecné čj do hovorové, z jednoho nářečí do druhého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.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Dialektická slo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ýchodočeská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nějaký, neomalený, osopil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oravská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dě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Staročeská slov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obnovovaná v době obrozene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látka, přísudek, ráz, touha, tvar, vzor, vesmí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2"/>
          <p:cNvSpPr/>
          <p:nvPr/>
        </p:nvSpPr>
        <p:spPr>
          <a:xfrm>
            <a:off x="250920" y="6206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2. Slova přejatá z cizích jazy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395280" y="16286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jatých slov v čj je značné množství (stejně jako ve všech kulturních jazycích) = </a:t>
            </a:r>
            <a:r>
              <a:rPr b="0" lang="cs-CZ" sz="2000" spc="-1" strike="noStrike">
                <a:solidFill>
                  <a:srgbClr val="ff0000"/>
                </a:solidFill>
                <a:latin typeface="Verdana"/>
              </a:rPr>
              <a:t>slova cizího pův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každém jazyce jsou velmi významnou složkou, ale nejednotnou a rychle se měn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íšeme je buď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ravopisem původní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eb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ravopisem počeštělý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některá slova se píš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ravopisem původním i počeštěl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2"/>
          <p:cNvSpPr/>
          <p:nvPr/>
        </p:nvSpPr>
        <p:spPr>
          <a:xfrm>
            <a:off x="611280" y="33336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ravopis slov přejat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3"/>
          <p:cNvSpPr/>
          <p:nvPr/>
        </p:nvSpPr>
        <p:spPr>
          <a:xfrm>
            <a:off x="250920" y="98100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lova psaná původním pravopisem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tzn. jako v jazyce, z něhož bylo slovo přej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takto se píší slova řídká, úzce odborná a slova mající charakter mezinárodních značek (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netto, brutto, watt, wolfram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nebo slova (většinou anglická a francouzská), jejichž výslovnost se výrazně liší od jejich písemné podoby (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interview, foyer, outsider, revu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nebo cizojazyčné citátové výrazy z jazyků píšících latinkou a výrazy hudební (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e facto, fair play, allegro, pianissim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lova psaná počeštělým pravopisem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tzn. podle jejich české spisovné výslo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takto píšeme slova zdomácnělá, slova v jazyce rozšířená a běžné odborné výrazy (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rize, fráze, fotbal, hokej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3. Slova psaná původním i počeštělým pravopisem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příčinou je proces zdomácňování slov, který probíhá postupně (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žud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jud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žez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jaz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abing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abink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2"/>
          <p:cNvSpPr/>
          <p:nvPr/>
        </p:nvSpPr>
        <p:spPr>
          <a:xfrm>
            <a:off x="611280" y="476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dchylky v psaní cizích sl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3"/>
          <p:cNvSpPr/>
          <p:nvPr/>
        </p:nvSpPr>
        <p:spPr>
          <a:xfrm>
            <a:off x="250920" y="1413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4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Poměr mezi pravopisem a výslovností slov psaných počeštělým pravopisem je zčásti jiný než ve slovech domácích → </a:t>
            </a:r>
            <a:r>
              <a:rPr b="1" lang="cs-CZ" sz="1800" spc="-1" strike="noStrike">
                <a:solidFill>
                  <a:srgbClr val="ff0000"/>
                </a:solidFill>
                <a:latin typeface="Verdana"/>
              </a:rPr>
              <a:t>nejčastější odchylky jsou ty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5"/>
          <p:cNvSpPr/>
          <p:nvPr/>
        </p:nvSpPr>
        <p:spPr>
          <a:xfrm>
            <a:off x="179280" y="2276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Písmeno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 – označuje ve výslovnosti dvě hlásky – [ks] nebo [g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rax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extil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existovat, exemplá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LE píšeme –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ok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lakso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6"/>
          <p:cNvSpPr/>
          <p:nvPr/>
        </p:nvSpPr>
        <p:spPr>
          <a:xfrm>
            <a:off x="179280" y="3789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2. Skupiny psané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di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ti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ni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 se vyslovují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dy, ty, ny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iferen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isciplín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aktik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organ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7"/>
          <p:cNvSpPr/>
          <p:nvPr/>
        </p:nvSpPr>
        <p:spPr>
          <a:xfrm>
            <a:off x="179280" y="494172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3. Po souhláskách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ch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k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 se píše často měkké </a:t>
            </a:r>
            <a:r>
              <a:rPr b="0" i="1" lang="cs-CZ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histori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hirurg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r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Po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 se někdy píše tvrdé </a:t>
            </a:r>
            <a:r>
              <a:rPr b="0" i="1" lang="cs-CZ" sz="1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motocy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2"/>
          <p:cNvSpPr/>
          <p:nvPr/>
        </p:nvSpPr>
        <p:spPr>
          <a:xfrm>
            <a:off x="179280" y="189000"/>
            <a:ext cx="849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4. Psaní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 a </a:t>
            </a:r>
            <a:r>
              <a:rPr b="1" i="1" lang="cs-CZ" sz="1800" spc="-1" strike="noStrike">
                <a:solidFill>
                  <a:srgbClr val="ff0000"/>
                </a:solidFill>
                <a:latin typeface="Verdana"/>
              </a:rPr>
              <a:t>z</a:t>
            </a: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) jen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íšem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ve slovech zdomácnělých (s vyslovované jako z píšeme z) –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riz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ezinfek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ezer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filozo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v přejatých slovech zakončených na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–r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-l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-n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urz, konkurz, puls, impul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) jen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íš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v těch slovech, kde je spisovná pouze výslovnost s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emis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agres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esimist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asimi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ve slovech pravopisně nepočeště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lase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výslovnos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ejz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íš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ve slovech zakončených na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–zmus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-smu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-izmu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-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romantismus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romantizmu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vyslovuje s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v některých dalších slovech – 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buzol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busol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renesanc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renez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2"/>
          <p:cNvSpPr/>
          <p:nvPr/>
        </p:nvSpPr>
        <p:spPr>
          <a:xfrm>
            <a:off x="250920" y="69228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5. Délka samohlásek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u přejatých slov vychází ze spisovné výslo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) délka se označuje tam, kde se dlouhá samohláska zřetelně vyslovuje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v základech některých slov (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antén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ári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ém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v některých zakončeních (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filé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roblém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atelié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) pokud není výslovnost dlouhé samohlásky pevná, píše se samohláska krát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itro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milio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balko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benzi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vita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) dlouhá nebo krátká samohláska se píše v názvech chemických pr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jod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jód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bo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bó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hlo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hló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bo v jejich odvozeninách zakončených na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-o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jodový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 jódový, chlorový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hlóro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Lenka</cp:lastModifiedBy>
  <dcterms:modified xsi:type="dcterms:W3CDTF">2011-01-24T23:20:16Z</dcterms:modified>
  <cp:revision>56</cp:revision>
  <dc:subject/>
  <dc:title>POSLOUPNOSTI</dc:title>
</cp:coreProperties>
</file>