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781-5325-46F5-BD94-5D0D1171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9CC-A21F-47A9-81A9-1C7A6C8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D75-45A5-496F-9C46-0C5A10B1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D96-27CE-4EAD-8C93-E1163C95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1F1-FACB-4413-AEF0-ED07890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0EC-4851-4A5A-830D-A30A16B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757-D178-46B7-9358-82AA41A8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5C2-619D-4932-9559-8F8E47AF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D0A-78DF-4B6D-AC29-6CEDE444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2C2-22FF-49A4-BAA5-7BBF7F7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40B-B683-4898-96B0-3181A85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E1B-2FA3-42AA-846B-6816AD50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5733-3CF0-4A71-AEA5-14A53677A40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75DF-05AC-4FDC-A10A-C618E490780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ojecestina.cz/" TargetMode="External"/><Relationship Id="rId2" Type="http://schemas.openxmlformats.org/officeDocument/2006/relationships/hyperlink" Target="http://www.ocestine.cz/gramatika/shoda-prisudku-s-podmete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1116000" y="184464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Shoda přísudku s podmě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6948360" y="5373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My PC\Plocha\coalition.jpg"/>
          <p:cNvPicPr/>
          <p:nvPr/>
        </p:nvPicPr>
        <p:blipFill>
          <a:blip r:embed="rId2"/>
          <a:stretch/>
        </p:blipFill>
        <p:spPr>
          <a:xfrm>
            <a:off x="3635280" y="3716280"/>
            <a:ext cx="1800360" cy="2183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2"/>
          <p:cNvSpPr/>
          <p:nvPr/>
        </p:nvSpPr>
        <p:spPr>
          <a:xfrm>
            <a:off x="395280" y="620640"/>
            <a:ext cx="8209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lidičky, rodiče, koně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– mluvnicky jsou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životná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 i když mají neživotnou koncovku → v přísudku píšem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–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dkud ti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lidičk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řiš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? Moji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rodič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se vrát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z procházky. Vraní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ko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klus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AL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Dřevěné koně stá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e výlo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3"/>
          <p:cNvSpPr/>
          <p:nvPr/>
        </p:nvSpPr>
        <p:spPr>
          <a:xfrm>
            <a:off x="539640" y="4005360"/>
            <a:ext cx="8064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en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v přísudku vždy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–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bez ohledu na zakon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n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lynu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n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lynu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AL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archaický výraz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nov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Dnové plynu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468360" y="333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kolikanásobný podm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3"/>
          <p:cNvSpPr/>
          <p:nvPr/>
        </p:nvSpPr>
        <p:spPr>
          <a:xfrm>
            <a:off x="539640" y="1052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několikanásobný podmě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ůže být složen ze jmen rodu ženského, středního a mužského životného nebo neživot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4"/>
          <p:cNvSpPr/>
          <p:nvPr/>
        </p:nvSpPr>
        <p:spPr>
          <a:xfrm>
            <a:off x="684360" y="2276640"/>
            <a:ext cx="820872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ísudek následuje 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ZA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podmě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alespoň jeden člen několikanásobného podmětu rodu mužského životného → v přísudk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–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Chlapci a dívk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se vyprav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do zoologické zahr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není-l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žádný člen rodu mužského životného → v přísudk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–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Sešit a knih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leže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a lav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jsou podmětem pouze podstatná jména rodu středního a alespoň jedno z nich je v jednotném čísle → v přísudk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–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Kotě i ště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běh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o dvoř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468360" y="83664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2. Přísudek stojí 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PŘE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podmě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hoda bývá podle rodu prvního (= nejbližšího) členu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ěkolikanásobného podmět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 dvoře se procháze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i procháze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kuřata a slep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dalších zvířat je zauj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i zauj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velké šelmy a draví pt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lét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i přilét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pěnkavy a ko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jednotném čísle → shoduje se s prvním podstatný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ménem několikanásobného podmě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závodě obstál jezdec i str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 chyty vešel lyžař, lyžařka a jejich dí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těže v recitaci se zúčastnila jedna žákyně a jeden ž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2"/>
          <p:cNvSpPr/>
          <p:nvPr/>
        </p:nvSpPr>
        <p:spPr>
          <a:xfrm>
            <a:off x="324000" y="981000"/>
            <a:ext cx="8424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Je-li na výrazu v 1. pádě závislý další výraz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(další výrazy)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v 7. pádě s předložkou </a:t>
            </a:r>
            <a:r>
              <a:rPr b="1" i="1" lang="cs-CZ" sz="2000" spc="-1" strike="noStrike">
                <a:solidFill>
                  <a:srgbClr val="ff0066"/>
                </a:solidFill>
                <a:latin typeface="Verdana"/>
              </a:rPr>
              <a:t>s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, který není jeho přívlastkem, může být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shoda jak podle výrazu v 1. pádě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, tak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odle celé skup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etr </a:t>
            </a:r>
            <a:r>
              <a:rPr b="0" lang="cs-CZ" sz="1800" spc="-1" strike="noStrike" u="sng">
                <a:solidFill>
                  <a:srgbClr val="ff0066"/>
                </a:solidFill>
                <a:uFillTx/>
                <a:latin typeface="Verdana"/>
              </a:rPr>
              <a:t>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 Jano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šel (š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na hřiš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Slepice </a:t>
            </a:r>
            <a:r>
              <a:rPr b="0" lang="cs-CZ" sz="1800" spc="-1" strike="noStrike" u="sng">
                <a:solidFill>
                  <a:srgbClr val="ff0066"/>
                </a:solidFill>
                <a:uFillTx/>
                <a:latin typeface="Verdana"/>
              </a:rPr>
              <a:t>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 kohoute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rab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hrab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v záho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ívky </a:t>
            </a:r>
            <a:r>
              <a:rPr b="0" lang="cs-CZ" sz="1800" spc="-1" strike="noStrike" u="sng">
                <a:solidFill>
                  <a:srgbClr val="ff0066"/>
                </a:solidFill>
                <a:uFillTx/>
                <a:latin typeface="Verdana"/>
              </a:rPr>
              <a:t>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 hoch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závod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závod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Babička </a:t>
            </a:r>
            <a:r>
              <a:rPr b="0" lang="cs-CZ" sz="1800" spc="-1" strike="noStrike" u="sng">
                <a:solidFill>
                  <a:srgbClr val="ff0066"/>
                </a:solidFill>
                <a:uFillTx/>
                <a:latin typeface="Verdana"/>
              </a:rPr>
              <a:t>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 vnuke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bědv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2"/>
          <p:cNvSpPr/>
          <p:nvPr/>
        </p:nvSpPr>
        <p:spPr>
          <a:xfrm>
            <a:off x="468360" y="76500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hoda podle smys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3"/>
          <p:cNvSpPr/>
          <p:nvPr/>
        </p:nvSpPr>
        <p:spPr>
          <a:xfrm>
            <a:off x="250920" y="1989000"/>
            <a:ext cx="86421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platňuje se tehdy, není-li mluvnický rod podmětu jednoznač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uplatňuje se zřetel k přirozenému rodu podmě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4"/>
          <p:cNvSpPr/>
          <p:nvPr/>
        </p:nvSpPr>
        <p:spPr>
          <a:xfrm>
            <a:off x="900000" y="3645000"/>
            <a:ext cx="741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o (my) jsme se vás načeka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! – pokud se jedná o mu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o (my) jsme se vás načekal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! – pokud se jedná o ž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2"/>
          <p:cNvSpPr/>
          <p:nvPr/>
        </p:nvSpPr>
        <p:spPr>
          <a:xfrm>
            <a:off x="468360" y="765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šeobecný podm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468360" y="191628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ní ve větě vyjádřen, ale rozumí se jím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„nějací lidé“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shoda podle rodu mužského životnéh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→ v přísudku 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4"/>
          <p:cNvSpPr/>
          <p:nvPr/>
        </p:nvSpPr>
        <p:spPr>
          <a:xfrm>
            <a:off x="1258920" y="378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síla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to v televizi. Troubi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poplach. V kině dáva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ový film. V rádiu vysíla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prá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395280" y="549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mět nevyjádře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3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ní ve větě slovně vyjádřen, přísudek se shoduje s podstatným jménem, které nabývá platnosti podmětu, v těchto případ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4"/>
          <p:cNvSpPr/>
          <p:nvPr/>
        </p:nvSpPr>
        <p:spPr>
          <a:xfrm>
            <a:off x="468360" y="2852640"/>
            <a:ext cx="849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e-li podstatné jméno užito v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oslove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shoda platí i pro 5.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o jste, chlapci, obědva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5"/>
          <p:cNvSpPr/>
          <p:nvPr/>
        </p:nvSpPr>
        <p:spPr>
          <a:xfrm>
            <a:off x="468360" y="4221000"/>
            <a:ext cx="8675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2. je-li přirozený rod podmětu patrný z některé z předchozích vě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čitel chlapcům látku vysvětlil, aby ji lépe pochopi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tj. chlapc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čitel dívkám látku vysvětlil, aby ji lépe pochopil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tj. dív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2"/>
          <p:cNvSpPr/>
          <p:nvPr/>
        </p:nvSpPr>
        <p:spPr>
          <a:xfrm>
            <a:off x="179280" y="765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mět je vyjádřen výrazem pr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3"/>
          <p:cNvSpPr/>
          <p:nvPr/>
        </p:nvSpPr>
        <p:spPr>
          <a:xfrm>
            <a:off x="250920" y="184464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Skupina, řada, dav, masa, zástup, deset, tisíc, milion, pár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td. ve spojení s 2. pádem podstatného jména →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odměte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ení to podstatné jméno, ale právě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ýraz vyjadřující množ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4"/>
          <p:cNvSpPr/>
          <p:nvPr/>
        </p:nvSpPr>
        <p:spPr>
          <a:xfrm>
            <a:off x="1619280" y="39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av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lidí stál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Tisí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diváků povzbuzoval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turistů vešl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a hradní nádvoř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"/>
          <p:cNvSpPr/>
          <p:nvPr/>
        </p:nvSpPr>
        <p:spPr>
          <a:xfrm>
            <a:off x="250920" y="333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oplň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3"/>
          <p:cNvSpPr/>
          <p:nvPr/>
        </p:nvSpPr>
        <p:spPr>
          <a:xfrm>
            <a:off x="250920" y="765000"/>
            <a:ext cx="820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utorovy životní zážitky přestal_  mít hlubší souvisl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dičky vzhlížel_  k ne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em desáté hodiny ranní vzplál_  otepi slá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ařížští kuchařští odborníci nabídl_  obložené mí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jeho osudu se podepsal_  i různí jidáš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 auta vystoupil_  dívky i jejich rodi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vázal_  na Pasteurovy pok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ecy pana Pernici mi šl_  pěkně na ner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výstaviště přišl_  celé zástupy lid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2"/>
          <p:cNvSpPr/>
          <p:nvPr/>
        </p:nvSpPr>
        <p:spPr>
          <a:xfrm>
            <a:off x="395280" y="26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Ře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3"/>
          <p:cNvSpPr/>
          <p:nvPr/>
        </p:nvSpPr>
        <p:spPr>
          <a:xfrm>
            <a:off x="395280" y="692280"/>
            <a:ext cx="806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utorovy životní zážitky přesta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mít hlubší souvisl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dičky vzhlíže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k neb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em desáté hodiny ranní vzplá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otepi slá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ařížští kuchařští odborníci nabíd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obložené mí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jeho osudu se podepsa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i různí jidáš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 auta vystoupi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-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dívky i jejich rodi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váza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na Pasteurovy pok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ecy pana Pernici mi š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pěkně na ner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výstaviště přiš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celé zástupy lid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podmět a přísud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avidlo o shodě podmětu s přísudkem v přítomném č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avidlo o shodě podmětu s přísudkem v minulém č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d mužský životn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d mužský neživotn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d žen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d stře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ěkolikanásobný podmě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oda podle smy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šeobecný podmě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dmět nevyjádřen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dmět – výraz pro množ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vičení (+ řeš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mů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My PC\Plocha\panacek_hura.jpg"/>
          <p:cNvPicPr/>
          <p:nvPr/>
        </p:nvPicPr>
        <p:blipFill>
          <a:blip r:embed="rId1"/>
          <a:stretch/>
        </p:blipFill>
        <p:spPr>
          <a:xfrm>
            <a:off x="250920" y="1052640"/>
            <a:ext cx="2479680" cy="2479680"/>
          </a:xfrm>
          <a:prstGeom prst="rect">
            <a:avLst/>
          </a:prstGeom>
          <a:ln w="0">
            <a:noFill/>
          </a:ln>
        </p:spPr>
      </p:pic>
      <p:sp>
        <p:nvSpPr>
          <p:cNvPr id="124" name="TextovéPole 3"/>
          <p:cNvSpPr/>
          <p:nvPr/>
        </p:nvSpPr>
        <p:spPr>
          <a:xfrm>
            <a:off x="2627280" y="333360"/>
            <a:ext cx="62658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0099"/>
                </a:solidFill>
                <a:latin typeface="Verdana"/>
              </a:rPr>
              <a:t>POMŮ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kuste si před podmět ve větě dosadit ukazovací zájmeno - 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v přísudku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v přísudku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v přísudku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4"/>
          <p:cNvSpPr/>
          <p:nvPr/>
        </p:nvSpPr>
        <p:spPr>
          <a:xfrm>
            <a:off x="684360" y="4076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si štěkali. →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psi štěka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ívky si hrály. →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dívky si hrá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rtulníky přistály. →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vrtulníky přistá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uřátka se napila. →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kuřátka se nap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ojecestina.c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4. 1.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ocestine.cz/gramatika/shoda-prisudku-s-podmetem/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5. 1.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1476360" y="404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o je podmět a přísud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3"/>
          <p:cNvSpPr/>
          <p:nvPr/>
        </p:nvSpPr>
        <p:spPr>
          <a:xfrm>
            <a:off x="39528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základní větné člen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→ tvoří základní skladební dvojici v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395280" y="1773360"/>
            <a:ext cx="8424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DMĚ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vyjadřuje původce děje, nositele činnosti, stavu neb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táme se na něj otázkou 1. pádu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do? co?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určitý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love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jčastěji je vyjádřen podstatným jménem, al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mětem může být kterýkoli slovní d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mět může být vyjádřený, nevyjádřený, všeobec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olý, několikanásob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5"/>
          <p:cNvSpPr/>
          <p:nvPr/>
        </p:nvSpPr>
        <p:spPr>
          <a:xfrm>
            <a:off x="395280" y="4437000"/>
            <a:ext cx="842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ŘÍSUDE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vyjadřuje, co podmět dělá, co se s ním děje, neb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aký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pravidla vyjádřen určitým tvarem sloves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sudek může být slovesný, jmenný se sponou /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eze sp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My PC\Plocha\200712042124_otaznik.jpg"/>
          <p:cNvPicPr/>
          <p:nvPr/>
        </p:nvPicPr>
        <p:blipFill>
          <a:blip r:embed="rId1"/>
          <a:stretch/>
        </p:blipFill>
        <p:spPr>
          <a:xfrm>
            <a:off x="7667640" y="333360"/>
            <a:ext cx="1273320" cy="1298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539640" y="3333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avidlo o shodě podmětu s přísudkem v přítomném č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My PC\Plocha\vykříčník.jpg"/>
          <p:cNvPicPr/>
          <p:nvPr/>
        </p:nvPicPr>
        <p:blipFill>
          <a:blip r:embed="rId1"/>
          <a:stretch/>
        </p:blipFill>
        <p:spPr>
          <a:xfrm>
            <a:off x="250920" y="1989000"/>
            <a:ext cx="1028520" cy="1076400"/>
          </a:xfrm>
          <a:prstGeom prst="rect">
            <a:avLst/>
          </a:prstGeom>
          <a:ln w="0">
            <a:noFill/>
          </a:ln>
        </p:spPr>
      </p:pic>
      <p:sp>
        <p:nvSpPr>
          <p:cNvPr id="58" name="TextovéPole 4"/>
          <p:cNvSpPr/>
          <p:nvPr/>
        </p:nvSpPr>
        <p:spPr>
          <a:xfrm>
            <a:off x="1403280" y="1989000"/>
            <a:ext cx="7201080" cy="128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koncovkách přísudku v přítomném čase píšem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vžd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měkké 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 / -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5"/>
          <p:cNvSpPr/>
          <p:nvPr/>
        </p:nvSpPr>
        <p:spPr>
          <a:xfrm>
            <a:off x="1187280" y="393372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ad se plaz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o strá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minka sp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a gauč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3"/>
          <p:cNvSpPr/>
          <p:nvPr/>
        </p:nvSpPr>
        <p:spPr>
          <a:xfrm>
            <a:off x="395280" y="18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avidlo o shodě podmětu s přísudkem v minulém č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5"/>
          <p:cNvSpPr/>
          <p:nvPr/>
        </p:nvSpPr>
        <p:spPr>
          <a:xfrm>
            <a:off x="1476360" y="2060640"/>
            <a:ext cx="7488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je podmět rodu </a:t>
            </a:r>
            <a:r>
              <a:rPr b="1" lang="cs-CZ" sz="2400" spc="-1" strike="noStrike">
                <a:solidFill>
                  <a:srgbClr val="00b0f0"/>
                </a:solidFill>
                <a:latin typeface="Verdana"/>
              </a:rPr>
              <a:t>mužského životnéh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píšeme v přísudku měkké </a:t>
            </a:r>
            <a:r>
              <a:rPr b="1" lang="cs-CZ" sz="2400" spc="-1" strike="noStrike">
                <a:solidFill>
                  <a:srgbClr val="00b0f0"/>
                </a:solidFill>
                <a:latin typeface="Verdana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My PC\Plocha\vykříčník.jpg"/>
          <p:cNvPicPr/>
          <p:nvPr/>
        </p:nvPicPr>
        <p:blipFill>
          <a:blip r:embed="rId1"/>
          <a:stretch/>
        </p:blipFill>
        <p:spPr>
          <a:xfrm>
            <a:off x="250920" y="2133720"/>
            <a:ext cx="1028520" cy="107604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7"/>
          <p:cNvSpPr/>
          <p:nvPr/>
        </p:nvSpPr>
        <p:spPr>
          <a:xfrm>
            <a:off x="1908000" y="342900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Chlapc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řije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ivác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tleska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Učitelé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yprávěl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8"/>
          <p:cNvSpPr/>
          <p:nvPr/>
        </p:nvSpPr>
        <p:spPr>
          <a:xfrm>
            <a:off x="250920" y="1484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f0"/>
                </a:solidFill>
                <a:latin typeface="Verdana"/>
              </a:rPr>
              <a:t>ROD  MUŽSKÝ ŽIVO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9"/>
          <p:cNvSpPr/>
          <p:nvPr/>
        </p:nvSpPr>
        <p:spPr>
          <a:xfrm>
            <a:off x="287280" y="4508640"/>
            <a:ext cx="8856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luvnicky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Verdana"/>
              </a:rPr>
              <a:t>životná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mohou být i jména označující předměty neživé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př.: draci, sněhuláci, nebožtí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estrobarevní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rac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oletova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e větru. Před domem stá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dv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sněhulác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250920" y="549360"/>
            <a:ext cx="8569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ěkterá podstatná jména mohou být mluvnicky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životná i neživotná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dle koncovky 1. p. mn. 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.: čitatel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x čitatel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činitel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x činitel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ledobor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x ledobor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slaneč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x slanečk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Ledoborc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yplul</a:t>
            </a:r>
            <a:r>
              <a:rPr b="1" lang="cs-CZ" sz="1800" spc="-1" strike="noStrike">
                <a:solidFill>
                  <a:srgbClr val="00b0f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(r. m. život.)  X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Ledoborc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yplul</a:t>
            </a:r>
            <a:r>
              <a:rPr b="1" lang="cs-CZ" sz="18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(r. m. než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250920" y="3068640"/>
            <a:ext cx="8424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 některých jmen souvisí životnost a neživotnost s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ýznamovým rozlišení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.: nosiči  x  nosiče (nosiči zavazadel  x  kovové nosič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odiči  x  vodiče (vodiči velbloudů  x  vodiče tep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987640" y="4869000"/>
          <a:ext cx="3456000" cy="13460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936720"/>
                <a:gridCol w="1511280"/>
              </a:tblGrid>
              <a:tr h="426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p. mn. 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ísud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-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-ov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-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5" descr="C:\Documents and Settings\My PC\Plocha\vykříčník.jpg"/>
          <p:cNvPicPr/>
          <p:nvPr/>
        </p:nvPicPr>
        <p:blipFill>
          <a:blip r:embed="rId1"/>
          <a:stretch/>
        </p:blipFill>
        <p:spPr>
          <a:xfrm>
            <a:off x="1763640" y="5084640"/>
            <a:ext cx="1028880" cy="1076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My PC\Plocha\vykříčník.jpg"/>
          <p:cNvPicPr/>
          <p:nvPr/>
        </p:nvPicPr>
        <p:blipFill>
          <a:blip r:embed="rId1"/>
          <a:stretch/>
        </p:blipFill>
        <p:spPr>
          <a:xfrm>
            <a:off x="108000" y="1916280"/>
            <a:ext cx="1028520" cy="1076040"/>
          </a:xfrm>
          <a:prstGeom prst="rect">
            <a:avLst/>
          </a:prstGeom>
          <a:ln w="0">
            <a:noFill/>
          </a:ln>
        </p:spPr>
      </p:pic>
      <p:sp>
        <p:nvSpPr>
          <p:cNvPr id="74" name="TextovéPole 3"/>
          <p:cNvSpPr/>
          <p:nvPr/>
        </p:nvSpPr>
        <p:spPr>
          <a:xfrm>
            <a:off x="1187280" y="1844640"/>
            <a:ext cx="7812360" cy="119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je podmět rodu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mužského neživotného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, píšeme v přísudku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-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ovéPole 4"/>
          <p:cNvSpPr/>
          <p:nvPr/>
        </p:nvSpPr>
        <p:spPr>
          <a:xfrm>
            <a:off x="1403280" y="3860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av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jásal</a:t>
            </a:r>
            <a:r>
              <a:rPr b="1" lang="cs-CZ" sz="20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Autobus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tartoval</a:t>
            </a:r>
            <a:r>
              <a:rPr b="1" lang="cs-CZ" sz="20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Talíř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padl</a:t>
            </a:r>
            <a:r>
              <a:rPr b="1" lang="cs-CZ" sz="2000" spc="-1" strike="noStrike">
                <a:solidFill>
                  <a:srgbClr val="0000ff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a zem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5"/>
          <p:cNvSpPr/>
          <p:nvPr/>
        </p:nvSpPr>
        <p:spPr>
          <a:xfrm>
            <a:off x="324000" y="765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Verdana"/>
              </a:rPr>
              <a:t>ROD MUŽSKÝ NEŽIVO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2"/>
          <p:cNvSpPr/>
          <p:nvPr/>
        </p:nvSpPr>
        <p:spPr>
          <a:xfrm>
            <a:off x="468360" y="76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ROD Ž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My PC\Plocha\vykříčník.jpg"/>
          <p:cNvPicPr/>
          <p:nvPr/>
        </p:nvPicPr>
        <p:blipFill>
          <a:blip r:embed="rId1"/>
          <a:stretch/>
        </p:blipFill>
        <p:spPr>
          <a:xfrm>
            <a:off x="395280" y="1700280"/>
            <a:ext cx="102888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4"/>
          <p:cNvSpPr/>
          <p:nvPr/>
        </p:nvSpPr>
        <p:spPr>
          <a:xfrm>
            <a:off x="1835280" y="1700280"/>
            <a:ext cx="60498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je podmět rodu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ženskéh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píšeme v přísudku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5"/>
          <p:cNvSpPr/>
          <p:nvPr/>
        </p:nvSpPr>
        <p:spPr>
          <a:xfrm>
            <a:off x="1476360" y="371628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ám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e klaněl</a:t>
            </a:r>
            <a:r>
              <a:rPr b="1" lang="cs-CZ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ívk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i vesele povídal</a:t>
            </a:r>
            <a:r>
              <a:rPr b="1" lang="cs-CZ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Kočk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eděl</a:t>
            </a:r>
            <a:r>
              <a:rPr b="1" lang="cs-CZ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a střeše a mňoukal</a:t>
            </a:r>
            <a:r>
              <a:rPr b="1" lang="cs-CZ" sz="20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2"/>
          <p:cNvSpPr/>
          <p:nvPr/>
        </p:nvSpPr>
        <p:spPr>
          <a:xfrm>
            <a:off x="468360" y="33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ROD 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My PC\Plocha\vykříčník.jpg"/>
          <p:cNvPicPr/>
          <p:nvPr/>
        </p:nvPicPr>
        <p:blipFill>
          <a:blip r:embed="rId1"/>
          <a:stretch/>
        </p:blipFill>
        <p:spPr>
          <a:xfrm>
            <a:off x="468360" y="1413000"/>
            <a:ext cx="1028520" cy="1076040"/>
          </a:xfrm>
          <a:prstGeom prst="rect">
            <a:avLst/>
          </a:prstGeom>
          <a:ln w="0">
            <a:noFill/>
          </a:ln>
        </p:spPr>
      </p:pic>
      <p:sp>
        <p:nvSpPr>
          <p:cNvPr id="85" name="TextovéPole 4"/>
          <p:cNvSpPr/>
          <p:nvPr/>
        </p:nvSpPr>
        <p:spPr>
          <a:xfrm>
            <a:off x="1835280" y="1125360"/>
            <a:ext cx="6984720" cy="1739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je podmětem podstatné jméno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rodu středního v množném čísl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píšeme v přísudku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5"/>
          <p:cNvSpPr/>
          <p:nvPr/>
        </p:nvSpPr>
        <p:spPr>
          <a:xfrm>
            <a:off x="2050920" y="306864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ěvčat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i hrál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Všechn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letadl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ezpečně přistál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Zvířat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e pásl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6"/>
          <p:cNvSpPr/>
          <p:nvPr/>
        </p:nvSpPr>
        <p:spPr>
          <a:xfrm>
            <a:off x="250920" y="4221000"/>
            <a:ext cx="86421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ítě, ucho, oko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→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děti, uši, oč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jednotném čísle rod střední, ale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 množném čísl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rod ženský, proto v přísudku píšeme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–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ět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skotač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Bole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mě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uš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Oč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se mu rozzářil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štěst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1-01-08T13:02:31Z</dcterms:modified>
  <cp:revision>151</cp:revision>
  <dc:subject/>
  <dc:title>POSLOUPNOSTI</dc:title>
</cp:coreProperties>
</file>