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7D5-E306-4E3E-B705-D5A82AB4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6C8-8B39-4CBD-A080-2B61C7D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C1C-7C81-449D-8573-D8454AB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CA1-0D7B-4080-99F3-60367A6A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12D-0833-4C21-A301-8CEE5002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C1B-3DF6-4B2C-852D-A5CB28F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A8C-D9AE-4B10-94D1-6FA2314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449-F8DB-4967-AE4A-817FFA3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B2F-628A-49DB-B209-FC2FA3B4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6FA-BFFC-4103-BF85-BA5D47A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09B-F230-4552-9629-DA4DED5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391-86F8-4B6F-A7F3-8B60793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B81-FBC3-4A45-882A-80FC3B33A63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D98-9ABA-4A5C-A5B8-F5CFAA8C0E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rirucka.ujc.cas.cz/?id=73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468360" y="198900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Skupiny souhláse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délka samohlás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516720" y="5589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G) u jmen cizího původu 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erg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erk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org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ur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urk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burgh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ing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ink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 před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ský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dsouvá koncové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gh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Heidelberg – heideberský, Nymburk – nymburský, New York - newyor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) přídavná jména od místních jmen 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ic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jí přípon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ick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ičk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ak přípon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ičsk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Hořice – hořický, Hořičky – hořičský, Police – polický, Polička - polič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) jména, která mají zakončení 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sk-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 přidává koncovk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ý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Rovensko – rovenský, Gdaňsk - gdaň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. Souhláskové skupiny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nikající při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stupňování přídavných jmen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a rozhraní slovotvorného základu slova a přípon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š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 zachovávaj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dražší, sušší, chudší, snazší, hladší, užší, hlub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 některých přídavných jmen n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ký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 2. a 3. stupeň zakončen n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hezčí, mělčí, trpčí, hebčí, břit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"/>
          <p:cNvSpPr/>
          <p:nvPr/>
        </p:nvSpPr>
        <p:spPr>
          <a:xfrm>
            <a:off x="2050920" y="1844640"/>
            <a:ext cx="50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 u="sng">
                <a:solidFill>
                  <a:srgbClr val="000000"/>
                </a:solidFill>
                <a:uFillTx/>
                <a:latin typeface="Verdana"/>
              </a:rPr>
              <a:t>Délka samohlás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saní ú / 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lišování mezi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 / ů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podmíněno historic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šechny samohlásky označují svou délku pouze čárkou – pouze u dlouhého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také kroužkem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Verdana"/>
              </a:rPr>
              <a:t>1. ú píš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197000"/>
            <a:ext cx="84470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) na začátku s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lí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měv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í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va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ysl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í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B) ve slovech odvozených po předponě a na začátku druhé části složen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astnit se, troj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elní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) v citoslov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vrk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cukr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) ve slov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oc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, f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e, m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, t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a, k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a, rag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sk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r, Por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Verdana"/>
              </a:rPr>
              <a:t>2. ů píš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A) uvnitř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st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, r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e, n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še, p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, m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, sv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B) v koncovkách některých pádů podstatných j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p. mn. č. – pán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muž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stroj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p. mn. č. – pán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, muž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, stroj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.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) u přídavných jmen přivlastňovacích v 1. p. j. č. rodu mužs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otc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, Karl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) v příslov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dom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dol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Střídání krátkých a dlouhých samohlásek při tvoření s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1. Podstatná jména – tvoření přípo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) Délka samohlásky základového slova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rodávat – prodavač, vysavač, pořadatel, rydlo, vinárna, palí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764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) Délka samohlásky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hráč, rýč, počítač, vypínač, řádkovač, rozprašovač, prádlo, ředidlo, ší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) Dlouhá i krátká samohlá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rozváděč – rozvaděč, slévač – slevač, odesílatel – odesilatel, umývadlo - umy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2. Podstatná jména – tvoření předpo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amohláska s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louž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o předponách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na-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i-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u-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-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ábřeží, příjmení, úsilí, výsluní, zákuli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 dějových podstatných jmen n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-ka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 samohláska v předponě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edlouž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pokud následuje dlouhá slab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abídka, přihláška, ukázka, zatá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vozování předponou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y-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rovází někdy změna samohlásek v základu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vyhrát – výhra, vybírat - výb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3. Přídavná jmé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836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) Délka samohlásky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 tvoření příponami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teln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sk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(c)k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c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okud se u nich neuplatňuje tendence délku neměn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élka samohlásky základového slova se mění při tvoření –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číst – čitelný, čáp – čapí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) Délka samohlásky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vnímatelný, nepřehlédnutelný, krokodýlí, skřivánčí, skřiv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) Krátká i dlouhá samohlá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obyvatelný – obývatelný, popiratelný - popírate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saní skupin souhlá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eze změ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 změ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Délka samohlá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saní ú / 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ídání krátkých a dlouhých samohlá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4. Slov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) Délka samohlásky základového slova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 tvoření sloves příponami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ov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.: hrábnout – hrabat, sahat, protahovat, mýdlo – mydlit, pytlák - pytlač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) Délka samohlásky v slovotvorném základu se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seknout – sekat, řada – řadit, půle - pů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) Dlouhá i krátká samohlá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střihat – stříhat, zdvíhat – zdvihat, osídlovat - osidl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prirucka.ujc.cas.cz/?id=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1403280" y="206064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 u="sng">
                <a:solidFill>
                  <a:srgbClr val="000000"/>
                </a:solidFill>
                <a:uFillTx/>
                <a:latin typeface="Verdana"/>
              </a:rPr>
              <a:t>Psaní skupin souhlás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Beze změ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ěkteré skupiny souhlásek se ve výslovnosti zjednodušují, pravopis ale zůstává beze změ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 kořenech 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rdce, dcera, džbán, který, švestka, hřebík,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i ohýb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kostce, matce, zahrádce,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15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. Při odvoz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A) Předpo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podzemní, předzpěv, oddálit, poddaný,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) Přípo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dětský, hrstka, tloušťka, babiččin, měkký,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nn-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tam, kde ke jménu, které má v základu písmeno -n- připojíme -ní / -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ráno – ra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í, kámen – kame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ý, víno - vi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v přídavných jménech složen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jednostra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ý, čtyřhra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ý, krátkovl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ý,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ve tvarech 2. a 3. stupň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nevinný – nevi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jší – nejnevi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jší, účinný – úči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ji, nejúči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v přídavném jménu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raný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= časný – rané bramb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v přídavných jménech odvozených od názvů zvířat – zakončených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n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ncovkou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jelení, havraní,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íšeme ve slovech odvozených příponam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ík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deník, ceník),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ice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vinice),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cen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62028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4. při sklád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zdvojené hlásky vyslovuj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A) jako jednoduché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denní, Anna – vyslovujeme jen s jedním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) jako zdvojené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v případech kdy by mohla nastat nejas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1763640" y="3357720"/>
            <a:ext cx="67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ejjasněj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ejas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řečč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křeček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řeč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kře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ec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pecka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e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p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acc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racek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ac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od r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laš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k plachý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laší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ke slovesu plaš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Se změn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e změnám v souhláskových skupinách dochází čast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ři odvozování přípon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. Před příponami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-ka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-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ď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ť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ň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zůstávají většinou beze zm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síťka, loďka, baň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) někdy se mění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ď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ť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ň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zeď – zídka, pečeně - pečín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) v některých spojeních dochází ke kolís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skříňka i skřín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 Souhláskové skupin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které vznikají při odvozování příponami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–sk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stv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-stv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se buď zjednoduší nebo zůstávají v nezjednodušené podob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) beze změny – skupiny po zakončení kořene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č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Přelouč – přeloučský – přelouč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š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Aš – ašský – aš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z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Francouz – francouzský – francouz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ž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Paříž – pařížský - paříž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) zjednodušují se skupiny po zakončení kořene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s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Brandýs – brandýský – brandý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c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Hradec – hradecký - hradeč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000" y="0"/>
            <a:ext cx="849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) mění se skupiny po zakončení kořene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k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Řek – řecký – řeč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h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Praha – pražský – praž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g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Kongo – konžský – konž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ch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Vlach – vlašský - vlašš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) beze změny zůstávají skupiny po zakončení kořene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ř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kovář – kovářský, moře – moř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-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velehory - velehor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) souhlásky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ď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ť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ň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e před přípono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ský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mě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Poděbrady – poděbradský, dítě – dětský, Kolín – kolínský, Náměšť – náměšťský, Vídeň - vídeň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) přídavná jména, která jsou odvozena přípono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ský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d místních jmen zakončených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nná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-nné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píšeme jen jedno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Jablonné – jablonský, Hostinné - hosti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2-04-25T22:22:04Z</dcterms:modified>
  <cp:revision>98</cp:revision>
  <dc:subject/>
  <dc:title>POSLOUPNOSTI</dc:title>
</cp:coreProperties>
</file>