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6F23-B44E-4F4B-BF72-EDA74112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F44-634E-4C8F-A176-12DA0890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84C-5CDA-49AC-94AF-A920935F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3EF-26C6-405E-BDB0-AB21C34F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211-5F1A-467F-8C33-23334EFA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FBB-9002-4293-8B70-6CC8FF36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892-7BEC-4FA7-A445-E49F6F7B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0B9-645D-4FD5-9487-A270E5BD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376-37BF-4B49-9733-F3E39FC5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CCD-D4E6-4816-9160-FB87793A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8BA-4984-4AE6-9C87-6A8CD872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7AF-2E6B-4409-AC0C-257EDA7E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BD6C-6287-4647-9317-0F73C8FD0D81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C56A-820E-44EF-B4CB-87A4E803D3E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1384200" y="27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avděpodobno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gr. Lenka Hruš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692360" y="476280"/>
            <a:ext cx="605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PRAVĎEPODOB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761040" y="1341360"/>
            <a:ext cx="7297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ývá se matematickými zákonitostmi náhodných pokusů, které plat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dostatečně velkém počtu těchto poku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množ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 možných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výsled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kusu              </a:t>
            </a:r>
            <a:r>
              <a:rPr b="0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á její podmnožina =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náhodný je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A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pravděpodobn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vu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načíme                            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P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jev jist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astane vždy)                                             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P(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jev nemožn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ikdy nenastane)                                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P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Ø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stává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aspoň jed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jevů A, B                              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stávají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  <a:ea typeface="Arial"/>
              </a:rPr>
              <a:t>o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vy A i B                                            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  <a:ea typeface="Arial"/>
              </a:rPr>
              <a:t>A∩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00000" y="476280"/>
            <a:ext cx="77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klasická definice pravděpodob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(A) 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m(A) = počet příznivých výsledků jev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= počet všech možných výsled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2195640" y="1125360"/>
                <a:ext cx="720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 Box 6"/>
          <p:cNvSpPr/>
          <p:nvPr/>
        </p:nvSpPr>
        <p:spPr>
          <a:xfrm>
            <a:off x="246240" y="2421000"/>
            <a:ext cx="637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á je pravděpodobnost výhry ve sport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(A) =                           n =                          P(A)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7,15.10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1116000" y="3357720"/>
                <a:ext cx="7192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3132000" y="3357720"/>
                <a:ext cx="48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9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Text Box 9"/>
          <p:cNvSpPr/>
          <p:nvPr/>
        </p:nvSpPr>
        <p:spPr>
          <a:xfrm>
            <a:off x="332280" y="4292640"/>
            <a:ext cx="857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ázíme dvěma kostkami. Jaká je pravděpodobnost, že padne aspoň jedna šest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(A) = 11  (6;1)(6;2)(6;3)(6;4)(6;5)(6;6)(1;6)(2;6)(3;6)(4;6)(5;6)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= 6.6 = 36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(A) =    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,306                30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0"/>
              <p:cNvSpPr txBox="1"/>
              <p:nvPr/>
            </p:nvSpPr>
            <p:spPr>
              <a:xfrm>
                <a:off x="3132000" y="5300640"/>
                <a:ext cx="316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05360" y="620640"/>
            <a:ext cx="770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PRAVDĚPODOBNOST OPAČNÉHO JE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jevu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opačný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A´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astane právě tehdy, když nenastane jev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pravděpodobnost je doplněk pravděpodobnosti výchozího jevu A d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(A´) = 1 – P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43240" y="3068640"/>
            <a:ext cx="6945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těžící má dvacet pokusů ve střelbě na terč. Úspěšný je 18 kr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á je pravděpodobnost úspěšného a neúspěšného pokus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(A)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(A´)=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= 20                             P(A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(A´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děpodobnost úspěšného pokusu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,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neúspěšnéh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0,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8"/>
              <p:cNvSpPr txBox="1"/>
              <p:nvPr/>
            </p:nvSpPr>
            <p:spPr>
              <a:xfrm>
                <a:off x="3995640" y="4292640"/>
                <a:ext cx="26640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,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3903840" y="4869000"/>
                <a:ext cx="27079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67040" y="692280"/>
            <a:ext cx="880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SČÍTÁNÍ PRAVDĚPODOB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U</a:t>
            </a:r>
            <a:r>
              <a:rPr b="1" lang="cs-CZ" sz="1800" spc="-1" strike="noStrike">
                <a:solidFill>
                  <a:srgbClr val="00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děpodobnost, že nastane jeden (A),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ruhý (B) j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ůže nastat buďto jev A, nebo jev B, nebo oba součas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vy A;B se  navzájem - vylučují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∩B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Ø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   P(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B) = P(A) + 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nevylučují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A∩B ≠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Ø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B) = P(A) + P(B) – P(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2160" y="3665520"/>
            <a:ext cx="804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osmi studentů, mezi kterými je Alex a Bohouš, vybereme tříčlenné družst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á je pravděpodobnost, že jmenovaní budou mezi vybraný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(A) =                P(B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vy se vzájemně nevylučují    P(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∩B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) = P(A) + P(B) – P(A∩B) =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,1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1258920" y="4724280"/>
                <a:ext cx="20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2916360" y="4724280"/>
                <a:ext cx="20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4716360" y="5013360"/>
                <a:ext cx="1104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95280" y="476280"/>
            <a:ext cx="83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NÁSOBENÍ PRAVDĚPODOB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66ff"/>
                </a:solidFill>
                <a:latin typeface="Arial"/>
                <a:ea typeface="Arial"/>
              </a:rPr>
              <a:t>∩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ZÁVISLÉ  JEV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stání jevu A nemá vliv na nastání či nenastání jevu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(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∩B) = P(A).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95280" y="299736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výrobcích se objevují dva druhy na sobě nezávislých vad. První vadu má 10% výrobků, druhou 15%. Jaká je pravděpodobnost, že výrobek je bez va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(A) = 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(A´) = 1-0,1 = 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(B) = 0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(B´) = 1-0,15 = 0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= 0,9.0,85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,765                      76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3560" y="333360"/>
            <a:ext cx="8161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                                        </a:t>
            </a: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BINOMICKÉ ROZ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BERNOULLIOVO SCHÉ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děpodobnost, že při n-násobném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ezávisl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pakování nast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v A právě k-kr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počet zdařilých poku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počet všech poku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pravděpodobnost, že všechny pok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ončí zd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pravděpodobnost, že všechny pok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ončí nezd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q =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395280" y="2421000"/>
                <a:ext cx="3240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Text Box 6"/>
          <p:cNvSpPr/>
          <p:nvPr/>
        </p:nvSpPr>
        <p:spPr>
          <a:xfrm>
            <a:off x="546120" y="3932280"/>
            <a:ext cx="824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 obsahuje 10 příkladů. Každý z nich má tři možné výsledky, z nichž jede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ávný. Jaká je pravděpodobnost, že vyberete 8 správných řeše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= 10;   k =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=    ;   q =     ;                 P(A) =                 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,00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1042920" y="5084640"/>
                <a:ext cx="139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1908000" y="508464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3924360" y="4941720"/>
                <a:ext cx="11840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2-05-09T09:09:40Z</dcterms:modified>
  <cp:revision>64</cp:revision>
  <dc:subject/>
  <dc:title>POSLOUPNOSTI</dc:title>
</cp:coreProperties>
</file>