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1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13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9.png" ContentType="image/png"/>
  <Override PartName="/ppt/media/image33.jpeg" ContentType="image/jpeg"/>
  <Override PartName="/ppt/media/image11.png" ContentType="image/png"/>
  <Override PartName="/ppt/media/image19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C0E-344A-45A4-87C6-7D6F96BA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768-1DC7-48E0-93B1-9F7B3CA9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3FF-F486-4BF2-B73F-ADC98AC4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5F4-E851-4845-BF8E-17BE7CA0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BEE-7C35-4708-9F5B-B3BBCB55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F2A-E88F-4152-8701-270CA925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97B-A0C7-48E6-BC31-5645D2E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A71-225E-4CB0-B310-8CB3F13D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6CB-0773-4291-A8ED-A3E4015D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8DF-310E-4976-AC88-5C7BBFC8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FE2-1E27-4AB1-879A-E936C96E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77E-36C6-42C3-B167-BC16C744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9465-04C7-4233-8E8D-119C414A22F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7B64-C7DE-4584-932D-CFBAFA3B51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tabulky.cz/images/kvadr.gif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oogle.cz/imgres?imgurl=http://tahaky.lam.cz/geom/krychle01.jpg&amp;imgrefurl=http://tahaky.lam.cz/geom08.html&amp;usg=__CB4UWQzO-vreRXko8yYy3m1ly38=&amp;h=185&amp;w=182&amp;sz=12&amp;hl=cs&amp;start=111&amp;zoom=0&amp;tbnid=inavzzVb6Pf5FM:&amp;tbnh=102&amp;tbnw=100&amp;prev=/images%3Fq%3Dkrychle%26start%3D100%26um%3D1%26hl%3Dcs%26sa%3DN%26rlz%3D1T4ADFA_csCZ368CZ368%26tbs%3Disch:1&amp;um=1&amp;itbs=1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hyperlink" Target="http://www.google.cz/imgres?imgurl=http://sf.zcu.cz/rocnik05/cislo02/cislo2.98/image12.gif&amp;imgrefurl=http://sf.zcu.cz/rocnik05/cislo02/cislo2.98/w_bronz.html&amp;usg=__W-8yb1QdxcQt9uWBUvMG7rfGRAo=&amp;h=276&amp;w=360&amp;sz=3&amp;hl=cs&amp;start=58&amp;zoom=1&amp;tbnid=0ELVzpLtVIrC6M:&amp;tbnh=93&amp;tbnw=121&amp;prev=/images%3Fq%3Dpravideln%25C3%25BD%2Bkolm%25C3%25BD%2Bhranol%26start%3D40%26hl%3Dcs%26sa%3DN%26gbv%3D2%26tbs%3Disch:1&amp;itbs=1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ahaky.lam.cz/geom/jehlan0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google.cz/imgres?imgurl=http://www.aristoteles.cz/matematika/stereometrie/jehlan.gif&amp;imgrefurl=http://www.aristoteles.cz/matematika/stereometrie/jehlan.php&amp;usg=__4Mvy1ajTuGA-KyDPWDkVTD_OAdI=&amp;h=337&amp;w=361&amp;sz=20&amp;hl=cs&amp;start=1&amp;zoom=1&amp;tbnid=sJ5W_Ps3b0RzEM:&amp;tbnh=113&amp;tbnw=121&amp;prev=/images%3Fq%3Djehlan%26hl%3Dcs%26gbv%3D2%26tbs%3Disch:1&amp;itbs=1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z/imgres?imgurl=http://www.zscholtice.cz/svs/lacko/matematika_6roc/krychlekvadr/obrazky/kvadr.gif&amp;imgrefurl=http://www.zscholtice.cz/svs/lacko/matematika_6roc/krychlekvadr/ucivo.html&amp;usg=__5mJBdohnKW9og0k1U-7ASErinEc=&amp;h=300&amp;w=406&amp;sz=13&amp;hl=cs&amp;start=3&amp;zoom=1&amp;tbnid=GRAFajQvxevsvM:&amp;tbnh=92&amp;tbnw=124&amp;prev=/images%3Fq%3Dobd%25C3%25A9ln%25C3%25ADk%26hl%3Dcs%26sa%3DN%26gbv%3D2%26tbs%3Disch:1&amp;itbs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z/imgres?imgurl=http://www.aristoteles.cz/matematika/stereometrie/valec.gif&amp;imgrefurl=http://www.aristoteles.cz/matematika/stereometrie/valec.php&amp;usg=__xQZ8eJPNsmMPqhn5Hcfg2HSPGc8=&amp;h=362&amp;w=219&amp;sz=16&amp;hl=cs&amp;start=3&amp;zoom=1&amp;tbnid=NxoxOV-Z9sWufM:&amp;tbnh=121&amp;tbnw=73&amp;prev=/images%3Fq%3Dv%25C3%25A1lec%26um%3D1%26hl%3Dcs%26sa%3DN%26rlz%3D1T4ADFA_csCZ368CZ368%26tbs%3Disch:1&amp;um=1&amp;itbs=1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google.cz/imgres?imgurl=http://www.aristoteles.cz/matematika/planimetrie/kruh.gif&amp;imgrefurl=http://www.aristoteles.cz/matematika/planimetrie/kruznice.php&amp;usg=__M71nd6KqxUVJT1EnvcwoSCmSPpA=&amp;h=365&amp;w=365&amp;sz=5&amp;hl=cs&amp;start=9&amp;zoom=1&amp;tbnid=dzRPQXNZd309UM:&amp;tbnh=121&amp;tbnw=121&amp;prev=/images%3Fq%3Dkruh%26hl%3Dcs%26sa%3DN%26gbv%3D2%26tbs%3Disch:1&amp;itbs=1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google.cz/imgres?imgurl=http://www.aristoteles.cz/matematika/stereometrie/kuzel.gif&amp;imgrefurl=http://www.aristoteles.cz/matematika/stereometrie/kuzel.php&amp;h=392&amp;w=357&amp;sz=22&amp;tbnid=rv6ULH-dOjl-dM:&amp;tbnh=123&amp;tbnw=112&amp;prev=/images%3Fq%3Dku%25C5%25BEel&amp;zoom=1&amp;q=ku&#382;el&amp;hl=cs&amp;usg=__r--2hylhz7dnVrrOzAPVHVJWrj8=&amp;sa=X&amp;ei=bmIHTbzdNMGx8gOuyYg8&amp;ved=0CA8Q9QEwAA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ballew.net/" TargetMode="External"/><Relationship Id="rId2" Type="http://schemas.openxmlformats.org/officeDocument/2006/relationships/hyperlink" Target="http://www.asiact.org/" TargetMode="External"/><Relationship Id="rId3" Type="http://schemas.openxmlformats.org/officeDocument/2006/relationships/hyperlink" Target="http://www.asiact.org/" TargetMode="External"/><Relationship Id="rId4" Type="http://schemas.openxmlformats.org/officeDocument/2006/relationships/hyperlink" Target="http://www.asiact.org/" TargetMode="External"/><Relationship Id="rId5" Type="http://schemas.openxmlformats.org/officeDocument/2006/relationships/hyperlink" Target="http://www.asiact.org/" TargetMode="External"/><Relationship Id="rId6" Type="http://schemas.openxmlformats.org/officeDocument/2006/relationships/hyperlink" Target="http://www.anselm.edu/" TargetMode="External"/><Relationship Id="rId7" Type="http://schemas.openxmlformats.org/officeDocument/2006/relationships/hyperlink" Target="http://kunsthandelinezstodel.wordpress.com/category/gems/" TargetMode="External"/><Relationship Id="rId8" Type="http://schemas.openxmlformats.org/officeDocument/2006/relationships/hyperlink" Target="http://kunsthandelinezstodel.wordpress.com/category/gems/" TargetMode="External"/><Relationship Id="rId9" Type="http://schemas.openxmlformats.org/officeDocument/2006/relationships/hyperlink" Target="http://kunsthandelinezstodel.wordpress.com/category/gems/" TargetMode="External"/><Relationship Id="rId10" Type="http://schemas.openxmlformats.org/officeDocument/2006/relationships/hyperlink" Target="http://kunsthandelinezstodel.wordpress.com/category/gems/" TargetMode="External"/><Relationship Id="rId11" Type="http://schemas.openxmlformats.org/officeDocument/2006/relationships/hyperlink" Target="http://kunsthandelinezstodel.wordpress.com/category/gems/" TargetMode="External"/><Relationship Id="rId12" Type="http://schemas.openxmlformats.org/officeDocument/2006/relationships/hyperlink" Target="http://www.math.uiowa.edu/" TargetMode="External"/><Relationship Id="rId13" Type="http://schemas.openxmlformats.org/officeDocument/2006/relationships/hyperlink" Target="http://gwydir.demon.co.uk/jo/solid/cube.htm" TargetMode="External"/><Relationship Id="rId14" Type="http://schemas.openxmlformats.org/officeDocument/2006/relationships/hyperlink" Target="http://gwydir.demon.co.uk/jo/solid/cube.htm" TargetMode="External"/><Relationship Id="rId15" Type="http://schemas.openxmlformats.org/officeDocument/2006/relationships/hyperlink" Target="http://gwydir.demon.co.uk/jo/solid/cube.htm" TargetMode="External"/><Relationship Id="rId16" Type="http://schemas.openxmlformats.org/officeDocument/2006/relationships/hyperlink" Target="http://gwydir.demon.co.uk/jo/solid/cube.htm" TargetMode="External"/><Relationship Id="rId17" Type="http://schemas.openxmlformats.org/officeDocument/2006/relationships/hyperlink" Target="http://gwydir.demon.co.uk/jo/solid/cube.htm" TargetMode="External"/><Relationship Id="rId18" Type="http://schemas.openxmlformats.org/officeDocument/2006/relationships/hyperlink" Target="http://www.math.wichita.edu/" TargetMode="External"/><Relationship Id="rId19" Type="http://schemas.openxmlformats.org/officeDocument/2006/relationships/hyperlink" Target="http://reh.math.uni-duesseldorf.de/~ag/LA1_SS06/vorlesung_SS06.html" TargetMode="External"/><Relationship Id="rId20" Type="http://schemas.openxmlformats.org/officeDocument/2006/relationships/hyperlink" Target="http://reh.math.uni-duesseldorf.de/~ag/LA1_SS06/vorlesung_SS06.html" TargetMode="External"/><Relationship Id="rId21" Type="http://schemas.openxmlformats.org/officeDocument/2006/relationships/hyperlink" Target="http://reh.math.uni-duesseldorf.de/~ag/LA1_SS06/vorlesung_SS06.html" TargetMode="External"/><Relationship Id="rId22" Type="http://schemas.openxmlformats.org/officeDocument/2006/relationships/hyperlink" Target="http://reh.math.uni-duesseldorf.de/~ag/LA1_SS06/vorlesung_SS06.html" TargetMode="External"/><Relationship Id="rId23" Type="http://schemas.openxmlformats.org/officeDocument/2006/relationships/hyperlink" Target="http://reh.math.uni-duesseldorf.de/~ag/LA1_SS06/vorlesung_SS06.html" TargetMode="External"/><Relationship Id="rId24" Type="http://schemas.openxmlformats.org/officeDocument/2006/relationships/hyperlink" Target="http://reh.math.uni-duesseldorf.de/~ag/LA1_SS06/vorlesung_SS06.html" TargetMode="External"/><Relationship Id="rId25" Type="http://schemas.openxmlformats.org/officeDocument/2006/relationships/hyperlink" Target="http://reh.math.uni-duesseldorf.de/~ag/LA1_SS06/vorlesung_SS06.html" TargetMode="External"/><Relationship Id="rId26" Type="http://schemas.openxmlformats.org/officeDocument/2006/relationships/hyperlink" Target="http://reh.math.uni-duesseldorf.de/~ag/LA1_SS06/vorlesung_SS06.html" TargetMode="External"/><Relationship Id="rId27" Type="http://schemas.openxmlformats.org/officeDocument/2006/relationships/hyperlink" Target="http://pikomat.mff.cuni.cz/archiv/rocnik17/vz2.html" TargetMode="External"/><Relationship Id="rId28" Type="http://schemas.openxmlformats.org/officeDocument/2006/relationships/hyperlink" Target="http://pikomat.mff.cuni.cz/archiv/rocnik17/vz2.html" TargetMode="External"/><Relationship Id="rId29" Type="http://schemas.openxmlformats.org/officeDocument/2006/relationships/hyperlink" Target="http://pikomat.mff.cuni.cz/archiv/rocnik17/vz2.html" TargetMode="External"/><Relationship Id="rId30" Type="http://schemas.openxmlformats.org/officeDocument/2006/relationships/hyperlink" Target="http://pikomat.mff.cuni.cz/archiv/rocnik17/vz2.html" TargetMode="External"/><Relationship Id="rId31" Type="http://schemas.openxmlformats.org/officeDocument/2006/relationships/hyperlink" Target="http://pikomat.mff.cuni.cz/archiv/rocnik17/vz2.html" TargetMode="External"/><Relationship Id="rId32" Type="http://schemas.openxmlformats.org/officeDocument/2006/relationships/hyperlink" Target="http://pikomat.mff.cuni.cz/archiv/rocnik17/vz2.html" TargetMode="External"/><Relationship Id="rId33" Type="http://schemas.openxmlformats.org/officeDocument/2006/relationships/hyperlink" Target="http://pikomat.mff.cuni.cz/archiv/rocnik17/vz2.html" TargetMode="External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h.math.uni-duesseldorf.de/~ag/ikosaeder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zscholtice.cz/svs/lacko/matematika_6roc/krychlekvadr/obrazky/kvadr.gif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48000" y="2682720"/>
            <a:ext cx="43642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REOME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RCHY A OBJ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r. Lenka Hru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2960" y="333360"/>
            <a:ext cx="79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zorce pro výpočet objemu a povrchu nejzákladnějších hranol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" y="1360440"/>
            <a:ext cx="591984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VÁD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V =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v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 = a.b.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= 2.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2ab + 2(a+b)v = 2ab+2(a+b)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= 2ab+2ac+2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 = 2(ab+ac+b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Zobrazit obrázek v plné velikost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197000"/>
            <a:ext cx="2592360" cy="1814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5920" y="4221000"/>
            <a:ext cx="40910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RYCHLE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V =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v = a.a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 = a</a:t>
            </a:r>
            <a:r>
              <a:rPr b="0" lang="cs-CZ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= 2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2a.a+4a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 = 6a</a:t>
            </a:r>
            <a:r>
              <a:rPr b="0" lang="cs-CZ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3789360"/>
            <a:ext cx="2012760" cy="20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32720" y="836640"/>
            <a:ext cx="2279520" cy="1709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4400" y="404640"/>
            <a:ext cx="63500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RAVIDELNÝ N-BOKÝ HR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=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 = n.S</a:t>
            </a:r>
            <a:r>
              <a:rPr b="0" lang="cs-CZ" sz="2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n = počet bo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obsah trojúhelníku v pods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= 2.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cs-CZ" sz="2800" spc="-1" strike="noStrike" baseline="-25000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= 2n.S</a:t>
            </a:r>
            <a:r>
              <a:rPr b="0" lang="cs-CZ" sz="2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+ O</a:t>
            </a:r>
            <a:r>
              <a:rPr b="0" lang="cs-CZ" sz="28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obvod pod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n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1584360" cy="1488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677440" y="6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45440" y="1916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9360" y="30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75360" y="33336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.:pravidelný 5-boký hr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5108400"/>
            <a:ext cx="1872000" cy="1438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33040" y="5013360"/>
            <a:ext cx="36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ší příklady pravidelných hrano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042920" y="5300640"/>
            <a:ext cx="1038240" cy="127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47280" y="404640"/>
            <a:ext cx="52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zorce pro výpočet objemu a povrchu jehl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2480" y="1197000"/>
            <a:ext cx="7343640" cy="27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JEHL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 = 1/3S</a:t>
            </a:r>
            <a:r>
              <a:rPr b="0" lang="cs-CZ" sz="28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Sp = obsah pod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varu obraz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rojúhelník, čtvere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 = S</a:t>
            </a:r>
            <a:r>
              <a:rPr b="0" lang="cs-CZ" sz="28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+ n.S</a:t>
            </a:r>
            <a:r>
              <a:rPr b="0" lang="cs-CZ" sz="2800" spc="-1" strike="noStrike" baseline="-25000">
                <a:solidFill>
                  <a:srgbClr val="ff0000"/>
                </a:solidFill>
                <a:latin typeface="Arial"/>
              </a:rPr>
              <a:t>t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= počet bočních stě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obsah trojúhelní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ční stě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Zobrazit obrázek v plné velikost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365720"/>
            <a:ext cx="1652400" cy="146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4724280"/>
            <a:ext cx="1152360" cy="1076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084720" y="4365720"/>
            <a:ext cx="1895760" cy="144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3789360"/>
            <a:ext cx="3240000" cy="2403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89240" y="1916280"/>
            <a:ext cx="569016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VÁLE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-rotuje obdélník o stranách r,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kolo tělesové výš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=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 =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cs-CZ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  <a:ea typeface="Arial"/>
              </a:rPr>
              <a:t>.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= 2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v = 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  <a:ea typeface="Arial"/>
              </a:rPr>
              <a:t>S = 2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  <a:ea typeface="Arial"/>
              </a:rPr>
              <a:t>r(r + v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076640"/>
            <a:ext cx="1520640" cy="2521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74480" y="333360"/>
            <a:ext cx="70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zorce pro výpočet objemu a povrchu rotačních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ční tělesa vzniknou rotací rovinného útvaru okolo tělesové výš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472428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658480" y="5877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52760" y="524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5292720" y="1125360"/>
            <a:ext cx="3384720" cy="256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11640" y="3068640"/>
            <a:ext cx="3124080" cy="297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74840" y="260280"/>
            <a:ext cx="780372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UŽE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tuje pravoúhlý trojúhelník o odvěsnách r,v okolo tělesové výš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= 1/3Sp.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 = 1/3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cs-CZ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  <a:ea typeface="Arial"/>
              </a:rPr>
              <a:t>.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=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s: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s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  <a:ea typeface="Arial"/>
              </a:rPr>
              <a:t>S =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cs-CZ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  <a:ea typeface="Arial"/>
              </a:rPr>
              <a:t> +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  <a:ea typeface="Arial"/>
              </a:rPr>
              <a:t>rs =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  <a:ea typeface="Arial"/>
              </a:rPr>
              <a:t>r(r + s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3213000"/>
            <a:ext cx="1851120" cy="2048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78944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372360" y="836640"/>
            <a:ext cx="2592360" cy="218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44680" y="620640"/>
            <a:ext cx="34635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OULE, kulová plo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tuje polokruh okolo průmě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V = 4/3</a:t>
            </a:r>
            <a:r>
              <a:rPr b="0" lang="el-GR" sz="2800" spc="-1" strike="noStrike">
                <a:solidFill>
                  <a:srgbClr val="0066ff"/>
                </a:solidFill>
                <a:latin typeface="Arial"/>
                <a:ea typeface="Arial"/>
              </a:rPr>
              <a:t>π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  <a:ea typeface="Arial"/>
              </a:rPr>
              <a:t>r</a:t>
            </a:r>
            <a:r>
              <a:rPr b="0" lang="cs-CZ" sz="28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  <a:ea typeface="Arial"/>
              </a:rPr>
              <a:t>S = 4</a:t>
            </a:r>
            <a:r>
              <a:rPr b="0" lang="el-GR" sz="2800" spc="-1" strike="noStrike">
                <a:solidFill>
                  <a:srgbClr val="0066ff"/>
                </a:solidFill>
                <a:latin typeface="Arial"/>
                <a:ea typeface="Arial"/>
              </a:rPr>
              <a:t>π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  <a:ea typeface="Arial"/>
              </a:rPr>
              <a:t>r</a:t>
            </a:r>
            <a:r>
              <a:rPr b="0" lang="cs-CZ" sz="28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0" y="2852640"/>
            <a:ext cx="410508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1280" y="620640"/>
            <a:ext cx="871740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ÁSTI K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ULOVÁ ÚSE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ULOVÁ V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V = </a:t>
            </a:r>
            <a:r>
              <a:rPr b="0" lang="el-GR" sz="2800" spc="-1" strike="noStrike">
                <a:solidFill>
                  <a:srgbClr val="0066ff"/>
                </a:solidFill>
                <a:latin typeface="Arial"/>
                <a:ea typeface="Arial"/>
              </a:rPr>
              <a:t>π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  <a:ea typeface="Arial"/>
              </a:rPr>
              <a:t>v/6(3</a:t>
            </a:r>
            <a:r>
              <a:rPr b="0" lang="el-GR" sz="2800" spc="-1" strike="noStrike">
                <a:solidFill>
                  <a:srgbClr val="0066ff"/>
                </a:solidFill>
                <a:latin typeface="Arial"/>
                <a:ea typeface="Arial"/>
              </a:rPr>
              <a:t>ρ</a:t>
            </a:r>
            <a:r>
              <a:rPr b="0" lang="cs-CZ" sz="28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  <a:ea typeface="Arial"/>
              </a:rPr>
              <a:t> +v</a:t>
            </a:r>
            <a:r>
              <a:rPr b="0" lang="cs-CZ" sz="28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j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V = </a:t>
            </a:r>
            <a:r>
              <a:rPr b="0" lang="el-GR" sz="2800" spc="-1" strike="noStrike">
                <a:solidFill>
                  <a:srgbClr val="0066ff"/>
                </a:solidFill>
                <a:latin typeface="Arial"/>
                <a:ea typeface="Arial"/>
              </a:rPr>
              <a:t>π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  <a:ea typeface="Arial"/>
              </a:rPr>
              <a:t>v/6(3</a:t>
            </a:r>
            <a:r>
              <a:rPr b="0" lang="el-GR" sz="2800" spc="-1" strike="noStrike">
                <a:solidFill>
                  <a:srgbClr val="0066ff"/>
                </a:solidFill>
                <a:latin typeface="Arial"/>
                <a:ea typeface="Arial"/>
              </a:rPr>
              <a:t>ρ</a:t>
            </a:r>
            <a:r>
              <a:rPr b="0" lang="cs-CZ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1</a:t>
            </a:r>
            <a:r>
              <a:rPr b="0" lang="cs-CZ" sz="28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2 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  <a:ea typeface="Arial"/>
              </a:rPr>
              <a:t>+ 3</a:t>
            </a:r>
            <a:r>
              <a:rPr b="0" lang="el-GR" sz="2800" spc="-1" strike="noStrike">
                <a:solidFill>
                  <a:srgbClr val="0066ff"/>
                </a:solidFill>
                <a:latin typeface="Arial"/>
                <a:ea typeface="Arial"/>
              </a:rPr>
              <a:t>ρ</a:t>
            </a:r>
            <a:r>
              <a:rPr b="0" lang="cs-CZ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cs-CZ" sz="28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  <a:ea typeface="Arial"/>
              </a:rPr>
              <a:t> + v</a:t>
            </a:r>
            <a:r>
              <a:rPr b="0" lang="cs-CZ" sz="28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2521080" cy="1584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1476360" y="4221000"/>
            <a:ext cx="1051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ÁSTI KULOVÉ PLOCH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VRCHLÍK                                                                     KULOVÝ PÁS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ov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516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S = 2</a:t>
            </a:r>
            <a:r>
              <a:rPr b="0" lang="el-GR" sz="2800" spc="-1" strike="noStrike">
                <a:solidFill>
                  <a:srgbClr val="0066ff"/>
                </a:solidFill>
                <a:latin typeface="Arial"/>
              </a:rPr>
              <a:t>π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867280" y="2637000"/>
            <a:ext cx="2665440" cy="197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8360" y="549360"/>
            <a:ext cx="7706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zorce pro výpočet objemu a povrchu komolých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TAČNÍ KOMOLÝ KUŽ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otuje pravoúhlý lichoběžník se základnami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kolo kolmého ramene v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400560" cy="2895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9640" y="2852640"/>
                <a:ext cx="36799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πv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11280" y="4653000"/>
                <a:ext cx="2158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11280" y="5300640"/>
                <a:ext cx="4824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π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8360" y="1989000"/>
                <a:ext cx="280836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94000" y="5684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OMOLÝ JEH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940360" y="2997360"/>
            <a:ext cx="2737080" cy="2023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00720" y="907920"/>
            <a:ext cx="1944720" cy="155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55640" y="3860640"/>
                <a:ext cx="4032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55640" y="1484280"/>
                <a:ext cx="39607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46520" y="5157720"/>
            <a:ext cx="8515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lášť je tvořen lichoběžníky (u pravidelného n-bokého komolého jehlanu pláš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 n shodných rovnoramenných lichoběžníků stejného obsahu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n.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70880" y="4762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tyřboký komolý jeh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70120" y="2565360"/>
            <a:ext cx="35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videlný pětiboký komolý jeh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48680" y="476280"/>
            <a:ext cx="4045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ballew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iact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anselm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kunsthandelinezstodel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ordpres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math.uiow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gwydir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demon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co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math.wichit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reh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math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un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-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duesseldorf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d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pikomat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mff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cun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bsolventi.gymcheb.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oskole.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s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haky.lam.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um.matweb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aristoteles.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1600" y="641520"/>
            <a:ext cx="629640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EOMETRICKÉ TĚL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ostorový omezený út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pov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(hranicí) je uzavřená plocha – značíme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tky - odvozené od metru čtverečného (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obj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velikost prostoru, kterou těleso zabírá – značíme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tky - odvozené od metru krychlového (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dvozené od litru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OHOSTĚ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1000" y="1628640"/>
            <a:ext cx="862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uje právě pět pravidelných mnohostěnů (stěny jsou pravidelné mnohoúhelní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ČTYŘSTĚN (TETRAED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rch tvoří 4 shodné rovnostranné trojúhel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3357720"/>
            <a:ext cx="2381040" cy="227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4000" y="2924280"/>
            <a:ext cx="2897280" cy="321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6640" y="496800"/>
            <a:ext cx="45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ŠESTISTĚN (hexaed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krychle – povrch tvoří 6 shodných čtver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417840" cy="3211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442944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45040" y="692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SMISTĚN (oktae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povrch tvoří 8 shodných rovnostranných trojúhe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976720" cy="363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84720" y="333360"/>
            <a:ext cx="285768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10120" y="692280"/>
            <a:ext cx="54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VANÁCTISTĚN (dadekae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povrch tvoří 12 shodných pravidelných pětiúhe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2695320" cy="261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3564000" cy="525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9400" y="76500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VACETISTĚN (ikosae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povrch tvoří 20 rovnostranných shodných trojúhe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Ikosae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341360"/>
            <a:ext cx="2147760" cy="2148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5184720" cy="245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8640" y="450720"/>
            <a:ext cx="81147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VLÁŠTNÍ PŘÍPADY MNOHOSTĚ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RAN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á dvě shodné podstavy, které leží v rovnoběžných roviná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dálenost podstav =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v = výš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ran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pláš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voří ostatní stěny (rovnoběžníky) hranol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ázev hranolu je odvozen podle počtu stěn (trojboký, čtyřboký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olmý hran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á roviny stěn kolmé k rovinám pod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je-li podstavou kolmého hranolu pravidelný n-úhelník, j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hranol pravidel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čtyřboký hranol, jehož podstavou je rovnoběžník, se nazýv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rovnoběžnostě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kolmý rovnoběžnostěn, jehož podstavou je pravoúhelník se nazý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VÁ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kolmý hranol, jehož všechny stěny jsou shodné čtverce se nazý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RYCH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7280" y="639720"/>
            <a:ext cx="4885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kladní vzorce pro výpočet objemu a povr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mé hrano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400" y="1773360"/>
            <a:ext cx="462636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jem:             V = 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vrch:           S = 2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obsah pod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= tělesová vý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obsah pláště       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ášť rozvineme do roviny-vznikne obdélní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ž jednou stranou je obvod podstavy  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druhou stranou tělesová výška 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Zobrazit obrázek v plné velikost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3357720"/>
            <a:ext cx="3241800" cy="24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615720" y="5589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58160" y="465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ABINET-413</cp:lastModifiedBy>
  <dcterms:modified xsi:type="dcterms:W3CDTF">2011-01-18T12:14:31Z</dcterms:modified>
  <cp:revision>46</cp:revision>
  <dc:subject/>
  <dc:title>POSLOUPNOSTI</dc:title>
</cp:coreProperties>
</file>