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842-493B-4914-A94F-66D18BD4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250-72B7-4F91-BE41-ACA88948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E76-38D1-4E48-A16C-5E1BC502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35D-B3A5-4C8F-AD08-BD293F8E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2CD-E9FC-4A0B-A892-EFB58FD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D25-9643-4EEB-BE54-2E7FF88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717-F014-4595-B9FA-7FF094D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714-B41C-47C6-9497-629D3153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580-2C16-43B0-A2F6-20FE1DF8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2F3-2CBC-4AC2-A84C-DA9BEB3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655-6ABC-4871-854E-0412004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CBA-65FB-4A41-B0EC-78008BD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8B6-329C-4757-BF52-1E542D3DAD2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955-4227-46BC-B8F3-7B270B1296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aritmus, logaritmické a exponenciální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OGA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760" y="170028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garitmus čísla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66ff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66ff"/>
                </a:solidFill>
                <a:latin typeface="Shruti"/>
                <a:ea typeface="Shrut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Shruti"/>
                <a:ea typeface="Shrut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při základu 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  <a:ea typeface="Shruti"/>
              </a:rPr>
              <a:t>a</a:t>
            </a:r>
            <a:r>
              <a:rPr b="0" lang="en-US" sz="1800" spc="-1" strike="noStrike">
                <a:solidFill>
                  <a:srgbClr val="0066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6600"/>
                </a:solidFill>
                <a:latin typeface="Shruti"/>
                <a:ea typeface="Shrut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Shruti"/>
                <a:ea typeface="Shruti"/>
              </a:rPr>
              <a:t>,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  <a:ea typeface="Shruti"/>
              </a:rPr>
              <a:t>a≠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 je takové číslo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Shruti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, jímž musíme umoc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daný základ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  <a:ea typeface="Shrut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, abychom dostali číslo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  <a:ea typeface="Shrut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10960" y="3141720"/>
            <a:ext cx="530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cs-CZ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6600"/>
                </a:solidFill>
                <a:latin typeface="Shruti"/>
                <a:ea typeface="Shruti"/>
              </a:rPr>
              <a:t>&gt;</a:t>
            </a:r>
            <a:r>
              <a:rPr b="0" lang="cs-CZ" sz="3200" spc="-1" strike="noStrike">
                <a:solidFill>
                  <a:srgbClr val="006600"/>
                </a:solidFill>
                <a:latin typeface="Shruti"/>
                <a:ea typeface="Shruti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Shruti"/>
                <a:ea typeface="Shruti"/>
              </a:rPr>
              <a:t>, 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  <a:ea typeface="Shruti"/>
              </a:rPr>
              <a:t>a≠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66ff"/>
                </a:solidFill>
                <a:latin typeface="Arial"/>
                <a:ea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cs-CZ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5280" y="479520"/>
            <a:ext cx="51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VLASTNOSTI  LOGARITMU pro základ a</a:t>
            </a:r>
            <a:r>
              <a:rPr b="0" lang="en-US" sz="1800" spc="-1" strike="noStrike">
                <a:solidFill>
                  <a:srgbClr val="ff33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ff3300"/>
                </a:solidFill>
                <a:latin typeface="Shruti"/>
                <a:ea typeface="Shruti"/>
              </a:rPr>
              <a:t>0,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Shruti"/>
              </a:rPr>
              <a:t>a≠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5840" y="1216080"/>
            <a:ext cx="69476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/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/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/  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/  logaritmus součinu výrazů            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garitmus podílu výrazů               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=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garitmus mocniny                       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k.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42920" y="227664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932360" y="3357720"/>
                <a:ext cx="279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06240" y="4889520"/>
            <a:ext cx="3975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kadický logaritmus      logx =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rozený logaritmus         lnx =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garitmické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840" y="1720800"/>
            <a:ext cx="830088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Základní logaritmická rovni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x =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ravíme dle definice na tvar                   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2400" spc="-1" strike="noStrike" baseline="30000">
                <a:solidFill>
                  <a:srgbClr val="ff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= 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2200" y="3933720"/>
            <a:ext cx="5767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         log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-3x) = 3               p : 2-3x 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-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 = -2                        x </a:t>
            </a:r>
            <a:r>
              <a:rPr b="1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Rectangle 3"/>
              <p:cNvSpPr txBox="1"/>
              <p:nvPr/>
            </p:nvSpPr>
            <p:spPr>
              <a:xfrm>
                <a:off x="5651640" y="4292640"/>
                <a:ext cx="269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6040" y="1123920"/>
            <a:ext cx="55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Použití sub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x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720" y="2997360"/>
            <a:ext cx="72424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         3log(x+1) – log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+1) = 0         p: x+1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Shruti"/>
                <a:ea typeface="Shruti"/>
              </a:rPr>
              <a:t>0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substituce                         log(x+1) = 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z – z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(3-z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0         log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1) = 0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3         log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1) = 3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2924280"/>
                <a:ext cx="360972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9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36120" y="981000"/>
            <a:ext cx="7832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Rovnice upravitelné na tv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f(x) = log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g(x) 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f(x) = 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7160" y="213372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7480" y="2852640"/>
            <a:ext cx="17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: x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onenciální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3600" y="1573200"/>
            <a:ext cx="79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ovnice, ve které se neznámá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 vyskytuje v exponentu nějaké moc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4920" y="2435400"/>
            <a:ext cx="7068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Základní rovn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a 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g(x)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f(x) =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ají-li se základy mocnin, rovnají se jejich expone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Rectangle 3"/>
              <p:cNvSpPr txBox="1"/>
              <p:nvPr/>
            </p:nvSpPr>
            <p:spPr>
              <a:xfrm>
                <a:off x="2195640" y="3716280"/>
                <a:ext cx="2303280" cy="27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66000" y="639720"/>
            <a:ext cx="65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Rovnice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0" lang="cs-CZ" sz="2400" spc="-1" strike="noStrike" baseline="30000">
                <a:solidFill>
                  <a:srgbClr val="ff3300"/>
                </a:solidFill>
                <a:latin typeface="Arial"/>
              </a:rPr>
              <a:t>f(x)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 = b </a:t>
            </a:r>
            <a:r>
              <a:rPr b="0" lang="cs-CZ" sz="2400" spc="-1" strike="noStrike" baseline="30000">
                <a:solidFill>
                  <a:srgbClr val="ff33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30000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f(x).loga = g(x).logb</a:t>
            </a:r>
            <a:r>
              <a:rPr b="0" lang="cs-CZ" sz="1800" spc="-1" strike="noStrike" baseline="30000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440" y="1216080"/>
            <a:ext cx="28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íme logaritmov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40000" y="2205000"/>
                <a:ext cx="300204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86</m:t>
                                </m:r>
                                <m:r>
                                  <m:t xml:space="preserve"> 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0520" y="619200"/>
            <a:ext cx="58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oužití substit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3440" y="1628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60720" y="1773360"/>
                <a:ext cx="572616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Ř</m:t>
                                </m:r>
                              </m:e>
                            </m:bar>
                          </m:e>
                        </m:ba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Ř</m:t>
                                </m:r>
                              </m:e>
                            </m:bar>
                          </m:e>
                        </m:ba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11-03T10:31:28Z</dcterms:modified>
  <cp:revision>41</cp:revision>
  <dc:subject/>
  <dc:title>POSLOUPNOSTI</dc:title>
</cp:coreProperties>
</file>