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4B80-BBB7-46F8-93B6-D461AAD1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A2B-471A-415E-9B49-108B8D4A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02B-9885-4568-81BE-946A893F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1457-F546-4E41-AA1D-ECCDC139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A4E7-A8A2-4338-A7BB-A37A9F42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01D4-B918-4CB7-89CB-6C4CC691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B59D-C5B9-4106-8AED-C748F432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B34-3C93-47E1-835E-91D342B9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B30-C1DA-496A-936C-EC1F8C49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E142-04F6-45B3-82C7-07630516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2DA-870B-494E-9E71-8613706B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DF4E-B867-4495-A3FB-C9E1CB32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F6BB-A9BA-45E1-B0A3-89F13BE519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40B2-18CE-480E-97E1-089170833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87280" y="2349360"/>
            <a:ext cx="7056720" cy="208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alytická geometrie III.</a:t>
            </a:r>
            <a:endParaRPr b="0" lang="en-US" sz="1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915520" y="5589720"/>
            <a:ext cx="145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. Telingerov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124000" y="4005360"/>
            <a:ext cx="540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olohové a metrické vztahy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ovéPole 1"/>
          <p:cNvSpPr/>
          <p:nvPr/>
        </p:nvSpPr>
        <p:spPr>
          <a:xfrm>
            <a:off x="2874240" y="714240"/>
            <a:ext cx="33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rial"/>
              </a:rPr>
              <a:t>Přímka leží v rovi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ázek 2" descr="p_r_toto.jpg"/>
          <p:cNvPicPr/>
          <p:nvPr/>
        </p:nvPicPr>
        <p:blipFill>
          <a:blip r:embed="rId1"/>
          <a:stretch/>
        </p:blipFill>
        <p:spPr>
          <a:xfrm>
            <a:off x="2674800" y="1287360"/>
            <a:ext cx="3794400" cy="42832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ovéPole 1"/>
          <p:cNvSpPr/>
          <p:nvPr/>
        </p:nvSpPr>
        <p:spPr>
          <a:xfrm>
            <a:off x="1177560" y="714240"/>
            <a:ext cx="67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rial"/>
              </a:rPr>
              <a:t>Přímka má  s rovinou jeden společný b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ázek 2" descr="p_r_ruzno.jpg"/>
          <p:cNvPicPr/>
          <p:nvPr/>
        </p:nvPicPr>
        <p:blipFill>
          <a:blip r:embed="rId1"/>
          <a:srcRect l="0" t="0" r="0" b="36584"/>
          <a:stretch/>
        </p:blipFill>
        <p:spPr>
          <a:xfrm>
            <a:off x="2214720" y="1571760"/>
            <a:ext cx="4786200" cy="46893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ovéPole 5"/>
          <p:cNvSpPr/>
          <p:nvPr/>
        </p:nvSpPr>
        <p:spPr>
          <a:xfrm>
            <a:off x="537840" y="428760"/>
            <a:ext cx="705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Vzájemná poloha dvou rov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v prost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6"/>
          <p:cNvSpPr/>
          <p:nvPr/>
        </p:nvSpPr>
        <p:spPr>
          <a:xfrm>
            <a:off x="522360" y="3786120"/>
            <a:ext cx="786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viny jsou rovnoběžné (vektory LZ, žádný společný b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viny jsou různoběžné(vektory jsou LN, přímka společných bod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viny jsou totožné(vektory LZ, ∞ mnoho společných bod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ovéPole 7"/>
          <p:cNvSpPr/>
          <p:nvPr/>
        </p:nvSpPr>
        <p:spPr>
          <a:xfrm>
            <a:off x="2238840" y="228600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ájemná poloha může bý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ovéPole 1"/>
          <p:cNvSpPr/>
          <p:nvPr/>
        </p:nvSpPr>
        <p:spPr>
          <a:xfrm>
            <a:off x="2486520" y="76500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rial"/>
              </a:rPr>
              <a:t>Roviny jsou rovnoběž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rov_rov"/>
          <p:cNvPicPr/>
          <p:nvPr/>
        </p:nvPicPr>
        <p:blipFill>
          <a:blip r:embed="rId1"/>
          <a:stretch/>
        </p:blipFill>
        <p:spPr>
          <a:xfrm>
            <a:off x="2843280" y="1773360"/>
            <a:ext cx="3284640" cy="43923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ovéPole 1"/>
          <p:cNvSpPr/>
          <p:nvPr/>
        </p:nvSpPr>
        <p:spPr>
          <a:xfrm>
            <a:off x="2802600" y="785880"/>
            <a:ext cx="32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rial"/>
              </a:rPr>
              <a:t>Roviny jsou totož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rov_toto"/>
          <p:cNvPicPr/>
          <p:nvPr/>
        </p:nvPicPr>
        <p:blipFill>
          <a:blip r:embed="rId1"/>
          <a:stretch/>
        </p:blipFill>
        <p:spPr>
          <a:xfrm>
            <a:off x="2627280" y="1700280"/>
            <a:ext cx="3794040" cy="42829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ovéPole 1"/>
          <p:cNvSpPr/>
          <p:nvPr/>
        </p:nvSpPr>
        <p:spPr>
          <a:xfrm>
            <a:off x="2521440" y="7858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rial"/>
              </a:rPr>
              <a:t>Roviny jsou různoběž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rov_ruzno"/>
          <p:cNvPicPr/>
          <p:nvPr/>
        </p:nvPicPr>
        <p:blipFill>
          <a:blip r:embed="rId1"/>
          <a:stretch/>
        </p:blipFill>
        <p:spPr>
          <a:xfrm>
            <a:off x="1187280" y="1700280"/>
            <a:ext cx="6697800" cy="35352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697040" y="549360"/>
            <a:ext cx="562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Odchylka dvou přím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6"/>
              <p:cNvSpPr txBox="1"/>
              <p:nvPr/>
            </p:nvSpPr>
            <p:spPr>
              <a:xfrm>
                <a:off x="1763640" y="1700280"/>
                <a:ext cx="172080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Text Box 7"/>
          <p:cNvSpPr/>
          <p:nvPr/>
        </p:nvSpPr>
        <p:spPr>
          <a:xfrm>
            <a:off x="728640" y="3738600"/>
            <a:ext cx="33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, v – směrové nebo normálové vektory přím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odchylka_primek"/>
          <p:cNvPicPr/>
          <p:nvPr/>
        </p:nvPicPr>
        <p:blipFill>
          <a:blip r:embed="rId1"/>
          <a:stretch/>
        </p:blipFill>
        <p:spPr>
          <a:xfrm>
            <a:off x="4716360" y="2060640"/>
            <a:ext cx="3340080" cy="29653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908720" y="549360"/>
            <a:ext cx="519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Odchylka dvou rov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1763640" y="1700280"/>
                <a:ext cx="172080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Text Box 6"/>
          <p:cNvSpPr/>
          <p:nvPr/>
        </p:nvSpPr>
        <p:spPr>
          <a:xfrm>
            <a:off x="731880" y="3738600"/>
            <a:ext cx="221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, v – normálové vektory ro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odchylka rovin"/>
          <p:cNvPicPr/>
          <p:nvPr/>
        </p:nvPicPr>
        <p:blipFill>
          <a:blip r:embed="rId1"/>
          <a:stretch/>
        </p:blipFill>
        <p:spPr>
          <a:xfrm>
            <a:off x="4284720" y="2421000"/>
            <a:ext cx="3835440" cy="23684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330560" y="549360"/>
            <a:ext cx="63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Odchylka přímky a rovi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1776240" y="1700280"/>
                <a:ext cx="169560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Text Box 6"/>
          <p:cNvSpPr/>
          <p:nvPr/>
        </p:nvSpPr>
        <p:spPr>
          <a:xfrm>
            <a:off x="732600" y="3738600"/>
            <a:ext cx="204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– směrový vektor přím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– normálový vektor rovi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odchylka_primka_rovina"/>
          <p:cNvPicPr/>
          <p:nvPr/>
        </p:nvPicPr>
        <p:blipFill>
          <a:blip r:embed="rId1"/>
          <a:stretch/>
        </p:blipFill>
        <p:spPr>
          <a:xfrm>
            <a:off x="4284720" y="1628640"/>
            <a:ext cx="4254480" cy="40514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119960" y="549360"/>
            <a:ext cx="68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Vzdálenost bodu od pří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5"/>
              <p:cNvSpPr txBox="1"/>
              <p:nvPr/>
            </p:nvSpPr>
            <p:spPr>
              <a:xfrm>
                <a:off x="1187280" y="4437000"/>
                <a:ext cx="316260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1332000" y="2637000"/>
                <a:ext cx="1319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1258920" y="1916280"/>
                <a:ext cx="2273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Picture 8" descr="bod-primka"/>
          <p:cNvPicPr/>
          <p:nvPr/>
        </p:nvPicPr>
        <p:blipFill>
          <a:blip r:embed="rId1"/>
          <a:stretch/>
        </p:blipFill>
        <p:spPr>
          <a:xfrm>
            <a:off x="4140360" y="2060640"/>
            <a:ext cx="4032000" cy="21319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5"/>
          <p:cNvSpPr/>
          <p:nvPr/>
        </p:nvSpPr>
        <p:spPr>
          <a:xfrm>
            <a:off x="540360" y="428760"/>
            <a:ext cx="74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Vzájemná poloha dvou přím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v rovin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ovéPole 6"/>
          <p:cNvSpPr/>
          <p:nvPr/>
        </p:nvSpPr>
        <p:spPr>
          <a:xfrm>
            <a:off x="466560" y="3286080"/>
            <a:ext cx="758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vnoběžné (vektory jsou LZ, žádný společný b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ůznoběžné (vektory jsou LN, 1 společný b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ožné (vektory jsou LZ, ∞ mnoho společných bod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7"/>
          <p:cNvSpPr/>
          <p:nvPr/>
        </p:nvSpPr>
        <p:spPr>
          <a:xfrm>
            <a:off x="3016800" y="2286000"/>
            <a:ext cx="31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mky mohou bý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936360" y="5000760"/>
            <a:ext cx="3103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Z = lineárně závisl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= lineárně nezávisl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ktory – směrové nebo normálové vek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190880" y="549360"/>
            <a:ext cx="66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Vzdálenost bodu od rovi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684360" y="3789360"/>
                <a:ext cx="407016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1258920" y="1628640"/>
                <a:ext cx="2881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z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1332000" y="2133720"/>
                <a:ext cx="1655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20" name="Picture 8" descr="bod-rovina"/>
          <p:cNvPicPr/>
          <p:nvPr/>
        </p:nvPicPr>
        <p:blipFill>
          <a:blip r:embed="rId1"/>
          <a:stretch/>
        </p:blipFill>
        <p:spPr>
          <a:xfrm>
            <a:off x="5003640" y="1557360"/>
            <a:ext cx="3346560" cy="38163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2"/>
          <p:cNvSpPr/>
          <p:nvPr/>
        </p:nvSpPr>
        <p:spPr>
          <a:xfrm>
            <a:off x="3579120" y="5716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3"/>
          <p:cNvSpPr/>
          <p:nvPr/>
        </p:nvSpPr>
        <p:spPr>
          <a:xfrm>
            <a:off x="294120" y="1428840"/>
            <a:ext cx="86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kulčák, J., za kolektiv: Matematické, fyzikální a chemické tabulky, Prometheus, Praha, 198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ovéPole 5"/>
          <p:cNvSpPr/>
          <p:nvPr/>
        </p:nvSpPr>
        <p:spPr>
          <a:xfrm>
            <a:off x="540360" y="428760"/>
            <a:ext cx="74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Vzájemná poloha dvou přím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v prost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6"/>
          <p:cNvSpPr/>
          <p:nvPr/>
        </p:nvSpPr>
        <p:spPr>
          <a:xfrm>
            <a:off x="466560" y="3286080"/>
            <a:ext cx="758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vnoběžné (vektory jsou LZ, žádný společný b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ůznoběžné (vektory jsou LN, 1 společný b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ožné (vektory jsou LZ, ∞ mnoho společných bod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moběžné (vektory jsou LN, žádný společný b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ovéPole 7"/>
          <p:cNvSpPr/>
          <p:nvPr/>
        </p:nvSpPr>
        <p:spPr>
          <a:xfrm>
            <a:off x="3016800" y="2286000"/>
            <a:ext cx="31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mky mohou bý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ovéPole 8"/>
          <p:cNvSpPr/>
          <p:nvPr/>
        </p:nvSpPr>
        <p:spPr>
          <a:xfrm>
            <a:off x="936720" y="5000760"/>
            <a:ext cx="19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Z = lineárně závisl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= lineárně nezávisl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ktory = směrové vek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véPole 1"/>
          <p:cNvSpPr/>
          <p:nvPr/>
        </p:nvSpPr>
        <p:spPr>
          <a:xfrm>
            <a:off x="2661480" y="785880"/>
            <a:ext cx="33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rial"/>
              </a:rPr>
              <a:t>Rovnoběžné přím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2" descr="rovnobezky.jpg"/>
          <p:cNvPicPr/>
          <p:nvPr/>
        </p:nvPicPr>
        <p:blipFill>
          <a:blip r:embed="rId1"/>
          <a:stretch/>
        </p:blipFill>
        <p:spPr>
          <a:xfrm>
            <a:off x="1500120" y="1428840"/>
            <a:ext cx="5583240" cy="36306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véPole 1"/>
          <p:cNvSpPr/>
          <p:nvPr/>
        </p:nvSpPr>
        <p:spPr>
          <a:xfrm>
            <a:off x="2637360" y="785880"/>
            <a:ext cx="26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rial"/>
              </a:rPr>
              <a:t>Totožné přím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2" descr="totozne.jpg"/>
          <p:cNvPicPr/>
          <p:nvPr/>
        </p:nvPicPr>
        <p:blipFill>
          <a:blip r:embed="rId1"/>
          <a:stretch/>
        </p:blipFill>
        <p:spPr>
          <a:xfrm>
            <a:off x="642960" y="1857240"/>
            <a:ext cx="6973920" cy="2845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1"/>
          <p:cNvSpPr/>
          <p:nvPr/>
        </p:nvSpPr>
        <p:spPr>
          <a:xfrm>
            <a:off x="2661480" y="785880"/>
            <a:ext cx="33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rial"/>
              </a:rPr>
              <a:t>Různoběžné přím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Obrázek 2" descr="ruznobezky.jpg"/>
          <p:cNvPicPr/>
          <p:nvPr/>
        </p:nvPicPr>
        <p:blipFill>
          <a:blip r:embed="rId1"/>
          <a:stretch/>
        </p:blipFill>
        <p:spPr>
          <a:xfrm>
            <a:off x="1571760" y="1428840"/>
            <a:ext cx="5027400" cy="44640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ovéPole 1"/>
          <p:cNvSpPr/>
          <p:nvPr/>
        </p:nvSpPr>
        <p:spPr>
          <a:xfrm>
            <a:off x="2661480" y="785880"/>
            <a:ext cx="31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rial"/>
              </a:rPr>
              <a:t>Mimoběžné přím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Obrázek 2" descr="mimobezky.jpg"/>
          <p:cNvPicPr/>
          <p:nvPr/>
        </p:nvPicPr>
        <p:blipFill>
          <a:blip r:embed="rId1"/>
          <a:stretch/>
        </p:blipFill>
        <p:spPr>
          <a:xfrm>
            <a:off x="1714680" y="1428840"/>
            <a:ext cx="5313240" cy="47178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ovéPole 5"/>
          <p:cNvSpPr/>
          <p:nvPr/>
        </p:nvSpPr>
        <p:spPr>
          <a:xfrm>
            <a:off x="544320" y="428760"/>
            <a:ext cx="821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Vzájemná poloha přímky a rovi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v prost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ovéPole 6"/>
          <p:cNvSpPr/>
          <p:nvPr/>
        </p:nvSpPr>
        <p:spPr>
          <a:xfrm>
            <a:off x="469440" y="3286080"/>
            <a:ext cx="769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ímka je rovnoběžná s rovinou (žádný společný b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ímka má s rovinou 1 společný bod (1 společný b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ímka leží v rovině(∞ mnoho společných bod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ovéPole 7"/>
          <p:cNvSpPr/>
          <p:nvPr/>
        </p:nvSpPr>
        <p:spPr>
          <a:xfrm>
            <a:off x="2238840" y="228600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ájemná poloha může bý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1"/>
          <p:cNvSpPr/>
          <p:nvPr/>
        </p:nvSpPr>
        <p:spPr>
          <a:xfrm>
            <a:off x="1741320" y="785880"/>
            <a:ext cx="51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rial"/>
              </a:rPr>
              <a:t>Přímka je rovnoběžná s rovi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rázek 3" descr="p_r_rovno.jpg"/>
          <p:cNvPicPr/>
          <p:nvPr/>
        </p:nvPicPr>
        <p:blipFill>
          <a:blip r:embed="rId1"/>
          <a:stretch/>
        </p:blipFill>
        <p:spPr>
          <a:xfrm>
            <a:off x="2286000" y="1714680"/>
            <a:ext cx="4218120" cy="45878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2:44:35Z</dcterms:created>
  <dc:creator>ucitel</dc:creator>
  <dc:description/>
  <dc:language>en-US</dc:language>
  <cp:lastModifiedBy>VOŠ a SPŠ Strakonice</cp:lastModifiedBy>
  <dcterms:modified xsi:type="dcterms:W3CDTF">2010-06-24T15:59:33Z</dcterms:modified>
  <cp:revision>41</cp:revision>
  <dc:subject/>
  <dc:title>Snímek 1</dc:title>
</cp:coreProperties>
</file>