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A3A-70E9-4839-B233-90BBE4AA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3B0-4199-4345-A6E1-5CF5A9A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570-3BC8-41B1-8F74-13D6AA62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1D2-7876-4354-85DB-993BAB3A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41F-E31D-4A9E-A689-F4FAB626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2D3-C13A-4AE8-8771-6E2C24CB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F60-2A64-47B7-9DED-77A6CAEE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D0B-E9FE-4334-B6AB-FBD22F61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240-2BDE-436B-95B7-0541E88C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5EC-54DD-4ABB-839D-A001C3DD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239-F4B7-4A8D-9ECC-A8F14DD0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9FB-C07A-4414-B0D0-8F505D1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FF7B-A579-4E69-986B-D29E46490D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A9C6-5841-49BE-B090-75CD4FA28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914800" y="558972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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340000" y="2349360"/>
            <a:ext cx="4573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unkce II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5315040" cy="397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8720" y="8931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n – sudé, záp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177336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: R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: (0,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18080" y="1700280"/>
            <a:ext cx="788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66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ff33cc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516720" y="155736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: R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: R –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9080" y="8215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n – liché, záp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5315040" cy="39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73720" y="1916280"/>
            <a:ext cx="788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66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ff33cc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80680" y="2602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ciální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311800" cy="4259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66160" y="17733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&g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02480" y="69228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y = a</a:t>
            </a:r>
            <a:r>
              <a:rPr b="1" lang="cs-CZ" sz="18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720" y="234900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 = (0;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5311800" cy="425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35240" y="14842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&lt; a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02480" y="69228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y = a</a:t>
            </a:r>
            <a:r>
              <a:rPr b="1" lang="cs-CZ" sz="18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9440" y="227592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 = (0;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67240" y="6206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aritmick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311800" cy="425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10520" y="170028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&g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7760" y="1052640"/>
            <a:ext cx="1113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y = log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7080" y="191556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 = (0;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5311800" cy="4259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7760" y="907920"/>
            <a:ext cx="1113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y = log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6520" y="17002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&lt; a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1080" y="213300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 = (0;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06880" y="69228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311800" cy="4259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780720" y="112536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 = 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52560" y="21967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:&lt;-1,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7440" y="299736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f: sinuso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5311800" cy="425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12720" y="9079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 = 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4080" y="284436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:&lt;-1,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8160" y="374004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graf: kosinuso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311800" cy="4259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12360" y="9079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 = tg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9440" y="1988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(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164360" y="1916280"/>
                <a:ext cx="1511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949920" y="3290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32720" y="29235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63240" y="431640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f: tang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236000" y="2421000"/>
                <a:ext cx="380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5311800" cy="4259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32720" y="9079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 = cotg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440" y="2348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(f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236000" y="2349360"/>
                <a:ext cx="1223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k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π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77080" y="2781360"/>
                <a:ext cx="380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732720" y="321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63240" y="365868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f: kotang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03640" y="1557360"/>
                <a:ext cx="2300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566160" y="8366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92428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echť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podmnožina množi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šech reálných čísel. Funk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nazývá každá množina uspořádaných dvoj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 x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 kterou platí: ke každém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uje právě jed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, ž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79736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unkce se nazývá každé zobrazení množi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množi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libovolná podmnožina množi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šech reálných čí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03280" y="9075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= -f(x), y = f(-x), y = f(x), y =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(x)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y = f(x) + q, y = f(x + p), y = kf(x), y = f(m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263700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y = - f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 graf souměrný s grafem funkce y = f(x) podle osy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y = f(-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 graf souměrný s grafem funkce y = f(x) podle osy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y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 část grafu totožnou s grafem funkce y = f(x) pro všechna x, pro něž je f(x) nezáporné, a část grafu totožnou s grafem funkce y = - f(x) pro všechna x, pro něž je f(x) záp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y = f(x) + 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 graf, který dostanete posunutím grafu funkce y = f(x) ve směru osy y, (je-li q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nahoru, je-li q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dolů, velikost posunutí j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7800" y="40464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ESTROJOVÁNÍ GRAFŮ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20500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-li znám graf funkce y = f(x), lze z něho dostat grafy následujících funk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900000" y="1132560"/>
            <a:ext cx="7417080" cy="3385800"/>
            <a:chOff x="900000" y="1132560"/>
            <a:chExt cx="7417080" cy="3385800"/>
          </a:xfrm>
        </p:grpSpPr>
        <p:sp>
          <p:nvSpPr>
            <p:cNvPr id="151" name=""/>
            <p:cNvSpPr/>
            <p:nvPr/>
          </p:nvSpPr>
          <p:spPr>
            <a:xfrm>
              <a:off x="900000" y="1132560"/>
              <a:ext cx="7417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5.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 = f(x + p)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á graf, který dostanete posunutím grafu funkce y = f(x) ve směru osy x, (je-li q </a:t>
              </a:r>
              <a:r>
                <a:rPr b="0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vlevo, je-li q</a:t>
              </a:r>
              <a:r>
                <a:rPr b="0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 vpravo, velikost posunutí je </a:t>
              </a:r>
              <a:r>
                <a:rPr b="0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6. 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= kf(x)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strojíme jako množinu bodů, jejichž y-ové  souřadnice jsou k-násobky příslušných y-ových souřadnic grafu funkce y = f(x) při týchž x-ových souřadni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7. 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= f(mx)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strojíme jako množinu bodů, jejichž y-ové  souřadnice jsou tytéž jako y-ové souřadnice grafu funkce y = f(x) pro 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   - násobky x – ových souřadnic grafu funkce y = 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084720" y="3645000"/>
                  <a:ext cx="1908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459400" cy="4065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87280" y="764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efiniční obor funkce D(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nožina vše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e kterým existuje právě jed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, ž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6995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or hodnot funkce H(f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ožina vše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e kterým existuje alespoň jed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, ž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45000" cy="2922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372360" y="3429000"/>
                <a:ext cx="15112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226560" y="494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: (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∞, 4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,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6560" y="5300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: (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∞, 1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,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4160" y="2492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84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e zvolené kartézské soustavě souřadn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 rovině se nazývá množina všech bod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 =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; f(x)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(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360" y="78408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raf funkc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69440" y="549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rafy elementárních fun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8520" y="10526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ární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5113080" cy="41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24720" y="148428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732720" y="2060640"/>
                <a:ext cx="1468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798600" y="3933720"/>
            <a:ext cx="1584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=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ff"/>
                </a:solidFill>
                <a:latin typeface="Arial"/>
              </a:rPr>
              <a:t>konstantní funk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= 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ff"/>
                </a:solidFill>
                <a:latin typeface="Arial"/>
              </a:rPr>
              <a:t>přímá úměr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0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0640" y="270792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af: pří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5616360" cy="4503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7600" y="40464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ární lomen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516720" y="1557360"/>
                <a:ext cx="2332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588000" y="234936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7160400" y="24922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nepřímá úměr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732720" y="3141720"/>
                <a:ext cx="1728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04000" y="3933720"/>
                <a:ext cx="1655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375240" y="494136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af: rovnoosá hyperb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08360" y="765000"/>
                <a:ext cx="1128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5311800" cy="4259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82880" y="3333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vadratick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30120" y="765000"/>
            <a:ext cx="18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y = ax</a:t>
            </a:r>
            <a:r>
              <a:rPr b="1" lang="cs-CZ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+ bx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1196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, b,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≠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848640" y="2637000"/>
                <a:ext cx="1852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6805440" y="335664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a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77080" y="3716280"/>
                <a:ext cx="1727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805440" y="249156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a &g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80320" y="45086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f: par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9960" y="4046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cninn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5315040" cy="397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87560" y="76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cs-CZ" sz="18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8880" y="765000"/>
            <a:ext cx="64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8720" y="1324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 – sudé, klad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7080" y="177336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: &lt;0,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730840" y="2205000"/>
            <a:ext cx="744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ff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5315040" cy="39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3800" y="82152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 – liché, klad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1700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f)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02120" y="1700280"/>
            <a:ext cx="744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ff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1-02-01T11:57:09Z</dcterms:modified>
  <cp:revision>80</cp:revision>
  <dc:subject/>
  <dc:title>POSLOUPNOSTI</dc:title>
</cp:coreProperties>
</file>