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E282-3210-48FD-AB3A-1FC29ACA4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7302-F697-40E7-9D59-4140FCB5D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9E3B-3C04-4E8F-88CE-50EDEED6A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81BE-8716-46E1-8DAC-C367BE267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74A6-472F-4AEE-A5B2-FC4CC3ACF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A4BE-EC35-44F6-BC7E-4BBE04005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0A3B-27EC-4361-AE6A-624B04474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A3EA-38C0-43B8-A89C-FC7526DCD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9E3E-85D2-4832-83CB-50D449642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EDB7-E4F3-4532-A483-704B3CAC8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DCCC-075B-43FF-A304-84DD0F77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DD07-B204-41EC-A201-9796701AC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A74A9-6571-425A-A2FA-8C9D79D79C91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E2970-179B-4F56-82D7-2D3A4852F3B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.png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loga_bar"/>
          <p:cNvPicPr/>
          <p:nvPr/>
        </p:nvPicPr>
        <p:blipFill>
          <a:blip r:embed="rId1"/>
          <a:stretch/>
        </p:blipFill>
        <p:spPr>
          <a:xfrm>
            <a:off x="1258920" y="549360"/>
            <a:ext cx="6769080" cy="10443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nožiny – pojmy, operace, číselné množi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gr. Lenka Hruškov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Zástupný symbol pro zápatí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179280" y="549360"/>
            <a:ext cx="748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IRACIONÁLNÍ  ČÍSLA  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eálná čísla, která nejsou racionální, jsou iracionál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oboru iracionálních čísel neexistují zlom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aždé iracionální číslo lze vyjádřit  právě jedním způsobem ve tvaru neukončeného neperiodického desetinného rozv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 vyjádření iracionálních čísel užíváme symb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250920" y="4076640"/>
            <a:ext cx="112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íklad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8"/>
              <p:cNvSpPr txBox="1"/>
              <p:nvPr/>
            </p:nvSpPr>
            <p:spPr>
              <a:xfrm>
                <a:off x="1403280" y="4149720"/>
                <a:ext cx="144000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4142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π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4159265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10"/>
              <p:cNvSpPr txBox="1"/>
              <p:nvPr/>
            </p:nvSpPr>
            <p:spPr>
              <a:xfrm>
                <a:off x="6610320" y="25844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14"/>
              <p:cNvSpPr txBox="1"/>
              <p:nvPr/>
            </p:nvSpPr>
            <p:spPr>
              <a:xfrm>
                <a:off x="1403280" y="4724280"/>
                <a:ext cx="187344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7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42020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7609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7" name="Text Box 17"/>
          <p:cNvSpPr/>
          <p:nvPr/>
        </p:nvSpPr>
        <p:spPr>
          <a:xfrm>
            <a:off x="395280" y="3645000"/>
            <a:ext cx="36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4"/>
          <p:cNvSpPr/>
          <p:nvPr/>
        </p:nvSpPr>
        <p:spPr>
          <a:xfrm>
            <a:off x="250920" y="5373720"/>
            <a:ext cx="383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racionální čísla jsou neperiodick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26"/>
              <p:cNvSpPr txBox="1"/>
              <p:nvPr/>
            </p:nvSpPr>
            <p:spPr>
              <a:xfrm>
                <a:off x="1403280" y="3429000"/>
                <a:ext cx="186372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r>
                      <m:t xml:space="preserve">p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Text Box 29"/>
          <p:cNvSpPr/>
          <p:nvPr/>
        </p:nvSpPr>
        <p:spPr>
          <a:xfrm>
            <a:off x="4716360" y="350028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eseti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eti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isíciny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30"/>
              <p:cNvSpPr txBox="1"/>
              <p:nvPr/>
            </p:nvSpPr>
            <p:spPr>
              <a:xfrm>
                <a:off x="4427640" y="3500280"/>
                <a:ext cx="250560" cy="3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Object 31"/>
              <p:cNvSpPr txBox="1"/>
              <p:nvPr/>
            </p:nvSpPr>
            <p:spPr>
              <a:xfrm>
                <a:off x="4427640" y="3789360"/>
                <a:ext cx="23652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32"/>
              <p:cNvSpPr txBox="1"/>
              <p:nvPr/>
            </p:nvSpPr>
            <p:spPr>
              <a:xfrm>
                <a:off x="4427640" y="4076640"/>
                <a:ext cx="25380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Zástupný symbol pro zápatí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539640" y="549360"/>
            <a:ext cx="806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EÁLNÁ ČÍSLA  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sou všechna čísla racionální a iracionál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aždé reálné číslo je znázorněno na číselné ose právě jedním bod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aždý bod číselné osy je obrazem právě jednoho reálného čís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dálenost reálného čísla od začátku číselné osy udává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bsolutní hodn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5"/>
              <p:cNvSpPr txBox="1"/>
              <p:nvPr/>
            </p:nvSpPr>
            <p:spPr>
              <a:xfrm>
                <a:off x="611280" y="3141720"/>
                <a:ext cx="4791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7"/>
              <p:cNvSpPr txBox="1"/>
              <p:nvPr/>
            </p:nvSpPr>
            <p:spPr>
              <a:xfrm>
                <a:off x="1258920" y="3357720"/>
                <a:ext cx="115236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⇔</m:t>
                    </m:r>
                    <m:r>
                      <m:t xml:space="preserve">a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10"/>
              <p:cNvSpPr txBox="1"/>
              <p:nvPr/>
            </p:nvSpPr>
            <p:spPr>
              <a:xfrm>
                <a:off x="1116000" y="3789360"/>
                <a:ext cx="129528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⇔</m:t>
                    </m:r>
                    <m:r>
                      <m:t xml:space="preserve">a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" name="Text Box 13"/>
          <p:cNvSpPr/>
          <p:nvPr/>
        </p:nvSpPr>
        <p:spPr>
          <a:xfrm>
            <a:off x="3059280" y="3357720"/>
            <a:ext cx="462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íklad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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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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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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7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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Zástupný symbol pro zápatí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381600" y="281160"/>
            <a:ext cx="58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nožiny reálných čísel znázorňujeme pomocí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interval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95280" y="1557360"/>
          <a:ext cx="8639280" cy="3817800"/>
        </p:xfrm>
        <a:graphic>
          <a:graphicData uri="http://schemas.openxmlformats.org/drawingml/2006/table">
            <a:tbl>
              <a:tblPr/>
              <a:tblGrid>
                <a:gridCol w="1306440"/>
                <a:gridCol w="1235160"/>
                <a:gridCol w="1014480"/>
                <a:gridCol w="50832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akteris-tická vlastn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fické znázorně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značení interval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zev interval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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zavřený interval, omezen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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ouzavřený (polootevřený) interval, omezen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,b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ouzavřený (polootevřený) interval, omezen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,b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evřený interval, omezen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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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omezený interv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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b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omezený interv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,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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omezený interv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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b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omezený interv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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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oustranně neomezený interv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33" name="Object 101"/>
              <p:cNvSpPr txBox="1"/>
              <p:nvPr/>
            </p:nvSpPr>
            <p:spPr>
              <a:xfrm>
                <a:off x="539640" y="2162160"/>
                <a:ext cx="9367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≤</m:t>
                    </m:r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111"/>
              <p:cNvSpPr txBox="1"/>
              <p:nvPr/>
            </p:nvSpPr>
            <p:spPr>
              <a:xfrm>
                <a:off x="539640" y="2492280"/>
                <a:ext cx="935280" cy="2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≤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128"/>
              <p:cNvSpPr txBox="1"/>
              <p:nvPr/>
            </p:nvSpPr>
            <p:spPr>
              <a:xfrm>
                <a:off x="5292720" y="2133720"/>
                <a:ext cx="11448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136" name="Object 158"/>
          <p:cNvGraphicFramePr/>
          <p:nvPr/>
        </p:nvGraphicFramePr>
        <p:xfrm>
          <a:off x="1979640" y="3213000"/>
          <a:ext cx="804960" cy="31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15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3213000"/>
                    <a:ext cx="80496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Object 160"/>
          <p:cNvGraphicFramePr/>
          <p:nvPr/>
        </p:nvGraphicFramePr>
        <p:xfrm>
          <a:off x="1908000" y="2133720"/>
          <a:ext cx="927360" cy="29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Object 16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8000" y="2133720"/>
                    <a:ext cx="92736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Object 161"/>
          <p:cNvGraphicFramePr/>
          <p:nvPr/>
        </p:nvGraphicFramePr>
        <p:xfrm>
          <a:off x="1835280" y="2492280"/>
          <a:ext cx="1066680" cy="266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1" name="Object 16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35280" y="2492280"/>
                    <a:ext cx="106668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Object 162"/>
          <p:cNvGraphicFramePr/>
          <p:nvPr/>
        </p:nvGraphicFramePr>
        <p:xfrm>
          <a:off x="1835280" y="4292640"/>
          <a:ext cx="1050840" cy="320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3" name="Object 16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35280" y="4292640"/>
                    <a:ext cx="1050840" cy="3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Object 163"/>
          <p:cNvGraphicFramePr/>
          <p:nvPr/>
        </p:nvGraphicFramePr>
        <p:xfrm>
          <a:off x="1763640" y="4653000"/>
          <a:ext cx="1104840" cy="304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5" name="Object 16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763640" y="4653000"/>
                    <a:ext cx="110484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Object 164"/>
          <p:cNvGraphicFramePr/>
          <p:nvPr/>
        </p:nvGraphicFramePr>
        <p:xfrm>
          <a:off x="1763640" y="3573360"/>
          <a:ext cx="1128960" cy="277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7" name="Object 16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763640" y="3573360"/>
                    <a:ext cx="112896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Object 165"/>
          <p:cNvGraphicFramePr/>
          <p:nvPr/>
        </p:nvGraphicFramePr>
        <p:xfrm>
          <a:off x="1835280" y="3933720"/>
          <a:ext cx="1083960" cy="324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49" name="Object 16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835280" y="3933720"/>
                    <a:ext cx="108396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Object 167"/>
          <p:cNvGraphicFramePr/>
          <p:nvPr/>
        </p:nvGraphicFramePr>
        <p:xfrm>
          <a:off x="1835280" y="2852640"/>
          <a:ext cx="1019160" cy="276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1" name="Object 167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835280" y="2852640"/>
                    <a:ext cx="1019160" cy="2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Object 168"/>
          <p:cNvGraphicFramePr/>
          <p:nvPr/>
        </p:nvGraphicFramePr>
        <p:xfrm>
          <a:off x="1835280" y="5013360"/>
          <a:ext cx="990360" cy="276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53" name="Object 168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835280" y="5013360"/>
                    <a:ext cx="990360" cy="27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4" name="Object 171"/>
              <p:cNvSpPr txBox="1"/>
              <p:nvPr/>
            </p:nvSpPr>
            <p:spPr>
              <a:xfrm>
                <a:off x="539640" y="2852640"/>
                <a:ext cx="88452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173"/>
              <p:cNvSpPr txBox="1"/>
              <p:nvPr/>
            </p:nvSpPr>
            <p:spPr>
              <a:xfrm>
                <a:off x="539640" y="3213000"/>
                <a:ext cx="812880" cy="2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175"/>
              <p:cNvSpPr txBox="1"/>
              <p:nvPr/>
            </p:nvSpPr>
            <p:spPr>
              <a:xfrm>
                <a:off x="539640" y="5084640"/>
                <a:ext cx="525600" cy="2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176"/>
              <p:cNvSpPr txBox="1"/>
              <p:nvPr/>
            </p:nvSpPr>
            <p:spPr>
              <a:xfrm>
                <a:off x="539640" y="4724280"/>
                <a:ext cx="498600" cy="2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177"/>
              <p:cNvSpPr txBox="1"/>
              <p:nvPr/>
            </p:nvSpPr>
            <p:spPr>
              <a:xfrm>
                <a:off x="539640" y="4365720"/>
                <a:ext cx="51120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178"/>
              <p:cNvSpPr txBox="1"/>
              <p:nvPr/>
            </p:nvSpPr>
            <p:spPr>
              <a:xfrm>
                <a:off x="539640" y="3967200"/>
                <a:ext cx="503280" cy="2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179"/>
              <p:cNvSpPr txBox="1"/>
              <p:nvPr/>
            </p:nvSpPr>
            <p:spPr>
              <a:xfrm>
                <a:off x="539640" y="3616200"/>
                <a:ext cx="503280" cy="22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1239840" y="281160"/>
            <a:ext cx="4700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755640" y="549360"/>
            <a:ext cx="7777080" cy="57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NOŽIN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rozumíme několik navzájem různých objektů, které mají určitou vlastnost 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ADÁNÍ MNOŽIN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a) výčtem prvků  A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, b, c, 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b) vlastností        B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U; V(x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OPERACE A VZTAHY MEZI MNOŽINA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odmnožina/inkluz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A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B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11"/>
          <p:cNvSpPr/>
          <p:nvPr/>
        </p:nvSpPr>
        <p:spPr>
          <a:xfrm rot="310200">
            <a:off x="4500360" y="4076640"/>
            <a:ext cx="3867120" cy="2446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13"/>
          <p:cNvSpPr/>
          <p:nvPr/>
        </p:nvSpPr>
        <p:spPr>
          <a:xfrm rot="310200">
            <a:off x="4500360" y="4076640"/>
            <a:ext cx="3867120" cy="2446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12"/>
          <p:cNvSpPr/>
          <p:nvPr/>
        </p:nvSpPr>
        <p:spPr>
          <a:xfrm>
            <a:off x="5219640" y="5229360"/>
            <a:ext cx="2305080" cy="9144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6"/>
          <p:cNvSpPr/>
          <p:nvPr/>
        </p:nvSpPr>
        <p:spPr>
          <a:xfrm>
            <a:off x="6805800" y="5445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50752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plněk množiny   A´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179280" y="3357720"/>
            <a:ext cx="54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jednocení množin  A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611280" y="98100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´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655920" y="3933720"/>
            <a:ext cx="243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9"/>
          <p:cNvSpPr/>
          <p:nvPr/>
        </p:nvSpPr>
        <p:spPr>
          <a:xfrm>
            <a:off x="4140360" y="907920"/>
            <a:ext cx="3867120" cy="2446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0"/>
          <p:cNvSpPr/>
          <p:nvPr/>
        </p:nvSpPr>
        <p:spPr>
          <a:xfrm>
            <a:off x="2916360" y="4653000"/>
            <a:ext cx="230508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11"/>
          <p:cNvSpPr/>
          <p:nvPr/>
        </p:nvSpPr>
        <p:spPr>
          <a:xfrm>
            <a:off x="4572000" y="3933720"/>
            <a:ext cx="3867120" cy="2446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8"/>
          <p:cNvSpPr/>
          <p:nvPr/>
        </p:nvSpPr>
        <p:spPr>
          <a:xfrm>
            <a:off x="4643280" y="1773360"/>
            <a:ext cx="2305080" cy="9144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7308720" y="765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9"/>
          <p:cNvSpPr/>
          <p:nvPr/>
        </p:nvSpPr>
        <p:spPr>
          <a:xfrm>
            <a:off x="5994360" y="1216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0"/>
          <p:cNvSpPr/>
          <p:nvPr/>
        </p:nvSpPr>
        <p:spPr>
          <a:xfrm>
            <a:off x="2897280" y="4384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1"/>
          <p:cNvSpPr/>
          <p:nvPr/>
        </p:nvSpPr>
        <p:spPr>
          <a:xfrm>
            <a:off x="7937640" y="3665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2"/>
          <p:cNvSpPr/>
          <p:nvPr/>
        </p:nvSpPr>
        <p:spPr>
          <a:xfrm>
            <a:off x="4211640" y="4797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250920" y="26028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růnik množin   A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250920" y="3500280"/>
            <a:ext cx="739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ozdíl množin    A – B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439920" y="1125360"/>
            <a:ext cx="243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515520" y="4292640"/>
            <a:ext cx="232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-B 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11"/>
          <p:cNvSpPr/>
          <p:nvPr/>
        </p:nvSpPr>
        <p:spPr>
          <a:xfrm>
            <a:off x="4140360" y="3933720"/>
            <a:ext cx="3867120" cy="2446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-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10"/>
          <p:cNvSpPr/>
          <p:nvPr/>
        </p:nvSpPr>
        <p:spPr>
          <a:xfrm>
            <a:off x="6588000" y="4869000"/>
            <a:ext cx="230508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3564000" y="458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4"/>
          <p:cNvSpPr/>
          <p:nvPr/>
        </p:nvSpPr>
        <p:spPr>
          <a:xfrm>
            <a:off x="8244000" y="4508640"/>
            <a:ext cx="41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5"/>
          <p:cNvSpPr/>
          <p:nvPr/>
        </p:nvSpPr>
        <p:spPr>
          <a:xfrm>
            <a:off x="3419640" y="4941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7" descr=""/>
          <p:cNvPicPr/>
          <p:nvPr/>
        </p:nvPicPr>
        <p:blipFill>
          <a:blip r:embed="rId1"/>
          <a:stretch/>
        </p:blipFill>
        <p:spPr>
          <a:xfrm>
            <a:off x="4257720" y="692280"/>
            <a:ext cx="4886280" cy="277164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9"/>
          <p:cNvSpPr/>
          <p:nvPr/>
        </p:nvSpPr>
        <p:spPr>
          <a:xfrm>
            <a:off x="4265640" y="1144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0"/>
          <p:cNvSpPr/>
          <p:nvPr/>
        </p:nvSpPr>
        <p:spPr>
          <a:xfrm>
            <a:off x="8153640" y="712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1"/>
          <p:cNvSpPr/>
          <p:nvPr/>
        </p:nvSpPr>
        <p:spPr>
          <a:xfrm>
            <a:off x="7216200" y="1573200"/>
            <a:ext cx="6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Zástupný symbol pro zápatí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ČÍSELNÉ MNOŽI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684360" y="1413000"/>
            <a:ext cx="7200720" cy="345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7"/>
          <p:cNvSpPr/>
          <p:nvPr/>
        </p:nvSpPr>
        <p:spPr>
          <a:xfrm>
            <a:off x="5867280" y="1413000"/>
            <a:ext cx="0" cy="34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8"/>
          <p:cNvSpPr/>
          <p:nvPr/>
        </p:nvSpPr>
        <p:spPr>
          <a:xfrm>
            <a:off x="1692360" y="1844640"/>
            <a:ext cx="2952720" cy="23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9"/>
          <p:cNvSpPr/>
          <p:nvPr/>
        </p:nvSpPr>
        <p:spPr>
          <a:xfrm>
            <a:off x="2340000" y="2565360"/>
            <a:ext cx="136836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0"/>
          <p:cNvSpPr/>
          <p:nvPr/>
        </p:nvSpPr>
        <p:spPr>
          <a:xfrm>
            <a:off x="971640" y="9079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1"/>
          <p:cNvSpPr/>
          <p:nvPr/>
        </p:nvSpPr>
        <p:spPr>
          <a:xfrm>
            <a:off x="2556000" y="299736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2"/>
          <p:cNvSpPr/>
          <p:nvPr/>
        </p:nvSpPr>
        <p:spPr>
          <a:xfrm>
            <a:off x="1835280" y="2349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3"/>
          <p:cNvSpPr/>
          <p:nvPr/>
        </p:nvSpPr>
        <p:spPr>
          <a:xfrm>
            <a:off x="971640" y="1628640"/>
            <a:ext cx="4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5"/>
          <p:cNvSpPr/>
          <p:nvPr/>
        </p:nvSpPr>
        <p:spPr>
          <a:xfrm>
            <a:off x="6013440" y="16286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6"/>
          <p:cNvSpPr/>
          <p:nvPr/>
        </p:nvSpPr>
        <p:spPr>
          <a:xfrm>
            <a:off x="666360" y="5032440"/>
            <a:ext cx="6528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-reálná čísl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Q-racionální čís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-iracionální čísl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-celá čís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-přirozená čís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382320" y="712800"/>
            <a:ext cx="7182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ŘIROZENÁ ČÍSLA  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dávají počet prvků v konečných neprázdných množiná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íklady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, 2, 3, …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ritéria dělitelnost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přirozené číslo je dělitelné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 právě tehdy, končí-li některou z cifer 0, 2, 4, 6,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 (resp.9) právě tehdy, je-li jeho ciferný součet dělitelný třemi (resp.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 (resp. 20, 25, 50) právě tehdy, je-li jeho poslední dvojčíslí děliteln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tyřmi (resp. 20, 25, 5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5 právě tehdy, končí-li číslicí 0 nebo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6 právě tehdy, je-li dělitelné dvěma a zároveň třem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8 (resp. 40, 125, 200, 500) právě tehdy, je-li jeho poslední trojčísl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ělitelné osmi (resp. 40, 125, 200, 5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0 právě tehdy, končí-li nul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1 právě tehdy, jestliže součet cifer lichých řádů je roven součtu ci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udých řádů, popř. se tyto součty liší o násobek jedenác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670320" y="423720"/>
            <a:ext cx="6672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řirozená čísla se dělí 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číslo 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má pouze jednoho dělite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rvočísl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čísla dělitelná jen 1 a sebou samý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čísla složen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nejsou prvočís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ísla složená můžeme rozložit na součin prvočísel (prvočinitelů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9"/>
              <p:cNvSpPr txBox="1"/>
              <p:nvPr/>
            </p:nvSpPr>
            <p:spPr>
              <a:xfrm>
                <a:off x="826920" y="2205000"/>
                <a:ext cx="60962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7" name="Text Box 11"/>
          <p:cNvSpPr/>
          <p:nvPr/>
        </p:nvSpPr>
        <p:spPr>
          <a:xfrm>
            <a:off x="814320" y="3089160"/>
            <a:ext cx="7454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lečný dělitel = číslo, které dělí všechna požadovaná přiroze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ís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jvětší společný dělitel = ten ze společných dělitelů, který je větší ne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šichni ostat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soudělná čísla = jejich největší společný dělitel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lečný násobek = číslo, které je násobkem všech požadovaných čí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jmenší společný násobek = ten nejmenší ze společných násobk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664560" y="712800"/>
            <a:ext cx="7624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ELÁ ČÍSLA  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 množina, jejíž prvky jsou čísla přirozená, k nim čísla opačná a číslo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íklady: 1, 5, 0, -1, -100 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ýznam znaménka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matematická operace odečítání   5 - 3 =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vyjádření čísla záporného            -3, -5, -1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vyjádření opačného čísla    n opačné  -n         2 opačné 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3 opačné -(-3) = 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698400" y="4354560"/>
            <a:ext cx="7618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aždé celé číslo, které je dělitelné dvěma se nazývá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ud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aždé celé číslo, které není dělitelné dvěma se nazývá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ich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Zástupný symbol pro zápatí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9"/>
          <p:cNvSpPr/>
          <p:nvPr/>
        </p:nvSpPr>
        <p:spPr>
          <a:xfrm>
            <a:off x="250920" y="4869000"/>
            <a:ext cx="76183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aždé racionální číslo lze vyjádřit ve tvaru konečného ( 3,1235 ) nebo nekonečného (1,666…) periodického desetinného rozvoje a naop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nekonečném periodickém desetinném rozvoji nazýváme cifru, či několik cifer, které se opakují, periodo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324000" y="1628640"/>
            <a:ext cx="23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de p,q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Z, q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íklad: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07800" y="712800"/>
            <a:ext cx="581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ACIONÁLNÍ ČÍSLA   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acionální číslo je každé číslo, které lze zapsat podíl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5"/>
              <p:cNvSpPr txBox="1"/>
              <p:nvPr/>
            </p:nvSpPr>
            <p:spPr>
              <a:xfrm>
                <a:off x="395280" y="2781360"/>
                <a:ext cx="24120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8"/>
              <p:cNvSpPr txBox="1"/>
              <p:nvPr/>
            </p:nvSpPr>
            <p:spPr>
              <a:xfrm>
                <a:off x="6045120" y="1197000"/>
                <a:ext cx="25884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15"/>
              <p:cNvSpPr txBox="1"/>
              <p:nvPr/>
            </p:nvSpPr>
            <p:spPr>
              <a:xfrm>
                <a:off x="1258920" y="2205000"/>
                <a:ext cx="205740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;</m:t>
                    </m:r>
                    <m:r>
                      <m:t xml:space="preserve">▬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▬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t xml:space="preserve">▬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" name="Text Box 18"/>
          <p:cNvSpPr/>
          <p:nvPr/>
        </p:nvSpPr>
        <p:spPr>
          <a:xfrm>
            <a:off x="611280" y="2852640"/>
            <a:ext cx="73454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zlom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p = čitatel, q = jmenova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lomky lze porovnávat, rozšiřovat, krát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lomky sčítáme, odečítáme, dělíme a násobí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lomky, jejichž čitatel je větší než jmenovatel, můžeme převést 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ložený zlom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24"/>
              <p:cNvSpPr txBox="1"/>
              <p:nvPr/>
            </p:nvSpPr>
            <p:spPr>
              <a:xfrm>
                <a:off x="3664080" y="5877000"/>
                <a:ext cx="40320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,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6</m:t>
                            </m:r>
                          </m:e>
                        </m:ba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Object 27"/>
              <p:cNvSpPr txBox="1"/>
              <p:nvPr/>
            </p:nvSpPr>
            <p:spPr>
              <a:xfrm>
                <a:off x="4284720" y="5877000"/>
                <a:ext cx="647640" cy="35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,3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71</m:t>
                            </m:r>
                          </m:e>
                        </m:ba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3:47:30Z</dcterms:created>
  <dc:creator>ucitel</dc:creator>
  <dc:description/>
  <dc:language>en-US</dc:language>
  <cp:lastModifiedBy>VOŠ a SPŠ Strakonice</cp:lastModifiedBy>
  <dcterms:modified xsi:type="dcterms:W3CDTF">2012-05-09T09:11:00Z</dcterms:modified>
  <cp:revision>57</cp:revision>
  <dc:subject/>
  <dc:title>POSLOUPNOSTI</dc:title>
</cp:coreProperties>
</file>