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00D-5DE8-4C72-988F-0B9D7BF7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79D-6C7D-4C94-AFD6-BBD9978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7EF-F40A-400F-85A4-F97E0DE1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736-7A84-43CB-A764-CE048A0D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2C3-3D47-4371-AC7F-3B3EEA42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07E-6E2C-4126-9821-8B3A2AEC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B46-C477-45F9-B5CF-D5739AD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7C7-8974-4DA8-850F-AB31051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88C-DAED-47FB-A94B-D0490501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897-5456-4823-8EFB-A668C22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D42-95A3-4235-992B-1CE3199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2E2-66A0-4C3F-8F8A-6C58850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0A0-F97D-41A3-BB7A-F6990CFEAAB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566-F616-4D10-927C-ABB7759390F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47640" y="1341360"/>
            <a:ext cx="655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tegrální poč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198400" y="524844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a_bar"/>
          <p:cNvPicPr/>
          <p:nvPr/>
        </p:nvPicPr>
        <p:blipFill>
          <a:blip r:embed="rId1"/>
          <a:stretch/>
        </p:blipFill>
        <p:spPr>
          <a:xfrm>
            <a:off x="1116000" y="333360"/>
            <a:ext cx="676908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76360" y="6922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b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1640" y="1700280"/>
            <a:ext cx="797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 je primitivní funkcí k funkci f(t) v intervalu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Nechť funkce t = g(x) m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ci g´(x) v intervalu (a,b). Pro každé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,b) nechť hodnota g(x) pat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ntervalu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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Pak v intervalu (a,b) je funkce F(g(x)) primitivní funk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funkci f(g(x)).g´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476360" y="3573360"/>
                <a:ext cx="66261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771640" y="476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rčitý integr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781560" y="1216080"/>
            <a:ext cx="70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jme dány funkce F, f definované na uzavřeném intervalu &lt;a,b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stliže pro každé x ε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a,b&gt; platí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=f(x), přičemž derivací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 v bo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umíme derivaci v bo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prava a derivací funkce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rivaci v bo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leva, říkáme, že fun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 je primitiv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í k funkci f na uzavřeném intervalu &lt;a,b&gt;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7"/>
          <p:cNvGraphicFramePr/>
          <p:nvPr/>
        </p:nvGraphicFramePr>
        <p:xfrm>
          <a:off x="2627280" y="3068640"/>
          <a:ext cx="280836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068640"/>
                    <a:ext cx="280836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42360" y="1432080"/>
            <a:ext cx="70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hť F je primitivní funkce k funkci f v intervalu I. Rozdíl F(b) – 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čních hodnot funkce F v libovolných bodech a,b tohoto interv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azývá určitý integrál funkce f v mezích od a do b a značí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332000" y="2276640"/>
                <a:ext cx="93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2627280" y="3284640"/>
                <a:ext cx="36734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1242000" y="47451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– dolní 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– horní 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700360" y="765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žití integrálního 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192760" y="148428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 rovinného útv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3203640" y="2492280"/>
          <a:ext cx="280836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492280"/>
                    <a:ext cx="280836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3516480" y="4910040"/>
                <a:ext cx="217152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181240" y="4653000"/>
                <a:ext cx="48290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Text Box 5"/>
          <p:cNvSpPr/>
          <p:nvPr/>
        </p:nvSpPr>
        <p:spPr>
          <a:xfrm>
            <a:off x="1482120" y="620640"/>
            <a:ext cx="60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 funkce, která nabývá kladných i záporných hod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6"/>
          <p:cNvGraphicFramePr/>
          <p:nvPr/>
        </p:nvGraphicFramePr>
        <p:xfrm>
          <a:off x="2195640" y="2133720"/>
          <a:ext cx="482436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48243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848320" y="54936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ohraničená dvěma funkc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3132000" y="1197000"/>
          <a:ext cx="3154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197000"/>
                    <a:ext cx="3154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3132000" y="4437000"/>
                <a:ext cx="3097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56400" y="40464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jem tělesa, které vznikne rot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olem osy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3059280" y="1916280"/>
          <a:ext cx="2808000" cy="21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16280"/>
                    <a:ext cx="280800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3132000" y="4365720"/>
                <a:ext cx="28800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917080" y="76500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élka kři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2556000" y="1628640"/>
                <a:ext cx="32400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6"/>
          <p:cNvGraphicFramePr/>
          <p:nvPr/>
        </p:nvGraphicFramePr>
        <p:xfrm>
          <a:off x="2771640" y="3141720"/>
          <a:ext cx="280836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141720"/>
                    <a:ext cx="280836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3"/>
          <p:cNvSpPr/>
          <p:nvPr/>
        </p:nvSpPr>
        <p:spPr>
          <a:xfrm>
            <a:off x="294120" y="142884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52680" y="191628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jme dány funkce F, f definované na otevřeném intervalu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liže pro všechna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 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478160" y="443700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íkáme, že funkce F je primitivní k funkci f v intervalu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6"/>
              <p:cNvSpPr txBox="1"/>
              <p:nvPr/>
            </p:nvSpPr>
            <p:spPr>
              <a:xfrm>
                <a:off x="3162240" y="2997360"/>
                <a:ext cx="2806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Text Box 7"/>
          <p:cNvSpPr/>
          <p:nvPr/>
        </p:nvSpPr>
        <p:spPr>
          <a:xfrm>
            <a:off x="1619280" y="76500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rimitivní funkce (neurčitý integr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126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-li funkce F v intervalu J primitivní k funkci f, pak každá primitivní funkce k funkci f je ve tvaru F(x) + C, kde C je reálná konst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4360" y="38606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každé funkci spojité v intervalu J existuje v tomto intervalu primitivní funk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92360" y="76500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Základní vzorce pro primitiv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35280" y="2205000"/>
          <a:ext cx="6121440" cy="2055960"/>
        </p:xfrm>
        <a:graphic>
          <a:graphicData uri="http://schemas.openxmlformats.org/drawingml/2006/table">
            <a:tbl>
              <a:tblPr/>
              <a:tblGrid>
                <a:gridCol w="2185920"/>
                <a:gridCol w="2206440"/>
                <a:gridCol w="172908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 k ní primitiv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ční obor integrál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x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x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, n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cx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ln 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19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94"/>
              <p:cNvSpPr txBox="1"/>
              <p:nvPr/>
            </p:nvSpPr>
            <p:spPr>
              <a:xfrm>
                <a:off x="6588000" y="2852640"/>
                <a:ext cx="524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19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96"/>
              <p:cNvSpPr txBox="1"/>
              <p:nvPr/>
            </p:nvSpPr>
            <p:spPr>
              <a:xfrm>
                <a:off x="4140360" y="2781360"/>
                <a:ext cx="599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01"/>
              <p:cNvSpPr txBox="1"/>
              <p:nvPr/>
            </p:nvSpPr>
            <p:spPr>
              <a:xfrm>
                <a:off x="6588000" y="3357720"/>
                <a:ext cx="5241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02"/>
              <p:cNvSpPr txBox="1"/>
              <p:nvPr/>
            </p:nvSpPr>
            <p:spPr>
              <a:xfrm>
                <a:off x="1908000" y="3789360"/>
                <a:ext cx="723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4"/>
              <p:cNvSpPr txBox="1"/>
              <p:nvPr/>
            </p:nvSpPr>
            <p:spPr>
              <a:xfrm>
                <a:off x="6659640" y="3860640"/>
                <a:ext cx="3826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Text Box 207"/>
          <p:cNvSpPr/>
          <p:nvPr/>
        </p:nvSpPr>
        <p:spPr>
          <a:xfrm>
            <a:off x="3135600" y="141300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cninné funkce, konst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47640" y="2133720"/>
          <a:ext cx="5669280" cy="3600360"/>
        </p:xfrm>
        <a:graphic>
          <a:graphicData uri="http://schemas.openxmlformats.org/drawingml/2006/table">
            <a:tbl>
              <a:tblPr/>
              <a:tblGrid>
                <a:gridCol w="1554480"/>
                <a:gridCol w="2057400"/>
                <a:gridCol w="2057400"/>
              </a:tblGrid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 k ní primitiv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ční obor integrál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sin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-cos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cos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sin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tg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- ln cos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- ln (-cosx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cotg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ln sin 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ln (-sin 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103"/>
          <p:cNvSpPr/>
          <p:nvPr/>
        </p:nvSpPr>
        <p:spPr>
          <a:xfrm>
            <a:off x="3206880" y="11253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niometrické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7"/>
              <p:cNvSpPr txBox="1"/>
              <p:nvPr/>
            </p:nvSpPr>
            <p:spPr>
              <a:xfrm>
                <a:off x="5580000" y="3284640"/>
                <a:ext cx="523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Rectangle 1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9"/>
              <p:cNvSpPr txBox="1"/>
              <p:nvPr/>
            </p:nvSpPr>
            <p:spPr>
              <a:xfrm>
                <a:off x="5580000" y="2781360"/>
                <a:ext cx="523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Rectangle 1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7"/>
              <p:cNvSpPr txBox="1"/>
              <p:nvPr/>
            </p:nvSpPr>
            <p:spPr>
              <a:xfrm>
                <a:off x="5292720" y="3716280"/>
                <a:ext cx="1752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1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25"/>
              <p:cNvSpPr txBox="1"/>
              <p:nvPr/>
            </p:nvSpPr>
            <p:spPr>
              <a:xfrm>
                <a:off x="5364000" y="4221000"/>
                <a:ext cx="1714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2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27"/>
              <p:cNvSpPr txBox="1"/>
              <p:nvPr/>
            </p:nvSpPr>
            <p:spPr>
              <a:xfrm>
                <a:off x="5364000" y="4869000"/>
                <a:ext cx="1400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π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13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29"/>
              <p:cNvSpPr txBox="1"/>
              <p:nvPr/>
            </p:nvSpPr>
            <p:spPr>
              <a:xfrm>
                <a:off x="5364000" y="5300640"/>
                <a:ext cx="17240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38440" y="2143080"/>
          <a:ext cx="5668920" cy="1805040"/>
        </p:xfrm>
        <a:graphic>
          <a:graphicData uri="http://schemas.openxmlformats.org/drawingml/2006/table">
            <a:tbl>
              <a:tblPr/>
              <a:tblGrid>
                <a:gridCol w="1554120"/>
                <a:gridCol w="2057400"/>
                <a:gridCol w="205740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kce k ní primitiv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ční obor integrál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12240">
                      <a:solidFill>
                        <a:srgbClr val="33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a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ln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33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x (ln x – 1)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33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102"/>
          <p:cNvSpPr/>
          <p:nvPr/>
        </p:nvSpPr>
        <p:spPr>
          <a:xfrm>
            <a:off x="2489760" y="105264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onenciální funkce a logaritm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3"/>
              <p:cNvSpPr txBox="1"/>
              <p:nvPr/>
            </p:nvSpPr>
            <p:spPr>
              <a:xfrm>
                <a:off x="5580000" y="2708280"/>
                <a:ext cx="523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9"/>
              <p:cNvSpPr txBox="1"/>
              <p:nvPr/>
            </p:nvSpPr>
            <p:spPr>
              <a:xfrm>
                <a:off x="5651640" y="3141720"/>
                <a:ext cx="3841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0"/>
              <p:cNvSpPr txBox="1"/>
              <p:nvPr/>
            </p:nvSpPr>
            <p:spPr>
              <a:xfrm>
                <a:off x="5651640" y="3573360"/>
                <a:ext cx="382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11"/>
              <p:cNvSpPr txBox="1"/>
              <p:nvPr/>
            </p:nvSpPr>
            <p:spPr>
              <a:xfrm>
                <a:off x="3419640" y="2997360"/>
                <a:ext cx="533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4009320" y="9288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lší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4214880" y="1571760"/>
                <a:ext cx="1066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4071960" y="2143080"/>
                <a:ext cx="1333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26000" y="1818360"/>
            <a:ext cx="611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-li f(x) spojitá v otevřeném intervalu J a k libovolné reálné číslo, pak v intervalu J plat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059280" y="2276640"/>
                <a:ext cx="2449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Rectangle 7"/>
          <p:cNvSpPr/>
          <p:nvPr/>
        </p:nvSpPr>
        <p:spPr>
          <a:xfrm>
            <a:off x="900000" y="3283920"/>
            <a:ext cx="58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sou-li f(x) a g(x) spojité v otevřeném intervalu J, pak v tomto intervalu plat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433600" y="4149720"/>
                <a:ext cx="4275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 Box 8"/>
          <p:cNvSpPr/>
          <p:nvPr/>
        </p:nvSpPr>
        <p:spPr>
          <a:xfrm>
            <a:off x="2989080" y="90792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ěty pro výpočty s integr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700360" y="765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tegrační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493080" y="141300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er parté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684360" y="2997360"/>
                <a:ext cx="777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Text Box 7"/>
          <p:cNvSpPr/>
          <p:nvPr/>
        </p:nvSpPr>
        <p:spPr>
          <a:xfrm>
            <a:off x="955080" y="2297160"/>
            <a:ext cx="70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í-li funkce u, v v intervalu (a,b) spojité derivace, pak v (a,b)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407240" y="450864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žití pro integraci součinu funkcí, které mají v (a,b) deriva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7:30:48Z</dcterms:created>
  <dc:creator>VOŠ a SPŠ Strakonice</dc:creator>
  <dc:description/>
  <dc:language>en-US</dc:language>
  <cp:lastModifiedBy>telingerova</cp:lastModifiedBy>
  <dcterms:modified xsi:type="dcterms:W3CDTF">2011-10-10T12:15:21Z</dcterms:modified>
  <cp:revision>33</cp:revision>
  <dc:subject/>
  <dc:title>Snímek 1</dc:title>
</cp:coreProperties>
</file>