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B59-7102-4550-B5C7-CFD4E09E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AD3-AD42-4C28-B9EC-2432674C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270-FF59-45E6-98F9-D16B4799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D58-AD9F-478B-8DB8-68D9D61B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5B5-5077-4A28-97CE-F96B5C0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AEA-F26A-4F7A-BE45-AB6E162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F3B-3B24-4197-B934-0A297EB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826-A483-4A76-A629-4E00D58A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719-4EFE-442F-A757-E7274526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454-2E8E-41A8-B2D3-D17ED29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F3C-3699-45BE-BD91-3927CAB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846-A589-4A9E-A0D2-84DDEE6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37AC-02D6-4F89-A41D-1554137F423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107E-4703-4188-B7F2-161EA3E95E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420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binatorika, binomická vě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55800" y="63972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INOMICKÁ 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všechna čísla a,b a každé přirozené číslo 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39640" y="1844640"/>
                <a:ext cx="7740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975960" y="3573360"/>
            <a:ext cx="39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BINOMICKÝ RO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-tý člen binomického rozvoje výra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03640" y="3789360"/>
                <a:ext cx="792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sSup>
                      <m:e>
                        <m:eqArr>
                          <m:e>
                            <m:r>
                              <m:t xml:space="preserve">n</m:t>
                            </m:r>
                          </m:e>
                        </m:eqAr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32000" y="4869000"/>
                <a:ext cx="22320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KOMBINATO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2880" y="134136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auka o skupin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720" y="2081160"/>
            <a:ext cx="756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tvoření skupin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( k-tic) ze základní množiny Z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ležitá otáz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leží na pořadí vybíraných prv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vě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O – jde o variace nebo permu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   -  jde o kombi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120" y="981000"/>
            <a:ext cx="8654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ERMUTACE   BEZ 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množina Z nabízí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bírané skupiny obsahují všech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vků a liší se jejich pořadím, prvky se neopak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! (čti en faktoriál) = součin všech přirozených čísel od n až do jed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!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050920" y="2421000"/>
                <a:ext cx="4680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246680" y="4240080"/>
            <a:ext cx="56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ka způsoby si může sednout na lavičku 5 chlapc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5) = 5! = 5.4.3.2.1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ůsobů rozmístění chlapců je 1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3040" y="692280"/>
            <a:ext cx="7554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                     </a:t>
            </a: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PERMUTACE S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 množina Z nabízí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k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írané skupiny obsahují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ků  k</a:t>
            </a:r>
            <a:r>
              <a:rPr b="0" lang="en-US" sz="1800" spc="-1" strike="noStrike">
                <a:solidFill>
                  <a:srgbClr val="000000"/>
                </a:solidFill>
                <a:latin typeface="Shruti"/>
                <a:ea typeface="Shruti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n, protože některé prvky se opak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1.prvek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Shruti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-krát, 2.prvek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Shruti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Shruti"/>
              </a:rPr>
              <a:t>-krát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or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403280" y="2349360"/>
                <a:ext cx="6394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978840" y="3860640"/>
            <a:ext cx="70783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ka způsoby rozmístíme vedle sebe na polici 2romány, 3básn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írky a 5životopis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;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;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3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0) =           = 2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hy můžeme na polici rozmístit 2520 způ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40000" y="5084640"/>
                <a:ext cx="584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4320" y="9079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IACE BEZ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360" y="155736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základní množiny Z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vybíráme skup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   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ky se neopak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orec                                                                             počet činitelů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63640" y="2421000"/>
                <a:ext cx="4608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83440" y="3592440"/>
            <a:ext cx="63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ik existuje dvojmístných čísel utvořených z číslic 1;2;3;4;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kterých se cifry neopak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(2;5) = 5.4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ovaných čísel je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15240" y="9079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IACE S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080" y="155736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základní množiny Z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vybíráme skup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      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ky se mohou opak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24000" y="2421000"/>
                <a:ext cx="1871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739440" y="366552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k existuje dvojmístných čísel utvořených z číslic 1;2;3;4;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´(2;5) =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žadovaných čísel je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70320" y="566640"/>
            <a:ext cx="67492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KOMBINACE BEZ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základní množ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íráme neuspořádané (nezáleží na pořadí) skup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ky se neopak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kombinační čísl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čti: en nad 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54200" y="2276640"/>
                <a:ext cx="30258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42920" y="3068640"/>
                <a:ext cx="4431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812880" y="4168800"/>
            <a:ext cx="642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k různých tříčlenných družstev můžeme vybrat z 10 žá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(3;10) =                 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žstev může být 1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35280" y="5300640"/>
                <a:ext cx="10872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48320" y="260280"/>
            <a:ext cx="68788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0066ff"/>
                </a:solidFill>
                <a:latin typeface="Arial"/>
              </a:rPr>
              <a:t>KOMBINACE S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základní množ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íráme neuspořádané skupiny 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v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ý prvek se ve vybírané skupině může opakovat nejvýše k-kr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2060640"/>
                <a:ext cx="2664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047240" y="3429000"/>
            <a:ext cx="643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trhu mají v dostatečném množství 5 druhů sazenic oku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k je variant nákupu 7 kusů sazen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´(7;5) =                                  =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kusů sazenic můžeme nakoupit 330 způ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31920" y="5013360"/>
                <a:ext cx="19051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0080" y="639720"/>
            <a:ext cx="55375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PASCALŮV TROJÚHEL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              n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  1             n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 2   1           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3    3  1        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4   6   4  1       n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 5  10 10  5 1     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95640" y="1125360"/>
                <a:ext cx="175752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90480" y="4525920"/>
            <a:ext cx="5778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ždý řáde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číná a končí číslem 1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ísla souměrná podle prostředku řádku jsou si rovna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čet sousedních čísel = číslo v mezeře pod nimi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300720" y="4437000"/>
                <a:ext cx="86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516720" y="5013360"/>
                <a:ext cx="87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372360" y="5589720"/>
                <a:ext cx="14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1-01-14T12:17:55Z</dcterms:modified>
  <cp:revision>59</cp:revision>
  <dc:subject/>
  <dc:title>POSLOUPNOSTI</dc:title>
</cp:coreProperties>
</file>