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ABA-A303-4E34-BCB7-7D7C1FBF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AC7-9FDD-4069-89CF-DC7A9D8B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D7B-DC61-4409-BD6E-12057D92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BF0-91E8-4568-B12C-AC036BFB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07A-C220-4ABA-B325-D12B76F0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79A-18A3-446B-9A33-41C63CF0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292-38F2-4576-BBCB-FE6B0486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D51-2E23-4A6A-89EF-C9F85403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7C5-8C65-4A05-95C5-31D21823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11B-C703-48D2-829A-DBBF5FA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015-F7BE-4AA0-B1D5-0E87F3C9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2AF-10AE-4BDD-AA82-C0F4BE0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331-05E8-4D46-947C-508F6D5BA6C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B4F9-8A7E-45AB-AB70-9EAFB820E87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2560" y="2276640"/>
            <a:ext cx="67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CNINY, ODMOCNINY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ICKÉ VÝRA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8200" y="4365720"/>
            <a:ext cx="40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96920" y="1504800"/>
            <a:ext cx="749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ělení mnohočlenu jednočlen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ždý člen mnohočlenu vydělíme daným jednočle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eficienty se vydělí a exponenty proměnné se odečíta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8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x) : 2x =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x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m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ělení mnohočlenu mnohočlen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ělení beze zbytku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ělení se zbytke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ělení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Rectangle 3"/>
              <p:cNvSpPr txBox="1"/>
              <p:nvPr/>
            </p:nvSpPr>
            <p:spPr>
              <a:xfrm>
                <a:off x="2413080" y="374184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1116000" y="4221000"/>
            <a:ext cx="2533680" cy="169560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5095800" y="4113360"/>
            <a:ext cx="3143160" cy="18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klad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9720" y="1628640"/>
            <a:ext cx="85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klad mnohočlenu je vyjádření mnohočlen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čin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dnodušších mnohočle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působy rozkladu mnohočle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9720" y="3141720"/>
            <a:ext cx="701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tknutí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olečného činitele před záv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ac-2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0ab=2a(3c-2a+5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x-6y-1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9xy=2(4x-3y)-3x(4x-3y)=(4x-3y)(2-3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549360"/>
            <a:ext cx="763272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klad užitím vzor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b)(a-b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2ab+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b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-b)(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ab+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2ab+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-b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b)(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ab+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3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+3a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b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3a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+3a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-b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933720"/>
            <a:ext cx="77752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klad kvadratického trojčlen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px+q=(x+a)(x+b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hledaná čísl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lat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jich součet =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+b=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jich součin=q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.b=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19600" y="76500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e: www.aristoteles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cniny s přirozeným exponen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83560" y="2276640"/>
            <a:ext cx="612576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-tá mocnina libovolného reálného čísla  a  je definová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= a.a.a…….a  (n-kr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      základ  (mocněn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     exponent  (mocnit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440" y="1916280"/>
            <a:ext cx="7238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-tá mocnina libovolného nenulového reálného čísla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je definová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    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cniny s celočíselným exponen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Rectangle 3"/>
              <p:cNvSpPr txBox="1"/>
              <p:nvPr/>
            </p:nvSpPr>
            <p:spPr>
              <a:xfrm>
                <a:off x="4788000" y="3357720"/>
                <a:ext cx="81432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cniny s racionálním exponent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odmocnin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Rectangle 3"/>
              <p:cNvSpPr txBox="1"/>
              <p:nvPr/>
            </p:nvSpPr>
            <p:spPr>
              <a:xfrm>
                <a:off x="4500720" y="2205000"/>
                <a:ext cx="255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634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080" y="2297160"/>
            <a:ext cx="58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cnina s racionálním mocnitelem         je definován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Rectangle 3"/>
              <p:cNvSpPr txBox="1"/>
              <p:nvPr/>
            </p:nvSpPr>
            <p:spPr>
              <a:xfrm>
                <a:off x="3132000" y="3078000"/>
                <a:ext cx="252108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q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349800" y="4941720"/>
            <a:ext cx="17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, q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idla pro počítání s mocnina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Rectangle 3"/>
              <p:cNvSpPr txBox="1"/>
              <p:nvPr/>
            </p:nvSpPr>
            <p:spPr>
              <a:xfrm>
                <a:off x="1979640" y="2349360"/>
                <a:ext cx="1655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Rectangle 3"/>
              <p:cNvSpPr txBox="1"/>
              <p:nvPr/>
            </p:nvSpPr>
            <p:spPr>
              <a:xfrm>
                <a:off x="1979640" y="3068640"/>
                <a:ext cx="16574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Rectangle 3"/>
              <p:cNvSpPr txBox="1"/>
              <p:nvPr/>
            </p:nvSpPr>
            <p:spPr>
              <a:xfrm>
                <a:off x="1979640" y="3789360"/>
                <a:ext cx="1440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Rectangle 3"/>
              <p:cNvSpPr txBox="1"/>
              <p:nvPr/>
            </p:nvSpPr>
            <p:spPr>
              <a:xfrm>
                <a:off x="2050920" y="4724280"/>
                <a:ext cx="16812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124000" y="5445000"/>
                <a:ext cx="14400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494520" y="1484280"/>
            <a:ext cx="15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, r,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98800" y="3141720"/>
            <a:ext cx="6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70080" y="5661000"/>
            <a:ext cx="6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ické výra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1920" y="1413000"/>
            <a:ext cx="750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ebraický vý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výraz, který vznikne zápisem konstant (mají stálou hodnotu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ěnných (lze za ně dosadit jakékoli číslo z definičního oboru výrazu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dné či více početních oper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213000"/>
            <a:ext cx="65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kla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ických výraz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+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(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Rectangle 3"/>
              <p:cNvSpPr txBox="1"/>
              <p:nvPr/>
            </p:nvSpPr>
            <p:spPr>
              <a:xfrm>
                <a:off x="6084720" y="3573360"/>
                <a:ext cx="2858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15600" y="4437000"/>
            <a:ext cx="70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dnotu algebraického výraz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staneme dosazením povol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ísla z definičního oboru výrazu a výpoč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400" y="530064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ionální výraz - neobsahuje odmocn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cionální výraz - obsahuje odmocn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ohočleny (polynom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150480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 je racionální celistvý vý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6280" y="2133720"/>
            <a:ext cx="374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+…+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x+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960" y="2997360"/>
            <a:ext cx="382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peň polynomu   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eficienty  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= proměn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liví sčítanci = členy polyno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7280" y="4529160"/>
            <a:ext cx="393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e s mnohočlen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čít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dečít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á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oz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čítání a odečítání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8160" y="1576440"/>
            <a:ext cx="688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čítat a odečítat můžeme koeficienty členů se stejnými expone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dečíst mnohočlen znamená přičíst mnohočlen opač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a – 3b) + (5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b) – (6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7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(b + 2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a – 3b +5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b – 6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7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b – 2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a + 6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6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6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sobení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0840" y="162864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každý člen jednoho mnohočlenu vynásobíme každým členem druh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ohočl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ři násobení se koeficienty vynásobí a exponenty proměnné se sečt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7800" y="3284640"/>
            <a:ext cx="58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3x + 4).(1 – 2x) =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0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3x + 6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 – 8x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-10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1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1x + 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0-06-24T11:33:09Z</dcterms:modified>
  <cp:revision>48</cp:revision>
  <dc:subject/>
  <dc:title>POSLOUPNOSTI</dc:title>
</cp:coreProperties>
</file>