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311-46F4-4B37-BF7F-D7822612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51F-8B6C-48A3-A896-B358ABD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D88-76FD-4248-84E8-4FA00310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AA9-BD16-4C19-86EC-E76149DB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3C0-F776-452F-99D5-D0639DA4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9EA-661B-4556-8A1E-C032E35E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2B2-5029-40D2-BACD-1597771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333-F185-4572-82B7-99BA65A1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673-79F8-417A-8CD8-5FEF6C16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67C-5321-4115-9754-0A98E47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194-141F-45EA-A3A4-8FB1E28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74A-0218-49F7-90F5-0262EFB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8F5D-B0AA-434C-AC89-5A55796F94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B17C-13E7-4752-989B-F755739B4A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c00000"/>
                </a:solidFill>
                <a:latin typeface="Calibri"/>
              </a:rPr>
              <a:t>DERIVACE  FUNK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hart 3" descr=""/>
          <p:cNvPicPr/>
          <p:nvPr/>
        </p:nvPicPr>
        <p:blipFill>
          <a:blip r:embed="rId1"/>
          <a:stretch/>
        </p:blipFill>
        <p:spPr>
          <a:xfrm>
            <a:off x="1852560" y="2639880"/>
            <a:ext cx="5511960" cy="360864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7"/>
          <p:cNvSpPr/>
          <p:nvPr/>
        </p:nvSpPr>
        <p:spPr>
          <a:xfrm>
            <a:off x="4221360" y="29289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y = sin 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874920" y="630864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loga_bar"/>
          <p:cNvPicPr/>
          <p:nvPr/>
        </p:nvPicPr>
        <p:blipFill>
          <a:blip r:embed="rId2"/>
          <a:stretch/>
        </p:blipFill>
        <p:spPr>
          <a:xfrm>
            <a:off x="1258920" y="189000"/>
            <a:ext cx="6769080" cy="10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"/>
          <p:cNvSpPr/>
          <p:nvPr/>
        </p:nvSpPr>
        <p:spPr>
          <a:xfrm>
            <a:off x="2867760" y="500040"/>
            <a:ext cx="31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Průběh fun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2"/>
          <p:cNvSpPr/>
          <p:nvPr/>
        </p:nvSpPr>
        <p:spPr>
          <a:xfrm>
            <a:off x="731160" y="1214280"/>
            <a:ext cx="42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stačující podmínka ryzí monotónnosti fun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3"/>
          <p:cNvSpPr/>
          <p:nvPr/>
        </p:nvSpPr>
        <p:spPr>
          <a:xfrm>
            <a:off x="938880" y="1643040"/>
            <a:ext cx="709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chť funkce f je spojitá na uzavřeném interval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,b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a má v každém bodě x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erivaci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k plat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e-li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) &lt; 0 pro každé x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a,b), je funkce klesající na &lt;a,b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) je-li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) &gt; 0 pro každé x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a,b), je funkce rostoucí na &lt;a,b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"/>
          <p:cNvSpPr/>
          <p:nvPr/>
        </p:nvSpPr>
        <p:spPr>
          <a:xfrm>
            <a:off x="1013040" y="85716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utná podmínka pro lokální extrémy spojité funkce na intervalu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2"/>
          <p:cNvSpPr/>
          <p:nvPr/>
        </p:nvSpPr>
        <p:spPr>
          <a:xfrm>
            <a:off x="748440" y="1500120"/>
            <a:ext cx="71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Lokální extrém může nastat  jen bodech, kdy je tečna rovnoběžná s osou x tj. </a:t>
            </a:r>
            <a:r>
              <a:rPr b="0" lang="cs-CZ" sz="16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cs-CZ" sz="1600" spc="-1" strike="noStrike">
                <a:solidFill>
                  <a:srgbClr val="ff0000"/>
                </a:solidFill>
                <a:latin typeface="Calibri"/>
              </a:rPr>
              <a:t>(x)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) neexistu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3"/>
          <p:cNvSpPr/>
          <p:nvPr/>
        </p:nvSpPr>
        <p:spPr>
          <a:xfrm>
            <a:off x="1001160" y="2214720"/>
            <a:ext cx="6606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á-li funkce f(x) v bodě x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hodnotu derivace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) = 0 a existuje-li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), p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e-li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) &lt; 0, má funkce v bodě  x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lokální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e-li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) &gt; 0, má funkce v bodě  x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lokální min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e-li 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’’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) = 0, nelze o existenci extrému rozhodnout pomocí druhé deriv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714240" y="1683720"/>
            <a:ext cx="785844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je sudé a f</a:t>
            </a:r>
            <a:r>
              <a:rPr b="0" lang="cs-CZ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(n)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&gt; 0, je funkce f v bodě 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ryze konvexní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je sudé a f</a:t>
            </a:r>
            <a:r>
              <a:rPr b="0" lang="cs-CZ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(n)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&lt; 0, je funkce f v bodě 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ryze konkávní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je liché, funkce má v bodě 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inflexní bod a její graf v případě f</a:t>
            </a:r>
            <a:r>
              <a:rPr b="0" lang="cs-CZ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(n)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&gt; 0 z polohy pod tečnou do polohy nad tečnou (c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a v případě f</a:t>
            </a:r>
            <a:r>
              <a:rPr b="0" lang="cs-CZ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(n)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&lt; 0 přechází  polohy nad tečnou do polohy pod tečnou (c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2"/>
          <p:cNvSpPr/>
          <p:nvPr/>
        </p:nvSpPr>
        <p:spPr>
          <a:xfrm>
            <a:off x="3790440" y="3571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Inflexní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"/>
          <p:cNvSpPr/>
          <p:nvPr/>
        </p:nvSpPr>
        <p:spPr>
          <a:xfrm>
            <a:off x="642960" y="928800"/>
            <a:ext cx="69292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á-li fce f  v bodě 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n – tou derivaci (n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2) a platí-li f“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= f ´´´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= . . .  = f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(n - 1)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, f</a:t>
            </a:r>
            <a:r>
              <a:rPr b="0" lang="cs-CZ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(n)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x</a:t>
            </a:r>
            <a:r>
              <a:rPr b="0" lang="cs-CZ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0, pak jestliž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5880" y="4071960"/>
          <a:ext cx="7500960" cy="1857240"/>
        </p:xfrm>
        <a:graphic>
          <a:graphicData uri="http://schemas.openxmlformats.org/drawingml/2006/table">
            <a:tbl>
              <a:tblPr/>
              <a:tblGrid>
                <a:gridCol w="1928880"/>
                <a:gridCol w="1643040"/>
                <a:gridCol w="2054160"/>
                <a:gridCol w="1874880"/>
              </a:tblGrid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cs-CZ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cs-CZ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5" descr="sejmout0001"/>
          <p:cNvPicPr/>
          <p:nvPr/>
        </p:nvPicPr>
        <p:blipFill>
          <a:blip r:embed="rId1"/>
          <a:srcRect l="3551" t="0" r="8335" b="35416"/>
          <a:stretch/>
        </p:blipFill>
        <p:spPr>
          <a:xfrm>
            <a:off x="1071720" y="4643280"/>
            <a:ext cx="1436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sejmout0002"/>
          <p:cNvPicPr/>
          <p:nvPr/>
        </p:nvPicPr>
        <p:blipFill>
          <a:blip r:embed="rId2"/>
          <a:srcRect l="0" t="5837" r="0" b="40961"/>
          <a:stretch/>
        </p:blipFill>
        <p:spPr>
          <a:xfrm>
            <a:off x="2786040" y="4643280"/>
            <a:ext cx="1500120" cy="93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sejmout0003"/>
          <p:cNvPicPr/>
          <p:nvPr/>
        </p:nvPicPr>
        <p:blipFill>
          <a:blip r:embed="rId3"/>
          <a:srcRect l="0" t="6807" r="0" b="24585"/>
          <a:stretch/>
        </p:blipFill>
        <p:spPr>
          <a:xfrm>
            <a:off x="4572000" y="4572000"/>
            <a:ext cx="1714680" cy="11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sejmout0004"/>
          <p:cNvPicPr/>
          <p:nvPr/>
        </p:nvPicPr>
        <p:blipFill>
          <a:blip r:embed="rId4"/>
          <a:srcRect l="0" t="8368" r="0" b="22222"/>
          <a:stretch/>
        </p:blipFill>
        <p:spPr>
          <a:xfrm>
            <a:off x="6643800" y="4643280"/>
            <a:ext cx="1643040" cy="10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1571760" y="2214720"/>
                <a:ext cx="342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2000160" y="2143080"/>
                <a:ext cx="8636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"/>
              <p:cNvSpPr txBox="1"/>
              <p:nvPr/>
            </p:nvSpPr>
            <p:spPr>
              <a:xfrm>
                <a:off x="1527120" y="2916360"/>
                <a:ext cx="19652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28" name="Rectangle 4"/>
          <p:cNvSpPr/>
          <p:nvPr/>
        </p:nvSpPr>
        <p:spPr>
          <a:xfrm>
            <a:off x="658440" y="1329120"/>
            <a:ext cx="76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římka y = kx + q je asymtotou funkce f v bodě +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- 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právě když existují konečné lim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567240" y="10242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délník 8"/>
          <p:cNvSpPr/>
          <p:nvPr/>
        </p:nvSpPr>
        <p:spPr>
          <a:xfrm>
            <a:off x="3858840" y="500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symp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8"/>
          <p:cNvSpPr/>
          <p:nvPr/>
        </p:nvSpPr>
        <p:spPr>
          <a:xfrm>
            <a:off x="1908000" y="26028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’</a:t>
            </a: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Hospitalovo pravid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35" name="Group 18"/>
          <p:cNvGrpSpPr/>
          <p:nvPr/>
        </p:nvGrpSpPr>
        <p:grpSpPr>
          <a:xfrm>
            <a:off x="1331280" y="1773360"/>
            <a:ext cx="6523200" cy="3255840"/>
            <a:chOff x="1331280" y="1773360"/>
            <a:chExt cx="6523200" cy="3255840"/>
          </a:xfrm>
        </p:grpSpPr>
        <mc:AlternateContent>
          <mc:Choice xmlns:a14="http://schemas.microsoft.com/office/drawing/2010/main" Requires="a14">
            <p:sp>
              <p:nvSpPr>
                <p:cNvPr id="136" name="Object 6"/>
                <p:cNvSpPr txBox="1"/>
                <p:nvPr/>
              </p:nvSpPr>
              <p:spPr>
                <a:xfrm>
                  <a:off x="1474560" y="2162160"/>
                  <a:ext cx="129672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7"/>
                <p:cNvSpPr txBox="1"/>
                <p:nvPr/>
              </p:nvSpPr>
              <p:spPr>
                <a:xfrm>
                  <a:off x="5148000" y="2089080"/>
                  <a:ext cx="138708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=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8"/>
                <p:cNvSpPr txBox="1"/>
                <p:nvPr/>
              </p:nvSpPr>
              <p:spPr>
                <a:xfrm>
                  <a:off x="3274920" y="2162160"/>
                  <a:ext cx="12171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Text Box 9"/>
            <p:cNvSpPr/>
            <p:nvPr/>
          </p:nvSpPr>
          <p:spPr>
            <a:xfrm>
              <a:off x="1383480" y="1773360"/>
              <a:ext cx="73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Nech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31280" y="340992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Existuje-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2"/>
                <p:cNvSpPr txBox="1"/>
                <p:nvPr/>
              </p:nvSpPr>
              <p:spPr>
                <a:xfrm>
                  <a:off x="2700000" y="3241800"/>
                  <a:ext cx="15793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f>
                        <m:num>
                          <m:sSup>
                            <m:e>
                              <m:r>
                                <m:t xml:space="preserve">f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Text Box 13"/>
            <p:cNvSpPr/>
            <p:nvPr/>
          </p:nvSpPr>
          <p:spPr>
            <a:xfrm>
              <a:off x="4427640" y="345780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existuje tak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15"/>
                <p:cNvSpPr txBox="1"/>
                <p:nvPr/>
              </p:nvSpPr>
              <p:spPr>
                <a:xfrm>
                  <a:off x="5940360" y="3241800"/>
                  <a:ext cx="1914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platí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6"/>
                <p:cNvSpPr txBox="1"/>
                <p:nvPr/>
              </p:nvSpPr>
              <p:spPr>
                <a:xfrm>
                  <a:off x="1403280" y="4249800"/>
                  <a:ext cx="27810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a</m:t>
                          </m:r>
                        </m:lim>
                      </m:limLow>
                      <m:f>
                        <m:num>
                          <m:sSup>
                            <m:e>
                              <m:r>
                                <m:t xml:space="preserve">f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8"/>
          <p:cNvSpPr/>
          <p:nvPr/>
        </p:nvSpPr>
        <p:spPr>
          <a:xfrm>
            <a:off x="900000" y="69228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Arial"/>
              </a:rPr>
              <a:t>Derivace funkce zadané implicit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2916360" y="3284640"/>
                <a:ext cx="305892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  <m:r>
                      <m:t xml:space="preserve">y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6"/>
          <p:cNvSpPr/>
          <p:nvPr/>
        </p:nvSpPr>
        <p:spPr>
          <a:xfrm>
            <a:off x="3492360" y="2421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(x,y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3"/>
          <p:cNvSpPr/>
          <p:nvPr/>
        </p:nvSpPr>
        <p:spPr>
          <a:xfrm>
            <a:off x="294120" y="1428840"/>
            <a:ext cx="86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2"/>
          <p:cNvSpPr/>
          <p:nvPr/>
        </p:nvSpPr>
        <p:spPr>
          <a:xfrm>
            <a:off x="1000080" y="2214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existuje-li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3429000" y="2928960"/>
                <a:ext cx="2260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Λ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Λ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Λy</m:t>
                        </m:r>
                      </m:num>
                      <m:den>
                        <m:r>
                          <m:t xml:space="preserve">Λ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TextovéPole 6"/>
          <p:cNvSpPr/>
          <p:nvPr/>
        </p:nvSpPr>
        <p:spPr>
          <a:xfrm>
            <a:off x="1000080" y="1571760"/>
            <a:ext cx="657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dána funkce y = f(x), která je definována v bodě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jeho okol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7"/>
          <p:cNvSpPr/>
          <p:nvPr/>
        </p:nvSpPr>
        <p:spPr>
          <a:xfrm>
            <a:off x="857160" y="4000680"/>
            <a:ext cx="800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zýváme ji derivací funkce f(x) v bodě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označujeme ji f´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) nebo y´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8"/>
          <p:cNvSpPr/>
          <p:nvPr/>
        </p:nvSpPr>
        <p:spPr>
          <a:xfrm>
            <a:off x="3438000" y="57168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Defi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1"/>
          <p:cNvSpPr/>
          <p:nvPr/>
        </p:nvSpPr>
        <p:spPr>
          <a:xfrm>
            <a:off x="785880" y="5716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53735"/>
                </a:solidFill>
                <a:latin typeface="Calibri"/>
              </a:rPr>
              <a:t>Geometrický význam derivace funkce v b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3"/>
          <p:cNvSpPr/>
          <p:nvPr/>
        </p:nvSpPr>
        <p:spPr>
          <a:xfrm>
            <a:off x="857160" y="5214960"/>
            <a:ext cx="810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v bodě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 derivace funkce f, pak tečna ke grafu funkce f v bod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1000080" y="5643720"/>
                <a:ext cx="1320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TextovéPole 5"/>
          <p:cNvSpPr/>
          <p:nvPr/>
        </p:nvSpPr>
        <p:spPr>
          <a:xfrm flipV="1" rot="10800000">
            <a:off x="2428920" y="5713920"/>
            <a:ext cx="394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rovnici y – f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) = 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)(x -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Skupina 10"/>
          <p:cNvGrpSpPr/>
          <p:nvPr/>
        </p:nvGrpSpPr>
        <p:grpSpPr>
          <a:xfrm>
            <a:off x="1785960" y="1285920"/>
            <a:ext cx="5143320" cy="3806640"/>
            <a:chOff x="1785960" y="1285920"/>
            <a:chExt cx="5143320" cy="3806640"/>
          </a:xfrm>
        </p:grpSpPr>
        <p:pic>
          <p:nvPicPr>
            <p:cNvPr id="59" name="Obrázek 7" descr="aaaaa.jpg"/>
            <p:cNvPicPr/>
            <p:nvPr/>
          </p:nvPicPr>
          <p:blipFill>
            <a:blip r:embed="rId1"/>
            <a:stretch/>
          </p:blipFill>
          <p:spPr>
            <a:xfrm>
              <a:off x="1785960" y="1285920"/>
              <a:ext cx="5143320" cy="38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ovéPole 8"/>
            <p:cNvSpPr/>
            <p:nvPr/>
          </p:nvSpPr>
          <p:spPr>
            <a:xfrm>
              <a:off x="4431240" y="2143080"/>
              <a:ext cx="43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31859c"/>
                  </a:solidFill>
                  <a:latin typeface="Symbol"/>
                  <a:ea typeface="Symbol"/>
                </a:rPr>
                <a:t></a:t>
              </a:r>
              <a:r>
                <a:rPr b="1" lang="cs-CZ" sz="1400" spc="-1" strike="noStrike">
                  <a:solidFill>
                    <a:srgbClr val="31859c"/>
                  </a:solidFill>
                  <a:latin typeface="Arial"/>
                </a:rPr>
                <a:t> </a:t>
              </a:r>
              <a:r>
                <a:rPr b="1" lang="cs-CZ" sz="1400" spc="-1" strike="noStrike">
                  <a:solidFill>
                    <a:srgbClr val="31859c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ovéPole 9"/>
            <p:cNvSpPr/>
            <p:nvPr/>
          </p:nvSpPr>
          <p:spPr>
            <a:xfrm>
              <a:off x="5002560" y="1785960"/>
              <a:ext cx="43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e46c0a"/>
                  </a:solidFill>
                  <a:latin typeface="Symbol"/>
                  <a:ea typeface="Symbol"/>
                </a:rPr>
                <a:t></a:t>
              </a:r>
              <a:r>
                <a:rPr b="1" lang="cs-CZ" sz="1400" spc="-1" strike="noStrike">
                  <a:solidFill>
                    <a:srgbClr val="e46c0a"/>
                  </a:solidFill>
                  <a:latin typeface="Arial"/>
                </a:rPr>
                <a:t> </a:t>
              </a:r>
              <a:r>
                <a:rPr b="1" lang="cs-CZ" sz="1400" spc="-1" strike="noStrike">
                  <a:solidFill>
                    <a:srgbClr val="e46c0a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"/>
          <p:cNvSpPr/>
          <p:nvPr/>
        </p:nvSpPr>
        <p:spPr>
          <a:xfrm>
            <a:off x="1500120" y="2071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1588320" y="785880"/>
            <a:ext cx="645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Derivace elementárních funkc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2"/>
          <p:cNvSpPr/>
          <p:nvPr/>
        </p:nvSpPr>
        <p:spPr>
          <a:xfrm>
            <a:off x="3504600" y="17859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stant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92360" y="3078000"/>
          <a:ext cx="6594480" cy="563760"/>
        </p:xfrm>
        <a:graphic>
          <a:graphicData uri="http://schemas.openxmlformats.org/drawingml/2006/table">
            <a:tbl>
              <a:tblPr/>
              <a:tblGrid>
                <a:gridCol w="2093760"/>
                <a:gridCol w="2143080"/>
                <a:gridCol w="2357640"/>
              </a:tblGrid>
              <a:tr h="213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ivace funkce v bodě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deriv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c  (c ... konsta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643800" y="3357720"/>
                <a:ext cx="3715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1"/>
          <p:cNvSpPr/>
          <p:nvPr/>
        </p:nvSpPr>
        <p:spPr>
          <a:xfrm>
            <a:off x="3438360" y="928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ocninné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92360" y="2712960"/>
          <a:ext cx="5759280" cy="930240"/>
        </p:xfrm>
        <a:graphic>
          <a:graphicData uri="http://schemas.openxmlformats.org/drawingml/2006/table">
            <a:tbl>
              <a:tblPr/>
              <a:tblGrid>
                <a:gridCol w="1758960"/>
                <a:gridCol w="2057400"/>
                <a:gridCol w="1942920"/>
              </a:tblGrid>
              <a:tr h="213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ivace funkce v bodě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deriv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x </a:t>
                      </a:r>
                      <a:r>
                        <a:rPr b="0" lang="cs-CZ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  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nx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-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6143760" y="3000240"/>
                <a:ext cx="585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4"/>
              <p:cNvSpPr txBox="1"/>
              <p:nvPr/>
            </p:nvSpPr>
            <p:spPr>
              <a:xfrm>
                <a:off x="2571840" y="328608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1"/>
          <p:cNvSpPr/>
          <p:nvPr/>
        </p:nvSpPr>
        <p:spPr>
          <a:xfrm>
            <a:off x="2370600" y="114300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ogaritmus, exponenciál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92360" y="3184560"/>
          <a:ext cx="5759280" cy="1887480"/>
        </p:xfrm>
        <a:graphic>
          <a:graphicData uri="http://schemas.openxmlformats.org/drawingml/2006/table">
            <a:tbl>
              <a:tblPr/>
              <a:tblGrid>
                <a:gridCol w="1758960"/>
                <a:gridCol w="2057400"/>
                <a:gridCol w="1942920"/>
              </a:tblGrid>
              <a:tr h="213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ivace funkce v bodě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deriv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ln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&gt;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&gt;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a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a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857760" y="3357720"/>
                <a:ext cx="152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5643720" y="4786200"/>
                <a:ext cx="8283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5643720" y="4429080"/>
                <a:ext cx="8283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1"/>
              <p:cNvSpPr txBox="1"/>
              <p:nvPr/>
            </p:nvSpPr>
            <p:spPr>
              <a:xfrm>
                <a:off x="1714680" y="3857760"/>
                <a:ext cx="8092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2"/>
              <p:cNvSpPr txBox="1"/>
              <p:nvPr/>
            </p:nvSpPr>
            <p:spPr>
              <a:xfrm>
                <a:off x="3571920" y="3786120"/>
                <a:ext cx="785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1"/>
          <p:cNvSpPr/>
          <p:nvPr/>
        </p:nvSpPr>
        <p:spPr>
          <a:xfrm>
            <a:off x="3077640" y="1000080"/>
            <a:ext cx="29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oniometrick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42960" y="2697120"/>
          <a:ext cx="6808680" cy="1676520"/>
        </p:xfrm>
        <a:graphic>
          <a:graphicData uri="http://schemas.openxmlformats.org/drawingml/2006/table">
            <a:tbl>
              <a:tblPr/>
              <a:tblGrid>
                <a:gridCol w="1500120"/>
                <a:gridCol w="2143080"/>
                <a:gridCol w="3165480"/>
              </a:tblGrid>
              <a:tr h="213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ivace funkce v bodě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deriv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sin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cos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cos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- sin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tg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k + 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  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cotg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´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  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4429080" y="3214800"/>
                <a:ext cx="3715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4429080" y="2928960"/>
                <a:ext cx="3715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2571840" y="3429000"/>
                <a:ext cx="457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4357800" y="3429000"/>
                <a:ext cx="6094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∧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5857920" y="3357720"/>
                <a:ext cx="162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4429080" y="421488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2571840" y="3857760"/>
                <a:ext cx="5619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4286160" y="3929040"/>
                <a:ext cx="609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∧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"/>
              <p:cNvSpPr txBox="1"/>
              <p:nvPr/>
            </p:nvSpPr>
            <p:spPr>
              <a:xfrm>
                <a:off x="4429080" y="371484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214280" y="339480"/>
            <a:ext cx="635796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Věty pro derivaci součtu, součinu, rozdílu a podí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2786040" y="3714840"/>
                <a:ext cx="851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3714840" y="3851280"/>
                <a:ext cx="16923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´v - uv´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2643120" y="2049840"/>
            <a:ext cx="44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u + v)´= u´+ v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u - v)´= u´- v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uv)´= u´v + uv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214280" y="339480"/>
            <a:ext cx="635796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Derivace součinu konstanty a fun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071800" y="2357280"/>
                <a:ext cx="5302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1:31:22Z</dcterms:created>
  <dc:creator>APPLE</dc:creator>
  <dc:description/>
  <dc:language>en-US</dc:language>
  <cp:lastModifiedBy>telingerova</cp:lastModifiedBy>
  <dcterms:modified xsi:type="dcterms:W3CDTF">2011-10-10T12:13:35Z</dcterms:modified>
  <cp:revision>52</cp:revision>
  <dc:subject/>
  <dc:title>DERIVACE  FUNKCE</dc:title>
</cp:coreProperties>
</file>