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6BE5-2373-47D0-9EAB-4CDC882C0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9DE8-7BA2-4FD1-8533-4B127647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6716-E11F-4943-9BFF-2F3758DFE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80B9-8F06-45DD-90C9-1B2EAA95C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E76B-1240-4757-A0FE-30FB83D0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7D14-3ECB-4356-8034-D0EA9C28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0629-C9D5-46DF-8E8F-E36B74B8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DC05-030A-43CC-B453-A35D3EA8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FC54-4B56-4A1D-AF5D-3D4F2B40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0A85-C082-41D1-8AB3-F0110A4B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A6C7-E434-4A6B-8A3E-6BDF3A6A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827E-F211-44C0-9815-E7EC9A36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3A16-F8F2-418E-9920-7BF5380F4C6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A4BA-F414-40F5-9219-5FA140FF0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5914800" y="5589720"/>
            <a:ext cx="19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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. Telinger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loga_bar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340000" y="2349360"/>
            <a:ext cx="457344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unkce I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3888000" cy="2895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788000" y="2205000"/>
            <a:ext cx="3743280" cy="2787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49800" y="5229360"/>
            <a:ext cx="223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kce om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á sh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09800" y="5229360"/>
            <a:ext cx="221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kce om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á zd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11280" y="18442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ve zvolené kartézské soustavě souřadnic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x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 rovině se nazývá množina všech bodů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 = 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; f(x)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(f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64360" y="784080"/>
            <a:ext cx="22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Graf funkce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03280" y="9075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 = -f(x), y = f(-x), y = f(x), y =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(x)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y = f(x) + q, y = f(x + p), y = kf(x), y = f(m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71640" y="2637000"/>
            <a:ext cx="712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y = - f(x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á graf souměrný s grafem funkce y = f(x) podle osy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y = f(-x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á graf souměrný s grafem funkce y = f(x) podle osy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y 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á část grafu totožnou s grafem funkce y = f(x) pro všechna x, pro něž je f(x) nezáporné, a část grafu totožnou s grafem funkce y = - f(x) pro všechna x, pro něž je f(x) zápor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y = f(x) + 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á graf, který dostanete posunutím grafu funkce y = f(x) ve směru osy y, (je-li q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 nahoru, je-li q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0 dolů, velikost posunutí j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57800" y="404640"/>
            <a:ext cx="377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SESTROJOVÁNÍ GRAFŮ FUNK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2205000"/>
            <a:ext cx="83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e-li znám graf funkce y = f(x), lze z něho dostat grafy následujících funkc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900000" y="1132560"/>
            <a:ext cx="7417080" cy="3385800"/>
            <a:chOff x="900000" y="1132560"/>
            <a:chExt cx="7417080" cy="3385800"/>
          </a:xfrm>
        </p:grpSpPr>
        <p:sp>
          <p:nvSpPr>
            <p:cNvPr id="90" name=""/>
            <p:cNvSpPr/>
            <p:nvPr/>
          </p:nvSpPr>
          <p:spPr>
            <a:xfrm>
              <a:off x="900000" y="1132560"/>
              <a:ext cx="741708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5. </a:t>
              </a:r>
              <a:r>
                <a:rPr b="1" lang="cs-CZ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y = f(x + p)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má graf, který dostanete posunutím grafu funkce y = f(x) ve směru osy x, (je-li q </a:t>
              </a:r>
              <a:r>
                <a:rPr b="0" lang="cs-CZ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vlevo, je-li q</a:t>
              </a:r>
              <a:r>
                <a:rPr b="0" lang="cs-CZ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 vpravo, velikost posunutí je </a:t>
              </a:r>
              <a:r>
                <a:rPr b="0" lang="cs-CZ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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</a:t>
              </a:r>
              <a:r>
                <a:rPr b="0" lang="cs-CZ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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6. </a:t>
              </a: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 = kf(x)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strojíme jako množinu bodů, jejichž y-ové  souřadnice jsou k-násobky příslušných y-ových souřadnic grafu funkce y = f(x) při týchž x-ových souřadnicí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7. </a:t>
              </a: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 = f(mx)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strojíme jako množinu bodů, jejichž y-ové  souřadnice jsou tytéž jako y-ové souřadnice grafu funkce y = f(x) pro 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    - násobky x – ových souřadnic grafu funkce y = f(x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6084720" y="3645000"/>
                  <a:ext cx="19080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m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459400" cy="40654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203640" y="1557360"/>
                <a:ext cx="23004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3566160" y="83664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Fun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2924280"/>
            <a:ext cx="770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Nechť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e podmnožina množin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šech reálných čísel. Funkc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 nazývá každá množina uspořádaných dvojic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, y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 x 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ro kterou platí: ke každému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istuje právě jed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ak, ž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, y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797360"/>
            <a:ext cx="70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Funkce se nazývá každé zobrazení množin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o množin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k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e libovolná podmnožina množin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šech reálných čís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3671640" cy="2733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88000" y="1844640"/>
            <a:ext cx="3671640" cy="2732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052000" y="4869000"/>
            <a:ext cx="99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 funk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8520" y="48690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ní funk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87280" y="76464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definiční obor funkce D(f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množina všec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ke kterým existuje právě jed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ak, ž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, y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169956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obor hodnot funkce H(f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ožina všec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ke kterým existuje alespoň jed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ak, ž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, y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47640" y="2997360"/>
            <a:ext cx="3645000" cy="2922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372360" y="3429000"/>
                <a:ext cx="151128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6226560" y="49417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(f): (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∞, 4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4,∞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26560" y="530064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(f): (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∞, 1)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1,∞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4160" y="24922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32360" y="476280"/>
            <a:ext cx="27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Vlastnosti funk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105228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dá 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kce f se nazývá sudá, jestliže pro všechna x z jejího definičního oboru je f(-x) = f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2060280"/>
            <a:ext cx="79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chá 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kce f se nazývá lichá, jestliže pro všechna x z jejího definičního oboru je f(-x) = - f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26920" y="3141720"/>
            <a:ext cx="3600720" cy="2681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03640" y="3141720"/>
            <a:ext cx="3600720" cy="268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050920" y="5877000"/>
            <a:ext cx="125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chá funk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57800" y="5877000"/>
            <a:ext cx="12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dá funk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11280" y="90792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odická 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kce f se nazývá periodická, jestliže existuje takové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, že pro všechna x z jejího definičního oboru je f(x + T) = f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627280" y="2637000"/>
            <a:ext cx="4438800" cy="33051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00000" y="166320"/>
            <a:ext cx="7775640" cy="26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kce rostoucí a klesají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dána funkce f a interval I, který je částí jejího definičního obo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kce f se nazývá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stouc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 intervalu I právě tehdy, když pro všechna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 platí: je-li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&lt; 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ak je f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&lt; f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kce f se nazývá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lesajíc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 intervalu I právě tehdy, když pro všechna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 platí: je-li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&lt; 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ak je f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&gt; f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42920" y="3213000"/>
            <a:ext cx="3299040" cy="2455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788000" y="3213000"/>
            <a:ext cx="3384360" cy="2521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798520" y="5877000"/>
            <a:ext cx="15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kce rostouc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08720" y="5805360"/>
            <a:ext cx="157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kce klesajíc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560520"/>
            <a:ext cx="820908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bsolutní extrémy 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bsolutní maximum funkce f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 intervalu J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azýváme takovou funkční hodnotu f(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, že pro všechna x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 platí f(x)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f(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bsolutní minimum funkce f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 intervalu J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azýváme takovou funkční hodnotu f(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, že pro všechna x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 platí f(x)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f(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26920" y="3284640"/>
            <a:ext cx="3384720" cy="2520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859280" y="3213000"/>
            <a:ext cx="3384720" cy="2519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623240" y="5877000"/>
            <a:ext cx="163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ximu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0, -2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944320" y="5877000"/>
            <a:ext cx="157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mu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0, -2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4360" y="1485360"/>
            <a:ext cx="8135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mezená 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-li funkce f definovaná na množině M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(f), pak se nazývá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dola omezen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rávě když existuje takové číslo 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, že pro všechna 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 platí f(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a omezen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rávě když existuje takové číslo 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, že pro všechna 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 platí f(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M zdola omezená, právě když je na M omezená shora a zd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VOŠ a SPŠ Strakonice</cp:lastModifiedBy>
  <dcterms:modified xsi:type="dcterms:W3CDTF">2010-09-13T11:33:37Z</dcterms:modified>
  <cp:revision>63</cp:revision>
  <dc:subject/>
  <dc:title>POSLOUPNOSTI</dc:title>
</cp:coreProperties>
</file>