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8AB-6EB9-4E68-810D-FDEF9ABD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D94-908E-4935-BB9F-873DB156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8FC-DE5E-47F0-86C7-BB806019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3B9-5A55-4E98-B9B5-763C1203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DBB2-D04F-4EFC-BB13-77C7AFC5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5AB-D0C3-49EC-B156-8C473CCE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21D-7435-49A1-85B4-F9B5337B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60D-146A-4E82-BF42-ACAF088A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52C-268F-4029-890B-7F278FBC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A3D-B5D7-442C-8DB9-C1D51D1C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2E9-C22B-474E-ACF9-44F0AF0A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253-DB86-4F10-B34F-FB8BE61B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0BAB-7C41-4520-8BFC-5B45E35D77A1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9C3E-9293-41E9-A0AB-071EB805FFB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8bitu.c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03480" y="2873520"/>
            <a:ext cx="470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MPLEXNÍ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r. Lenka Hruš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6200" y="349200"/>
            <a:ext cx="65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ŘEŠENÍ ROVNIC V OBORU KOMPLEXNÍCH ČÍSEL        x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280" y="1144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vnice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763640" y="1125360"/>
                <a:ext cx="180036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3708360" y="1197000"/>
            <a:ext cx="1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4800" y="11253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8560" y="193680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riminant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268360" y="1989000"/>
                <a:ext cx="13687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524160" y="2725560"/>
            <a:ext cx="697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-li                     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D&gt;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 rovnice pro  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cc00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ávě 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dva koř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D=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 rovnice pro  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vojnásobný 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koř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&lt;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 rovnice pro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ávě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va koře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o sdružená imaginární čí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348000" y="5157720"/>
                <a:ext cx="1440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651640" y="5157720"/>
                <a:ext cx="15127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596360" y="3728880"/>
                <a:ext cx="1152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348000" y="3112920"/>
                <a:ext cx="1440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19640" y="3114720"/>
                <a:ext cx="14400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4000" y="126756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8bitu.c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8920" y="3524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2060640"/>
            <a:ext cx="84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to rovnice nemá řešení v oboru reálných čís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lze odmocňovat záporná čís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 zavedeme nový prvek        pro který pla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0560" y="568440"/>
            <a:ext cx="390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VEDENÍ KOMPLEXNÍCH ČÍS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řeš kvadratickou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Rectangle 3"/>
              <p:cNvSpPr txBox="1"/>
              <p:nvPr/>
            </p:nvSpPr>
            <p:spPr>
              <a:xfrm>
                <a:off x="2432160" y="2597040"/>
                <a:ext cx="88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Rectangle 3"/>
              <p:cNvSpPr txBox="1"/>
              <p:nvPr/>
            </p:nvSpPr>
            <p:spPr>
              <a:xfrm>
                <a:off x="4427640" y="1100160"/>
                <a:ext cx="936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Rectangle 3"/>
              <p:cNvSpPr txBox="1"/>
              <p:nvPr/>
            </p:nvSpPr>
            <p:spPr>
              <a:xfrm>
                <a:off x="5508720" y="2637000"/>
                <a:ext cx="64764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611280" y="1700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Rectangle 3"/>
              <p:cNvSpPr txBox="1"/>
              <p:nvPr/>
            </p:nvSpPr>
            <p:spPr>
              <a:xfrm>
                <a:off x="4716360" y="1484280"/>
                <a:ext cx="7923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543600" y="292428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k řešení dané rovnice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716360" y="3141720"/>
                <a:ext cx="1008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/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716360" y="3500280"/>
                <a:ext cx="72072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635280" y="2637000"/>
                <a:ext cx="2224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55640" y="3789360"/>
                <a:ext cx="192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1263600" y="378936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azývá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maginární jedno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221000"/>
            <a:ext cx="67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komplexním číslem 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se nazývá uspořádaná dvojice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[</a:t>
            </a:r>
            <a:r>
              <a:rPr b="0" lang="cs-CZ" sz="1800" spc="-1" strike="noStrike">
                <a:solidFill>
                  <a:srgbClr val="99cc00"/>
                </a:solidFill>
                <a:latin typeface="Arial"/>
                <a:ea typeface="Arial"/>
              </a:rPr>
              <a:t>a;b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a       reálná čá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       imaginární čá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-li    a=0   nazývá se toto číslo ryze imaginární př.: 2i; -i;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-li    b=0   nazývá se toto číslo reálné                př.: 5; -8;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64920" y="568440"/>
            <a:ext cx="50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LGEBRAICKÝ TVAR KOMPLEXNÍHO ČÍ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341360"/>
            <a:ext cx="8353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99"/>
                </a:solidFill>
                <a:latin typeface="Arial"/>
              </a:rPr>
              <a:t>sčít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omplexních čís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99ff"/>
                </a:solidFill>
                <a:latin typeface="Arial"/>
              </a:rPr>
              <a:t>násob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omplexních čí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íslo </a:t>
            </a:r>
            <a:r>
              <a:rPr b="1" lang="cs-CZ" sz="1800" spc="-1" strike="noStrike">
                <a:solidFill>
                  <a:srgbClr val="66ff33"/>
                </a:solidFill>
                <a:latin typeface="Arial"/>
              </a:rPr>
              <a:t>komplexně sdruže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získáme změnou znaménka před imaginární čá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cc"/>
                </a:solidFill>
                <a:latin typeface="Arial"/>
              </a:rPr>
              <a:t>dělení</a:t>
            </a:r>
            <a:r>
              <a:rPr b="0" lang="cs-CZ" sz="1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plexních čí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velikos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plexního čí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9900"/>
                </a:solidFill>
                <a:latin typeface="Arial"/>
              </a:rPr>
              <a:t>komplexní jednotk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564000" y="2637000"/>
                <a:ext cx="225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58920" y="3284640"/>
                <a:ext cx="10796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771640" y="3213000"/>
                <a:ext cx="1152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924360" y="4653000"/>
                <a:ext cx="20430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156360" y="5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z=a+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492360" y="1347840"/>
                <a:ext cx="36007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708360" y="1919160"/>
                <a:ext cx="20876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b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708360" y="2212920"/>
                <a:ext cx="3672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156360" y="1916280"/>
                <a:ext cx="3808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924360" y="3716280"/>
                <a:ext cx="1224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788000" y="3284640"/>
                <a:ext cx="23414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492360" y="5516640"/>
                <a:ext cx="5050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54936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cniny imaginární jednot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00000" y="1916280"/>
                <a:ext cx="1063800" cy="22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56000" y="5157720"/>
                <a:ext cx="2520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851280" y="549360"/>
                <a:ext cx="193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2846160" y="1844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c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716360" y="1916280"/>
                <a:ext cx="1119240" cy="25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/>
                      <m:e>
                        <m:r>
                          <m:t xml:space="preserve">k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902520" y="5229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19840" y="568440"/>
            <a:ext cx="59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OMETRICKÉ ZNÁZORNĚNÍ KOMPLEXNÍCH ČÍ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4160" y="1144440"/>
            <a:ext cx="722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plexní čísla  z=a+bi  znázorňujeme v </a:t>
            </a:r>
            <a:r>
              <a:rPr b="1" lang="cs-CZ" sz="1800" spc="-1" strike="noStrike">
                <a:solidFill>
                  <a:srgbClr val="6699ff"/>
                </a:solidFill>
                <a:latin typeface="Arial"/>
              </a:rPr>
              <a:t>Gaussově rovi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álná část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se nanáší na osu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maginární část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se nanáší na osu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az komplexního čísla znázorníme pomocí souřadnic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;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ikost komplexního čísla 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=počátek soustavy souřad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332000" y="2708280"/>
          <a:ext cx="5832360" cy="344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5832360" cy="344016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340000" y="4076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+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90000" y="54658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-2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321300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+3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45640" y="41688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+0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35080" y="5321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2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6000" y="424008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+0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6360" y="4816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89440" y="458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5640" y="2800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11640" y="98100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NIOMETRICKÝ TVAR KOMPLEXNÍHO ČÍ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7840" y="100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5440" y="220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73280" y="373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984480" cy="4165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672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4720" y="54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4360" y="378936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;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272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65800" y="551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8360" y="515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9440" y="1700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=a+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43520" y="1628640"/>
            <a:ext cx="440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oniometrický tvar komplexního čísla z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jeho vyjádření ve tv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=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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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cos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  <a:ea typeface="Arial"/>
              </a:rPr>
              <a:t>φ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+isin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  <a:ea typeface="Arial"/>
              </a:rPr>
              <a:t>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tí: co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i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508720" y="3429000"/>
                <a:ext cx="277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838080" y="450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524720" y="3429000"/>
                <a:ext cx="277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862160" y="4653000"/>
            <a:ext cx="38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gumen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ískáme převedením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příslušného kvadra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96000" y="4508640"/>
                <a:ext cx="9367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 {</m:t>
                        </m:r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0560" y="333360"/>
            <a:ext cx="77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ČETNÍ OPERACE KOMPLEX. ČÍSEL V GONIOMETRICKÉM TVAR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2200" y="928800"/>
            <a:ext cx="758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99ff"/>
                </a:solidFill>
                <a:latin typeface="Arial"/>
              </a:rPr>
              <a:t>součin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99ff"/>
                </a:solidFill>
                <a:latin typeface="Arial"/>
              </a:rPr>
              <a:t>podíl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99ff"/>
                </a:solidFill>
                <a:latin typeface="Arial"/>
              </a:rPr>
              <a:t>n-tá moc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99ff"/>
                </a:solidFill>
                <a:latin typeface="Arial"/>
              </a:rPr>
              <a:t>Moivreova vě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každé přirozené číslo n a libovolné reálné číslo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a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71640" y="1413000"/>
                <a:ext cx="7164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00000" y="2708280"/>
                <a:ext cx="7344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971640" y="4724280"/>
                <a:ext cx="41036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40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INOMICKÁ ROV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ovaný t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56000" y="907920"/>
                <a:ext cx="13683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95280" y="1484280"/>
            <a:ext cx="7927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čet řešení je </a:t>
            </a: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a vzniknou odmocněním goniometrického tvaru </a:t>
            </a: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z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vzorce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koř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inomické rovnice</a:t>
            </a: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 lež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 Gaussově rovině </a:t>
            </a: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ve vrcholech pravidel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n-úhelní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epsaného do kružnice </a:t>
            </a: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se středem v počátku a polomě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916360" y="1484280"/>
                <a:ext cx="1008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916360" y="1916280"/>
                <a:ext cx="286524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050920" y="4653000"/>
                <a:ext cx="1800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812000" y="5589720"/>
                <a:ext cx="550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50920" y="3429000"/>
                <a:ext cx="52563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kπ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kπ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282720" y="20080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řevedeme na 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02880" y="1628640"/>
            <a:ext cx="6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88000" y="2133720"/>
            <a:ext cx="4356000" cy="415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92560" y="712800"/>
            <a:ext cx="701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příkla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      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 100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-1000       převedeme na goniometrický t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1000(cos180°+isin180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sadíme                      k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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;1;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08000" y="2565360"/>
                <a:ext cx="4825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kπ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kπ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333000" y="3860640"/>
            <a:ext cx="339948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10 (cos60°+isin60°) = 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10 (cos180°+isin180°) =-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10(cos300°+isin300°) = 5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348000" y="4076640"/>
                <a:ext cx="576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92360" y="5734080"/>
                <a:ext cx="576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1-04-26T08:52:32Z</dcterms:modified>
  <cp:revision>52</cp:revision>
  <dc:subject/>
  <dc:title>POSLOUPNOSTI</dc:title>
</cp:coreProperties>
</file>