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11F6-193B-4D55-B961-9AEEBEA14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DBE9-2FA7-477F-BF3B-26F315A82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102B-0E22-4684-AA7D-C277DB604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885F-ED95-4011-9024-1F428E925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D71C-858A-4A1C-8C01-961473445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40E7-4C20-404D-B969-08BCEE543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0D56-BFF4-4493-A69B-F5F6483AF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AD18-B305-4310-A234-31EFA179C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5050-E028-46DC-883B-B39FB4215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108D-0090-406F-936F-5FDD2F15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DFA5-ED55-4BE9-9943-FB9B0138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577A-2A02-4D3B-A810-D7A71973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65C3B-9E2F-41B6-AB18-E0474959018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b/b6/Geom_shodnost_translace.svg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f/fb/Geom_shodnost_rotace.svg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1042920" y="1989000"/>
            <a:ext cx="72010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Geometrická zobrazení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3" name="Picture 8" descr="loga_bar"/>
          <p:cNvPicPr/>
          <p:nvPr/>
        </p:nvPicPr>
        <p:blipFill>
          <a:blip r:embed="rId1"/>
          <a:stretch/>
        </p:blipFill>
        <p:spPr>
          <a:xfrm>
            <a:off x="1619280" y="549360"/>
            <a:ext cx="6264360" cy="9666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9"/>
          <p:cNvSpPr/>
          <p:nvPr/>
        </p:nvSpPr>
        <p:spPr>
          <a:xfrm>
            <a:off x="6067080" y="589752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. Telingero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3579840" y="539640"/>
            <a:ext cx="177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tejnolehl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"/>
          <p:cNvSpPr/>
          <p:nvPr/>
        </p:nvSpPr>
        <p:spPr>
          <a:xfrm>
            <a:off x="867600" y="1125360"/>
            <a:ext cx="72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 homotetie se středem souměrnosti S a koeficientem stejnolehlosti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 R,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0,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"/>
          <p:cNvSpPr/>
          <p:nvPr/>
        </p:nvSpPr>
        <p:spPr>
          <a:xfrm>
            <a:off x="600480" y="2060640"/>
            <a:ext cx="831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raz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bodu 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je bod 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raz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bodu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M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je bo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’ tako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pro vekto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M, SM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platí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. S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856800" y="3284640"/>
            <a:ext cx="634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-li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&gt; 0 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1), je obraz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bodu M na polopřímce SM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-li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&lt; 0 , je obraz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bodu M na polopřímce opačné k S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 velikost úseček platí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. S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892080" y="4437000"/>
            <a:ext cx="771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ejnolehlost s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= − 1 je středovou souměrností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eometrický útvar a jeho obraz ve stejnolehlosti se nazývaj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ejnolehlé útva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1979640" y="1268280"/>
            <a:ext cx="5398920" cy="30290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2"/>
          <p:cNvSpPr/>
          <p:nvPr/>
        </p:nvSpPr>
        <p:spPr>
          <a:xfrm>
            <a:off x="4071240" y="4797360"/>
            <a:ext cx="75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&gt; 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5973840" cy="335124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"/>
          <p:cNvSpPr/>
          <p:nvPr/>
        </p:nvSpPr>
        <p:spPr>
          <a:xfrm>
            <a:off x="4083840" y="5013360"/>
            <a:ext cx="75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&lt; 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1209600" y="1484280"/>
            <a:ext cx="617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ezi jednotlivými základními typy shodných zobrazení existují některé zajímavé vztah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ložením dvou posunutí získám opět posunut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ložením dvou otočení se stejným středem získám opět otočení se stejným střed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ložením dvou osových souměrností s různými rovnoběžnými osami získám posunutí. (A naopak - každé posunutí mohu vyjádřit jako složení dvou osových souměrností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ložením dvou osových souměrností se shodnou osou získám identi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ložením dvou osových souměrností s různoběžnými osami získám otočení kolem průsečíku os. (A naopak - každé otočení mohu vyjádřit jako složení dvou osových souměrností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3214800" y="692280"/>
            <a:ext cx="21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6600ff"/>
                </a:solidFill>
                <a:latin typeface="Arial"/>
              </a:rPr>
              <a:t>Složená zobraz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826920" y="1628640"/>
            <a:ext cx="7778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lák, J.: Přehled středoškolské matematiky, SPN Praha, 199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cs.wikipedia.org/wiki/Soubor:Geom_shodnost_translace.sv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cs.wikipedia.org/wiki/Soubor:Geom_shodnost_rotace.sv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cs.wikipedia.org/wiki/Soubor:Geom_shodnost_soumernost_stred.sv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cs.wikipedia.org/wiki/Soubor:Geom_shodnost_identita.sv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mdg.vsb.cz/jdolezal/StudOpory/ZakladyGeometrie/Planimetrie/GeometrickaZobrazeni/Stejnolehlost/stejnolehlost2.svg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4172400" y="69696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6600ff"/>
                </a:solidFill>
                <a:latin typeface="Arial"/>
              </a:rPr>
              <a:t>Zdro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2"/>
          <p:cNvSpPr/>
          <p:nvPr/>
        </p:nvSpPr>
        <p:spPr>
          <a:xfrm>
            <a:off x="3135240" y="549360"/>
            <a:ext cx="26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7575d1"/>
                </a:solidFill>
                <a:latin typeface="Arial"/>
              </a:rPr>
              <a:t>Geometrické zobraz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727560" y="1557360"/>
            <a:ext cx="794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Geometrickým zobrazením v rovině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rozumíme takové zobrazení množiny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množinu bodů roviny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kdy každému bodu M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je přiřazen právě jed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od 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TextBox 4" descr=""/>
          <p:cNvPicPr/>
          <p:nvPr/>
        </p:nvPicPr>
        <p:blipFill>
          <a:blip r:embed="rId1"/>
          <a:stretch/>
        </p:blipFill>
        <p:spPr>
          <a:xfrm>
            <a:off x="828720" y="2925720"/>
            <a:ext cx="6248520" cy="9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187280" y="183672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přiřazují každé úsečce AB úsečku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’B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 ní shodnou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’B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A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204000" y="692280"/>
            <a:ext cx="21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6600ff"/>
                </a:solidFill>
                <a:latin typeface="Arial"/>
              </a:rPr>
              <a:t>Shodná zobraz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"/>
          <p:cNvSpPr/>
          <p:nvPr/>
        </p:nvSpPr>
        <p:spPr>
          <a:xfrm>
            <a:off x="3155400" y="2719440"/>
            <a:ext cx="2904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sová souměr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ředová souměr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unu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oč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dent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971640" y="1341000"/>
            <a:ext cx="711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všechny body roviny jsou posunuty stejným směrem o stejnou vzdálenost - směr a vzdálenost jsou dány orientovanou úsečkou s, nazývanou „vektor posunutí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896280" y="539640"/>
            <a:ext cx="12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osunu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Soubor:Geom shodnost translace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2492280"/>
            <a:ext cx="748980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1116000" y="780840"/>
            <a:ext cx="626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všechny body roviny jsou otočeny kolem pevně daného bodu S (středu otočení) o stejný úhel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úhel otočení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3784680" y="33336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Otoč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Soubor:Geom shodnost rotace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92360" y="1916280"/>
            <a:ext cx="55245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539640" y="1181880"/>
            <a:ext cx="7832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všechny body jsou zobrazeny podle středu S, jejich obraz má stejnou vzdálenost od středu jako vzor. Středová souměrnost je zvláštní případ otočení - otočení kolem středu souměrnosti o 18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3290760" y="404640"/>
            <a:ext cx="25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tředová souměr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Soubor:Geom shodnost soumernost stred.svg"/>
          <p:cNvPicPr/>
          <p:nvPr/>
        </p:nvPicPr>
        <p:blipFill>
          <a:blip r:embed="rId1"/>
          <a:stretch/>
        </p:blipFill>
        <p:spPr>
          <a:xfrm>
            <a:off x="1332000" y="2924280"/>
            <a:ext cx="63817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826920" y="901080"/>
            <a:ext cx="775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všechny body jsou zobrazeny podle pevné přímky – osy o, jejich obraz a vzor leží na kolmici k ose o a  mají stejnou vzdálenost od osy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3215880" y="549360"/>
            <a:ext cx="22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sová souměr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Soubor:Geom shodnost soumernost osa.svg"/>
          <p:cNvPicPr/>
          <p:nvPr/>
        </p:nvPicPr>
        <p:blipFill>
          <a:blip r:embed="rId1"/>
          <a:stretch/>
        </p:blipFill>
        <p:spPr>
          <a:xfrm>
            <a:off x="838080" y="2502000"/>
            <a:ext cx="727236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755640" y="1390680"/>
            <a:ext cx="742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zobrazení, které každý bod zobrazuje na sebe sama. Lze jí považovat ze posunutí o úsečku nulové délky nebo za otočení o nulový úhe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3852360" y="54936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Ident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Soubor:Geom shodnost identita.svg"/>
          <p:cNvPicPr/>
          <p:nvPr/>
        </p:nvPicPr>
        <p:blipFill>
          <a:blip r:embed="rId1"/>
          <a:stretch/>
        </p:blipFill>
        <p:spPr>
          <a:xfrm>
            <a:off x="2627280" y="2637000"/>
            <a:ext cx="300996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3203640" y="692280"/>
            <a:ext cx="227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6600ff"/>
                </a:solidFill>
                <a:latin typeface="Arial"/>
              </a:rPr>
              <a:t>Podobná zobraz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"/>
          <p:cNvSpPr/>
          <p:nvPr/>
        </p:nvSpPr>
        <p:spPr>
          <a:xfrm>
            <a:off x="684360" y="1557360"/>
            <a:ext cx="734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dobným zobrazení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dobnost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(v rovině) nazýváme geometrické zobrazení, které každé úsečce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B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přiřazuje úsečku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’B’ o 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c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’B’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= k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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kde k je reálné číslo tzv. poměr (koeficient) podobno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15:51:06Z</dcterms:created>
  <dc:creator>DreamWeaver</dc:creator>
  <dc:description/>
  <dc:language>en-US</dc:language>
  <cp:lastModifiedBy>Apple</cp:lastModifiedBy>
  <dcterms:modified xsi:type="dcterms:W3CDTF">2011-02-09T14:49:51Z</dcterms:modified>
  <cp:revision>44</cp:revision>
  <dc:subject/>
  <dc:title>Snímek 1</dc:title>
</cp:coreProperties>
</file>