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900-2042-4CA5-AD2B-0AF8BF7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C77-12D3-4F9E-9CF7-17AD094F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C64-5D29-4FA7-880B-C0610875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385-EB93-4A58-BBF4-B35300E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BAC-8F03-4D72-9D9F-D5F3512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3B1-36FA-45EC-A0F7-D69AA11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455-90AD-4A2D-BD2F-82474D2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F5A-F554-4F19-ADD6-33B9708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09B-6E11-4055-B5B3-5B8D12E8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A12-8A9F-45C2-88AE-75A1A3B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DB7-1092-4A82-BAF6-27FFBF4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A34-3966-480A-839A-E0A28BE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2822-9456-4FD8-AF18-5D208E10E89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D1E-1221-402D-B111-9C3AF8B969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14800" y="55897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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285920" y="2428920"/>
            <a:ext cx="64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sloupnosti a řa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72760" y="54936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Užití geometrické posloup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92720" y="1341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růst hodno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861200" y="184464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4140360" y="3933720"/>
                <a:ext cx="1223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4211640" y="1844640"/>
                <a:ext cx="1224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789920" y="407664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764720" y="31417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bytek hodno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68200" y="639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ád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9080" y="2708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mořování půjč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065240" y="1197000"/>
                <a:ext cx="2117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4788000" y="1341360"/>
                <a:ext cx="1224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1187280" y="3357720"/>
                <a:ext cx="1873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4572000" y="3429000"/>
                <a:ext cx="1224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Text Box 10"/>
          <p:cNvSpPr/>
          <p:nvPr/>
        </p:nvSpPr>
        <p:spPr>
          <a:xfrm>
            <a:off x="1258920" y="4581360"/>
            <a:ext cx="23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očáteční hod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187280" y="5084640"/>
            <a:ext cx="280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hodnota po n obdob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96560" y="455292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- výše půjč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7800" y="5084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- úrok v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61800" y="551664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 – počet obdo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1187280" y="4292640"/>
            <a:ext cx="734544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833840" y="76500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Nekonečná geometrická ř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1071720" y="3571920"/>
                <a:ext cx="13604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7"/>
          <p:cNvSpPr/>
          <p:nvPr/>
        </p:nvSpPr>
        <p:spPr>
          <a:xfrm>
            <a:off x="1018080" y="314316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et geometrické řa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1000080" y="1504800"/>
                <a:ext cx="7353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sloupnos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terá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á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člen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ý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TextovéPole 8"/>
          <p:cNvSpPr/>
          <p:nvPr/>
        </p:nvSpPr>
        <p:spPr>
          <a:xfrm>
            <a:off x="1013040" y="2071800"/>
            <a:ext cx="23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azývá nekonečná ř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3"/>
          <p:cNvSpPr/>
          <p:nvPr/>
        </p:nvSpPr>
        <p:spPr>
          <a:xfrm>
            <a:off x="294120" y="142884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202560" y="54936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Posloup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70680" y="1144440"/>
            <a:ext cx="72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oupnost je funkce, která je definována množině přirozených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411280" y="2349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ečná posloupnost D(f)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,2,3,4, ...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971640" y="2924280"/>
                <a:ext cx="100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" name="Text Box 6"/>
          <p:cNvSpPr/>
          <p:nvPr/>
        </p:nvSpPr>
        <p:spPr>
          <a:xfrm>
            <a:off x="2415240" y="30686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koneč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oupn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)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971640" y="1989000"/>
                <a:ext cx="1008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eqArr>
                          <m:e/>
                        </m:eqAr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" name="Text Box 8"/>
          <p:cNvSpPr/>
          <p:nvPr/>
        </p:nvSpPr>
        <p:spPr>
          <a:xfrm>
            <a:off x="950760" y="4168800"/>
            <a:ext cx="29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zorec pro n-tý č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553120" y="54936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adání posloup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088080" y="2060640"/>
            <a:ext cx="318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čtem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orem pro n - č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urentně (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"/>
          <p:cNvSpPr/>
          <p:nvPr/>
        </p:nvSpPr>
        <p:spPr>
          <a:xfrm>
            <a:off x="2019960" y="10000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Vlastnosti posloup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2"/>
          <p:cNvSpPr/>
          <p:nvPr/>
        </p:nvSpPr>
        <p:spPr>
          <a:xfrm>
            <a:off x="795240" y="20001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oup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286000" y="2000160"/>
                <a:ext cx="588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TextovéPole 4"/>
          <p:cNvSpPr/>
          <p:nvPr/>
        </p:nvSpPr>
        <p:spPr>
          <a:xfrm>
            <a:off x="2936520" y="2000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nazýv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5"/>
          <p:cNvSpPr/>
          <p:nvPr/>
        </p:nvSpPr>
        <p:spPr>
          <a:xfrm>
            <a:off x="1005840" y="25718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to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1006200" y="30002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esa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7"/>
          <p:cNvSpPr/>
          <p:nvPr/>
        </p:nvSpPr>
        <p:spPr>
          <a:xfrm>
            <a:off x="1008360" y="3357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klesa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8"/>
          <p:cNvSpPr/>
          <p:nvPr/>
        </p:nvSpPr>
        <p:spPr>
          <a:xfrm>
            <a:off x="1008000" y="37148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sto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9"/>
          <p:cNvSpPr/>
          <p:nvPr/>
        </p:nvSpPr>
        <p:spPr>
          <a:xfrm>
            <a:off x="1011240" y="414324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mezená s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0"/>
          <p:cNvSpPr/>
          <p:nvPr/>
        </p:nvSpPr>
        <p:spPr>
          <a:xfrm>
            <a:off x="1011600" y="45720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mezená zd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11"/>
          <p:cNvSpPr/>
          <p:nvPr/>
        </p:nvSpPr>
        <p:spPr>
          <a:xfrm>
            <a:off x="1007640" y="4929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mez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428920" y="2714760"/>
                <a:ext cx="15717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428920" y="3071880"/>
                <a:ext cx="15717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428920" y="3429000"/>
                <a:ext cx="15717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428920" y="3786120"/>
                <a:ext cx="15717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3143160" y="4286160"/>
                <a:ext cx="3162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istu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kové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aždé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3130560" y="4643280"/>
                <a:ext cx="3187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istu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kové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aždé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9"/>
              <p:cNvSpPr txBox="1"/>
              <p:nvPr/>
            </p:nvSpPr>
            <p:spPr>
              <a:xfrm>
                <a:off x="3429000" y="5013360"/>
                <a:ext cx="25909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sloupno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mezená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ho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do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Pravá složená závorka 20"/>
          <p:cNvSpPr/>
          <p:nvPr/>
        </p:nvSpPr>
        <p:spPr>
          <a:xfrm>
            <a:off x="4786200" y="2786040"/>
            <a:ext cx="500040" cy="11430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143000"/>
              <a:gd name="textAreaBottom" fmla="*/ 1130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4"/>
                  <a:pt x="10800" y="787"/>
                </a:cubicBezTo>
                <a:lnTo>
                  <a:pt x="10800" y="10013"/>
                </a:lnTo>
                <a:cubicBezTo>
                  <a:pt x="10800" y="10407"/>
                  <a:pt x="16200" y="10800"/>
                  <a:pt x="21600" y="10800"/>
                </a:cubicBezTo>
                <a:cubicBezTo>
                  <a:pt x="16200" y="10800"/>
                  <a:pt x="10800" y="11194"/>
                  <a:pt x="10800" y="11587"/>
                </a:cubicBezTo>
                <a:lnTo>
                  <a:pt x="10800" y="20813"/>
                </a:lnTo>
                <a:cubicBezTo>
                  <a:pt x="10800" y="21207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21"/>
          <p:cNvSpPr/>
          <p:nvPr/>
        </p:nvSpPr>
        <p:spPr>
          <a:xfrm>
            <a:off x="5588280" y="3143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monotónní poslou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74200" y="714240"/>
            <a:ext cx="40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Limita posloup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1109520" y="1357200"/>
                <a:ext cx="7356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Říkám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ž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á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é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čísl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rPr>
                            <m:lit/>
                            <m:nor/>
                          </m:rPr>
                          <m:t xml:space="preserve">ito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loupnosti</m:t>
                        </m:r>
                        <m:r>
                          <m:t xml:space="preserve"> </m:t>
                        </m:r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ávě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y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aždém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á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ém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číslu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istu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ové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ž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šech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čísla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;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latí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apisujem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TextovéPole 3"/>
          <p:cNvSpPr/>
          <p:nvPr/>
        </p:nvSpPr>
        <p:spPr>
          <a:xfrm>
            <a:off x="1020240" y="3143160"/>
            <a:ext cx="43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vergentní posloup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má vlas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m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1020960" y="39290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vergentní posloup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nemá vlast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mitu (má limitu v ∞nebo -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5508720" y="2708280"/>
          <a:ext cx="31147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708280"/>
                    <a:ext cx="31147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1"/>
          <p:cNvSpPr/>
          <p:nvPr/>
        </p:nvSpPr>
        <p:spPr>
          <a:xfrm>
            <a:off x="1017000" y="10000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limity posloupností platí vě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1043640" y="164304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posloupnost má nejvýše jednu lim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posloupnost konvergentní, pak je omezená (obrácená věta neplat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1000080" y="2357280"/>
                <a:ext cx="5500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so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sloupnosti</m:t>
                    </m:r>
                    <m:r>
                      <m:t xml:space="preserve">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vergentní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latí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714680" y="2928960"/>
                <a:ext cx="2387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1714680" y="3286080"/>
                <a:ext cx="2387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714680" y="3714840"/>
                <a:ext cx="22348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1714680" y="4214880"/>
                <a:ext cx="1574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714680" y="4786200"/>
                <a:ext cx="1244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3357720" y="5000760"/>
                <a:ext cx="799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lim>
                        <m:r>
                          <m:t xml:space="preserve">n</m:t>
                        </m:r>
                        <m:r>
                          <m:t xml:space="preserve">←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námé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771640" y="1484280"/>
                <a:ext cx="352908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66560" y="62064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Aritmetická posloup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55640" y="134136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oupnost     se nazývá aritmetická právě tehdy, jestliže je rozdíl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bovolného (kromě prvního) členu a jeho bezprostředně předcházejícího členu stálý. Tento rozdíl d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+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ference aritmetické posloup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62040" y="3305160"/>
            <a:ext cx="40287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orec pro n – tý a (n + 1) - ní čl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(n – 1)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+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92200" y="4673520"/>
            <a:ext cx="64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čet prvních n - členů aritmetické posloup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1116000" y="5157720"/>
                <a:ext cx="1584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2124000" y="1413000"/>
                <a:ext cx="266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048400" y="54936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Geometrická posloup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134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oupnost     se nazývá geometrická právě tehdy, jestliže podíl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jího libovolného členu (kromě prvního) a jemu bezprostředně předcházejícího je stálý. Tento podíl q =     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ocient geometrické posloup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2124000" y="1413000"/>
                <a:ext cx="2667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3276720" y="1916280"/>
                <a:ext cx="314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Text Box 10"/>
          <p:cNvSpPr/>
          <p:nvPr/>
        </p:nvSpPr>
        <p:spPr>
          <a:xfrm>
            <a:off x="879480" y="3089160"/>
            <a:ext cx="397980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orec pro n – tý a (n+1)-ní čl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n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950760" y="4313160"/>
            <a:ext cx="62852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čet prvních n členů geometrické posloup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 =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 ≠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435640" y="522936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Apple</cp:lastModifiedBy>
  <dcterms:modified xsi:type="dcterms:W3CDTF">2010-05-11T19:06:09Z</dcterms:modified>
  <cp:revision>33</cp:revision>
  <dc:subject/>
  <dc:title>POSLOUPNOSTI</dc:title>
</cp:coreProperties>
</file>