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483-53D0-4DF5-B050-58B6B1B4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946-FAC0-4D6F-9DFA-42B2AB34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19B-DC88-455D-A4A0-51D2690B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F4D-A300-4105-9210-48A54864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EB4-0817-4F28-BEC2-D380572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433-734E-4268-8D90-F60F16AD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53F-4E43-4736-9127-0A021EDF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F0F-79B9-487C-88D1-508F2BEC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9BC-1BDF-4A30-AE71-0E8380D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EE8-8E67-4D4D-A11B-8B48822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79F-614C-4027-AFC5-3506A3F9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9EF-AC9B-4CEE-AA9D-0D4DB04A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9092-DF94-4DF4-96BD-96B62A17808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8226-1609-44F3-8958-2513D6BC5F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oahovorcovicka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4200" y="27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t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45320" y="614520"/>
            <a:ext cx="549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HARAKTERISTIKY VARIABILITY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(proměnliv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80" y="15048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zpty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dnot znak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649680" y="1484280"/>
                <a:ext cx="19191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44680" y="2852640"/>
            <a:ext cx="39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ěrodatná odchyl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dnot znak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292720" y="2708280"/>
                <a:ext cx="1800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98320" y="4097160"/>
            <a:ext cx="68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iační koefic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ezrozměrné číslo, vyjadřuje se v procen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050920" y="4653000"/>
                <a:ext cx="1297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70520" y="98100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ww.pedf.c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4320" y="148428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onlineobcho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3800" y="213372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vyplnto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2787120"/>
            <a:ext cx="489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 baseline="-25000">
                <a:solidFill>
                  <a:srgbClr val="009999"/>
                </a:solidFill>
                <a:uFillTx/>
                <a:latin typeface="Arial"/>
                <a:hlinkClick r:id="rId1"/>
              </a:rPr>
              <a:t>www.oahovorcovicka.c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560" y="1484280"/>
            <a:ext cx="894996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má společenské (přírodní, technické) jevy na dostatečně rozsáhlém sou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statistický soub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základní množina, která je zkoumána (obyvatelé státu,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továrně, stádo…) – má n prv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statistické jedno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prvky statistického souboru (osoba, stroj, zví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ují se 1,2,….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vlastnost, z hlediska které dané jednotky zkoum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itativní znak - je udáván číselnou hodnotou (výška, příjem, stáří…)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litativní znak - není udáván číselně (povolání, zdravotní stav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ujeme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……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8480" y="712800"/>
            <a:ext cx="8118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ROZDĚLENÍ ČET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čet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dnoty znaku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udává, kolik statistických jednotek má daný znak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365640" y="1925640"/>
                <a:ext cx="8283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02280" y="2944800"/>
            <a:ext cx="744120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relativní četnost   v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značí, jaká část souboru má danou hodnotu zn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rocen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659040" y="3573360"/>
                <a:ext cx="3654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659040" y="4724280"/>
                <a:ext cx="4202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6200" y="71280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KA ROZDĚLENÍ ČET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58920" y="1628640"/>
          <a:ext cx="4038480" cy="1252440"/>
        </p:xfrm>
        <a:graphic>
          <a:graphicData uri="http://schemas.openxmlformats.org/drawingml/2006/table">
            <a:tbl>
              <a:tblPr/>
              <a:tblGrid>
                <a:gridCol w="1177920"/>
                <a:gridCol w="706320"/>
                <a:gridCol w="723960"/>
                <a:gridCol w="757440"/>
                <a:gridCol w="6728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ak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cs-C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Rectangle 3"/>
              <p:cNvSpPr txBox="1"/>
              <p:nvPr/>
            </p:nvSpPr>
            <p:spPr>
              <a:xfrm>
                <a:off x="6300720" y="2276640"/>
                <a:ext cx="16574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868360" y="234936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3933720"/>
          <a:ext cx="5688000" cy="2106720"/>
        </p:xfrm>
        <a:graphic>
          <a:graphicData uri="http://schemas.openxmlformats.org/drawingml/2006/table">
            <a:tbl>
              <a:tblPr/>
              <a:tblGrid>
                <a:gridCol w="2592360"/>
                <a:gridCol w="574560"/>
                <a:gridCol w="649440"/>
                <a:gridCol w="647640"/>
                <a:gridCol w="576000"/>
                <a:gridCol w="648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ámka z m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ap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ív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026000" y="330516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 : známka z matema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79360" y="4745160"/>
            <a:ext cx="22575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2+10+12+2=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4+13+5+2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08560" y="63972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GRAFICKÉ ZNÁZORNĚNÍ ROZDĚLENÍ ČET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195640"/>
          <a:ext cx="7920000" cy="373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95640"/>
                    <a:ext cx="7920000" cy="37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9240" y="136044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jnicový diagram (polygon četnost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26920" y="2276640"/>
          <a:ext cx="6985080" cy="330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698508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315800" y="92880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upkový diagram (hist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24680" y="40464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uhový diagram (používá se i u kvalitativních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12144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26680" y="639720"/>
            <a:ext cx="831600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CHARAKTERISTIKY POLOHY (poloha čísla na číselné 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ritmetický průmě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součet hodnot znaku všech jednotek souboru vydělený počtem všech jednot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ážený aritmetický průmě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hodnoty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ají četnost 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harmonický prů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132000" y="1197000"/>
                <a:ext cx="1203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95760" y="2997360"/>
                <a:ext cx="137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059280" y="4221000"/>
                <a:ext cx="30254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9560" y="3141720"/>
            <a:ext cx="778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odnota x, která má největší čet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di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ostřední hodnota znaku, jsou-li tyto hodnoty uspořádány podle velik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ři sudém počtu hodnot = průměr prostředn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47640" y="3141720"/>
                <a:ext cx="308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19280" y="4508640"/>
                <a:ext cx="282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14160" y="1341360"/>
            <a:ext cx="242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metrický prů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ůměrné tempo rů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564000" y="1413000"/>
                <a:ext cx="4968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944680" y="2349360"/>
            <a:ext cx="29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íl hodnot dvou po sob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oucích obd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1-01-10T14:17:40Z</dcterms:modified>
  <cp:revision>57</cp:revision>
  <dc:subject/>
  <dc:title>POSLOUPNOSTI</dc:title>
</cp:coreProperties>
</file>