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F50-65AD-4C81-A8EF-4F1FFD8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78F-9369-484F-84CE-1231CB2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9D5-5569-485E-A3AD-56C8A5C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F98-5CF7-4E19-A486-7E128F99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D76-4779-4818-9314-F6E7563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7C6-1EC8-496E-AB1F-D8C46B32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2A8-ACA3-490C-A76B-826B1D9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C5C-BFB9-43A4-8703-EB47B84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FF2-5CFF-4EA5-85F8-0D52A97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DB7-6E80-42D7-8D3D-C1F924B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912-F86C-4F93-89FF-37C1BF5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41C-ED47-4BB4-A40A-E3785AB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41A0-EC16-4FFE-9E8A-98C6021DCC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1016-96A1-4CA8-9C80-125F3441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2349360"/>
            <a:ext cx="705672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alytická geometrie II.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915520" y="5589720"/>
            <a:ext cx="145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836000" y="3573360"/>
            <a:ext cx="55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ární útvary v rovině a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547640" y="4724280"/>
                <a:ext cx="223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5"/>
              <p:cNvSpPr txBox="1"/>
              <p:nvPr/>
            </p:nvSpPr>
            <p:spPr>
              <a:xfrm>
                <a:off x="3924360" y="4797360"/>
                <a:ext cx="1944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2412360" y="981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arametrick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08000" y="2060640"/>
            <a:ext cx="2953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t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619280" y="3933720"/>
            <a:ext cx="47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b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cí v rov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1336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ěrové vektory 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7"/>
          <p:cNvSpPr/>
          <p:nvPr/>
        </p:nvSpPr>
        <p:spPr>
          <a:xfrm>
            <a:off x="2771640" y="83664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Obecn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767600" y="2060640"/>
            <a:ext cx="524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x + by + cz + d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692360" y="4221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,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cí v rov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2"/>
              <p:cNvSpPr txBox="1"/>
              <p:nvPr/>
            </p:nvSpPr>
            <p:spPr>
              <a:xfrm>
                <a:off x="1619280" y="5157720"/>
                <a:ext cx="1657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Text Box 25"/>
          <p:cNvSpPr/>
          <p:nvPr/>
        </p:nvSpPr>
        <p:spPr>
          <a:xfrm>
            <a:off x="3927240" y="522936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álový vektor r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0560" y="34290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c,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3"/>
          <p:cNvSpPr/>
          <p:nvPr/>
        </p:nvSpPr>
        <p:spPr>
          <a:xfrm>
            <a:off x="294120" y="142884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Lineární útvary v rovině a pro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48000" y="2565000"/>
            <a:ext cx="2232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řím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19640" y="3860640"/>
            <a:ext cx="223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v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rimka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3909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11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tické vyjádření přímky v rov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988720" y="62064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arametrick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92360" y="1484280"/>
            <a:ext cx="172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2637000"/>
            <a:ext cx="39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bo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žící na pří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1332000" y="3141720"/>
                <a:ext cx="187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11"/>
          <p:cNvSpPr/>
          <p:nvPr/>
        </p:nvSpPr>
        <p:spPr>
          <a:xfrm>
            <a:off x="3276720" y="3213000"/>
            <a:ext cx="33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ý vektor přím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2"/>
          <p:cNvGrpSpPr/>
          <p:nvPr/>
        </p:nvGrpSpPr>
        <p:grpSpPr>
          <a:xfrm>
            <a:off x="2627280" y="4149720"/>
            <a:ext cx="3617280" cy="1870920"/>
            <a:chOff x="2627280" y="4149720"/>
            <a:chExt cx="3617280" cy="1870920"/>
          </a:xfrm>
        </p:grpSpPr>
        <mc:AlternateContent>
          <mc:Choice xmlns:a14="http://schemas.microsoft.com/office/drawing/2010/main" Requires="a14">
            <p:sp>
              <p:nvSpPr>
                <p:cNvPr id="60" name="Object 23"/>
                <p:cNvSpPr txBox="1"/>
                <p:nvPr/>
              </p:nvSpPr>
              <p:spPr>
                <a:xfrm>
                  <a:off x="2627280" y="4947840"/>
                  <a:ext cx="53064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Object 24"/>
                <p:cNvSpPr txBox="1"/>
                <p:nvPr/>
              </p:nvSpPr>
              <p:spPr>
                <a:xfrm>
                  <a:off x="2627280" y="4308120"/>
                  <a:ext cx="53064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25"/>
                <p:cNvSpPr txBox="1"/>
                <p:nvPr/>
              </p:nvSpPr>
              <p:spPr>
                <a:xfrm>
                  <a:off x="2627280" y="5585400"/>
                  <a:ext cx="963720" cy="4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Text Box 26"/>
            <p:cNvSpPr/>
            <p:nvPr/>
          </p:nvSpPr>
          <p:spPr>
            <a:xfrm>
              <a:off x="4430880" y="41497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přímka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4396680" y="483552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přímka opačná k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8"/>
            <p:cNvSpPr/>
            <p:nvPr/>
          </p:nvSpPr>
          <p:spPr>
            <a:xfrm>
              <a:off x="4400640" y="5472000"/>
              <a:ext cx="152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úsečka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3"/>
          <p:cNvSpPr/>
          <p:nvPr/>
        </p:nvSpPr>
        <p:spPr>
          <a:xfrm>
            <a:off x="1908000" y="234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x + by + c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908000" y="400536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b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cí na pří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7"/>
              <p:cNvSpPr txBox="1"/>
              <p:nvPr/>
            </p:nvSpPr>
            <p:spPr>
              <a:xfrm>
                <a:off x="1835280" y="5013360"/>
                <a:ext cx="1728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19"/>
          <p:cNvSpPr/>
          <p:nvPr/>
        </p:nvSpPr>
        <p:spPr>
          <a:xfrm>
            <a:off x="4067280" y="5157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álový vektor pří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76720" y="9079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Obecn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628000" y="126828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Směrnicov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134160" y="242100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y = kx +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88440" y="4653000"/>
            <a:ext cx="87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měrnice přímky (k = tg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úhel, který svírá přímka s osou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úsek, který vytíná přímka na os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720" y="33577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, 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nalytické vyjádření přímky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pro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968720" cy="4217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1979640" y="5229360"/>
                <a:ext cx="1655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3"/>
          <p:cNvSpPr/>
          <p:nvPr/>
        </p:nvSpPr>
        <p:spPr>
          <a:xfrm>
            <a:off x="2628360" y="981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arametrický t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76360" y="2349360"/>
            <a:ext cx="25210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t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 =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t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0920" y="4581360"/>
            <a:ext cx="504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b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cí na pří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356000" y="530064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ěrový vektor pří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2"/>
          <p:cNvGrpSpPr/>
          <p:nvPr/>
        </p:nvGrpSpPr>
        <p:grpSpPr>
          <a:xfrm>
            <a:off x="4500720" y="2421000"/>
            <a:ext cx="3249000" cy="1438920"/>
            <a:chOff x="4500720" y="2421000"/>
            <a:chExt cx="3249000" cy="1438920"/>
          </a:xfrm>
        </p:grpSpPr>
        <mc:AlternateContent>
          <mc:Choice xmlns:a14="http://schemas.microsoft.com/office/drawing/2010/main" Requires="a14">
            <p:sp>
              <p:nvSpPr>
                <p:cNvPr id="85" name="Object 13"/>
                <p:cNvSpPr txBox="1"/>
                <p:nvPr/>
              </p:nvSpPr>
              <p:spPr>
                <a:xfrm>
                  <a:off x="4500720" y="3035160"/>
                  <a:ext cx="42084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" name="Object 15"/>
                <p:cNvSpPr txBox="1"/>
                <p:nvPr/>
              </p:nvSpPr>
              <p:spPr>
                <a:xfrm>
                  <a:off x="4500720" y="2543040"/>
                  <a:ext cx="42084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Object 17"/>
                <p:cNvSpPr txBox="1"/>
                <p:nvPr/>
              </p:nvSpPr>
              <p:spPr>
                <a:xfrm>
                  <a:off x="4500720" y="3525120"/>
                  <a:ext cx="76428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" name="Text Box 19"/>
            <p:cNvSpPr/>
            <p:nvPr/>
          </p:nvSpPr>
          <p:spPr>
            <a:xfrm>
              <a:off x="5931000" y="242100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přímka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5901840" y="294840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přímka opačná k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5906520" y="34380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úsečka 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68360" y="47628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nalytické vyjádření roviny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v prostoru</a:t>
            </a:r>
            <a:r>
              <a:rPr b="1" lang="en-US" sz="4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rovina"/>
          <p:cNvPicPr/>
          <p:nvPr/>
        </p:nvPicPr>
        <p:blipFill>
          <a:blip r:embed="rId1"/>
          <a:stretch/>
        </p:blipFill>
        <p:spPr>
          <a:xfrm>
            <a:off x="1187280" y="2276640"/>
            <a:ext cx="6766200" cy="281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59280" y="5373720"/>
                <a:ext cx="252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lmý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44:35Z</dcterms:created>
  <dc:creator>ucitel</dc:creator>
  <dc:description/>
  <dc:language>en-US</dc:language>
  <cp:lastModifiedBy>VOŠ a SPŠ Strakonice</cp:lastModifiedBy>
  <dcterms:modified xsi:type="dcterms:W3CDTF">2010-06-24T16:48:26Z</dcterms:modified>
  <cp:revision>49</cp:revision>
  <dc:subject/>
  <dc:title>Snímek 1</dc:title>
</cp:coreProperties>
</file>