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68A-FB58-491F-899C-8BFE921B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2516-07A5-49E8-BADF-40309366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C17-EBC8-49F4-A180-FB416923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B44-3CCD-4EEC-9811-B0450980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B638-104A-45CC-B91C-DC9AE3F4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2325-A2BE-4430-B2C4-49276A96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9794-2D59-4F85-A818-B2B136EE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9F3-9484-4806-AF07-B9C6F567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B3F-652E-4501-984C-8CA64621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A84-C674-4A86-975E-2CC08494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8C98-547A-4943-A740-A4041A42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82D3-8949-47B4-BF5A-BD3BE07A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B3F4-4946-455F-9558-D9B5EB3B0E86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6C4F-65C9-4B06-A022-818BE92E59B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89400" y="2781360"/>
            <a:ext cx="42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NIOMETRIE 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jmy, vz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53840" y="4869000"/>
            <a:ext cx="40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r. Lenka Hruš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37760" y="2492280"/>
            <a:ext cx="64839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ORIENTOVANÝ Ú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ačí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to uspořádaná (záleží na pořadí) dvojice polopřímek VA, 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společným počátkem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 = počáteční ram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B = koncové ram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vrchol orientovaného úh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Základní poj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ctangle 3" descr=""/>
          <p:cNvPicPr/>
          <p:nvPr/>
        </p:nvPicPr>
        <p:blipFill>
          <a:blip r:embed="rId1"/>
          <a:stretch/>
        </p:blipFill>
        <p:spPr>
          <a:xfrm>
            <a:off x="2771640" y="3141720"/>
            <a:ext cx="576360" cy="27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3" descr=""/>
          <p:cNvPicPr/>
          <p:nvPr/>
        </p:nvPicPr>
        <p:blipFill>
          <a:blip r:embed="rId1"/>
          <a:stretch/>
        </p:blipFill>
        <p:spPr>
          <a:xfrm>
            <a:off x="1042920" y="3213000"/>
            <a:ext cx="7201080" cy="2136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23960" y="1341360"/>
            <a:ext cx="347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dně orientovaný úh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oti směru hodinových ručič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1240" y="1413000"/>
            <a:ext cx="32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áporně orientovaný úh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 směru hodinových ručič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2880" y="40464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Orientace úh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0760" y="235080"/>
            <a:ext cx="708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VELIKOST ORIENTOVANÉHO ÚHL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VB   se udá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4160" y="907920"/>
            <a:ext cx="353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e stupňové míř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stupeň 1°, minuta 1´, vteřina 1´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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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k.36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03600" y="836640"/>
            <a:ext cx="397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 obloukové míř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radián - rad -  je středový úhel, kter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ne na kružnici oblouk o velik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oměru dané kružn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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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2k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3789360"/>
            <a:ext cx="6049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řevody stupňové a obloukové mír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ad = 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ad = 36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°=                                          1 ra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°=                                          x ra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Rectangle 3"/>
              <p:cNvSpPr txBox="1"/>
              <p:nvPr/>
            </p:nvSpPr>
            <p:spPr>
              <a:xfrm>
                <a:off x="1042920" y="4508640"/>
                <a:ext cx="355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Rectangle 3"/>
              <p:cNvSpPr txBox="1"/>
              <p:nvPr/>
            </p:nvSpPr>
            <p:spPr>
              <a:xfrm>
                <a:off x="1042920" y="5157720"/>
                <a:ext cx="3049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Rectangle 3"/>
              <p:cNvSpPr txBox="1"/>
              <p:nvPr/>
            </p:nvSpPr>
            <p:spPr>
              <a:xfrm>
                <a:off x="4356000" y="4581360"/>
                <a:ext cx="432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Rectangle 3"/>
              <p:cNvSpPr txBox="1"/>
              <p:nvPr/>
            </p:nvSpPr>
            <p:spPr>
              <a:xfrm>
                <a:off x="4356000" y="5157720"/>
                <a:ext cx="5382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66560" cy="219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3280" y="2276640"/>
            <a:ext cx="466920" cy="21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radian"/>
          <p:cNvPicPr/>
          <p:nvPr/>
        </p:nvPicPr>
        <p:blipFill>
          <a:blip r:embed="rId3"/>
          <a:stretch/>
        </p:blipFill>
        <p:spPr>
          <a:xfrm>
            <a:off x="6516720" y="2060640"/>
            <a:ext cx="2381040" cy="2352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084720" y="333360"/>
            <a:ext cx="466920" cy="21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51560" y="3068640"/>
            <a:ext cx="744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-li velikost úhlu mimo daný interval, převedeme jej na základní velik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přičtení či odečtení násobků 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3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esp. 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ff3300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.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 780° = 780°-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  <a:ea typeface="Arial"/>
              </a:rPr>
              <a:t>2.3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780°-720° = 6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 -1268°= -1268°+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  <a:ea typeface="Arial"/>
              </a:rPr>
              <a:t>4.36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° = -1268°+1440° = 172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 17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17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  <a:ea typeface="Arial"/>
              </a:rPr>
              <a:t>-8.2</a:t>
            </a:r>
            <a:r>
              <a:rPr b="0" lang="el-GR" sz="1800" spc="-1" strike="noStrike">
                <a:solidFill>
                  <a:srgbClr val="ff3300"/>
                </a:solidFill>
                <a:latin typeface="Arial"/>
                <a:ea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17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16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 -4,5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-4,5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  <a:ea typeface="Arial"/>
              </a:rPr>
              <a:t>+3.2</a:t>
            </a:r>
            <a:r>
              <a:rPr b="0" lang="el-GR" sz="1800" spc="-1" strike="noStrike">
                <a:solidFill>
                  <a:srgbClr val="ff3300"/>
                </a:solidFill>
                <a:latin typeface="Arial"/>
                <a:ea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-4,5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+6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 1,5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3440" y="105264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ZÁKLADNÍ VELIKOST ÚH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3840" y="222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Rectangle 3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332000" y="177336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0°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  <a:ea typeface="Arial"/>
              </a:rPr>
              <a:t>360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18960" y="1773360"/>
            <a:ext cx="19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l-GR" sz="4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5440" y="3645000"/>
            <a:ext cx="658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Vzorce pro vztahy mezi funkcemi stejného argu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+co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 =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tgx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gx =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cotgx =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oniometrické vz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Rectangle 3"/>
              <p:cNvSpPr txBox="1"/>
              <p:nvPr/>
            </p:nvSpPr>
            <p:spPr>
              <a:xfrm>
                <a:off x="5076720" y="4076640"/>
                <a:ext cx="571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Rectangle 3"/>
              <p:cNvSpPr txBox="1"/>
              <p:nvPr/>
            </p:nvSpPr>
            <p:spPr>
              <a:xfrm>
                <a:off x="5292720" y="4941720"/>
                <a:ext cx="6080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Rectangle 3"/>
              <p:cNvSpPr txBox="1"/>
              <p:nvPr/>
            </p:nvSpPr>
            <p:spPr>
              <a:xfrm>
                <a:off x="1042920" y="4869000"/>
                <a:ext cx="72072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rPr>
                            <m:lit/>
                            <m:nor/>
                          </m:rPr>
                          <m:t xml:space="preserve">g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473400" y="1557360"/>
            <a:ext cx="59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Vzorce vyjadřující vztahy mezi goniometrickými funkc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nx = cos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x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gx = cotg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2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sx = sin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+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tgx = tg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2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9440" y="692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oučtové vzo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1197000"/>
            <a:ext cx="46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(x + y) = sin x . cos y + cos x . sin 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(x – y) = sin x . cos y – cos x . sin 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 (x + y) = cos x . cos y – sin x . sin 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 (x – y) = cos x . cos y + sin x . sin y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trigonometriavzorce"/>
          <p:cNvPicPr/>
          <p:nvPr/>
        </p:nvPicPr>
        <p:blipFill>
          <a:blip r:embed="rId1"/>
          <a:stretch/>
        </p:blipFill>
        <p:spPr>
          <a:xfrm>
            <a:off x="3203640" y="2852640"/>
            <a:ext cx="2879640" cy="263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Rectangle 3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2222640" cy="4176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85760" y="836640"/>
            <a:ext cx="48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Vzorce pro dvojnásobný a poloviční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Rectangle 3" descr=""/>
          <p:cNvPicPr/>
          <p:nvPr/>
        </p:nvPicPr>
        <p:blipFill>
          <a:blip r:embed="rId2"/>
          <a:stretch/>
        </p:blipFill>
        <p:spPr>
          <a:xfrm>
            <a:off x="5148360" y="2060640"/>
            <a:ext cx="1969920" cy="3700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8000" y="2068200"/>
            <a:ext cx="26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2x = 2x sin x . cos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 2x = cos2x – sin2x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3" descr="Goniometrické funkce"/>
          <p:cNvPicPr/>
          <p:nvPr/>
        </p:nvPicPr>
        <p:blipFill>
          <a:blip r:embed="rId1"/>
          <a:stretch/>
        </p:blipFill>
        <p:spPr>
          <a:xfrm>
            <a:off x="2556000" y="1700280"/>
            <a:ext cx="2909880" cy="3851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12880" y="568440"/>
            <a:ext cx="72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Vzorce pro součet (rozdíl) dvou stejných funkcí s různým argumen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kABINET-413</cp:lastModifiedBy>
  <dcterms:modified xsi:type="dcterms:W3CDTF">2010-10-21T11:08:25Z</dcterms:modified>
  <cp:revision>42</cp:revision>
  <dc:subject/>
  <dc:title>POSLOUPNOSTI</dc:title>
</cp:coreProperties>
</file>