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4EF-2BCF-4348-A3A0-3D1A07C6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7ED-776F-46CC-9A2C-5D0FC56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386-0986-48FA-84C6-A6EDB753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22A-854E-41C9-9B39-90633ED9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FE3-93F3-4FBF-AAD3-4BC643B4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2E7-A164-4D3A-8DA1-71FDD734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321-9344-40B5-92F1-2C9E8917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256-0DDE-4C18-8929-DF6AFDA4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043-3056-4C56-97D4-DDDB482C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AB6-BBB6-44BD-B568-2D82889C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26D-BFFC-42F9-956D-FB946E40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18B-B3CF-44A5-A44B-EBB44E35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DCD-E264-421E-A073-D4D2D10FEC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2ECC-07EF-4DE5-9805-410C2B0E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ysokeskoly.cz/" TargetMode="External"/><Relationship Id="rId2" Type="http://schemas.openxmlformats.org/officeDocument/2006/relationships/hyperlink" Target="http://www.e-matematika.cz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9600" y="2565360"/>
            <a:ext cx="526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NIOMETRIE 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niometrické funkc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niometrické rov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09480" y="4941720"/>
            <a:ext cx="40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57440" y="26028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ROVNICE ŘEŠENÉ SUBSTIT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7080" y="836640"/>
            <a:ext cx="841032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A/ substituce argu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.: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x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: 1/ zavedeme pomocnou neznámou                   z = 2x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/ řešíme rovnici typu                                    cosz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2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/ zpětná substituce:                                  2x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 = 3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4+k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Arial"/>
              </a:rPr>
              <a:t>B/ substituce celé goniometrické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i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+2sin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: 1/ zavedeme pomocnou neznámou              sinx =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/ řešíme rovnici                                        z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2z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(z+2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/ zpětná substituce                 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0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sin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0+k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-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sin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-2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mo H(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80920" y="639720"/>
            <a:ext cx="64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ROVNICE ŘEŠENÉ PŘEVEDENÍM NA SOUČINOVÝ TVA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6520" y="2133720"/>
            <a:ext cx="752652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x = 2cos2x.sin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: 1/ pravá strana = 0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sinx-2cos2x.sinx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/ rozložíme výraz na levé straně     sinx(1-2cos2x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/ činitelé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0                1-2cos2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= 0+k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cos2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½        2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´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+2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kvadrant                        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2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6+k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kvadran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+2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5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6+k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2880" y="121608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šíme rovnice, které je možno upravit tak, aby na pravé straně byla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 levé byl výraz rozložitelný na sou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0920" y="476280"/>
            <a:ext cx="75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ROVNICE, KTERÉ ŘEŠÍME POUŽITÍM GONIOMETRICKÝCH VZO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2160" y="1144440"/>
            <a:ext cx="73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.:                                                 cos(x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-cos(x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: 1/ levou stranu rovnice upravíme použitím příslušných vzorců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516720" y="1125360"/>
                <a:ext cx="253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914920" y="2060640"/>
            <a:ext cx="42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(x + y) = cos x . cos y – sin x . sin 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(x – y) = cos x . cos y + sin x . sin y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3760" y="30862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x.co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sinx.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sx.co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sinx.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6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956720" y="3068640"/>
                <a:ext cx="253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3573360"/>
                <a:ext cx="254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05928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7600" y="3592440"/>
            <a:ext cx="422532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x-    sinx-     cosx-    sin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x =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x´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´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kvadrant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2k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4.kvadrant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5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2k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924360" y="357336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356000" y="414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643280" y="3573360"/>
                <a:ext cx="254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508720" y="357336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00720" y="3573360"/>
                <a:ext cx="254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16720" y="4149720"/>
                <a:ext cx="253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457640" y="47451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 dořeš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372360" y="4653000"/>
                <a:ext cx="253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8720" y="907920"/>
            <a:ext cx="87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ALŠÍ PŘÍKLADY ROVNIC A VZORCŮ,KTERÉ POUŽIJEME KE ZJEDNODUŠE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920" y="206064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rovnice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vzore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gx-cotgx =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g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=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+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= 1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= 1-si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2x = 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si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i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= -cos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2x = tg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2x = 2sinx.cosx  a  tg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x.cosx =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roznásobení rovnice dvěma užijeme vz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sinx.cosx = sin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59280" y="2421000"/>
                <a:ext cx="4269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732720" y="3933720"/>
                <a:ext cx="503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547640" y="4437000"/>
                <a:ext cx="23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7120" y="1073160"/>
            <a:ext cx="31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roj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vysokeskol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-matematika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58128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92720" y="333360"/>
            <a:ext cx="51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JEDNOTKOVÁ KRUŽN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kružnice, jejíž  r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7080" y="29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81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7440" y="1700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50000" y="29448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13280" y="352116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1040" y="2297160"/>
            <a:ext cx="1133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co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FUNKCE  y = s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2441520" cy="27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560" y="1557360"/>
            <a:ext cx="80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s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bovolného úhlu </a:t>
            </a:r>
            <a:r>
              <a:rPr b="0" lang="el-GR" sz="1800" spc="-1" strike="noStrike">
                <a:solidFill>
                  <a:srgbClr val="0066ff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  <a:ea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ouřadnice průsečíku koncového ra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hlu s jednotkovou kružni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43040"/>
            <a:ext cx="370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643040"/>
          <a:ext cx="2779560" cy="517680"/>
        </p:xfrm>
        <a:graphic>
          <a:graphicData uri="http://schemas.openxmlformats.org/drawingml/2006/table">
            <a:tbl>
              <a:tblPr/>
              <a:tblGrid>
                <a:gridCol w="277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3571200" y="2421000"/>
            <a:ext cx="106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1960" y="3284640"/>
            <a:ext cx="5972040" cy="257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994360" y="33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29640" y="452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FUNKCE y = co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2905200" cy="3181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8640" y="1773360"/>
            <a:ext cx="82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cosin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bovolného úhlu </a:t>
            </a:r>
            <a:r>
              <a:rPr b="0" lang="el-GR" sz="1800" spc="-1" strike="noStrike">
                <a:solidFill>
                  <a:srgbClr val="0066ff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  <a:ea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ouřadnice průsečíku koncového ram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hlu s jednotkovou kružni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02840" y="2924280"/>
            <a:ext cx="113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3419640" y="3716280"/>
            <a:ext cx="5256000" cy="22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31040" y="1576440"/>
            <a:ext cx="69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tange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bovolného úhlu </a:t>
            </a:r>
            <a:r>
              <a:rPr b="0" lang="el-GR" sz="1800" spc="-1" strike="noStrike">
                <a:solidFill>
                  <a:srgbClr val="0066ff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nazývá funkce daná vzta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g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FUNKCE y = tg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Rectangle 3"/>
              <p:cNvSpPr txBox="1"/>
              <p:nvPr/>
            </p:nvSpPr>
            <p:spPr>
              <a:xfrm>
                <a:off x="1763640" y="2133720"/>
                <a:ext cx="7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3913200" cy="406908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3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2082960" cy="319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42320" y="1865160"/>
            <a:ext cx="71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cotange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bovolného úhlu </a:t>
            </a:r>
            <a:r>
              <a:rPr b="0" lang="el-GR" sz="1800" spc="-1" strike="noStrike">
                <a:solidFill>
                  <a:srgbClr val="0066ff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nazývá funkce daná vzta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tg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50778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FUNKCE  y = cotg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Rectangle 3"/>
              <p:cNvSpPr txBox="1"/>
              <p:nvPr/>
            </p:nvSpPr>
            <p:spPr>
              <a:xfrm>
                <a:off x="1692360" y="2637000"/>
                <a:ext cx="53820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9" name="Rectangle 3" descr=""/>
          <p:cNvPicPr/>
          <p:nvPr/>
        </p:nvPicPr>
        <p:blipFill>
          <a:blip r:embed="rId1"/>
          <a:stretch/>
        </p:blipFill>
        <p:spPr>
          <a:xfrm>
            <a:off x="5259240" y="2349360"/>
            <a:ext cx="3403800" cy="374364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3" descr=""/>
          <p:cNvPicPr/>
          <p:nvPr/>
        </p:nvPicPr>
        <p:blipFill>
          <a:blip r:embed="rId2"/>
          <a:stretch/>
        </p:blipFill>
        <p:spPr>
          <a:xfrm>
            <a:off x="900000" y="3468600"/>
            <a:ext cx="3240360" cy="2579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28920" y="22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584920" y="424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51720" y="475560"/>
            <a:ext cx="3918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Vlastnosti goniometrických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4000" y="1557360"/>
          <a:ext cx="8640720" cy="4116240"/>
        </p:xfrm>
        <a:graphic>
          <a:graphicData uri="http://schemas.openxmlformats.org/drawingml/2006/table">
            <a:tbl>
              <a:tblPr/>
              <a:tblGrid>
                <a:gridCol w="1511280"/>
                <a:gridCol w="1973160"/>
                <a:gridCol w="1555560"/>
                <a:gridCol w="1800360"/>
                <a:gridCol w="1800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sin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cos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tg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= cotg</a:t>
                      </a: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(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103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{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+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{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(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103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-1;1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dost, lich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h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d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ctr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h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iodič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103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 = 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… periodick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 =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… periodick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eze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103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eze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omeze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stouc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stoucí … 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+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+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stoucí … 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stouc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esajíc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esajíc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esající … 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+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+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esající … 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+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. v bod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+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+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existu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. v bod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+k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k2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lové b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+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+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+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+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409840" y="6477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04800" y="1986120"/>
            <a:ext cx="7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2133720"/>
          <a:ext cx="8744040" cy="2415960"/>
        </p:xfrm>
        <a:graphic>
          <a:graphicData uri="http://schemas.openxmlformats.org/drawingml/2006/table">
            <a:tbl>
              <a:tblPr/>
              <a:tblGrid>
                <a:gridCol w="971640"/>
                <a:gridCol w="971640"/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</a:tblGrid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°=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°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°=2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1224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1224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t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985400" y="1125360"/>
            <a:ext cx="52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abulka základních hodnot goniometrických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19640" y="2565360"/>
                <a:ext cx="266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419640" y="3068640"/>
                <a:ext cx="266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84360" y="256536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27640" y="306864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27640" y="2565360"/>
                <a:ext cx="253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11280" y="3068640"/>
                <a:ext cx="25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11280" y="3573360"/>
                <a:ext cx="254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27640" y="4076640"/>
                <a:ext cx="253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27640" y="3645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11280" y="414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NIOMETRICKÉ ROV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6840" y="1413000"/>
            <a:ext cx="88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rovnice, ve kterých je neznámá x argumentem alespoň jedné goniometrické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600" y="1916280"/>
            <a:ext cx="777024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ROVNICE TY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g(x) = k (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.: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sinx = -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pomocný úhel x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1.kvadran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sinx´=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´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 ohledem na znaménko určíme kvadrant/ty výsledku/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nkce sinus je záporná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 kvadrant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/6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2k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4. kvadrant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2k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2880" y="189000"/>
            <a:ext cx="215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5157720"/>
          <a:ext cx="2194200" cy="1349280"/>
        </p:xfrm>
        <a:graphic>
          <a:graphicData uri="http://schemas.openxmlformats.org/drawingml/2006/table">
            <a:tbl>
              <a:tblPr/>
              <a:tblGrid>
                <a:gridCol w="1114560"/>
                <a:gridCol w="1079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Kvadr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180°-x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x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Kvadr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x´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Kvadr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180°+x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+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.Kvadr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360°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x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 = 2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x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795240" y="616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0-11-03T10:18:27Z</dcterms:modified>
  <cp:revision>47</cp:revision>
  <dc:subject/>
  <dc:title>POSLOUPNOSTI</dc:title>
</cp:coreProperties>
</file>