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102-5783-4AA0-B1B9-A8491520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0A8-8647-413A-BEDB-50849F3D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864-9A31-4FEB-9472-4ADC2227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1F7-4EF8-436C-8847-2F1363E9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DD9-0A59-4218-B5E1-D4DC72CD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158-37D7-4A60-AA22-0B38C293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C57-C165-4DA1-B830-7B783AA1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CCB-A7C2-4BB6-AD50-82CE2909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85C-B7E7-4C3C-9E5F-1F7180CD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D70-F535-493B-B8FD-E9C3171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D6F-55F2-4F38-A4C6-65849896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B17-405D-4644-9489-8697CF0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ECE6-050A-4BB5-9F32-34837FBA5A1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F759-35A5-4A86-B1FD-9A739A87B5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eonext.uni-bayreuth.de/content/lang/documentation/doc/1/doc/status_coordinates.html" TargetMode="External"/><Relationship Id="rId2" Type="http://schemas.openxmlformats.org/officeDocument/2006/relationships/hyperlink" Target="http://webvyukacontent.olportal.cz/w-funkce-060103/Graf_funkc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"/>
          <p:cNvSpPr/>
          <p:nvPr/>
        </p:nvSpPr>
        <p:spPr>
          <a:xfrm>
            <a:off x="828000" y="2997360"/>
            <a:ext cx="77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INEÁRNÍ ROVNICE A NEROV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702880" y="45086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resenirovnice2[1]"/>
          <p:cNvPicPr/>
          <p:nvPr/>
        </p:nvPicPr>
        <p:blipFill>
          <a:blip r:embed="rId1"/>
          <a:stretch/>
        </p:blipFill>
        <p:spPr>
          <a:xfrm>
            <a:off x="3995640" y="2060640"/>
            <a:ext cx="3810240" cy="4641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764720" y="620640"/>
            <a:ext cx="51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NEROVNICE S NEZNÁMOU VE JMENOV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57000" y="1432080"/>
            <a:ext cx="800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íme-li nerovnici, která má ve jmenovateli neznámou 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smí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elou rovnici vynásobit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/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okud nerovnici nedořešíme, nevíme, jestli j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dné, nebo záporné a záporným výraz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obit nerovnici nesmí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1511280" y="1989000"/>
                <a:ext cx="1809720" cy="265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Text Box 7"/>
          <p:cNvSpPr/>
          <p:nvPr/>
        </p:nvSpPr>
        <p:spPr>
          <a:xfrm>
            <a:off x="3639600" y="3573360"/>
            <a:ext cx="454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rovnice v podílovém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jišťujeme, kdy je podíl dvou výrazů men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př. větší) než 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883800" y="48164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bulka nulových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Text Box 12"/>
          <p:cNvSpPr/>
          <p:nvPr/>
        </p:nvSpPr>
        <p:spPr>
          <a:xfrm>
            <a:off x="5850360" y="45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714000" y="45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044680" y="48132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0)      (0;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;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4853880" y="530064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x     +           +    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050440" y="568152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    -            +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619160" y="625644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     -            +        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880200" y="575316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467720" y="57340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0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;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112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onext.uni-bayreuth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bvyukacontent.olportal.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6160" y="404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86320" y="1720800"/>
            <a:ext cx="7675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rovnicí s neznámou x nazýváme každou rovnici, kterou lze vyjád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tva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=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52560" y="3521160"/>
            <a:ext cx="658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šiteln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má právě jeden koř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=0       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   nemá žádné řeš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=0      b=0   má nekonečně mnoho řeše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Arial"/>
              </a:rPr>
              <a:t>lineární 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3348000" y="47242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8"/>
              <p:cNvSpPr txBox="1"/>
              <p:nvPr/>
            </p:nvSpPr>
            <p:spPr>
              <a:xfrm>
                <a:off x="6732720" y="3645000"/>
                <a:ext cx="86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0"/>
              <p:cNvSpPr txBox="1"/>
              <p:nvPr/>
            </p:nvSpPr>
            <p:spPr>
              <a:xfrm>
                <a:off x="3348000" y="551664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ff"/>
                </a:solidFill>
                <a:latin typeface="Arial"/>
              </a:rPr>
              <a:t>ekvivalentní úpravy lineárn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66ff"/>
                </a:solidFill>
                <a:latin typeface="Arial"/>
              </a:rPr>
              <a:t>rov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75920" y="1916280"/>
            <a:ext cx="8169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entní úprava je taková úprava, která nezmění množinu řešení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/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řičt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dečtení)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ibovolného výraz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2x-5 = 7 /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oběma stranám rovnice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/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ynásob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ydělení) rovnice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nulovým výraz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2x = 12 /: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/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ýměna stran rov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x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600920" y="6145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GRAFICKÉ ŘEŠENÍ LINEÁRNÍCH ROV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53600" y="1197000"/>
            <a:ext cx="76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en(y) lineární rovnice určíme jako průsečík(y) přímky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f(x): y = ax+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grafem funkce                            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g(x): y =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9" name="Picture 19" descr="graf_reseni_liner_rov[1]"/>
          <p:cNvPicPr/>
          <p:nvPr/>
        </p:nvPicPr>
        <p:blipFill>
          <a:blip r:embed="rId1"/>
          <a:stretch/>
        </p:blipFill>
        <p:spPr>
          <a:xfrm>
            <a:off x="5003640" y="2295360"/>
            <a:ext cx="4140360" cy="376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"/>
          <p:cNvSpPr/>
          <p:nvPr/>
        </p:nvSpPr>
        <p:spPr>
          <a:xfrm>
            <a:off x="1044000" y="2565360"/>
            <a:ext cx="129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2x-3</a:t>
            </a:r>
            <a:r>
              <a:rPr b="0" lang="cs-CZ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348360" y="256536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): 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y = 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(x):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2"/>
              <p:cNvSpPr txBox="1"/>
              <p:nvPr/>
            </p:nvSpPr>
            <p:spPr>
              <a:xfrm>
                <a:off x="7308720" y="4221000"/>
                <a:ext cx="208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23"/>
          <p:cNvSpPr/>
          <p:nvPr/>
        </p:nvSpPr>
        <p:spPr>
          <a:xfrm>
            <a:off x="6734160" y="23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8102520" y="407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592200" y="380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87600" y="4094280"/>
            <a:ext cx="42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y mají 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jeden průseč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hodnotě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rovnice má 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jeden koř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x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8"/>
              <p:cNvSpPr txBox="1"/>
              <p:nvPr/>
            </p:nvSpPr>
            <p:spPr>
              <a:xfrm>
                <a:off x="4427640" y="4076640"/>
                <a:ext cx="207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Obdélník 14"/>
          <p:cNvSpPr/>
          <p:nvPr/>
        </p:nvSpPr>
        <p:spPr>
          <a:xfrm>
            <a:off x="7934760" y="25002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= 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8"/>
              <p:cNvSpPr txBox="1"/>
              <p:nvPr/>
            </p:nvSpPr>
            <p:spPr>
              <a:xfrm>
                <a:off x="4357800" y="4643280"/>
                <a:ext cx="207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Grafika_012"/>
          <p:cNvPicPr/>
          <p:nvPr/>
        </p:nvPicPr>
        <p:blipFill>
          <a:blip r:embed="rId1"/>
          <a:stretch/>
        </p:blipFill>
        <p:spPr>
          <a:xfrm>
            <a:off x="6081840" y="0"/>
            <a:ext cx="3062160" cy="3462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97164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761760" y="3716280"/>
            <a:ext cx="432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f(x): y = 0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 = 0                           </a:t>
            </a:r>
            <a:r>
              <a:rPr b="0" lang="cs-CZ" sz="1800" spc="-1" strike="noStrike">
                <a:solidFill>
                  <a:srgbClr val="00ffff"/>
                </a:solidFill>
                <a:latin typeface="Arial"/>
              </a:rPr>
              <a:t>g(x): y = 0</a:t>
            </a:r>
            <a:r>
              <a:rPr b="0" lang="cs-CZ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y těchto funkcí jsou totožné přímky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</a:t>
            </a:r>
            <a:r>
              <a:rPr b="0" lang="cs-CZ" sz="1800" spc="-1" strike="noStrike">
                <a:solidFill>
                  <a:srgbClr val="00ffff"/>
                </a:solidFill>
                <a:latin typeface="Arial"/>
              </a:rPr>
              <a:t>nekonečně mnoho společných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ice má </a:t>
            </a:r>
            <a:r>
              <a:rPr b="0" lang="cs-CZ" sz="1800" spc="-1" strike="noStrike">
                <a:solidFill>
                  <a:srgbClr val="00ffff"/>
                </a:solidFill>
                <a:latin typeface="Arial"/>
              </a:rPr>
              <a:t>nekonečně mnoho řešení</a:t>
            </a:r>
            <a:r>
              <a:rPr b="0" lang="cs-CZ" sz="1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755640" y="928800"/>
            <a:ext cx="554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f(x): y = 0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 = -3                           </a:t>
            </a:r>
            <a:r>
              <a:rPr b="0" lang="cs-CZ" sz="1800" spc="-1" strike="noStrike">
                <a:solidFill>
                  <a:srgbClr val="1f0da3"/>
                </a:solidFill>
                <a:latin typeface="Arial"/>
              </a:rPr>
              <a:t>g(x):y = -3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konstantní funk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y těchto funkcí jsou rovnoběžné přímky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f0da3"/>
                </a:solidFill>
                <a:latin typeface="Arial"/>
              </a:rPr>
              <a:t>nemají žádný společný bo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ice nemá</a:t>
            </a:r>
            <a:r>
              <a:rPr b="0" lang="cs-CZ" sz="1800" spc="-1" strike="noStrike">
                <a:solidFill>
                  <a:srgbClr val="1f0da3"/>
                </a:solidFill>
                <a:latin typeface="Arial"/>
              </a:rPr>
              <a:t> žádné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status_coordinates_01[1]"/>
          <p:cNvPicPr/>
          <p:nvPr/>
        </p:nvPicPr>
        <p:blipFill>
          <a:blip r:embed="rId2"/>
          <a:stretch/>
        </p:blipFill>
        <p:spPr>
          <a:xfrm>
            <a:off x="5435640" y="3789360"/>
            <a:ext cx="3295440" cy="2419200"/>
          </a:xfrm>
          <a:prstGeom prst="rect">
            <a:avLst/>
          </a:prstGeom>
          <a:ln w="0">
            <a:noFill/>
          </a:ln>
        </p:spPr>
      </p:pic>
      <p:sp>
        <p:nvSpPr>
          <p:cNvPr id="76" name="Obdélník 7"/>
          <p:cNvSpPr/>
          <p:nvPr/>
        </p:nvSpPr>
        <p:spPr>
          <a:xfrm>
            <a:off x="8124120" y="278604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f0da3"/>
                </a:solidFill>
                <a:latin typeface="Arial"/>
              </a:rPr>
              <a:t>y = -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8"/>
          <p:cNvSpPr/>
          <p:nvPr/>
        </p:nvSpPr>
        <p:spPr>
          <a:xfrm>
            <a:off x="8219160" y="52862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ff"/>
                </a:solidFill>
                <a:latin typeface="Arial"/>
              </a:rPr>
              <a:t>y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ff"/>
                </a:solidFill>
                <a:latin typeface="Arial"/>
              </a:rPr>
              <a:t>lineární ne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903960" y="134136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nerovnice má obvykle tva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364000" y="141300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en-US" sz="2400" spc="-1" strike="noStrike">
                <a:solidFill>
                  <a:srgbClr val="ff0000"/>
                </a:solidFill>
                <a:latin typeface="Shruti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≥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≤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79280" y="306864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ekvivalentní úpra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neárních ne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/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řičt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dečtení)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ibovolného výraz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2x-5 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7 /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oběma stranám nerovnice                                                                     2x 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Shrut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/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ynásob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ydělení) nerovnice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nulovým výraz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adným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2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2 /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≤ 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ynásob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ydělení)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záporným výrazem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změna znamén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≤ 5 /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/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ýměna stran nerovnice</a:t>
            </a: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znaménko se otá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Shrut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96720" y="523800"/>
            <a:ext cx="55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ff"/>
                </a:solidFill>
                <a:latin typeface="Arial"/>
              </a:rPr>
              <a:t>GRAFICKÉ ŘEŠENÍ LINEÁRNÍCH NEROV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211640" y="1844640"/>
            <a:ext cx="223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en-US" sz="2400" spc="-1" strike="noStrike">
                <a:solidFill>
                  <a:srgbClr val="ff0000"/>
                </a:solidFill>
                <a:latin typeface="Shruti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≥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x + b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≤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70160" y="1197000"/>
            <a:ext cx="47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ou stranu nerov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íme jako lineární funkci f(x):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y = a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783240" y="342900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g(x):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y =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sa x) je pravá strana ne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47560" y="458136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ýsujeme funkce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f(x),g(x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jedné soustavy souřadnic a podle zada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ménka nerovnosti porovnáme v grafu hodnoty obou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20920" y="4968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graf_reseni_liner_rov[1]"/>
          <p:cNvPicPr/>
          <p:nvPr/>
        </p:nvPicPr>
        <p:blipFill>
          <a:blip r:embed="rId1"/>
          <a:stretch/>
        </p:blipFill>
        <p:spPr>
          <a:xfrm>
            <a:off x="2556000" y="981000"/>
            <a:ext cx="4000320" cy="3638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3636000" y="472428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) : y = 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(x): y = 0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88080" y="2708280"/>
            <a:ext cx="27151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x-3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≤ 0         P = 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7956720" y="263700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5932440" y="2637000"/>
            <a:ext cx="284328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x-3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≥ 0         P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;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2700360" y="270828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Rectangle 12"/>
          <p:cNvSpPr/>
          <p:nvPr/>
        </p:nvSpPr>
        <p:spPr>
          <a:xfrm>
            <a:off x="5436720" y="112536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= 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8028000" y="263700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15"/>
          <p:cNvSpPr/>
          <p:nvPr/>
        </p:nvSpPr>
        <p:spPr>
          <a:xfrm>
            <a:off x="377640" y="33764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(x) je v tom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valu pod 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013440" y="33577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(x) je v tom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valu nad 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5560920" y="287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41000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1553760" y="476280"/>
            <a:ext cx="73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ostrá nerovnost způsobí, že průsečík patří do řešení dané ne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1"/>
              <p:cNvSpPr txBox="1"/>
              <p:nvPr/>
            </p:nvSpPr>
            <p:spPr>
              <a:xfrm>
                <a:off x="4788000" y="299736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graf_reseni_liner_rov[1]"/>
          <p:cNvPicPr/>
          <p:nvPr/>
        </p:nvPicPr>
        <p:blipFill>
          <a:blip r:embed="rId1"/>
          <a:stretch/>
        </p:blipFill>
        <p:spPr>
          <a:xfrm>
            <a:off x="2771640" y="1125360"/>
            <a:ext cx="4000680" cy="3638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21280" y="496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553760" y="476280"/>
            <a:ext cx="73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trá nerovnost způsobí, že průsečík nepatří do řešení dané ne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8080" y="2708280"/>
            <a:ext cx="2724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x-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         P = 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022440" y="2781360"/>
            <a:ext cx="28490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x-3 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         P = (    ;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8360" y="134136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= 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77640" y="33764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(x) je v tom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valu pod 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13440" y="33577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(x) je v tom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valu nad 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5003640" y="321300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700360" y="270828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8028000" y="278136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3709080" y="515772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) : y = 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(x): y = 0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789440" y="112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581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2-05-09T09:17:24Z</dcterms:modified>
  <cp:revision>50</cp:revision>
  <dc:subject/>
  <dc:title>POSLOUPNOSTI</dc:title>
</cp:coreProperties>
</file>