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A71-4505-4453-900B-0799DD38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B7C-1DD3-40BA-9140-794321C4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812-96E5-4709-92F5-200296D4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B21-CA66-45CC-AC0E-7A4036CD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54B-032C-48B6-846D-910232DE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7F8-8272-4F6F-AC74-9B326F78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07E-5FDC-49F2-842E-1E1B7861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9FA-8836-4E81-92BB-FA37BE2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309-6166-4A42-8BA5-816A03DF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65B-BDBD-4A04-AFA8-27CEF3B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C9C-02A8-4DE8-AA8A-79CD1A2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049-65EA-4361-8CD9-B8992514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B0A5-FAD7-42F1-873E-53C71F0E3B8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6B13-E848-418B-85E8-19B581BA2A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801840" y="558972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. Telinger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187280" y="2637000"/>
            <a:ext cx="683604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alytická geometrie I. - Vektor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403280" y="1052640"/>
            <a:ext cx="4533840" cy="1388880"/>
            <a:chOff x="1403280" y="1052640"/>
            <a:chExt cx="4533840" cy="1388880"/>
          </a:xfrm>
        </p:grpSpPr>
        <mc:AlternateContent>
          <mc:Choice xmlns:a14="http://schemas.microsoft.com/office/drawing/2010/main" Requires="a14">
            <p:sp>
              <p:nvSpPr>
                <p:cNvPr id="114" name="Object 5"/>
                <p:cNvSpPr txBox="1"/>
                <p:nvPr/>
              </p:nvSpPr>
              <p:spPr>
                <a:xfrm>
                  <a:off x="1403280" y="1052640"/>
                  <a:ext cx="4533840" cy="13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Line 6"/>
            <p:cNvSpPr/>
            <p:nvPr/>
          </p:nvSpPr>
          <p:spPr>
            <a:xfrm>
              <a:off x="2482920" y="1485720"/>
              <a:ext cx="792000" cy="718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H="1">
              <a:off x="2627280" y="1485720"/>
              <a:ext cx="720720" cy="57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2988720" y="1773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2484360" y="17017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1494000" y="2637000"/>
            <a:ext cx="5229000" cy="1388880"/>
            <a:chOff x="1494000" y="2637000"/>
            <a:chExt cx="5229000" cy="1388880"/>
          </a:xfrm>
        </p:grpSpPr>
        <mc:AlternateContent>
          <mc:Choice xmlns:a14="http://schemas.microsoft.com/office/drawing/2010/main" Requires="a14">
            <p:sp>
              <p:nvSpPr>
                <p:cNvPr id="120" name="Object 11"/>
                <p:cNvSpPr txBox="1"/>
                <p:nvPr/>
              </p:nvSpPr>
              <p:spPr>
                <a:xfrm>
                  <a:off x="1494000" y="2637000"/>
                  <a:ext cx="5229000" cy="13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Line 12"/>
            <p:cNvSpPr/>
            <p:nvPr/>
          </p:nvSpPr>
          <p:spPr>
            <a:xfrm>
              <a:off x="2921040" y="3070080"/>
              <a:ext cx="792000" cy="718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 flipH="1">
              <a:off x="3065400" y="3070080"/>
              <a:ext cx="720720" cy="57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4"/>
            <p:cNvSpPr/>
            <p:nvPr/>
          </p:nvSpPr>
          <p:spPr>
            <a:xfrm>
              <a:off x="3426840" y="3357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2922480" y="32860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6"/>
          <p:cNvGrpSpPr/>
          <p:nvPr/>
        </p:nvGrpSpPr>
        <p:grpSpPr>
          <a:xfrm>
            <a:off x="1440000" y="4292640"/>
            <a:ext cx="4460760" cy="1388880"/>
            <a:chOff x="1440000" y="4292640"/>
            <a:chExt cx="4460760" cy="1388880"/>
          </a:xfrm>
        </p:grpSpPr>
        <mc:AlternateContent>
          <mc:Choice xmlns:a14="http://schemas.microsoft.com/office/drawing/2010/main" Requires="a14">
            <p:sp>
              <p:nvSpPr>
                <p:cNvPr id="126" name="Object 17"/>
                <p:cNvSpPr txBox="1"/>
                <p:nvPr/>
              </p:nvSpPr>
              <p:spPr>
                <a:xfrm>
                  <a:off x="1440000" y="4292640"/>
                  <a:ext cx="4460760" cy="13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Line 18"/>
            <p:cNvSpPr/>
            <p:nvPr/>
          </p:nvSpPr>
          <p:spPr>
            <a:xfrm>
              <a:off x="2482920" y="4725720"/>
              <a:ext cx="792000" cy="718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"/>
            <p:cNvSpPr/>
            <p:nvPr/>
          </p:nvSpPr>
          <p:spPr>
            <a:xfrm flipH="1">
              <a:off x="2627280" y="4725720"/>
              <a:ext cx="720720" cy="57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2988720" y="5013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1"/>
            <p:cNvSpPr/>
            <p:nvPr/>
          </p:nvSpPr>
          <p:spPr>
            <a:xfrm>
              <a:off x="2484360" y="49417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97800" y="620640"/>
            <a:ext cx="45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Lineární kombinace vek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2771640" y="1484280"/>
                <a:ext cx="37450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4" name="Text Box 7"/>
          <p:cNvSpPr/>
          <p:nvPr/>
        </p:nvSpPr>
        <p:spPr>
          <a:xfrm>
            <a:off x="1547640" y="22766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ktor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lineární kombinací vektor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…u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2340000" y="3429000"/>
                <a:ext cx="37749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9"/>
          <p:cNvSpPr/>
          <p:nvPr/>
        </p:nvSpPr>
        <p:spPr>
          <a:xfrm>
            <a:off x="1258560" y="2924280"/>
            <a:ext cx="63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Lineární závislost a nezávislost vek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8520" y="3645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11280" y="4365720"/>
            <a:ext cx="777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ě, když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0, pak jsou vektor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…u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lineárně nezávislé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265760" y="508464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ometrický význam: lineárně závislé vektory jsou rovnobě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3579120" y="5716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3"/>
          <p:cNvSpPr/>
          <p:nvPr/>
        </p:nvSpPr>
        <p:spPr>
          <a:xfrm>
            <a:off x="288360" y="1428840"/>
            <a:ext cx="86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kulčák, J., za kolektiv: Matematické, fyzikální a chemické tabulky, Prometheus, Praha, 19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čandrle, M., Boček,L.: Matematika pro gymnázia - Analytická geometrie, Prometheus s.r.o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ha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693800" y="8366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Ve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1042920" y="2924280"/>
                <a:ext cx="3656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Text Box 6"/>
          <p:cNvSpPr/>
          <p:nvPr/>
        </p:nvSpPr>
        <p:spPr>
          <a:xfrm>
            <a:off x="2124000" y="5589720"/>
            <a:ext cx="42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.... u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ložky (souřadnice vekt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190520" y="20606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pořádaná n - tice čí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vektor"/>
          <p:cNvPicPr/>
          <p:nvPr/>
        </p:nvPicPr>
        <p:blipFill>
          <a:blip r:embed="rId1"/>
          <a:stretch/>
        </p:blipFill>
        <p:spPr>
          <a:xfrm>
            <a:off x="5003640" y="1700280"/>
            <a:ext cx="3380040" cy="3224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6"/>
          <p:cNvSpPr/>
          <p:nvPr/>
        </p:nvSpPr>
        <p:spPr>
          <a:xfrm>
            <a:off x="1167120" y="1216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37040" y="1628640"/>
            <a:ext cx="70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rientovaná úsečka s počátečním bodem A a koncovým bode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1403280" y="2852640"/>
                <a:ext cx="1728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6"/>
              <p:cNvSpPr txBox="1"/>
              <p:nvPr/>
            </p:nvSpPr>
            <p:spPr>
              <a:xfrm>
                <a:off x="1403280" y="3429000"/>
                <a:ext cx="1657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1403280" y="4076640"/>
                <a:ext cx="3600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7" name="Group 8"/>
          <p:cNvGrpSpPr/>
          <p:nvPr/>
        </p:nvGrpSpPr>
        <p:grpSpPr>
          <a:xfrm>
            <a:off x="5219640" y="2349360"/>
            <a:ext cx="3384720" cy="3230640"/>
            <a:chOff x="5219640" y="2349360"/>
            <a:chExt cx="3384720" cy="3230640"/>
          </a:xfrm>
        </p:grpSpPr>
        <p:pic>
          <p:nvPicPr>
            <p:cNvPr id="58" name="Picture 9" descr="vektory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338472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0"/>
            <p:cNvSpPr/>
            <p:nvPr/>
          </p:nvSpPr>
          <p:spPr>
            <a:xfrm>
              <a:off x="6517080" y="3933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7722000" y="2873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2"/>
          <p:cNvSpPr/>
          <p:nvPr/>
        </p:nvSpPr>
        <p:spPr>
          <a:xfrm>
            <a:off x="1619280" y="981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692000" y="8110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ff"/>
                </a:solidFill>
                <a:latin typeface="Arial"/>
              </a:rPr>
              <a:t>Nulový ve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691280" y="2565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ff"/>
                </a:solidFill>
                <a:latin typeface="Arial"/>
              </a:rPr>
              <a:t>Opačný vek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690920" y="522936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ff"/>
                </a:solidFill>
                <a:latin typeface="Arial"/>
              </a:rPr>
              <a:t>Jednotkový ve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1692360" y="1413000"/>
                <a:ext cx="2808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0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1692360" y="3141720"/>
                <a:ext cx="3646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1692360" y="4292640"/>
                <a:ext cx="52815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1692360" y="5661000"/>
                <a:ext cx="1728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403280" y="1665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čet vektorů u, v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060000" y="620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Operace s vek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681200" y="414864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sobení vektoru u  reálným číslem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2135160" y="2276640"/>
                <a:ext cx="501804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9"/>
              <p:cNvSpPr txBox="1"/>
              <p:nvPr/>
            </p:nvSpPr>
            <p:spPr>
              <a:xfrm>
                <a:off x="2771640" y="4797360"/>
                <a:ext cx="3354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340360" y="692280"/>
            <a:ext cx="43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Skalár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souč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vektorů u.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755640" y="1268280"/>
                <a:ext cx="3646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932360" y="1268280"/>
                <a:ext cx="3521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1022400" y="3130560"/>
                <a:ext cx="6997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Text Box 8"/>
          <p:cNvSpPr/>
          <p:nvPr/>
        </p:nvSpPr>
        <p:spPr>
          <a:xfrm>
            <a:off x="3059640" y="414972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Velikost vektoru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2987640" y="5013360"/>
                <a:ext cx="3013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773800" y="765000"/>
            <a:ext cx="30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Úhel vektorů </a:t>
            </a: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u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vektory"/>
          <p:cNvPicPr/>
          <p:nvPr/>
        </p:nvPicPr>
        <p:blipFill>
          <a:blip r:embed="rId1"/>
          <a:stretch/>
        </p:blipFill>
        <p:spPr>
          <a:xfrm>
            <a:off x="1187280" y="1844640"/>
            <a:ext cx="3176640" cy="21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219640" y="2133720"/>
                <a:ext cx="1871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1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2"/>
              <p:cNvSpPr txBox="1"/>
              <p:nvPr/>
            </p:nvSpPr>
            <p:spPr>
              <a:xfrm>
                <a:off x="1403280" y="4724280"/>
                <a:ext cx="60483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4"/>
              <p:cNvSpPr txBox="1"/>
              <p:nvPr/>
            </p:nvSpPr>
            <p:spPr>
              <a:xfrm>
                <a:off x="5148360" y="2924280"/>
                <a:ext cx="22320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480" y="1916280"/>
            <a:ext cx="79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alární součin vektorů u.v = 0 právě tehdy, je-li buď alespoň jeden z v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, v nulový vektor, nebo jsou oba vektory nenulové a navzájem kolm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773440" y="76500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Kolmé vektory </a:t>
            </a: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u</a:t>
            </a:r>
            <a:r>
              <a:rPr b="0" lang="cs-CZ" sz="28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lang="cs-CZ" sz="2800" spc="-1" strike="noStrike">
                <a:solidFill>
                  <a:srgbClr val="0066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9640" y="2944800"/>
            <a:ext cx="42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uřadnice kolmých vektorů v rov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826920" y="3573360"/>
                <a:ext cx="20084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3348000" y="4724280"/>
                <a:ext cx="2160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3276720" y="3716280"/>
                <a:ext cx="21081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Picture 11" descr="kolme_vektory"/>
          <p:cNvPicPr/>
          <p:nvPr/>
        </p:nvPicPr>
        <p:blipFill>
          <a:blip r:embed="rId1"/>
          <a:stretch/>
        </p:blipFill>
        <p:spPr>
          <a:xfrm>
            <a:off x="6084720" y="2924280"/>
            <a:ext cx="2637000" cy="3435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74520" y="765000"/>
            <a:ext cx="56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Souřadnice vektoru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, který je kolmý k vektorům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1116000" y="1341360"/>
                <a:ext cx="2529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6"/>
              <p:cNvSpPr txBox="1"/>
              <p:nvPr/>
            </p:nvSpPr>
            <p:spPr>
              <a:xfrm>
                <a:off x="1063800" y="2205000"/>
                <a:ext cx="6591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7"/>
              <p:cNvSpPr txBox="1"/>
              <p:nvPr/>
            </p:nvSpPr>
            <p:spPr>
              <a:xfrm>
                <a:off x="4699080" y="1413000"/>
                <a:ext cx="2417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6" name="Group 24"/>
          <p:cNvGrpSpPr/>
          <p:nvPr/>
        </p:nvGrpSpPr>
        <p:grpSpPr>
          <a:xfrm>
            <a:off x="2843280" y="3645000"/>
            <a:ext cx="2376360" cy="1728720"/>
            <a:chOff x="2843280" y="3645000"/>
            <a:chExt cx="2376360" cy="1728720"/>
          </a:xfrm>
        </p:grpSpPr>
        <mc:AlternateContent>
          <mc:Choice xmlns:a14="http://schemas.microsoft.com/office/drawing/2010/main" Requires="a14">
            <p:sp>
              <p:nvSpPr>
                <p:cNvPr id="107" name="Object 8"/>
                <p:cNvSpPr txBox="1"/>
                <p:nvPr/>
              </p:nvSpPr>
              <p:spPr>
                <a:xfrm>
                  <a:off x="2987640" y="3645000"/>
                  <a:ext cx="2015640" cy="17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>
              <a:off x="3201840" y="3645000"/>
              <a:ext cx="0" cy="172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2843280" y="5084640"/>
              <a:ext cx="23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21"/>
          <p:cNvSpPr/>
          <p:nvPr/>
        </p:nvSpPr>
        <p:spPr>
          <a:xfrm>
            <a:off x="1116000" y="3141720"/>
            <a:ext cx="59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vození vzorce (pomocí výpočtu subdeterminantů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475920" y="5589720"/>
            <a:ext cx="832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avení základního determina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necháním příslušného řádku a sloupce získáme příslušné subdetermin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Apple</cp:lastModifiedBy>
  <dcterms:modified xsi:type="dcterms:W3CDTF">2010-06-08T17:31:11Z</dcterms:modified>
  <cp:revision>60</cp:revision>
  <dc:subject/>
  <dc:title>POSLOUPNOSTI</dc:title>
</cp:coreProperties>
</file>