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47A3-8C97-4B52-B348-E2B620F368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A7D-CB51-40C4-A1D2-D716918A0F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A18-B998-43C3-B195-CB2FA3230A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ED3-79E5-4679-8029-10C6EF4721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8A7-E00C-4DC0-A55C-33086D3B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D0F-3376-4473-9A49-523981F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6DC-8627-49DB-A034-2E098A11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109-2299-471A-BFCC-D33DBB2E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E3E-C739-4FBA-AE97-E89C0DA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3D7-86B0-402A-9B30-B30CF51D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7AF-EB1F-4825-8789-4F40E32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2B4-6773-44A3-8793-15F9E070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EE0-AFE1-4448-A6B7-25A483A0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972-2630-406B-AA5B-AF4938EF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B89-C77B-43A2-8BEF-79ED6D7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DB5-73E3-4A3F-846A-8F86FC6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1CA-80CA-4B4F-B82A-2A18DA18AC3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244-01AF-45F6-AB94-BB42FA22D7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19280" y="1916280"/>
            <a:ext cx="6480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Limita funk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491160" y="551664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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a_bar"/>
          <p:cNvPicPr/>
          <p:nvPr/>
        </p:nvPicPr>
        <p:blipFill>
          <a:blip r:embed="rId1"/>
          <a:stretch/>
        </p:blipFill>
        <p:spPr>
          <a:xfrm>
            <a:off x="1547640" y="260280"/>
            <a:ext cx="67694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40640" y="1135080"/>
            <a:ext cx="8529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v nevlastním bodě +∞ nevlastní limitu +∞, jestliže ke každému číslu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takové reálné číslo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e pro všechna reálná x &gt;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 f(x) &gt;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79520" y="3213000"/>
            <a:ext cx="8413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v nevlastním bodě -∞ nevlastní limitu -∞, jestliže ke každému číslu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takové reálné číslo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e pro všechna reálná x &lt;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 f(x) &lt;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874960" y="1989000"/>
                <a:ext cx="23875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2843280" y="4581360"/>
                <a:ext cx="23875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382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5927760" y="4581360"/>
                <a:ext cx="21859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1080" y="549360"/>
            <a:ext cx="44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Věty o limitách funk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790200" y="1285920"/>
            <a:ext cx="7558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á v bod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jvýše jednu lim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mita konstantní funkc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(x) = 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ro každé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R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jí-li funkc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bodě a limity, pak mají v tomto bodě limitu i funkc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 + 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 – 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.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.f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konstanta c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R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3143160" y="2500200"/>
                <a:ext cx="3584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ké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unkce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latí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000080" y="3000240"/>
                <a:ext cx="4214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071720" y="3571920"/>
                <a:ext cx="4214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Object 8" descr=""/>
          <p:cNvPicPr/>
          <p:nvPr/>
        </p:nvPicPr>
        <p:blipFill>
          <a:blip r:embed="rId1"/>
          <a:stretch/>
        </p:blipFill>
        <p:spPr>
          <a:xfrm>
            <a:off x="1071720" y="4714920"/>
            <a:ext cx="2314440" cy="9604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9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40040" cy="503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857760" y="1406520"/>
                <a:ext cx="1214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3857760" y="2335320"/>
                <a:ext cx="1404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 Box 4"/>
          <p:cNvSpPr/>
          <p:nvPr/>
        </p:nvSpPr>
        <p:spPr>
          <a:xfrm>
            <a:off x="2378880" y="692280"/>
            <a:ext cx="42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Některé limity funk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788200" y="342900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Neurčité vý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2787480" y="4221000"/>
                <a:ext cx="3264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∞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∞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délník 8"/>
          <p:cNvSpPr/>
          <p:nvPr/>
        </p:nvSpPr>
        <p:spPr>
          <a:xfrm>
            <a:off x="1908000" y="5414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Hospitalovo pravid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21" name="Group 18"/>
          <p:cNvGrpSpPr/>
          <p:nvPr/>
        </p:nvGrpSpPr>
        <p:grpSpPr>
          <a:xfrm>
            <a:off x="1331280" y="1773360"/>
            <a:ext cx="6523200" cy="3255840"/>
            <a:chOff x="1331280" y="1773360"/>
            <a:chExt cx="6523200" cy="3255840"/>
          </a:xfrm>
        </p:grpSpPr>
        <mc:AlternateContent>
          <mc:Choice xmlns:a14="http://schemas.microsoft.com/office/drawing/2010/main" Requires="a14">
            <p:sp>
              <p:nvSpPr>
                <p:cNvPr id="122" name="Object 6"/>
                <p:cNvSpPr txBox="1"/>
                <p:nvPr/>
              </p:nvSpPr>
              <p:spPr>
                <a:xfrm>
                  <a:off x="1474560" y="2162160"/>
                  <a:ext cx="129672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Object 7"/>
                <p:cNvSpPr txBox="1"/>
                <p:nvPr/>
              </p:nvSpPr>
              <p:spPr>
                <a:xfrm>
                  <a:off x="5148000" y="2089080"/>
                  <a:ext cx="138708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8"/>
                <p:cNvSpPr txBox="1"/>
                <p:nvPr/>
              </p:nvSpPr>
              <p:spPr>
                <a:xfrm>
                  <a:off x="3274920" y="2162160"/>
                  <a:ext cx="12171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Text Box 9"/>
            <p:cNvSpPr/>
            <p:nvPr/>
          </p:nvSpPr>
          <p:spPr>
            <a:xfrm>
              <a:off x="1383480" y="1773360"/>
              <a:ext cx="7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Nech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1331280" y="340992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Existuje-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Object 12"/>
                <p:cNvSpPr txBox="1"/>
                <p:nvPr/>
              </p:nvSpPr>
              <p:spPr>
                <a:xfrm>
                  <a:off x="2700000" y="3241800"/>
                  <a:ext cx="15793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13"/>
            <p:cNvSpPr/>
            <p:nvPr/>
          </p:nvSpPr>
          <p:spPr>
            <a:xfrm>
              <a:off x="4427640" y="345780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existuje tak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15"/>
                <p:cNvSpPr txBox="1"/>
                <p:nvPr/>
              </p:nvSpPr>
              <p:spPr>
                <a:xfrm>
                  <a:off x="5940360" y="3241800"/>
                  <a:ext cx="1914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platí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16"/>
                <p:cNvSpPr txBox="1"/>
                <p:nvPr/>
              </p:nvSpPr>
              <p:spPr>
                <a:xfrm>
                  <a:off x="1403280" y="4249800"/>
                  <a:ext cx="27810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411640" y="549360"/>
            <a:ext cx="46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Definiční obor funk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55080" y="136044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není definována v bodech, k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14520" y="1936800"/>
            <a:ext cx="70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ovatel zlomku je roven n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gument druhé odmocniny je záporné čí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argument logaritmu je záporné číslo nebo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argument funkce tangens je roven lichému násobku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argument funkce cotangens je roven sudému násobku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3"/>
          <p:cNvSpPr/>
          <p:nvPr/>
        </p:nvSpPr>
        <p:spPr>
          <a:xfrm>
            <a:off x="322560" y="1428840"/>
            <a:ext cx="86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tsch, H.-J.: Matematické vzorce, SNTL, Praha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420000" y="54936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23080" y="150192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káme, že funkce f má v bodě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, v němž nemusí být definována, limitu 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ě, když ke každému kladnému čísl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xistuje takové kladné čísl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a 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z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a leží funkční hodnoty f(x) v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is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2916360" y="2781360"/>
                <a:ext cx="27367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933480" y="435780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kolí bod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interval, který tento bod obsah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okolí b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interval (a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a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7" descr="IMAGE0005.JPG"/>
          <p:cNvPicPr/>
          <p:nvPr/>
        </p:nvPicPr>
        <p:blipFill>
          <a:blip r:embed="rId1"/>
          <a:stretch/>
        </p:blipFill>
        <p:spPr>
          <a:xfrm>
            <a:off x="3000240" y="5143680"/>
            <a:ext cx="3054600" cy="469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1476360" y="836640"/>
            <a:ext cx="6191280" cy="4789440"/>
            <a:chOff x="1476360" y="836640"/>
            <a:chExt cx="6191280" cy="4789440"/>
          </a:xfrm>
        </p:grpSpPr>
        <p:pic>
          <p:nvPicPr>
            <p:cNvPr id="60" name="Picture 1" descr=""/>
            <p:cNvPicPr/>
            <p:nvPr/>
          </p:nvPicPr>
          <p:blipFill>
            <a:blip r:embed="rId1"/>
            <a:stretch/>
          </p:blipFill>
          <p:spPr>
            <a:xfrm>
              <a:off x="1476360" y="836640"/>
              <a:ext cx="6191280" cy="47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"/>
            <p:cNvSpPr/>
            <p:nvPr/>
          </p:nvSpPr>
          <p:spPr>
            <a:xfrm>
              <a:off x="1694520" y="2574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"/>
            <p:cNvSpPr/>
            <p:nvPr/>
          </p:nvSpPr>
          <p:spPr>
            <a:xfrm>
              <a:off x="2054520" y="2205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5"/>
            <p:cNvSpPr/>
            <p:nvPr/>
          </p:nvSpPr>
          <p:spPr>
            <a:xfrm>
              <a:off x="1694520" y="1773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"/>
          <p:cNvSpPr/>
          <p:nvPr/>
        </p:nvSpPr>
        <p:spPr>
          <a:xfrm>
            <a:off x="1024200" y="928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v bod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itá, právě když existu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6429240" y="857160"/>
                <a:ext cx="1090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ovéPole 3"/>
          <p:cNvSpPr/>
          <p:nvPr/>
        </p:nvSpPr>
        <p:spPr>
          <a:xfrm>
            <a:off x="1077120" y="1571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071800" y="1500120"/>
                <a:ext cx="1904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Box 1"/>
          <p:cNvSpPr/>
          <p:nvPr/>
        </p:nvSpPr>
        <p:spPr>
          <a:xfrm>
            <a:off x="1091520" y="2328840"/>
            <a:ext cx="45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v bod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jvýše jednu lim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49000" y="620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mit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76200" y="1149480"/>
            <a:ext cx="83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 má v bodě a limitu L  zleva, jestliže ke každém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L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é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kolí bodu tak, že pro všechna reálná  x ≠ a z levéh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kolí bodu a p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hodnoty f(x) d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21360" y="28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mita zp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78520" y="3500280"/>
            <a:ext cx="852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 má v bodě a limitu L  zleva, jestliže ke každém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L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é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kolí bodu tak, že pro všechna reálná  x ≠ a z pravéh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kolí bodu a p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hodnoty f(x) d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kolí bodu 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1619280" y="2205000"/>
                <a:ext cx="1535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692360" y="4508640"/>
                <a:ext cx="15350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"/>
              <p:cNvSpPr txBox="1"/>
              <p:nvPr/>
            </p:nvSpPr>
            <p:spPr>
              <a:xfrm>
                <a:off x="1627200" y="5300640"/>
                <a:ext cx="4486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limLow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74360" y="83664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vlastní limita funkce v b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99200" y="1413000"/>
            <a:ext cx="80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v bod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vlastní limitu +∞, jestliže ke každému číslu K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ové čísl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, že pro všechna reálná x ≠ a z okolí (a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a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bodu 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&gt;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83640" y="3429000"/>
            <a:ext cx="80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v bod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vlastní limitu -∞, jestliže ke každému číslu K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ové čísl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, že pro všechna reálná x ≠ a z okolí (a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a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bodu 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&lt;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3059280" y="2349360"/>
                <a:ext cx="20890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3348000" y="4653000"/>
                <a:ext cx="2089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979640" y="933480"/>
            <a:ext cx="5450040" cy="40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6156360" y="4699080"/>
                <a:ext cx="1868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775080" y="76500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mita funkce v nevlastním b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812520" y="1700280"/>
            <a:ext cx="8099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 má v nevlastním bodě +∞ limitu L, jestliže ke každém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álné číslo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, že pro všechna reálná x &gt;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tří všechny funkční hodno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do okolí (L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L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67160" y="3645000"/>
            <a:ext cx="8099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 má v nevlastním bodě -∞ limitu L, jestliže ke každému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 exis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álné číslo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, že pro všechna reálná x &lt;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tří všechny funkční hodno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) do okolí (L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L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3276720" y="2781360"/>
                <a:ext cx="1871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0"/>
              <p:cNvSpPr txBox="1"/>
              <p:nvPr/>
            </p:nvSpPr>
            <p:spPr>
              <a:xfrm>
                <a:off x="3419640" y="4869000"/>
                <a:ext cx="1871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546520" cy="415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6012000" y="4508640"/>
                <a:ext cx="207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9:27:12Z</dcterms:created>
  <dc:creator>VOŠ a SPŠ Strakonice</dc:creator>
  <dc:description/>
  <dc:language>en-US</dc:language>
  <cp:lastModifiedBy>Apple</cp:lastModifiedBy>
  <dcterms:modified xsi:type="dcterms:W3CDTF">2010-05-25T16:57:45Z</dcterms:modified>
  <cp:revision>43</cp:revision>
  <dc:subject/>
  <dc:title>Snímek 1</dc:title>
</cp:coreProperties>
</file>