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9D7-C9C9-4749-8EB6-C4F0A06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2AA-C09E-47B4-BF39-62B5BBC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783-F7AC-4CFF-BF1A-C00960E3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F18-A263-46C9-8514-CB6806EA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B61-4CDE-46E4-BC68-A21FC199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1E2-EB34-47E1-8B96-431352C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941-644D-47CE-84D0-AB8E4C7E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9AC-0132-439B-8445-6D804002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FB9-FCA4-46C0-8777-658AE5D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35B-B33E-4BA8-9350-1620B060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702-541C-4F71-80E3-CACD556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B2F-F469-43A4-9DC0-6A03C5F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248-8519-4640-B9A3-1ED66246BF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Geom_shodnost_translace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b/Geom_shodnost_rotace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42920" y="1989000"/>
            <a:ext cx="720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eometrická zobrazen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8" descr="loga_bar"/>
          <p:cNvPicPr/>
          <p:nvPr/>
        </p:nvPicPr>
        <p:blipFill>
          <a:blip r:embed="rId1"/>
          <a:stretch/>
        </p:blipFill>
        <p:spPr>
          <a:xfrm>
            <a:off x="1619280" y="549360"/>
            <a:ext cx="6264360" cy="966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6067080" y="5897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579840" y="53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ejnole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867600" y="1125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homotetie se středem souměrnosti S a koeficientem stejnolehlost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R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600480" y="2060640"/>
            <a:ext cx="83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bod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b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 ta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ro vekt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, 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56800" y="3284640"/>
            <a:ext cx="63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), je obraz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M na polopřímce 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lt; 0 , je obraz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M na polopřímce opačné k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velikost úseček plat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892080" y="44370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jnolehlost s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− 1 je středovou souměrnos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ický útvar a jeho obraz ve stejnolehlosti se nazýv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jnolehlé útva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398920" cy="3029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071240" y="479736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gt;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973840" cy="3351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083840" y="501336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09600" y="1484280"/>
            <a:ext cx="617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jednotlivými základními typy shodných zobrazení existují některé zajímavé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posunutí získám opět posunu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točení se stejným středem získám opět otočení se stejným stře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 různými rovnoběžnými osami získám posunutí. (A naopak - každé posunutí mohu vyjádřit jako složení dvou osových souměrností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e shodnou osou získám ident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 různoběžnými osami získám otočení kolem průsečíku os. (A naopak - každé otočení mohu vyjádřit jako složení dvou osových souměrností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14800" y="692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Slože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26920" y="1628640"/>
            <a:ext cx="77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ák, J.: Přehled středoškolské matematiky, SPN Praha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translace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rotace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soumernost_stred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identita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mdg.vsb.cz/jdolezal/StudOpory/ZakladyGeometrie/Planimetrie/GeometrickaZobrazeni/Stejnolehlost/stejnolehlost2.sv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172400" y="6969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135240" y="549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575d1"/>
                </a:solidFill>
                <a:latin typeface="Arial"/>
              </a:rPr>
              <a:t>Geometr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27560" y="1557360"/>
            <a:ext cx="794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ometrickým zobrazením v rovině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umíme takové zobrazení množin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nožinu bodů rovin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y každému bodu 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přiřazen právě j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828720" y="2925720"/>
            <a:ext cx="6248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87280" y="1836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řazují každé úsečce AB ú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ní shodno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04000" y="6922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Shod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155400" y="2719440"/>
            <a:ext cx="290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vá soumě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ová soumě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u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o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71640" y="1341000"/>
            <a:ext cx="71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roviny jsou posunuty stejným směrem o stejnou vzdálenost - směr a vzdálenost jsou dány orientovanou úsečkou s, nazývanou „vektor posunutí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96280" y="539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u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oubor:Geom shodnost transla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492280"/>
            <a:ext cx="7489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116000" y="7808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roviny jsou otočeny kolem pevně daného bodu S (středu otočení) o stejný úhe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hel otoče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784680" y="3333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to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oubor:Geom shodnost rota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1628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9640" y="1181880"/>
            <a:ext cx="783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jsou zobrazeny podle středu S, jejich obraz má stejnou vzdálenost od středu jako vzor. Středová souměrnost je zvláštní případ otočení - otočení kolem středu souměrnosti o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90760" y="4046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ed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oubor:Geom shodnost soumernost stred.svg"/>
          <p:cNvPicPr/>
          <p:nvPr/>
        </p:nvPicPr>
        <p:blipFill>
          <a:blip r:embed="rId1"/>
          <a:stretch/>
        </p:blipFill>
        <p:spPr>
          <a:xfrm>
            <a:off x="1332000" y="2924280"/>
            <a:ext cx="6381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901080"/>
            <a:ext cx="77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jsou zobrazeny podle pevné přímky – osy o, jejich obraz a vzor leží na kolmici k ose o a  mají stejnou vzdálenost od osy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15880" y="54936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Soubor:Geom shodnost soumernost osa.svg"/>
          <p:cNvPicPr/>
          <p:nvPr/>
        </p:nvPicPr>
        <p:blipFill>
          <a:blip r:embed="rId1"/>
          <a:stretch/>
        </p:blipFill>
        <p:spPr>
          <a:xfrm>
            <a:off x="838080" y="2502000"/>
            <a:ext cx="727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55640" y="139068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obrazení, které každý bod zobrazuje na sebe sama. Lze jí považovat ze posunutí o úsečku nulové délky nebo za otočení o nulový úh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852360" y="549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den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ubor:Geom shodnost identita.svg"/>
          <p:cNvPicPr/>
          <p:nvPr/>
        </p:nvPicPr>
        <p:blipFill>
          <a:blip r:embed="rId1"/>
          <a:stretch/>
        </p:blipFill>
        <p:spPr>
          <a:xfrm>
            <a:off x="2627280" y="2637000"/>
            <a:ext cx="3009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03640" y="69228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Podob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84360" y="1557360"/>
            <a:ext cx="73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obným zobraz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obnos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(v rovině) nazýváme geometrické zobrazení, které každé úseč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řiřazuje úsečku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B’ o 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B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k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kde k je reálné číslo tzv. poměr (koeficient) podob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51:06Z</dcterms:created>
  <dc:creator>DreamWeaver</dc:creator>
  <dc:description/>
  <dc:language>en-US</dc:language>
  <cp:lastModifiedBy>Apple</cp:lastModifiedBy>
  <dcterms:modified xsi:type="dcterms:W3CDTF">2011-02-09T14:49:51Z</dcterms:modified>
  <cp:revision>44</cp:revision>
  <dc:subject/>
  <dc:title>Snímek 1</dc:title>
</cp:coreProperties>
</file>