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A77-3EE4-4C0A-8E90-6B2E9D31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77A-9A74-4185-A78F-6E9FBB63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F61-E708-49DD-8CE5-C70EDFAB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8CE-2E8C-4054-A839-912A671C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3B4-B0B0-469E-B3F0-60F43D20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D16-F281-40CF-A959-7A341714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AE3-D540-4EA0-8813-51D814D6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8E5-2B49-4C5F-812B-1E0602A4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C90-3524-4497-AECC-B1C60FA2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AA7-B6DE-444A-BC9D-4CBEF7AC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6AB-A526-4FA8-83BC-CF31CFE3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B4B-AF3B-4902-8B3D-0F44A75C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FE5E-0927-4B4B-91C0-9EB78DFC08BD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F8AD-FCB3-4516-A622-719A7643DC6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2349360"/>
            <a:ext cx="6408720" cy="28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Arial Black"/>
              </a:rPr>
              <a:t>Analytická geometrie IV.</a:t>
            </a:r>
            <a:endParaRPr b="0" lang="en-US" sz="18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Arial Black"/>
              <a:ea typeface="Arial Black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914800" y="558972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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. Telinge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loga_bar"/>
          <p:cNvPicPr/>
          <p:nvPr/>
        </p:nvPicPr>
        <p:blipFill>
          <a:blip r:embed="rId1"/>
          <a:stretch/>
        </p:blipFill>
        <p:spPr>
          <a:xfrm>
            <a:off x="1332000" y="260280"/>
            <a:ext cx="6769080" cy="104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3132000" y="3500280"/>
            <a:ext cx="25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želoseč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826920" y="1413000"/>
            <a:ext cx="244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y – n)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= 2p(x –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y – n)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= - 2p(x –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x – m)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= 2p(y –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x – m)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= - 2p(y –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826920" y="620640"/>
            <a:ext cx="32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rcholové rovni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m, 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929040" y="1143000"/>
            <a:ext cx="898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hnisk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5572080" y="1143000"/>
            <a:ext cx="1185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řídící přímka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7"/>
          <p:cNvGrpSpPr/>
          <p:nvPr/>
        </p:nvGrpSpPr>
        <p:grpSpPr>
          <a:xfrm>
            <a:off x="3786120" y="1428840"/>
            <a:ext cx="2603520" cy="2117160"/>
            <a:chOff x="3786120" y="1428840"/>
            <a:chExt cx="2603520" cy="2117160"/>
          </a:xfrm>
        </p:grpSpPr>
        <mc:AlternateContent>
          <mc:Choice xmlns:a14="http://schemas.microsoft.com/office/drawing/2010/main" Requires="a14">
            <p:sp>
              <p:nvSpPr>
                <p:cNvPr id="115" name="Object 9"/>
                <p:cNvSpPr txBox="1"/>
                <p:nvPr/>
              </p:nvSpPr>
              <p:spPr>
                <a:xfrm>
                  <a:off x="3787560" y="1428840"/>
                  <a:ext cx="98100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n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Object 10"/>
                <p:cNvSpPr txBox="1"/>
                <p:nvPr/>
              </p:nvSpPr>
              <p:spPr>
                <a:xfrm>
                  <a:off x="3786120" y="1944360"/>
                  <a:ext cx="98100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n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11"/>
                <p:cNvSpPr txBox="1"/>
                <p:nvPr/>
              </p:nvSpPr>
              <p:spPr>
                <a:xfrm>
                  <a:off x="3787560" y="2508120"/>
                  <a:ext cx="961920" cy="42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;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Object 12"/>
                <p:cNvSpPr txBox="1"/>
                <p:nvPr/>
              </p:nvSpPr>
              <p:spPr>
                <a:xfrm>
                  <a:off x="3787560" y="3084480"/>
                  <a:ext cx="952560" cy="42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;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13"/>
                <p:cNvSpPr txBox="1"/>
                <p:nvPr/>
              </p:nvSpPr>
              <p:spPr>
                <a:xfrm>
                  <a:off x="5732280" y="1500120"/>
                  <a:ext cx="657360" cy="38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14"/>
                <p:cNvSpPr txBox="1"/>
                <p:nvPr/>
              </p:nvSpPr>
              <p:spPr>
                <a:xfrm>
                  <a:off x="5732280" y="1931760"/>
                  <a:ext cx="65736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Object 15"/>
                <p:cNvSpPr txBox="1"/>
                <p:nvPr/>
              </p:nvSpPr>
              <p:spPr>
                <a:xfrm>
                  <a:off x="5732280" y="2579400"/>
                  <a:ext cx="63828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Object 16"/>
                <p:cNvSpPr txBox="1"/>
                <p:nvPr/>
              </p:nvSpPr>
              <p:spPr>
                <a:xfrm>
                  <a:off x="5732280" y="3155760"/>
                  <a:ext cx="63828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3" name="Group 18"/>
          <p:cNvGrpSpPr/>
          <p:nvPr/>
        </p:nvGrpSpPr>
        <p:grpSpPr>
          <a:xfrm>
            <a:off x="2050920" y="3716280"/>
            <a:ext cx="4786560" cy="284400"/>
            <a:chOff x="2050920" y="3716280"/>
            <a:chExt cx="4786560" cy="284400"/>
          </a:xfrm>
        </p:grpSpPr>
        <p:sp>
          <p:nvSpPr>
            <p:cNvPr id="124" name="Rectangle 19"/>
            <p:cNvSpPr/>
            <p:nvPr/>
          </p:nvSpPr>
          <p:spPr>
            <a:xfrm>
              <a:off x="4214880" y="3716280"/>
              <a:ext cx="26226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rametr paraboly = vzdálenost d a 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0"/>
            <p:cNvSpPr/>
            <p:nvPr/>
          </p:nvSpPr>
          <p:spPr>
            <a:xfrm>
              <a:off x="2050920" y="3738960"/>
              <a:ext cx="50508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gt;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21"/>
          <p:cNvSpPr/>
          <p:nvPr/>
        </p:nvSpPr>
        <p:spPr>
          <a:xfrm>
            <a:off x="1403280" y="47235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ecný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var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263960" y="5300280"/>
            <a:ext cx="23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 Ax + By + C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 Ax + By + C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1"/>
          <p:cNvSpPr/>
          <p:nvPr/>
        </p:nvSpPr>
        <p:spPr>
          <a:xfrm>
            <a:off x="6790680" y="1571760"/>
            <a:ext cx="193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parabola otevřená do x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2"/>
          <p:cNvSpPr/>
          <p:nvPr/>
        </p:nvSpPr>
        <p:spPr>
          <a:xfrm>
            <a:off x="6790680" y="2071800"/>
            <a:ext cx="189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parabola otevřená do x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ovéPole 23"/>
          <p:cNvSpPr/>
          <p:nvPr/>
        </p:nvSpPr>
        <p:spPr>
          <a:xfrm>
            <a:off x="6790680" y="2643120"/>
            <a:ext cx="193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parabola otevřená do y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4"/>
          <p:cNvSpPr/>
          <p:nvPr/>
        </p:nvSpPr>
        <p:spPr>
          <a:xfrm>
            <a:off x="6790680" y="3143160"/>
            <a:ext cx="189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parabola otevřená do y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332000" y="333360"/>
            <a:ext cx="627516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Vzájemná poloha přímky a kuželose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606960" y="2060640"/>
            <a:ext cx="82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čna kuželoseč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římka, která neobsahuje žádný vnitřní bod kuželoseč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má s ní právě jeden společný bod = bod doty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569880" y="3174840"/>
            <a:ext cx="846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čna kuželoseč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římka, která má s kuželosečkou právě dva společné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 má jeden společný bod a není tečna (parabola – přímka rovnoběžn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osou paraboly, hyperbola – přímka rovnoběžná s asymptotou hyperbo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726840" y="4653000"/>
            <a:ext cx="76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římka kuželoseč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nemá s kuželosečkou žádný společný 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Tečna ke kuželoseč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222160" y="18781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ice teč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557720" y="18874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želoseč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TextBox 1" descr=""/>
          <p:cNvPicPr/>
          <p:nvPr/>
        </p:nvPicPr>
        <p:blipFill>
          <a:blip r:embed="rId1"/>
          <a:stretch/>
        </p:blipFill>
        <p:spPr>
          <a:xfrm>
            <a:off x="3444840" y="1127160"/>
            <a:ext cx="1401840" cy="3967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1987920" y="11523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d doty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1828440" y="2556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už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938240" y="33577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ip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1873440" y="433872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a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1915560" y="508464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per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4284720" y="2379600"/>
                <a:ext cx="4552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2"/>
              <p:cNvSpPr txBox="1"/>
              <p:nvPr/>
            </p:nvSpPr>
            <p:spPr>
              <a:xfrm>
                <a:off x="4313160" y="4897440"/>
                <a:ext cx="43275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: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3"/>
              <p:cNvSpPr txBox="1"/>
              <p:nvPr/>
            </p:nvSpPr>
            <p:spPr>
              <a:xfrm>
                <a:off x="4521240" y="4114800"/>
                <a:ext cx="4078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4"/>
              <p:cNvSpPr txBox="1"/>
              <p:nvPr/>
            </p:nvSpPr>
            <p:spPr>
              <a:xfrm>
                <a:off x="4344840" y="3284640"/>
                <a:ext cx="43513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: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TextBox 15"/>
          <p:cNvSpPr/>
          <p:nvPr/>
        </p:nvSpPr>
        <p:spPr>
          <a:xfrm>
            <a:off x="754200" y="5732640"/>
            <a:ext cx="786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 ostatní polohy elipsy, hyperboly a paraboly je nutno provést analogickou obměnu ve vzorcí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vzorce vycházejí ze středové příp. vrcholové rovnice kuželoseč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1789200" y="549360"/>
            <a:ext cx="609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Klasifikace kuželoseč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763640" y="2637000"/>
          <a:ext cx="5256360" cy="2831760"/>
        </p:xfrm>
        <a:graphic>
          <a:graphicData uri="http://schemas.openxmlformats.org/drawingml/2006/table">
            <a:tbl>
              <a:tblPr/>
              <a:tblGrid>
                <a:gridCol w="2752920"/>
                <a:gridCol w="250344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mín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kuželoseč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60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 – stejné znamén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užn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6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 – stejné znamén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p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 – opačné znamén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b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0 nebo B =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b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55" name="Rectangle 1"/>
          <p:cNvSpPr/>
          <p:nvPr/>
        </p:nvSpPr>
        <p:spPr>
          <a:xfrm>
            <a:off x="1692360" y="567612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da se skutečně jedná o kuželosečku, zjistíme po úpravě na středový příp. vrcholový tv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2550960" y="1524960"/>
            <a:ext cx="31734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ecná rovnice kuželosečk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x</a:t>
            </a:r>
            <a:r>
              <a:rPr b="1" lang="cs-CZ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By</a:t>
            </a:r>
            <a:r>
              <a:rPr b="1" lang="cs-CZ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Cx + Dy + E = 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ovéPole 2"/>
          <p:cNvSpPr/>
          <p:nvPr/>
        </p:nvSpPr>
        <p:spPr>
          <a:xfrm>
            <a:off x="3579120" y="5716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véPole 3"/>
          <p:cNvSpPr/>
          <p:nvPr/>
        </p:nvSpPr>
        <p:spPr>
          <a:xfrm>
            <a:off x="322560" y="1428840"/>
            <a:ext cx="868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kulčák, J., za kolektiv: Matematické, fyzikální a chemické tabulky, Prometheus, Praha, 198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artsch, H.-J.: Matematické vzorce, SNTL, Praha, 198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Kuželosečky - klasifi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množina bodů v rovině, kterou lze získat jako průnik rotační kuželové ploch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 a roviny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která neprochází jejím vrcho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2268360" y="614520"/>
            <a:ext cx="4680000" cy="4555800"/>
            <a:chOff x="2268360" y="614520"/>
            <a:chExt cx="4680000" cy="4555800"/>
          </a:xfrm>
        </p:grpSpPr>
        <p:pic>
          <p:nvPicPr>
            <p:cNvPr id="50" name="Picture 4" descr="gf20004"/>
            <p:cNvPicPr/>
            <p:nvPr/>
          </p:nvPicPr>
          <p:blipFill>
            <a:blip r:embed="rId1"/>
            <a:stretch/>
          </p:blipFill>
          <p:spPr>
            <a:xfrm>
              <a:off x="2268360" y="615240"/>
              <a:ext cx="4680000" cy="45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1"/>
            <p:cNvSpPr/>
            <p:nvPr/>
          </p:nvSpPr>
          <p:spPr>
            <a:xfrm>
              <a:off x="2339640" y="1406520"/>
              <a:ext cx="863640" cy="72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5434920" y="614520"/>
              <a:ext cx="1439640" cy="36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204000" y="5411880"/>
            <a:ext cx="36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 – osa rotační kuželové plo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 – rotační kuželová  plo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492720" y="692280"/>
            <a:ext cx="235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Kruž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116000" y="1700280"/>
            <a:ext cx="72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ružnice k se středem S=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, n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 a poloměrem r je množina všech bodů v rovině, které mají od bodu S vzdálenost r (r &gt;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97000" y="2852640"/>
            <a:ext cx="266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sový tvar: S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0, 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ředový tv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x – m)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+ (y – n)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ecný tv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+ ax + by + c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890960" y="2781360"/>
            <a:ext cx="3117960" cy="2795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708360" y="404640"/>
            <a:ext cx="170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Elip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11280" y="1197000"/>
            <a:ext cx="820872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lipsa je množina bodů v rovině, které mají od dvou daných bodů F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a F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stálý součet vzdáleností 2a, který je větší než vzdálenost bodů F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 Body F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se nazývají ohniska elip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72720" y="2924280"/>
            <a:ext cx="24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sový tvar: S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0, 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0"/>
              <p:cNvSpPr txBox="1"/>
              <p:nvPr/>
            </p:nvSpPr>
            <p:spPr>
              <a:xfrm>
                <a:off x="1403280" y="3429000"/>
                <a:ext cx="1368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2"/>
              <p:cNvSpPr txBox="1"/>
              <p:nvPr/>
            </p:nvSpPr>
            <p:spPr>
              <a:xfrm>
                <a:off x="1476360" y="4365720"/>
                <a:ext cx="1295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4356000" y="2852640"/>
            <a:ext cx="3679920" cy="24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547640" y="1052640"/>
                <a:ext cx="2664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547640" y="1916280"/>
                <a:ext cx="2521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Rectangle 6"/>
          <p:cNvSpPr/>
          <p:nvPr/>
        </p:nvSpPr>
        <p:spPr>
          <a:xfrm>
            <a:off x="1692360" y="443880"/>
            <a:ext cx="21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ředová rovn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0" y="37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71760" y="2857680"/>
          <a:ext cx="6840360" cy="2592360"/>
        </p:xfrm>
        <a:graphic>
          <a:graphicData uri="http://schemas.openxmlformats.org/drawingml/2006/table">
            <a:tbl>
              <a:tblPr/>
              <a:tblGrid>
                <a:gridCol w="2943000"/>
                <a:gridCol w="389736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 = 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avní osa elip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= 2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dlejší osa elip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, B, C,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choly elip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1" lang="cs-CZ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-e +m, n]</a:t>
                      </a:r>
                      <a:r>
                        <a:rPr b="1" lang="cs-CZ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1" lang="cs-CZ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[e + m, n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1" lang="cs-CZ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,-e + n]</a:t>
                      </a:r>
                      <a:r>
                        <a:rPr b="1" lang="cs-CZ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1" lang="cs-CZ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[m, e + n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niska (hl. osa rovnoběžná s osou 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niska (hl. osa rovnoběžná s osou 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cs-CZ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a</a:t>
                      </a:r>
                      <a:r>
                        <a:rPr b="1" lang="cs-CZ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b</a:t>
                      </a:r>
                      <a:r>
                        <a:rPr b="1" lang="cs-CZ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e</a:t>
                      </a:r>
                      <a:r>
                        <a:rPr b="1" lang="cs-CZ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b</a:t>
                      </a:r>
                      <a:r>
                        <a:rPr b="1" lang="cs-CZ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a</a:t>
                      </a:r>
                      <a:r>
                        <a:rPr b="1" lang="cs-CZ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ntricita (výstředno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= [m, n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řed elip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39"/>
          <p:cNvSpPr/>
          <p:nvPr/>
        </p:nvSpPr>
        <p:spPr>
          <a:xfrm>
            <a:off x="1510560" y="5571720"/>
            <a:ext cx="30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ecný tv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+ By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+ Cx + Dy + 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ovéPole 25"/>
          <p:cNvSpPr/>
          <p:nvPr/>
        </p:nvSpPr>
        <p:spPr>
          <a:xfrm>
            <a:off x="5229720" y="121428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l. osa rovnoběžná s osou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26"/>
          <p:cNvSpPr/>
          <p:nvPr/>
        </p:nvSpPr>
        <p:spPr>
          <a:xfrm>
            <a:off x="5301000" y="200016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l. osa rovnoběžná s osou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493440" y="620640"/>
            <a:ext cx="27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Hyperb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755640" y="1656360"/>
            <a:ext cx="77040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yperbola je množina všech bodů v rovině, které mají od dvou daných bodů F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stálou absolutní hodnotu rozdílu jejich vzdáleností rovnou 2a, která je menší než vzdálenost bodů F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 Body F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se nazývají ohniska hyperbo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8"/>
              <p:cNvSpPr txBox="1"/>
              <p:nvPr/>
            </p:nvSpPr>
            <p:spPr>
              <a:xfrm>
                <a:off x="1476360" y="4005360"/>
                <a:ext cx="1440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1476360" y="5013360"/>
                <a:ext cx="14400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Rectangle 9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800" y="32918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1258920" y="33980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sový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var: S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0, 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4932360" y="3157560"/>
            <a:ext cx="3251160" cy="273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928800" y="785880"/>
                <a:ext cx="20160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857160" y="1571760"/>
                <a:ext cx="20890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6"/>
          <p:cNvSpPr/>
          <p:nvPr/>
        </p:nvSpPr>
        <p:spPr>
          <a:xfrm>
            <a:off x="937080" y="387000"/>
            <a:ext cx="168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ředový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var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4"/>
              <p:cNvSpPr txBox="1"/>
              <p:nvPr/>
            </p:nvSpPr>
            <p:spPr>
              <a:xfrm>
                <a:off x="2124000" y="5157720"/>
                <a:ext cx="792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53"/>
              <p:cNvSpPr txBox="1"/>
              <p:nvPr/>
            </p:nvSpPr>
            <p:spPr>
              <a:xfrm>
                <a:off x="971640" y="5157720"/>
                <a:ext cx="9363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52"/>
              <p:cNvSpPr txBox="1"/>
              <p:nvPr/>
            </p:nvSpPr>
            <p:spPr>
              <a:xfrm>
                <a:off x="2124000" y="5589720"/>
                <a:ext cx="7207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1"/>
              <p:cNvSpPr txBox="1"/>
              <p:nvPr/>
            </p:nvSpPr>
            <p:spPr>
              <a:xfrm>
                <a:off x="971640" y="5516640"/>
                <a:ext cx="93636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Rectangle 67"/>
          <p:cNvSpPr/>
          <p:nvPr/>
        </p:nvSpPr>
        <p:spPr>
          <a:xfrm>
            <a:off x="932040" y="2255760"/>
            <a:ext cx="233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9"/>
          <p:cNvSpPr/>
          <p:nvPr/>
        </p:nvSpPr>
        <p:spPr>
          <a:xfrm>
            <a:off x="932040" y="2255760"/>
            <a:ext cx="233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00000" y="2637000"/>
          <a:ext cx="5416560" cy="3200400"/>
        </p:xfrm>
        <a:graphic>
          <a:graphicData uri="http://schemas.openxmlformats.org/drawingml/2006/table">
            <a:tbl>
              <a:tblPr/>
              <a:tblGrid>
                <a:gridCol w="2330640"/>
                <a:gridCol w="3085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 = 2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avní osa hyperb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1" lang="cs-CZ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1" lang="cs-CZ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dlejší osa hyperb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,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choly hyperb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= [m, 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řed hyperb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1" lang="cs-CZ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-e, n]</a:t>
                      </a:r>
                      <a:r>
                        <a:rPr b="1" lang="cs-CZ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1" lang="cs-CZ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[m+e, 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1" lang="cs-CZ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,n-e]</a:t>
                      </a:r>
                      <a:r>
                        <a:rPr b="1" lang="cs-CZ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1" lang="cs-CZ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[m, n+e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niska (hl. osa rovnoběžná s osou 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niska (hl. osa rovnoběžná s osou 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cs-CZ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a</a:t>
                      </a:r>
                      <a:r>
                        <a:rPr b="1" lang="cs-CZ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b</a:t>
                      </a:r>
                      <a:r>
                        <a:rPr b="1" lang="cs-CZ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ntricita (výstředno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ymptoty (tečny v nevlastních bode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=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0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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97"/>
          <p:cNvSpPr/>
          <p:nvPr/>
        </p:nvSpPr>
        <p:spPr>
          <a:xfrm>
            <a:off x="1010520" y="6000120"/>
            <a:ext cx="30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ecný tv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+ By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+ Cx + Dy + 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32"/>
          <p:cNvSpPr/>
          <p:nvPr/>
        </p:nvSpPr>
        <p:spPr>
          <a:xfrm>
            <a:off x="4300920" y="92880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l. osa rovnoběžná s osou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33"/>
          <p:cNvSpPr/>
          <p:nvPr/>
        </p:nvSpPr>
        <p:spPr>
          <a:xfrm>
            <a:off x="4229640" y="1571760"/>
            <a:ext cx="32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l. osa rovnoběžná s osou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26920" y="1412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rabola je množina bodů v rovině, které mají stejnou vzdálenost od daného bodu F a od dané přímky d, která tímto bodem neprochází. Bod F se nazývá ohnisko paraboly, přímka d se nazývá řídící přímka parabo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493800" y="404640"/>
            <a:ext cx="24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Parab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01080" y="2862360"/>
            <a:ext cx="24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sový tvar: V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0, 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= 2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= - 2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= 2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= - 2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2735280" cy="322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07:31:21Z</dcterms:created>
  <dc:creator>VOŠ a SPŠ Strakonice</dc:creator>
  <dc:description/>
  <dc:language>en-US</dc:language>
  <cp:lastModifiedBy>Apple</cp:lastModifiedBy>
  <dcterms:modified xsi:type="dcterms:W3CDTF">2010-04-27T16:31:20Z</dcterms:modified>
  <cp:revision>36</cp:revision>
  <dc:subject/>
  <dc:title>Snímek 1</dc:title>
</cp:coreProperties>
</file>