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1A8-EECE-49B2-AD84-6D0B572A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7ED-2F15-4DEA-B890-2A72046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93F-1F75-4B37-B79A-7B347308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6FD-701D-485E-89FE-CCDF7183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1DD-1C59-4C92-BD56-D12EBE4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434-84B1-428F-BF5A-E954A34D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D26-2794-4FF4-B391-FDB0F43E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C0F-B936-421E-800F-B839DFA2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1D4-BFF8-4DC4-AEA8-21FBCB2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74B-6B83-4720-BA07-E9ED6CF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1C6-CE93-467C-A1A1-358DF8E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CBC-FA63-4825-8BB4-D936AA5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4C57-233C-4729-9420-F414FD46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989000"/>
            <a:ext cx="532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LANIMETRI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948360" y="4797360"/>
            <a:ext cx="8636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irka Telingerová</a:t>
            </a:r>
            <a:endParaRPr b="0" lang="en-US" sz="9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264360" cy="96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1341360"/>
            <a:ext cx="3527280" cy="496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– ob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 -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, b, c, d - délky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 – vý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vn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í ú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u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délka úhlo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č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odchylka úhlo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č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délka strany n – úhel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o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 k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ce opsané n – úhel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poloměr k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ce vepsané n - úhel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ikost vnějšího nebo středového úh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4360" y="5516640"/>
                <a:ext cx="361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133080" y="476280"/>
            <a:ext cx="285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LE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557360"/>
            <a:ext cx="2400120" cy="381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polo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prů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elikost středového úhlu ve stup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– délka tětivy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– výška kruhové úse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vnější polo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vnější prů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5867280" y="5445000"/>
            <a:ext cx="1225800" cy="936720"/>
          </a:xfrm>
          <a:custGeom>
            <a:avLst/>
            <a:gdLst>
              <a:gd name="textAreaLeft" fmla="*/ 60480 w 1225800"/>
              <a:gd name="textAreaRight" fmla="*/ 1165320 w 12258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8263" h="21600">
                <a:moveTo>
                  <a:pt x="0" y="0"/>
                </a:moveTo>
                <a:lnTo>
                  <a:pt x="28263" y="0"/>
                </a:lnTo>
                <a:lnTo>
                  <a:pt x="28263" y="21600"/>
                </a:lnTo>
                <a:lnTo>
                  <a:pt x="0" y="21600"/>
                </a:lnTo>
                <a:close/>
              </a:path>
              <a:path fill="lightenLess" w="28263" h="21600">
                <a:moveTo>
                  <a:pt x="0" y="0"/>
                </a:moveTo>
                <a:lnTo>
                  <a:pt x="28263" y="0"/>
                </a:lnTo>
                <a:lnTo>
                  <a:pt x="26863" y="1400"/>
                </a:lnTo>
                <a:lnTo>
                  <a:pt x="1400" y="1400"/>
                </a:lnTo>
                <a:close/>
              </a:path>
              <a:path fill="darken" w="28263" h="21600">
                <a:moveTo>
                  <a:pt x="28263" y="0"/>
                </a:moveTo>
                <a:lnTo>
                  <a:pt x="28263" y="21600"/>
                </a:lnTo>
                <a:lnTo>
                  <a:pt x="26863" y="20200"/>
                </a:lnTo>
                <a:lnTo>
                  <a:pt x="26863" y="1400"/>
                </a:lnTo>
                <a:close/>
              </a:path>
              <a:path fill="darkenLess" w="28263" h="21600">
                <a:moveTo>
                  <a:pt x="28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63" y="20200"/>
                </a:lnTo>
                <a:close/>
              </a:path>
              <a:path fill="lighten" w="28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63" h="21600">
                <a:moveTo>
                  <a:pt x="7125" y="10800"/>
                </a:moveTo>
                <a:lnTo>
                  <a:pt x="21138" y="3794"/>
                </a:lnTo>
                <a:lnTo>
                  <a:pt x="21138" y="17806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836640"/>
            <a:ext cx="27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Trojúhelní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763640" y="2708280"/>
                <a:ext cx="1224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547640" y="4292640"/>
                <a:ext cx="3888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19280" y="5084640"/>
                <a:ext cx="13669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37724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r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z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23295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lastslide"/>
          </p:cNvPr>
          <p:cNvSpPr/>
          <p:nvPr/>
        </p:nvSpPr>
        <p:spPr>
          <a:xfrm>
            <a:off x="6804000" y="4797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168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3612" h="21600">
                <a:moveTo>
                  <a:pt x="17911" y="14281"/>
                </a:moveTo>
                <a:lnTo>
                  <a:pt x="17911" y="12323"/>
                </a:lnTo>
                <a:cubicBezTo>
                  <a:pt x="17911" y="11496"/>
                  <a:pt x="18242" y="10800"/>
                  <a:pt x="18843" y="10800"/>
                </a:cubicBezTo>
                <a:cubicBezTo>
                  <a:pt x="19974" y="10800"/>
                  <a:pt x="20871" y="9434"/>
                  <a:pt x="20871" y="7849"/>
                </a:cubicBezTo>
                <a:cubicBezTo>
                  <a:pt x="20871" y="5534"/>
                  <a:pt x="19017" y="3794"/>
                  <a:pt x="16806" y="3794"/>
                </a:cubicBezTo>
                <a:cubicBezTo>
                  <a:pt x="14595" y="3794"/>
                  <a:pt x="12924" y="5534"/>
                  <a:pt x="12924" y="7849"/>
                </a:cubicBezTo>
                <a:lnTo>
                  <a:pt x="14778" y="7849"/>
                </a:lnTo>
                <a:cubicBezTo>
                  <a:pt x="14778" y="6709"/>
                  <a:pt x="15701" y="5821"/>
                  <a:pt x="16806" y="5821"/>
                </a:cubicBezTo>
                <a:cubicBezTo>
                  <a:pt x="17911" y="5821"/>
                  <a:pt x="18843" y="6709"/>
                  <a:pt x="18843" y="7849"/>
                </a:cubicBezTo>
                <a:cubicBezTo>
                  <a:pt x="18843" y="8589"/>
                  <a:pt x="18373" y="9320"/>
                  <a:pt x="17911" y="9320"/>
                </a:cubicBezTo>
                <a:cubicBezTo>
                  <a:pt x="16806" y="9320"/>
                  <a:pt x="15701" y="10800"/>
                  <a:pt x="15701" y="12323"/>
                </a:cubicBezTo>
                <a:lnTo>
                  <a:pt x="15701" y="14281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6720" y="836640"/>
            <a:ext cx="27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Čtyřúhelní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96000" y="1413000"/>
                <a:ext cx="1942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7280" y="4797360"/>
                <a:ext cx="1872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3213000"/>
                <a:ext cx="1584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0480" y="8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8360" y="3789000"/>
            <a:ext cx="1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dél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=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= 2(a +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5157360"/>
            <a:ext cx="13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tve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=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 = 4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3280" y="256500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chob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62864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a + b + c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360" y="2540160"/>
            <a:ext cx="20628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NOBĚŽ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a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924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očtve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3924360" y="5445000"/>
            <a:ext cx="1152360" cy="720720"/>
          </a:xfrm>
          <a:custGeom>
            <a:avLst/>
            <a:gdLst>
              <a:gd name="textAreaLeft" fmla="*/ 46440 w 1152360"/>
              <a:gd name="textAreaRight" fmla="*/ 1105920 w 115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530" h="21600">
                <a:moveTo>
                  <a:pt x="0" y="0"/>
                </a:moveTo>
                <a:lnTo>
                  <a:pt x="34530" y="0"/>
                </a:lnTo>
                <a:lnTo>
                  <a:pt x="34530" y="21600"/>
                </a:lnTo>
                <a:lnTo>
                  <a:pt x="0" y="21600"/>
                </a:lnTo>
                <a:close/>
              </a:path>
              <a:path fill="lightenLess" w="34530" h="21600">
                <a:moveTo>
                  <a:pt x="0" y="0"/>
                </a:moveTo>
                <a:lnTo>
                  <a:pt x="34530" y="0"/>
                </a:lnTo>
                <a:lnTo>
                  <a:pt x="33130" y="1400"/>
                </a:lnTo>
                <a:lnTo>
                  <a:pt x="1400" y="1400"/>
                </a:lnTo>
                <a:close/>
              </a:path>
              <a:path fill="darken" w="34530" h="21600">
                <a:moveTo>
                  <a:pt x="34530" y="0"/>
                </a:moveTo>
                <a:lnTo>
                  <a:pt x="34530" y="21600"/>
                </a:lnTo>
                <a:lnTo>
                  <a:pt x="33130" y="20200"/>
                </a:lnTo>
                <a:lnTo>
                  <a:pt x="33130" y="1400"/>
                </a:lnTo>
                <a:close/>
              </a:path>
              <a:path fill="darkenLess" w="34530" h="21600">
                <a:moveTo>
                  <a:pt x="34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0" y="20200"/>
                </a:lnTo>
                <a:close/>
              </a:path>
              <a:path fill="lighten" w="34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0" h="21600">
                <a:moveTo>
                  <a:pt x="172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30" h="21600">
                <a:moveTo>
                  <a:pt x="18370" y="14281"/>
                </a:moveTo>
                <a:lnTo>
                  <a:pt x="18370" y="12323"/>
                </a:lnTo>
                <a:cubicBezTo>
                  <a:pt x="18370" y="11496"/>
                  <a:pt x="18701" y="10800"/>
                  <a:pt x="19302" y="10800"/>
                </a:cubicBezTo>
                <a:cubicBezTo>
                  <a:pt x="20433" y="10800"/>
                  <a:pt x="21330" y="9434"/>
                  <a:pt x="21330" y="7849"/>
                </a:cubicBezTo>
                <a:cubicBezTo>
                  <a:pt x="21330" y="5534"/>
                  <a:pt x="19476" y="3794"/>
                  <a:pt x="17265" y="3794"/>
                </a:cubicBezTo>
                <a:cubicBezTo>
                  <a:pt x="15054" y="3794"/>
                  <a:pt x="13383" y="5534"/>
                  <a:pt x="13383" y="7849"/>
                </a:cubicBezTo>
                <a:lnTo>
                  <a:pt x="15237" y="7849"/>
                </a:lnTo>
                <a:cubicBezTo>
                  <a:pt x="15237" y="6709"/>
                  <a:pt x="16160" y="5821"/>
                  <a:pt x="17265" y="5821"/>
                </a:cubicBezTo>
                <a:cubicBezTo>
                  <a:pt x="18370" y="5821"/>
                  <a:pt x="19302" y="6709"/>
                  <a:pt x="19302" y="7849"/>
                </a:cubicBezTo>
                <a:cubicBezTo>
                  <a:pt x="19302" y="8589"/>
                  <a:pt x="18832" y="9320"/>
                  <a:pt x="18370" y="9320"/>
                </a:cubicBezTo>
                <a:cubicBezTo>
                  <a:pt x="17265" y="9320"/>
                  <a:pt x="16160" y="10800"/>
                  <a:pt x="16160" y="12323"/>
                </a:cubicBezTo>
                <a:lnTo>
                  <a:pt x="16160" y="14281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87280" y="2060640"/>
                <a:ext cx="64803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843280" y="836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Mnohoúhelní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4140360" y="4869000"/>
            <a:ext cx="936360" cy="79200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127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535" h="21600">
                <a:moveTo>
                  <a:pt x="13873" y="14281"/>
                </a:moveTo>
                <a:lnTo>
                  <a:pt x="13873" y="12323"/>
                </a:lnTo>
                <a:cubicBezTo>
                  <a:pt x="13873" y="11496"/>
                  <a:pt x="14204" y="10800"/>
                  <a:pt x="14804" y="10800"/>
                </a:cubicBezTo>
                <a:cubicBezTo>
                  <a:pt x="15936" y="10800"/>
                  <a:pt x="16832" y="9434"/>
                  <a:pt x="16832" y="7849"/>
                </a:cubicBezTo>
                <a:cubicBezTo>
                  <a:pt x="16832" y="5534"/>
                  <a:pt x="14978" y="3794"/>
                  <a:pt x="12768" y="3794"/>
                </a:cubicBezTo>
                <a:cubicBezTo>
                  <a:pt x="10557" y="3794"/>
                  <a:pt x="8886" y="5534"/>
                  <a:pt x="8886" y="7849"/>
                </a:cubicBezTo>
                <a:lnTo>
                  <a:pt x="10740" y="7849"/>
                </a:lnTo>
                <a:cubicBezTo>
                  <a:pt x="10740" y="6709"/>
                  <a:pt x="11662" y="5821"/>
                  <a:pt x="12768" y="5821"/>
                </a:cubicBezTo>
                <a:cubicBezTo>
                  <a:pt x="13873" y="5821"/>
                  <a:pt x="14804" y="6709"/>
                  <a:pt x="14804" y="7849"/>
                </a:cubicBezTo>
                <a:cubicBezTo>
                  <a:pt x="14804" y="8589"/>
                  <a:pt x="14334" y="9320"/>
                  <a:pt x="13873" y="9320"/>
                </a:cubicBezTo>
                <a:cubicBezTo>
                  <a:pt x="12768" y="9320"/>
                  <a:pt x="11662" y="10800"/>
                  <a:pt x="11662" y="12323"/>
                </a:cubicBezTo>
                <a:lnTo>
                  <a:pt x="11662" y="14281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58920" y="3357720"/>
                <a:ext cx="1657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3280" y="836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Kružnice a kru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4400" y="1987920"/>
            <a:ext cx="37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vod kruhu (délka kr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9280" y="314064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ah kru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lastslide"/>
          </p:cNvPr>
          <p:cNvSpPr/>
          <p:nvPr/>
        </p:nvSpPr>
        <p:spPr>
          <a:xfrm>
            <a:off x="5724360" y="4581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143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4" h="21600">
                <a:moveTo>
                  <a:pt x="15497" y="14281"/>
                </a:moveTo>
                <a:lnTo>
                  <a:pt x="15497" y="12323"/>
                </a:lnTo>
                <a:cubicBezTo>
                  <a:pt x="15497" y="11496"/>
                  <a:pt x="15828" y="10800"/>
                  <a:pt x="16429" y="10800"/>
                </a:cubicBezTo>
                <a:cubicBezTo>
                  <a:pt x="17560" y="10800"/>
                  <a:pt x="18457" y="9434"/>
                  <a:pt x="18457" y="7849"/>
                </a:cubicBezTo>
                <a:cubicBezTo>
                  <a:pt x="18457" y="5534"/>
                  <a:pt x="16603" y="3794"/>
                  <a:pt x="14392" y="3794"/>
                </a:cubicBezTo>
                <a:cubicBezTo>
                  <a:pt x="12181" y="3794"/>
                  <a:pt x="10510" y="5534"/>
                  <a:pt x="10510" y="7849"/>
                </a:cubicBezTo>
                <a:lnTo>
                  <a:pt x="12364" y="7849"/>
                </a:lnTo>
                <a:cubicBezTo>
                  <a:pt x="12364" y="6709"/>
                  <a:pt x="13287" y="5821"/>
                  <a:pt x="14392" y="5821"/>
                </a:cubicBezTo>
                <a:cubicBezTo>
                  <a:pt x="15497" y="5821"/>
                  <a:pt x="16429" y="6709"/>
                  <a:pt x="16429" y="7849"/>
                </a:cubicBezTo>
                <a:cubicBezTo>
                  <a:pt x="16429" y="8589"/>
                  <a:pt x="15959" y="9320"/>
                  <a:pt x="15497" y="9320"/>
                </a:cubicBezTo>
                <a:cubicBezTo>
                  <a:pt x="14392" y="9320"/>
                  <a:pt x="13287" y="10800"/>
                  <a:pt x="13287" y="12323"/>
                </a:cubicBezTo>
                <a:lnTo>
                  <a:pt x="13287" y="14281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90792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Části kružnice a kru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63640" y="2276640"/>
                <a:ext cx="129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r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186560" y="184464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lka oblouku kruž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547640" y="4437000"/>
                <a:ext cx="1584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16360" y="4292640"/>
                <a:ext cx="38163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r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148360" y="2708280"/>
                <a:ext cx="3348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78828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ah kruhové výse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37731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uhová ú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1280" y="1915200"/>
            <a:ext cx="13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zikr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95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lastslide"/>
          </p:cNvPr>
          <p:cNvSpPr/>
          <p:nvPr/>
        </p:nvSpPr>
        <p:spPr>
          <a:xfrm>
            <a:off x="4284720" y="551664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413" h="21600">
                <a:moveTo>
                  <a:pt x="17312" y="14281"/>
                </a:moveTo>
                <a:lnTo>
                  <a:pt x="17312" y="12323"/>
                </a:lnTo>
                <a:cubicBezTo>
                  <a:pt x="17312" y="11496"/>
                  <a:pt x="17643" y="10800"/>
                  <a:pt x="18243" y="10800"/>
                </a:cubicBezTo>
                <a:cubicBezTo>
                  <a:pt x="19375" y="10800"/>
                  <a:pt x="20271" y="9434"/>
                  <a:pt x="20271" y="7849"/>
                </a:cubicBezTo>
                <a:cubicBezTo>
                  <a:pt x="20271" y="5534"/>
                  <a:pt x="18417" y="3794"/>
                  <a:pt x="16207" y="3794"/>
                </a:cubicBezTo>
                <a:cubicBezTo>
                  <a:pt x="13996" y="3794"/>
                  <a:pt x="12325" y="5534"/>
                  <a:pt x="12325" y="7849"/>
                </a:cubicBezTo>
                <a:lnTo>
                  <a:pt x="14179" y="7849"/>
                </a:lnTo>
                <a:cubicBezTo>
                  <a:pt x="14179" y="6709"/>
                  <a:pt x="15101" y="5821"/>
                  <a:pt x="16207" y="5821"/>
                </a:cubicBezTo>
                <a:cubicBezTo>
                  <a:pt x="17312" y="5821"/>
                  <a:pt x="18243" y="6709"/>
                  <a:pt x="18243" y="7849"/>
                </a:cubicBezTo>
                <a:cubicBezTo>
                  <a:pt x="18243" y="8589"/>
                  <a:pt x="17773" y="9320"/>
                  <a:pt x="17312" y="9320"/>
                </a:cubicBezTo>
                <a:cubicBezTo>
                  <a:pt x="16207" y="9320"/>
                  <a:pt x="15101" y="10800"/>
                  <a:pt x="15101" y="12323"/>
                </a:cubicBezTo>
                <a:lnTo>
                  <a:pt x="15101" y="14281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92680" y="549360"/>
            <a:ext cx="33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Trigonome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360" y="134136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avoúhlý trojúhel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2520" y="18446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ythagorova 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8520" y="19162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66"/>
                </a:solidFill>
                <a:latin typeface="Arial"/>
              </a:rPr>
              <a:t>Eukleidovy v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26920" y="2349360"/>
                <a:ext cx="2103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77080" y="2349360"/>
                <a:ext cx="1365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948360" y="3284640"/>
                <a:ext cx="14194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093080" y="3933720"/>
                <a:ext cx="1197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221440" y="2565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vý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600" y="32130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dvě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4416120" cy="29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857160"/>
            <a:ext cx="55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niometrické funkce v pravoúhlém trojúhel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1628640"/>
                <a:ext cx="1492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637000"/>
                <a:ext cx="1368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58920" y="3573360"/>
                <a:ext cx="1173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6000" y="4508640"/>
                <a:ext cx="1563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293800" y="4869000"/>
            <a:ext cx="216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protilehlá odvěs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– přilehlá odvěs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- přep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416480" cy="292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51640" y="1916280"/>
                <a:ext cx="865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2560" y="6206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Obecný trojúhel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3440" y="1268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nová 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3800" y="3068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Kosinová 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16000" y="1844640"/>
                <a:ext cx="2808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00000" y="3716280"/>
                <a:ext cx="4402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52560" y="4398840"/>
                <a:ext cx="4440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90720" y="5046840"/>
                <a:ext cx="4363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51:06Z</dcterms:created>
  <dc:creator>DreamWeaver</dc:creator>
  <dc:description/>
  <dc:language>en-US</dc:language>
  <cp:lastModifiedBy>zak</cp:lastModifiedBy>
  <dcterms:modified xsi:type="dcterms:W3CDTF">2010-10-21T13:18:26Z</dcterms:modified>
  <cp:revision>31</cp:revision>
  <dc:subject/>
  <dc:title>Snímek 1</dc:title>
</cp:coreProperties>
</file>