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13A-A8C6-400C-9EE3-1208BA68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9C4-66A6-480F-A5A4-6757321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8B4-8186-4765-A90E-FA0A2784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931-0978-4B9F-AA9A-39FF4F0B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1F2-D55E-494C-8831-C9C0E4C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615-1C71-4AF7-97CA-A25FE68B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355-6384-4B07-89D8-B5BF1D07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A9E-8527-41A5-8572-F31CE54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249-0DCC-4C21-B28D-0D195A8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B67-3297-4DEA-976A-5C8D540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6C9-B656-486C-B731-FFA5493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D3B-7F17-4723-BEAC-DED8011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09D-5B97-4155-98DC-CD111EE31FD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7D75-D533-40C7-A980-78CBA1AA66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VADRATICKÉ ROVNICE A NE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1800" y="2602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f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2738520" cy="383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948360" y="2276640"/>
                <a:ext cx="3812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451640" y="429264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15600" y="836640"/>
            <a:ext cx="576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kladech jsou ukázány kvadratické funkce, kd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okud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, vynásobíme nerovnici číslem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87880" y="3141720"/>
            <a:ext cx="112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4480" y="3933720"/>
            <a:ext cx="3021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kvadrat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lineární funkce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9920" y="3789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9560" y="3789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7440" y="5084640"/>
            <a:ext cx="2001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-1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;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24360" y="1197000"/>
            <a:ext cx="2673360" cy="3744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24000" y="2421000"/>
            <a:ext cx="114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39880" y="4508640"/>
            <a:ext cx="1049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940360" y="1844640"/>
                <a:ext cx="381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12000" y="4005360"/>
                <a:ext cx="393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3448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7200" y="34290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26120" y="19890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4480" y="620640"/>
            <a:ext cx="3021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kvadrat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lineární funkce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1628640"/>
            <a:ext cx="1146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1667160" cy="195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27640" y="1125360"/>
                <a:ext cx="381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372360" y="2852640"/>
                <a:ext cx="393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634840" y="404640"/>
            <a:ext cx="3021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kvadrat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lineární funkce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3760" y="14842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2880" y="265572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ovnice nemá reál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1666800" cy="195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8000" y="3933720"/>
                <a:ext cx="381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516720" y="5589720"/>
                <a:ext cx="3938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906840" y="41497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4365720"/>
            <a:ext cx="1146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89640" y="5516640"/>
            <a:ext cx="2221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0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;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VADRATICKÉ 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55800" y="1432080"/>
            <a:ext cx="636192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vadratická rov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o jedné neznámé x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t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+bx+c=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kde  koeficienty a,b,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, 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kvadratický č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x       lineární č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        absolutní čle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-li kvadratická rovnice  kořen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ze ji vyjádřit ve tva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=0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-li    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to tvar se nazývá součin kořenových činitel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ŘEŠENÍ KVADRATICKÝCH ROV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Rectangle 3"/>
              <p:cNvSpPr txBox="1"/>
              <p:nvPr/>
            </p:nvSpPr>
            <p:spPr>
              <a:xfrm>
                <a:off x="1979640" y="2924280"/>
                <a:ext cx="141120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/>
                            </m:ra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880920" y="1503360"/>
            <a:ext cx="3902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ze kvadratická rovn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ení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Rectangle 3"/>
              <p:cNvSpPr txBox="1"/>
              <p:nvPr/>
            </p:nvSpPr>
            <p:spPr>
              <a:xfrm>
                <a:off x="5580000" y="3213000"/>
                <a:ext cx="139392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/>
                            </m:ra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266000" y="3160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6560" y="49536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vadratická rovnice bez absolutního člen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=0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=0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520" y="2421000"/>
            <a:ext cx="550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klad vytknutím na souč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Rectangle 3"/>
              <p:cNvSpPr txBox="1"/>
              <p:nvPr/>
            </p:nvSpPr>
            <p:spPr>
              <a:xfrm>
                <a:off x="2340000" y="3213000"/>
                <a:ext cx="17384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Rectangle 3"/>
              <p:cNvSpPr txBox="1"/>
              <p:nvPr/>
            </p:nvSpPr>
            <p:spPr>
              <a:xfrm>
                <a:off x="5867280" y="3068640"/>
                <a:ext cx="167508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0920" y="404640"/>
            <a:ext cx="68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ší kvadratické rovnice řešitelné rozklad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součin kořenových čini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800" y="184464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dratická rov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  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9800" y="2565360"/>
            <a:ext cx="74959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klad vzorc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příklad:    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6x+9=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9=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x-3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0            (x-3)(x+3)=0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klad pomoc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etov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orců          příklad: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5x+6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px+q=0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(x-2)(x-3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-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        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08920" y="495360"/>
            <a:ext cx="768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plná kvadratická rovnice řešená diskriminant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000" y="172080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řešení udáv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ri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81200" y="1647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4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1800" y="234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rovnice má dva reálné koř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35640" y="2492280"/>
                <a:ext cx="15159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826920" y="3736800"/>
            <a:ext cx="52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-li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ovnice má jeden (dvojnásobný) koř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80000" y="4076640"/>
                <a:ext cx="1224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826920" y="4797360"/>
            <a:ext cx="41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-li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ovnice nemá reálný koř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9120" y="639720"/>
            <a:ext cx="863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odné rovnice řešené doplněním kvadratického trojčl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úplný čtv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odnou kvadratickou rovnicí v těchto příkladech je rovnice k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0160" y="234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23240" y="2852640"/>
            <a:ext cx="1752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-6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+1-1-6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7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48000" y="3429000"/>
                <a:ext cx="2541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87640" y="3933720"/>
                <a:ext cx="503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32000" y="4508640"/>
                <a:ext cx="3603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791600" y="2852640"/>
            <a:ext cx="224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x+6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x+4-4+6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-2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nice nemá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659640" y="3429000"/>
                <a:ext cx="2509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72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f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7120" y="1052640"/>
            <a:ext cx="70448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y kvadratické rovnice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bx+c=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určeny průsečíky kvadratické funkce (paraboly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x)=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lineární funkce (přímky)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x)=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osa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21430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019240" cy="282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429264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76720" y="256536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172360" y="429264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050920" y="2708280"/>
                <a:ext cx="381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932360" y="4581360"/>
                <a:ext cx="380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956720" y="2852640"/>
                <a:ext cx="380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903600" y="522936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en koř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5240" y="5229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dný koř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3240" y="522936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koř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80" y="5805360"/>
            <a:ext cx="619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                                                                           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3440" y="2060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VADRATICKÉ NE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440" y="1413000"/>
            <a:ext cx="7975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četní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dratickou nerovnici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a,b,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 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edeme rozkladem na součin kořenových čini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(x-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íme (nejlépe pomocí tabulky nulových bodů) vztah součinu výrazů vůči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4360" y="4653000"/>
                <a:ext cx="1858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211640" y="479736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3737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24360" y="4221000"/>
          <a:ext cx="4895640" cy="207036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;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;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300720" y="400536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524720" y="4005360"/>
                <a:ext cx="1270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53760" y="57499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2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;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0-05-27T09:15:11Z</dcterms:modified>
  <cp:revision>48</cp:revision>
  <dc:subject/>
  <dc:title>POSLOUPNOSTI</dc:title>
</cp:coreProperties>
</file>