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A90-9551-4F68-942F-EA3985CC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7D8-8496-4572-8103-D9A73B30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6EC-8440-4C58-B59E-E8B97DA7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FB0-2F7D-4038-859B-06514F84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357-6771-4358-8C7D-57387EA4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2CF-8C97-419A-8897-C26A55F7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66F-DE5E-48B4-8C45-8078E3DE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0BD-2EC9-49EA-B693-BEF34DD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6DF-897C-400D-BA70-C0BC6D1A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727-6A56-4271-8290-84E1F78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AFE-402C-4529-85E3-C76E5BE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88E-5CC7-4954-9667-0153A75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779-FD0B-4F32-A6B5-C4A1D8B2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Nadpis 1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422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obsah 2"/>
          <p:cNvSpPr/>
          <p:nvPr/>
        </p:nvSpPr>
        <p:spPr>
          <a:xfrm>
            <a:off x="611280" y="1214280"/>
            <a:ext cx="807552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72 km.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20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2 min = 120 s;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druhého vztahu vyjádříme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římá spojovací čára 3"/>
          <p:cNvSpPr/>
          <p:nvPr/>
        </p:nvSpPr>
        <p:spPr>
          <a:xfrm>
            <a:off x="500040" y="1571760"/>
            <a:ext cx="5072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042920" y="1773360"/>
                <a:ext cx="733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1908000" y="1844640"/>
                <a:ext cx="743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5"/>
              <p:cNvSpPr txBox="1"/>
              <p:nvPr/>
            </p:nvSpPr>
            <p:spPr>
              <a:xfrm>
                <a:off x="4140360" y="2440080"/>
                <a:ext cx="701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971640" y="3357720"/>
                <a:ext cx="169524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971640" y="4653000"/>
                <a:ext cx="3146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0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ovéPole 10"/>
          <p:cNvSpPr/>
          <p:nvPr/>
        </p:nvSpPr>
        <p:spPr>
          <a:xfrm>
            <a:off x="253800" y="5500800"/>
            <a:ext cx="77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Brzdy vlaku je třeba uvést do chodu ve vzdálenosti 1,2 km od sta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2"/>
          <p:cNvSpPr/>
          <p:nvPr/>
        </p:nvSpPr>
        <p:spPr>
          <a:xfrm>
            <a:off x="684360" y="1214280"/>
            <a:ext cx="800244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apec sjel na saních ze svahu o délce 40 m za dobu 10 s a  pak ještě po vodorovné dráze urazil až do úplného zastavení dráhu 20 m. Určete jeho rychlost na konci svahu, zrychlení na obou úsecích dráhy, celkovou dobu pohybu a průměrnou rychlost po celé dráze. Předpokládáme, že pohyb na první úseku dráhy (po svahu) je rovnoměrně zrychlený, na druhém (po vodorovné dráze) rovnoměrně zpomale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6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obsah 2"/>
          <p:cNvSpPr/>
          <p:nvPr/>
        </p:nvSpPr>
        <p:spPr>
          <a:xfrm>
            <a:off x="324000" y="981000"/>
            <a:ext cx="82296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40 m, t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10 s, s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20 m; v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a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 a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t = ?, v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ú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ú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římá spojovací čára 3"/>
          <p:cNvSpPr/>
          <p:nvPr/>
        </p:nvSpPr>
        <p:spPr>
          <a:xfrm>
            <a:off x="468360" y="1844640"/>
            <a:ext cx="6337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187280" y="2276640"/>
                <a:ext cx="3856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1158840" y="3059280"/>
                <a:ext cx="24591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258920" y="4149720"/>
                <a:ext cx="825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1268280" y="5013360"/>
                <a:ext cx="25178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6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Zástupný symbol pro obsah 2"/>
          <p:cNvSpPr/>
          <p:nvPr/>
        </p:nvSpPr>
        <p:spPr>
          <a:xfrm>
            <a:off x="324000" y="981000"/>
            <a:ext cx="82296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40 m, t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10 s, s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20 m; v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a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 a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t = ?, v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ú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ús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2"/>
          <p:cNvSpPr/>
          <p:nvPr/>
        </p:nvSpPr>
        <p:spPr>
          <a:xfrm>
            <a:off x="457200" y="1228680"/>
            <a:ext cx="82296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40 m, t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10 s, s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20 m; v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a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 a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, t = ?, v</a:t>
            </a:r>
            <a:r>
              <a:rPr b="0" lang="cs-CZ" sz="17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růměrná rychlost po celé dráz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oba pohyb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římá spojovací čára 3"/>
          <p:cNvSpPr/>
          <p:nvPr/>
        </p:nvSpPr>
        <p:spPr>
          <a:xfrm>
            <a:off x="468360" y="1844640"/>
            <a:ext cx="6408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1116000" y="4076640"/>
                <a:ext cx="9237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16000" y="4446720"/>
                <a:ext cx="1800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,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1116000" y="5229360"/>
                <a:ext cx="15001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1238400" y="2421000"/>
                <a:ext cx="3138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TextovéPole 12"/>
          <p:cNvSpPr/>
          <p:nvPr/>
        </p:nvSpPr>
        <p:spPr>
          <a:xfrm>
            <a:off x="3571920" y="392904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Rychlost saní na konci svahu je 8 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, zrychlení na prvním úseku dráhy je 0,8 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rbe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, na druhém úseku dráhy je 1,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orbe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, celková doba pohybu saní je 15 s a jejich průměrná rychlost na celé dráze 4 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159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obsah 4"/>
          <p:cNvSpPr/>
          <p:nvPr/>
        </p:nvSpPr>
        <p:spPr>
          <a:xfrm>
            <a:off x="684360" y="1125360"/>
            <a:ext cx="800244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a hmotné body se začnou současně pohybovat po téže přímce. První body se pohybuje rovnoměrně zrychleně s počáteční rychlostí 2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 zrychlením 0,8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ruhý se pohybuje rovnoměrně zpomaleně s počáteční rychlostí 8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 zrychlením 0,4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Určete čas, ve kterém budou mít oba body stejnou rychlost, a velikost této rychlosti. Řešte početně i graf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33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obsah 2"/>
          <p:cNvSpPr/>
          <p:nvPr/>
        </p:nvSpPr>
        <p:spPr>
          <a:xfrm>
            <a:off x="826920" y="1197000"/>
            <a:ext cx="79423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2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0,8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8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0,4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 t = ?, v =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římá spojovací čára 3"/>
          <p:cNvSpPr/>
          <p:nvPr/>
        </p:nvSpPr>
        <p:spPr>
          <a:xfrm>
            <a:off x="684360" y="1557360"/>
            <a:ext cx="6048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711360" y="1695600"/>
                <a:ext cx="1368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4360" y="2349360"/>
                <a:ext cx="2214360" cy="28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0,8</m:t>
                            </m:r>
                            <m:r>
                              <m:t xml:space="preserve">+</m:t>
                            </m:r>
                            <m:r>
                              <m:t xml:space="preserve">0,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995640" y="1747800"/>
                <a:ext cx="23367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,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ovéPole 10"/>
          <p:cNvSpPr/>
          <p:nvPr/>
        </p:nvSpPr>
        <p:spPr>
          <a:xfrm>
            <a:off x="234360" y="557208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Oba body budou mít stejnou rychlost 6 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 v čase 5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obsah 2"/>
          <p:cNvSpPr/>
          <p:nvPr/>
        </p:nvSpPr>
        <p:spPr>
          <a:xfrm>
            <a:off x="45720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2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0,8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8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0,4 m.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 t = ?, v =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římá spojovací čára 3"/>
          <p:cNvSpPr/>
          <p:nvPr/>
        </p:nvSpPr>
        <p:spPr>
          <a:xfrm>
            <a:off x="428760" y="1500120"/>
            <a:ext cx="5072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af 16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4334040" cy="317520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7"/>
          <p:cNvSpPr/>
          <p:nvPr/>
        </p:nvSpPr>
        <p:spPr>
          <a:xfrm>
            <a:off x="219240" y="15717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18"/>
          <p:cNvSpPr/>
          <p:nvPr/>
        </p:nvSpPr>
        <p:spPr>
          <a:xfrm>
            <a:off x="4717800" y="45007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4941720"/>
          <a:ext cx="6715080" cy="1108080"/>
        </p:xfrm>
        <a:graphic>
          <a:graphicData uri="http://schemas.openxmlformats.org/drawingml/2006/table">
            <a:tbl>
              <a:tblPr/>
              <a:tblGrid>
                <a:gridCol w="1119240"/>
                <a:gridCol w="560520"/>
                <a:gridCol w="838080"/>
                <a:gridCol w="839880"/>
                <a:gridCol w="839520"/>
                <a:gridCol w="839880"/>
                <a:gridCol w="838440"/>
                <a:gridCol w="83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m.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m.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ovéPole 20"/>
          <p:cNvSpPr/>
          <p:nvPr/>
        </p:nvSpPr>
        <p:spPr>
          <a:xfrm>
            <a:off x="6224400" y="2214720"/>
            <a:ext cx="12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6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21"/>
          <p:cNvSpPr/>
          <p:nvPr/>
        </p:nvSpPr>
        <p:spPr>
          <a:xfrm>
            <a:off x="5500800" y="36432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ba body budou mít stejnou rychlost 6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v čase 5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 16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333680" cy="317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260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2"/>
          <p:cNvSpPr/>
          <p:nvPr/>
        </p:nvSpPr>
        <p:spPr>
          <a:xfrm>
            <a:off x="901800" y="1484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659160"/>
          </a:xfrm>
          <a:prstGeom prst="rect">
            <a:avLst/>
          </a:prstGeom>
          <a:ln w="0">
            <a:noFill/>
          </a:ln>
        </p:spPr>
      </p:pic>
      <p:sp>
        <p:nvSpPr>
          <p:cNvPr id="49" name="Zástupný symbol pro obsah 2"/>
          <p:cNvSpPr/>
          <p:nvPr/>
        </p:nvSpPr>
        <p:spPr>
          <a:xfrm>
            <a:off x="539640" y="1071720"/>
            <a:ext cx="814716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y: Brzdící automobil, vlak vjíždějící na nádraž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ych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á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opačný směr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ž rychlost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ikost rychlosti HB, který koná rovnoměrně zpomalený pohyb s počáteční rychlost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se zrychlení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 = v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+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z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 čas zast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– dráha než se HB zasta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římá spojovací čára 15"/>
          <p:cNvSpPr/>
          <p:nvPr/>
        </p:nvSpPr>
        <p:spPr>
          <a:xfrm>
            <a:off x="1763640" y="2708280"/>
            <a:ext cx="44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Přímá spojovací šipka 16"/>
          <p:cNvCxnSpPr/>
          <p:nvPr/>
        </p:nvCxnSpPr>
        <p:spPr>
          <a:xfrm>
            <a:off x="3906360" y="2708280"/>
            <a:ext cx="500760" cy="2160"/>
          </a:xfrm>
          <a:prstGeom prst="straightConnector1">
            <a:avLst/>
          </a:prstGeom>
          <a:ln w="255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52" name="Přímá spojovací šipka 17"/>
          <p:cNvCxnSpPr/>
          <p:nvPr/>
        </p:nvCxnSpPr>
        <p:spPr>
          <a:xfrm>
            <a:off x="2620440" y="2708280"/>
            <a:ext cx="715320" cy="2160"/>
          </a:xfrm>
          <a:prstGeom prst="straightConnector1">
            <a:avLst/>
          </a:prstGeom>
          <a:ln w="255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53" name="Přímá spojovací šipka 18"/>
          <p:cNvCxnSpPr/>
          <p:nvPr/>
        </p:nvCxnSpPr>
        <p:spPr>
          <a:xfrm>
            <a:off x="5192640" y="2708280"/>
            <a:ext cx="286560" cy="2160"/>
          </a:xfrm>
          <a:prstGeom prst="straightConnector1">
            <a:avLst/>
          </a:prstGeom>
          <a:ln w="255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54" name="Přímá spojovací šipka 19"/>
          <p:cNvCxnSpPr/>
          <p:nvPr/>
        </p:nvCxnSpPr>
        <p:spPr>
          <a:xfrm>
            <a:off x="3620880" y="2708280"/>
            <a:ext cx="286200" cy="2160"/>
          </a:xfrm>
          <a:prstGeom prst="straightConnector1">
            <a:avLst/>
          </a:prstGeom>
          <a:ln w="19080">
            <a:solidFill>
              <a:srgbClr val="1a1d3e"/>
            </a:solidFill>
            <a:miter/>
            <a:headEnd len="med" type="triangle" w="med"/>
          </a:ln>
        </p:spPr>
      </p:cxnSp>
      <p:cxnSp>
        <p:nvCxnSpPr>
          <p:cNvPr id="55" name="Přímá spojovací šipka 20"/>
          <p:cNvCxnSpPr/>
          <p:nvPr/>
        </p:nvCxnSpPr>
        <p:spPr>
          <a:xfrm>
            <a:off x="4906800" y="2708280"/>
            <a:ext cx="286560" cy="2160"/>
          </a:xfrm>
          <a:prstGeom prst="straightConnector1">
            <a:avLst/>
          </a:prstGeom>
          <a:ln w="19080">
            <a:solidFill>
              <a:srgbClr val="1a1d3e"/>
            </a:solidFill>
            <a:miter/>
            <a:headEnd len="med" type="triangle" w="med"/>
          </a:ln>
        </p:spPr>
      </p:cxnSp>
      <p:cxnSp>
        <p:nvCxnSpPr>
          <p:cNvPr id="56" name="Přímá spojovací šipka 21"/>
          <p:cNvCxnSpPr/>
          <p:nvPr/>
        </p:nvCxnSpPr>
        <p:spPr>
          <a:xfrm>
            <a:off x="2334960" y="2708280"/>
            <a:ext cx="286200" cy="2160"/>
          </a:xfrm>
          <a:prstGeom prst="straightConnector1">
            <a:avLst/>
          </a:prstGeom>
          <a:ln w="19080">
            <a:solidFill>
              <a:srgbClr val="1a1d3e"/>
            </a:solidFill>
            <a:miter/>
            <a:headEnd len="med" type="triangle" w="med"/>
          </a:ln>
        </p:spPr>
      </p:cxnSp>
      <p:sp>
        <p:nvSpPr>
          <p:cNvPr id="57" name="TextovéPole 22"/>
          <p:cNvSpPr/>
          <p:nvPr/>
        </p:nvSpPr>
        <p:spPr>
          <a:xfrm>
            <a:off x="2482920" y="2708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23"/>
          <p:cNvSpPr/>
          <p:nvPr/>
        </p:nvSpPr>
        <p:spPr>
          <a:xfrm>
            <a:off x="4990320" y="270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24"/>
          <p:cNvSpPr/>
          <p:nvPr/>
        </p:nvSpPr>
        <p:spPr>
          <a:xfrm>
            <a:off x="3692520" y="270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5"/>
          <p:cNvSpPr/>
          <p:nvPr/>
        </p:nvSpPr>
        <p:spPr>
          <a:xfrm>
            <a:off x="2772720" y="27082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6"/>
          <p:cNvSpPr/>
          <p:nvPr/>
        </p:nvSpPr>
        <p:spPr>
          <a:xfrm>
            <a:off x="3986640" y="270828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rbe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7"/>
          <p:cNvSpPr/>
          <p:nvPr/>
        </p:nvSpPr>
        <p:spPr>
          <a:xfrm>
            <a:off x="5206320" y="2708280"/>
            <a:ext cx="38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orbe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8"/>
          <p:cNvSpPr/>
          <p:nvPr/>
        </p:nvSpPr>
        <p:spPr>
          <a:xfrm>
            <a:off x="4860360" y="2276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9"/>
          <p:cNvSpPr/>
          <p:nvPr/>
        </p:nvSpPr>
        <p:spPr>
          <a:xfrm>
            <a:off x="3636360" y="2276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30"/>
          <p:cNvSpPr/>
          <p:nvPr/>
        </p:nvSpPr>
        <p:spPr>
          <a:xfrm>
            <a:off x="2341080" y="2276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1116000" y="5300640"/>
                <a:ext cx="8254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411280" y="5373720"/>
                <a:ext cx="743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dpis 1" descr=""/>
          <p:cNvPicPr/>
          <p:nvPr/>
        </p:nvPicPr>
        <p:blipFill>
          <a:blip r:embed="rId1"/>
          <a:stretch/>
        </p:blipFill>
        <p:spPr>
          <a:xfrm>
            <a:off x="450720" y="0"/>
            <a:ext cx="8328240" cy="1035000"/>
          </a:xfrm>
          <a:prstGeom prst="rect">
            <a:avLst/>
          </a:prstGeom>
          <a:ln w="0">
            <a:noFill/>
          </a:ln>
        </p:spPr>
      </p:pic>
      <p:sp>
        <p:nvSpPr>
          <p:cNvPr id="70" name="Zástupný symbol pro obsah 2"/>
          <p:cNvSpPr/>
          <p:nvPr/>
        </p:nvSpPr>
        <p:spPr>
          <a:xfrm>
            <a:off x="457200" y="933480"/>
            <a:ext cx="82296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ychlost se rovnoměrně s časem zmenšu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Graf 3"/>
          <p:cNvGraphicFramePr/>
          <p:nvPr/>
        </p:nvGraphicFramePr>
        <p:xfrm>
          <a:off x="372960" y="1814400"/>
          <a:ext cx="4800600" cy="3524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Graf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960" y="1814400"/>
                    <a:ext cx="4800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ovéPole 4"/>
          <p:cNvSpPr/>
          <p:nvPr/>
        </p:nvSpPr>
        <p:spPr>
          <a:xfrm>
            <a:off x="1080" y="17906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ovéPole 5"/>
          <p:cNvSpPr/>
          <p:nvPr/>
        </p:nvSpPr>
        <p:spPr>
          <a:xfrm>
            <a:off x="5073120" y="50054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5300640"/>
          <a:ext cx="4857840" cy="736560"/>
        </p:xfrm>
        <a:graphic>
          <a:graphicData uri="http://schemas.openxmlformats.org/drawingml/2006/table">
            <a:tbl>
              <a:tblPr/>
              <a:tblGrid>
                <a:gridCol w="1119240"/>
                <a:gridCol w="647640"/>
                <a:gridCol w="503280"/>
                <a:gridCol w="506520"/>
                <a:gridCol w="693720"/>
                <a:gridCol w="693720"/>
                <a:gridCol w="69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m.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ovéPole 7"/>
          <p:cNvSpPr/>
          <p:nvPr/>
        </p:nvSpPr>
        <p:spPr>
          <a:xfrm>
            <a:off x="6077880" y="2219400"/>
            <a:ext cx="113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v = v</a:t>
            </a:r>
            <a:r>
              <a:rPr b="0" lang="cs-CZ" sz="18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-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ovéPole 8"/>
          <p:cNvSpPr/>
          <p:nvPr/>
        </p:nvSpPr>
        <p:spPr>
          <a:xfrm>
            <a:off x="6230160" y="3076560"/>
            <a:ext cx="1433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2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Nadpis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42200" cy="1036800"/>
          </a:xfrm>
          <a:prstGeom prst="rect">
            <a:avLst/>
          </a:prstGeom>
          <a:ln w="0">
            <a:noFill/>
          </a:ln>
        </p:spPr>
      </p:pic>
      <p:sp>
        <p:nvSpPr>
          <p:cNvPr id="80" name="Zástupný symbol pro obsah 2"/>
          <p:cNvSpPr/>
          <p:nvPr/>
        </p:nvSpPr>
        <p:spPr>
          <a:xfrm>
            <a:off x="457200" y="1428840"/>
            <a:ext cx="82296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vislost dráhy na č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Graf 3"/>
          <p:cNvGraphicFramePr/>
          <p:nvPr/>
        </p:nvGraphicFramePr>
        <p:xfrm>
          <a:off x="250920" y="2205000"/>
          <a:ext cx="5943600" cy="264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Graf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594360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26920" y="5068800"/>
          <a:ext cx="4214880" cy="736560"/>
        </p:xfrm>
        <a:graphic>
          <a:graphicData uri="http://schemas.openxmlformats.org/drawingml/2006/table">
            <a:tbl>
              <a:tblPr/>
              <a:tblGrid>
                <a:gridCol w="777960"/>
                <a:gridCol w="518760"/>
                <a:gridCol w="509760"/>
                <a:gridCol w="601560"/>
                <a:gridCol w="601920"/>
                <a:gridCol w="603000"/>
                <a:gridCol w="601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ovéPole 7"/>
          <p:cNvSpPr/>
          <p:nvPr/>
        </p:nvSpPr>
        <p:spPr>
          <a:xfrm>
            <a:off x="6587280" y="2357280"/>
            <a:ext cx="1433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8"/>
          <p:cNvSpPr/>
          <p:nvPr/>
        </p:nvSpPr>
        <p:spPr>
          <a:xfrm>
            <a:off x="5867640" y="5072040"/>
            <a:ext cx="30459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yž máme počáteční dráhu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492360" y="1557360"/>
                <a:ext cx="1324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6443640" y="5373720"/>
                <a:ext cx="1714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684360" y="1214280"/>
            <a:ext cx="800244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k pohybující se rychlostí 54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začal pohybovat rovnoměrně zpomaleným pohybem se zrychlením 0,4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Za jakou dobu se jeho rychlost zmenší třikrát a jakou dráhu za tuto dobu urazí? Za jakou dobu se vlak zastaví a jaká bude jeho brzdná dráh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3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pro obsah 2"/>
          <p:cNvSpPr/>
          <p:nvPr/>
        </p:nvSpPr>
        <p:spPr>
          <a:xfrm>
            <a:off x="457200" y="128592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54 km.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5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a = 0,4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=   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t = ?, s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?,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vztahu        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áha, kterou uraz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a zastavení a dráha než zastav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3"/>
          <p:cNvSpPr/>
          <p:nvPr/>
        </p:nvSpPr>
        <p:spPr>
          <a:xfrm>
            <a:off x="539640" y="1989000"/>
            <a:ext cx="5929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3203640" y="2133720"/>
                <a:ext cx="39592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,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3132000" y="3429000"/>
                <a:ext cx="410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 -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,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900000" y="4869000"/>
                <a:ext cx="1811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0,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755640" y="5516640"/>
                <a:ext cx="2278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,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ovéPole 13"/>
          <p:cNvSpPr/>
          <p:nvPr/>
        </p:nvSpPr>
        <p:spPr>
          <a:xfrm>
            <a:off x="4286160" y="5072040"/>
            <a:ext cx="385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ychlost vlaku se zmenší třikrát za 25s, za tuto dobu urazí 250 m. Vlak se zastaví za 38 s a urazí při tom dráhu 280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763640" y="2349360"/>
                <a:ext cx="1013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5003640" y="1197000"/>
                <a:ext cx="212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1128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755640" y="1197000"/>
            <a:ext cx="79311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idič automobilu, který se pohyboval rychlostí 100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atřil na dráze překážku a začal brzdit se zrychlením 5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Jakou dráhu do zastavení automobilu urazil, jestliže řidič zareagoval na nebezpečí se zpožděním 0,7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7628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395280" y="126828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5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00 km.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7,8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,7 s; s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ž zjistil nebezpečí:                       Při brzd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ková drá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3"/>
          <p:cNvSpPr/>
          <p:nvPr/>
        </p:nvSpPr>
        <p:spPr>
          <a:xfrm>
            <a:off x="611280" y="1700280"/>
            <a:ext cx="5689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3059280" y="1773360"/>
                <a:ext cx="792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5651640" y="1700280"/>
                <a:ext cx="733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684360" y="3068640"/>
                <a:ext cx="1888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684360" y="3789360"/>
                <a:ext cx="3771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,7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ovéPole 10"/>
          <p:cNvSpPr/>
          <p:nvPr/>
        </p:nvSpPr>
        <p:spPr>
          <a:xfrm>
            <a:off x="222840" y="4786200"/>
            <a:ext cx="70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</a:rPr>
              <a:t>Automobil urazil při brzdění za daných podmínek dráhu 97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60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obsah 2"/>
          <p:cNvSpPr/>
          <p:nvPr/>
        </p:nvSpPr>
        <p:spPr>
          <a:xfrm>
            <a:off x="611280" y="1214280"/>
            <a:ext cx="807552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k, který má rychlost 72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ze použitím brzd zastavit za dvě minuty. V jaké vzdálenosti od stanice je třeba začít brzdit, aby se vlak ve stanici zastavil? Pohyb vlaku při brzdění považujeme za rovnoměrně zpomale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54:12Z</dcterms:created>
  <dc:creator>Patrik</dc:creator>
  <dc:description/>
  <dc:language>en-US</dc:language>
  <cp:lastModifiedBy>Patrik</cp:lastModifiedBy>
  <dcterms:modified xsi:type="dcterms:W3CDTF">2010-06-16T08:47:42Z</dcterms:modified>
  <cp:revision>6</cp:revision>
  <dc:subject/>
  <dc:title>Rovnoměrný přímočarý</dc:title>
</cp:coreProperties>
</file>