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18A-F08A-43CC-A563-269A6818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D0D-F0E2-49BB-ADE1-BFB1DA04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4989-7B84-4710-A35D-03287D95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059-71C8-46BE-982D-AFA30EFC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8AF9-FA65-433B-8F5E-DD739E91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B0B6-51DD-477D-BFB0-35D82BCC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976-EB66-410F-9F94-962E83DD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73A-D489-4F45-90BD-7CE84A88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18B-112D-43F8-B285-B0363AEC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0B1-B867-4B1F-8202-31AC9EDF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8C3-77BF-4FBA-B40B-03617CA4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762-29B3-4C5E-ACAB-E130EEE9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A19C-24B2-47BA-B66F-2D03F8595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Nadpis 1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42200" cy="96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obsah 2"/>
          <p:cNvSpPr/>
          <p:nvPr/>
        </p:nvSpPr>
        <p:spPr>
          <a:xfrm>
            <a:off x="395280" y="134136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45 m, g = 10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t =?, v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římá spojovací čára 3"/>
          <p:cNvSpPr/>
          <p:nvPr/>
        </p:nvSpPr>
        <p:spPr>
          <a:xfrm>
            <a:off x="684360" y="1989000"/>
            <a:ext cx="35668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"/>
              <p:cNvSpPr txBox="1"/>
              <p:nvPr/>
            </p:nvSpPr>
            <p:spPr>
              <a:xfrm>
                <a:off x="684360" y="2276640"/>
                <a:ext cx="38923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647640" y="3500280"/>
                <a:ext cx="2687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" name="TextovéPole 6"/>
          <p:cNvSpPr/>
          <p:nvPr/>
        </p:nvSpPr>
        <p:spPr>
          <a:xfrm>
            <a:off x="178560" y="4929120"/>
            <a:ext cx="69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Těleso padá po dobu 3 s a dopadne na zem rychlostí 30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.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s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476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12"/>
          <p:cNvSpPr/>
          <p:nvPr/>
        </p:nvSpPr>
        <p:spPr>
          <a:xfrm>
            <a:off x="901800" y="14842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Nadpis 1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42200" cy="968400"/>
          </a:xfrm>
          <a:prstGeom prst="rect">
            <a:avLst/>
          </a:prstGeom>
          <a:ln w="0">
            <a:noFill/>
          </a:ln>
        </p:spPr>
      </p:pic>
      <p:sp>
        <p:nvSpPr>
          <p:cNvPr id="49" name="Zástupný symbol pro obsah 2"/>
          <p:cNvSpPr/>
          <p:nvPr/>
        </p:nvSpPr>
        <p:spPr>
          <a:xfrm>
            <a:off x="684360" y="1357200"/>
            <a:ext cx="800244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: Padající míč, kámen do propasti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d6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ovnoměrně</a:t>
            </a:r>
            <a:r>
              <a:rPr b="0" lang="en-US" sz="1800" spc="-1" strike="noStrike">
                <a:solidFill>
                  <a:srgbClr val="ffdd6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rychlený</a:t>
            </a:r>
            <a:r>
              <a:rPr b="0" lang="en-US" sz="1800" spc="-1" strike="noStrike">
                <a:solidFill>
                  <a:srgbClr val="ffdd6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hyb</a:t>
            </a:r>
            <a:r>
              <a:rPr b="0" lang="en-US" sz="1800" spc="-1" strike="noStrike">
                <a:solidFill>
                  <a:srgbClr val="ffdd6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rychlení volného pádu nazývám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íhové</a:t>
            </a:r>
            <a:r>
              <a:rPr b="0" lang="en-US" sz="1800" spc="-1" strike="noStrike">
                <a:solidFill>
                  <a:srgbClr val="ffdd6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zrychlení</a:t>
            </a:r>
            <a:r>
              <a:rPr b="0" lang="en-US" sz="1800" spc="-1" strike="noStrike">
                <a:solidFill>
                  <a:srgbClr val="ffdd6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Velikost tíhového zrychlení při povrchu Země v naší zeměpisné šířce je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g = 9,81</a:t>
            </a:r>
            <a:r>
              <a:rPr b="0" i="1" lang="en-US" sz="1800" spc="-1" strike="noStrike">
                <a:solidFill>
                  <a:srgbClr val="ffdd6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m.s</a:t>
            </a:r>
            <a:r>
              <a:rPr b="0" i="1" lang="en-US" sz="1800" spc="-1" strike="noStrike" baseline="30000">
                <a:solidFill>
                  <a:srgbClr val="333399"/>
                </a:solidFill>
                <a:latin typeface="Arial"/>
              </a:rPr>
              <a:t>-2</a:t>
            </a:r>
            <a:r>
              <a:rPr b="0" i="1" lang="en-US" sz="1800" spc="-1" strike="noStrike">
                <a:solidFill>
                  <a:srgbClr val="ffdd6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d6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ovníkové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g = 9,78 m.s</a:t>
            </a:r>
            <a:r>
              <a:rPr b="0" i="1" lang="en-US" sz="1800" spc="-1" strike="noStrike" baseline="30000">
                <a:solidFill>
                  <a:srgbClr val="333399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 pólech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g = 9,83 m.s</a:t>
            </a:r>
            <a:r>
              <a:rPr b="0" i="1" lang="en-US" sz="1800" spc="-1" strike="noStrike" baseline="30000">
                <a:solidFill>
                  <a:srgbClr val="333399"/>
                </a:solidFill>
                <a:latin typeface="Arial"/>
              </a:rPr>
              <a:t>-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okrouhlujeme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g = 10 m.s</a:t>
            </a:r>
            <a:r>
              <a:rPr b="0" i="1" lang="en-US" sz="1800" spc="-1" strike="noStrike" baseline="30000">
                <a:solidFill>
                  <a:srgbClr val="333399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ffdd6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d6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ální tíhové zrychlení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g = 9,806 65 m.s</a:t>
            </a:r>
            <a:r>
              <a:rPr b="0" i="1" lang="en-US" sz="1800" spc="-1" strike="noStrike" baseline="30000">
                <a:solidFill>
                  <a:srgbClr val="333399"/>
                </a:solidFill>
                <a:latin typeface="Arial"/>
              </a:rPr>
              <a:t>-2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5°zeměpisné šířk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3"/>
          <p:cNvSpPr/>
          <p:nvPr/>
        </p:nvSpPr>
        <p:spPr>
          <a:xfrm>
            <a:off x="2431080" y="40006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Nadpis 1" descr=""/>
          <p:cNvPicPr/>
          <p:nvPr/>
        </p:nvPicPr>
        <p:blipFill>
          <a:blip r:embed="rId1"/>
          <a:stretch/>
        </p:blipFill>
        <p:spPr>
          <a:xfrm>
            <a:off x="450720" y="426960"/>
            <a:ext cx="8242560" cy="968400"/>
          </a:xfrm>
          <a:prstGeom prst="rect">
            <a:avLst/>
          </a:prstGeom>
          <a:ln w="0">
            <a:noFill/>
          </a:ln>
        </p:spPr>
      </p:pic>
      <p:sp>
        <p:nvSpPr>
          <p:cNvPr id="53" name="Zástupný symbol pro obsah 2"/>
          <p:cNvSpPr/>
          <p:nvPr/>
        </p:nvSpPr>
        <p:spPr>
          <a:xfrm>
            <a:off x="611280" y="1357200"/>
            <a:ext cx="807552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italský fyzik, matema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ákony volného pádu, pohybu po nakloně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ině a kyvad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objevil 4 měsíce Jupitera, fáze Venuše a krá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ry na Měs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3"/>
          <p:cNvSpPr/>
          <p:nvPr/>
        </p:nvSpPr>
        <p:spPr>
          <a:xfrm>
            <a:off x="2431080" y="40006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4" descr="galileo-galilei.jpg"/>
          <p:cNvPicPr/>
          <p:nvPr/>
        </p:nvPicPr>
        <p:blipFill>
          <a:blip r:embed="rId2"/>
          <a:stretch/>
        </p:blipFill>
        <p:spPr>
          <a:xfrm>
            <a:off x="6012000" y="1413000"/>
            <a:ext cx="2620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Nadpis 1" descr=""/>
          <p:cNvPicPr/>
          <p:nvPr/>
        </p:nvPicPr>
        <p:blipFill>
          <a:blip r:embed="rId1"/>
          <a:stretch/>
        </p:blipFill>
        <p:spPr>
          <a:xfrm>
            <a:off x="450720" y="353880"/>
            <a:ext cx="8242560" cy="968400"/>
          </a:xfrm>
          <a:prstGeom prst="rect">
            <a:avLst/>
          </a:prstGeom>
          <a:ln w="0">
            <a:noFill/>
          </a:ln>
        </p:spPr>
      </p:pic>
      <p:sp>
        <p:nvSpPr>
          <p:cNvPr id="58" name="Zástupný symbol pro obsah 2"/>
          <p:cNvSpPr/>
          <p:nvPr/>
        </p:nvSpPr>
        <p:spPr>
          <a:xfrm>
            <a:off x="684360" y="1285920"/>
            <a:ext cx="80024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volného pád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v = 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áha volného pád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s = ½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gt</a:t>
            </a:r>
            <a:r>
              <a:rPr b="0" lang="cs-CZ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4" descr="Volný_pád.gif"/>
          <p:cNvPicPr/>
          <p:nvPr/>
        </p:nvPicPr>
        <p:blipFill>
          <a:blip r:embed="rId2"/>
          <a:stretch/>
        </p:blipFill>
        <p:spPr>
          <a:xfrm>
            <a:off x="4788000" y="1844640"/>
            <a:ext cx="3514680" cy="361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ástupný symbol pro obsah 2"/>
          <p:cNvSpPr/>
          <p:nvPr/>
        </p:nvSpPr>
        <p:spPr>
          <a:xfrm>
            <a:off x="755640" y="1357200"/>
            <a:ext cx="793116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volném pádu padá jedno těleso dvakrát delší dobu než druhé. Porovnejte rychlosti dopadu obou těles a dráhy, které při tomto pohybu uraz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íhové zrychlení je 10 m.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476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ástupný symbol pro obsah 2"/>
          <p:cNvSpPr/>
          <p:nvPr/>
        </p:nvSpPr>
        <p:spPr>
          <a:xfrm>
            <a:off x="457200" y="1285920"/>
            <a:ext cx="82296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2t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g = 10 m.s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; v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/v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?, s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/s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měr rychlostí j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měr drah j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římá spojovací čára 4"/>
          <p:cNvSpPr/>
          <p:nvPr/>
        </p:nvSpPr>
        <p:spPr>
          <a:xfrm>
            <a:off x="539640" y="1628640"/>
            <a:ext cx="3888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2411280" y="3284640"/>
                <a:ext cx="319572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627280" y="1989000"/>
                <a:ext cx="22924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TextovéPole 9"/>
          <p:cNvSpPr/>
          <p:nvPr/>
        </p:nvSpPr>
        <p:spPr>
          <a:xfrm>
            <a:off x="428760" y="5143680"/>
            <a:ext cx="764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První těleso dopadne dvakrát větší rychlostí než druhé a urazí při tom 4krát větš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drá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476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obsah 2"/>
          <p:cNvSpPr/>
          <p:nvPr/>
        </p:nvSpPr>
        <p:spPr>
          <a:xfrm>
            <a:off x="684360" y="1285920"/>
            <a:ext cx="80024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vrtulníku, který byl vzhledem k Zemi v klidu, bylo s nulovou počáteční rychlostí svrženo těleso. Za dobu 1 s bylo z vrtulníku svrženo druhé těleso opět s nulovou počáteční rychlostí. Určete vzdálenost obou těles za dobu 2 s naměřenou  od začátku pádu prvního tělesa. Tíhové zrychlení je 10 m.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dpor vzduchu neuvažuj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476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obsah 2"/>
          <p:cNvSpPr/>
          <p:nvPr/>
        </p:nvSpPr>
        <p:spPr>
          <a:xfrm>
            <a:off x="457200" y="1357200"/>
            <a:ext cx="822960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1 s, 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2 s, g = 10 m.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těle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uhé těle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 dra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římá spojovací čára 3"/>
          <p:cNvSpPr/>
          <p:nvPr/>
        </p:nvSpPr>
        <p:spPr>
          <a:xfrm>
            <a:off x="611280" y="1700280"/>
            <a:ext cx="352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2340000" y="1773360"/>
                <a:ext cx="882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3"/>
              <p:cNvSpPr txBox="1"/>
              <p:nvPr/>
            </p:nvSpPr>
            <p:spPr>
              <a:xfrm>
                <a:off x="2195640" y="2421000"/>
                <a:ext cx="1460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755640" y="3645000"/>
                <a:ext cx="68295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Δ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" name="TextovéPole 9"/>
          <p:cNvSpPr/>
          <p:nvPr/>
        </p:nvSpPr>
        <p:spPr>
          <a:xfrm>
            <a:off x="428760" y="5786280"/>
            <a:ext cx="7715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Hledaná vzdálenost obou těles za dobu t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rbe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 = 2 s je 15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476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ástupný symbol pro obsah 2"/>
          <p:cNvSpPr/>
          <p:nvPr/>
        </p:nvSpPr>
        <p:spPr>
          <a:xfrm>
            <a:off x="826920" y="1357200"/>
            <a:ext cx="785988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ěleso padá volným pádem z výšky 45 m. Určete dobu jeho  pádu a rychlost dopadu. Tíhové zrychlení je 10 m.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76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07:54:12Z</dcterms:created>
  <dc:creator>Patrik</dc:creator>
  <dc:description/>
  <dc:language>en-US</dc:language>
  <cp:lastModifiedBy>Patrik</cp:lastModifiedBy>
  <dcterms:modified xsi:type="dcterms:W3CDTF">2010-06-16T08:53:58Z</dcterms:modified>
  <cp:revision>4</cp:revision>
  <dc:subject/>
  <dc:title>Rovnoměrný přímočarý</dc:title>
</cp:coreProperties>
</file>