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AFB-2021-44D8-87C4-ECF08B12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713-3D02-4AFC-9862-478FFB7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1BE-C626-41A2-B5FF-CCA3F4AB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ACC-4A28-4B73-8718-76B38C50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853B-94F1-4F91-A822-F416E27E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989-5B5B-4A36-9F9A-8F0FB61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B75C-A426-4A2E-B5B0-B903AEF5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5D88-9BAB-4C5A-B3C9-E9E6B30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1941-603D-4F86-9B6C-A60E8A5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117-69A2-4014-8993-84AC3444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F50-3BF1-4981-8F56-7AA8585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63C-899A-42D1-AE18-80FE315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F09F-6CFC-4572-9177-F3C70AA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127-50A6-4803-B159-2F76549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9CFE-F3B9-4AF9-BDE8-A3C82FDC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23B0-84DC-4E69-A343-15BE623B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7B2-D92A-41AE-ADD2-D08D5FC9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4BA-C0E1-4400-B46C-52FD711D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129-82CC-47B6-89BC-B0320E85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7AE-1176-42D4-910D-D10B1E6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3D7-16E5-445D-A480-DB5C73D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E6E-7396-482F-898A-4FE45B1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30D-74D7-4422-B9D4-75CC7BC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CFE-DCAF-4AAA-B489-3F0214C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01E-003F-4ECF-81F0-E2505FC054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D24-82DA-42FF-B3BD-E63FC140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001-9390-448B-8594-86B7ADA610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45E6-7FA5-46BD-9C12-BB30BBB4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vnoměrný přímočar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hy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bdélník 5"/>
          <p:cNvSpPr/>
          <p:nvPr/>
        </p:nvSpPr>
        <p:spPr>
          <a:xfrm>
            <a:off x="242892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obsah 2"/>
          <p:cNvSpPr/>
          <p:nvPr/>
        </p:nvSpPr>
        <p:spPr>
          <a:xfrm>
            <a:off x="755640" y="1268280"/>
            <a:ext cx="7931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 dvou míst M a N vzájemně vzdálených 100 m  se současně pohybují dvě tělesa v kladném směru os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ěleso pohybující se z místa M má rychl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z místa N 3 m.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Za jakou dobu dostihne první těleso druhé? Jaké vzdálenosti urazí obě tělesa za tuto dob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4"/>
          <p:cNvSpPr/>
          <p:nvPr/>
        </p:nvSpPr>
        <p:spPr>
          <a:xfrm>
            <a:off x="2643120" y="3929040"/>
            <a:ext cx="4000680" cy="0"/>
          </a:xfrm>
          <a:prstGeom prst="line">
            <a:avLst/>
          </a:prstGeom>
          <a:ln w="15840">
            <a:solidFill>
              <a:srgbClr val="ffdd6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ovací šipka 7"/>
          <p:cNvCxnSpPr/>
          <p:nvPr/>
        </p:nvCxnSpPr>
        <p:spPr>
          <a:xfrm>
            <a:off x="2643120" y="3928680"/>
            <a:ext cx="1286640" cy="1080"/>
          </a:xfrm>
          <a:prstGeom prst="straightConnector1">
            <a:avLst/>
          </a:prstGeom>
          <a:ln w="1908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159" name="Přímá spojovací šipka 10"/>
          <p:cNvCxnSpPr/>
          <p:nvPr/>
        </p:nvCxnSpPr>
        <p:spPr>
          <a:xfrm>
            <a:off x="4786200" y="3929040"/>
            <a:ext cx="572400" cy="2160"/>
          </a:xfrm>
          <a:prstGeom prst="straightConnector1">
            <a:avLst/>
          </a:prstGeom>
          <a:ln w="19080">
            <a:solidFill>
              <a:srgbClr val="4d56b3"/>
            </a:solidFill>
            <a:miter/>
            <a:headEnd len="med" type="oval" w="med"/>
            <a:tailEnd len="med" type="arrow" w="med"/>
          </a:ln>
        </p:spPr>
      </p:cxnSp>
      <p:sp>
        <p:nvSpPr>
          <p:cNvPr id="160" name="TextovéPole 13"/>
          <p:cNvSpPr/>
          <p:nvPr/>
        </p:nvSpPr>
        <p:spPr>
          <a:xfrm>
            <a:off x="2421360" y="3571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véPole 14"/>
          <p:cNvSpPr/>
          <p:nvPr/>
        </p:nvSpPr>
        <p:spPr>
          <a:xfrm>
            <a:off x="2994120" y="350028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15"/>
          <p:cNvSpPr/>
          <p:nvPr/>
        </p:nvSpPr>
        <p:spPr>
          <a:xfrm>
            <a:off x="4566960" y="3500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6"/>
          <p:cNvSpPr/>
          <p:nvPr/>
        </p:nvSpPr>
        <p:spPr>
          <a:xfrm>
            <a:off x="3566520" y="4000680"/>
            <a:ext cx="36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17"/>
          <p:cNvSpPr/>
          <p:nvPr/>
        </p:nvSpPr>
        <p:spPr>
          <a:xfrm>
            <a:off x="6431400" y="3571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8"/>
          <p:cNvSpPr/>
          <p:nvPr/>
        </p:nvSpPr>
        <p:spPr>
          <a:xfrm>
            <a:off x="4856400" y="3500280"/>
            <a:ext cx="37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rbe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římá spojovací čára 20"/>
          <p:cNvSpPr/>
          <p:nvPr/>
        </p:nvSpPr>
        <p:spPr>
          <a:xfrm>
            <a:off x="2643120" y="4071960"/>
            <a:ext cx="2143080" cy="0"/>
          </a:xfrm>
          <a:prstGeom prst="line">
            <a:avLst/>
          </a:prstGeom>
          <a:ln w="9360">
            <a:solidFill>
              <a:srgbClr val="bfbfb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římá spojovací čára 23"/>
          <p:cNvSpPr/>
          <p:nvPr/>
        </p:nvSpPr>
        <p:spPr>
          <a:xfrm>
            <a:off x="4786200" y="3929040"/>
            <a:ext cx="0" cy="214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římá spojovací čára 25"/>
          <p:cNvSpPr/>
          <p:nvPr/>
        </p:nvSpPr>
        <p:spPr>
          <a:xfrm>
            <a:off x="2643120" y="3929040"/>
            <a:ext cx="0" cy="214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6028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3"/>
          <p:cNvSpPr/>
          <p:nvPr/>
        </p:nvSpPr>
        <p:spPr>
          <a:xfrm>
            <a:off x="2411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obsah 2"/>
          <p:cNvSpPr/>
          <p:nvPr/>
        </p:nvSpPr>
        <p:spPr>
          <a:xfrm>
            <a:off x="468360" y="126828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, 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pokládáme, že se tělesa setkají 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e náčrtu platí: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ísel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. 50 = 250 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 . 50 = 15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ě tělesa se setkají za 50 s, první těleso urazí dráhu 250 m, druhé 15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římá spojovací čára 4"/>
          <p:cNvSpPr/>
          <p:nvPr/>
        </p:nvSpPr>
        <p:spPr>
          <a:xfrm>
            <a:off x="539640" y="1628640"/>
            <a:ext cx="5761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619280" y="3284640"/>
                <a:ext cx="145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3780000" y="2708280"/>
                <a:ext cx="2895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9640" y="33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3"/>
          <p:cNvSpPr/>
          <p:nvPr/>
        </p:nvSpPr>
        <p:spPr>
          <a:xfrm>
            <a:off x="2411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obsah 2"/>
          <p:cNvSpPr/>
          <p:nvPr/>
        </p:nvSpPr>
        <p:spPr>
          <a:xfrm>
            <a:off x="806400" y="1197000"/>
            <a:ext cx="82296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ze to také řešit pomocí graf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ředpokládáme, že dráhy obou těles budeme měřit od M, tj. počátek souřadnicové soustavy. 1. těleso 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, 2. těleso 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+ 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rčíme si dva libovolné body obou přímek viz tabulk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strojíme grafy  pohybů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70120" y="2708280"/>
          <a:ext cx="2333520" cy="758880"/>
        </p:xfrm>
        <a:graphic>
          <a:graphicData uri="http://schemas.openxmlformats.org/drawingml/2006/table">
            <a:tbl>
              <a:tblPr/>
              <a:tblGrid>
                <a:gridCol w="777960"/>
                <a:gridCol w="777600"/>
                <a:gridCol w="777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ovéPole 4"/>
          <p:cNvSpPr/>
          <p:nvPr/>
        </p:nvSpPr>
        <p:spPr>
          <a:xfrm>
            <a:off x="427680" y="2349360"/>
            <a:ext cx="17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1. těl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19640" y="2708280"/>
          <a:ext cx="2333520" cy="758880"/>
        </p:xfrm>
        <a:graphic>
          <a:graphicData uri="http://schemas.openxmlformats.org/drawingml/2006/table">
            <a:tbl>
              <a:tblPr/>
              <a:tblGrid>
                <a:gridCol w="777960"/>
                <a:gridCol w="777600"/>
                <a:gridCol w="777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ovéPole 6"/>
          <p:cNvSpPr/>
          <p:nvPr/>
        </p:nvSpPr>
        <p:spPr>
          <a:xfrm>
            <a:off x="2988360" y="2349360"/>
            <a:ext cx="17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2. těl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Graf 7"/>
          <p:cNvGraphicFramePr/>
          <p:nvPr/>
        </p:nvGraphicFramePr>
        <p:xfrm>
          <a:off x="395280" y="3994200"/>
          <a:ext cx="4626000" cy="28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Graf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94200"/>
                    <a:ext cx="462600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ovéPole 8"/>
          <p:cNvSpPr/>
          <p:nvPr/>
        </p:nvSpPr>
        <p:spPr>
          <a:xfrm>
            <a:off x="4897080" y="3929040"/>
            <a:ext cx="198828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Z grafu vyplývá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t = 5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s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rbel"/>
                <a:ea typeface="Arial"/>
              </a:rPr>
              <a:t>1 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rbel"/>
                <a:ea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Corbel"/>
                <a:ea typeface="Arial"/>
              </a:rPr>
              <a:t>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3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4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bdélník 5"/>
          <p:cNvSpPr/>
          <p:nvPr/>
        </p:nvSpPr>
        <p:spPr>
          <a:xfrm>
            <a:off x="2340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obsah 2"/>
          <p:cNvSpPr/>
          <p:nvPr/>
        </p:nvSpPr>
        <p:spPr>
          <a:xfrm>
            <a:off x="468360" y="1268280"/>
            <a:ext cx="82296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ní automobil o délce 6 m jede rychlostí 66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Předjíždí jej motocykl jedoucí rychlostí 72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Předjíždění začíná již 16 m za automobilem a končí 18 m před automobile. Jak dlouho toto předjíždění trvá a jakou dráhu při tom uraz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40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bdélník 5"/>
          <p:cNvSpPr/>
          <p:nvPr/>
        </p:nvSpPr>
        <p:spPr>
          <a:xfrm>
            <a:off x="2340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obsah 2"/>
          <p:cNvSpPr/>
          <p:nvPr/>
        </p:nvSpPr>
        <p:spPr>
          <a:xfrm>
            <a:off x="900000" y="1197000"/>
            <a:ext cx="77868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6 m,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6 m,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8 m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6 km.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5/3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 km.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 m.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?, s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yby se automobil nepohybov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l +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obil se ale pohybuje rychlostí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l +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;  t – doba předjíž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3"/>
          <p:cNvSpPr/>
          <p:nvPr/>
        </p:nvSpPr>
        <p:spPr>
          <a:xfrm>
            <a:off x="826920" y="2060640"/>
            <a:ext cx="7129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60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bdélník 5"/>
          <p:cNvSpPr/>
          <p:nvPr/>
        </p:nvSpPr>
        <p:spPr>
          <a:xfrm>
            <a:off x="2340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obsah 2"/>
          <p:cNvSpPr/>
          <p:nvPr/>
        </p:nvSpPr>
        <p:spPr>
          <a:xfrm>
            <a:off x="539640" y="1268280"/>
            <a:ext cx="8136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ěleso urazilo třetinu své dráhy rychlostí 36 km.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Zbylou část dráhy 300 m urazilo za 60 s. Určete průměrnou rychlost tělesa na celé drá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0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bdélník 5"/>
          <p:cNvSpPr/>
          <p:nvPr/>
        </p:nvSpPr>
        <p:spPr>
          <a:xfrm>
            <a:off x="2340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obsah 2"/>
          <p:cNvSpPr/>
          <p:nvPr/>
        </p:nvSpPr>
        <p:spPr>
          <a:xfrm>
            <a:off x="611280" y="1285920"/>
            <a:ext cx="8075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6 km.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300 m,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60 s;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třetina: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ylá čá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á dráh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rce t =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stane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římá spojovací čára 3"/>
          <p:cNvSpPr/>
          <p:nvPr/>
        </p:nvSpPr>
        <p:spPr>
          <a:xfrm>
            <a:off x="611280" y="1628640"/>
            <a:ext cx="48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2124000" y="1916280"/>
                <a:ext cx="1857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6"/>
              <p:cNvSpPr txBox="1"/>
              <p:nvPr/>
            </p:nvSpPr>
            <p:spPr>
              <a:xfrm>
                <a:off x="5508720" y="1916280"/>
                <a:ext cx="19587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1979640" y="2924280"/>
                <a:ext cx="638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1403280" y="4292640"/>
                <a:ext cx="17319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TextovéPole 9"/>
          <p:cNvSpPr/>
          <p:nvPr/>
        </p:nvSpPr>
        <p:spPr>
          <a:xfrm>
            <a:off x="611280" y="5589720"/>
            <a:ext cx="705636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růměrná rychlost tělesa na celé dráze je 6 m/s.</a:t>
            </a:r>
            <a:r>
              <a:rPr b="0" lang="en-US" sz="1800" spc="-1" strike="noStrike" baseline="-25000">
                <a:solidFill>
                  <a:srgbClr val="ffdd6c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dd6c"/>
                </a:solidFill>
                <a:latin typeface="Arial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44920" y="4149720"/>
                <a:ext cx="42879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68360" y="333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826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Nadpis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8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Zástupný symbol pro obsah 6"/>
          <p:cNvGraphicFramePr/>
          <p:nvPr/>
        </p:nvGraphicFramePr>
        <p:xfrm>
          <a:off x="539640" y="1341360"/>
          <a:ext cx="3792600" cy="27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Zástupný symbol pro obsah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341360"/>
                    <a:ext cx="3792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Graf 7"/>
          <p:cNvGraphicFramePr/>
          <p:nvPr/>
        </p:nvGraphicFramePr>
        <p:xfrm>
          <a:off x="3851280" y="1052640"/>
          <a:ext cx="4599000" cy="3335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Graf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1052640"/>
                    <a:ext cx="459900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0040" y="4572000"/>
          <a:ext cx="3857760" cy="74304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480"/>
                <a:gridCol w="771840"/>
                <a:gridCol w="771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ovéPole 14"/>
          <p:cNvSpPr/>
          <p:nvPr/>
        </p:nvSpPr>
        <p:spPr>
          <a:xfrm>
            <a:off x="475920" y="40719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  <a:ea typeface="Arial"/>
              </a:rPr>
              <a:t>s =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0" y="4545000"/>
          <a:ext cx="3857760" cy="76824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480"/>
                <a:gridCol w="771840"/>
                <a:gridCol w="7714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ovéPole 16"/>
          <p:cNvSpPr/>
          <p:nvPr/>
        </p:nvSpPr>
        <p:spPr>
          <a:xfrm>
            <a:off x="4572000" y="4071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5076720" y="3429000"/>
                <a:ext cx="443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4"/>
          <p:cNvSpPr/>
          <p:nvPr/>
        </p:nvSpPr>
        <p:spPr>
          <a:xfrm flipH="1">
            <a:off x="3432240" y="2340000"/>
            <a:ext cx="1440" cy="12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římá spojovací čára 6"/>
          <p:cNvSpPr/>
          <p:nvPr/>
        </p:nvSpPr>
        <p:spPr>
          <a:xfrm flipH="1">
            <a:off x="3900600" y="2340000"/>
            <a:ext cx="1440" cy="12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7"/>
          <p:cNvSpPr/>
          <p:nvPr/>
        </p:nvSpPr>
        <p:spPr>
          <a:xfrm>
            <a:off x="3900600" y="3506760"/>
            <a:ext cx="12938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8"/>
          <p:cNvSpPr/>
          <p:nvPr/>
        </p:nvSpPr>
        <p:spPr>
          <a:xfrm flipH="1">
            <a:off x="3900600" y="3506760"/>
            <a:ext cx="1440" cy="496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9"/>
          <p:cNvSpPr/>
          <p:nvPr/>
        </p:nvSpPr>
        <p:spPr>
          <a:xfrm flipH="1" flipV="1">
            <a:off x="3152520" y="3133440"/>
            <a:ext cx="40788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3152880" y="3506760"/>
            <a:ext cx="40788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římá spojovací čára 11"/>
          <p:cNvSpPr/>
          <p:nvPr/>
        </p:nvSpPr>
        <p:spPr>
          <a:xfrm flipH="1">
            <a:off x="3432240" y="3506760"/>
            <a:ext cx="1440" cy="496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římá spojovací čára 12"/>
          <p:cNvSpPr/>
          <p:nvPr/>
        </p:nvSpPr>
        <p:spPr>
          <a:xfrm>
            <a:off x="3900600" y="3133800"/>
            <a:ext cx="12938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22"/>
          <p:cNvSpPr/>
          <p:nvPr/>
        </p:nvSpPr>
        <p:spPr>
          <a:xfrm flipH="1">
            <a:off x="3666600" y="2340000"/>
            <a:ext cx="1800" cy="2268360"/>
          </a:xfrm>
          <a:prstGeom prst="line">
            <a:avLst/>
          </a:prstGeom>
          <a:ln w="9360">
            <a:solidFill>
              <a:srgbClr val="ffd5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24"/>
          <p:cNvSpPr/>
          <p:nvPr/>
        </p:nvSpPr>
        <p:spPr>
          <a:xfrm flipH="1" flipV="1">
            <a:off x="3152880" y="3320640"/>
            <a:ext cx="2386080" cy="3240"/>
          </a:xfrm>
          <a:prstGeom prst="line">
            <a:avLst/>
          </a:prstGeom>
          <a:ln w="9360">
            <a:solidFill>
              <a:srgbClr val="ffd5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Vývojový diagram: sloučení 26"/>
          <p:cNvSpPr/>
          <p:nvPr/>
        </p:nvSpPr>
        <p:spPr>
          <a:xfrm>
            <a:off x="3573360" y="2620800"/>
            <a:ext cx="246240" cy="282600"/>
          </a:xfrm>
          <a:prstGeom prst="flowChartMerge">
            <a:avLst/>
          </a:prstGeom>
          <a:solidFill>
            <a:srgbClr val="f8bd52"/>
          </a:solidFill>
          <a:ln w="3168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Vývojový diagram: sloučení 27"/>
          <p:cNvSpPr/>
          <p:nvPr/>
        </p:nvSpPr>
        <p:spPr>
          <a:xfrm rot="5400000">
            <a:off x="4534560" y="3199320"/>
            <a:ext cx="284040" cy="339840"/>
          </a:xfrm>
          <a:prstGeom prst="flowChartMerge">
            <a:avLst/>
          </a:prstGeom>
          <a:solidFill>
            <a:srgbClr val="1a1d3d"/>
          </a:solidFill>
          <a:ln w="3168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římá spojovací čára 29"/>
          <p:cNvSpPr/>
          <p:nvPr/>
        </p:nvSpPr>
        <p:spPr>
          <a:xfrm flipH="1">
            <a:off x="3293640" y="2822400"/>
            <a:ext cx="530280" cy="3240"/>
          </a:xfrm>
          <a:prstGeom prst="line">
            <a:avLst/>
          </a:prstGeom>
          <a:ln w="9360">
            <a:solidFill>
              <a:srgbClr val="888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Přímá spojovací šipka 32"/>
          <p:cNvCxnSpPr/>
          <p:nvPr/>
        </p:nvCxnSpPr>
        <p:spPr>
          <a:xfrm flipH="1">
            <a:off x="3386160" y="2806560"/>
            <a:ext cx="70200" cy="781920"/>
          </a:xfrm>
          <a:prstGeom prst="straightConnector1">
            <a:avLst/>
          </a:prstGeom>
          <a:ln w="9360">
            <a:solidFill>
              <a:srgbClr val="888ecc"/>
            </a:solidFill>
            <a:miter/>
            <a:tailEnd len="med" type="arrow" w="med"/>
          </a:ln>
        </p:spPr>
      </p:cxnSp>
      <p:cxnSp>
        <p:nvCxnSpPr>
          <p:cNvPr id="117" name="Přímá spojovací šipka 34"/>
          <p:cNvCxnSpPr/>
          <p:nvPr/>
        </p:nvCxnSpPr>
        <p:spPr>
          <a:xfrm flipH="1" flipV="1">
            <a:off x="3666240" y="3600360"/>
            <a:ext cx="1227960" cy="70200"/>
          </a:xfrm>
          <a:prstGeom prst="straightConnector1">
            <a:avLst/>
          </a:prstGeom>
          <a:ln w="9360">
            <a:solidFill>
              <a:srgbClr val="888ecc"/>
            </a:solidFill>
            <a:miter/>
            <a:tailEnd len="med" type="arrow" w="med"/>
          </a:ln>
        </p:spPr>
      </p:cxnSp>
      <p:sp>
        <p:nvSpPr>
          <p:cNvPr id="118" name="Přímá spojovací čára 36"/>
          <p:cNvSpPr/>
          <p:nvPr/>
        </p:nvSpPr>
        <p:spPr>
          <a:xfrm flipV="1">
            <a:off x="4506840" y="3321000"/>
            <a:ext cx="9720" cy="566640"/>
          </a:xfrm>
          <a:prstGeom prst="line">
            <a:avLst/>
          </a:prstGeom>
          <a:ln w="9360">
            <a:solidFill>
              <a:srgbClr val="888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39"/>
          <p:cNvSpPr/>
          <p:nvPr/>
        </p:nvSpPr>
        <p:spPr>
          <a:xfrm>
            <a:off x="4015080" y="3648240"/>
            <a:ext cx="4838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400" rIns="5940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bel"/>
                <a:ea typeface="Arial"/>
              </a:rPr>
              <a:t>800 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40"/>
          <p:cNvSpPr/>
          <p:nvPr/>
        </p:nvSpPr>
        <p:spPr>
          <a:xfrm>
            <a:off x="2849040" y="2854440"/>
            <a:ext cx="4838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400" rIns="5940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bel"/>
                <a:ea typeface="Arial"/>
              </a:rPr>
              <a:t>600 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41"/>
          <p:cNvSpPr/>
          <p:nvPr/>
        </p:nvSpPr>
        <p:spPr>
          <a:xfrm>
            <a:off x="3661200" y="2433600"/>
            <a:ext cx="2232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400" rIns="5940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bel"/>
                <a:ea typeface="Arial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2"/>
          <p:cNvSpPr/>
          <p:nvPr/>
        </p:nvSpPr>
        <p:spPr>
          <a:xfrm>
            <a:off x="4364280" y="3133800"/>
            <a:ext cx="1882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400" rIns="5940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bel"/>
                <a:ea typeface="Arial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obsah 2"/>
          <p:cNvSpPr/>
          <p:nvPr/>
        </p:nvSpPr>
        <p:spPr>
          <a:xfrm>
            <a:off x="395280" y="1341360"/>
            <a:ext cx="7848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olicejní automobil P vzdálený 800 m od křižovatky jede ke křižovatce stálou rychlostí o velikosti 80 km.h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Automobil M pohybující se na druhé silnici je ve vzdálenosti 600 m od křižovatky. Jakou stálou rychlostí se pohyboval automobil M, jestliže na křižovatce došlo ke srážce obou vozid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0464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ástupný symbol pro obsah 2"/>
          <p:cNvSpPr/>
          <p:nvPr/>
        </p:nvSpPr>
        <p:spPr>
          <a:xfrm>
            <a:off x="1128600" y="1465200"/>
            <a:ext cx="10283760" cy="68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obsah 2"/>
          <p:cNvSpPr/>
          <p:nvPr/>
        </p:nvSpPr>
        <p:spPr>
          <a:xfrm>
            <a:off x="1116000" y="1484280"/>
            <a:ext cx="10283760" cy="68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2"/>
          <p:cNvSpPr/>
          <p:nvPr/>
        </p:nvSpPr>
        <p:spPr>
          <a:xfrm>
            <a:off x="45720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800 m,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80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60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rce 1 vypočteme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dosadíme do druhé 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adíme číselně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Automobil M se pohyboval rychlostí 60 km.h</a:t>
            </a:r>
            <a:r>
              <a:rPr b="0" lang="cs-CZ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římá spojovací čára 4"/>
          <p:cNvSpPr/>
          <p:nvPr/>
        </p:nvSpPr>
        <p:spPr>
          <a:xfrm>
            <a:off x="611280" y="1628640"/>
            <a:ext cx="4786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419640" y="2708280"/>
                <a:ext cx="698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4284720" y="2637000"/>
                <a:ext cx="3365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663480" y="4365720"/>
                <a:ext cx="2417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11280" y="33336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Zástupný symbol pro obsah 3"/>
          <p:cNvGraphicFramePr/>
          <p:nvPr/>
        </p:nvGraphicFramePr>
        <p:xfrm>
          <a:off x="1076400" y="1647720"/>
          <a:ext cx="490680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47720"/>
                    <a:ext cx="49068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ovéPole 6"/>
          <p:cNvSpPr/>
          <p:nvPr/>
        </p:nvSpPr>
        <p:spPr>
          <a:xfrm>
            <a:off x="611640" y="4786200"/>
            <a:ext cx="86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Dle grafu rychlosti sestrojte graf dráhy. Předpokládáme, že těleso se pohyb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po přímce a jeho dráha v čase t = 0 se rovná n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40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bdélník 4"/>
          <p:cNvSpPr/>
          <p:nvPr/>
        </p:nvSpPr>
        <p:spPr>
          <a:xfrm>
            <a:off x="242892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Zástupný symbol pro obsah 3"/>
          <p:cNvGraphicFramePr/>
          <p:nvPr/>
        </p:nvGraphicFramePr>
        <p:xfrm>
          <a:off x="468360" y="1557360"/>
          <a:ext cx="508320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50832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ovéPole 6"/>
          <p:cNvSpPr/>
          <p:nvPr/>
        </p:nvSpPr>
        <p:spPr>
          <a:xfrm>
            <a:off x="5508720" y="1714680"/>
            <a:ext cx="253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  <a:ea typeface="Arial"/>
              </a:rPr>
              <a:t>s = 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  <a:ea typeface="Arial"/>
              </a:rPr>
              <a:t>v = 20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Corbe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  <a:ea typeface="Arial"/>
              </a:rPr>
              <a:t>Grafem je polopří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3"/>
          <p:cNvSpPr/>
          <p:nvPr/>
        </p:nvSpPr>
        <p:spPr>
          <a:xfrm>
            <a:off x="967680" y="458136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  <a:ea typeface="Arial"/>
              </a:rPr>
              <a:t>t = 5 s       s = vt = 20 . 5 m 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33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délník 7"/>
          <p:cNvSpPr/>
          <p:nvPr/>
        </p:nvSpPr>
        <p:spPr>
          <a:xfrm>
            <a:off x="271476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Zástupný symbol pro obsah 3"/>
          <p:cNvGraphicFramePr/>
          <p:nvPr/>
        </p:nvGraphicFramePr>
        <p:xfrm>
          <a:off x="468360" y="1557360"/>
          <a:ext cx="527220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52722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ovéPole 8"/>
          <p:cNvSpPr/>
          <p:nvPr/>
        </p:nvSpPr>
        <p:spPr>
          <a:xfrm>
            <a:off x="1017000" y="500076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Podle grafu dráhy sestrojte graf rychl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60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5"/>
          <p:cNvSpPr/>
          <p:nvPr/>
        </p:nvSpPr>
        <p:spPr>
          <a:xfrm>
            <a:off x="250020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Zástupný symbol pro obsah 3"/>
          <p:cNvGraphicFramePr/>
          <p:nvPr/>
        </p:nvGraphicFramePr>
        <p:xfrm>
          <a:off x="611280" y="1557360"/>
          <a:ext cx="5540400" cy="33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57360"/>
                    <a:ext cx="55404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867280" y="1700280"/>
                <a:ext cx="201312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684360" y="260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Patrik</cp:lastModifiedBy>
  <dcterms:modified xsi:type="dcterms:W3CDTF">2010-06-16T08:42:14Z</dcterms:modified>
  <cp:revision>40</cp:revision>
  <dc:subject/>
  <dc:title>POSLOUPNOSTI</dc:title>
</cp:coreProperties>
</file>