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A5E-D836-4077-B469-0AD607F1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1E1-D4E7-44DD-BA54-07C6368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BC1-099F-46FE-91F0-11430B8B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F53-3B43-4AEC-8905-2E89C2F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49C-897E-4D4E-8F59-C01523F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CF3-3834-441E-9616-08B94B9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A16-37B4-4206-9882-54BB4A4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279-C367-41A5-8D7C-04FB78B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EFC-1B59-4772-A3EE-35ADC39D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CC5-3D60-47EF-8F79-8B13A842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D9E-DB84-4FEC-8BD1-770E177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AF1-B07A-45C9-882C-6733B6D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EA7-4B18-4239-A640-56204306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adpis 1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82425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obsah 2"/>
          <p:cNvSpPr/>
          <p:nvPr/>
        </p:nvSpPr>
        <p:spPr>
          <a:xfrm>
            <a:off x="45720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o o průměru 60 cm vykonává 1 000 otáček za minutu. Určete dostředivé zrychlení bodů ležících na jeho obvo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628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obsah 2"/>
          <p:cNvSpPr/>
          <p:nvPr/>
        </p:nvSpPr>
        <p:spPr>
          <a:xfrm>
            <a:off x="684360" y="1214280"/>
            <a:ext cx="800244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0,6 m,r = 0,3, n = 1 000 , t = 60 s;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í vztah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tředivé zrychlení bodů ležících na obvodu kola je 3,3.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římá spojovací čára 3"/>
          <p:cNvSpPr/>
          <p:nvPr/>
        </p:nvSpPr>
        <p:spPr>
          <a:xfrm>
            <a:off x="755640" y="1916280"/>
            <a:ext cx="442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971640" y="2565360"/>
                <a:ext cx="114444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2411280" y="2852640"/>
                <a:ext cx="564516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,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86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=</m:t>
                            </m:r>
                          </m:e>
                        </m:acc>
                        <m:r>
                          <m:t xml:space="preserve">3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84360" y="54936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o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á ručička hodinek je třikrát delší než sekundová. V jak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ěru jsou velikosti rychlostí jejich koncových bod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3r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60 s,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3 600 s; v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/ v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oměr velikostí rychlostí koncových bodů sekundové a minuto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učičky pla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ad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ový bod sekundové ručičky hodin má 20krát větší rychlost než minutov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268360" y="2708280"/>
                <a:ext cx="4176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3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Přímá spojovací čára 3"/>
          <p:cNvSpPr/>
          <p:nvPr/>
        </p:nvSpPr>
        <p:spPr>
          <a:xfrm>
            <a:off x="790560" y="1989000"/>
            <a:ext cx="442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2340000" y="3860640"/>
                <a:ext cx="1871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40464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čete úhlovou rychlost, kterou rotuje Země kolem své osy. Jaká je velikost rychlosti bodů ležících na rovníku? Střední r Země je 6 400 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76280"/>
            <a:ext cx="43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 = 24 h = 86 400 s, r = 6,4 . 103 km = 6,4 . 106 m;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?, v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tah pro úhlovou rychlos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ad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rychlosti bodů ležících na rovník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hlová rychlost Země je 7,3.10-5 rad.s-1. Velikost rychlosti, kterou rotují bod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stěné na rovníku, je 470 m.s-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067280" y="2133720"/>
                <a:ext cx="792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Přímá spojovací čára 3"/>
          <p:cNvSpPr/>
          <p:nvPr/>
        </p:nvSpPr>
        <p:spPr>
          <a:xfrm>
            <a:off x="1042920" y="1916280"/>
            <a:ext cx="6408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16000" y="3068640"/>
                <a:ext cx="3281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7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4437000"/>
                <a:ext cx="5761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r</m:t>
                    </m:r>
                    <m:r>
                      <m:t xml:space="preserve">=</m:t>
                    </m:r>
                    <m:r>
                      <m:t xml:space="preserve">7,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,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7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470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0464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ychlost bodů, které leží na obvodě rotujícího kotouče, je 6 m.s-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ychlost bodů, které leží o 20 cm blíže ose otáčení, je 4 m.s-1. Určete úhlovou rychlost kotouč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04640"/>
            <a:ext cx="37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1 = 6 m.s-1, v2 = 4 m.s-1, d = 0,2 m;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ychlosti v1 :                         v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tanem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hlová rychlost kotouče je 10 rad.s-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356000" y="2205000"/>
                <a:ext cx="1871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Přímá spojovací čára 3"/>
          <p:cNvSpPr/>
          <p:nvPr/>
        </p:nvSpPr>
        <p:spPr>
          <a:xfrm>
            <a:off x="1042920" y="1916280"/>
            <a:ext cx="439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03280" y="3429000"/>
                <a:ext cx="3240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0,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84360" y="2205000"/>
                <a:ext cx="1081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97164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62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12"/>
          <p:cNvSpPr/>
          <p:nvPr/>
        </p:nvSpPr>
        <p:spPr>
          <a:xfrm>
            <a:off x="901800" y="1484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597240"/>
          </a:xfrm>
          <a:prstGeom prst="rect">
            <a:avLst/>
          </a:prstGeom>
          <a:ln w="0">
            <a:noFill/>
          </a:ln>
        </p:spPr>
      </p:pic>
      <p:sp>
        <p:nvSpPr>
          <p:cNvPr id="49" name="Zástupný symbol pro obsah 2"/>
          <p:cNvSpPr/>
          <p:nvPr/>
        </p:nvSpPr>
        <p:spPr>
          <a:xfrm>
            <a:off x="684360" y="1071720"/>
            <a:ext cx="800244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íklady: body na gramofonové desce, na obvodu kola, na brusném kotouč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jednodušší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řivočar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hy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ektorie je kruž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 konstantní, ale neustále mění svůj směr. Rychlost má v každém bodě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měr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čny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trajektorii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1"/>
          <p:cNvSpPr/>
          <p:nvPr/>
        </p:nvSpPr>
        <p:spPr>
          <a:xfrm>
            <a:off x="4348080" y="542916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čení polohy HB při pohybu po kružn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02"/>
          <p:cNvSpPr/>
          <p:nvPr/>
        </p:nvSpPr>
        <p:spPr>
          <a:xfrm>
            <a:off x="1077480" y="5429160"/>
            <a:ext cx="29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vnoměrný pohyb HB po kružn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106" descr="fil_0622.gif"/>
          <p:cNvPicPr/>
          <p:nvPr/>
        </p:nvPicPr>
        <p:blipFill>
          <a:blip r:embed="rId2"/>
          <a:stretch/>
        </p:blipFill>
        <p:spPr>
          <a:xfrm>
            <a:off x="2124000" y="3645000"/>
            <a:ext cx="39816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Nadpis 1" descr=""/>
          <p:cNvPicPr/>
          <p:nvPr/>
        </p:nvPicPr>
        <p:blipFill>
          <a:blip r:embed="rId1"/>
          <a:stretch/>
        </p:blipFill>
        <p:spPr>
          <a:xfrm>
            <a:off x="450720" y="433440"/>
            <a:ext cx="8242560" cy="59688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2"/>
          <p:cNvSpPr/>
          <p:nvPr/>
        </p:nvSpPr>
        <p:spPr>
          <a:xfrm>
            <a:off x="755640" y="1052640"/>
            <a:ext cx="619128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kost úhlu v radiánech je určena poměrem délky oblouku kružnic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poloměr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to kruž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dián = bez rozměrová veličina, dosazujeme jen jako  číselnou hodno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ka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60°=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rad = 57°20´, 1°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180 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– průvodič HB = poloměr kružni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 – vztažný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úhlová drá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843280" y="2997360"/>
                <a:ext cx="646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" name="Obrázek 14" descr="image050.gif"/>
          <p:cNvPicPr/>
          <p:nvPr/>
        </p:nvPicPr>
        <p:blipFill>
          <a:blip r:embed="rId2"/>
          <a:stretch/>
        </p:blipFill>
        <p:spPr>
          <a:xfrm>
            <a:off x="5435640" y="3284640"/>
            <a:ext cx="1871640" cy="1539720"/>
          </a:xfrm>
          <a:prstGeom prst="rect">
            <a:avLst/>
          </a:prstGeom>
          <a:ln w="0">
            <a:noFill/>
          </a:ln>
        </p:spPr>
      </p:pic>
      <p:sp>
        <p:nvSpPr>
          <p:cNvPr id="58" name="TextovéPole 4"/>
          <p:cNvSpPr/>
          <p:nvPr/>
        </p:nvSpPr>
        <p:spPr>
          <a:xfrm>
            <a:off x="5432040" y="48690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Velikost úh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Nadpis 1" descr=""/>
          <p:cNvPicPr/>
          <p:nvPr/>
        </p:nvPicPr>
        <p:blipFill>
          <a:blip r:embed="rId1"/>
          <a:stretch/>
        </p:blipFill>
        <p:spPr>
          <a:xfrm>
            <a:off x="450720" y="433440"/>
            <a:ext cx="8242560" cy="59688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obsah 2"/>
          <p:cNvSpPr/>
          <p:nvPr/>
        </p:nvSpPr>
        <p:spPr>
          <a:xfrm>
            <a:off x="826920" y="107172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Úhlová rych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3" descr="image043.gif"/>
          <p:cNvPicPr/>
          <p:nvPr/>
        </p:nvPicPr>
        <p:blipFill>
          <a:blip r:embed="rId2"/>
          <a:stretch/>
        </p:blipFill>
        <p:spPr>
          <a:xfrm>
            <a:off x="6227640" y="2997360"/>
            <a:ext cx="2129040" cy="183816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5"/>
          <p:cNvSpPr/>
          <p:nvPr/>
        </p:nvSpPr>
        <p:spPr>
          <a:xfrm>
            <a:off x="826920" y="1557360"/>
            <a:ext cx="5572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hlová rychlost je podíl úhlové dráhy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Δφ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terou opíše průvodič za dobu </a:t>
            </a:r>
            <a:r>
              <a:rPr b="0" i="1" lang="el-GR" sz="1800" spc="-1" strike="noStrike">
                <a:solidFill>
                  <a:srgbClr val="000000"/>
                </a:solidFill>
                <a:latin typeface="Corbel"/>
              </a:rPr>
              <a:t>Δ</a:t>
            </a:r>
            <a:r>
              <a:rPr b="0" i="1" lang="cs-CZ" sz="1800" spc="-1" strike="noStrike">
                <a:solidFill>
                  <a:srgbClr val="000000"/>
                </a:solidFill>
                <a:latin typeface="Corbe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, a této d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Když s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ω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nemění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hlová dráha je funkcí ča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203640" y="2205000"/>
                <a:ext cx="981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ϕ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ovéPole 7"/>
          <p:cNvSpPr/>
          <p:nvPr/>
        </p:nvSpPr>
        <p:spPr>
          <a:xfrm>
            <a:off x="838080" y="422100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a:</a:t>
            </a:r>
            <a:r>
              <a:rPr b="0" lang="en-US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d.s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140360" y="3500280"/>
                <a:ext cx="8920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ovéPole 4"/>
          <p:cNvSpPr/>
          <p:nvPr/>
        </p:nvSpPr>
        <p:spPr>
          <a:xfrm>
            <a:off x="6151320" y="486900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Úhlová 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dpis 1" descr=""/>
          <p:cNvPicPr/>
          <p:nvPr/>
        </p:nvPicPr>
        <p:blipFill>
          <a:blip r:embed="rId1"/>
          <a:stretch/>
        </p:blipFill>
        <p:spPr>
          <a:xfrm>
            <a:off x="450720" y="433440"/>
            <a:ext cx="8242560" cy="596880"/>
          </a:xfrm>
          <a:prstGeom prst="rect">
            <a:avLst/>
          </a:prstGeom>
          <a:ln w="0">
            <a:noFill/>
          </a:ln>
        </p:spPr>
      </p:pic>
      <p:sp>
        <p:nvSpPr>
          <p:cNvPr id="70" name="Zástupný symbol pro obsah 2"/>
          <p:cNvSpPr/>
          <p:nvPr/>
        </p:nvSpPr>
        <p:spPr>
          <a:xfrm>
            <a:off x="684360" y="98100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eriodický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ždy za tutéž dob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ěžná doba,</a:t>
            </a: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per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azením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kamžitá rychl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ychlost HB pohybujícího se po kruž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268360" y="2637000"/>
                <a:ext cx="16131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ϕ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4643280" y="3716280"/>
                <a:ext cx="982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ovéPole 8"/>
          <p:cNvSpPr/>
          <p:nvPr/>
        </p:nvSpPr>
        <p:spPr>
          <a:xfrm>
            <a:off x="368640" y="36450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Úhlová rychlost pomocí frekv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1403280" y="5300640"/>
                <a:ext cx="1028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Nadpis 1" descr=""/>
          <p:cNvPicPr/>
          <p:nvPr/>
        </p:nvPicPr>
        <p:blipFill>
          <a:blip r:embed="rId1"/>
          <a:stretch/>
        </p:blipFill>
        <p:spPr>
          <a:xfrm>
            <a:off x="450720" y="433440"/>
            <a:ext cx="8242560" cy="59688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5"/>
          <p:cNvSpPr/>
          <p:nvPr/>
        </p:nvSpPr>
        <p:spPr>
          <a:xfrm>
            <a:off x="539640" y="112536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dd6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33399"/>
                </a:solidFill>
                <a:latin typeface="Corbel"/>
              </a:rPr>
              <a:t>Frekvence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orbel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pohy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= počet oběhů HB za jednotku ča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Čím menší oběžná doba, tím vět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počet oběhů za jednotku ča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Jednotka je </a:t>
            </a:r>
            <a:r>
              <a:rPr b="0" lang="cs-CZ" sz="1800" spc="-1" strike="noStrike">
                <a:solidFill>
                  <a:srgbClr val="333399"/>
                </a:solidFill>
                <a:latin typeface="Corbel"/>
              </a:rPr>
              <a:t>s</a:t>
            </a:r>
            <a:r>
              <a:rPr b="0" lang="cs-CZ" sz="1800" spc="-1" strike="noStrike" baseline="30000">
                <a:solidFill>
                  <a:srgbClr val="333399"/>
                </a:solidFill>
                <a:latin typeface="Corbe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neboli Herz . </a:t>
            </a:r>
            <a:r>
              <a:rPr b="0" lang="cs-CZ" sz="1800" spc="-1" strike="noStrike">
                <a:solidFill>
                  <a:srgbClr val="333399"/>
                </a:solidFill>
                <a:latin typeface="Corbe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050920" y="2852640"/>
                <a:ext cx="793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Nadpis 1" descr=""/>
          <p:cNvPicPr/>
          <p:nvPr/>
        </p:nvPicPr>
        <p:blipFill>
          <a:blip r:embed="rId1"/>
          <a:stretch/>
        </p:blipFill>
        <p:spPr>
          <a:xfrm>
            <a:off x="450720" y="35388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obsah 2"/>
          <p:cNvSpPr/>
          <p:nvPr/>
        </p:nvSpPr>
        <p:spPr>
          <a:xfrm>
            <a:off x="755640" y="1268280"/>
            <a:ext cx="5572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středivé zrychlení neboli normálové zrych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mění velikost rychlosti pohybu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ůsobuje jen změnu smě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" descr="dostř.gif"/>
          <p:cNvPicPr/>
          <p:nvPr/>
        </p:nvPicPr>
        <p:blipFill>
          <a:blip r:embed="rId2"/>
          <a:stretch/>
        </p:blipFill>
        <p:spPr>
          <a:xfrm>
            <a:off x="4788000" y="3573360"/>
            <a:ext cx="2381040" cy="200988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4"/>
          <p:cNvSpPr/>
          <p:nvPr/>
        </p:nvSpPr>
        <p:spPr>
          <a:xfrm>
            <a:off x="5285880" y="5805360"/>
            <a:ext cx="21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. Dostředivé zrychl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1042920" y="2924280"/>
                <a:ext cx="996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obsah 2"/>
          <p:cNvSpPr/>
          <p:nvPr/>
        </p:nvSpPr>
        <p:spPr>
          <a:xfrm>
            <a:off x="468360" y="1197000"/>
            <a:ext cx="82296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ina centrifugy, která je umístěna ve vzdálenosti 6 m od osy otáčení, vykoná za 60 s 30 otáček. Určete velikost její rychlosti a úhlovou rych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0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.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3200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755640" y="1214280"/>
            <a:ext cx="79311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 = 6 m, t = 60 s, n = 30; v = ?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í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ikost rychlosti centrifugy je 19 m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úhlová rychlost 3,1 rad.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3"/>
          <p:cNvSpPr/>
          <p:nvPr/>
        </p:nvSpPr>
        <p:spPr>
          <a:xfrm>
            <a:off x="826920" y="1916280"/>
            <a:ext cx="468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826920" y="2708280"/>
                <a:ext cx="44658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,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11280" y="260280"/>
            <a:ext cx="410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.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7:54:12Z</dcterms:created>
  <dc:creator>Patrik</dc:creator>
  <dc:description/>
  <dc:language>en-US</dc:language>
  <cp:lastModifiedBy>Patrik</cp:lastModifiedBy>
  <dcterms:modified xsi:type="dcterms:W3CDTF">2010-06-13T19:15:24Z</dcterms:modified>
  <cp:revision>7</cp:revision>
  <dc:subject/>
  <dc:title>Rovnoměrný přímočarý</dc:title>
</cp:coreProperties>
</file>