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EBE9-1D18-49FA-ADF1-3084FFC3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688E-71B4-48C7-91B6-5EBBCBD4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8CAA-9B8F-4109-BB07-1D44AA6A5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F0EB-78D2-4AEA-A9B2-C9A534049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A33A-3520-47C0-A9B4-184696D7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2D29-FB4F-44C5-820D-E3A590B2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818C-C3BD-4C44-BBC1-AC92C414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D3C1-57E2-4477-885A-858FFADF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27C4-197B-483F-8ADF-EBC4D9C6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C6ED-20CD-4667-8828-3BC2CAF8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5F4A-718B-4BB5-BD9D-3CA2284A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0C14-8FEF-45EC-9832-C9D43A1B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1724-39A6-46E4-B59C-6655916BB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Nadpis 1" descr=""/>
          <p:cNvPicPr/>
          <p:nvPr/>
        </p:nvPicPr>
        <p:blipFill>
          <a:blip r:embed="rId2"/>
          <a:stretch/>
        </p:blipFill>
        <p:spPr>
          <a:xfrm>
            <a:off x="468360" y="3213000"/>
            <a:ext cx="82422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ovéPole 12"/>
          <p:cNvSpPr/>
          <p:nvPr/>
        </p:nvSpPr>
        <p:spPr>
          <a:xfrm>
            <a:off x="901800" y="148428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3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3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Nadpis 1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42200" cy="1146240"/>
          </a:xfrm>
          <a:prstGeom prst="rect">
            <a:avLst/>
          </a:prstGeom>
          <a:ln w="0">
            <a:noFill/>
          </a:ln>
        </p:spPr>
      </p:pic>
      <p:sp>
        <p:nvSpPr>
          <p:cNvPr id="49" name="Zástupný symbol pro obsah 2"/>
          <p:cNvSpPr/>
          <p:nvPr/>
        </p:nvSpPr>
        <p:spPr>
          <a:xfrm>
            <a:off x="900000" y="1500120"/>
            <a:ext cx="7786800" cy="47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likost rychlosti HB, který koná rovnoměrně zrychlený pohyb s počáteční rychlostí v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se zrychlením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dd6c"/>
                </a:solidFill>
                <a:latin typeface="Arial"/>
              </a:rPr>
              <a:t>                                       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v = v</a:t>
            </a:r>
            <a:r>
              <a:rPr b="0" lang="cs-CZ" sz="1800" spc="-1" strike="noStrike" baseline="-25000">
                <a:solidFill>
                  <a:srgbClr val="333399"/>
                </a:solidFill>
                <a:latin typeface="Arial"/>
              </a:rPr>
              <a:t>0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 +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Příklad: předjíždějící automob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Nadpis 1" descr=""/>
          <p:cNvPicPr/>
          <p:nvPr/>
        </p:nvPicPr>
        <p:blipFill>
          <a:blip r:embed="rId1"/>
          <a:stretch/>
        </p:blipFill>
        <p:spPr>
          <a:xfrm>
            <a:off x="258840" y="0"/>
            <a:ext cx="8242200" cy="1144440"/>
          </a:xfrm>
          <a:prstGeom prst="rect">
            <a:avLst/>
          </a:prstGeom>
          <a:ln w="0">
            <a:noFill/>
          </a:ln>
        </p:spPr>
      </p:pic>
      <p:sp>
        <p:nvSpPr>
          <p:cNvPr id="52" name="Zástupný symbol pro obsah 2"/>
          <p:cNvSpPr/>
          <p:nvPr/>
        </p:nvSpPr>
        <p:spPr>
          <a:xfrm>
            <a:off x="276120" y="1457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spcBef>
                <a:spcPts val="649"/>
              </a:spcBef>
              <a:buClr>
                <a:srgbClr val="ffdd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23"/>
          <p:cNvGraphicFramePr/>
          <p:nvPr/>
        </p:nvGraphicFramePr>
        <p:xfrm>
          <a:off x="1332000" y="1225440"/>
          <a:ext cx="6095880" cy="4064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4" name="Graf 2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1225440"/>
                    <a:ext cx="6095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379520" y="5400720"/>
          <a:ext cx="6095880" cy="743040"/>
        </p:xfrm>
        <a:graphic>
          <a:graphicData uri="http://schemas.openxmlformats.org/drawingml/2006/table">
            <a:tbl>
              <a:tblPr/>
              <a:tblGrid>
                <a:gridCol w="912600"/>
                <a:gridCol w="828720"/>
                <a:gridCol w="871560"/>
                <a:gridCol w="870120"/>
                <a:gridCol w="871200"/>
                <a:gridCol w="870120"/>
                <a:gridCol w="8715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(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(m.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ovéPole 37"/>
          <p:cNvSpPr/>
          <p:nvPr/>
        </p:nvSpPr>
        <p:spPr>
          <a:xfrm>
            <a:off x="250920" y="4971960"/>
            <a:ext cx="12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 = 2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ovéPole 8"/>
          <p:cNvSpPr/>
          <p:nvPr/>
        </p:nvSpPr>
        <p:spPr>
          <a:xfrm>
            <a:off x="252360" y="4686480"/>
            <a:ext cx="131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rbe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= 3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Nadpis 1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114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900000" y="4508640"/>
          <a:ext cx="3571560" cy="812520"/>
        </p:xfrm>
        <a:graphic>
          <a:graphicData uri="http://schemas.openxmlformats.org/drawingml/2006/table">
            <a:tbl>
              <a:tblPr/>
              <a:tblGrid>
                <a:gridCol w="714240"/>
                <a:gridCol w="714240"/>
                <a:gridCol w="714600"/>
                <a:gridCol w="714240"/>
                <a:gridCol w="714240"/>
              </a:tblGrid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(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ovéPole 17"/>
          <p:cNvSpPr/>
          <p:nvPr/>
        </p:nvSpPr>
        <p:spPr>
          <a:xfrm>
            <a:off x="6158160" y="4653000"/>
            <a:ext cx="18374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 =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rbe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 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 = 6 + 9 = </a:t>
            </a:r>
            <a:r>
              <a:rPr b="0" lang="en-US" sz="1800" spc="-1" strike="noStrike">
                <a:solidFill>
                  <a:srgbClr val="333399"/>
                </a:solidFill>
                <a:latin typeface="Corbel"/>
              </a:rPr>
              <a:t>1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ovéPole 19"/>
          <p:cNvSpPr/>
          <p:nvPr/>
        </p:nvSpPr>
        <p:spPr>
          <a:xfrm>
            <a:off x="4795200" y="4581360"/>
            <a:ext cx="1258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rbe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= 2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 =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21"/>
          <p:cNvSpPr/>
          <p:nvPr/>
        </p:nvSpPr>
        <p:spPr>
          <a:xfrm>
            <a:off x="4142880" y="3213000"/>
            <a:ext cx="22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počáteční dráhou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ovéPole 22"/>
          <p:cNvSpPr/>
          <p:nvPr/>
        </p:nvSpPr>
        <p:spPr>
          <a:xfrm>
            <a:off x="3967920" y="14842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Odvodí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6" descr="http://www.gymun.cz/projekt/graf3.jpg"/>
          <p:cNvPicPr/>
          <p:nvPr/>
        </p:nvPicPr>
        <p:blipFill>
          <a:blip r:embed="rId2"/>
          <a:stretch/>
        </p:blipFill>
        <p:spPr>
          <a:xfrm>
            <a:off x="1042920" y="1484280"/>
            <a:ext cx="2549520" cy="2792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6" name="Object 7"/>
              <p:cNvSpPr txBox="1"/>
              <p:nvPr/>
            </p:nvSpPr>
            <p:spPr>
              <a:xfrm>
                <a:off x="4140360" y="1916280"/>
                <a:ext cx="35924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7"/>
              <p:cNvSpPr txBox="1"/>
              <p:nvPr/>
            </p:nvSpPr>
            <p:spPr>
              <a:xfrm>
                <a:off x="4159080" y="2492280"/>
                <a:ext cx="30052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t</m:t>
                    </m:r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7"/>
              <p:cNvSpPr txBox="1"/>
              <p:nvPr/>
            </p:nvSpPr>
            <p:spPr>
              <a:xfrm>
                <a:off x="6372360" y="3284640"/>
                <a:ext cx="16826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7"/>
              <p:cNvSpPr txBox="1"/>
              <p:nvPr/>
            </p:nvSpPr>
            <p:spPr>
              <a:xfrm>
                <a:off x="7081920" y="4581360"/>
                <a:ext cx="22680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ástupný symbol pro obsah 2"/>
          <p:cNvSpPr/>
          <p:nvPr/>
        </p:nvSpPr>
        <p:spPr>
          <a:xfrm>
            <a:off x="611280" y="1268280"/>
            <a:ext cx="807552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ěleso pohybující se rovnoměrně přímočaře urazilo za prvních 5 s dráhu 25 cm. Dále se těleso pohybovalo rovnoměrně zrychleně a urazilo za následujících 5 s dráhu 150 cm. Jakou rychlostí se těleso pohybovalo při rovnoměrném přímočarém pohybu a jaké rychlosti dosáhlo za 5 s a od začátku rovnoměrně zrychleného pohybu? Jaké bylo zrychlení tělesa při rovnoměrně zrychleném pohyb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5120" y="281160"/>
            <a:ext cx="29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obsah 2"/>
          <p:cNvSpPr/>
          <p:nvPr/>
        </p:nvSpPr>
        <p:spPr>
          <a:xfrm>
            <a:off x="604800" y="932040"/>
            <a:ext cx="7974000" cy="50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11040" indent="-311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 s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,25 m, t = 5 s, s = 1,5 m;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?, v = ?, a =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i rovnoměrném přímočarém pohybu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ychlost tělesa je pa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římá spojovací čára 4"/>
          <p:cNvSpPr/>
          <p:nvPr/>
        </p:nvSpPr>
        <p:spPr>
          <a:xfrm>
            <a:off x="604800" y="1274760"/>
            <a:ext cx="61927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728640" y="1851120"/>
                <a:ext cx="241452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5"/>
              <p:cNvSpPr txBox="1"/>
              <p:nvPr/>
            </p:nvSpPr>
            <p:spPr>
              <a:xfrm>
                <a:off x="4435560" y="296712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6"/>
              <p:cNvSpPr txBox="1"/>
              <p:nvPr/>
            </p:nvSpPr>
            <p:spPr>
              <a:xfrm>
                <a:off x="747720" y="2498760"/>
                <a:ext cx="30243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7"/>
              <p:cNvSpPr txBox="1"/>
              <p:nvPr/>
            </p:nvSpPr>
            <p:spPr>
              <a:xfrm>
                <a:off x="757080" y="3130560"/>
                <a:ext cx="26463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,5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8"/>
              <p:cNvSpPr txBox="1"/>
              <p:nvPr/>
            </p:nvSpPr>
            <p:spPr>
              <a:xfrm>
                <a:off x="3382920" y="4145040"/>
                <a:ext cx="37339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+</m:t>
                    </m:r>
                    <m:r>
                      <m:t xml:space="preserve">0,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1" name="TextovéPole 12"/>
          <p:cNvSpPr/>
          <p:nvPr/>
        </p:nvSpPr>
        <p:spPr>
          <a:xfrm>
            <a:off x="676440" y="4946760"/>
            <a:ext cx="74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ěleso se pohybovalo nejprve rychlostí 0,05 m.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Za 5 s od začátku rovnoměrně zrychleného pohybu dosáhlo rychlosti 0,55 m.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Zrychlení tělesa při tomto pohybu bylo 0,1 m.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260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ástupný symbol pro obsah 2"/>
          <p:cNvSpPr/>
          <p:nvPr/>
        </p:nvSpPr>
        <p:spPr>
          <a:xfrm>
            <a:off x="755640" y="1285920"/>
            <a:ext cx="793116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vě tělesa se začala současně pohybovat rovnoměrně zrychleně; první s počáteční rychlostí 10 m.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se zrychlením 6 m.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ruhé bez počáteční rychlosti a se zrychlením 8 m.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Za jakou dobu budou mít obě tělesa stejnou rychlost a jakou dráhu každé těleso za tuto dobu uraz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00000" y="47628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Zástupný symbol pro obsah 2"/>
          <p:cNvSpPr/>
          <p:nvPr/>
        </p:nvSpPr>
        <p:spPr>
          <a:xfrm>
            <a:off x="1116000" y="1285920"/>
            <a:ext cx="754236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53800" indent="-253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0 m.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6 m.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8 m.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?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?, t =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i rovnoměrném přímočarém pohybu platí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likož za dob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dou mít tělesa stejnou rychlo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áha prvního tělesa:                       Dráha druhého těles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římá spojovací čára 4"/>
          <p:cNvSpPr/>
          <p:nvPr/>
        </p:nvSpPr>
        <p:spPr>
          <a:xfrm>
            <a:off x="900000" y="1628640"/>
            <a:ext cx="590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2"/>
              <p:cNvSpPr txBox="1"/>
              <p:nvPr/>
            </p:nvSpPr>
            <p:spPr>
              <a:xfrm>
                <a:off x="971640" y="2276640"/>
                <a:ext cx="992160" cy="30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4"/>
              <p:cNvSpPr txBox="1"/>
              <p:nvPr/>
            </p:nvSpPr>
            <p:spPr>
              <a:xfrm>
                <a:off x="900000" y="4437000"/>
                <a:ext cx="31449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5"/>
              <p:cNvSpPr txBox="1"/>
              <p:nvPr/>
            </p:nvSpPr>
            <p:spPr>
              <a:xfrm>
                <a:off x="900000" y="3068640"/>
                <a:ext cx="21686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⇒</m:t>
                    </m:r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6"/>
              <p:cNvSpPr txBox="1"/>
              <p:nvPr/>
            </p:nvSpPr>
            <p:spPr>
              <a:xfrm>
                <a:off x="4788000" y="4365720"/>
                <a:ext cx="22366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8"/>
              <p:cNvSpPr txBox="1"/>
              <p:nvPr/>
            </p:nvSpPr>
            <p:spPr>
              <a:xfrm>
                <a:off x="2195640" y="2276640"/>
                <a:ext cx="67140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9"/>
              <p:cNvSpPr txBox="1"/>
              <p:nvPr/>
            </p:nvSpPr>
            <p:spPr>
              <a:xfrm>
                <a:off x="5559480" y="2714760"/>
                <a:ext cx="55404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10"/>
              <p:cNvSpPr txBox="1"/>
              <p:nvPr/>
            </p:nvSpPr>
            <p:spPr>
              <a:xfrm>
                <a:off x="3348000" y="3051000"/>
                <a:ext cx="11098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TextovéPole 14"/>
          <p:cNvSpPr/>
          <p:nvPr/>
        </p:nvSpPr>
        <p:spPr>
          <a:xfrm>
            <a:off x="755640" y="52149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ě tělesa budou mít stejnou rychlost za 5 s. První urazí dráhu 125 m, druhé 100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47628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3T07:54:12Z</dcterms:created>
  <dc:creator>Patrik</dc:creator>
  <dc:description/>
  <dc:language>en-US</dc:language>
  <cp:lastModifiedBy>Patrik</cp:lastModifiedBy>
  <dcterms:modified xsi:type="dcterms:W3CDTF">2010-06-16T08:51:59Z</dcterms:modified>
  <cp:revision>5</cp:revision>
  <dc:subject/>
  <dc:title>Rovnoměrný přímočarý</dc:title>
</cp:coreProperties>
</file>