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A4DC-3E74-4ACB-A2F1-901C2E15C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F2D4-318C-40A6-9271-B94EACD6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18FB-9658-4828-B7C3-36DE63E77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E33B-EB05-498C-9ACD-C6A9872AE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D7E0-D59B-4B5D-B556-EE60C024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0D7B-77B4-4854-9E7B-15901A52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5F66-2416-4168-AD89-12DFBFDA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0255-063C-41E0-A293-42CCBD14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059B-4484-4EE3-8DDF-BCC35C3E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89E1-48AD-4260-8AC5-2CB9609A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E005-5552-4AE7-B612-AA447A92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553A-59E3-421D-839B-F7F4215B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AABB-92C0-4F38-95CA-5225DEE7CC63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8D43-EF2A-4A97-9D2B-BD7AC4F5964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ek 8" descr="internet.jpg"/>
          <p:cNvPicPr/>
          <p:nvPr/>
        </p:nvPicPr>
        <p:blipFill>
          <a:blip r:embed="rId1"/>
          <a:stretch/>
        </p:blipFill>
        <p:spPr>
          <a:xfrm>
            <a:off x="3059280" y="3500280"/>
            <a:ext cx="1584000" cy="13748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loga_bar"/>
          <p:cNvPicPr/>
          <p:nvPr/>
        </p:nvPicPr>
        <p:blipFill>
          <a:blip r:embed="rId2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20"/>
          <p:cNvSpPr/>
          <p:nvPr/>
        </p:nvSpPr>
        <p:spPr>
          <a:xfrm>
            <a:off x="3825720" y="4437000"/>
            <a:ext cx="530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5f5f5f"/>
                </a:solidFill>
                <a:latin typeface="Arial"/>
              </a:rPr>
              <a:t>POLITOLOGIE A SOCI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23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6"/>
          <p:cNvSpPr/>
          <p:nvPr/>
        </p:nvSpPr>
        <p:spPr>
          <a:xfrm>
            <a:off x="0" y="4797360"/>
            <a:ext cx="9144000" cy="1440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1"/>
          <p:cNvSpPr/>
          <p:nvPr/>
        </p:nvSpPr>
        <p:spPr>
          <a:xfrm>
            <a:off x="19080" y="5084640"/>
            <a:ext cx="912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ddddd"/>
                </a:solidFill>
                <a:latin typeface="Arial"/>
              </a:rPr>
              <a:t>MASOVÁ MÉDIA A VEŘEJNÉ MÍNĚ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0"/>
          <p:cNvSpPr/>
          <p:nvPr/>
        </p:nvSpPr>
        <p:spPr>
          <a:xfrm>
            <a:off x="2160" y="1844640"/>
            <a:ext cx="90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Mgr. Ivana Váchová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OB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Obrázek 9" descr="ct_redesign_loga.jpg"/>
          <p:cNvPicPr/>
          <p:nvPr/>
        </p:nvPicPr>
        <p:blipFill>
          <a:blip r:embed="rId3"/>
          <a:stretch/>
        </p:blipFill>
        <p:spPr>
          <a:xfrm>
            <a:off x="1763640" y="357336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0" name="Obrázek 10" descr="noviny_26_08_03.jpg"/>
          <p:cNvPicPr/>
          <p:nvPr/>
        </p:nvPicPr>
        <p:blipFill>
          <a:blip r:embed="rId4"/>
          <a:stretch/>
        </p:blipFill>
        <p:spPr>
          <a:xfrm>
            <a:off x="0" y="3564000"/>
            <a:ext cx="169236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3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4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cc00"/>
                </a:solidFill>
                <a:latin typeface="Arial"/>
              </a:rPr>
              <a:t>média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jsou zdrojem moci, protože mají velký vliv na veřejné mín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cc00"/>
                </a:solidFill>
                <a:latin typeface="Arial"/>
              </a:rPr>
              <a:t>totalitní režimy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– vždy usilovaly o kontrolu nad médii, omezovaly informace pomocí cenzury a média používaly k propagand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cc00"/>
                </a:solidFill>
                <a:latin typeface="Arial"/>
              </a:rPr>
              <a:t>cenzura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– záměrný zásah vlivných skupin za účelem omezení a kontroly šíření informací, s cílem vytvořit žádaný mediální obraz světa   (dnes např. Kuba, Severní Korea, Čí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cc00"/>
                </a:solidFill>
                <a:latin typeface="Arial"/>
              </a:rPr>
              <a:t>demokratické režimy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– mohou ovlivňovat jedince i společnost = mediální panika, mediální magnáti, vliv na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88560" y="260280"/>
            <a:ext cx="458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MASOVÁ MÉDIA A VEŘEJNÉ MÍN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5480" y="765000"/>
            <a:ext cx="329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Moc a vliv méd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9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0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1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soubor převládajících postojů a názorů, které veřejnost zaujímá k určité otáz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na utváření veřejného mínění mají velký vliv masová média a pro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masová média musí informovat objektivně a vyváženě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(nezaměňovat fakta a názory, pravidelně informovat,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nezamlčovat,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masová média by měla dát slovo oběma stran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různá masová média (seriózní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x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bulvár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88560" y="260280"/>
            <a:ext cx="458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MASOVÁ MÉDIA A VEŘEJNÉ MÍN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3960" y="765000"/>
            <a:ext cx="30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Veřejné mín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4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5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6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výběr programů a tiskovin podle kvality a svých zájm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nepovažovat vše za nutně pravdi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utvářet si vlastní názor na základě více zdrojů a inform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nenechat se ovliv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být kritický ke konkrétním sděle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88560" y="260280"/>
            <a:ext cx="458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MASOVÁ MÉDIA A VEŘEJNÉ MÍN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15120" y="765000"/>
            <a:ext cx="34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Aktivní publik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9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0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1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odkud čerpají masová média informace pro své zpráv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ČTK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–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Česká tisková kancelá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politici, úředníci, policie, so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novináři (redakce), komentátoři, moderátoř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politologové, sociolog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Zahraniční tiskové kanceláře (např. </a:t>
            </a:r>
            <a:r>
              <a:rPr b="1" lang="cs-CZ" sz="2000" spc="-1" strike="noStrike">
                <a:solidFill>
                  <a:srgbClr val="99cc00"/>
                </a:solidFill>
                <a:latin typeface="Arial"/>
              </a:rPr>
              <a:t>REUTERS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88560" y="260280"/>
            <a:ext cx="458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MASOVÁ MÉDIA A VEŘEJNÉ MÍN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15480" y="765000"/>
            <a:ext cx="336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Zdroje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9" descr="ctk2.gif"/>
          <p:cNvPicPr/>
          <p:nvPr/>
        </p:nvPicPr>
        <p:blipFill>
          <a:blip r:embed="rId1"/>
          <a:stretch/>
        </p:blipFill>
        <p:spPr>
          <a:xfrm>
            <a:off x="6699240" y="2781360"/>
            <a:ext cx="2444760" cy="1584360"/>
          </a:xfrm>
          <a:prstGeom prst="rect">
            <a:avLst/>
          </a:prstGeom>
          <a:ln w="0">
            <a:noFill/>
          </a:ln>
        </p:spPr>
      </p:pic>
      <p:pic>
        <p:nvPicPr>
          <p:cNvPr id="160" name="Obrázek 10" descr="reuters logo.gif"/>
          <p:cNvPicPr/>
          <p:nvPr/>
        </p:nvPicPr>
        <p:blipFill>
          <a:blip r:embed="rId2"/>
          <a:stretch/>
        </p:blipFill>
        <p:spPr>
          <a:xfrm>
            <a:off x="5003640" y="5229360"/>
            <a:ext cx="4140360" cy="110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5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6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7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1.   Co znamená, když se řekne ,“ že je něco zbytečně medializováno?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že média problém nafukuj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že vytváří mediálně virtuální realitu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2.   Zamysli se a uveď příklady ze živo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88560" y="260280"/>
            <a:ext cx="458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MASOVÁ MÉDIA A VEŘEJNÉ MÍN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0" y="765000"/>
            <a:ext cx="34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Cvičení k téma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bdélník 10"/>
          <p:cNvSpPr/>
          <p:nvPr/>
        </p:nvSpPr>
        <p:spPr>
          <a:xfrm>
            <a:off x="250920" y="1484280"/>
            <a:ext cx="576000" cy="555480"/>
          </a:xfrm>
          <a:prstGeom prst="rect">
            <a:avLst/>
          </a:prstGeom>
          <a:solidFill>
            <a:srgbClr val="99cc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bdélník 11"/>
          <p:cNvSpPr/>
          <p:nvPr/>
        </p:nvSpPr>
        <p:spPr>
          <a:xfrm>
            <a:off x="250920" y="4437000"/>
            <a:ext cx="576000" cy="555840"/>
          </a:xfrm>
          <a:prstGeom prst="rect">
            <a:avLst/>
          </a:prstGeom>
          <a:solidFill>
            <a:srgbClr val="99cc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hlasový telegraf – na doslech rozestavění muži se silným hlasem (Pers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přenos pomocí bubnů, píšťal ( Čí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kouřové signály – obléhání Tró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vlajková signalizace – především loď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optický telegra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elektrický telegra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1837 – S.F.B.Morse – patent elektromagnetického telegrafu(kombinace teček a čárek, které vytváří abecedu a číslice), rychlé budování telegrafních sloupů v USA a následně v Evrop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1876 – A.G.Bell – patent na svůj vynález –telefon (přenos hlasu na dálku), T.A.Edison – pomohl s vylepšením mikrofo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17.květen- Mezinárodní den komunikací(1865 podepsána první mezinárodní telegrafní úmluva), slaví se od roku 19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5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6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7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88560" y="260280"/>
            <a:ext cx="458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MASOVÁ MÉDIA A VEŘEJNÉ MÍN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23400" y="765000"/>
            <a:ext cx="53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Historie přenosu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1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2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3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14400" y="76500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Obrázky z kníž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88560" y="260280"/>
            <a:ext cx="458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MASOVÁ MÉDIA A VEŘEJNÉ MÍN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Obrázek 7" descr="morse.JPG"/>
          <p:cNvPicPr/>
          <p:nvPr/>
        </p:nvPicPr>
        <p:blipFill>
          <a:blip r:embed="rId1"/>
          <a:stretch/>
        </p:blipFill>
        <p:spPr>
          <a:xfrm>
            <a:off x="0" y="1773360"/>
            <a:ext cx="3257640" cy="3959280"/>
          </a:xfrm>
          <a:prstGeom prst="rect">
            <a:avLst/>
          </a:prstGeom>
          <a:ln w="0">
            <a:noFill/>
          </a:ln>
        </p:spPr>
      </p:pic>
      <p:pic>
        <p:nvPicPr>
          <p:cNvPr id="184" name="Obrázek 8" descr="bell1.JPG"/>
          <p:cNvPicPr/>
          <p:nvPr/>
        </p:nvPicPr>
        <p:blipFill>
          <a:blip r:embed="rId2"/>
          <a:stretch/>
        </p:blipFill>
        <p:spPr>
          <a:xfrm>
            <a:off x="2916360" y="1484280"/>
            <a:ext cx="3203280" cy="4248360"/>
          </a:xfrm>
          <a:prstGeom prst="rect">
            <a:avLst/>
          </a:prstGeom>
          <a:ln w="0">
            <a:noFill/>
          </a:ln>
        </p:spPr>
      </p:pic>
      <p:pic>
        <p:nvPicPr>
          <p:cNvPr id="185" name="Obrázek 10" descr="edison_2.jpg"/>
          <p:cNvPicPr/>
          <p:nvPr/>
        </p:nvPicPr>
        <p:blipFill>
          <a:blip r:embed="rId3"/>
          <a:stretch/>
        </p:blipFill>
        <p:spPr>
          <a:xfrm>
            <a:off x="6129360" y="1484280"/>
            <a:ext cx="3014640" cy="3816360"/>
          </a:xfrm>
          <a:prstGeom prst="rect">
            <a:avLst/>
          </a:prstGeom>
          <a:ln w="0">
            <a:noFill/>
          </a:ln>
        </p:spPr>
      </p:pic>
      <p:sp>
        <p:nvSpPr>
          <p:cNvPr id="186" name="TextovéPole 11"/>
          <p:cNvSpPr/>
          <p:nvPr/>
        </p:nvSpPr>
        <p:spPr>
          <a:xfrm>
            <a:off x="7863120" y="5445000"/>
            <a:ext cx="128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T. A. Edi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1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2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3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88560" y="260280"/>
            <a:ext cx="458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MASOVÁ MÉDIA A VEŘEJNÉ MÍN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Obrázek 7" descr="telegraf.JPG"/>
          <p:cNvPicPr/>
          <p:nvPr/>
        </p:nvPicPr>
        <p:blipFill>
          <a:blip r:embed="rId1"/>
          <a:stretch/>
        </p:blipFill>
        <p:spPr>
          <a:xfrm>
            <a:off x="0" y="1125360"/>
            <a:ext cx="3941640" cy="5112000"/>
          </a:xfrm>
          <a:prstGeom prst="rect">
            <a:avLst/>
          </a:prstGeom>
          <a:ln w="0">
            <a:noFill/>
          </a:ln>
        </p:spPr>
      </p:pic>
      <p:pic>
        <p:nvPicPr>
          <p:cNvPr id="193" name="Obrázek 8" descr="ustredna_zizkov.JPG"/>
          <p:cNvPicPr/>
          <p:nvPr/>
        </p:nvPicPr>
        <p:blipFill>
          <a:blip r:embed="rId2"/>
          <a:stretch/>
        </p:blipFill>
        <p:spPr>
          <a:xfrm>
            <a:off x="3924360" y="1413000"/>
            <a:ext cx="5219640" cy="4059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6"/>
          <p:cNvSpPr/>
          <p:nvPr/>
        </p:nvSpPr>
        <p:spPr>
          <a:xfrm>
            <a:off x="14400" y="76500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Obrázky z kníž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1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2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3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14400" y="76500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Obrázky z kníž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88560" y="260280"/>
            <a:ext cx="458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MASOVÁ MÉDIA A VEŘEJNÉ MÍN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Obrázek 11" descr="tel1.JPG"/>
          <p:cNvPicPr/>
          <p:nvPr/>
        </p:nvPicPr>
        <p:blipFill>
          <a:blip r:embed="rId1"/>
          <a:stretch/>
        </p:blipFill>
        <p:spPr>
          <a:xfrm>
            <a:off x="0" y="1628640"/>
            <a:ext cx="2990880" cy="3602160"/>
          </a:xfrm>
          <a:prstGeom prst="rect">
            <a:avLst/>
          </a:prstGeom>
          <a:ln w="0">
            <a:noFill/>
          </a:ln>
        </p:spPr>
      </p:pic>
      <p:pic>
        <p:nvPicPr>
          <p:cNvPr id="202" name="Obrázek 12" descr="tel2.JPG"/>
          <p:cNvPicPr/>
          <p:nvPr/>
        </p:nvPicPr>
        <p:blipFill>
          <a:blip r:embed="rId2"/>
          <a:stretch/>
        </p:blipFill>
        <p:spPr>
          <a:xfrm>
            <a:off x="3419640" y="1628640"/>
            <a:ext cx="2620800" cy="3629160"/>
          </a:xfrm>
          <a:prstGeom prst="rect">
            <a:avLst/>
          </a:prstGeom>
          <a:ln w="0">
            <a:noFill/>
          </a:ln>
        </p:spPr>
      </p:pic>
      <p:pic>
        <p:nvPicPr>
          <p:cNvPr id="203" name="Obrázek 13" descr="tel3.JPG"/>
          <p:cNvPicPr/>
          <p:nvPr/>
        </p:nvPicPr>
        <p:blipFill>
          <a:blip r:embed="rId3"/>
          <a:stretch/>
        </p:blipFill>
        <p:spPr>
          <a:xfrm>
            <a:off x="6413400" y="1628640"/>
            <a:ext cx="2730600" cy="3645000"/>
          </a:xfrm>
          <a:prstGeom prst="rect">
            <a:avLst/>
          </a:prstGeom>
          <a:ln w="0">
            <a:noFill/>
          </a:ln>
        </p:spPr>
      </p:pic>
      <p:sp>
        <p:nvSpPr>
          <p:cNvPr id="204" name="TextovéPole 14"/>
          <p:cNvSpPr/>
          <p:nvPr/>
        </p:nvSpPr>
        <p:spPr>
          <a:xfrm>
            <a:off x="7560" y="4797360"/>
            <a:ext cx="205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90. léta 19. st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ovéPole 15"/>
          <p:cNvSpPr/>
          <p:nvPr/>
        </p:nvSpPr>
        <p:spPr>
          <a:xfrm>
            <a:off x="3423600" y="47973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9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ovéPole 16"/>
          <p:cNvSpPr/>
          <p:nvPr/>
        </p:nvSpPr>
        <p:spPr>
          <a:xfrm>
            <a:off x="6447600" y="47973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9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1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2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3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14400" y="76500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Obrázky z kníž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88560" y="260280"/>
            <a:ext cx="458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MASOVÁ MÉDIA A VEŘEJNÉ MÍN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Obrázek 7" descr="tel4.JPG"/>
          <p:cNvPicPr/>
          <p:nvPr/>
        </p:nvPicPr>
        <p:blipFill>
          <a:blip r:embed="rId1"/>
          <a:stretch/>
        </p:blipFill>
        <p:spPr>
          <a:xfrm>
            <a:off x="3492360" y="1484280"/>
            <a:ext cx="2556000" cy="227016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8" descr="tel5.JPG"/>
          <p:cNvPicPr/>
          <p:nvPr/>
        </p:nvPicPr>
        <p:blipFill>
          <a:blip r:embed="rId2"/>
          <a:stretch/>
        </p:blipFill>
        <p:spPr>
          <a:xfrm>
            <a:off x="0" y="1484280"/>
            <a:ext cx="2781360" cy="2305080"/>
          </a:xfrm>
          <a:prstGeom prst="rect">
            <a:avLst/>
          </a:prstGeom>
          <a:ln w="0">
            <a:noFill/>
          </a:ln>
        </p:spPr>
      </p:pic>
      <p:pic>
        <p:nvPicPr>
          <p:cNvPr id="215" name="Obrázek 9" descr="tel6.JPG"/>
          <p:cNvPicPr/>
          <p:nvPr/>
        </p:nvPicPr>
        <p:blipFill>
          <a:blip r:embed="rId3"/>
          <a:stretch/>
        </p:blipFill>
        <p:spPr>
          <a:xfrm>
            <a:off x="6622920" y="1484280"/>
            <a:ext cx="2521080" cy="2276640"/>
          </a:xfrm>
          <a:prstGeom prst="rect">
            <a:avLst/>
          </a:prstGeom>
          <a:ln w="0">
            <a:noFill/>
          </a:ln>
        </p:spPr>
      </p:pic>
      <p:pic>
        <p:nvPicPr>
          <p:cNvPr id="216" name="Obrázek 10" descr="tel7.JPG"/>
          <p:cNvPicPr/>
          <p:nvPr/>
        </p:nvPicPr>
        <p:blipFill>
          <a:blip r:embed="rId4"/>
          <a:stretch/>
        </p:blipFill>
        <p:spPr>
          <a:xfrm>
            <a:off x="0" y="3933720"/>
            <a:ext cx="2987640" cy="2230560"/>
          </a:xfrm>
          <a:prstGeom prst="rect">
            <a:avLst/>
          </a:prstGeom>
          <a:ln w="0">
            <a:noFill/>
          </a:ln>
        </p:spPr>
      </p:pic>
      <p:pic>
        <p:nvPicPr>
          <p:cNvPr id="217" name="Obrázek 11" descr="tel8.JPG"/>
          <p:cNvPicPr/>
          <p:nvPr/>
        </p:nvPicPr>
        <p:blipFill>
          <a:blip r:embed="rId5"/>
          <a:stretch/>
        </p:blipFill>
        <p:spPr>
          <a:xfrm>
            <a:off x="3492360" y="3933720"/>
            <a:ext cx="2605320" cy="2232000"/>
          </a:xfrm>
          <a:prstGeom prst="rect">
            <a:avLst/>
          </a:prstGeom>
          <a:ln w="0">
            <a:noFill/>
          </a:ln>
        </p:spPr>
      </p:pic>
      <p:sp>
        <p:nvSpPr>
          <p:cNvPr id="218" name="TextovéPole 13"/>
          <p:cNvSpPr/>
          <p:nvPr/>
        </p:nvSpPr>
        <p:spPr>
          <a:xfrm>
            <a:off x="5259240" y="33577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9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ovéPole 14"/>
          <p:cNvSpPr/>
          <p:nvPr/>
        </p:nvSpPr>
        <p:spPr>
          <a:xfrm>
            <a:off x="3960" y="33577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9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ovéPole 15"/>
          <p:cNvSpPr/>
          <p:nvPr/>
        </p:nvSpPr>
        <p:spPr>
          <a:xfrm>
            <a:off x="6592680" y="335772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958-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ovéPole 17"/>
          <p:cNvSpPr/>
          <p:nvPr/>
        </p:nvSpPr>
        <p:spPr>
          <a:xfrm>
            <a:off x="3495600" y="57326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9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ovéPole 18"/>
          <p:cNvSpPr/>
          <p:nvPr/>
        </p:nvSpPr>
        <p:spPr>
          <a:xfrm>
            <a:off x="3960" y="40053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9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Obrázek 20" descr="tel10.JPG"/>
          <p:cNvPicPr/>
          <p:nvPr/>
        </p:nvPicPr>
        <p:blipFill>
          <a:blip r:embed="rId6"/>
          <a:stretch/>
        </p:blipFill>
        <p:spPr>
          <a:xfrm>
            <a:off x="6696000" y="3933720"/>
            <a:ext cx="2448000" cy="2247840"/>
          </a:xfrm>
          <a:prstGeom prst="rect">
            <a:avLst/>
          </a:prstGeom>
          <a:ln w="0">
            <a:noFill/>
          </a:ln>
        </p:spPr>
      </p:pic>
      <p:sp>
        <p:nvSpPr>
          <p:cNvPr id="224" name="TextovéPole 21"/>
          <p:cNvSpPr/>
          <p:nvPr/>
        </p:nvSpPr>
        <p:spPr>
          <a:xfrm>
            <a:off x="6666840" y="3933720"/>
            <a:ext cx="205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80. léta 20. st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88560" y="260280"/>
            <a:ext cx="458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MASOVÁ MÉDIA A VEŘEJNÉ MÍN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20160" y="765000"/>
            <a:ext cx="415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Médium, vývoj méd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Médium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= všechno, co přenáší a zprostředkovává informa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Vývoj méd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pravěk – slovní kontakt s ostatními členy  km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starověk – písmo, obráz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novověk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poč. 17.stol. - 1. tištěné noviny ve Štrasbur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            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poč. 19.stol.  - masové rozšíření nov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           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poč. 20. stol - první pravidelně vysílající rozhlasové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stanice v USA a v Brazílii, později další rozšíření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rozhla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po 2. světové válce – rozhlas střídá televize (pravidelné vysílání začíná ve Velké Britán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konec 80. let 20 stol. – připojení domácností k internetu, celosvětově nejvíce využívaná síť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Obrázek 11" descr="tel12.jpg"/>
          <p:cNvPicPr/>
          <p:nvPr/>
        </p:nvPicPr>
        <p:blipFill>
          <a:blip r:embed="rId1"/>
          <a:stretch/>
        </p:blipFill>
        <p:spPr>
          <a:xfrm>
            <a:off x="3635280" y="1989000"/>
            <a:ext cx="4886280" cy="3384720"/>
          </a:xfrm>
          <a:prstGeom prst="rect">
            <a:avLst/>
          </a:prstGeom>
          <a:ln w="0">
            <a:noFill/>
          </a:ln>
        </p:spPr>
      </p:pic>
      <p:sp>
        <p:nvSpPr>
          <p:cNvPr id="226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1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2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3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14400" y="76500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Obrázky z kníž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88560" y="260280"/>
            <a:ext cx="458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MASOVÁ MÉDIA A VEŘEJNÉ MÍN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Obrázek 8" descr="tel11.JPG"/>
          <p:cNvPicPr/>
          <p:nvPr/>
        </p:nvPicPr>
        <p:blipFill>
          <a:blip r:embed="rId2"/>
          <a:stretch/>
        </p:blipFill>
        <p:spPr>
          <a:xfrm>
            <a:off x="0" y="1844640"/>
            <a:ext cx="3589200" cy="3529080"/>
          </a:xfrm>
          <a:prstGeom prst="rect">
            <a:avLst/>
          </a:prstGeom>
          <a:ln w="0">
            <a:noFill/>
          </a:ln>
        </p:spPr>
      </p:pic>
      <p:sp>
        <p:nvSpPr>
          <p:cNvPr id="233" name="TextovéPole 10"/>
          <p:cNvSpPr/>
          <p:nvPr/>
        </p:nvSpPr>
        <p:spPr>
          <a:xfrm>
            <a:off x="3960" y="19162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Obrázek 12" descr="tel13.jpg"/>
          <p:cNvPicPr/>
          <p:nvPr/>
        </p:nvPicPr>
        <p:blipFill>
          <a:blip r:embed="rId3"/>
          <a:stretch/>
        </p:blipFill>
        <p:spPr>
          <a:xfrm>
            <a:off x="6696000" y="1844640"/>
            <a:ext cx="2448000" cy="362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720" y="3645000"/>
            <a:ext cx="19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lit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275760" y="4290840"/>
            <a:ext cx="74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Jirásková, V.: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Občan v demokratické společnosti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Praha: SLON, 1999, ISBN 80-85850-78-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293400" y="4653000"/>
            <a:ext cx="86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alenta, M.: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Občanská nauka pro SOŠ a pro studijní obory SOU 2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Praha: SPN, 1999, ISBN 80-7235-080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293760" y="5013360"/>
            <a:ext cx="85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udák, V. a kol.: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Občanská nauka pro SOŠ a studijní obory SOU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Praha: SPN, 2003, ISBN 80-7235-233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0" y="549360"/>
            <a:ext cx="9144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Jan Králík, Od telegrafu k interne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t0.gstatic.com/images?q=tbn:9R8Ap4tYV3colM:http://airdump.cz/files/dect-telefon.jpg&amp;t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www.svet-bydleni.cz/Files/FckGallery/7_MobilniTelefon_SamsungSGH-i900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s://hhsapush.wikispaces.com/file/view/edison_2.jpg/50715851/edison_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img.radio.cz/pictures/r/media/noviny_26_08_0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i.pravda.sk/07/112/skcl/P291efe96_noviny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www.sprava-it.com/images/www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i.lidovky.cz/09/063/lngal/ANI2bfc4e_Internet_ilustracni_foto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t0.gstatic.com/images?q=tbn:D5m8pWukoKl5MM:http://nexus404.com/Blog/wp-content/uploads2/2007/10/internet-explorer-logo-with-pins.jpg&amp;t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blog.aktualne.centrum.cz/media/37/20070902-ct_redesign_loga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rtds.files.wordpress.com/2010/02/ceska-televize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www.levne-lcd-televize.cz/images/original/44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www.skandinavskydum.cz/files/obrazky/vlt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www.artsjournal.com/bookdaddy/Home_Photo_book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www.wep.sk/kamarat/obrazky/Film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www.studio-film.cz/images/film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www.masaze-kurzy.cz/images/ctk2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www.uberceo.com/storage/reuters%20logo.gif?__SQUARESPACE_CACHEVERSION=12464083550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5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-3600" y="5229360"/>
            <a:ext cx="50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zdroje použitých obráz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5f5f5f"/>
                </a:solidFill>
                <a:latin typeface="Arial"/>
              </a:rPr>
              <a:t>2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zprostředkování inform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poskytování záb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agitace - střet různých zájm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společenská kontr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média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soukrom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      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stát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88560" y="260280"/>
            <a:ext cx="458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MASOVÁ MÉDIA A VEŘEJNÉ MÍN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12960" y="765000"/>
            <a:ext cx="277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Funkce méd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9" descr="radio.jpg"/>
          <p:cNvPicPr/>
          <p:nvPr/>
        </p:nvPicPr>
        <p:blipFill>
          <a:blip r:embed="rId1"/>
          <a:stretch/>
        </p:blipFill>
        <p:spPr>
          <a:xfrm>
            <a:off x="6300720" y="836640"/>
            <a:ext cx="2303640" cy="1528560"/>
          </a:xfrm>
          <a:prstGeom prst="rect">
            <a:avLst/>
          </a:prstGeom>
          <a:ln w="0">
            <a:noFill/>
          </a:ln>
        </p:spPr>
      </p:pic>
      <p:pic>
        <p:nvPicPr>
          <p:cNvPr id="66" name="Obrázek 10" descr="televize.jpg"/>
          <p:cNvPicPr/>
          <p:nvPr/>
        </p:nvPicPr>
        <p:blipFill>
          <a:blip r:embed="rId2"/>
          <a:stretch/>
        </p:blipFill>
        <p:spPr>
          <a:xfrm>
            <a:off x="6516720" y="4724280"/>
            <a:ext cx="1942920" cy="1363680"/>
          </a:xfrm>
          <a:prstGeom prst="rect">
            <a:avLst/>
          </a:prstGeom>
          <a:ln w="0">
            <a:noFill/>
          </a:ln>
        </p:spPr>
      </p:pic>
      <p:pic>
        <p:nvPicPr>
          <p:cNvPr id="67" name="Obrázek 11" descr="www.jpg"/>
          <p:cNvPicPr/>
          <p:nvPr/>
        </p:nvPicPr>
        <p:blipFill>
          <a:blip r:embed="rId3"/>
          <a:stretch/>
        </p:blipFill>
        <p:spPr>
          <a:xfrm>
            <a:off x="6516720" y="2565360"/>
            <a:ext cx="1942920" cy="185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2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3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4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média jsou taková, jaká je společ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média jsou odrazem dějin společ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média jsou nezastupitelná ve společ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média reagují na domácí společenskou, politickou a kulturní scé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média reagují na události ve svě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média se musí snažit o odpovědnost, pravdivost, vyváženost, sluš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88560" y="260280"/>
            <a:ext cx="458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MASOVÁ MÉDIA A VEŘEJNÉ MÍN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16920" y="765000"/>
            <a:ext cx="39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Média a společ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3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4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5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sdělovací systémy a prostředky umožňující předávat zprávy velkým, anonymním a různorodým skupin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umožňují masovou komunika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88560" y="260280"/>
            <a:ext cx="458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MASOVÁ MÉDIA A VEŘEJNÉ MÍN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14040" y="765000"/>
            <a:ext cx="29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Masová mé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8" descr="film1.jpg"/>
          <p:cNvPicPr/>
          <p:nvPr/>
        </p:nvPicPr>
        <p:blipFill>
          <a:blip r:embed="rId1"/>
          <a:stretch/>
        </p:blipFill>
        <p:spPr>
          <a:xfrm>
            <a:off x="539640" y="3429000"/>
            <a:ext cx="1994040" cy="249228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10" descr="noviny2.jpg"/>
          <p:cNvPicPr/>
          <p:nvPr/>
        </p:nvPicPr>
        <p:blipFill>
          <a:blip r:embed="rId2"/>
          <a:stretch/>
        </p:blipFill>
        <p:spPr>
          <a:xfrm>
            <a:off x="2843280" y="3429000"/>
            <a:ext cx="3313080" cy="24843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11" descr="knihy.jpg"/>
          <p:cNvPicPr/>
          <p:nvPr/>
        </p:nvPicPr>
        <p:blipFill>
          <a:blip r:embed="rId3"/>
          <a:stretch/>
        </p:blipFill>
        <p:spPr>
          <a:xfrm>
            <a:off x="6516720" y="3429000"/>
            <a:ext cx="215892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9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0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1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cc00"/>
                </a:solidFill>
                <a:latin typeface="Arial"/>
              </a:rPr>
              <a:t>vyznačuje se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jednosměrností, velkým rozsahem, asymetrií, neosobností, anonymitou, účelov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88560" y="260280"/>
            <a:ext cx="458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MASOVÁ MÉDIA A VEŘEJNÉ MÍN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26640" y="765000"/>
            <a:ext cx="561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Proces masové komunik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ovéPole 9"/>
          <p:cNvSpPr/>
          <p:nvPr/>
        </p:nvSpPr>
        <p:spPr>
          <a:xfrm>
            <a:off x="332640" y="33577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muniká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ovéPole 10"/>
          <p:cNvSpPr/>
          <p:nvPr/>
        </p:nvSpPr>
        <p:spPr>
          <a:xfrm>
            <a:off x="3431160" y="3357720"/>
            <a:ext cx="22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munikační kan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ovéPole 11"/>
          <p:cNvSpPr/>
          <p:nvPr/>
        </p:nvSpPr>
        <p:spPr>
          <a:xfrm>
            <a:off x="7316640" y="33577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munik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12"/>
          <p:cNvSpPr/>
          <p:nvPr/>
        </p:nvSpPr>
        <p:spPr>
          <a:xfrm>
            <a:off x="7104240" y="414972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říjemce sděl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ovéPole 13"/>
          <p:cNvSpPr/>
          <p:nvPr/>
        </p:nvSpPr>
        <p:spPr>
          <a:xfrm>
            <a:off x="191880" y="4149720"/>
            <a:ext cx="18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ůvodce sděl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(řečník, pisat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ovéPole 14"/>
          <p:cNvSpPr/>
          <p:nvPr/>
        </p:nvSpPr>
        <p:spPr>
          <a:xfrm>
            <a:off x="3645360" y="414972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typ mas. mé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15"/>
          <p:cNvSpPr/>
          <p:nvPr/>
        </p:nvSpPr>
        <p:spPr>
          <a:xfrm>
            <a:off x="2202120" y="30686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děl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16"/>
          <p:cNvSpPr/>
          <p:nvPr/>
        </p:nvSpPr>
        <p:spPr>
          <a:xfrm>
            <a:off x="5947200" y="30686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děl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250920" y="3213000"/>
            <a:ext cx="1728720" cy="720720"/>
          </a:xfrm>
          <a:prstGeom prst="rect">
            <a:avLst/>
          </a:prstGeom>
          <a:noFill/>
          <a:ln w="50760">
            <a:solidFill>
              <a:srgbClr val="99cc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3348000" y="3213000"/>
            <a:ext cx="2303640" cy="720720"/>
          </a:xfrm>
          <a:prstGeom prst="rect">
            <a:avLst/>
          </a:prstGeom>
          <a:noFill/>
          <a:ln w="50760">
            <a:solidFill>
              <a:srgbClr val="99cc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bdélník 19"/>
          <p:cNvSpPr/>
          <p:nvPr/>
        </p:nvSpPr>
        <p:spPr>
          <a:xfrm>
            <a:off x="7164360" y="3213000"/>
            <a:ext cx="1728720" cy="720720"/>
          </a:xfrm>
          <a:prstGeom prst="rect">
            <a:avLst/>
          </a:prstGeom>
          <a:noFill/>
          <a:ln w="50760">
            <a:solidFill>
              <a:srgbClr val="99cc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Přímá spojovací šipka 23"/>
          <p:cNvCxnSpPr/>
          <p:nvPr/>
        </p:nvCxnSpPr>
        <p:spPr>
          <a:xfrm>
            <a:off x="2195640" y="3573000"/>
            <a:ext cx="1008720" cy="2520"/>
          </a:xfrm>
          <a:prstGeom prst="straightConnector1">
            <a:avLst/>
          </a:prstGeom>
          <a:ln w="50760">
            <a:solidFill>
              <a:srgbClr val="99cc00">
                <a:alpha val="60000"/>
              </a:srgbClr>
            </a:solidFill>
            <a:miter/>
            <a:tailEnd len="med" type="arrow" w="med"/>
          </a:ln>
        </p:spPr>
      </p:cxnSp>
      <p:cxnSp>
        <p:nvCxnSpPr>
          <p:cNvPr id="104" name="Přímá spojovací šipka 24"/>
          <p:cNvCxnSpPr/>
          <p:nvPr/>
        </p:nvCxnSpPr>
        <p:spPr>
          <a:xfrm>
            <a:off x="5866920" y="3573000"/>
            <a:ext cx="1008720" cy="2520"/>
          </a:xfrm>
          <a:prstGeom prst="straightConnector1">
            <a:avLst/>
          </a:prstGeom>
          <a:ln w="50760">
            <a:solidFill>
              <a:srgbClr val="99cc00">
                <a:alpha val="60000"/>
              </a:srgbClr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8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9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0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informovat občany o tom, co se děje a působit na veřejné mín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rozpoznat a vybrat inform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sděl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ovliv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2.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  kritizovat - ve smyslu posoudit a hodnot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88560" y="260280"/>
            <a:ext cx="458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MASOVÁ MÉDIA A VEŘEJNÉ MÍN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21600" y="765000"/>
            <a:ext cx="45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Úkoly masových méd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5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6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7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globální (intern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celostátní (televiz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lokální (rádio, kabelová televiz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cc00"/>
                </a:solidFill>
                <a:latin typeface="Arial"/>
              </a:rPr>
              <a:t>Druhy méd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tištěná média - knihy, letáky, bulletiny, denní tisk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časopi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elektrotechnická média - rozhlas, televiz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filmy, filmové dokumenty, hudební nahráv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elektronická média -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88560" y="260280"/>
            <a:ext cx="458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MASOVÁ MÉDIA A VEŘEJNÉ MÍN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5480" y="765000"/>
            <a:ext cx="358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Mediální instit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Obrázek 8" descr="ceska-televize.jpg"/>
          <p:cNvPicPr/>
          <p:nvPr/>
        </p:nvPicPr>
        <p:blipFill>
          <a:blip r:embed="rId1"/>
          <a:stretch/>
        </p:blipFill>
        <p:spPr>
          <a:xfrm>
            <a:off x="6948360" y="981000"/>
            <a:ext cx="2195640" cy="1646280"/>
          </a:xfrm>
          <a:prstGeom prst="rect">
            <a:avLst/>
          </a:prstGeom>
          <a:ln w="0">
            <a:noFill/>
          </a:ln>
        </p:spPr>
      </p:pic>
      <p:pic>
        <p:nvPicPr>
          <p:cNvPr id="120" name="Obrázek 10" descr="Film2.jpg"/>
          <p:cNvPicPr/>
          <p:nvPr/>
        </p:nvPicPr>
        <p:blipFill>
          <a:blip r:embed="rId2"/>
          <a:stretch/>
        </p:blipFill>
        <p:spPr>
          <a:xfrm>
            <a:off x="6935760" y="2852640"/>
            <a:ext cx="2208240" cy="1656000"/>
          </a:xfrm>
          <a:prstGeom prst="rect">
            <a:avLst/>
          </a:prstGeom>
          <a:ln w="0">
            <a:noFill/>
          </a:ln>
        </p:spPr>
      </p:pic>
      <p:pic>
        <p:nvPicPr>
          <p:cNvPr id="121" name="Obrázek 11" descr="Internet_ilustracni_foto.jpg"/>
          <p:cNvPicPr/>
          <p:nvPr/>
        </p:nvPicPr>
        <p:blipFill>
          <a:blip r:embed="rId3"/>
          <a:stretch/>
        </p:blipFill>
        <p:spPr>
          <a:xfrm>
            <a:off x="6948360" y="4653000"/>
            <a:ext cx="2195640" cy="14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2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3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Při častém sledování televiz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se cítím jako ve snu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mám pocit, že mi vysává energii a vymývá mozek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televize je návyková droga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televize činí z lidí tupany, z mozku kaši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cítím, že mě televize hypnotizuj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přidej sám další, jistě to nebude pro tebe probl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88560" y="260280"/>
            <a:ext cx="458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MASOVÁ MÉDIA A VEŘEJNÉ MÍN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0" y="765000"/>
            <a:ext cx="34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Cvičení k téma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bdélník 8"/>
          <p:cNvSpPr/>
          <p:nvPr/>
        </p:nvSpPr>
        <p:spPr>
          <a:xfrm>
            <a:off x="250920" y="1484280"/>
            <a:ext cx="576000" cy="555480"/>
          </a:xfrm>
          <a:prstGeom prst="rect">
            <a:avLst/>
          </a:prstGeom>
          <a:solidFill>
            <a:srgbClr val="99cc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bdélník 10"/>
          <p:cNvSpPr/>
          <p:nvPr/>
        </p:nvSpPr>
        <p:spPr>
          <a:xfrm>
            <a:off x="250920" y="4724280"/>
            <a:ext cx="576000" cy="555840"/>
          </a:xfrm>
          <a:prstGeom prst="rect">
            <a:avLst/>
          </a:prstGeom>
          <a:solidFill>
            <a:srgbClr val="99cc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Kubik</cp:lastModifiedBy>
  <dcterms:modified xsi:type="dcterms:W3CDTF">2010-09-07T14:19:26Z</dcterms:modified>
  <cp:revision>421</cp:revision>
  <dc:subject/>
  <dc:title>POSLOUPNOSTI</dc:title>
</cp:coreProperties>
</file>