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B0F-853E-4043-B554-EE9C10B9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4D8-CDAA-4E6B-BD51-337A7407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B4E-31BD-4124-90CD-0AFB0D60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10C-928F-465C-8020-13BE5C0C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883-5B6C-4279-8E7E-2F52C1AF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7D0-00F4-4EEB-A674-01D558EC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84A-E652-4F28-86D2-E4306162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F77-09B7-4FE9-AEA3-6EAAF7A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332-DB17-48AB-AD09-962A9564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8B5-8DDC-4F32-AA68-0C7359FE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8A7-6425-43C9-8539-29C3558E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779-B3AE-401D-894C-EEBF99C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082B-968C-4E56-9047-A647D764B0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C9DE-3E37-4466-BC0E-6FC59495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estasveta.cz/img/viden-img/osn-1-xl.jpg" TargetMode="External"/><Relationship Id="rId2" Type="http://schemas.openxmlformats.org/officeDocument/2006/relationships/hyperlink" Target="http://www.osn.cz/_img/up/5c95e465b2afc46889fe47828bbe523f.jpg" TargetMode="External"/><Relationship Id="rId3" Type="http://schemas.openxmlformats.org/officeDocument/2006/relationships/hyperlink" Target="http://poznanie.files.wordpress.com/2009/04/osn.jpg" TargetMode="External"/><Relationship Id="rId4" Type="http://schemas.openxmlformats.org/officeDocument/2006/relationships/hyperlink" Target="http://www.kromeriz.cz/images/foto_07_02/osn.jpg" TargetMode="External"/><Relationship Id="rId5" Type="http://schemas.openxmlformats.org/officeDocument/2006/relationships/hyperlink" Target="http://upload.wikimedia.org/wikipedia/commons/thumb/f/fb/International_Court_of_Justice.jpg/335px-International_Court_of_Justice.jpg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36160" y="44370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POLI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" y="5084640"/>
            <a:ext cx="91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2286000" cy="151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00720" y="2565360"/>
            <a:ext cx="2166840" cy="1625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2637000"/>
            <a:ext cx="1835280" cy="154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Ukázka – Válka v Perském záli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4320" y="765000"/>
            <a:ext cx="73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SN – Organizace spojených nár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39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Valné shromážd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ídlo v New Y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leny jsou všechny členské ze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i hlasování má každý stát jeden hlas a řídí se instrukcemi své vlá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snesení mají doporučující, právně nezávazný 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chvaluje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jmenuje generálního tajemníka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olí nestálé členy Rady bezp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5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rgány O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Rada bezp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ýkonný orgán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ídlí v New Y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má 15 členů, z toho 5 stálých (Čína, Francie,Velká Británie,Rusko,USA) a 10 volených na dva roky (ČR v roce 1994-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tálý členové mají právo V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má hlavní zodpovědnost za dodržování mez.míru a bezp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ijímá závazné rezoluce a rozhodnutí, řeší konfli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5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rgány O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Hospodářská a sociální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tvoří ji 54 členů na tři roky, každý rok se obměňuje 1/3 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kompetence v otázkách hospodářských, sociálních, kulturních, pomoc rozvojovým zem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polupracuje s Mezinárodním měnovým fondem a Světovou bank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5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rgány O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Mezinárodní soudní dvů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 soudní orgán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ložen z 15 soudců volených Radou bezpečnosti a Valným shromážděním na 9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í mezinárodně-právní spory, ne politické konflik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nutí jsou záva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ř.: válečné zločiny, zločiny proti lidskosti (bývalá Jugoslávie, Rwan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39040" y="1773360"/>
            <a:ext cx="260496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765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rgány O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6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50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5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9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6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50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5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69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616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5052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Sekretari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štáb v čele s Generálním tajemníkem, který je jmenován Valným shromážděním na 5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pozorňuje Radu bezpečnosti na ohrožování míru a bezp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lní úkoly svěřené Valným shromážd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Generální tajemník OSN - vrcholný reprezentant při polit. a diplomatických jednáních, od roku 2007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BAN KI-MOON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393939"/>
                </a:solidFill>
                <a:latin typeface="Arial"/>
              </a:rPr>
              <a:t>(čti pan ki-m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5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rgány O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Poručenská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dohled nad správou ú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mocné orgány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WHO - svět.zdravot.organ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WTO - mez.obchodní 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FAO - org. pro zeměd. a výži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NESCO - org.pro výchovu,vědu a kult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NICEF - dětský fond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5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rgány O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08800" y="2421000"/>
            <a:ext cx="3535200" cy="2651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ojensko-politická organizace evropských a severoamerických stá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polečenství států, jehož cílem je obrana a bezpečnost členů v souladu s Chartou OSN, v případě nutnosti může použít ozbrojené s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znikla 4.dubna 1949 ve Washingtonu jako obrana proti hrozbě východního bloku,12 zakládajících států (dnes 27 stát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álé sídlo v Brus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stup ČR do NATO -12.března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odílí se na voj. operacích schválených či organizovaných Radou bezpečnosti OSN (př. –zásah proti Iráku ve válce v Perském zálivu v roce 1991, nepokoje v Kosovu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2160" y="765000"/>
            <a:ext cx="65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ATO – Severoatlantická a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ada 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rcholný orgán na úrovni ministrů zahrani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nejvyšší rozhodovací orgán,zasedá 2 x roč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Výbor pro plánování obr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rcholný orgán na úrovni ministrů ob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obranná politika a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zvláštní skupinu tvoří Výbor pro jaderné plán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1080" y="765000"/>
            <a:ext cx="28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rgány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Generální tajemník 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Vojenský vý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tvořen náčelníky generálních štábů členských stá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členové NATO jsou vázáni k vzájemné ochraně systémem kolektivní ob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1080" y="765000"/>
            <a:ext cx="28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rgány N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800" y="76500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Mezinárodní vzta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ČR vystupuje v zahraničí jako samostatný a rovnocenný partner dalších stá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ospodářství, obchod, věda, kultura i sport ČR je pevně svázán s okolními zem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dkudkoliv se do ČR dovoláte (předčíslí 00420) nebo napíšete elektronickou adresu (končící „.cz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ahraniční politika státu se snaží o spolupráci, uzavírání dohod a spojenectví (co nejpříznivější podmín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mezinárodní organizace, která sdružuje evropské státy a jejím cílem je politická a hospodářská integrace členských stá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istorie sjednocení Ev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věten 1948 - Evropský kongres v Ha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žadavek sjednocení Evropy v ek. a polit. u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aložena na principech parlamentní demokracie a úctě k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5.května 1949 - vzniká Rada Ev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Rada Ev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současné době sdružuje většinu evropských zemí (ČSSR od 1991,ČR od 19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ídlí ve Štrasbu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úkoly : chránit demokracii a lidská práva v Evropě, prosazování myšlenek svobody, podpora hosp.,sociálního,kulturního a vědeckého rozvoje v evrop. zem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l. orgány: - </a:t>
            </a:r>
            <a:r>
              <a:rPr b="1" lang="cs-CZ" sz="2000" spc="-1" strike="noStrike">
                <a:solidFill>
                  <a:srgbClr val="393939"/>
                </a:solidFill>
                <a:latin typeface="Arial"/>
              </a:rPr>
              <a:t>Výbor ministrů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–ministři zahraničních věcí členských států, rozhoduje o činnosti Rady Evropy, schvaluje program a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93939"/>
                </a:solidFill>
                <a:latin typeface="Arial"/>
              </a:rPr>
              <a:t>Parlamentní shromáždění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 představitelé národních parlam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93939"/>
                </a:solidFill>
                <a:latin typeface="Arial"/>
              </a:rPr>
              <a:t>Evropský soud pro LP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 řeší stížnosti na nedodržování LP, sídlí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  ve Štrasburku, 40 soud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1952 - Evropské společenství uhlí a oceli (ES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1958 - Evropské hospodářské společenství (E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1958 - Evropské společenství pro atomovou energii (EUROA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na základě těchto 3 ekonomických organizací vzniká Evropské společenství v roce 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1993 - Maastricht - smlouva o prohloubení integrace s vznik EVROPSKÉ 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Hlavní orgány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Evropská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Evropský par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Evropská k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ada EU (Rada ministr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Evropský soudní dvů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Evropský účetní dvů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ropská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 rozhodující orgán, schvaluje legislativní 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tvoří ji předsedové vlád nebo hlavy států a předseda Evropské k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chází se 2x roč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e o nejdůležitějších záležitostech fungování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nemá stálé sídlo, schází se v zemi, která předsedá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ropský par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nejvyšší zákonodárný orgán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oslanci jsou voleni na dobu 5 let v evropských volbách (poslední v roce 2009), zastupují evropské politické strany a hnutí(př. Křesťanští demokraté, evropští socialisté, zelení,liberálové,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zasedá ve Štrasburku a v Brus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chvaluje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chvaluje složení Evropské k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může vetovat návrhy na přijetí nových 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oučasný počet poslanců  </a:t>
            </a: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751 (ČR- 22 poslanc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3059280" cy="20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Evropská k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jvyšší orgán výkonné moci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kládá se z komisařů pro jednotlivé oblasti působení EU, v čele stojí předseda k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ídlí v Bruselu, schází se 1x týd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dřízena Evropskému par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 současné době je předsedou  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José Manuel Barroso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(od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19800" y="2852640"/>
            <a:ext cx="2824200" cy="3384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300720" y="836640"/>
            <a:ext cx="2843280" cy="18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Rada EU (Rada minist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lavní rozhodovací orgán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a úrovni příslušných resortních minist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ídlí v Lucemburku, Brus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adě předsedá ministr země, která právě vede celou EU (předsednictví ČR-1.pol.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ropský soudní dvů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nejvyšší soudní orgán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ídlo v Lucembu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ozhoduje o porušení evropského práva, o platnosti právních norem EU, o žalobách vůči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ropský účetní dvů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ovádí finanční kontrolu činnosti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ídlo v Lucembu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65000"/>
            <a:ext cx="39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U – Evropská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1993 - podpis dohody o přidružení k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(platná od roku 19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1996 - podaná oficiální přihláška vládou ČR ke vstupu do EU, počátek jed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2002 - uzavřena jednání a ČR dostala oficiální pozvání ke vstupu do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červen 2003 - referendum o vstupu ČR do EU (první celostátní referend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1.května 2004 - vstup ČR do EU (rovnoprávné postavení mezi evropsky a ekonomicky rozvinutými, demokratickými stá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3960" y="765000"/>
            <a:ext cx="76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ostupné kroky začleňování ČR do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ztahy na základě </a:t>
            </a:r>
            <a:r>
              <a:rPr b="1" lang="en-US" sz="2000" spc="-1" strike="noStrike">
                <a:solidFill>
                  <a:srgbClr val="393939"/>
                </a:solidFill>
                <a:latin typeface="Arial"/>
              </a:rPr>
              <a:t>mezinárodních smluv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, dohod a deklar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- vztahy mezi dvěma státy -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ilater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3939"/>
                </a:solidFill>
                <a:latin typeface="Arial"/>
              </a:rPr>
              <a:t>- vztahy mezi více státy - 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multilater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3939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Arial"/>
              </a:rPr>
              <a:t>příklady - bezvízové cestování, započítání daní, uznávání diplomů, kulturní a vědecká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ztahy na základě </a:t>
            </a:r>
            <a:r>
              <a:rPr b="1" lang="en-US" sz="2000" spc="-1" strike="noStrike">
                <a:solidFill>
                  <a:srgbClr val="393939"/>
                </a:solidFill>
                <a:latin typeface="Arial"/>
              </a:rPr>
              <a:t>mezinárodních organizací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(vyšší forma spoluprá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39393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Arial"/>
              </a:rPr>
              <a:t>státy postupují část svých pravomocí společným orgánů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2520" y="765000"/>
            <a:ext cx="580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ormy mezinárodních vztah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3645000"/>
            <a:ext cx="8229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1. ekonomická 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ospodářská a měnová unie (euro, Evropská centrální ban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olný pohyb osob a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ociální politika, životn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ízová a přistěhovalecká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2. zahraniční a bezpečnostní pol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osilování bezpečnosti, zachování míru, podpora mezinárodní spolupráce, respektování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3. policejní a soudní spolu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boj proti kriminalitě, spolupráce policejních sborů a soud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polupráce v občansko-právních a trestních záležitos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360" y="76500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ilíře evropské inte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46 - W.Churchil - návrh založit Spojené státy evrops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48 - ustanovena Organizace pro evropskou hosp.spolupr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49 - ustanovena Rada Ev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9.5.1950 - R.Schuman předložil plán ek. integrace Evropy (Den Evrop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51 - ustanoveno Evropské společenství uhlí a oceli(ES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58 - ustanoveny Evropské hosp. společenství (EHS) a EURO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61 - ustanoveno Evropské sdružení volného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67 - slučovací smlouva ESUO,EHS a EUROATOM a vznik Evropského   společenství (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68 - zavedení celní unie (společný trh) v rámci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73 - dohody o volném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79 - zavedení evropského měnového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765000"/>
            <a:ext cx="76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Historie evropské integrace v pře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89 - rozpad komunistického bl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.11.1993 - platnost maastrichtské smlouvy, která prohloubila integraci a zavedla název Evropská unie (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95 - zrušení vnitřních hranic a hraničních kontrol mezi státy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99 - dovršena hosp. a měnová 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.1.2002 - národní měna nahrazena eu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2002 - reforma struktur EU (podmínky pro rozšíření EU o státy střední a východní Evropy),pozvání 10 nových států ke vstupu do EU (mezi nimi i 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765000"/>
            <a:ext cx="76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Historie evropské integrace v pře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1949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1967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1993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1995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2002 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2004 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1557360"/>
            <a:ext cx="215640" cy="21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1557360"/>
            <a:ext cx="215640" cy="21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1949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zavedení e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1967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Rada Ev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1993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zrušení hr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1995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vznik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2002 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vstup ČR do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2004           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vznik Evropského společ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5760" y="4290840"/>
            <a:ext cx="74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rásková, V.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aha: SLON, 1999, ISBN 80-85850-78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4480" y="4653000"/>
            <a:ext cx="85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enta, M.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549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stasveta.cz/img/viden-img/osn-1-x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n.cz/_img/up/5c95e465b2afc46889fe47828bbe523f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oznanie.files.wordpress.com/2009/04/os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romeriz.cz/images/foto_07_02/os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upload.wikimedia.org/wikipedia/commons/thumb/f/fb/International_Court_of_Justice.jpg/335px-International_Court_of_Justic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uroskop.cz/gallery/46/13953-evropsky_parlamen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rosscountry09.files.wordpress.com/2009/04/nato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vobodnyprostor.files.wordpress.com/2009/03/nato-flag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reebit.cz/wp-content/uploads/2009/12/Brusel_01_big-12030235385934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joyfrance.com/images/stories/france/political/Jose-Manuel-Barroso-suppor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3600" y="522936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zdroje použitých obráz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f5f5f"/>
                </a:solidFill>
                <a:latin typeface="Arial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vlá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nevlá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specializované - pro jednotlivé 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obec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regionální –části svě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glob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880" y="76500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ělení mezinárodních organiz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O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Visegrádské čtyřky (Polsko, Maďarsko, Sloven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Arial"/>
              </a:rPr>
              <a:t>Rada Ev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6120" y="765000"/>
            <a:ext cx="86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ČR je součástí těchto důležitých organizac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3313440" cy="2876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nejznámější a celosvětově nejvíce uznávaná mezinárodní organizace vybavená pravomocemi a účinnými prostředky k zajištění svět.míru a bezp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lavním posláním je udržování svět. míru, rozvíjení přátelských vztahů mezi národy, řešení problémů hospodářského, sociálního,kulturního a humanitárního 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320" y="765000"/>
            <a:ext cx="73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SN – Organizace spojených nár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19840" y="4221000"/>
            <a:ext cx="2324160" cy="196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Základní princip fungování O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uverénní rovnost členských států bez ohledu na svou rozlohu, počet obyvatel, ekonomickou rozvinutost, vojensk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každý stát má jeden hlas a musí respektovat ostatní stá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oruší-li stát zásady Charty OSN, může být vylouč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ýdaje OSN se hradí z rozpočtu (prostředky se získávají z příspěvků čl. států, které jsou závislé na hospodářské vyspěl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očet členských států -     </a:t>
            </a:r>
            <a:r>
              <a:rPr b="1" lang="en-US" sz="2000" spc="-1" strike="noStrike">
                <a:solidFill>
                  <a:srgbClr val="393939"/>
                </a:solidFill>
                <a:latin typeface="Arial"/>
              </a:rPr>
              <a:t>192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(Vatikán, Švýcarsko – nejsou čle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4320" y="765000"/>
            <a:ext cx="73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SN – Organizace spojených nár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Historický vývoj vzniku O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ředchůdce OSN - </a:t>
            </a: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Společnost národů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znikla 28.dubna 1919 v Paříži - nepodařilo se jí zabránit II. světové vá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26.června 1945 - San Francisko - podepsána Charta OSN –zakládací dok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24.října 1945-vznik OSN - sídlo v New Yorku (další působiště - Ženeva, Víde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19.ledna 1993-vstup ČR do OSN (jako 179. řádný člen O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4320" y="765000"/>
            <a:ext cx="73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SN – Organizace spojených nár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3" descr=""/>
          <p:cNvPicPr/>
          <p:nvPr/>
        </p:nvPicPr>
        <p:blipFill>
          <a:blip r:embed="rId2"/>
          <a:stretch/>
        </p:blipFill>
        <p:spPr>
          <a:xfrm>
            <a:off x="7107120" y="1413000"/>
            <a:ext cx="2036880" cy="25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6028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MEZINÁRODNÍ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onucovací prostředky O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hospodářské nebo diplomatické sa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(zákaz dovozu a vývozu zboží,přerušení diplomatických sty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ojenské sankce (ozbrojený zása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vysílání mírových jednotek OSN do oblastí konfli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4320" y="765000"/>
            <a:ext cx="73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SN – Organizace spojených nár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04-25T17:24:14Z</dcterms:modified>
  <cp:revision>258</cp:revision>
  <dc:subject/>
  <dc:title>POSLOUPNOSTI</dc:title>
</cp:coreProperties>
</file>