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9D1-146F-4C7B-ADB4-35A26DB6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A74-A911-4DC2-A0A7-D1E97E3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0BC-956E-4913-9743-9A87F513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5A3-EDE0-4310-995E-A3730943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D17-8951-4B41-A7BB-54085FC7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C46-ED27-4698-8E28-E1188765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B30-3538-480A-AD75-CC0C4F4B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779-1921-4C06-B0B7-E2284BCD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FF8-A458-4AFC-803B-1698DD8B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F1C-78FD-44EE-B3C6-E4D8F667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88C-E2CF-4784-9BF8-2C574D33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18F-0738-4604-8592-F787D98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2923-0C7E-40AC-8EFF-02F2DCAAE1B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CB1B-4612-4809-9A87-E4752BF99BE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0"/>
          <p:cNvSpPr/>
          <p:nvPr/>
        </p:nvSpPr>
        <p:spPr>
          <a:xfrm>
            <a:off x="6536160" y="44370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f5f5f"/>
                </a:solidFill>
                <a:latin typeface="Arial"/>
              </a:rPr>
              <a:t>POLIT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19800" y="508464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0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1" descr="1252669012_F200903250163001"/>
          <p:cNvPicPr/>
          <p:nvPr/>
        </p:nvPicPr>
        <p:blipFill>
          <a:blip r:embed="rId2"/>
          <a:stretch/>
        </p:blipFill>
        <p:spPr>
          <a:xfrm>
            <a:off x="0" y="2655720"/>
            <a:ext cx="284328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SPolecnost___Verejna_sprava___Justice___Ilustrativni___Legislativa___Ustava_CR___1___maly"/>
          <p:cNvPicPr/>
          <p:nvPr/>
        </p:nvPicPr>
        <p:blipFill>
          <a:blip r:embed="rId3"/>
          <a:stretch/>
        </p:blipFill>
        <p:spPr>
          <a:xfrm>
            <a:off x="3059280" y="2637000"/>
            <a:ext cx="1519200" cy="201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soud"/>
          <p:cNvPicPr/>
          <p:nvPr/>
        </p:nvPicPr>
        <p:blipFill>
          <a:blip r:embed="rId4"/>
          <a:stretch/>
        </p:blipFill>
        <p:spPr>
          <a:xfrm>
            <a:off x="4788000" y="2637000"/>
            <a:ext cx="179712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oc zákonodárná (legisla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konává ji dvoukomorový par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horní komora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en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dolní komora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oslanecká sněmo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ktivní a pasivní volební 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enátoři jsou voleni na základě většinového volebního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slanci jsou voleni na základě zásady poměrného zastoup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chůze obou komor jsou veřej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080" y="7650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Hlav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oc výkonná (exeku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jvyššími orgány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rezident - hlava st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láda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ředs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místopředs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                   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minist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láda je odpovědná Poslanecké sněmovně, pokud jí vysloví nedůvěru, musí podat dem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080" y="76500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Hlav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oc soudní (jurisdik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 vykonávána nezávislými so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oudci jsou jmenováni preziden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epubl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oustava soudů - Nejvyšší soud, Nejvyš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právní soud, Vrchní soud, krajské a okresní so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Ústavní s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080" y="765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Hlav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8" descr="ustav_soud"/>
          <p:cNvPicPr/>
          <p:nvPr/>
        </p:nvPicPr>
        <p:blipFill>
          <a:blip r:embed="rId1"/>
          <a:stretch/>
        </p:blipFill>
        <p:spPr>
          <a:xfrm>
            <a:off x="5219640" y="98100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1"/>
          <p:cNvSpPr/>
          <p:nvPr/>
        </p:nvSpPr>
        <p:spPr>
          <a:xfrm>
            <a:off x="7243920" y="407664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Ústavní soud v Brn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Nejvyšší kontrolní úř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ontroluje hospodaření se státním majet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lnění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má pravomoc trestat, pouze oznamovat chy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 čele je prezident NKÚ, který je jmenován prezid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1080" y="7650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Hlava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1247051842_200907080204_EEE_1"/>
          <p:cNvPicPr/>
          <p:nvPr/>
        </p:nvPicPr>
        <p:blipFill>
          <a:blip r:embed="rId1"/>
          <a:stretch/>
        </p:blipFill>
        <p:spPr>
          <a:xfrm>
            <a:off x="6372360" y="1773360"/>
            <a:ext cx="277164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Česká národní b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 ústřední bankou st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hlídá stabilitu mě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konává bankovní dohled nad ostatními ban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 čele je guverné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členy bankovní rady jmenuje prez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080" y="765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Hlava 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cnb"/>
          <p:cNvPicPr/>
          <p:nvPr/>
        </p:nvPicPr>
        <p:blipFill>
          <a:blip r:embed="rId1"/>
          <a:stretch/>
        </p:blipFill>
        <p:spPr>
          <a:xfrm>
            <a:off x="6732720" y="907920"/>
            <a:ext cx="2411280" cy="1562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zlato"/>
          <p:cNvPicPr/>
          <p:nvPr/>
        </p:nvPicPr>
        <p:blipFill>
          <a:blip r:embed="rId2"/>
          <a:stretch/>
        </p:blipFill>
        <p:spPr>
          <a:xfrm>
            <a:off x="6732720" y="2565360"/>
            <a:ext cx="2411280" cy="180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tuma"/>
          <p:cNvPicPr/>
          <p:nvPr/>
        </p:nvPicPr>
        <p:blipFill>
          <a:blip r:embed="rId3"/>
          <a:stretch/>
        </p:blipFill>
        <p:spPr>
          <a:xfrm>
            <a:off x="6732720" y="4437000"/>
            <a:ext cx="2411280" cy="18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statsp_mapab"/>
          <p:cNvPicPr/>
          <p:nvPr/>
        </p:nvPicPr>
        <p:blipFill>
          <a:blip r:embed="rId1"/>
          <a:stretch/>
        </p:blipFill>
        <p:spPr>
          <a:xfrm>
            <a:off x="3780000" y="2957400"/>
            <a:ext cx="5364000" cy="33465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Územní samosprá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ČR se člení na: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ižší územně správní celky – ob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šší územně správní celky – k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celky jsou spravovány zastupitelstvem voleným na 4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080" y="76500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Hlava V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Přechodná a závěrečná ustano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oučástí Ústavy ČR - Listina základních práv a svobod (tvořena 44 člán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 6 hlav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080" y="76500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Hlava 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4000" y="1557360"/>
            <a:ext cx="8496000" cy="37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Shr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Ústava ČR spolu s Listinou základních práv a svobod tvoří základ našeho ústavního pořád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 zde vymezen způsob nabývání a organizace moci, působnost státní moci </a:t>
            </a:r>
            <a:br>
              <a:rPr sz="1800"/>
            </a:b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 postavení občana ve stá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ako základní zákon státu má mimořádné postavení, všechny ostatní zákony </a:t>
            </a:r>
            <a:br>
              <a:rPr sz="1800"/>
            </a:b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 právní předpisy s ní musí být v soula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60" y="765000"/>
            <a:ext cx="25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ÚSTAVA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76120" y="4290840"/>
            <a:ext cx="737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rásková V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LON, 1999, ISBN 80-85850-78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94840" y="4653000"/>
            <a:ext cx="87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enta Milan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pro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1999, ISBN 80-7235-08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94480" y="5013360"/>
            <a:ext cx="85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dák V. a kol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311040" y="5373720"/>
            <a:ext cx="43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Ústava České Republik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2002, ISBN 80-86344-96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60" y="765000"/>
            <a:ext cx="25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ÚSTAVA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 základním pramenem ústavního 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 nejvyšším a základním zákonem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 její změně nebo doplnění může dojít pouze na základě ústavního zák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ostatní právní normy nesmí být v rozporu s Ústav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ozpory řeší Ústavní soud se sídlem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chválena 16.12.1992 a platí od 1.1.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 rozdělena do 8 hlav a 113 člán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jí součástí je Listina základních práv a svo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dokument má dlouhodobou plat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o přijetí Ústavy a její případnou změnu se vyžaduje 3/5 většiny všech poslanců a sená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Ústava urč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charakter st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stavení obča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tátoprávní uspořá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oustavu nejvyšších státních orgá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tátní symb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ocedury navrhování a schvalování zák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ontrolu ústa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60" y="765000"/>
            <a:ext cx="25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ÚSTAVA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poradce_ustava"/>
          <p:cNvPicPr/>
          <p:nvPr/>
        </p:nvPicPr>
        <p:blipFill>
          <a:blip r:embed="rId1"/>
          <a:stretch/>
        </p:blipFill>
        <p:spPr>
          <a:xfrm>
            <a:off x="6686640" y="1557360"/>
            <a:ext cx="24573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dělíme na tři et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1. etapa - 1848 – 19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2. etapa - 1918 –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3. etapa - od 1.1.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0" y="76500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Ústavní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1848 – 19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oku 1848 se Rakousko stává absolutistickou monarch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oku 1867 - vznik Rakouska - Uherska, omezení moci panovníka demokratickými pr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latila do roku 19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720" y="765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1. e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1918 –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oku 1918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znik samostatného Československa (28.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Prozatímní ústava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(listopad 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oku 1920 - 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Únorová ústava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- platila formálně do roku 1948, fakticky skončila v roce 1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9.května 1948 - vznik lidově-demokratické ústavy, uznává český a slovenský ná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červen 1960 - 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socialistická ústava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- vedoucí úloha KSČ, přidán název státu ČSSR (Československá socialistická republ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68 - Ústavní zákon o československé fede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 roce 1989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novelizace´ústavních zák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zrušeny určité části ú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mění se název ( Česká a Slovenská federativní republika),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symboly st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20" y="765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2. e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od 1.1.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6.12.1992 - přijata Ústava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abytí platnosti se vznikem samostatné ČR a samostatné S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20" y="765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3. e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Úvodní preambule</a:t>
            </a:r>
            <a:r>
              <a:rPr b="0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93939"/>
                </a:solidFill>
                <a:latin typeface="Arial"/>
              </a:rPr>
              <a:t>- obecné principy, slavnostní prohlá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93939"/>
                </a:solidFill>
                <a:latin typeface="Arial"/>
              </a:rPr>
              <a:t>                    </a:t>
            </a:r>
            <a:r>
              <a:rPr b="0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93939"/>
                </a:solidFill>
                <a:latin typeface="Arial"/>
              </a:rPr>
              <a:t>- přihlášení se k tradici českého nár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-360" y="765000"/>
            <a:ext cx="28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Obsah Úst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Základní ustano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ČR je charakterizována jako svrchovaný,jednotný a demokratický právní st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lid vykonává státní moc prostřednictvím orgánů moci zákonodárné, výkonné a soud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litický systém je založen na volné soutěži politických st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litická rozhodnutí vychází z vůle větš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informace o státních symbol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520" y="26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ÚSTAV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080" y="7650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Hlav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Ondra</cp:lastModifiedBy>
  <dcterms:modified xsi:type="dcterms:W3CDTF">2010-04-28T19:21:03Z</dcterms:modified>
  <cp:revision>120</cp:revision>
  <dc:subject/>
  <dc:title>POSLOUPNOSTI</dc:title>
</cp:coreProperties>
</file>