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514-BC7E-4DC3-8348-5ABA8F86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465-84BA-45B8-BE55-29DAA6F8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E8F-F01B-4C9D-A3AB-2F58ED3E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439-24B1-47B6-9374-0038E3E3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FBD-BAC5-4E40-879A-691203E0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C86-C9B3-4F82-BB6A-5C5DE1B7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F5D-9289-4EA3-AD25-51C2F338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1A2-5040-4756-B547-8272C731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1DD-2506-40D0-89C5-828E951F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894-0FD4-4620-8C84-AF5A7405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5B6-78E3-4BD4-B127-7D906B25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46C-1006-4740-9DE8-FAC0B657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07CF-BF69-4D26-9673-10EAF6AA2ACD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6E4B-D51B-409F-91AD-506A2C7F77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0"/>
          <p:cNvSpPr/>
          <p:nvPr/>
        </p:nvSpPr>
        <p:spPr>
          <a:xfrm>
            <a:off x="6536160" y="44370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f5f5f"/>
                </a:solidFill>
                <a:latin typeface="Arial"/>
              </a:rPr>
              <a:t>POLIT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20520" y="508464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SYMBOLY Č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0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4" descr=""/>
          <p:cNvPicPr/>
          <p:nvPr/>
        </p:nvPicPr>
        <p:blipFill>
          <a:blip r:embed="rId2"/>
          <a:srcRect l="1181" t="0" r="0" b="0"/>
          <a:stretch/>
        </p:blipFill>
        <p:spPr>
          <a:xfrm>
            <a:off x="0" y="2643120"/>
            <a:ext cx="60246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1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2" descr="fr_skroup"/>
          <p:cNvPicPr/>
          <p:nvPr/>
        </p:nvPicPr>
        <p:blipFill>
          <a:blip r:embed="rId1"/>
          <a:stretch/>
        </p:blipFill>
        <p:spPr>
          <a:xfrm>
            <a:off x="6377040" y="1700280"/>
            <a:ext cx="2766960" cy="3921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4"/>
          <p:cNvSpPr/>
          <p:nvPr/>
        </p:nvSpPr>
        <p:spPr>
          <a:xfrm>
            <a:off x="0" y="7650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Státní hym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381600" y="2349360"/>
            <a:ext cx="56091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o rozdělení našich zemí v roce 1993 se užívá 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„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de domov můj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vým laděním je spíše písní nebojovnou, vzneše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 nostalgic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 roce 1992 se rozhořela diskuze o nové hymně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važovalo se o „Modlitbě“, která měla v porevolu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polečnosti ohromnou popular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-1800" y="76500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Neoficiální státní symb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253080" y="148428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Korunovační klenoty</a:t>
            </a: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93939"/>
                </a:solidFill>
                <a:latin typeface="Arial"/>
              </a:rPr>
              <a:t>- symbol královské 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4" descr="klenoty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39481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6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-1800" y="76500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Neoficiální státní symb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254160" y="14842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Královská kor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5060520" y="2060640"/>
            <a:ext cx="378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hotovit ji nechal Karel IV. v r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3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užitá při korunovaci 22 čes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anov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je zlatá, zdobená drahými kam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 perl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áží 2,5 kg a vysoká je 1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7" descr=""/>
          <p:cNvPicPr/>
          <p:nvPr/>
        </p:nvPicPr>
        <p:blipFill>
          <a:blip r:embed="rId2"/>
          <a:stretch/>
        </p:blipFill>
        <p:spPr>
          <a:xfrm>
            <a:off x="500040" y="2214720"/>
            <a:ext cx="418140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-1800" y="76500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Neoficiální státní symb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53440" y="14842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Královské žez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zezlo"/>
          <p:cNvPicPr/>
          <p:nvPr/>
        </p:nvPicPr>
        <p:blipFill>
          <a:blip r:embed="rId1"/>
          <a:stretch/>
        </p:blipFill>
        <p:spPr>
          <a:xfrm>
            <a:off x="5148360" y="1413000"/>
            <a:ext cx="3678120" cy="2350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3"/>
          <p:cNvSpPr/>
          <p:nvPr/>
        </p:nvSpPr>
        <p:spPr>
          <a:xfrm>
            <a:off x="521280" y="2081160"/>
            <a:ext cx="36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zlaté, 67 cm dlouhé a vážící 1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 oblasti rukojeti jsou 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253080" y="378936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Královské jabl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524160" y="4456080"/>
            <a:ext cx="437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zlaté a vážící téměř 800 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soké 2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ložené ze dvou polokoulí, završ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říž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 bohatě zdobené, vytepané postavi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6 s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8" descr="jablko"/>
          <p:cNvPicPr/>
          <p:nvPr/>
        </p:nvPicPr>
        <p:blipFill>
          <a:blip r:embed="rId2"/>
          <a:stretch/>
        </p:blipFill>
        <p:spPr>
          <a:xfrm>
            <a:off x="5148360" y="3933720"/>
            <a:ext cx="2162160" cy="22291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1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51640" y="148428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Další součást klenot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-1800" y="76500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Neoficiální státní symb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031840" y="2295360"/>
            <a:ext cx="49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- Korunovací pláš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- Korunovací kří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- Korunovací p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- Zlaté náram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- Křišťálová nádoba na svatý ol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250920" y="148428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Uložení klenot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-1800" y="76500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Neoficiální státní symb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98680" y="1989000"/>
            <a:ext cx="749916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hrad 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Karlštejn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– původní místo uchování kleno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dnes jsou uloženy v chrámu 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sv. Víta na Pražském hra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trezor má 7 zámků a klíče od nich vlastní: prezident, předseda vlád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rcibiskup pražský, předseda PS, předseda Senátu, děkan Metropoli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apituly, primátor hl. města Pr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stavují se nepravidelně, pouze na území hr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hodnota nevyčíslitelná (historická hodnota, symbol české státno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8" descr=""/>
          <p:cNvPicPr/>
          <p:nvPr/>
        </p:nvPicPr>
        <p:blipFill>
          <a:blip r:embed="rId1"/>
          <a:stretch/>
        </p:blipFill>
        <p:spPr>
          <a:xfrm>
            <a:off x="371520" y="4429080"/>
            <a:ext cx="827244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53080" y="14842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Er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-1800" y="76500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Neoficiální státní symb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erby"/>
          <p:cNvPicPr/>
          <p:nvPr/>
        </p:nvPicPr>
        <p:blipFill>
          <a:blip r:embed="rId1"/>
          <a:stretch/>
        </p:blipFill>
        <p:spPr>
          <a:xfrm>
            <a:off x="3059280" y="1413000"/>
            <a:ext cx="5867280" cy="47768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2"/>
          <p:cNvSpPr/>
          <p:nvPr/>
        </p:nvSpPr>
        <p:spPr>
          <a:xfrm>
            <a:off x="234360" y="2492280"/>
            <a:ext cx="25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ymboly šlechtick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herald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0" descr=""/>
          <p:cNvPicPr/>
          <p:nvPr/>
        </p:nvPicPr>
        <p:blipFill>
          <a:blip r:embed="rId1"/>
          <a:stretch/>
        </p:blipFill>
        <p:spPr>
          <a:xfrm>
            <a:off x="0" y="785880"/>
            <a:ext cx="9156600" cy="5429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1080" y="76500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ymboly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720" y="1484280"/>
            <a:ext cx="3381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Evropská hym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Evropská vlaj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Den Ev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Heslo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Společná měna -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360" y="76500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Evropská hym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3065760" y="1517760"/>
            <a:ext cx="5936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není hymnou pouze EU, ale celé Ev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její melodie pochází z Deváté symfonie od Ludwiga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Beethovena; „Óda na radost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řijata v roce 1985 a jako evropská hymna se po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beze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yjadřuje ideál svobody, míru a solid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7" descr=""/>
          <p:cNvPicPr/>
          <p:nvPr/>
        </p:nvPicPr>
        <p:blipFill>
          <a:blip r:embed="rId1"/>
          <a:srcRect l="1208" t="0" r="0" b="0"/>
          <a:stretch/>
        </p:blipFill>
        <p:spPr>
          <a:xfrm>
            <a:off x="0" y="1357200"/>
            <a:ext cx="270972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60" y="765000"/>
            <a:ext cx="32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Evropská vlaj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eu-flag"/>
          <p:cNvPicPr/>
          <p:nvPr/>
        </p:nvPicPr>
        <p:blipFill>
          <a:blip r:embed="rId1"/>
          <a:stretch/>
        </p:blipFill>
        <p:spPr>
          <a:xfrm>
            <a:off x="6227640" y="1197000"/>
            <a:ext cx="2394000" cy="15904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1"/>
          <p:cNvSpPr/>
          <p:nvPr/>
        </p:nvSpPr>
        <p:spPr>
          <a:xfrm>
            <a:off x="237600" y="1428840"/>
            <a:ext cx="51505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ruh 12 zlatých hvězd na modrém podkl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ředstavuje solidaritu a soulad mezi evropský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ár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byla přijata v roce 1985 jako oficiální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Evropského společenství; dnes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čet hvězd nemá žádnou souvislost s poč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členských států („12“ - symbol dokonalost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úplnosti a jedno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european_flag_01_resized"/>
          <p:cNvPicPr/>
          <p:nvPr/>
        </p:nvPicPr>
        <p:blipFill>
          <a:blip r:embed="rId2"/>
          <a:stretch/>
        </p:blipFill>
        <p:spPr>
          <a:xfrm>
            <a:off x="6227640" y="4508640"/>
            <a:ext cx="2378160" cy="1590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pict_20081124PHT42884"/>
          <p:cNvPicPr/>
          <p:nvPr/>
        </p:nvPicPr>
        <p:blipFill>
          <a:blip r:embed="rId3"/>
          <a:stretch/>
        </p:blipFill>
        <p:spPr>
          <a:xfrm>
            <a:off x="3780000" y="4508640"/>
            <a:ext cx="1582560" cy="1582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vlajka-evropska-unie"/>
          <p:cNvPicPr/>
          <p:nvPr/>
        </p:nvPicPr>
        <p:blipFill>
          <a:blip r:embed="rId4"/>
          <a:stretch/>
        </p:blipFill>
        <p:spPr>
          <a:xfrm>
            <a:off x="324000" y="4508640"/>
            <a:ext cx="2089080" cy="1562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"/>
          <p:cNvPicPr/>
          <p:nvPr/>
        </p:nvPicPr>
        <p:blipFill>
          <a:blip r:embed="rId5"/>
          <a:stretch/>
        </p:blipFill>
        <p:spPr>
          <a:xfrm>
            <a:off x="6215040" y="2825640"/>
            <a:ext cx="2428920" cy="16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20" y="765000"/>
            <a:ext cx="25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ymboly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24000" y="1844640"/>
            <a:ext cx="868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- podle článku 14 Ústavy ČR:</a:t>
            </a: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Velký státní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Malý státní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Státní bar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Vlaj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Vlajka prezidenta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Státní peče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Hym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1"/>
          <a:stretch/>
        </p:blipFill>
        <p:spPr>
          <a:xfrm>
            <a:off x="857160" y="2500200"/>
            <a:ext cx="344808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60" y="76500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Den Ev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schuman_460"/>
          <p:cNvPicPr/>
          <p:nvPr/>
        </p:nvPicPr>
        <p:blipFill>
          <a:blip r:embed="rId1"/>
          <a:stretch/>
        </p:blipFill>
        <p:spPr>
          <a:xfrm>
            <a:off x="5637240" y="907920"/>
            <a:ext cx="3506760" cy="47102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1"/>
          <p:cNvSpPr/>
          <p:nvPr/>
        </p:nvSpPr>
        <p:spPr>
          <a:xfrm>
            <a:off x="324000" y="1844640"/>
            <a:ext cx="50400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spcBef>
                <a:spcPts val="1125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9. května 1950 byla přijata tzv. „Schumanova         deklarace“ – návrh na vytvoření organizované Evropy jako nezbytné podmínky pro udržení mírových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125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tento svátek si připomínáme od roku 1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5514840" y="5661000"/>
            <a:ext cx="3634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obert Schuma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francouzský ministr zahraničních věc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2492280"/>
            <a:ext cx="9144000" cy="100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-1440" y="7650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Heslo EU (Mot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755640" y="1916280"/>
            <a:ext cx="820908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Mottem</a:t>
            </a:r>
            <a:r>
              <a:rPr b="1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Evropské unie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ednotná v rozmanitosti“ (latinsky „ In varietate concordi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ostřednictvím Evropské unie se Evropané sjednotili ve společném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úsilí o  mír a blahoby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pojuje množství kultur, tradic a jazy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oficiálně se používá od roku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468360" y="1484280"/>
            <a:ext cx="8424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měna Evropské měnové 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druhá nejdůležitější měna na světě (po americkém dola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avedená 1.1.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 současnosti je oficiálním platidlem v 16 ze 27 států EU a 6 dalších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emí mimo u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árodní měny v těchto státech přestaly fung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bankovky a m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-360" y="76500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Společná měna -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0" descr=""/>
          <p:cNvPicPr/>
          <p:nvPr/>
        </p:nvPicPr>
        <p:blipFill>
          <a:blip r:embed="rId1"/>
          <a:stretch/>
        </p:blipFill>
        <p:spPr>
          <a:xfrm>
            <a:off x="0" y="4622760"/>
            <a:ext cx="9144000" cy="15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0" y="69228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8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55600" y="1341360"/>
            <a:ext cx="772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9393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jmenujte všechny oficiální státní svátky Č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393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393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řed budovou školy budou vyvěšeny vlajky ČR a EU, jak je umístí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(čelní pohled na obje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9393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řiřaďte do vyznačených polí z uvedených znaků ty, které tvoří souč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elkého státního znaku Č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3" descr="Velky_statni_znak_A_cb"/>
          <p:cNvPicPr/>
          <p:nvPr/>
        </p:nvPicPr>
        <p:blipFill>
          <a:blip r:embed="rId1"/>
          <a:stretch/>
        </p:blipFill>
        <p:spPr>
          <a:xfrm>
            <a:off x="3924360" y="4437000"/>
            <a:ext cx="1154160" cy="1363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4" descr="Velky_statni_znak_B_cb"/>
          <p:cNvPicPr/>
          <p:nvPr/>
        </p:nvPicPr>
        <p:blipFill>
          <a:blip r:embed="rId2"/>
          <a:stretch/>
        </p:blipFill>
        <p:spPr>
          <a:xfrm>
            <a:off x="5148360" y="4437000"/>
            <a:ext cx="1160280" cy="1363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5" descr="Velky_statni_znak_C_cb"/>
          <p:cNvPicPr/>
          <p:nvPr/>
        </p:nvPicPr>
        <p:blipFill>
          <a:blip r:embed="rId3"/>
          <a:stretch/>
        </p:blipFill>
        <p:spPr>
          <a:xfrm>
            <a:off x="7740720" y="4437000"/>
            <a:ext cx="1157040" cy="1347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6" descr="cs90zn_cb"/>
          <p:cNvPicPr/>
          <p:nvPr/>
        </p:nvPicPr>
        <p:blipFill>
          <a:blip r:embed="rId4"/>
          <a:stretch/>
        </p:blipFill>
        <p:spPr>
          <a:xfrm>
            <a:off x="6443640" y="4437000"/>
            <a:ext cx="1168560" cy="1368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7"/>
          <p:cNvSpPr/>
          <p:nvPr/>
        </p:nvSpPr>
        <p:spPr>
          <a:xfrm>
            <a:off x="3990960" y="400536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B)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          C)                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8" descr="Velky_statni_znak_A_cb"/>
          <p:cNvPicPr/>
          <p:nvPr/>
        </p:nvPicPr>
        <p:blipFill>
          <a:blip r:embed="rId5"/>
          <a:stretch/>
        </p:blipFill>
        <p:spPr>
          <a:xfrm>
            <a:off x="684360" y="3429000"/>
            <a:ext cx="1153800" cy="1363680"/>
          </a:xfrm>
          <a:prstGeom prst="rect">
            <a:avLst/>
          </a:prstGeom>
          <a:ln w="0">
            <a:noFill/>
          </a:ln>
        </p:spPr>
      </p:pic>
      <p:sp>
        <p:nvSpPr>
          <p:cNvPr id="247" name="Line 40"/>
          <p:cNvSpPr/>
          <p:nvPr/>
        </p:nvSpPr>
        <p:spPr>
          <a:xfrm>
            <a:off x="684360" y="4797360"/>
            <a:ext cx="23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1"/>
          <p:cNvSpPr/>
          <p:nvPr/>
        </p:nvSpPr>
        <p:spPr>
          <a:xfrm>
            <a:off x="1836720" y="3429000"/>
            <a:ext cx="0" cy="27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2"/>
          <p:cNvSpPr/>
          <p:nvPr/>
        </p:nvSpPr>
        <p:spPr>
          <a:xfrm>
            <a:off x="684360" y="3429000"/>
            <a:ext cx="0" cy="27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3"/>
          <p:cNvSpPr/>
          <p:nvPr/>
        </p:nvSpPr>
        <p:spPr>
          <a:xfrm>
            <a:off x="684360" y="3429000"/>
            <a:ext cx="23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4"/>
          <p:cNvSpPr/>
          <p:nvPr/>
        </p:nvSpPr>
        <p:spPr>
          <a:xfrm>
            <a:off x="684360" y="6165720"/>
            <a:ext cx="23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5"/>
          <p:cNvSpPr/>
          <p:nvPr/>
        </p:nvSpPr>
        <p:spPr>
          <a:xfrm>
            <a:off x="2987640" y="3429000"/>
            <a:ext cx="0" cy="27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75760" y="4290840"/>
            <a:ext cx="74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rásková, V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LON, 1999, ISBN 80-85850-78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94480" y="4653000"/>
            <a:ext cx="85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enta, M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pro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1999, ISBN 80-7235-08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293760" y="5013360"/>
            <a:ext cx="85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dák, V. a kol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-720" y="76500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Velký státní 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velky_znak"/>
          <p:cNvPicPr/>
          <p:nvPr/>
        </p:nvPicPr>
        <p:blipFill>
          <a:blip r:embed="rId1"/>
          <a:stretch/>
        </p:blipFill>
        <p:spPr>
          <a:xfrm>
            <a:off x="5043600" y="1341360"/>
            <a:ext cx="4100400" cy="4711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1"/>
          <p:cNvSpPr/>
          <p:nvPr/>
        </p:nvSpPr>
        <p:spPr>
          <a:xfrm>
            <a:off x="162000" y="1576440"/>
            <a:ext cx="4863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ložený ze znaků historických ze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českého království (Čech, Moravy a Slezs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tvar čtvrceného ští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1. a 4. pole tvoří dvouocasý lev ve sk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e zlatou korunou a zlatou zbro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2. pole tvoří červeně šachovaná orlice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latou korunou a zlatou zbro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3. pole tvoří černá orlice se stříbrný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ůlměsícem zakončeným jetelovými trojlís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 uprostřed s křížem; zlatá koruna a červe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99ff"/>
                </a:solidFill>
                <a:latin typeface="Arial"/>
              </a:rPr>
              <a:t>Uži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úřední budovy, doklady, cenné papí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bankovky, dresy sportov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-720" y="765000"/>
            <a:ext cx="32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Malý státní 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1" descr="maly_znak"/>
          <p:cNvPicPr/>
          <p:nvPr/>
        </p:nvPicPr>
        <p:blipFill>
          <a:blip r:embed="rId1"/>
          <a:stretch/>
        </p:blipFill>
        <p:spPr>
          <a:xfrm>
            <a:off x="4933800" y="1268280"/>
            <a:ext cx="4210200" cy="4751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3"/>
          <p:cNvSpPr/>
          <p:nvPr/>
        </p:nvSpPr>
        <p:spPr>
          <a:xfrm>
            <a:off x="234720" y="1521000"/>
            <a:ext cx="492804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tvar ští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tříbrný dvouocasý lev ve skoku se zla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orunou a zlatou zbro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znakem českého království od 2. pol. 12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99ff"/>
                </a:solidFill>
                <a:latin typeface="Arial"/>
              </a:rPr>
              <a:t>Uži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do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svědč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azí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eče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0" y="76500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Státní bar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378720" y="157644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Trikolora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– bílá, červená, mo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79800" y="244008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dekorace k označení státního majet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003640" y="4221000"/>
            <a:ext cx="914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3778200" y="4221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0"/>
          <p:cNvSpPr/>
          <p:nvPr/>
        </p:nvSpPr>
        <p:spPr>
          <a:xfrm>
            <a:off x="2554200" y="4221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0" y="765000"/>
            <a:ext cx="25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Státní vlaj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3" descr="vlajka"/>
          <p:cNvPicPr/>
          <p:nvPr/>
        </p:nvPicPr>
        <p:blipFill>
          <a:blip r:embed="rId1"/>
          <a:stretch/>
        </p:blipFill>
        <p:spPr>
          <a:xfrm>
            <a:off x="0" y="2781360"/>
            <a:ext cx="4067280" cy="3057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5"/>
          <p:cNvSpPr/>
          <p:nvPr/>
        </p:nvSpPr>
        <p:spPr>
          <a:xfrm>
            <a:off x="3996720" y="1285920"/>
            <a:ext cx="495720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ložená z horního pruhu bílého, dolní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uhu červeného, mezi něž je vsun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žerďový modrý k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yvěšování státní vlajky stanovuje zá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(významné a slavnostní příležito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ři užití vlajky na znamení smutku se spu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a půl žer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na vlajce nesmí být žádný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nesmí být používána v poškozeném stav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nečiště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yvěšování státní vlajky o státních svát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(1. ledna, 8. května, 5. a 6. července, 28. zář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28. října a 17. listopa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-4320" y="765000"/>
            <a:ext cx="76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Vlajka prezidenta republiky (standar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standarta"/>
          <p:cNvPicPr/>
          <p:nvPr/>
        </p:nvPicPr>
        <p:blipFill>
          <a:blip r:embed="rId1"/>
          <a:stretch/>
        </p:blipFill>
        <p:spPr>
          <a:xfrm>
            <a:off x="4775040" y="1557360"/>
            <a:ext cx="4368960" cy="4425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1"/>
          <p:cNvSpPr/>
          <p:nvPr/>
        </p:nvSpPr>
        <p:spPr>
          <a:xfrm>
            <a:off x="328680" y="1989000"/>
            <a:ext cx="459432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lajka je bílá; okraje z plaménků střídav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bílých, červených a modr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prostřed bílého pole je velký státní z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d ním nápis „PRAVDA VÍTĚZÍ“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červené stuze, zakončené lipový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atolest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bývá jí označováno místo poby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ezidenta republiky (přítomnost na hrad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dělování vyznamen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0" y="765000"/>
            <a:ext cx="25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Státní peče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pecet"/>
          <p:cNvPicPr/>
          <p:nvPr/>
        </p:nvPicPr>
        <p:blipFill>
          <a:blip r:embed="rId1"/>
          <a:stretch/>
        </p:blipFill>
        <p:spPr>
          <a:xfrm>
            <a:off x="0" y="1343160"/>
            <a:ext cx="4859280" cy="4782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pecet_2"/>
          <p:cNvPicPr/>
          <p:nvPr/>
        </p:nvPicPr>
        <p:blipFill>
          <a:blip r:embed="rId2"/>
          <a:stretch/>
        </p:blipFill>
        <p:spPr>
          <a:xfrm>
            <a:off x="6012000" y="907920"/>
            <a:ext cx="2987640" cy="2190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4"/>
          <p:cNvSpPr/>
          <p:nvPr/>
        </p:nvSpPr>
        <p:spPr>
          <a:xfrm>
            <a:off x="4987800" y="3332160"/>
            <a:ext cx="39754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tvoří ji velký státní znak podlože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lipovými ratolestmi po straná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olem je opis „ČESKÁ REPUBLIKA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ečetidlo státní pečeti uchová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ezident republ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louží k pečetění státních li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české království mělo pečeť již 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5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440" y="2602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SYMBOL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0" y="7650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Státní hym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0" descr="j_k_tyl"/>
          <p:cNvPicPr/>
          <p:nvPr/>
        </p:nvPicPr>
        <p:blipFill>
          <a:blip r:embed="rId1"/>
          <a:stretch/>
        </p:blipFill>
        <p:spPr>
          <a:xfrm>
            <a:off x="6486480" y="1557360"/>
            <a:ext cx="2657520" cy="3949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4"/>
          <p:cNvSpPr/>
          <p:nvPr/>
        </p:nvSpPr>
        <p:spPr>
          <a:xfrm>
            <a:off x="257040" y="1628640"/>
            <a:ext cx="63054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lovo „hymna“ označuje oslavnou píseň, která je symbo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rčitého kolektivu (státní, olympijská, klubová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atří mezi státní symboly a smí se hrát a zpívat 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hodným a důstojným způsob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znik – píseň „Kde domov můj“ (text J.K.Tyl a hu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Fr. Škroup) zazněla ve hře Fidlovačka v roce 18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e Stavovském diva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od roku 1920 se stala státní hymnou a byla rozšíř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o slovenskou část písní „Nad Tatrou sa blýská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Ondra</cp:lastModifiedBy>
  <dcterms:modified xsi:type="dcterms:W3CDTF">2010-03-22T19:03:01Z</dcterms:modified>
  <cp:revision>222</cp:revision>
  <dc:subject/>
  <dc:title>POSLOUPNOSTI</dc:title>
</cp:coreProperties>
</file>