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24D-5C06-437F-83CB-E9C25F6B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581-4605-44F9-B8BF-EE1AB5D2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726-E53C-4D9B-B1B8-8215C10A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D594-D86D-4267-96A6-D8CC2EB3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8B6E-CA32-4167-BFFB-B0A3CFD8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78A7-32B9-4AC4-9B6A-2E36D8F3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71E8-CA90-40FC-B08E-1CB8CC1E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02DC-24CB-4835-855A-7FF744C5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5703-30CD-489C-B1E8-88566598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F7B-6517-4C6B-A026-851F3E4C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3F1E-E73E-4CD9-B6E9-53C7C03B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FCE-CBB8-484A-AD35-E6128ED9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1D24-CFBF-414F-9D3D-B4B6A76670C0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B88D-EB76-4DCF-B731-ACF4E71C49E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3.bp.blogspot.com/_GhXVMedPAYg/SPyWjjbSONI/AAAAAAAAAAM/5fvU_9z1EIQ/s1600/Platon" TargetMode="External"/><Relationship Id="rId2" Type="http://schemas.openxmlformats.org/officeDocument/2006/relationships/hyperlink" Target="http://i299.photobucket.com/albums/mm309/theredlight_darkroom/TaylorIMMaqJeanJacquesRousseauM.jpg" TargetMode="External"/><Relationship Id="rId3" Type="http://schemas.openxmlformats.org/officeDocument/2006/relationships/hyperlink" Target="http://birthday.wz.cz/sokrates.JPG" TargetMode="External"/><Relationship Id="rId4" Type="http://schemas.openxmlformats.org/officeDocument/2006/relationships/hyperlink" Target="http://img.ihned.cz/attachment.php/440/17014440/3vw6Wfg2AIShbncoHp7OBVziCeRKQjNu/aristoteles.jpg" TargetMode="External"/><Relationship Id="rId5" Type="http://schemas.openxmlformats.org/officeDocument/2006/relationships/hyperlink" Target="http://t3.gstatic.com/images?q=tbn:z7rXc7bohA8rLM:http://threes.com/cms/images/stories/history/pythagoras.jpg&amp;t=1" TargetMode="External"/><Relationship Id="rId6" Type="http://schemas.openxmlformats.org/officeDocument/2006/relationships/hyperlink" Target="http://img.spisovatele.cz/foto/tomas-akvinsky/tomas-akvinsky.jpg" TargetMode="External"/><Relationship Id="rId7" Type="http://schemas.openxmlformats.org/officeDocument/2006/relationships/hyperlink" Target="http://schriftman.files.wordpress.com/2008/11/immanuel-kant.jpg" TargetMode="External"/><Relationship Id="rId8" Type="http://schemas.openxmlformats.org/officeDocument/2006/relationships/hyperlink" Target="http://www.komsomol.cz/agitprop/marx_engels_lenin.jpg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3" name="Line 23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6"/>
          <p:cNvSpPr/>
          <p:nvPr/>
        </p:nvSpPr>
        <p:spPr>
          <a:xfrm>
            <a:off x="0" y="4797360"/>
            <a:ext cx="9144000" cy="1440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1"/>
          <p:cNvSpPr/>
          <p:nvPr/>
        </p:nvSpPr>
        <p:spPr>
          <a:xfrm>
            <a:off x="19080" y="5084640"/>
            <a:ext cx="91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0"/>
          <p:cNvSpPr/>
          <p:nvPr/>
        </p:nvSpPr>
        <p:spPr>
          <a:xfrm>
            <a:off x="2160" y="1844640"/>
            <a:ext cx="90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Mgr. Ivana Váchová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O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7098120" y="443700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f5f5f"/>
                </a:solidFill>
                <a:latin typeface="Arial"/>
              </a:rPr>
              <a:t>FILOZO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ázek 11" descr="images.jpg"/>
          <p:cNvPicPr/>
          <p:nvPr/>
        </p:nvPicPr>
        <p:blipFill>
          <a:blip r:embed="rId2"/>
          <a:stretch/>
        </p:blipFill>
        <p:spPr>
          <a:xfrm>
            <a:off x="179280" y="2637000"/>
            <a:ext cx="1584360" cy="2014200"/>
          </a:xfrm>
          <a:prstGeom prst="rect">
            <a:avLst/>
          </a:prstGeom>
          <a:ln w="0">
            <a:noFill/>
          </a:ln>
        </p:spPr>
      </p:pic>
      <p:pic>
        <p:nvPicPr>
          <p:cNvPr id="49" name="Obrázek 12" descr="images4.jpg"/>
          <p:cNvPicPr/>
          <p:nvPr/>
        </p:nvPicPr>
        <p:blipFill>
          <a:blip r:embed="rId3"/>
          <a:stretch/>
        </p:blipFill>
        <p:spPr>
          <a:xfrm>
            <a:off x="1979640" y="2708280"/>
            <a:ext cx="46069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rázek 13" descr="komensky.jpg"/>
          <p:cNvPicPr/>
          <p:nvPr/>
        </p:nvPicPr>
        <p:blipFill>
          <a:blip r:embed="rId1"/>
          <a:stretch/>
        </p:blipFill>
        <p:spPr>
          <a:xfrm>
            <a:off x="2916360" y="4437000"/>
            <a:ext cx="1584360" cy="1830600"/>
          </a:xfrm>
          <a:prstGeom prst="rect">
            <a:avLst/>
          </a:prstGeom>
          <a:ln w="0">
            <a:noFill/>
          </a:ln>
        </p:spPr>
      </p:pic>
      <p:sp>
        <p:nvSpPr>
          <p:cNvPr id="121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14130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cílem bylo osvobodit člověka od scholastiky, důraz na hodnoty člověka v pozemském živo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humanismu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lidská stránka živ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důraz na přírodu, lidské smysly a schopnost rozumu pozná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rozvoj vědy (astronomie, mechaniky, geometr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T.Mora, N. Machiavelli, M. Kusánský, G. Bruno, J. Kepler, G. Gali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Francis Bacon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vznik vědecké metody na základě zkuše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J.A.Komensk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2400" y="765000"/>
            <a:ext cx="78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5. Renesanční filozofie (15. a 16. stole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ázek 14" descr="galileo-galilei.jpg"/>
          <p:cNvPicPr/>
          <p:nvPr/>
        </p:nvPicPr>
        <p:blipFill>
          <a:blip r:embed="rId2"/>
          <a:stretch/>
        </p:blipFill>
        <p:spPr>
          <a:xfrm>
            <a:off x="7704000" y="4437000"/>
            <a:ext cx="1440000" cy="1779480"/>
          </a:xfrm>
          <a:prstGeom prst="rect">
            <a:avLst/>
          </a:prstGeom>
          <a:ln w="0">
            <a:noFill/>
          </a:ln>
        </p:spPr>
      </p:pic>
      <p:sp>
        <p:nvSpPr>
          <p:cNvPr id="129" name="TextovéPole 15"/>
          <p:cNvSpPr/>
          <p:nvPr/>
        </p:nvSpPr>
        <p:spPr>
          <a:xfrm>
            <a:off x="6161760" y="587700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Galileo Galil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ovéPole 16"/>
          <p:cNvSpPr/>
          <p:nvPr/>
        </p:nvSpPr>
        <p:spPr>
          <a:xfrm>
            <a:off x="1192320" y="5877000"/>
            <a:ext cx="15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J. A. Komen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794052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jak člověk poznává, co je kritériem prav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nalézt správnou metodu poz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Racionalismu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důraz na roz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R. Descarte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B. Spinoza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G. W. Leibn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Empirismu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důraz na zkušenost a smysl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J. Locke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G. Berkeley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D. H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Osvícenství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J. J. Rousseau, D. Diderot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Vol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německá klasická filozofie  (2.pol.18.stol.až poč.19.sto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kritické zhodnocení racionalismu, empirismu, osvíc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I. Kant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G. W. F. He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rozevírají se „nůžky“ mezi běžným lidským filozofováním a filozofováním profesionálním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4920" y="765000"/>
            <a:ext cx="83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6. novověká filozofie (17. a poč. 18. stole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4920" y="765000"/>
            <a:ext cx="83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6. novověká filozofie (17. a poč. 18. stole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Obrázek 7" descr="immanuel-kant.jpg"/>
          <p:cNvPicPr/>
          <p:nvPr/>
        </p:nvPicPr>
        <p:blipFill>
          <a:blip r:embed="rId1"/>
          <a:stretch/>
        </p:blipFill>
        <p:spPr>
          <a:xfrm>
            <a:off x="3564000" y="1628640"/>
            <a:ext cx="4703760" cy="3529080"/>
          </a:xfrm>
          <a:prstGeom prst="rect">
            <a:avLst/>
          </a:prstGeom>
          <a:ln w="0">
            <a:noFill/>
          </a:ln>
        </p:spPr>
      </p:pic>
      <p:pic>
        <p:nvPicPr>
          <p:cNvPr id="145" name="Obrázek 8" descr="TaylorIMMaqJeanJacquesRousseauM.jpg"/>
          <p:cNvPicPr/>
          <p:nvPr/>
        </p:nvPicPr>
        <p:blipFill>
          <a:blip r:embed="rId2"/>
          <a:stretch/>
        </p:blipFill>
        <p:spPr>
          <a:xfrm>
            <a:off x="0" y="1628640"/>
            <a:ext cx="2916360" cy="3554640"/>
          </a:xfrm>
          <a:prstGeom prst="rect">
            <a:avLst/>
          </a:prstGeom>
          <a:ln w="0">
            <a:noFill/>
          </a:ln>
        </p:spPr>
      </p:pic>
      <p:sp>
        <p:nvSpPr>
          <p:cNvPr id="146" name="TextovéPole 9"/>
          <p:cNvSpPr/>
          <p:nvPr/>
        </p:nvSpPr>
        <p:spPr>
          <a:xfrm>
            <a:off x="479880" y="5373720"/>
            <a:ext cx="240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Jean Jacques Rouss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10"/>
          <p:cNvSpPr/>
          <p:nvPr/>
        </p:nvSpPr>
        <p:spPr>
          <a:xfrm>
            <a:off x="6669000" y="530064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Immanuel K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pozitivismu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A. Comte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hlavním zdrojem poznání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je vě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iracionalismu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A. Schopenhauer, S. Kierkegaar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F. Nietzsche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základem je vůle, cit a intu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novotomismu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obnoveno učení T. Akvinské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marxismu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K. Marx, B. En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17640" y="765000"/>
            <a:ext cx="415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7. filozofie 19. 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Obrázek 13" descr="Comte.jpg"/>
          <p:cNvPicPr/>
          <p:nvPr/>
        </p:nvPicPr>
        <p:blipFill>
          <a:blip r:embed="rId1"/>
          <a:stretch/>
        </p:blipFill>
        <p:spPr>
          <a:xfrm>
            <a:off x="7308720" y="1197000"/>
            <a:ext cx="1584360" cy="2038320"/>
          </a:xfrm>
          <a:prstGeom prst="rect">
            <a:avLst/>
          </a:prstGeom>
          <a:ln w="0">
            <a:noFill/>
          </a:ln>
        </p:spPr>
      </p:pic>
      <p:pic>
        <p:nvPicPr>
          <p:cNvPr id="156" name="Obrázek 14" descr="marx_engels_lenin.jpg"/>
          <p:cNvPicPr/>
          <p:nvPr/>
        </p:nvPicPr>
        <p:blipFill>
          <a:blip r:embed="rId2"/>
          <a:stretch/>
        </p:blipFill>
        <p:spPr>
          <a:xfrm>
            <a:off x="6588000" y="4149720"/>
            <a:ext cx="230508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3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hlavní témata - člověk, lidská svoboda, schopnost člověka tvořit a žít ve společnosti s druhými lid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rozmanitost a různorodost filozofie (prudký vývoj věd, civilizační a kulturní krize, války, odcizení člověka v moderní průmyslové společn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filozofie života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H. Berg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fenomenologie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E. Husse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existencionalismu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J. P. Sart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A. Camus, K. Jaspers, M. Heide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16200" y="765000"/>
            <a:ext cx="38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Filozofie 20. 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Obrázek 14" descr="sartre.jpeg"/>
          <p:cNvPicPr/>
          <p:nvPr/>
        </p:nvPicPr>
        <p:blipFill>
          <a:blip r:embed="rId1"/>
          <a:stretch/>
        </p:blipFill>
        <p:spPr>
          <a:xfrm>
            <a:off x="6588000" y="3500280"/>
            <a:ext cx="1944720" cy="2738520"/>
          </a:xfrm>
          <a:prstGeom prst="rect">
            <a:avLst/>
          </a:prstGeom>
          <a:ln w="0">
            <a:noFill/>
          </a:ln>
        </p:spPr>
      </p:pic>
      <p:sp>
        <p:nvSpPr>
          <p:cNvPr id="165" name="TextovéPole 15"/>
          <p:cNvSpPr/>
          <p:nvPr/>
        </p:nvSpPr>
        <p:spPr>
          <a:xfrm>
            <a:off x="4863960" y="3500280"/>
            <a:ext cx="170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Jean-Paul Sar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3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Sokrate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„Vím, že nic neví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Na světě je tolik věcí, které nepotřebuji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Herakleito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„Vše plyne, nic netrvá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Nelze vstoupit dvakrát do téže řek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Descarte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“Myslím, tedy jse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Augustinus Aureliu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“Věř, abys rozuměl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Galileo Galilei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„A přece se toč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John Locke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„Nic není v rozumu, co dříve nebylo ve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myslech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13320" y="76500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Výroky filozof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8"/>
          <p:cNvSpPr/>
          <p:nvPr/>
        </p:nvSpPr>
        <p:spPr>
          <a:xfrm>
            <a:off x="3132000" y="1484280"/>
            <a:ext cx="6012000" cy="4537080"/>
          </a:xfrm>
          <a:prstGeom prst="rect">
            <a:avLst/>
          </a:prstGeom>
          <a:solidFill>
            <a:srgbClr val="99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720" y="36450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293760" y="5013360"/>
            <a:ext cx="85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udák, V. a kol.: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Občanská nauka pro SOŠ a studijní obory SO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raha: SPN, 2003, ISBN 80-7235-23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0" y="549360"/>
            <a:ext cx="9144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3.bp.blogspot.com/_GhXVMedPAYg/SPyWjjbSONI/AAAAAAAAAAM/5fvU_9z1EIQ/s1600/Pla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299.photobucket.com/albums/mm309/theredlight_darkroom/TaylorIMMaqJeanJacquesRousseau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rthday.wz.cz/sokrate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.ihned.cz/attachment.php/440/17014440/3vw6Wfg2AIShbncoHp7OBVziCeRKQjNu/aristotele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t3.gstatic.com/images?q=tbn:z7rXc7bohA8rLM:http://threes.com/cms/images/stories/history/pythagoras.jpg&amp;t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.spisovatele.cz/foto/tomas-akvinsky/tomas-akvinsky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schriftman.files.wordpress.com/2008/11/immanuel-kant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komsomol.cz/agitprop/marx_engels_lenin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http://atheisme.free.fr/Biographies/Photos/Comte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http://leilanidianne.files.wordpress.com/2010/08/sartre.jp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http://www.npkk.cz/npkk/vystava_komenian/obr/komensky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http://www.exoplanety.cz/wp-content/uploads/2009/07/galileo-galilei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9800" y="5229360"/>
            <a:ext cx="50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Arial"/>
              </a:rPr>
              <a:t>zdroje použitých obráz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5f5f5f"/>
                </a:solidFill>
                <a:latin typeface="Arial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8160" y="765000"/>
            <a:ext cx="86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1. předfilozofické myšlení (mýtické myšl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vysvětlení světa pomocí mýtického příbě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starořecké báje a epo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Mýtus o Prométheovi“, „Epos o Gilgamešovi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pochybnosti a nejistota vedly ke zrodu filozofie, mýtus se stává předmětem zkoumání a vysvětl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9"/>
          <p:cNvSpPr/>
          <p:nvPr/>
        </p:nvSpPr>
        <p:spPr>
          <a:xfrm>
            <a:off x="468360" y="2924280"/>
            <a:ext cx="6696000" cy="55548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999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2000 let př. n.l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filozofie a náboženství (mýtus) se neodděl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Indie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období védské - spisy obsahují veškeré moud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kastovní syst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období klasické - vznik budhismu, hinduismu, jó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99cc00"/>
                </a:solidFill>
                <a:latin typeface="Arial"/>
              </a:rPr>
              <a:t>Čína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boj a protiklad prvků jing a j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taoism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konfucionismus - důraz kladen na morálku,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povinnost a úctu k autori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Konfuc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4840" y="76500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2. Filozofie staré Indie a Čí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11" descr="confucius.jpg"/>
          <p:cNvPicPr/>
          <p:nvPr/>
        </p:nvPicPr>
        <p:blipFill>
          <a:blip r:embed="rId1"/>
          <a:stretch/>
        </p:blipFill>
        <p:spPr>
          <a:xfrm>
            <a:off x="7596360" y="4052880"/>
            <a:ext cx="1547640" cy="2112840"/>
          </a:xfrm>
          <a:prstGeom prst="rect">
            <a:avLst/>
          </a:prstGeom>
          <a:ln w="0">
            <a:noFill/>
          </a:ln>
        </p:spPr>
      </p:pic>
      <p:sp>
        <p:nvSpPr>
          <p:cNvPr id="66" name="TextovéPole 12"/>
          <p:cNvSpPr/>
          <p:nvPr/>
        </p:nvSpPr>
        <p:spPr>
          <a:xfrm>
            <a:off x="6521760" y="5877000"/>
            <a:ext cx="107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Konfuci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7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očátek evropské vzděla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rozvinula se z řecké myt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3 obdob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Předsokratovs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Klas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Helén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15840" y="765000"/>
            <a:ext cx="36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3. antická filozo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bdélník 13"/>
          <p:cNvSpPr/>
          <p:nvPr/>
        </p:nvSpPr>
        <p:spPr>
          <a:xfrm>
            <a:off x="468360" y="2781360"/>
            <a:ext cx="8424720" cy="194292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7 až 5. stol.př.n.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hlavním předmětem zájmu - přír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naha najít pralá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Tháles z Miletu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voda),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Anaximandro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(apeiron),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Anaximené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(vzduch),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Pythágora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(číslo),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Herakleitos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(oheň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rotiklad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- škola Elejská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přeceňovaly rozum, potlačovaly smysly - Parmenides, Zen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atomisté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Demokr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0160" y="765000"/>
            <a:ext cx="34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cc00"/>
                </a:solidFill>
                <a:latin typeface="Arial"/>
              </a:rPr>
              <a:t>a) předsokratov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8" descr="phytagoras.jpg"/>
          <p:cNvPicPr/>
          <p:nvPr/>
        </p:nvPicPr>
        <p:blipFill>
          <a:blip r:embed="rId1"/>
          <a:stretch/>
        </p:blipFill>
        <p:spPr>
          <a:xfrm>
            <a:off x="7191360" y="836640"/>
            <a:ext cx="1952640" cy="2333520"/>
          </a:xfrm>
          <a:prstGeom prst="rect">
            <a:avLst/>
          </a:prstGeom>
          <a:ln w="0">
            <a:noFill/>
          </a:ln>
        </p:spPr>
      </p:pic>
      <p:sp>
        <p:nvSpPr>
          <p:cNvPr id="83" name="TextovéPole 9"/>
          <p:cNvSpPr/>
          <p:nvPr/>
        </p:nvSpPr>
        <p:spPr>
          <a:xfrm>
            <a:off x="6091200" y="263700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Pythag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5.a 4.stol.př.n.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ohled od přírody obrácen na člověka a spole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tázky etické a poli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Sokrates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nejmoudřejší Ř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Platón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nauka o idejích a nesmrtelnosti duš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ředstava ideálního stá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Aristoteles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dualista, analýza politických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9440" y="765000"/>
            <a:ext cx="32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cc00"/>
                </a:solidFill>
                <a:latin typeface="Arial"/>
              </a:rPr>
              <a:t>b) klasické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rázek 11" descr="sokrates.JPG"/>
          <p:cNvPicPr/>
          <p:nvPr/>
        </p:nvPicPr>
        <p:blipFill>
          <a:blip r:embed="rId1"/>
          <a:stretch/>
        </p:blipFill>
        <p:spPr>
          <a:xfrm>
            <a:off x="7596360" y="1052640"/>
            <a:ext cx="1245960" cy="1655640"/>
          </a:xfrm>
          <a:prstGeom prst="rect">
            <a:avLst/>
          </a:prstGeom>
          <a:ln w="0">
            <a:noFill/>
          </a:ln>
        </p:spPr>
      </p:pic>
      <p:pic>
        <p:nvPicPr>
          <p:cNvPr id="92" name="Obrázek 12" descr="aristoteles.jpg"/>
          <p:cNvPicPr/>
          <p:nvPr/>
        </p:nvPicPr>
        <p:blipFill>
          <a:blip r:embed="rId2"/>
          <a:stretch/>
        </p:blipFill>
        <p:spPr>
          <a:xfrm>
            <a:off x="7596360" y="4581360"/>
            <a:ext cx="1242720" cy="1511640"/>
          </a:xfrm>
          <a:prstGeom prst="rect">
            <a:avLst/>
          </a:prstGeom>
          <a:ln w="0">
            <a:noFill/>
          </a:ln>
        </p:spPr>
      </p:pic>
      <p:sp>
        <p:nvSpPr>
          <p:cNvPr id="93" name="TextovéPole 13"/>
          <p:cNvSpPr/>
          <p:nvPr/>
        </p:nvSpPr>
        <p:spPr>
          <a:xfrm>
            <a:off x="6522120" y="105264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Sok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ovéPole 14"/>
          <p:cNvSpPr/>
          <p:nvPr/>
        </p:nvSpPr>
        <p:spPr>
          <a:xfrm>
            <a:off x="6376680" y="5732640"/>
            <a:ext cx="11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Aristole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rázek 15" descr="Platon.jpg"/>
          <p:cNvPicPr/>
          <p:nvPr/>
        </p:nvPicPr>
        <p:blipFill>
          <a:blip r:embed="rId3"/>
          <a:stretch/>
        </p:blipFill>
        <p:spPr>
          <a:xfrm>
            <a:off x="7596360" y="2852640"/>
            <a:ext cx="1223640" cy="1621080"/>
          </a:xfrm>
          <a:prstGeom prst="rect">
            <a:avLst/>
          </a:prstGeom>
          <a:ln w="0">
            <a:noFill/>
          </a:ln>
        </p:spPr>
      </p:pic>
      <p:sp>
        <p:nvSpPr>
          <p:cNvPr id="96" name="TextovéPole 16"/>
          <p:cNvSpPr/>
          <p:nvPr/>
        </p:nvSpPr>
        <p:spPr>
          <a:xfrm>
            <a:off x="6736680" y="285264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Plat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4.stol.př .n.l. až 6.sto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brat od společenských problémů k problémům člověka jako jednotliv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filozofické školy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kýni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stoi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epikurej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                         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- skepti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5480" y="765000"/>
            <a:ext cx="25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cc00"/>
                </a:solidFill>
                <a:latin typeface="Arial"/>
              </a:rPr>
              <a:t>c) Helén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57200" y="1341360"/>
            <a:ext cx="82296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1. – 15. stolet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křesťanská filozofie navazovala na antickou filozofii a juda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hlavním pramenem - Nový zá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áklad v učení círk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ztah víry a věd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filozofie se stala „služkou“ te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0" y="765000"/>
            <a:ext cx="740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4. Křesťanská a středověká filozo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7963200" y="-270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"/>
              </a:rPr>
              <a:t>0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9000" y="2602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Arial"/>
              </a:rPr>
              <a:t>DĚJINY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Rozdělení obdob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a) období apologetiky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1. až 3.sto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brana křesťa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římský filozof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Tertulli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b) období patristiky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2 . až 8.sto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naha církevních otců systematizovat a ucelit křesťanskou ví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elký vliv Plató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Aurelius Augustinus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sv. August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cc00"/>
                </a:solidFill>
                <a:latin typeface="Arial"/>
              </a:rPr>
              <a:t>c) období scholastiky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(9. až 15.sto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znik klášterních a katedrálních škol , univerz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T.Akvinský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- pokus sladit a uspořádat vědění s vír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liv Aristote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0" y="765000"/>
            <a:ext cx="740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ff"/>
                </a:solidFill>
                <a:latin typeface="Arial"/>
              </a:rPr>
              <a:t>4. Křesťanská a středověká filozo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Obrázek 8" descr="tomas-akvinsky.jpg"/>
          <p:cNvPicPr/>
          <p:nvPr/>
        </p:nvPicPr>
        <p:blipFill>
          <a:blip r:embed="rId1"/>
          <a:stretch/>
        </p:blipFill>
        <p:spPr>
          <a:xfrm>
            <a:off x="7564320" y="3860640"/>
            <a:ext cx="1579680" cy="2370240"/>
          </a:xfrm>
          <a:prstGeom prst="rect">
            <a:avLst/>
          </a:prstGeom>
          <a:ln w="0">
            <a:noFill/>
          </a:ln>
        </p:spPr>
      </p:pic>
      <p:sp>
        <p:nvSpPr>
          <p:cNvPr id="119" name="TextovéPole 9"/>
          <p:cNvSpPr/>
          <p:nvPr/>
        </p:nvSpPr>
        <p:spPr>
          <a:xfrm>
            <a:off x="5934960" y="5877000"/>
            <a:ext cx="16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Tomáš Akvin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Kubik</cp:lastModifiedBy>
  <dcterms:modified xsi:type="dcterms:W3CDTF">2010-11-13T15:15:59Z</dcterms:modified>
  <cp:revision>449</cp:revision>
  <dc:subject/>
  <dc:title>POSLOUPNOSTI</dc:title>
</cp:coreProperties>
</file>