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02B-5385-49C7-9915-EE9DD7AE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6EB-26C4-4F0C-BE6D-5EF4F02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C4A-4497-41AD-BB88-D12C220A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1F8-14E5-4782-B63E-36D97F99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112-58E0-445A-B33A-8EC72908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81B-E5AA-4AFA-A642-0ED34A5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DFB-1984-4140-8165-BD292C2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918-902B-4F1D-88F9-04FD5688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419-B24D-413F-92B9-18902C5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EAF-563C-4C1D-9513-C1F4335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2E-FA21-486E-9587-530C4B0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743-E29C-4BFE-B755-0607104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00C2-9038-4920-94D8-24867F804A8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421-B3BB-4488-A9C6-3667750A0E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3.bp.blogspot.com/_GhXVMedPAYg/SPyWjjbSONI/AAAAAAAAAAM/5fvU_9z1EIQ/s1600/Platon" TargetMode="External"/><Relationship Id="rId2" Type="http://schemas.openxmlformats.org/officeDocument/2006/relationships/hyperlink" Target="http://i299.photobucket.com/albums/mm309/theredlight_darkroom/TaylorIMMaqJeanJacquesRousseauM.jpg" TargetMode="External"/><Relationship Id="rId3" Type="http://schemas.openxmlformats.org/officeDocument/2006/relationships/hyperlink" Target="http://birthday.wz.cz/sokrates.JPG" TargetMode="External"/><Relationship Id="rId4" Type="http://schemas.openxmlformats.org/officeDocument/2006/relationships/hyperlink" Target="http://img.ihned.cz/attachment.php/440/17014440/3vw6Wfg2AIShbncoHp7OBVziCeRKQjNu/aristoteles.jpg" TargetMode="External"/><Relationship Id="rId5" Type="http://schemas.openxmlformats.org/officeDocument/2006/relationships/hyperlink" Target="http://t3.gstatic.com/images?q=tbn:z7rXc7bohA8rLM:http://threes.com/cms/images/stories/history/pythagoras.jpg&amp;t=1" TargetMode="External"/><Relationship Id="rId6" Type="http://schemas.openxmlformats.org/officeDocument/2006/relationships/hyperlink" Target="http://img.spisovatele.cz/foto/tomas-akvinsky/tomas-akvinsky.jpg" TargetMode="External"/><Relationship Id="rId7" Type="http://schemas.openxmlformats.org/officeDocument/2006/relationships/hyperlink" Target="http://schriftman.files.wordpress.com/2008/11/immanuel-kant.jpg" TargetMode="External"/><Relationship Id="rId8" Type="http://schemas.openxmlformats.org/officeDocument/2006/relationships/hyperlink" Target="http://www.komsomol.cz/agitprop/marx_engels_lenin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098120" y="44370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FILOZ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11" descr="images.jpg"/>
          <p:cNvPicPr/>
          <p:nvPr/>
        </p:nvPicPr>
        <p:blipFill>
          <a:blip r:embed="rId2"/>
          <a:stretch/>
        </p:blipFill>
        <p:spPr>
          <a:xfrm>
            <a:off x="179280" y="2637000"/>
            <a:ext cx="1584360" cy="201420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12" descr="images4.jpg"/>
          <p:cNvPicPr/>
          <p:nvPr/>
        </p:nvPicPr>
        <p:blipFill>
          <a:blip r:embed="rId3"/>
          <a:stretch/>
        </p:blipFill>
        <p:spPr>
          <a:xfrm>
            <a:off x="1979640" y="2708280"/>
            <a:ext cx="4606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13" descr="komensky.jpg"/>
          <p:cNvPicPr/>
          <p:nvPr/>
        </p:nvPicPr>
        <p:blipFill>
          <a:blip r:embed="rId1"/>
          <a:stretch/>
        </p:blipFill>
        <p:spPr>
          <a:xfrm>
            <a:off x="2916360" y="4437000"/>
            <a:ext cx="1584360" cy="1830600"/>
          </a:xfrm>
          <a:prstGeom prst="rect">
            <a:avLst/>
          </a:prstGeom>
          <a:ln w="0">
            <a:noFill/>
          </a:ln>
        </p:spPr>
      </p:pic>
      <p:sp>
        <p:nvSpPr>
          <p:cNvPr id="12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cílem bylo osvobodit člověka od scholastiky, důraz na hodnoty člověka v pozemském živo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human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lidská stránka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ůraz na přírodu, lidské smysly a schopnost rozumu pozn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voj vědy (astronomie, mechaniky, geomet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.Mora, N. Machiavelli, M. Kusánský, G. Bruno, J. Kepler, G. Gali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rancis Bacon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vznik vědecké metody na základě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A.Komen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2400" y="765000"/>
            <a:ext cx="78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5. Renesanční filozofie (15. a 16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14" descr="galileo-galilei.jpg"/>
          <p:cNvPicPr/>
          <p:nvPr/>
        </p:nvPicPr>
        <p:blipFill>
          <a:blip r:embed="rId2"/>
          <a:stretch/>
        </p:blipFill>
        <p:spPr>
          <a:xfrm>
            <a:off x="7704000" y="4437000"/>
            <a:ext cx="1440000" cy="1779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15"/>
          <p:cNvSpPr/>
          <p:nvPr/>
        </p:nvSpPr>
        <p:spPr>
          <a:xfrm>
            <a:off x="6161760" y="58770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Galileo Gali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16"/>
          <p:cNvSpPr/>
          <p:nvPr/>
        </p:nvSpPr>
        <p:spPr>
          <a:xfrm>
            <a:off x="1192320" y="58770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. A. Kome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940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jak člověk poznává, co je kritériem prav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lézt správnou metodu poz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Ra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ůraz na roz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. Descar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B. Spinoz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W. Leib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Empir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ůraz na zkušenost a smys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Lock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Berkeley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. H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Osvícenstv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J. Rousseau, D. Didero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ěmecká klasická filozofie  (2.pol.18.stol.až poč.19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ritické zhodnocení racionalismu, empirismu, osvíc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I. Kan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W. F.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evírají se „nůžky“ mezi běžným lidským filozofováním a filozofováním profesionální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920" y="76500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6. novověká filozofie (17. a poč. 18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4920" y="76500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6. novověká filozofie (17. a poč. 18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ázek 7" descr="immanuel-kant.jpg"/>
          <p:cNvPicPr/>
          <p:nvPr/>
        </p:nvPicPr>
        <p:blipFill>
          <a:blip r:embed="rId1"/>
          <a:stretch/>
        </p:blipFill>
        <p:spPr>
          <a:xfrm>
            <a:off x="3564000" y="162864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45" name="Obrázek 8" descr="TaylorIMMaqJeanJacquesRousseauM.jpg"/>
          <p:cNvPicPr/>
          <p:nvPr/>
        </p:nvPicPr>
        <p:blipFill>
          <a:blip r:embed="rId2"/>
          <a:stretch/>
        </p:blipFill>
        <p:spPr>
          <a:xfrm>
            <a:off x="0" y="1628640"/>
            <a:ext cx="2916360" cy="355464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9"/>
          <p:cNvSpPr/>
          <p:nvPr/>
        </p:nvSpPr>
        <p:spPr>
          <a:xfrm>
            <a:off x="479880" y="537372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an Jacques Rouss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10"/>
          <p:cNvSpPr/>
          <p:nvPr/>
        </p:nvSpPr>
        <p:spPr>
          <a:xfrm>
            <a:off x="6669000" y="530064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mmanuel K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pozitiv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Comte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zdrojem poznání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je vě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ira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Schopenhauer, S. Kierkegaar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. Nietzsch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základem je vůle, cit a intu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novotom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obnoveno učení T. Akvins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marx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. Marx, B. En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7640" y="76500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7. filozofie 19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13" descr="Comte.jpg"/>
          <p:cNvPicPr/>
          <p:nvPr/>
        </p:nvPicPr>
        <p:blipFill>
          <a:blip r:embed="rId1"/>
          <a:stretch/>
        </p:blipFill>
        <p:spPr>
          <a:xfrm>
            <a:off x="7308720" y="1197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14" descr="marx_engels_lenin.jpg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 témata - člověk, lidská svoboda, schopnost člověka tvořit a žít ve společnosti s druhými l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manitost a různorodost filozofie (prudký vývoj věd, civilizační a kulturní krize, války, odcizení člověka v moderní průmyslové společ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filozofie života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. Berg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fenomenologi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E.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existen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P. Sart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Camus, K. Jaspers, M. Heide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6200" y="76500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Filozofie 20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ázek 14" descr="sartre.jpeg"/>
          <p:cNvPicPr/>
          <p:nvPr/>
        </p:nvPicPr>
        <p:blipFill>
          <a:blip r:embed="rId1"/>
          <a:stretch/>
        </p:blipFill>
        <p:spPr>
          <a:xfrm>
            <a:off x="6588000" y="3500280"/>
            <a:ext cx="1944720" cy="2738520"/>
          </a:xfrm>
          <a:prstGeom prst="rect">
            <a:avLst/>
          </a:prstGeom>
          <a:ln w="0">
            <a:noFill/>
          </a:ln>
        </p:spPr>
      </p:pic>
      <p:sp>
        <p:nvSpPr>
          <p:cNvPr id="165" name="TextovéPole 15"/>
          <p:cNvSpPr/>
          <p:nvPr/>
        </p:nvSpPr>
        <p:spPr>
          <a:xfrm>
            <a:off x="4863960" y="350028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kra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Vím, že nic neví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 světě je tolik věcí, které nepotřebu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rakleit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Vše plyne, nic netrv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lze vstoupit dvakrát do téže řek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escar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“Myslím, tedy jse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ugustinus Aureli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“Věř, abys rozumě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alileo Galilei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A přece se toč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ohn Lock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Nic není v rozumu, co dříve nebylo v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myslech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3320" y="7650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ýroky filozof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8"/>
          <p:cNvSpPr/>
          <p:nvPr/>
        </p:nvSpPr>
        <p:spPr>
          <a:xfrm>
            <a:off x="3132000" y="1484280"/>
            <a:ext cx="6012000" cy="453708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54936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3.bp.blogspot.com/_GhXVMedPAYg/SPyWjjbSONI/AAAAAAAAAAM/5fvU_9z1EIQ/s1600/Pla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299.photobucket.com/albums/mm309/theredlight_darkroom/TaylorIMMaqJeanJacquesRousseau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rthday.wz.cz/sokrat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.ihned.cz/attachment.php/440/17014440/3vw6Wfg2AIShbncoHp7OBVziCeRKQjNu/aristotel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t3.gstatic.com/images?q=tbn:z7rXc7bohA8rLM:http://threes.com/cms/images/stories/history/pythagoras.jpg&amp;t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.spisovatele.cz/foto/tomas-akvinsky/tomas-akvinsk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chriftman.files.wordpress.com/2008/11/immanuel-ka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komsomol.cz/agitprop/marx_engels_l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atheisme.free.fr/Biographies/Photos/Comt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leilanidianne.files.wordpress.com/2010/08/sartre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www.npkk.cz/npkk/vystava_komenian/obr/komensk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xoplanety.cz/wp-content/uploads/2009/07/galileo-galile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8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5f5f5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8160" y="765000"/>
            <a:ext cx="86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1. předfilozofické myšlení (mýtické myšl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vysvětlení světa pomocí mýtického pří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starořecké báje a epo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Mýtus o Prométheovi“, „Epos o Gilgamešov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pochybnosti a nejistota vedly ke zrodu filozofie, mýtus se stává předmětem zkoumání a vysvět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9"/>
          <p:cNvSpPr/>
          <p:nvPr/>
        </p:nvSpPr>
        <p:spPr>
          <a:xfrm>
            <a:off x="468360" y="2924280"/>
            <a:ext cx="6696000" cy="5554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2000 let př. n.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ilozofie a náboženství (mýtus) se neodděl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Indi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bdobí védské - spisy obsahují veškeré mou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astov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bdobí klasické - vznik budhismu, hinduismu, jó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Čín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boj a protiklad prvků jing a j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taoism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onfucionismus - důraz kladen na morálku,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povinnost a úctu k autor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onfuc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840" y="76500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2. Filozofie staré Indie a Čí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11" descr="confucius.jpg"/>
          <p:cNvPicPr/>
          <p:nvPr/>
        </p:nvPicPr>
        <p:blipFill>
          <a:blip r:embed="rId1"/>
          <a:stretch/>
        </p:blipFill>
        <p:spPr>
          <a:xfrm>
            <a:off x="7596360" y="4052880"/>
            <a:ext cx="1547640" cy="211284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12"/>
          <p:cNvSpPr/>
          <p:nvPr/>
        </p:nvSpPr>
        <p:spPr>
          <a:xfrm>
            <a:off x="6521760" y="587700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Konfuc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čátek evropské vzděl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vinula se z řecké myt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3 obdob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ředsokratov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las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lé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5840" y="76500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3. antic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13"/>
          <p:cNvSpPr/>
          <p:nvPr/>
        </p:nvSpPr>
        <p:spPr>
          <a:xfrm>
            <a:off x="468360" y="2781360"/>
            <a:ext cx="8424720" cy="1942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7 až 5. stol.př.n.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předmětem zájmu - 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naha najít pralá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háles z Miletu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voda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naximandr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apeiron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naximené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vzduch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ythágora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číslo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rakleit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oheň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otiklad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- škola Elejská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řeceňovaly rozum, potlačovaly smysly - Parmenides, Zen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tomist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Demok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0160" y="76500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a) předsokratov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8" descr="phytagoras.jpg"/>
          <p:cNvPicPr/>
          <p:nvPr/>
        </p:nvPicPr>
        <p:blipFill>
          <a:blip r:embed="rId1"/>
          <a:stretch/>
        </p:blipFill>
        <p:spPr>
          <a:xfrm>
            <a:off x="7191360" y="83664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9"/>
          <p:cNvSpPr/>
          <p:nvPr/>
        </p:nvSpPr>
        <p:spPr>
          <a:xfrm>
            <a:off x="6091200" y="263700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ythag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5.a 4.stol.př.n.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hled od přírody obrácen na člověka a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tázky etické a poli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krates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nejmoudřejší Ř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latón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nauka o idejích a nesmrtelnosti duš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edstava ideálního st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ristoteles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ualista, analýza politický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9440" y="76500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b) klasick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ázek 11" descr="sokrates.JPG"/>
          <p:cNvPicPr/>
          <p:nvPr/>
        </p:nvPicPr>
        <p:blipFill>
          <a:blip r:embed="rId1"/>
          <a:stretch/>
        </p:blipFill>
        <p:spPr>
          <a:xfrm>
            <a:off x="7596360" y="1052640"/>
            <a:ext cx="124596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Obrázek 12" descr="aristoteles.jpg"/>
          <p:cNvPicPr/>
          <p:nvPr/>
        </p:nvPicPr>
        <p:blipFill>
          <a:blip r:embed="rId2"/>
          <a:stretch/>
        </p:blipFill>
        <p:spPr>
          <a:xfrm>
            <a:off x="7596360" y="4581360"/>
            <a:ext cx="1242720" cy="151164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13"/>
          <p:cNvSpPr/>
          <p:nvPr/>
        </p:nvSpPr>
        <p:spPr>
          <a:xfrm>
            <a:off x="6522120" y="105264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ok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4"/>
          <p:cNvSpPr/>
          <p:nvPr/>
        </p:nvSpPr>
        <p:spPr>
          <a:xfrm>
            <a:off x="6376680" y="57326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istole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ázek 15" descr="Platon.jpg"/>
          <p:cNvPicPr/>
          <p:nvPr/>
        </p:nvPicPr>
        <p:blipFill>
          <a:blip r:embed="rId3"/>
          <a:stretch/>
        </p:blipFill>
        <p:spPr>
          <a:xfrm>
            <a:off x="7596360" y="2852640"/>
            <a:ext cx="1223640" cy="1621080"/>
          </a:xfrm>
          <a:prstGeom prst="rect">
            <a:avLst/>
          </a:prstGeom>
          <a:ln w="0">
            <a:noFill/>
          </a:ln>
        </p:spPr>
      </p:pic>
      <p:sp>
        <p:nvSpPr>
          <p:cNvPr id="96" name="TextovéPole 16"/>
          <p:cNvSpPr/>
          <p:nvPr/>
        </p:nvSpPr>
        <p:spPr>
          <a:xfrm>
            <a:off x="6736680" y="28526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4.stol.př .n.l. až 6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rat od společenských problémů k problémům člověka jako jednotliv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ilozofické školy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ýn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sto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epikurej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skept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80" y="7650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c) Helé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341360"/>
            <a:ext cx="822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1. – 15. stole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řesťanská filozofie navazovala na antickou filozofii a juda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pramenem - Nový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lad v učení círk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ztah víry a věd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ilozofie se stala „služkou“ te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0" y="76500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4. Křesťanská a středově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dělení obdob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a) období apologe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1. až 3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rana křesťa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římský filozof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ertulli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b) období patris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2 . až 8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naha církevních otců systematizovat a ucelit křesťanskou ví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elký vliv Plató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urelius Augustinus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sv. Augus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c) období scholas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9. až 15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znik klášterních a katedrálních škol , univer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.Akvinský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pokus sladit a uspořádat vědění s vír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liv Aristote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76500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4. Křesťanská a středově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ázek 8" descr="tomas-akvinsky.jpg"/>
          <p:cNvPicPr/>
          <p:nvPr/>
        </p:nvPicPr>
        <p:blipFill>
          <a:blip r:embed="rId1"/>
          <a:stretch/>
        </p:blipFill>
        <p:spPr>
          <a:xfrm>
            <a:off x="7564320" y="3860640"/>
            <a:ext cx="1579680" cy="2370240"/>
          </a:xfrm>
          <a:prstGeom prst="rect">
            <a:avLst/>
          </a:prstGeom>
          <a:ln w="0">
            <a:noFill/>
          </a:ln>
        </p:spPr>
      </p:pic>
      <p:sp>
        <p:nvSpPr>
          <p:cNvPr id="119" name="TextovéPole 9"/>
          <p:cNvSpPr/>
          <p:nvPr/>
        </p:nvSpPr>
        <p:spPr>
          <a:xfrm>
            <a:off x="5934960" y="587700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omáš Akvi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ubik</cp:lastModifiedBy>
  <dcterms:modified xsi:type="dcterms:W3CDTF">2010-11-13T15:15:59Z</dcterms:modified>
  <cp:revision>449</cp:revision>
  <dc:subject/>
  <dc:title>POSLOUPNOSTI</dc:title>
</cp:coreProperties>
</file>