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8DF-78FE-4C72-A1E5-E0176EDD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76A-8900-41DE-B130-B978B9F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A6A-58AB-4D5A-A18E-65955B33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70D-05D1-42F7-92E5-72715EC9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AFF-CF74-4287-B61D-9251BCD2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AFC-6BF6-4F6E-BF66-9E7F355F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26B-77D2-4EC0-A245-11D51B15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23B-8068-4324-8C78-A6CA0FEB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616-9304-4A38-801F-8188183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69D-2760-406D-87E0-E5BBF76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696-3231-4F99-98B8-ED38D116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774-D067-44A4-B251-5EF1E66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179-C2C8-4173-AA21-898579AA632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D1E-2234-4143-9567-16DFBFCA23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hTlrSYbCbHE&amp;feature=player_embedded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19080" y="5084640"/>
            <a:ext cx="91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6527520" y="44370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POLI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8" descr="46867.jpg"/>
          <p:cNvPicPr/>
          <p:nvPr/>
        </p:nvPicPr>
        <p:blipFill>
          <a:blip r:embed="rId2"/>
          <a:stretch/>
        </p:blipFill>
        <p:spPr>
          <a:xfrm>
            <a:off x="0" y="2560680"/>
            <a:ext cx="226836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Obrázek 9" descr="1268120848_79378702_1-Pictures-of--National-Human-Rights-Association-India-NHRA.jpg"/>
          <p:cNvPicPr/>
          <p:nvPr/>
        </p:nvPicPr>
        <p:blipFill>
          <a:blip r:embed="rId3"/>
          <a:stretch/>
        </p:blipFill>
        <p:spPr>
          <a:xfrm>
            <a:off x="2340000" y="2708280"/>
            <a:ext cx="1944720" cy="1954080"/>
          </a:xfrm>
          <a:prstGeom prst="rect">
            <a:avLst/>
          </a:prstGeom>
          <a:ln w="0">
            <a:noFill/>
          </a:ln>
        </p:spPr>
      </p:pic>
      <p:pic>
        <p:nvPicPr>
          <p:cNvPr id="50" name="Obrázek 10" descr="Human-Rights.jpg"/>
          <p:cNvPicPr/>
          <p:nvPr/>
        </p:nvPicPr>
        <p:blipFill>
          <a:blip r:embed="rId4"/>
          <a:stretch/>
        </p:blipFill>
        <p:spPr>
          <a:xfrm>
            <a:off x="4427640" y="2781360"/>
            <a:ext cx="20462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absolutní“ rovnost – neexist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přirozená“ nerovnost - má různá kritéria (fyzická podoba, charakter, schopnosti, příjmy, majetek, nábož. vyz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rovnost lidí před zákonem - zvýhodňování sociálních skupin (zdravotní postižení,  ženy, děti, stař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rovnost příležitostí - podle vzdělání,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040"/>
                </a:solidFill>
                <a:latin typeface="Arial"/>
              </a:rPr>
              <a:t>úkol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Myslíte si, že máte rovnou a spravedlivou 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příležitost účastnit se společenského živo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280" y="76500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LP a ro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9"/>
          <p:cNvSpPr/>
          <p:nvPr/>
        </p:nvSpPr>
        <p:spPr>
          <a:xfrm>
            <a:off x="250920" y="5084640"/>
            <a:ext cx="576000" cy="5558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040"/>
                </a:solidFill>
                <a:latin typeface="Arial"/>
              </a:rPr>
              <a:t>silnější k slabší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040"/>
                </a:solidFill>
                <a:latin typeface="Arial"/>
              </a:rPr>
              <a:t>zdravý k nemocn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040"/>
                </a:solidFill>
                <a:latin typeface="Arial"/>
              </a:rPr>
              <a:t>bohatší k chud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940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6920" y="76500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ociální solida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každé právo v sobě obsahuje povinnost k ostatním lidem, svoboda jednotlivce je omezena svobodou druh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uplatňováním práv a svobod jednoho člověka nesmí být dotčena či omezena svoboda a práva druh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9000" y="76500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naky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0"/>
          <p:cNvSpPr/>
          <p:nvPr/>
        </p:nvSpPr>
        <p:spPr>
          <a:xfrm>
            <a:off x="3930120" y="105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11"/>
          <p:cNvSpPr/>
          <p:nvPr/>
        </p:nvSpPr>
        <p:spPr>
          <a:xfrm>
            <a:off x="5231160" y="198900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dpověd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12"/>
          <p:cNvSpPr/>
          <p:nvPr/>
        </p:nvSpPr>
        <p:spPr>
          <a:xfrm>
            <a:off x="1987200" y="21337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ob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13"/>
          <p:cNvSpPr/>
          <p:nvPr/>
        </p:nvSpPr>
        <p:spPr>
          <a:xfrm>
            <a:off x="1835280" y="2060640"/>
            <a:ext cx="1512720" cy="555480"/>
          </a:xfrm>
          <a:prstGeom prst="rect">
            <a:avLst/>
          </a:prstGeom>
          <a:solidFill>
            <a:srgbClr val="99cc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14"/>
          <p:cNvSpPr/>
          <p:nvPr/>
        </p:nvSpPr>
        <p:spPr>
          <a:xfrm>
            <a:off x="5292720" y="2060640"/>
            <a:ext cx="1511280" cy="555480"/>
          </a:xfrm>
          <a:prstGeom prst="rect">
            <a:avLst/>
          </a:prstGeom>
          <a:solidFill>
            <a:srgbClr val="99cc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15"/>
          <p:cNvSpPr/>
          <p:nvPr/>
        </p:nvSpPr>
        <p:spPr>
          <a:xfrm>
            <a:off x="3564000" y="981000"/>
            <a:ext cx="1512720" cy="555840"/>
          </a:xfrm>
          <a:prstGeom prst="rect">
            <a:avLst/>
          </a:prstGeom>
          <a:solidFill>
            <a:srgbClr val="99cc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římá spojovací čára 17"/>
          <p:cNvSpPr/>
          <p:nvPr/>
        </p:nvSpPr>
        <p:spPr>
          <a:xfrm flipV="1">
            <a:off x="3276720" y="1557360"/>
            <a:ext cx="287280" cy="503280"/>
          </a:xfrm>
          <a:prstGeom prst="line">
            <a:avLst/>
          </a:prstGeom>
          <a:ln w="25560">
            <a:solidFill>
              <a:srgbClr val="99cc00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římá spojovací čára 22"/>
          <p:cNvSpPr/>
          <p:nvPr/>
        </p:nvSpPr>
        <p:spPr>
          <a:xfrm flipH="1">
            <a:off x="3276720" y="2133720"/>
            <a:ext cx="2016000" cy="0"/>
          </a:xfrm>
          <a:prstGeom prst="line">
            <a:avLst/>
          </a:prstGeom>
          <a:ln w="25560">
            <a:solidFill>
              <a:srgbClr val="99cc00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římá spojovací čára 20"/>
          <p:cNvSpPr/>
          <p:nvPr/>
        </p:nvSpPr>
        <p:spPr>
          <a:xfrm flipH="1" flipV="1">
            <a:off x="5076720" y="1557360"/>
            <a:ext cx="287280" cy="503280"/>
          </a:xfrm>
          <a:prstGeom prst="line">
            <a:avLst/>
          </a:prstGeom>
          <a:ln w="25560">
            <a:solidFill>
              <a:srgbClr val="99cc00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demokra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mezinárodní porozu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3400" y="76500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rostředky k realizaci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rázek 9" descr="human-rights-day.jpg"/>
          <p:cNvPicPr/>
          <p:nvPr/>
        </p:nvPicPr>
        <p:blipFill>
          <a:blip r:embed="rId1"/>
          <a:stretch/>
        </p:blipFill>
        <p:spPr>
          <a:xfrm>
            <a:off x="5934240" y="1773360"/>
            <a:ext cx="32097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1. všeobecné úmluvy  </a:t>
            </a: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- zahrnují většinu 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                               </a:t>
            </a: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- byly přijaty na světové či regionální úro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2. specifické úmluvy </a:t>
            </a: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- podporují vybraná LP (např. genocida, válečné zločiny, zločiny proti lidskosti, otroctví, obchodu s lidmi, azyl, svoboda informací, sociální jisto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3. úmluvy na ochranu práv skupin </a:t>
            </a: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- uprchlíci, migranti, pracující, ženy,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4. úmluvy proti diskriminaci </a:t>
            </a:r>
            <a:r>
              <a:rPr b="0" lang="cs-CZ" sz="2000" spc="-1" strike="noStrike">
                <a:solidFill>
                  <a:srgbClr val="404040"/>
                </a:solidFill>
                <a:latin typeface="Arial"/>
              </a:rPr>
              <a:t>- příslušnost k rase, pohlaví, diskriminace vzdělávání, zaměstnání a volbě povol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0520" y="76500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Nástroje na ochranu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d 1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obecná deklarace LP (z roku 19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národní smlouva o občanských a politických práv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národní smlouva o ekonomických, sociálních a kulturní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ráv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d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enevské dohody o ochraně obětí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mluva o nepromlčitelnosti válečných zločinů a zločinů proti lidsk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mluva proti mučení a jinému krutému, nelidskému či ponižující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chá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d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klarace práv dítě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mluvy o zacházení s válečnými zajat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d4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vropská sociální ch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mluvy o vyloučení všech forem diskriminace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kumenty o bezpečnosti a zdraví pracovníků a pracovn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kumenty o diskriminaci v zaměstnání a povol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16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9000" y="765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rázek 9" descr="201689-top_foto1-e02zh.jpg"/>
          <p:cNvPicPr/>
          <p:nvPr/>
        </p:nvPicPr>
        <p:blipFill>
          <a:blip r:embed="rId1"/>
          <a:stretch/>
        </p:blipFill>
        <p:spPr>
          <a:xfrm>
            <a:off x="1908000" y="2852640"/>
            <a:ext cx="3792600" cy="2136960"/>
          </a:xfrm>
          <a:prstGeom prst="rect">
            <a:avLst/>
          </a:prstGeom>
          <a:ln w="0">
            <a:noFill/>
          </a:ln>
        </p:spPr>
      </p:pic>
      <p:sp>
        <p:nvSpPr>
          <p:cNvPr id="16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Evropská komise pro LP 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- snaha dosáhnout urovnání, pokud se nepodaří - postup k so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Evropský soud pro LP 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- rozhodnutí soudu  je závazné, ale velmi zdlouha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snaha Rady Evropy - zjednodušit a vytvořit jeden kontrolní org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7000" y="76500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Evropský kontrolní systém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rázek 10" descr="92599-top_foto2-txnba.jpg"/>
          <p:cNvPicPr/>
          <p:nvPr/>
        </p:nvPicPr>
        <p:blipFill>
          <a:blip r:embed="rId2"/>
          <a:stretch/>
        </p:blipFill>
        <p:spPr>
          <a:xfrm>
            <a:off x="5867280" y="2997360"/>
            <a:ext cx="3276720" cy="18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75760" y="4290840"/>
            <a:ext cx="74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rásková, V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LON, 1999, ISBN 80-85850-78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93400" y="4653000"/>
            <a:ext cx="86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, M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ázek 10" descr="universal-declaration-of-human-rights.jpg"/>
          <p:cNvPicPr/>
          <p:nvPr/>
        </p:nvPicPr>
        <p:blipFill>
          <a:blip r:embed="rId1"/>
          <a:stretch/>
        </p:blipFill>
        <p:spPr>
          <a:xfrm>
            <a:off x="5495760" y="907920"/>
            <a:ext cx="3648240" cy="273708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11"/>
          <p:cNvSpPr/>
          <p:nvPr/>
        </p:nvSpPr>
        <p:spPr>
          <a:xfrm>
            <a:off x="0" y="9079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hTlrSYbCbHE&amp;feature=player_embe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549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im.novinky.cz/168/201689-top_foto1-e02zh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img.radio.cz/pictures/eu/evropsky_sou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media.novinky.cz/259/92599-top_foto2-txnb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-3600" y="522936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zdroje použitých obráz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5f5f5f"/>
                </a:solidFill>
                <a:latin typeface="Arial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taková práva, bez kterých člověk přestává být sám seb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normy lidského chování 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svobody usměrňované určitými pravidly společensk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2960" y="76500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Lids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inu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přítom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budouc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lidské dějiny jsou doprovázeny neustálými boji za lidská 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9080" y="765000"/>
            <a:ext cx="39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Časové rozměry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0800" y="765000"/>
            <a:ext cx="75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Arial"/>
              </a:rPr>
              <a:t>OBECNÝ POHLED NA LIDS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LP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 jsou přirozená práva člověka, člověk se narodil jako svobodná lidská by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404040"/>
                </a:solidFill>
                <a:latin typeface="Arial"/>
              </a:rPr>
              <a:t>př. právo na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4400" y="162864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 pohledu filozo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LP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 souvisí se společenskou atmosférou, slouží k prosazování změn ve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404040"/>
                </a:solidFill>
                <a:latin typeface="Arial"/>
              </a:rPr>
              <a:t>př. svoboda projevu, pohybu, po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120" y="76500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 pohledu politi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LP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 jsou zakotvena v platném právním řádu a respektováním při výkonu státní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6200" y="76500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Z pohledů prá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základní myšlenkou LP je rovnost a pro její dosažení potřebuje člověk svobodu spjatou s odpovědností (neomezovat na úkor sebe svobodu druhé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3680" y="765000"/>
            <a:ext cx="67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Lidská práva a principy svobod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pravedlnosti a ro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touha člověka být nezávislý tu byla odjakž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absolutní svoboda“ – neexist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potřebná svoboda“ – tu zajišťují 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040"/>
                </a:solidFill>
                <a:latin typeface="Arial"/>
              </a:rPr>
              <a:t>úkol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: Co považujete za neúnosné omezení své 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  vlastní svo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9000" y="76500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LP a svo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9"/>
          <p:cNvSpPr/>
          <p:nvPr/>
        </p:nvSpPr>
        <p:spPr>
          <a:xfrm>
            <a:off x="250920" y="4221000"/>
            <a:ext cx="576000" cy="5558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vztah mezi jednotlivci, který je v souladu se zákony a nejsou při ní porušována přirozená práva jednotliv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040"/>
                </a:solidFill>
                <a:latin typeface="Arial"/>
              </a:rPr>
              <a:t>respektování určitého sociálního rozvrstvení (stratifik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2600" y="76500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LP a spraved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240" y="2602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LIDSKÁ 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ubik</cp:lastModifiedBy>
  <dcterms:modified xsi:type="dcterms:W3CDTF">2010-11-06T15:09:38Z</dcterms:modified>
  <cp:revision>394</cp:revision>
  <dc:subject/>
  <dc:title>POSLOUPNOSTI</dc:title>
</cp:coreProperties>
</file>