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9FA-152F-46AB-AC08-E99D2B9D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193-A376-452B-B3D1-BC233723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0F7-807E-45DD-9F26-14716185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389-119C-4B47-A8A0-BCF1E845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F14-E4E2-44CE-AC6B-DA06795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346-631A-4F2F-BB79-F81D8E2E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2E6-C0C8-437F-B392-88C96019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FA8-C421-4EAA-9086-2B5A958D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874-0D28-4E8D-84FD-9946F3B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CAB-0CB6-4141-AB80-BB2650C9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04C-92FB-4DC6-8208-FFE043F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3A1-4DC1-49EC-BA5B-9E11B4E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2001-74AB-4102-A638-9C8A043CC5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6827-42C8-4715-B968-D2937345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www.usoud.cz/galerie/img/1.jpg" TargetMode="External"/><Relationship Id="rId2" Type="http://schemas.openxmlformats.org/officeDocument/2006/relationships/hyperlink" Target="http://www.prosan.cz/wp-content/uploads/vsbudova.jpg" TargetMode="External"/><Relationship Id="rId3" Type="http://schemas.openxmlformats.org/officeDocument/2006/relationships/hyperlink" Target="http://storage0.dms.mediafax.cz/media/1/1/4727/2964593/1/soud-olomouc-vrchni.jpg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03600" y="4437000"/>
            <a:ext cx="46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ZÁKLADY TEORIE 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" y="5084640"/>
            <a:ext cx="91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oskytují 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Soudy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- chrání v demokratických zemích dodržování práva, zřízeny státem, nestranné, nezávislé, při rozhodování se řídí zákonem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- dva základní typy soud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civilní(vztahy občanské,obchodní, pracovní, rodin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trestní (trestní č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Státní zastupitelství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u soudu stát zastupuje, podává žalobu jménem státu,upozorňuje na nezákonnosti,dohlíží na zachování zákonů, dozor nad vyšetřov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500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ávní och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Advokáti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poskytují právní služby- právní rady, zastupují před soudem, obhajoba, sepisování listin (např. kupní smlou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Notáři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poskytují právní služby – sepisování smluv, závěti, dědic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Daňoví poradci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služby v oblasti fina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93939"/>
                </a:solidFill>
                <a:latin typeface="Arial"/>
              </a:rPr>
              <a:t>Hierarchie soudů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od nejnižších po nejvyšší: okresní, krajské, vrchní a nejvyšší s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600" y="76500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Advokáti, notáři, daňový porad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ykonavatelé soudní 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Ústavou ČR je jim stanovena nezávislost a nestrannost, do jejich činnosti nesmí nikdo zasah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ávnické vysokoškolské vzdělání, složená zkouška justičního ček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oudce je do své funkce jmenován prezidentem republiky, do jeho rukou skládá s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" y="7650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oud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= souhrn všech právních předpi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ústava, ústavní zák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ákony, zákon.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ládní na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hlášky minist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            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hlášky nižších st.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80" y="76500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ávní ř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03280" y="494172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03280" y="2565000"/>
            <a:ext cx="1368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2565360"/>
            <a:ext cx="15130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618920" y="45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907640" y="4005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19564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484000" y="3068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nejstarším, nejvýznamnějším a nejobsáhlejším odvětvím 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pravuje majetkové vztahy fyzických a právnických osob (FO – člověk, PO – uměle vytvořený subjekt –obchodní společnost, družstvo, nadace, obce), právo na ochranu os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m pramenem je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občanský záko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76500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bčanské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Občanské právo se skládá z 5 základních čás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1.práva věcná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právo vlastnické, spoluvlastn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2. práva závazková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vztah mezi věřitelem a dlužníkem, smlouvy, pohledávky, záva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3. právo dědické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přechod majetku zemřelé osoby ze závěti nebo ze zákona, vyděd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4. právo osobnostní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právo na ochranu os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5. práva osobně majetková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právo autorské, právo k vynálezu,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720" y="76500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bčanské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pravuje vztahy týkající se podnikání, postavení podnikat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m pramenem je obchodní záko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odnikání – činnost za účelem dosažení zi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bchodní rejstřík – evidence podnikatelů, která slouží k daňovým a kontrolním účel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edení účetnic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bchodní společnosti – akciové společnosti,společnosti s ručením omezeným, druž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bchodně-právní smlouvy – smlouva o dílo, kupní smlouva, smlouva o státních službách,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1440" y="76500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bchod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pravuje vztahy mezi rodiči a dětmi, otázky manželství, vztahy při výchově d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m pramenem je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zákon o rodině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, který vyjadřuje základní zásady rodinného života (rovnost ženy a muže v manželství, podpora mateřství, odpovědnost rodičů za všestranný rozvoj dětí, zvyšování hmotné a kulturní úrovně rodi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720" y="76500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Rodinné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= svobodné a dobrovolné rozhodnutí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sňatek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- civilní ob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- církevní ob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kolnosti vylučující uzavření manžel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bigamie, příbuzenství, duševní choroba, nezleti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zánik manželství: rozvodem, smrtí jednoho z manž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rčení otcovství – znalecké posudky, krevní zkouš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6500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Manže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- souhrn práv a povin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rčení jména a příjm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ýchova dítě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zastupování dítě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yživovací pov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600" y="765000"/>
            <a:ext cx="53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Rodičovská zodpově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Ústavní s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Nejvyšší s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Nejvyšší správní s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Vrchní s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Krajské so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Okresní so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20" y="76500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Druhy sou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Formy náhradní rodinné výchov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Kolektivní forma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ústavní výchova (dětské domovy, speciální výchovná zařízení, péče v SOS vesničk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Individuální forma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osvojení(adopce),pěstounská péče, svěření do výchovy jiného občana(příbuzný), poručnic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2160" y="76500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áhradní rodinná vých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pravuje pracovní vztahy a zahrnuje problematiku vztahů mezi zaměstnanci a zaměstnav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m pramenem je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Listina základních práv a svobod a zákoník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ávo na zaměstnání – zprostředkování pracovního uplatnění, rekvalifikace, hmotné zabezpečení před nástupem do zaměstnání a v případě jeho ztrá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 zaměstnanost pečují úřady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76500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acov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racovní poměr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vzniká na základě uzavření pracovní smlouvy – písemně a musí obsahovat: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den nástupu do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místo výkonu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druh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ýše platu, mz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ukončení pracovní smlouvy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boustran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d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ýpově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kamžité zruš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plynutí doby, skončení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zrušení ve zkušební lhů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úmrt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500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acov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racovní doba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stanovená její délka, rozvržení přestávek v práci, doba odpočinku mezi směnami ( 42,5 hodiny za týden, mladší 16 let -33 hodin týdně, možnost kratší pracovní d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dovolená na zotave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mzda, náhrada mzdy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může být úkolová,podílová, časová a smíše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ezpečnost a ochrana zdraví při pr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ovinnosti zaměstnavatelů i povinnosti zaměstna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odbory a kolektivní vyjednávání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– odborové organizace mají prosazovat zájmy zaměstnanců vůči zaměstnavatelům (rozvržení pracovní doby, přesčasová práce, převedení na jinou práci, odměňování, péče o zaměstn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76500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acov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= souhrn právních norem o nejvyšších orgánech státní moci a správy, o územní samos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mi prameny jsou Ústava ČR, zákon o obcích a krajích, zákon o správním řízení, zákon o Policii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živnostenské právo = upravuje živnostenské podnikání a oprávnění k provozování či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m pramenem je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zákon o živnostenském podnikání a zákon o živnostenských úřad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živnost – obchodní a poskytující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6500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práv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= zabývá se finanční činností státu – upravuje oblast státního rozpočtu, daně, poplatky, cla, měnu, devize, pojist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ávní úprava vychází z Ústavy a ze zákona o rozpočtových pravidl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počtové příjmy: daně a poplatky ( daň z přidané hodnoty, daň z příjmu fyzických a právnických osob, daň z nemovitosti, silniční daň, dědická daň, darovací daň, z převodu nemovit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720" y="76500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inanč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= zabývá se postupem orgánů činných v trestním řízení při odhalování, stíhání a trestání trestných či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m pramenem je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restní ř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ádia trestního řízení: přípravné, předběžné projednávání žaloby, hlavní líčení, odvolací řízení, vykonávací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76500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Trest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restné činy (dáleTč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proti republice(vlastizrada,vyzvědačství, hanobení republik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hospodářské(padělání peněz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proti pořádku ve věcech veřejných(útok na veřejného činitele,úplatkářství,křivá výpověď, křivé obvinění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obecně nebezpečné(šíření toxikomanie,ohrožení ŽP,nedovolené ozbrojování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hrubě narušující občanské soužití (rasová nenávist, neposkytnutí pomoci, ohrožení mravnost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proti rodině a mládeže( bigamie, zanedbání povinné výživy, podávání alkoholických nápojů mládež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proti životu a zdraví ( vražda, ublížení na zdraví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proti svobodě a lidské důstojnosti( znásilnění, pohlavní zneužívání,obchod se ženami, loupež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proti majetku ( krádež, pronevěra, podvo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proti lidskosti ( genocida, válečná krutos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Tč proti brannosti a proti civilní služb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Vojenské Tč (zběhnutí, neuposlechnutí rozkazu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500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Trest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ukládání trestů za trestné č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podmíněný trest odnětí svobody na 15 let, výjímečný trest až 25 let nebo doživo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dmíněné odsouzení k trestu odnětí svobody (max. 2 ro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becně prospěšné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tráta čestných titulů a vyznamenání, ztráta vojenské ho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ákaz činnosti(řízení motorových vozidel) až na 10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opadnutí majet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eněžitý trest (2000 až 5 milió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opadnutí věci(př. automobil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hoštění z republiky(pouze u cizinc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ákaz pobytu na určitém místě ( na jeden až pět 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případě mladistvých ve věku od 15 do 18 let se snižují trestní vazby na polov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ložené tresty se zaznamenávají do Rejstříku trestů,který vede Nejvyšší státní zastupitelství v Pr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76500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Trest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Trest smrti (absolutní t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Československu zaveden od počátku fungování 1. repub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50. letech zneužíván pro likvidaci politických odpůrců komun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rušen v roce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rgumenty pro a proti znovuzavedení trestu sm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istorie trestu smrti (Řekové, Římané, Mayov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oučasnost – 90 zemí má možnost využít trest smrti, 16 zemí ve výjímečných případech,  nejvíce se uděluje v Číně, Iránu, Saudské Arábii, USA( zde se uplatňuje ve 13 státech, Texas, černoš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76500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Trestní prá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720" y="7650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Ústavní s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ídlí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je garantem ochrany ústa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15 soudců na 10 let, jmenováni prezidentem se souhlasem Sen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uje o zrušení zákonů, ale pouze jsou-li v rozporu s ústavním zákonem nebo mezinárodní smlouv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ojednává ústavní stí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uje o ústavní žalobě Senátu proti prezidentovi repub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oučasný předseda soudu je JUDr. Pavel Rychet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32440" y="4508640"/>
            <a:ext cx="2311560" cy="173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9cc00"/>
                </a:solidFill>
                <a:latin typeface="Arial"/>
              </a:rPr>
              <a:t>Policejní orgán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 – vyslýchá, získává důkazy,48 hod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9cc00"/>
                </a:solidFill>
                <a:latin typeface="Arial"/>
              </a:rPr>
              <a:t>Vyšetřovatel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 – trestní stíhání, návrh na uvalení vazby, advokát, obviněn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9cc00"/>
                </a:solidFill>
                <a:latin typeface="Arial"/>
              </a:rPr>
              <a:t>Státní zástupce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 –vypracuje obžalobu, požádá soud o uvalení vazb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9cc00"/>
                </a:solidFill>
                <a:latin typeface="Arial"/>
              </a:rPr>
              <a:t>Soud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 – uvalení vazby v případě podezření na pokračování v trestní činnosti, útěk, ovlivňování svědk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9cc00"/>
                </a:solidFill>
                <a:latin typeface="Arial"/>
              </a:rPr>
              <a:t>Vězeňská služba v ČR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 – zabezpečuje výkon vazby a trestu, spadá do kompetence ministra spravedlnosti, rozeznáváme vazební věznice a vězni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4 typy věznic: 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věznice s dohledem ( nedbalostní trestné činy)-Břecla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                        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věznice s dozorem –Kynšperk n. Ohří, Ostr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                        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věznice s ostrahou -Příb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                        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věznice se zvýšenou ostrahou ( pro zvlášť nebezpečné pachate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Mírov (útěk J.Kájínka v roce 2000), Valdice, Plzeň –B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vazební věznice – Pankrác, Ruzyně, České Budějo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pro ženy – Opava, Světlá nad Sázavo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25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4320" y="765000"/>
            <a:ext cx="89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Trestní právo – orgány činné v trestním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řaďte soudní soustavu od nejnižší po nejvyšší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rchní s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vyšší s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kresní s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stavní s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ajský s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rávně přiřaďte konkrétní trestné činy k příslušným okruhům trestných čin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) bi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. Trestné činy proti repub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) vlastizrad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. Trestné činy hospodářsk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) zkrácení dan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. Trestné činy proti pořádku ve věcech veřejný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) zneužití pravomoci veřejného činitel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. Trestné činy proti rodině a mládež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) kuplířstv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5. Trestné činy proti životu a zdra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) ublížení na zdrav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6. Trestné činy hrubě narušující občanské souži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76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3. Jmenujte způsoby rozvázání pracovního pomě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4. Jaké okolnosti vylučují uzavření manželstv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76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5760" y="4290840"/>
            <a:ext cx="74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rásková, V.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raha: SLON, 1999, ISBN 80-85850-78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3400" y="4653000"/>
            <a:ext cx="86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nta, M.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3760" y="5013360"/>
            <a:ext cx="85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dák, V. a kol.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5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www.usoud.cz/galerie/img/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rosan.cz/wp-content/uploads/vsbudov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torage0.dms.mediafax.cz/media/1/1/4727/2964593/1/soud-olomouc-vrchni.jp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3600" y="5229360"/>
            <a:ext cx="50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zdroje použitých obráz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Arial"/>
              </a:rPr>
              <a:t>3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ídlí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rcholný orgán soudní 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uje o mimořádných opravných prostřed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uje o uznání rozsudku z cizí ze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50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ejvyšší s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ídlí v Br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zkoumá přestupky orgánů ve veřejné s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zahájení činnosti -1.1.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řeší žaloby proti rozhodnutí úřadů státní správy a krajských sou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zrušení Dělnické strany v březnu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080" y="765000"/>
            <a:ext cx="44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ejvyšší správní s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ídla v Praze a Olomou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uje o odvolání proti rozhodnutí krajských sou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ídla v krajských měs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ují o odvolání proti rozhodnutí okresních soudů,působí jako odvolací soud 1.stu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aha – Městský s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může být i soudem 1.stupně (např. vraž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76500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Vrchní s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300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Krajské s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32560" y="1125360"/>
            <a:ext cx="2611440" cy="195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ídla v bývalých okresních měs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ojednávání všech případných tr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aha – obvodní so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Brno, Ostrava – městské so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60" y="76500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kresní so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ávo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= soubor předpisů, podle kterých se organizuje a řídí život lidské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ávní vědomí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= souhrn právních názorů, představ, pocitů a skutečných vědomostí,které vyjadřují vztahy občanů k platnému prá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= okruhy právních norem, které se zabývají jednotlivými stránkami života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Ústavní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právní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Trestní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Mezinárodní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Finanční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bčanské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dinné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bchodní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acovní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Živnostenské 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80" y="260280"/>
            <a:ext cx="49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STAVA SOUDŮ A PRÁVNÍ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ávní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05-08T19:14:05Z</dcterms:modified>
  <cp:revision>308</cp:revision>
  <dc:subject/>
  <dc:title>POSLOUPNOSTI</dc:title>
</cp:coreProperties>
</file>