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188-8F1D-4926-9412-FAEB058E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2E6-2553-4172-A21D-A6F4C6E2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F94-02EE-40DE-A68E-1B06579A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C3B-9BFB-4067-9845-05C390C5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D0DB-803F-495A-A737-0E111532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99C-2F37-4029-B6A2-E6C096A9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B03-C6F9-4887-B08F-9DB080C6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DB5-404F-4A81-8354-4F1436D5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6CA-150C-4DF9-A654-34B2A922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042-0B81-4483-A3E5-B83FF692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51F-DB24-4B4F-A076-861B7246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110-1285-413C-AB7F-DA01301C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D498-F02B-43E3-BAB4-CCE5556A9FF9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DD2D-2391-493B-9554-F856ECDF209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0"/>
          <p:cNvSpPr/>
          <p:nvPr/>
        </p:nvSpPr>
        <p:spPr>
          <a:xfrm>
            <a:off x="3952440" y="4437000"/>
            <a:ext cx="51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f5f5f"/>
                </a:solidFill>
                <a:latin typeface="Arial"/>
              </a:rPr>
              <a:t>TEORETICKÁ PSYCH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3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21960" y="5084640"/>
            <a:ext cx="911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VÝVOJOVÁ PSYCHOLOG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– </a:t>
            </a: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ETAPY LIDSKÉ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0"/>
          <p:cNvSpPr/>
          <p:nvPr/>
        </p:nvSpPr>
        <p:spPr>
          <a:xfrm>
            <a:off x="2160" y="1844640"/>
            <a:ext cx="90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gr. Ivana Váchová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O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3" descr=""/>
          <p:cNvPicPr/>
          <p:nvPr/>
        </p:nvPicPr>
        <p:blipFill>
          <a:blip r:embed="rId2"/>
          <a:stretch/>
        </p:blipFill>
        <p:spPr>
          <a:xfrm>
            <a:off x="0" y="2428920"/>
            <a:ext cx="444816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-1080" y="692280"/>
            <a:ext cx="50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C</a:t>
            </a: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stáří</a:t>
            </a: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65 až sm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34920" y="1484280"/>
            <a:ext cx="820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zákonitý proces života, jeho vyvrcho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klesá pracovní schopnost, pružnost myšlení, přizpůsobení se novým                  podmínk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zhoršení smyslového vnímání a pam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péče o zdraví, smysluplné využití volného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080" y="260280"/>
            <a:ext cx="69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VÝVOJOVÁ PSYCHOLOGIE – ETAPY LIDSKÉHO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"/>
          <p:cNvPicPr/>
          <p:nvPr/>
        </p:nvPicPr>
        <p:blipFill>
          <a:blip r:embed="rId2"/>
          <a:stretch/>
        </p:blipFill>
        <p:spPr>
          <a:xfrm>
            <a:off x="2928960" y="4143240"/>
            <a:ext cx="322884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1800" y="692280"/>
            <a:ext cx="62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Charakteristika zralého člově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89040" y="1413000"/>
            <a:ext cx="4060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ezávislost na rodič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odpovědný výběr životního partn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finanční nezávis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amostatné rozhod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akceptování názorů druh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ebekr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9760" y="4797360"/>
            <a:ext cx="821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Vývoj člověka je ovlivněn: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rá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ůsobením vrozených dispozic (dědičnost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ískáváním zkuše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uč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1080" y="260280"/>
            <a:ext cx="69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VÝVOJOVÁ PSYCHOLOGIE – ETAPY LIDSKÉHO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0" y="4508640"/>
            <a:ext cx="9144000" cy="172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-2520" y="69228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Generace a mezigenerační vzta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747720" y="2060640"/>
            <a:ext cx="569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skupina lidí, kteří se narodí a žijí ve stejné 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mají podobné názory, zájmy, pohled na živ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758160" y="4653000"/>
            <a:ext cx="76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93939"/>
                </a:solidFill>
                <a:latin typeface="Arial"/>
              </a:rPr>
              <a:t>dítě</a:t>
            </a:r>
            <a:r>
              <a:rPr b="1" lang="cs-CZ" sz="4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4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4000" spc="-1" strike="noStrike">
                <a:solidFill>
                  <a:srgbClr val="393939"/>
                </a:solidFill>
                <a:latin typeface="Arial"/>
              </a:rPr>
              <a:t>-</a:t>
            </a:r>
            <a:r>
              <a:rPr b="1" lang="cs-CZ" sz="4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4000" spc="-1" strike="noStrike">
                <a:solidFill>
                  <a:srgbClr val="393939"/>
                </a:solidFill>
                <a:latin typeface="Arial"/>
              </a:rPr>
              <a:t>rodič</a:t>
            </a:r>
            <a:r>
              <a:rPr b="1" lang="cs-CZ" sz="4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4000" spc="-1" strike="noStrike">
                <a:solidFill>
                  <a:srgbClr val="393939"/>
                </a:solidFill>
                <a:latin typeface="Arial"/>
              </a:rPr>
              <a:t>-</a:t>
            </a:r>
            <a:r>
              <a:rPr b="1" lang="cs-CZ" sz="4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cs-CZ" sz="4000" spc="-1" strike="noStrike">
                <a:solidFill>
                  <a:srgbClr val="393939"/>
                </a:solidFill>
                <a:latin typeface="Arial"/>
              </a:rPr>
              <a:t>prarodi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080" y="260280"/>
            <a:ext cx="69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VÝVOJOVÁ PSYCHOLOGIE – ETAPY LIDSKÉHO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0" y="2133720"/>
            <a:ext cx="9144000" cy="201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080" y="260280"/>
            <a:ext cx="69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VÝVOJOVÁ PSYCHOLOGIE – ETAPY LIDSKÉHO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5400" y="1628640"/>
            <a:ext cx="56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čtěte si popis modelové situace a vypracujte úko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-1080" y="2205000"/>
            <a:ext cx="89953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U Vyskočilů probíhá typická výměna názorů posledních d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 „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Chci, aby z tebe něco bylo! Vypadáš jako strašidlo, vždyť si tě nikdo nevezme!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 „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Mami, nech mě už konečně žít, bude mi sedmnáct!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Paní Vyskočilová si neví rady, nechápe, kde se stala chyba, a touží po návra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393939"/>
                </a:solidFill>
                <a:latin typeface="Arial"/>
              </a:rPr>
              <a:t>své hodné holčič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833400" y="4221000"/>
            <a:ext cx="822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koly pro tříd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č si matka s dcerou najednou přestali rozumět? V jakém životním obdo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dcera nacház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ište 5 nejčastějších příčin konfliktů, které máte se svými rodič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edejte společná řešení konfliktních situací, která se pokusíte sehr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třednictvím jednoduché scén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0" y="69228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Cvičení k tém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080" y="260280"/>
            <a:ext cx="69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VÝVOJOVÁ PSYCHOLOGIE – ETAPY LIDSKÉHO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720" y="36450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73960" y="4290840"/>
            <a:ext cx="86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Gillernová, I.; Buriánek, J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áklady psychologie, sociologi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FORTUNA, 1995, ISBN 80-7168-242-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294480" y="4653000"/>
            <a:ext cx="85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alenta, M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pro studijní obory S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1999, ISBN 80-7235-080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93760" y="5013360"/>
            <a:ext cx="85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udák, V. a kol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studijní obory S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2003, ISBN 80-7235-23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0" y="3284640"/>
            <a:ext cx="9144000" cy="79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-2160" y="76500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TEORETICKÁ PSYCH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341800" y="21319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OBEC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340360" y="27795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OSOB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341440" y="34275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- VÝVOJ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341440" y="42210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SOCI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340720" y="486900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- PSYCHOPAT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080" y="260280"/>
            <a:ext cx="69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VÝVOJOVÁ PSYCHOLOGIE – ETAPY LIDSKÉHO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-360" y="692280"/>
            <a:ext cx="67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f5f5f"/>
                </a:solidFill>
                <a:latin typeface="Arial"/>
              </a:rPr>
              <a:t>Vývojová psychologie – etapy lidského živ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760" y="1268280"/>
            <a:ext cx="87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DEFINICE: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abývá se psychikou člověka v různých věkových etap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680" y="213372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FYLOGENEZE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ývoj lidského druhu v hist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60" y="5589720"/>
            <a:ext cx="64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ff"/>
                </a:solidFill>
                <a:latin typeface="Arial"/>
              </a:rPr>
              <a:t>ONTOGENEZE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ývoj člověka od narození do sm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080" y="260280"/>
            <a:ext cx="69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VÝVOJOVÁ PSYCHOLOGIE – ETAPY LIDSKÉHO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2"/>
          <a:stretch/>
        </p:blipFill>
        <p:spPr>
          <a:xfrm>
            <a:off x="357120" y="2643120"/>
            <a:ext cx="843912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-3240" y="692280"/>
            <a:ext cx="60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3 hlavní etapy lidského živo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474560" y="2349360"/>
            <a:ext cx="58820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99ff"/>
                </a:solidFill>
                <a:latin typeface="Arial"/>
              </a:rPr>
              <a:t>A</a:t>
            </a:r>
            <a:r>
              <a:rPr b="0" lang="cs-CZ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393939"/>
                </a:solidFill>
                <a:latin typeface="Arial"/>
              </a:rPr>
              <a:t>dětství a mládí (dospív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99ff"/>
                </a:solidFill>
                <a:latin typeface="Arial"/>
              </a:rPr>
              <a:t>B</a:t>
            </a:r>
            <a:r>
              <a:rPr b="0" lang="cs-CZ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393939"/>
                </a:solidFill>
                <a:latin typeface="Arial"/>
              </a:rPr>
              <a:t>dospě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99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393939"/>
                </a:solidFill>
                <a:latin typeface="Arial"/>
              </a:rPr>
              <a:t>stář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080" y="260280"/>
            <a:ext cx="69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VÝVOJOVÁ PSYCHOLOGIE – ETAPY LIDSKÉHO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-1440" y="69228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A</a:t>
            </a: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dětství a dospí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46840" y="1341360"/>
            <a:ext cx="7408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99ff"/>
                </a:solidFill>
                <a:latin typeface="Arial"/>
              </a:rPr>
              <a:t>Prenatální období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99cc00"/>
                </a:solidFill>
                <a:latin typeface="Arial"/>
              </a:rPr>
              <a:t>(od početí po narození - 9 měsíc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četí – splynutí mužské a ženské zárodečné buň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ývoj plodu v matčině tě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důležitá psychohygiena těhotné ženy, změna postavy, nálado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99ff"/>
                </a:solidFill>
                <a:latin typeface="Arial"/>
              </a:rPr>
              <a:t>Novorozenecké období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99cc00"/>
                </a:solidFill>
                <a:latin typeface="Arial"/>
              </a:rPr>
              <a:t>(od porodu do 6 týd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období „šestinedělí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kontakt s matkou, nové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získávání denního ryt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yužívání hlavně smyslových orgá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1080" y="260280"/>
            <a:ext cx="69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VÝVOJOVÁ PSYCHOLOGIE – ETAPY LIDSKÉHO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"/>
          <p:cNvPicPr/>
          <p:nvPr/>
        </p:nvPicPr>
        <p:blipFill>
          <a:blip r:embed="rId2"/>
          <a:stretch/>
        </p:blipFill>
        <p:spPr>
          <a:xfrm>
            <a:off x="5429160" y="4000680"/>
            <a:ext cx="3171960" cy="21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39640" y="1341360"/>
            <a:ext cx="8785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99ff"/>
                </a:solidFill>
                <a:latin typeface="Arial"/>
              </a:rPr>
              <a:t>Kojenecké období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99cc00"/>
                </a:solidFill>
                <a:latin typeface="Arial"/>
              </a:rPr>
              <a:t>(6 týdnů až 1 r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rychlý tělesný růst, duševní vývoj, rozvoj pohybliv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rozvoj kontaktů s okol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úsměv, první sl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3399ff"/>
                </a:solidFill>
                <a:latin typeface="Arial"/>
              </a:rPr>
              <a:t>Batolecí období</a:t>
            </a:r>
            <a:r>
              <a:rPr b="1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99cc00"/>
                </a:solidFill>
                <a:latin typeface="Arial"/>
              </a:rPr>
              <a:t>(1 až 3 ro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5f5f5f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uvědomění si vlastní ex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slovní zásoba (až 300 slo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napodob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393939"/>
                </a:solidFill>
                <a:latin typeface="Arial"/>
              </a:rPr>
              <a:t>období prvního vzdoru, stále větší samostatnost, vrstevnické vztah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80" y="260280"/>
            <a:ext cx="69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VÝVOJOVÁ PSYCHOLOGIE – ETAPY LIDSKÉHO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-1440" y="69228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A</a:t>
            </a: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dětství a dospí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1"/>
          <a:stretch/>
        </p:blipFill>
        <p:spPr>
          <a:xfrm>
            <a:off x="0" y="3500280"/>
            <a:ext cx="2071800" cy="2710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7066080" y="928800"/>
            <a:ext cx="207792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45400" y="1700280"/>
            <a:ext cx="8300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99ff"/>
                </a:solidFill>
                <a:latin typeface="Arial"/>
              </a:rPr>
              <a:t>Předškolní období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99cc00"/>
                </a:solidFill>
                <a:latin typeface="Arial"/>
              </a:rPr>
              <a:t>(3 až 6 l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rozvoj vnímání, paměti, představivosti, fantazie, myšlení a řeč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ovládání základních hygienických návy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h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99ff"/>
                </a:solidFill>
                <a:latin typeface="Arial"/>
              </a:rPr>
              <a:t>Období mladšího školního věku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99cc00"/>
                </a:solidFill>
                <a:latin typeface="Arial"/>
              </a:rPr>
              <a:t>(6 až 11 l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školní zralost – připravenost po stránce tělesné, rozumové, citové, soci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rvní známky pohlavního dospí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080" y="260280"/>
            <a:ext cx="69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VÝVOJOVÁ PSYCHOLOGIE – ETAPY LIDSKÉHO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-1440" y="69228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A</a:t>
            </a: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dětství a dospí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46120" y="1341360"/>
            <a:ext cx="6736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99ff"/>
                </a:solidFill>
                <a:latin typeface="Arial"/>
              </a:rPr>
              <a:t>Období staršího školního věku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99cc00"/>
                </a:solidFill>
                <a:latin typeface="Arial"/>
              </a:rPr>
              <a:t>(11-15 l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biologické, psychické a sociální změ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elmi dynamické, bouřlivé období (puber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druhé období vzdoru, nedostatek sebeovládání, sebekrit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99ff"/>
                </a:solidFill>
                <a:latin typeface="Arial"/>
              </a:rPr>
              <a:t>Období dospívání (adolescence)</a:t>
            </a: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99cc00"/>
                </a:solidFill>
                <a:latin typeface="Arial"/>
              </a:rPr>
              <a:t>(15-20 l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dokončení tělesného rů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ohlavní zr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volba povolání, profesní přípr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citové a rozumové zklid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393939"/>
                </a:solidFill>
                <a:latin typeface="Arial"/>
              </a:rPr>
              <a:t>proces osamostat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080" y="260280"/>
            <a:ext cx="69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VÝVOJOVÁ PSYCHOLOGIE – ETAPY LIDSKÉHO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-1440" y="69228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A</a:t>
            </a: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dětství a dospí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0" y="692280"/>
            <a:ext cx="51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B</a:t>
            </a: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dospělost</a:t>
            </a: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20 až 65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892800" y="1963800"/>
            <a:ext cx="4342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nejdelší období, produktivní vě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plná zodpovědnost za svůj živ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realistický pohled na svě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trvalé hodnoty života, péče o zdra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nezávislost na rodič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939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93939"/>
                </a:solidFill>
                <a:latin typeface="Arial"/>
              </a:rPr>
              <a:t>založení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080" y="260280"/>
            <a:ext cx="69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VÝVOJOVÁ PSYCHOLOGIE – ETAPY LIDSKÉHO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958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Ondra</cp:lastModifiedBy>
  <dcterms:modified xsi:type="dcterms:W3CDTF">2010-04-28T19:20:02Z</dcterms:modified>
  <cp:revision>81</cp:revision>
  <dc:subject/>
  <dc:title>POSLOUPNOSTI</dc:title>
</cp:coreProperties>
</file>