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600-B7A0-43CC-B16B-CA034200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A14-F40E-4ACC-971B-7A284C3A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437-EF6B-4126-86EA-8498611E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C90-A28D-4742-B85C-7483B35D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BB0-BC6A-48C0-9245-01E3ADF6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7B3-B9FD-48B6-9F80-D807DFCF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9BF-420C-451B-B7CA-59079EE9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1AE-27B0-4DC4-8EC3-4B3D3B0B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A5E-7367-4855-A4DC-631B8A4B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850-F7B8-4D78-A22F-D5C4F3B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9EB-4938-4841-8114-F65B7CDC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CDB-0D98-4026-AC37-84E879DB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3163-7AE8-44F9-BD6D-1091AAFFB76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F12B-B632-4F36-800F-9EAA576F08C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0"/>
          <p:cNvSpPr/>
          <p:nvPr/>
        </p:nvSpPr>
        <p:spPr>
          <a:xfrm>
            <a:off x="6536160" y="44370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POLI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19080" y="5084640"/>
            <a:ext cx="91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5" descr="ustavni_soud"/>
          <p:cNvPicPr/>
          <p:nvPr/>
        </p:nvPicPr>
        <p:blipFill>
          <a:blip r:embed="rId2"/>
          <a:stretch/>
        </p:blipFill>
        <p:spPr>
          <a:xfrm>
            <a:off x="0" y="2708280"/>
            <a:ext cx="2311560" cy="173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1440006-urad-vlady-cr"/>
          <p:cNvPicPr/>
          <p:nvPr/>
        </p:nvPicPr>
        <p:blipFill>
          <a:blip r:embed="rId3"/>
          <a:stretch/>
        </p:blipFill>
        <p:spPr>
          <a:xfrm>
            <a:off x="2411280" y="2708280"/>
            <a:ext cx="1500480" cy="17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vald5"/>
          <p:cNvPicPr/>
          <p:nvPr/>
        </p:nvPicPr>
        <p:blipFill>
          <a:blip r:embed="rId4"/>
          <a:stretch/>
        </p:blipFill>
        <p:spPr>
          <a:xfrm>
            <a:off x="3995640" y="2708280"/>
            <a:ext cx="230364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Imunita</a:t>
            </a:r>
            <a:r>
              <a:rPr b="0" lang="cs-CZ" sz="2400" spc="-1" strike="noStrike">
                <a:solidFill>
                  <a:srgbClr val="393939"/>
                </a:solidFill>
                <a:latin typeface="Arial"/>
              </a:rPr>
              <a:t> = beztrestnost senátora a pos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andát</a:t>
            </a:r>
            <a:r>
              <a:rPr b="0" lang="cs-CZ" sz="2400" spc="-1" strike="noStrike">
                <a:solidFill>
                  <a:srgbClr val="393939"/>
                </a:solidFill>
                <a:latin typeface="Arial"/>
              </a:rPr>
              <a:t> = zmocnění senátora a pos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Interpelace</a:t>
            </a:r>
            <a:r>
              <a:rPr b="0" lang="cs-CZ" sz="2400" spc="-1" strike="noStrike">
                <a:solidFill>
                  <a:srgbClr val="393939"/>
                </a:solidFill>
                <a:latin typeface="Arial"/>
              </a:rPr>
              <a:t> = dotazy zastupitelů na členy vlá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0" y="1341360"/>
            <a:ext cx="8820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jvyšší orgán výkonné 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složení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eds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místopředsed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ministři (pověřeni řízením jednotlivých resortních ministerst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ložení resortů se může v každé vládě mě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chůze vlády jsou neveřej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-720" y="765000"/>
            <a:ext cx="33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láda - </a:t>
            </a:r>
            <a:r>
              <a:rPr b="0" lang="cs-CZ" sz="3200" spc="-1" strike="noStrike">
                <a:solidFill>
                  <a:srgbClr val="3399ff"/>
                </a:solidFill>
                <a:latin typeface="Arial"/>
              </a:rPr>
              <a:t>exek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urad-vlady-vlada"/>
          <p:cNvPicPr/>
          <p:nvPr/>
        </p:nvPicPr>
        <p:blipFill>
          <a:blip r:embed="rId1"/>
          <a:stretch/>
        </p:blipFill>
        <p:spPr>
          <a:xfrm>
            <a:off x="2484360" y="450864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strakovka1"/>
          <p:cNvPicPr/>
          <p:nvPr/>
        </p:nvPicPr>
        <p:blipFill>
          <a:blip r:embed="rId2"/>
          <a:stretch/>
        </p:blipFill>
        <p:spPr>
          <a:xfrm>
            <a:off x="5219640" y="4508640"/>
            <a:ext cx="3241800" cy="1625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1440006-urad-vlady-cr"/>
          <p:cNvPicPr/>
          <p:nvPr/>
        </p:nvPicPr>
        <p:blipFill>
          <a:blip r:embed="rId3"/>
          <a:stretch/>
        </p:blipFill>
        <p:spPr>
          <a:xfrm>
            <a:off x="468360" y="4508640"/>
            <a:ext cx="13762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edkládá Parlamentu návrhy zák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dává vyhlášky a na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ipravuje státní rozpočet(ministerstvo finan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dnotlivá ministerstva řídí různé oblasti činností státu (zdravotnictví,vnitra, školství,obrany, spravedlnosti, průmyslu,zemědělství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ministerstva spravují velký státní majetek, řídí řadu úřadů v krajích a ob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0" y="76500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Úkoly vl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licie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rmáda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Finanční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tatistický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atastrální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práva sociálního zabezpe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Celní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zemkový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Živnostenský ú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rch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-3240" y="765000"/>
            <a:ext cx="73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Orgány bezpečnosti a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" descr="policie-volkswagen-passat-r36-4"/>
          <p:cNvPicPr/>
          <p:nvPr/>
        </p:nvPicPr>
        <p:blipFill>
          <a:blip r:embed="rId1"/>
          <a:stretch/>
        </p:blipFill>
        <p:spPr>
          <a:xfrm>
            <a:off x="5148360" y="141300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csu"/>
          <p:cNvPicPr/>
          <p:nvPr/>
        </p:nvPicPr>
        <p:blipFill>
          <a:blip r:embed="rId2"/>
          <a:stretch/>
        </p:blipFill>
        <p:spPr>
          <a:xfrm>
            <a:off x="5148360" y="3213000"/>
            <a:ext cx="2160360" cy="136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armada"/>
          <p:cNvPicPr/>
          <p:nvPr/>
        </p:nvPicPr>
        <p:blipFill>
          <a:blip r:embed="rId3"/>
          <a:stretch/>
        </p:blipFill>
        <p:spPr>
          <a:xfrm>
            <a:off x="5148360" y="4724280"/>
            <a:ext cx="216036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0" y="4365720"/>
            <a:ext cx="5435640" cy="1871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0" y="1125360"/>
            <a:ext cx="5076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 hlavou státu a reprezentuje stát v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ezidenta volí na společné schůzi obě komory Par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olen na 5 let, maximálně dvě funkční období, podmínkou je věk 4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rganizační práci zabezpečuje Kancelář prezidenta repub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-1080" y="76500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rezident republ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6" descr="klaus"/>
          <p:cNvPicPr/>
          <p:nvPr/>
        </p:nvPicPr>
        <p:blipFill>
          <a:blip r:embed="rId1"/>
          <a:stretch/>
        </p:blipFill>
        <p:spPr>
          <a:xfrm>
            <a:off x="5381640" y="1197000"/>
            <a:ext cx="3762360" cy="5040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79280" y="4365720"/>
            <a:ext cx="51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xt prezidentského slib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ibuji věrnost České republice. Slibuji, že budu zachovávat její ústavu a zákony. Slibuji na svou čest, že svůj úřad budu zastávat v zájmu všeho lidu a podle svého nejlepšího vědomí a svědomí.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menuje a odvolává předsedu a členy vlády, přijímá dem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 vrchním velitelem ozbrojených 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depisuje zák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hlašuje volby do PS a Sen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menuje soudce Ústavního soudu, předsedu Nejvyššího soudu,prezidenta NKÚ, členy bankovní rady ČNB, generály, vyslance, univerzitní profes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děluje milost a vyhlašuje amnestii (prominutí, zmírnění tres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děluje vysoká státní vyzname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-720" y="76500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ravomoci prezid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18-1935 - T. G. Masaryk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35-1938 - E. Beneš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38-1939 - E. Hácha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45-1948 - E. Beneš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48-1953 - K. Gottwald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53-1957 - A. Zápotocký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57-1968 - A. Novotný 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68-1975 - L. Svoboda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75-1989 - G. Husák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89-2003 - V. Havel 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2003          - V. Klaus (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-2880" y="765000"/>
            <a:ext cx="65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řehled všech našich prezi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8" descr="TGM"/>
          <p:cNvPicPr/>
          <p:nvPr/>
        </p:nvPicPr>
        <p:blipFill>
          <a:blip r:embed="rId1"/>
          <a:stretch/>
        </p:blipFill>
        <p:spPr>
          <a:xfrm>
            <a:off x="3924360" y="1341360"/>
            <a:ext cx="1133280" cy="1511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" descr="E-Benes"/>
          <p:cNvPicPr/>
          <p:nvPr/>
        </p:nvPicPr>
        <p:blipFill>
          <a:blip r:embed="rId2"/>
          <a:stretch/>
        </p:blipFill>
        <p:spPr>
          <a:xfrm>
            <a:off x="5148360" y="1341360"/>
            <a:ext cx="1177920" cy="1511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0" descr="e_hacha"/>
          <p:cNvPicPr/>
          <p:nvPr/>
        </p:nvPicPr>
        <p:blipFill>
          <a:blip r:embed="rId3"/>
          <a:stretch/>
        </p:blipFill>
        <p:spPr>
          <a:xfrm>
            <a:off x="6443640" y="1341360"/>
            <a:ext cx="1101600" cy="151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klement-gottwald"/>
          <p:cNvPicPr/>
          <p:nvPr/>
        </p:nvPicPr>
        <p:blipFill>
          <a:blip r:embed="rId4"/>
          <a:stretch/>
        </p:blipFill>
        <p:spPr>
          <a:xfrm>
            <a:off x="7667640" y="1341360"/>
            <a:ext cx="1320840" cy="151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Antonin_Zapotocky"/>
          <p:cNvPicPr/>
          <p:nvPr/>
        </p:nvPicPr>
        <p:blipFill>
          <a:blip r:embed="rId5"/>
          <a:stretch/>
        </p:blipFill>
        <p:spPr>
          <a:xfrm>
            <a:off x="3924360" y="3068640"/>
            <a:ext cx="1084320" cy="151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novotny-antonin"/>
          <p:cNvPicPr/>
          <p:nvPr/>
        </p:nvPicPr>
        <p:blipFill>
          <a:blip r:embed="rId6"/>
          <a:stretch/>
        </p:blipFill>
        <p:spPr>
          <a:xfrm>
            <a:off x="5148360" y="3068640"/>
            <a:ext cx="1135080" cy="151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ludvik_svoboda"/>
          <p:cNvPicPr/>
          <p:nvPr/>
        </p:nvPicPr>
        <p:blipFill>
          <a:blip r:embed="rId7"/>
          <a:stretch/>
        </p:blipFill>
        <p:spPr>
          <a:xfrm>
            <a:off x="6443640" y="3068640"/>
            <a:ext cx="981000" cy="151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" descr="Vaclav-Havel"/>
          <p:cNvPicPr/>
          <p:nvPr/>
        </p:nvPicPr>
        <p:blipFill>
          <a:blip r:embed="rId8"/>
          <a:stretch/>
        </p:blipFill>
        <p:spPr>
          <a:xfrm>
            <a:off x="3924360" y="4653000"/>
            <a:ext cx="1100160" cy="151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gusta_husak"/>
          <p:cNvPicPr/>
          <p:nvPr/>
        </p:nvPicPr>
        <p:blipFill>
          <a:blip r:embed="rId9"/>
          <a:stretch/>
        </p:blipFill>
        <p:spPr>
          <a:xfrm>
            <a:off x="7667640" y="3068640"/>
            <a:ext cx="1203480" cy="151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7" descr="klaus_v"/>
          <p:cNvPicPr/>
          <p:nvPr/>
        </p:nvPicPr>
        <p:blipFill>
          <a:blip r:embed="rId10"/>
          <a:stretch/>
        </p:blipFill>
        <p:spPr>
          <a:xfrm>
            <a:off x="5148360" y="4653000"/>
            <a:ext cx="1127160" cy="1512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8"/>
          <p:cNvSpPr/>
          <p:nvPr/>
        </p:nvSpPr>
        <p:spPr>
          <a:xfrm>
            <a:off x="3926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5150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6445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7669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3926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5150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6445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7669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92616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515052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-1800" y="76500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roces schvalování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schvalovani_zakonu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ajišťují soudní moc ve st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závislá na zákonodárné a výkonné moci, politických stran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oudci se řídí při rozhodování pouze zákony a vlastním svědomím-soudci jsou navrhováni Parlamentem a jmenováni hlavou st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-3600" y="765000"/>
            <a:ext cx="62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Ústavní soud, soudy - </a:t>
            </a:r>
            <a:r>
              <a:rPr b="0" lang="cs-CZ" sz="3200" spc="-1" strike="noStrike">
                <a:solidFill>
                  <a:srgbClr val="3399ff"/>
                </a:solidFill>
                <a:latin typeface="Arial"/>
              </a:rPr>
              <a:t>jurisdi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5" descr="ustavni_soud"/>
          <p:cNvPicPr/>
          <p:nvPr/>
        </p:nvPicPr>
        <p:blipFill>
          <a:blip r:embed="rId1"/>
          <a:stretch/>
        </p:blipFill>
        <p:spPr>
          <a:xfrm>
            <a:off x="395280" y="407664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soud_ilustrac_1"/>
          <p:cNvPicPr/>
          <p:nvPr/>
        </p:nvPicPr>
        <p:blipFill>
          <a:blip r:embed="rId2"/>
          <a:stretch/>
        </p:blipFill>
        <p:spPr>
          <a:xfrm>
            <a:off x="3059280" y="4076640"/>
            <a:ext cx="2592360" cy="1936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" descr="rychetsky_a_kol"/>
          <p:cNvPicPr/>
          <p:nvPr/>
        </p:nvPicPr>
        <p:blipFill>
          <a:blip r:embed="rId3"/>
          <a:stretch/>
        </p:blipFill>
        <p:spPr>
          <a:xfrm>
            <a:off x="5688000" y="4076640"/>
            <a:ext cx="3456000" cy="19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Ústavní soud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- zvláštní postav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Nejvyšší soud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- sídlí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Nejvyšší správní soud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- sídlí v Brně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Vrchní soud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- Praha, Olomo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Krajské so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Okresní so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0" y="76500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yramida sou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0" y="2060640"/>
            <a:ext cx="9144000" cy="331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3960" y="765000"/>
            <a:ext cx="90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Ústavní orgány v ČR, jejich volba a jme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1371600" y="1916280"/>
            <a:ext cx="64008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93939"/>
                </a:solidFill>
                <a:latin typeface="Arial"/>
              </a:rPr>
              <a:t>Parl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93939"/>
                </a:solidFill>
                <a:latin typeface="Arial"/>
              </a:rPr>
              <a:t>Vlá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93939"/>
                </a:solidFill>
                <a:latin typeface="Arial"/>
              </a:rPr>
              <a:t>Prez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93939"/>
                </a:solidFill>
                <a:latin typeface="Arial"/>
              </a:rPr>
              <a:t>Ústavní soud, s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dodržování Ústavy ČR, neporušování lidských a občanských 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5 soudců na dobu 10 let (fungovat soud může i při počtu 12, znovuzvolení soudc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suzuje zákony, právní předpisy a rozhodnutí z hlediska soula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 Ústavou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ídlo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řeší běžné spory, zkoumá nesoulad mezi ústavními zákony a dalšími právními předpisy a ustanove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ústavní stížnosti (např. lékařské poplatky -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-720" y="7650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Ústavní s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ukol"/>
          <p:cNvPicPr/>
          <p:nvPr/>
        </p:nvPicPr>
        <p:blipFill>
          <a:blip r:embed="rId1"/>
          <a:stretch/>
        </p:blipFill>
        <p:spPr>
          <a:xfrm>
            <a:off x="468360" y="981000"/>
            <a:ext cx="7859520" cy="3841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0" y="76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826920" y="537372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KO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ronologické pořadí demokratických prezidentů Českosloveska a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39640" y="5445000"/>
            <a:ext cx="216000" cy="21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76120" y="4290840"/>
            <a:ext cx="737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rásková V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LON, 1999, ISBN 80-85850-78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94840" y="4653000"/>
            <a:ext cx="87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enta Milan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294480" y="5013360"/>
            <a:ext cx="85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11040" y="5373720"/>
            <a:ext cx="43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Ústava České Republik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2002, ISBN 80-86344-96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zákonodárná moc - 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Par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výkonná moc  - 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vláda, prez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soudní moc - 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Ústavní soud, ostatní so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-1440" y="76500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Rozdělení moci ve st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-3600" y="7650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olba a jmenování ústavních orgá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volba_jmenovani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jvyšší zastupitelský a zákonodárný orgán státu (legisla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jdůležitější pilíř demokratického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dvoukomorový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horní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</a:t>
            </a: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Sen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dolní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</a:t>
            </a: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Poslanecká sněm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 obsazení obou komor se rozhoduje v parlamentních volb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ikdo nemůže být současně členem obou komor par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lavním úkolem je tvorba zák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720" y="76500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arlament - </a:t>
            </a:r>
            <a:r>
              <a:rPr b="0" lang="cs-CZ" sz="3200" spc="-1" strike="noStrike">
                <a:solidFill>
                  <a:srgbClr val="3399ff"/>
                </a:solidFill>
                <a:latin typeface="Arial"/>
              </a:rPr>
              <a:t>legisl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volí prezidenta (na společné schů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schvalují mezinárodní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vyhlašují válečný 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vydávají souhlas s pobytem cizích vojsk na našem ú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-2160" y="76500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Činnost obou ko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2" descr="volba prezidenta"/>
          <p:cNvPicPr/>
          <p:nvPr/>
        </p:nvPicPr>
        <p:blipFill>
          <a:blip r:embed="rId1"/>
          <a:stretch/>
        </p:blipFill>
        <p:spPr>
          <a:xfrm>
            <a:off x="4932360" y="1268280"/>
            <a:ext cx="4211640" cy="2981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3"/>
          <p:cNvSpPr/>
          <p:nvPr/>
        </p:nvSpPr>
        <p:spPr>
          <a:xfrm>
            <a:off x="6664320" y="4292640"/>
            <a:ext cx="24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žský hrad - Španělský s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1600200"/>
            <a:ext cx="622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horní komora Parla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ůsobí od rok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jistka kvality zákonů a filtr chybných rozhodnutí Poslanecké sněmov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enátoři a senátorky jsou voleni podle zásad většinového volebního systému (voliči volí jednotlivé kandidá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enát tvoří 81 senátorů starších 40 let, funkční období je 6 let (každé dva roky se volí jedna třetina senátor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1080" y="76500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en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senat"/>
          <p:cNvPicPr/>
          <p:nvPr/>
        </p:nvPicPr>
        <p:blipFill>
          <a:blip r:embed="rId1"/>
          <a:stretch/>
        </p:blipFill>
        <p:spPr>
          <a:xfrm>
            <a:off x="6012000" y="105264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senat-budova"/>
          <p:cNvPicPr/>
          <p:nvPr/>
        </p:nvPicPr>
        <p:blipFill>
          <a:blip r:embed="rId2"/>
          <a:stretch/>
        </p:blipFill>
        <p:spPr>
          <a:xfrm>
            <a:off x="6012000" y="3645000"/>
            <a:ext cx="313200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5-poslanecka-snemovna-parlamentu-cr_300px"/>
          <p:cNvPicPr/>
          <p:nvPr/>
        </p:nvPicPr>
        <p:blipFill>
          <a:blip r:embed="rId1"/>
          <a:stretch/>
        </p:blipFill>
        <p:spPr>
          <a:xfrm>
            <a:off x="5796000" y="836640"/>
            <a:ext cx="3348000" cy="2255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dolní komora Parla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slanci a poslankyně jsou voleni podle zásady poměrného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toup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S tvoří 200 poslanců starších 21 let, funkční období jsou 4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činnost 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ojednává a přijímá zák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slovuje důvěru vlá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ontroluje činnost vlá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chvaluje státní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-360" y="765000"/>
            <a:ext cx="45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oslanecká sněmo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snemovna"/>
          <p:cNvPicPr/>
          <p:nvPr/>
        </p:nvPicPr>
        <p:blipFill>
          <a:blip r:embed="rId2"/>
          <a:stretch/>
        </p:blipFill>
        <p:spPr>
          <a:xfrm>
            <a:off x="5219640" y="3198960"/>
            <a:ext cx="378000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-360" y="260280"/>
            <a:ext cx="68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NÍ ORGÁNY V ČR, JEJICH VOLBA A 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-1440" y="765000"/>
            <a:ext cx="49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lib senátora a pos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slib_sen_posl"/>
          <p:cNvPicPr/>
          <p:nvPr/>
        </p:nvPicPr>
        <p:blipFill>
          <a:blip r:embed="rId1"/>
          <a:stretch/>
        </p:blipFill>
        <p:spPr>
          <a:xfrm>
            <a:off x="395280" y="2421000"/>
            <a:ext cx="8229600" cy="250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4-28T19:18:12Z</dcterms:modified>
  <cp:revision>187</cp:revision>
  <dc:subject/>
  <dc:title>POSLOUPNOSTI</dc:title>
</cp:coreProperties>
</file>