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EC71-37E2-4BAC-AD66-FECC860A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D1C6-3A10-4A27-BF41-A58C2158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B254-6A57-4E92-84C1-308CCEA5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54A2-C398-4AB2-A48E-2E629636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EE3-4B64-47A9-9F06-44AFE033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ED5-F46F-4585-A8F2-D32D8E5E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346-ED8E-40D3-AFC2-FD6E6B8E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689-E096-4B55-A39B-6CF78388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012-454C-4BA3-AA57-15586FA1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AC59-884B-43E0-8866-220AB266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4CB-26FB-4218-9F13-4776E328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E7D-8735-4552-8C61-33A85F71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602A-62C1-4C84-8D6F-C9E6753C8C5B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A884-8970-4270-87A5-88042F7AE04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Line 23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6"/>
          <p:cNvSpPr/>
          <p:nvPr/>
        </p:nvSpPr>
        <p:spPr>
          <a:xfrm>
            <a:off x="0" y="4797360"/>
            <a:ext cx="9144000" cy="1440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1"/>
          <p:cNvSpPr/>
          <p:nvPr/>
        </p:nvSpPr>
        <p:spPr>
          <a:xfrm>
            <a:off x="19080" y="5084640"/>
            <a:ext cx="91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ROZDĚLENÍ MOCI VE STÁTĚ - VOL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0"/>
          <p:cNvSpPr/>
          <p:nvPr/>
        </p:nvSpPr>
        <p:spPr>
          <a:xfrm>
            <a:off x="2160" y="1844640"/>
            <a:ext cx="90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Mgr. Ivana Váchová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O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8" descr="kampan.jpg"/>
          <p:cNvPicPr/>
          <p:nvPr/>
        </p:nvPicPr>
        <p:blipFill>
          <a:blip r:embed="rId2"/>
          <a:stretch/>
        </p:blipFill>
        <p:spPr>
          <a:xfrm>
            <a:off x="0" y="3068640"/>
            <a:ext cx="2332080" cy="1555920"/>
          </a:xfrm>
          <a:prstGeom prst="rect">
            <a:avLst/>
          </a:prstGeom>
          <a:ln w="0">
            <a:noFill/>
          </a:ln>
        </p:spPr>
      </p:pic>
      <p:pic>
        <p:nvPicPr>
          <p:cNvPr id="48" name="Obrázek 10" descr="volby2.jpg"/>
          <p:cNvPicPr/>
          <p:nvPr/>
        </p:nvPicPr>
        <p:blipFill>
          <a:blip r:embed="rId3"/>
          <a:stretch/>
        </p:blipFill>
        <p:spPr>
          <a:xfrm>
            <a:off x="4643280" y="3068640"/>
            <a:ext cx="2041560" cy="1530360"/>
          </a:xfrm>
          <a:prstGeom prst="rect">
            <a:avLst/>
          </a:prstGeom>
          <a:ln w="0">
            <a:noFill/>
          </a:ln>
        </p:spPr>
      </p:pic>
      <p:pic>
        <p:nvPicPr>
          <p:cNvPr id="49" name="Obrázek 9" descr="urna2.jpeg"/>
          <p:cNvPicPr/>
          <p:nvPr/>
        </p:nvPicPr>
        <p:blipFill>
          <a:blip r:embed="rId4"/>
          <a:stretch/>
        </p:blipFill>
        <p:spPr>
          <a:xfrm>
            <a:off x="2484360" y="3068640"/>
            <a:ext cx="2040120" cy="1530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0"/>
          <p:cNvSpPr/>
          <p:nvPr/>
        </p:nvSpPr>
        <p:spPr>
          <a:xfrm>
            <a:off x="6527520" y="4437000"/>
            <a:ext cx="26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5f5f5f"/>
                </a:solidFill>
                <a:latin typeface="Arial"/>
              </a:rPr>
              <a:t>POLIT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1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aktivní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– oprávnění volit mají všichni občané ČR, kteří dosáhli věkové hranice 18 let, nejsou zbaveni svéprá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pasivní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– právo být volen, účastnit se jako kandidát (hranice 21 let – PS, hranice 40 let – Senát, prezi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2"/>
          <p:cNvSpPr/>
          <p:nvPr/>
        </p:nvSpPr>
        <p:spPr>
          <a:xfrm>
            <a:off x="19440" y="76500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Druhy volebního 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23040" y="260280"/>
            <a:ext cx="47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ROZDĚLENÍ MOCI VE STÁTĚ - VOL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8"/>
          <p:cNvSpPr/>
          <p:nvPr/>
        </p:nvSpPr>
        <p:spPr>
          <a:xfrm>
            <a:off x="21960" y="765000"/>
            <a:ext cx="50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Principy volebního 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všeobecné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- volit mohou všichni dospělí občané, bez rozdílu pohlaví, rasy, náboženského vyz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rovné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- všechny hlasy mají stejnou váhu, každý občan má jeden h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přímé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- zástupci se volí pří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senátor, poslane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astupitel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tajné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- nikdo nesmí vědě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jak kdo hlas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3040" y="260280"/>
            <a:ext cx="47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ROZDĚLENÍ MOCI VE STÁTĚ - VOL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Obrázek 9" descr="volebni_mistnost.jpg"/>
          <p:cNvPicPr/>
          <p:nvPr/>
        </p:nvPicPr>
        <p:blipFill>
          <a:blip r:embed="rId1"/>
          <a:stretch/>
        </p:blipFill>
        <p:spPr>
          <a:xfrm>
            <a:off x="5143680" y="3213000"/>
            <a:ext cx="4000320" cy="30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9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0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0" y="765000"/>
            <a:ext cx="32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Volební kampa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představení volebního programu a volebních líd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reklama, plakáty, televizní diskuse a pořady, setkání politiků přímo s obč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ytváření sociologických výzku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3040" y="260280"/>
            <a:ext cx="47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ROZDĚLENÍ MOCI VE STÁTĚ - VOL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rázek 8" descr="cssd.jpg"/>
          <p:cNvPicPr/>
          <p:nvPr/>
        </p:nvPicPr>
        <p:blipFill>
          <a:blip r:embed="rId1"/>
          <a:stretch/>
        </p:blipFill>
        <p:spPr>
          <a:xfrm>
            <a:off x="0" y="4221000"/>
            <a:ext cx="5106960" cy="1872000"/>
          </a:xfrm>
          <a:prstGeom prst="rect">
            <a:avLst/>
          </a:prstGeom>
          <a:ln w="0">
            <a:noFill/>
          </a:ln>
        </p:spPr>
      </p:pic>
      <p:pic>
        <p:nvPicPr>
          <p:cNvPr id="136" name="Obrázek 9" descr="ods.jpg"/>
          <p:cNvPicPr/>
          <p:nvPr/>
        </p:nvPicPr>
        <p:blipFill>
          <a:blip r:embed="rId2"/>
          <a:stretch/>
        </p:blipFill>
        <p:spPr>
          <a:xfrm>
            <a:off x="5165640" y="4221000"/>
            <a:ext cx="3978360" cy="1872000"/>
          </a:xfrm>
          <a:prstGeom prst="rect">
            <a:avLst/>
          </a:prstGeom>
          <a:ln w="0">
            <a:noFill/>
          </a:ln>
        </p:spPr>
      </p:pic>
      <p:sp>
        <p:nvSpPr>
          <p:cNvPr id="137" name="TextovéPole 10"/>
          <p:cNvSpPr/>
          <p:nvPr/>
        </p:nvSpPr>
        <p:spPr>
          <a:xfrm>
            <a:off x="6264360" y="3789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říklad negativní kampa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6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7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9"/>
          <p:cNvSpPr/>
          <p:nvPr/>
        </p:nvSpPr>
        <p:spPr>
          <a:xfrm>
            <a:off x="12240" y="76500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Referend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šeobecné hlas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přímé vyjádření souhlasu nebo nesouhlasu občanů s určitou otáz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druhy: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místní referendum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na úrovni obce, kra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celostátní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(zatím pouze v případě vstupu ČR do 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důležité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- jasně formulovaná otázka, na kterou se jednoznačně odpovídá  ANO X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23040" y="260280"/>
            <a:ext cx="47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ROZDĚLENÍ MOCI VE STÁTĚ - VOL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1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2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3040" y="260280"/>
            <a:ext cx="47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ROZDĚLENÍ MOCI VE STÁTĚ - VOL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7560" y="765000"/>
            <a:ext cx="160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Shrnu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Obrázek 7" descr="volebni_systemy.JPG"/>
          <p:cNvPicPr/>
          <p:nvPr/>
        </p:nvPicPr>
        <p:blipFill>
          <a:blip r:embed="rId1"/>
          <a:stretch/>
        </p:blipFill>
        <p:spPr>
          <a:xfrm>
            <a:off x="0" y="2693880"/>
            <a:ext cx="4500720" cy="3038760"/>
          </a:xfrm>
          <a:prstGeom prst="rect">
            <a:avLst/>
          </a:prstGeom>
          <a:ln w="0">
            <a:noFill/>
          </a:ln>
        </p:spPr>
      </p:pic>
      <p:pic>
        <p:nvPicPr>
          <p:cNvPr id="152" name="Obrázek 8" descr="znaky_dem_voleb.JPG"/>
          <p:cNvPicPr/>
          <p:nvPr/>
        </p:nvPicPr>
        <p:blipFill>
          <a:blip r:embed="rId2"/>
          <a:stretch/>
        </p:blipFill>
        <p:spPr>
          <a:xfrm>
            <a:off x="4572000" y="1413000"/>
            <a:ext cx="4572000" cy="4551120"/>
          </a:xfrm>
          <a:prstGeom prst="rect">
            <a:avLst/>
          </a:prstGeom>
          <a:ln w="0">
            <a:noFill/>
          </a:ln>
        </p:spPr>
      </p:pic>
      <p:sp>
        <p:nvSpPr>
          <p:cNvPr id="153" name="Přímá spojovací čára 10"/>
          <p:cNvSpPr/>
          <p:nvPr/>
        </p:nvSpPr>
        <p:spPr>
          <a:xfrm>
            <a:off x="4500720" y="1413000"/>
            <a:ext cx="0" cy="4392360"/>
          </a:xfrm>
          <a:prstGeom prst="line">
            <a:avLst/>
          </a:prstGeom>
          <a:ln w="31680">
            <a:solidFill>
              <a:srgbClr val="000000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2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3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íte jaká je v ČR věková hranice pro volby do Parlamentu ČR a do obecních zastupitelstev u obou druhů volebního práv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2. Jaký volební systém je využívaný v naší republ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3. Který systém zvýhodňuje velké politické strany a znevýhodňuje malé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3040" y="260280"/>
            <a:ext cx="47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ROZDĚLENÍ MOCI VE STÁTĚ - VOL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0" y="76500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Cvičení k tém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1"/>
          <p:cNvSpPr/>
          <p:nvPr/>
        </p:nvSpPr>
        <p:spPr>
          <a:xfrm>
            <a:off x="250920" y="1484280"/>
            <a:ext cx="576000" cy="55548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délník 12"/>
          <p:cNvSpPr/>
          <p:nvPr/>
        </p:nvSpPr>
        <p:spPr>
          <a:xfrm>
            <a:off x="250920" y="3068640"/>
            <a:ext cx="576000" cy="55404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délník 13"/>
          <p:cNvSpPr/>
          <p:nvPr/>
        </p:nvSpPr>
        <p:spPr>
          <a:xfrm>
            <a:off x="250920" y="4437000"/>
            <a:ext cx="576000" cy="55404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Obrázek 2" descr="volby_ukoly.JPG"/>
          <p:cNvPicPr/>
          <p:nvPr/>
        </p:nvPicPr>
        <p:blipFill>
          <a:blip r:embed="rId1"/>
          <a:stretch/>
        </p:blipFill>
        <p:spPr>
          <a:xfrm>
            <a:off x="0" y="1854360"/>
            <a:ext cx="9144000" cy="31492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1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2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3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23040" y="260280"/>
            <a:ext cx="47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ROZDĚLENÍ MOCI VE STÁTĚ - VOL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0" y="76500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Cvičení k tém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20" y="36450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75760" y="4290840"/>
            <a:ext cx="74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irásková, V.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 v demokratické společnost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LON, 1999, ISBN 80-85850-78-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93400" y="4653000"/>
            <a:ext cx="86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alenta, M.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ská nauka pro SOŠ a pro studijní obory SOU 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PN, 1999, ISBN 80-7235-080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93760" y="5013360"/>
            <a:ext cx="85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udák, V. a kol.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ská nauka pro SOŠ a studijní obory SO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PN, 2003, ISBN 80-7235-23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5493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ihlinsko.cz/objekty/952298222-0-volebni-mistnost-420-vetsi.jpg http://data.regiony24.cz/foto/clanky/stare/080707_volby.jpg?width=430&amp;bgcolor=black http://image.tn.nova.cz/media/images/750x750/Jul2009/525291.jpg http://img.aktualne.centrum.cz/18/75/187542-miroslava-nemcova.jpg http://storage0.dms.mediafax.cz/media/1/1/1687/3074831/2/sobotka-premysl.jpg?width=300&amp;height=300 http://blog.idnes.cz/blog/932/31888/cssdpluszaoralek.jpg http://img.ihned.cz/attachment.php/480/16383480/VEr2sDPJyTgodemnUbSt6jWxK4pFQIH8/cssd-kampan_cssd-volby-kampan-most-4_550x367_.jpg http://sula.eblog.cz/wp-content/uploads/eblog.cz/sula/volby2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rozhlas.cz/_obrazek/00387772.jpeg http://www.cssdprotivam.cz/img/cssdprotivam/reklama.jpg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-3600" y="5229360"/>
            <a:ext cx="50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zdroje použitých obráz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5f5f5f"/>
                </a:solidFill>
                <a:latin typeface="Arial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23040" y="260280"/>
            <a:ext cx="47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ROZDĚLENÍ MOCI VE STÁTĚ - VOL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5920" y="765000"/>
            <a:ext cx="59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Základní hodnoty demokr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1. uplatňování základních lidských práv a svob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mezinárodně zakotvena ve Všeobecné deklaraci lidských práv O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 ČR v Listině základních práv a svobod (součástí Ústavy Č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2.  zásada suvere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uverénním držitelem veškeré moci ve státě je 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lid kontroluje vládní m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dvě formy demokracie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přím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          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nepřímá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(zastupitelská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5920" y="765000"/>
            <a:ext cx="59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Základní hodnoty demokr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3040" y="260280"/>
            <a:ext cx="47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ROZDĚLENÍ MOCI VE STÁTĚ - VOL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2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3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3. zásada dělby mo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rozdělení státní moci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na tři samostatné složk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moc zákonodár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moc výkon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moc soud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důvod dělby moc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naha zabránit zneužití velkých pravomocí a potlačení demokra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5920" y="765000"/>
            <a:ext cx="59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Základní hodnoty demokr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23040" y="260280"/>
            <a:ext cx="47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ROZDĚLENÍ MOCI VE STÁTĚ - VOL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68360" y="515772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4. vůle lidu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e uskutečňuje cestou svobodných, všeobecných, rovných a tajných voleb (rozepsat pod seb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9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0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1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32400" y="765000"/>
            <a:ext cx="74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Další demokratické hodnoty a zás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existence  a svobodný vznik politických s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nezávislé veřejné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ekonomický systém založený na svobodném podnik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ociální spravedlnost pro staré, nemocné a nezaměstn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existence právního státu jako záruka zachování demokracie a k ochraně svo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3040" y="260280"/>
            <a:ext cx="47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ROZDĚLENÍ MOCI VE STÁTĚ - VOL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9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0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-8280" y="76500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Vol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proces obměny politických e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občané (voliči) volí své zástupce (reprezentanty) do určitých funkcí, orgá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hlavním cílem je zajistit pluralitu náz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typy voleb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parlament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prezidents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komun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evropské (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3040" y="260280"/>
            <a:ext cx="47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ROZDĚLENÍ MOCI VE STÁTĚ - VOL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rázek 9" descr="urna.jpg"/>
          <p:cNvPicPr/>
          <p:nvPr/>
        </p:nvPicPr>
        <p:blipFill>
          <a:blip r:embed="rId1"/>
          <a:stretch/>
        </p:blipFill>
        <p:spPr>
          <a:xfrm>
            <a:off x="6019920" y="4005360"/>
            <a:ext cx="3124080" cy="21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6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do Poslanecké sněmovny - jednou za 4 roky, poslanci, počet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do Senátu - jednou za 6 let, senátoři, počet 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funkce prezidenta republiky - jednou za 5 let, nepřímá volba pro občany, přímá volba senátorů a poslanc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2"/>
          <p:cNvSpPr/>
          <p:nvPr/>
        </p:nvSpPr>
        <p:spPr>
          <a:xfrm>
            <a:off x="17280" y="765000"/>
            <a:ext cx="36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Parlamentní vol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16920" y="4724280"/>
            <a:ext cx="38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Prezidentské vol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3040" y="260280"/>
            <a:ext cx="47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ROZDĚLENÍ MOCI VE STÁTĚ - VOL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rázek 9" descr="miroslava-nemcova.jpg"/>
          <p:cNvPicPr/>
          <p:nvPr/>
        </p:nvPicPr>
        <p:blipFill>
          <a:blip r:embed="rId1"/>
          <a:stretch/>
        </p:blipFill>
        <p:spPr>
          <a:xfrm>
            <a:off x="900000" y="2565360"/>
            <a:ext cx="2552760" cy="1905120"/>
          </a:xfrm>
          <a:prstGeom prst="rect">
            <a:avLst/>
          </a:prstGeom>
          <a:ln w="0">
            <a:noFill/>
          </a:ln>
        </p:spPr>
      </p:pic>
      <p:pic>
        <p:nvPicPr>
          <p:cNvPr id="97" name="Obrázek 10" descr="sobotka-premysl.jpg"/>
          <p:cNvPicPr/>
          <p:nvPr/>
        </p:nvPicPr>
        <p:blipFill>
          <a:blip r:embed="rId2"/>
          <a:stretch/>
        </p:blipFill>
        <p:spPr>
          <a:xfrm>
            <a:off x="3635280" y="2565360"/>
            <a:ext cx="2521080" cy="18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2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3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olby obecní a krajské - jednou za 4 ro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do Evropského parlamentu, jednou za 5 let, volby probíhají ve všech členských zemích EU, počty poslanců závisí na počtu obyvatel, ČR v současné době zastupuje 22 europoslanců (např. Německo -99, Francie- 72, Slovensko -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2"/>
          <p:cNvSpPr/>
          <p:nvPr/>
        </p:nvSpPr>
        <p:spPr>
          <a:xfrm>
            <a:off x="15120" y="76500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Komunální vol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14760" y="3213000"/>
            <a:ext cx="31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Evropské vol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23040" y="260280"/>
            <a:ext cx="47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ROZDĚLENÍ MOCI VE STÁTĚ - VOL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princip organizace a provedení vol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1. většinový systém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vítězem se stává kandidát s největším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počtem hlas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    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„ vítěz bere vš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     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jednokolové a dvoukolové (do Senátu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postupují z 1.kola dva kandidá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2. poměrný systémy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nevolí se kandidáti, ale politické strany,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ýsledek volby je stanoven podle poměru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hlasů, které se přepočítávají na mandáty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získaná křesla v Poslanecké sněmov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-360" y="765000"/>
            <a:ext cx="316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Volební systé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3040" y="260280"/>
            <a:ext cx="47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ROZDĚLENÍ MOCI VE STÁTĚ - VOL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Kubik</cp:lastModifiedBy>
  <dcterms:modified xsi:type="dcterms:W3CDTF">2010-09-06T15:28:37Z</dcterms:modified>
  <cp:revision>355</cp:revision>
  <dc:subject/>
  <dc:title>POSLOUPNOSTI</dc:title>
</cp:coreProperties>
</file>