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2.wmf" ContentType="image/x-wmf"/>
  <Override PartName="/ppt/media/image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6E7-ADA8-4514-8B02-0637FF88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339-FB62-4836-990F-A1F96251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34A-449A-468B-B39F-1CCA6E72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8C2-D402-4008-A241-179F6071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888-AA0A-41E9-87D3-EE9E06D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215-5032-4327-B89E-7C920EA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9AB-CBF8-480E-ABAE-874F1CA0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473-5738-49FA-9A07-42F5D547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E4B-90C0-4A75-BCA4-89E0CD19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B99-D4C3-4F31-A175-704CBFC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420-0CBE-486D-B28A-747F665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E49-82BD-4D1C-9941-263C89A2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BFE-BF81-473E-98B4-992997578C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CC7-0A47-48FA-B7DD-D5056D0AC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1989000"/>
            <a:ext cx="69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ÁVKOVAČE A PLNIČK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4289400"/>
            <a:ext cx="43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Müll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187280" y="1268280"/>
          <a:ext cx="720108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72010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95640" y="115920"/>
            <a:ext cx="2990880" cy="601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2241720" cy="26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bjemové dávko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ota se dávkuje pomocí vnitřního obje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snost dávky  ±1 až 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polotekuté a tuhé hmoty (zubní pasta, jogurty) práškové, zrnité, vločkové hm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šší produktivita oproti hmotnostním váh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ě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odměrnými nádo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380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íř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380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oupát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nek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íst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kovače s odměrnými nádobam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lířový dávkovač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3571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pro lehkosypné práškové materiály, drobné kusové a zrnité zbož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7120" indent="-3571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-381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uhová deska,  v níž jsou odměrné nádoby, se otáčí pod zásobníkem s dávkovanou hmo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-381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odměrná nádoba se naplní hmotou a poté se její obsah vyprázdní do výsypky a odtud do ob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1052640"/>
          <a:ext cx="648180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052640"/>
                    <a:ext cx="64818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2727360" y="274680"/>
            <a:ext cx="368928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oupátkový dávkovač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pro lehkosypné práškové materiály a zrnité zbož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-3812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měrné šoupátko se pohybuje pod zásobníkem, naplněné se přesune nad výsypku, z ní se vyprázdní do ob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908000" y="981000"/>
          <a:ext cx="56167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981000"/>
                    <a:ext cx="56167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kovače šnekov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hodné pro dávkování sypkých materiá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měřování stanovené dávky pomocí dávkovacího šneku, který je umístěn v zásobníku a otáč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zásobníku by se měla udržovat stejná výška hladiny materiálu nad šnekem a tím se zlepší přesnost dá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35280" y="692280"/>
          <a:ext cx="540072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692280"/>
                    <a:ext cx="540072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515520"/>
            <a:ext cx="476244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ávkova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2856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nos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89280" indent="-46044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inuální 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89280" indent="-46044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kontinuální 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2856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jem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89280" indent="-46044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odměrnými nádob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449440" indent="-3808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líř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449440" indent="-3808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oupát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89280" indent="-46044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ne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89280" indent="-46044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t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311640" cy="41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363920" cy="581832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273708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kovače pístov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hodné pro dávkování pastovitých, kašovitých i tekutých materiál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ávkování se uskutečňuje pomocí pístu, jehož zdvihem se nastavuje velikost 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t nasává dávkovanou hmotu ze zásobníku a zároveň vytlačuje odměřený obsah do oba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63640" y="1052640"/>
          <a:ext cx="561672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052640"/>
                    <a:ext cx="5616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275520" cy="56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700"/>
              </a:spcBef>
              <a:buClr>
                <a:srgbClr val="a5002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očítací dávko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třní objem obalu se určuje podle předem stanoveného počtu kusů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dávkování např. kusového zboží – farmaceutických, potravinářských, strojírenských ad. výrobků (léčiva, kostkový cukr, šroub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ze je rozděl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ck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38088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ečk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38088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íř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38088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use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38088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pc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ávkovače mechanick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ádají se z násypky a počítacího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tšina dávkovačů není vhodná pro nepravidelné výrobky (hřebíky apod.), hlavně podlouhlé, úzké, trojúhelníkové 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 zástup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čítače kolečkov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vždy jeden výrobek je unášen v žlábku lopatkového koleč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čítače talířov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má větší výkon než kolečkový. Otočný talíř má místo žlábků otvory, kterými propadá výrobek ze zásobníku do obal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55760" indent="-441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ruselové dávkovač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071800" indent="-544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ý pro dlouhé a úzké výrob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071800" indent="-544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781360" indent="-452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zásobníku jde kusové zboží (např. pastelky) na p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81360" indent="-452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ovací kartáč jej přidrží a srov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81360" indent="-452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ále se zboží po pásu přesune ke karuselu, ten je zadrží přísav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81360" indent="-452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ítač řídí otočení karuselu po jednotlivých krocích pomocí vestavěných či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81360" indent="-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sleduje vložení do obalu. Jedno otočení = jeden výrobek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1280" y="1197000"/>
          <a:ext cx="777564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777564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55760" indent="-44136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čítače sloupcov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978200" indent="-451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516040" indent="-3664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 výrobků se vytvářejí v několika řadách sloupce, z nichž je potřebný počet kusů oddělován a přenášen do obalu pomocí vibrující násypky, šikmých řadících lišt, dopravníků a dalších zařízení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92360" y="981000"/>
          <a:ext cx="576108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1000"/>
                    <a:ext cx="576108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06436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156680" indent="-531360">
              <a:spcBef>
                <a:spcPts val="1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í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6680" indent="-452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41440" indent="-3769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ečk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41440" indent="-3769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íř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41440" indent="-3769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use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41440" indent="-3769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pc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6680" indent="-452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66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531360">
              <a:spcBef>
                <a:spcPts val="1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ov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6680" indent="-452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otnostně – objem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6680" indent="-452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mově – hmotnos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5796000" y="1052640"/>
            <a:ext cx="278928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kovače elektronick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zásobníku elektronického počítače se vloží 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ý počítač má číselníkový volič, na němž se navolí žádaný počet ku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se posunují ze zásobníku na dopravník, na jehož konci míjejí fotobuňku, která vydává impulsy do PC, který po dosažení požadovaného počtu pošle signál ke spuštění odpočtené dávky do oba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uje vynulování počítadla a dávkování se opak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60480" indent="-50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el. dávkovače jsou vhodné pro léčiva v blistru, strojírenské výrobky (šrouby, matice ad.), drobné potravinářské výrobky 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4. 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Kombinované dávko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ombinací hmotnostního a objemového dávkování lze dosáhnout nejlepších výsledků, neboť využívá přesnosti vah a zvýšené rychlosti objemových dávkovač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atří s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592280" indent="-51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ávkovač hmotnostně (váhově) objemov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eriodické váhy jsou umístěny před objemovým dávkovač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92280" indent="-51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ávkovač objemově hmotnostní (váh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2330280" y="404640"/>
            <a:ext cx="409896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dměrné plnič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03240" indent="-45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ávkované množství se  odměřuje pomocí odměrných nádob, které se naplňují v zásobní nádrž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03240" indent="-45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sleduje vyzdvižení naplněné nádoby nad hladinu =&gt; ukončení  plnění odměrné nádobky kapalinou z nádrž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03240" indent="-45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é dojde uvolněním plnícího ventilu k vyprázdnění odměrné nádoby do lah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66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lni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9640" y="692280"/>
          <a:ext cx="824400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24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a5002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lničky pracující na principu hladinového plnění: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sem plničky s plnící trubkou a bez       (s deflekt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kutiny se plní do určité výšky hla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72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plnění je založen na tom, že stoupající hladina ucpe trubici, která z obalu odvádí vzduch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jde k ukončení plně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2214720" y="404640"/>
            <a:ext cx="4518000" cy="4969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91600" y="5708520"/>
            <a:ext cx="70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. Fce deflektoru – zamezení pěnivosti náp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4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674640" y="274680"/>
            <a:ext cx="779472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2884320" cy="431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28480" y="475920"/>
            <a:ext cx="7428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.  Plnič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-53316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měr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-53316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principu hladinové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0"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78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plnící trubk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78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lnící trub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782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 deflekto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elený, J., Sandr, Z., Špilar, V.: Technologie balení II, SPN Praha, 19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obrazky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 google.cz/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appecastro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jan-riha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velteko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-628560">
              <a:buClr>
                <a:srgbClr val="0066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ávkov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Hmotnostní dávkov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mota se dávkuje pomocí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ost dávky ± 1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kování suchých práškových nebo zrnitých materiálů (cukr, mouka, krupice, rýže ad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87680" indent="-5176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ontinuální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inuální dávkovací vá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5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 každém okamžiku protéká stále stejné množství materiálu (= kontinu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76360" y="2492280"/>
          <a:ext cx="61200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92280"/>
                    <a:ext cx="61200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Rectangle 3"/>
          <p:cNvGraphicFramePr/>
          <p:nvPr/>
        </p:nvGraphicFramePr>
        <p:xfrm>
          <a:off x="1258920" y="1628640"/>
          <a:ext cx="660096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628640"/>
                    <a:ext cx="660096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28036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44600" indent="-55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kované zboží je z násypky unášeno dopravníkem přes vážící sekci do ob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žící sekce je spojena s PC, řídí přísun zboží na dopravník a je spojena s ústrojím zapisujícím prošlé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cí hradítka je regulace množství dávky podle výšky vrstvy materiálu na pásu =&gt; změna hmotnosti přestavěním hradítka. Výška musí být konstantní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ontinuální dávkovací vá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5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ují přerušovaně (= periodick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5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ážící nádoba se naplní váženým materi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dosažení požadované hmotnosti se ukončí přísun materiálu do této nádoby a vážící nádoba se vyprázdní do ob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4600" indent="-55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výkonu těchto v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8108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ážící sekce nádoby se rychle naváží hlavní část dávky (cca. 80%) a zbylých 20% se pomalu dováží na stanovenou hmotnost velmi přes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1-02-16T10:53:09Z</dcterms:modified>
  <cp:revision>76</cp:revision>
  <dc:subject/>
  <dc:title>POSLOUPNOSTI</dc:title>
</cp:coreProperties>
</file>