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4.wmf" ContentType="image/x-wmf"/>
  <Override PartName="/ppt/media/image33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14.wmf" ContentType="image/x-wmf"/>
  <Override PartName="/ppt/media/image43.png" ContentType="image/png"/>
  <Override PartName="/ppt/media/image3.wmf" ContentType="image/x-wmf"/>
  <Override PartName="/ppt/media/image37.png" ContentType="image/png"/>
  <Override PartName="/ppt/media/image7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7B9-3143-4898-99B4-3C310679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456-9242-4AE5-BE93-658D8892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24A-370D-43AF-BD1B-3DACEDE7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370-D858-46B4-AE4C-F5A92F81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189-19C1-46F0-90D5-B98FC550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679-5F58-45E3-AD77-8364294B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898-983E-484F-A6B8-A0FB62B0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21A-3306-4639-91E7-D205B5E5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5C4-AF98-4163-8BBF-293A8B2B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E15-A2DA-4FEA-A667-8B0356C7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769-313E-403E-BD48-062F16E8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EC8-9768-4F65-AB31-EBB84AE4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823E-15A1-495E-A6E5-A3A37552FD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CE8E-3254-4596-B2FC-41E4DCC0B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ZNAČOVÁNÍ OBAL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. Kateřina Koub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binované materiály 81 – 9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ymbol 8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/PAP (8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kombinace papír a lepenka/plast, kde 60 hmotnostních % připadá pap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/PA    (8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kombinace papír a lepenka/plast, kde 60 hmotnostních % připadá polyami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/PP    (8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kombinace papír a lepenka/plast, kde 60 hmotnostních % připadá polypropyl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ymbol 8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/P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8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kombina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pír a lepenka/plast/hliní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de 60 hmotnostních % připadá pap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ymbol 9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/ALU (90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bina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st/hliník/pl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de 51 hmotnostních  %  připadá hliníku (možné značení je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/LDPE/A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79311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b2ca0"/>
                </a:solidFill>
                <a:latin typeface="Arial"/>
              </a:rPr>
              <a:t>Tříšipkový symbol – nevyplněné šipk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obalů z recyklovaných obalových materiá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hou být s číslem i be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5 = PP = recyklovaný polypropy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Rectangle 3"/>
          <p:cNvGraphicFramePr/>
          <p:nvPr/>
        </p:nvGraphicFramePr>
        <p:xfrm>
          <a:off x="3330720" y="3284640"/>
          <a:ext cx="23637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0720" y="3284640"/>
                    <a:ext cx="23637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4360" y="3284640"/>
          <a:ext cx="2293920" cy="22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284640"/>
                    <a:ext cx="22939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Rectangle 3"/>
          <p:cNvGraphicFramePr/>
          <p:nvPr/>
        </p:nvGraphicFramePr>
        <p:xfrm>
          <a:off x="5940360" y="3284640"/>
          <a:ext cx="2374920" cy="22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3284640"/>
                    <a:ext cx="2374920" cy="22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6589800" y="5297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b2ca0"/>
                </a:solidFill>
                <a:latin typeface="Arial"/>
              </a:rPr>
              <a:t>Zelený bod (Der grüne Punk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tahuje se pouze k obalu, nikoli k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íká, že výrobce obalů zaplatil servisní poplatek do národního systému za zpětný odběr obalu k recyklaci na území st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2124000" y="350028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3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2233440" cy="22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Odhazující panáč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ka upozorňuje na to, že použitý obal se má odhodit do příslušné nádoby na od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obalech se objevuje, protože zákon o odpadech ukládá výrobci za povinnost uvádět na obalu doporučený způsob využití či zneškodně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tangle 2" descr=""/>
          <p:cNvPicPr/>
          <p:nvPr/>
        </p:nvPicPr>
        <p:blipFill>
          <a:blip r:embed="rId1"/>
          <a:stretch/>
        </p:blipFill>
        <p:spPr>
          <a:xfrm>
            <a:off x="3348000" y="3429000"/>
            <a:ext cx="2700360" cy="28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2ca0"/>
                </a:solidFill>
                <a:latin typeface="Arial"/>
              </a:rPr>
              <a:t>Produkt ekologického zemědělstv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značení pouze balených potravin, které jsou vyrobeny z plodin, které byly vypěstovány bez použití umělých hnojiv a pesticidů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2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329080" cy="29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3026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2ca0"/>
                </a:solidFill>
                <a:latin typeface="Arial"/>
              </a:rPr>
              <a:t>Ekologicky šetrný výrobe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označeného výrobku jsou “minimalizovány” nepříznivé vlivy na životní prostředí a na zdraví spotřebitele a tuto skutečnosti garantuje st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ka vypovídá o tom, že daný výrobek je ve své kategorii „ekologičtější“, než ostatní obdobné výrob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ou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kologicky šetrná služba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1"/>
          <a:stretch/>
        </p:blipFill>
        <p:spPr>
          <a:xfrm>
            <a:off x="5508720" y="33577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b2ca0"/>
                </a:solidFill>
                <a:latin typeface="Arial"/>
              </a:rPr>
              <a:t>Czech ma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čka říká, že výrobek (nebo služba) pochází od českého výrobce, který je na trhu minimálně 3 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čka „Czech-made“ má dobu platnosti 2 ro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2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324000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Králíček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žívá se pro kosmetiku, která nebyla testována na zvířa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e se však neváže automaticky i na výchozí suroviny pro výrobu těchto mýdel a šampón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2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4032360" cy="344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41672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e označování obal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ování spotřebitele o baleném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9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ování spotřebitele o obalu (z čeho je obal vyroben, jak s obalem po použití nakládat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značení musí dodržovat tyto podmín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rá viditelno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dná čitelno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olnost  a trvanlivost i po otevření ob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58720"/>
            <a:ext cx="822960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Značka shody s požadavky na zabalen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zbož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pojuje se k údaji o množství zabaleného výrobku – jeho hmotnost nebo ob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kytuje stanovené záruky dodržení správného množství výrobku v ba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Rectangle 2"/>
          <p:cNvGraphicFramePr/>
          <p:nvPr/>
        </p:nvGraphicFramePr>
        <p:xfrm>
          <a:off x="3276720" y="3645000"/>
          <a:ext cx="2376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645000"/>
                    <a:ext cx="2376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Mikrovlnka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vrzuje bezpečnost ohřívání v mikrovlnných troubách (AFCMA) i v obalech, které obsahují hliníkovou fól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2935440" cy="36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Značka trvanlivosti po otevření obalu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kytuje informace o maximální době, kdy by se měl výrobek spotřebovat po otevření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ává se v měsí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. 12 M = spotřeba do 12 měsí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0720" y="5516640"/>
            <a:ext cx="2448000" cy="50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60720" y="5086440"/>
            <a:ext cx="244800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60720" y="4797360"/>
            <a:ext cx="244800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60720" y="501336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508720" y="50860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60720" y="4797360"/>
            <a:ext cx="647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68400" y="3291120"/>
            <a:ext cx="2454120" cy="1917000"/>
            <a:chOff x="2768400" y="3291120"/>
            <a:chExt cx="2454120" cy="1917000"/>
          </a:xfrm>
        </p:grpSpPr>
        <p:sp>
          <p:nvSpPr>
            <p:cNvPr id="94" name=""/>
            <p:cNvSpPr/>
            <p:nvPr/>
          </p:nvSpPr>
          <p:spPr>
            <a:xfrm rot="19662600">
              <a:off x="2851920" y="4167000"/>
              <a:ext cx="2448000" cy="419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662600">
              <a:off x="2771640" y="4129200"/>
              <a:ext cx="2448000" cy="24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9662600">
              <a:off x="2691000" y="3912480"/>
              <a:ext cx="2448000" cy="419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2864160" y="4750920"/>
              <a:ext cx="16092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4965840" y="3493800"/>
              <a:ext cx="128160" cy="20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635280" y="5300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19120" y="549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Značka shody s požadavky E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ka dokládá, že výrobek vyhovuje požadavkům, které jsou na něj kladeny podle všech závazných předpisů EU, např. bezpečnost výrobku, ochrana před nebezpečným napětím, ochrana životního prostředí a dalš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2556000" y="3716280"/>
            <a:ext cx="3816360" cy="25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Klasa“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em KLASA jsou označeny tuzemské výrobky, u který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třeba tuzemských surovin pro výrobu splňuje následující podíl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mléčných, masných,drůbežích, rybích, mlýnských a pekárenských 9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ostatních výrobků 7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kud je nezbytné použít suroviny z dovozu (kakao, ořechy, ovoce, mořské ryby apod.) musí tvořit podíl domácích surovin nejméně 40%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roba probíhá zcela na území ČR (podíl národní práce je 100%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tálá kvalita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3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3816360" cy="496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473040" y="1268280"/>
            <a:ext cx="1451160" cy="145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424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Informativní značky na obalech od chemikáli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tangle 3" descr=""/>
          <p:cNvPicPr/>
          <p:nvPr/>
        </p:nvPicPr>
        <p:blipFill>
          <a:blip r:embed="rId2"/>
          <a:stretch/>
        </p:blipFill>
        <p:spPr>
          <a:xfrm>
            <a:off x="3933720" y="126828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8360" y="3686040"/>
            <a:ext cx="1428840" cy="1514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209680" y="3686040"/>
            <a:ext cx="1427400" cy="1514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451640" y="1268280"/>
            <a:ext cx="1357560" cy="144000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3" descr=""/>
          <p:cNvPicPr/>
          <p:nvPr/>
        </p:nvPicPr>
        <p:blipFill>
          <a:blip r:embed="rId6"/>
          <a:stretch/>
        </p:blipFill>
        <p:spPr>
          <a:xfrm>
            <a:off x="5713560" y="1268280"/>
            <a:ext cx="1450800" cy="1451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2259000" y="1268280"/>
            <a:ext cx="1387440" cy="1474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55720" y="2779560"/>
            <a:ext cx="5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52840" y="2779560"/>
            <a:ext cx="5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11720" y="2779560"/>
            <a:ext cx="5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64280" y="2779560"/>
            <a:ext cx="5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70960" y="2781360"/>
            <a:ext cx="5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25560" y="5214960"/>
            <a:ext cx="5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5214960"/>
            <a:ext cx="5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33717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dovaté,vysoce jedova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orozívní, žíra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idují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lozivní, výbuš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bezpečné Ž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bezpečné, drážd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řlavé,extrémně hořla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6892920" y="3222720"/>
            <a:ext cx="1639800" cy="2222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0120" y="1483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ístěny na přepravních obal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ervené na bílém podkladu nebo i čer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Rectangle 3" descr=""/>
          <p:cNvPicPr/>
          <p:nvPr/>
        </p:nvPicPr>
        <p:blipFill>
          <a:blip r:embed="rId2"/>
          <a:stretch/>
        </p:blipFill>
        <p:spPr>
          <a:xfrm>
            <a:off x="452520" y="3284640"/>
            <a:ext cx="1644480" cy="223020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3" descr=""/>
          <p:cNvPicPr/>
          <p:nvPr/>
        </p:nvPicPr>
        <p:blipFill>
          <a:blip r:embed="rId3"/>
          <a:stretch/>
        </p:blipFill>
        <p:spPr>
          <a:xfrm>
            <a:off x="2638440" y="3213000"/>
            <a:ext cx="1646280" cy="2232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734000" y="3206880"/>
            <a:ext cx="1655640" cy="223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447240" y="292356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ránit před deště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6880" y="54450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řehk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atrně zachá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7800" y="29242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ímto směrem nah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96560" y="53672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motnostní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cc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Manipulační znač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Zástupný symbol pro obsah 5" descr="Chránit před deštěm.jpg"/>
          <p:cNvPicPr/>
          <p:nvPr/>
        </p:nvPicPr>
        <p:blipFill>
          <a:blip r:embed="rId1"/>
          <a:stretch/>
        </p:blipFill>
        <p:spPr>
          <a:xfrm>
            <a:off x="684360" y="333360"/>
            <a:ext cx="2149200" cy="5543640"/>
          </a:xfrm>
          <a:prstGeom prst="rect">
            <a:avLst/>
          </a:prstGeom>
          <a:ln w="0">
            <a:noFill/>
          </a:ln>
        </p:spPr>
      </p:pic>
      <p:pic>
        <p:nvPicPr>
          <p:cNvPr id="131" name="Zástupný symbol pro obsah 3" descr="Křehké, zacházet opatrně.jpg"/>
          <p:cNvPicPr/>
          <p:nvPr/>
        </p:nvPicPr>
        <p:blipFill>
          <a:blip r:embed="rId2"/>
          <a:stretch/>
        </p:blipFill>
        <p:spPr>
          <a:xfrm>
            <a:off x="6300720" y="333360"/>
            <a:ext cx="2176560" cy="5613480"/>
          </a:xfrm>
          <a:prstGeom prst="rect">
            <a:avLst/>
          </a:prstGeom>
          <a:ln w="0">
            <a:noFill/>
          </a:ln>
        </p:spPr>
      </p:pic>
      <p:pic>
        <p:nvPicPr>
          <p:cNvPr id="132" name="Zástupný symbol pro obsah 3" descr="Tímto směrem nahoru.jpg"/>
          <p:cNvPicPr/>
          <p:nvPr/>
        </p:nvPicPr>
        <p:blipFill>
          <a:blip r:embed="rId3"/>
          <a:stretch/>
        </p:blipFill>
        <p:spPr>
          <a:xfrm>
            <a:off x="684360" y="3357720"/>
            <a:ext cx="2149200" cy="5545080"/>
          </a:xfrm>
          <a:prstGeom prst="rect">
            <a:avLst/>
          </a:prstGeom>
          <a:ln w="0">
            <a:noFill/>
          </a:ln>
        </p:spPr>
      </p:pic>
      <p:pic>
        <p:nvPicPr>
          <p:cNvPr id="133" name="Zástupný symbol pro obsah 3" descr="Nestohovat.jpg"/>
          <p:cNvPicPr/>
          <p:nvPr/>
        </p:nvPicPr>
        <p:blipFill>
          <a:blip r:embed="rId4"/>
          <a:stretch/>
        </p:blipFill>
        <p:spPr>
          <a:xfrm>
            <a:off x="6300720" y="3645000"/>
            <a:ext cx="2235240" cy="5400720"/>
          </a:xfrm>
          <a:prstGeom prst="rect">
            <a:avLst/>
          </a:prstGeom>
          <a:ln w="0">
            <a:noFill/>
          </a:ln>
        </p:spPr>
      </p:pic>
      <p:pic>
        <p:nvPicPr>
          <p:cNvPr id="134" name="Zástupný symbol pro obsah 3" descr="Nevalit.jpg"/>
          <p:cNvPicPr/>
          <p:nvPr/>
        </p:nvPicPr>
        <p:blipFill>
          <a:blip r:embed="rId5"/>
          <a:stretch/>
        </p:blipFill>
        <p:spPr>
          <a:xfrm>
            <a:off x="3276720" y="765000"/>
            <a:ext cx="2670120" cy="68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565280" y="2205000"/>
          <a:ext cx="262080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205000"/>
                    <a:ext cx="2620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906800" y="2133720"/>
          <a:ext cx="2689560" cy="28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6800" y="2133720"/>
                    <a:ext cx="268956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2240" y="515664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Žíravé lát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84600" y="52027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cké lát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cc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Bezpečnostní znač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al by měl obsahov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obalového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ČSN EN 77 0052-2: 200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fo o způsobu nakládání s použitým obalem (ČSN EN 77 0053: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ce pro zákazníka – způsob manipulace s obalem, charakter výrobku, kvalita výrobků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usnadňující materiálový tok = Systémy automatické identifikace SAI = čárový kód, RFID 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254400" y="2421000"/>
          <a:ext cx="2636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2421000"/>
                    <a:ext cx="2636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12000" y="1555920"/>
          <a:ext cx="2568600" cy="27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1555920"/>
                    <a:ext cx="256860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5440" y="90684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ozápalné lát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52282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átky podporující ho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5600" y="9068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ktivní lá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60240" y="1557360"/>
          <a:ext cx="2471760" cy="263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557360"/>
                    <a:ext cx="2471760" cy="26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ystémy automatické identifik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jišťují automatizovaný přenos a sběr informací, řízení procesů, kontrolu a rychlý přístup k uchovávaným informac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ívají se při vykládce a nakládce dopravních prostředků, v supermarketech na pokladnách, při snímání palet, ve skladech, v knihovnách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00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dělení SA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cké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66"/>
                </a:solidFill>
                <a:latin typeface="Arial"/>
              </a:rPr>
              <a:t>čárový kó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C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izuální technolo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diofrekven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66"/>
                </a:solidFill>
                <a:latin typeface="Arial"/>
              </a:rPr>
              <a:t>RF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gnetické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agnetické ka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metrické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tisky prst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nímání sítnice o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hlasové systémy 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7715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 využívané v 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árový k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ID k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Rectangle 3" descr="ukázka kódu"/>
          <p:cNvPicPr/>
          <p:nvPr/>
        </p:nvPicPr>
        <p:blipFill>
          <a:blip r:embed="rId1"/>
          <a:stretch/>
        </p:blipFill>
        <p:spPr>
          <a:xfrm>
            <a:off x="1332000" y="2492280"/>
            <a:ext cx="2663640" cy="1986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11280" y="4653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38920" y="4638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tangle 3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222912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2ca0"/>
                </a:solidFill>
                <a:latin typeface="Arial"/>
              </a:rPr>
              <a:t>a) Čárový kó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ód je tvořen strojově čitelnými čárami a mezerami, které spolu souvisejí = posloupnost kratších a delších čá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árový kód nemůže číst člověk, proto je pod čárovým kódem uvedeno čí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-mi a 13-ti místn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ukázka kódu"/>
          <p:cNvPicPr/>
          <p:nvPr/>
        </p:nvPicPr>
        <p:blipFill>
          <a:blip r:embed="rId1"/>
          <a:stretch/>
        </p:blipFill>
        <p:spPr>
          <a:xfrm>
            <a:off x="1692360" y="4294080"/>
            <a:ext cx="2232000" cy="1744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ukázka kódu"/>
          <p:cNvPicPr/>
          <p:nvPr/>
        </p:nvPicPr>
        <p:blipFill>
          <a:blip r:embed="rId2"/>
          <a:stretch/>
        </p:blipFill>
        <p:spPr>
          <a:xfrm>
            <a:off x="4427640" y="4125960"/>
            <a:ext cx="2736720" cy="203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tečky Č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ové scann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ímací p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 scan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ykové snímače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snímání Č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ímací zařízení vyzařují červené svět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ětlo je pohlcováno tmavými čárami ČK a světlými mezerami je odráženo =&gt; snímač zjišťuje rozdíly v odrazu světla, které přeměňuje v elektrické sign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to signály jsou převedeny na číslice a písme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7786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sdružení pro číslování výrobků </a:t>
            </a:r>
            <a:r>
              <a:rPr b="1" lang="cs-CZ" sz="2800" spc="-1" strike="noStrike">
                <a:solidFill>
                  <a:srgbClr val="cc0066"/>
                </a:solidFill>
                <a:latin typeface="Arial"/>
              </a:rPr>
              <a:t>EA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European Article Numbering Association) - dbá o to, aby dva různé výrobky nebyly označeny stejným kó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íslice EAN kódu: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859 123456789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3 čísla značí stát (</a:t>
            </a:r>
            <a:r>
              <a:rPr b="1" lang="cs-CZ" sz="2800" spc="-1" strike="noStrike">
                <a:solidFill>
                  <a:srgbClr val="cc0066"/>
                </a:solidFill>
                <a:latin typeface="Arial"/>
              </a:rPr>
              <a:t>ČR – 859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čísla určují výrobce a následně číslo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n. Osmi místný kód je zkrácenou verzí 13ti místného kódu, kde se spojuje číslo výrobce s číslem výrob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lední číslo je kontrolní, je určeno výpočtem ze všech předcházejících čís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počet kontrolního čísl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ějme číslo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59123456789 </a:t>
            </a: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počet sestává z 5-ti krok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čteme všechna čísl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 lichých pozicích zprava do lev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vynásobíme třemi (= sudá z leva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9+7+5+3+1+5=30*3=9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čteme všechna čísl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 sudých pozicích zprava do lev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= lichá z leva) a vynásobíme jednou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8+6+4+2+9+8=37*1=3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čteme výsledky kroku 1. a 2.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j.</a:t>
            </a:r>
            <a:r>
              <a:rPr b="0" lang="cs-CZ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cc0066"/>
                </a:solidFill>
                <a:latin typeface="Arial"/>
              </a:rPr>
              <a:t>90+37=127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 výsledku z kroku 3. hledáme nejbližší vyšší celé desítkové číslo (zaokrouhlení na cele desítky vždy nahoru) 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lezené číslo je </a:t>
            </a:r>
            <a:r>
              <a:rPr b="0" lang="cs-CZ" sz="3000" spc="-1" strike="noStrike">
                <a:solidFill>
                  <a:srgbClr val="cc0066"/>
                </a:solidFill>
                <a:latin typeface="Arial"/>
              </a:rPr>
              <a:t>130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d výsledku z kroku 4. odečteme výsledek z kroku 3. a to je kontrolní čísl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0" lang="cs-CZ" sz="3000" spc="-1" strike="noStrike">
                <a:solidFill>
                  <a:srgbClr val="cc0066"/>
                </a:solidFill>
                <a:latin typeface="Arial"/>
              </a:rPr>
              <a:t>130–127=3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 u="sng">
                <a:solidFill>
                  <a:srgbClr val="cc0066"/>
                </a:solidFill>
                <a:uFillTx/>
                <a:latin typeface="Arial"/>
              </a:rPr>
              <a:t>859123456789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47736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žit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 supermarketech (pokladní systémy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 sklade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knihovná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bankovnictví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oštá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lyžařských areálech a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002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značování obalů – rozděl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452520"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ční značky – materiálová identifikace obalu, kvalita výrobku a další informační znač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452520"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ční značky – značky informující jak optimálně manipulovat s jednotkou ba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452520"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zpečnostní značky – značky  informující o charakteru baleného zpravidla nebezpečného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452520"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 – čárový kód, RFID 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569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chlost čtení (20 x rychlejší než člověk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s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zálnost a flexibil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né zaved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rychlení materiálového a informačního t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nost přímé viditelnosti kódu při sním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dné poškození vlivem okolních vliv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b2ca0"/>
                </a:solidFill>
                <a:latin typeface="Arial"/>
              </a:rPr>
              <a:t>b) RFID kó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ód je tvoř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tén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ílačem s dekodérem (nazývaný také RFID snímač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nsponderem pro označení sledovaného předmětu/osoby - ze dvou slov TRANSmitter a resPONDER, tedy vysílač a odpovídač, dnes se však častěji používá označení RFID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247840" cy="2643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5832360" cy="437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Rectangle 3"/>
          <p:cNvGraphicFramePr/>
          <p:nvPr/>
        </p:nvGraphicFramePr>
        <p:xfrm>
          <a:off x="2484360" y="2924280"/>
          <a:ext cx="4392720" cy="32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924280"/>
                    <a:ext cx="439272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920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 fungování RF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ílač vysílá radiový signál (RF), který aktivuje RFID tag a ten odesílá informace zpět, případně zaznamená přijaté informace do své pamě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30160" y="4437000"/>
            <a:ext cx="368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 – anténní obvo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 – pamě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– nadřazený počítač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 – čtecí a zapisovací jednotk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µP – mikroproc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FID tag může bý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lisován do plastového obalu o rozměru kreditní k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ožen do speciálního plastového obalu s možností připevnění šrouby nebo nýty na sledovaný ob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roben v podobě samolepícího štítku    (smart label) nebo etik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ce bez nutnosti přímé viditelnosti tag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šší kapacita uložených informací oproti Č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 zakódování uložený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akovaná možnost zápisu na RF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 načtení několika desítek až stovek tagů najednou během jedné vteř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šší odolnost proti vnějším vlivům oproti Č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telnost při výrazně vyšších rychloste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FID oproti ČK identifikuje nejen výrobce či každý druh výrobku, ale i každý jednotlivý k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na zařízení na čtení je výrazně vyšší než u snímačů Č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šší cena oproti ČK, kdy průměrná cena štítku pro ČK je kolem deseti haléřů, u RFID je nejnižší cena pět až dvacet K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však RF tagy mohou být přepisovány a recyklovány až na několik tisíc cyklů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řiblížení ceně štítku s Č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lek, V.: Co značky napoví III, časopis Svět balení           3-4/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vington, B.: Označování obalů v Evropě, časopis Svět balení 4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rák, P.: RFID – identifikace pro pokročilé, časopis Svět balení 5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ové strá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spotrebitele.info/znacky/vsechny-znacky.html cs.wikipedia.org/wiki/Čárový_kó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odbornecasopisy.cz/index.php?id_document=3065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www.cmi.cz/index.php?lang=1&amp;wdc=26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obrazky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700280"/>
            <a:ext cx="82296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b2ca0"/>
                </a:solidFill>
                <a:latin typeface="Arial"/>
              </a:rPr>
              <a:t>Materiálová identifik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šipkové symb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ování obalů podle ČSN 77 00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ce spotřebitele o druhu obalového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Informační znač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7056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klady značení na obal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Rectangle 3"/>
          <p:cNvGraphicFramePr/>
          <p:nvPr/>
        </p:nvGraphicFramePr>
        <p:xfrm>
          <a:off x="684360" y="1989000"/>
          <a:ext cx="777708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77708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385920"/>
          <a:ext cx="8229600" cy="5851440"/>
        </p:xfrm>
        <a:graphic>
          <a:graphicData uri="http://schemas.openxmlformats.org/drawingml/2006/table">
            <a:tbl>
              <a:tblPr/>
              <a:tblGrid>
                <a:gridCol w="2243160"/>
                <a:gridCol w="598644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- PE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 - HDP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 - PVC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 - LD P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 - PP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 - P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- 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- PA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- PA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- PA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etylentereftalá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ysokohustotní polyetyl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vinylchlori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ízkohustotní polyetyl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propyl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styr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tatní plasty (PA/PET, PA/LDPE ad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nitá lepenk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adká lepenk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pí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385920"/>
          <a:ext cx="822960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594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- F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- ALU/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-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-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- TEX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- TE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- G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- G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- G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 - 9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iní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řev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vl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ílé skl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lené skl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ědé skl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441360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binované obalové materiály, např. C/PAP, C/ALU ad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8360" y="189000"/>
          <a:ext cx="8229600" cy="6070680"/>
        </p:xfrm>
        <a:graphic>
          <a:graphicData uri="http://schemas.openxmlformats.org/drawingml/2006/table">
            <a:tbl>
              <a:tblPr/>
              <a:tblGrid>
                <a:gridCol w="2027160"/>
                <a:gridCol w="6202440"/>
              </a:tblGrid>
              <a:tr h="607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 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 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036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různé ko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p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hli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ocelový pocínovaný ple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plast/hli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plast/hliník/ocelový pocínovaný ple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t/hli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t/ocelový pocínovaný ple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t/různé ko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o/p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o/hli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o/ocelový pocínovaný ple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9280" indent="-441360" algn="just">
                        <a:buClr>
                          <a:srgbClr val="000000"/>
                        </a:buClr>
                        <a:buFont typeface="Times New Roman"/>
                        <a:buChar char="▪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o/různé ko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1-04-04T08:16:18Z</dcterms:modified>
  <cp:revision>59</cp:revision>
  <dc:subject/>
  <dc:title>POSLOUPNOSTI</dc:title>
</cp:coreProperties>
</file>