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78B-9084-4E38-BE59-A02BECE9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334-26F3-4111-B144-0750040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921-332C-4CCC-BC7D-9B427A4E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3EE-D1B7-4BA4-A610-4B40B2D2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9DB-58D4-4EF8-9ECC-EC98AB1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809-6225-4192-B8DD-C152FDB7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41B-AF11-4C67-A5F1-920E0EF0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786-CD68-4ED6-A9AE-F65B249B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DCD-9C7B-4CED-BC23-02BF6E39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E37-64A8-44AD-A97B-1C5CF6A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DFC-F19E-487D-AD7F-DEA4F2C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FBC-0976-4796-A76A-9FE41A90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A02-C5DB-4199-9E78-D4087B9AD6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F06-504E-4864-A702-43093045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ZDOTYKOVÉ TI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. Kateřina Kou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iezo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termický způsob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arvy nemusí být speciálně upravené jako u termického způsob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roti termickému rychlejší, přesnější a nejpoužívanějš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pka se vytvoří pomocí pulzujícího piezokrystalu, který je umístěn na membráně try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yska musí být vždy zcela naplněna TB – nepřetržité dodávání barvy do try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Rectangle 3"/>
          <p:cNvGraphicFramePr/>
          <p:nvPr/>
        </p:nvGraphicFramePr>
        <p:xfrm>
          <a:off x="900000" y="981000"/>
          <a:ext cx="70995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81000"/>
                    <a:ext cx="70995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266920" y="3213000"/>
            <a:ext cx="432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– try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– piezok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– ohebná membr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– potiskovaný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– zásobník inkou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tryskovému tisku obec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barev pro 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solid ink j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rozehřátý inkoust obsahuje tavná barviva a po nástřiku na papír tuhne, nerozpíjí se a zůstává na povrchu papíru ve formě kapky. Používá se zříd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liquid ink j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odné roztoky barviv obsahující malé množství diethylenglykolu jako zvláčňovadla, které se po nástřiku zapíjí do povrchu pap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žadavky na TB pro potisk papír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B se musí vsáknout za méně než 0.5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tištěný bod musí být kruhového tvaru přesně definované plo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tryskového tis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 obal. mat. 2D (zejména z papírů a lepenek, plastů, kovů ad.) a 3D obalů (víčka, láhve, naplněné sáčky a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 křehkých obal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OT se využívá pouze jako doplňková 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 firemního označení, označení zboží, značek pro přepravu a manipulaci, pro tisk adres u přepravních obal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 údajů o zboží, data jeho výroby a plnění, evidenční čísla a jiná ozna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6400" indent="-53640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serový t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21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uje na  principu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elektrofotografického tis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ý se využívá v laserových tiskár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52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6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ovodivá vrstva na povrchu tiskového válce je nabita kladným nábo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5348160"/>
            <a:ext cx="237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kový vá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3573360"/>
            <a:ext cx="36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ovodivá vrstva vál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518080"/>
            <a:ext cx="79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59280" y="3716280"/>
          <a:ext cx="385416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716280"/>
                    <a:ext cx="385416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flipH="1" flipV="1">
            <a:off x="2771640" y="4076280"/>
            <a:ext cx="72072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00360" y="5013360"/>
            <a:ext cx="79200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47560"/>
            <a:ext cx="8075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41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bitá polovodivá vrstva se exponuje laserovým paprskem. Paprsek na povrchu válce vykresluje rastrovým způsobem budoucí tištěný obraz. V místě expozice se polovodivá vrstva stane vodivou a její náboj je odve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684760"/>
            <a:ext cx="62712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Rectangle 3"/>
          <p:cNvGraphicFramePr/>
          <p:nvPr/>
        </p:nvGraphicFramePr>
        <p:xfrm>
          <a:off x="2771640" y="3213000"/>
          <a:ext cx="4686480" cy="30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13000"/>
                    <a:ext cx="468648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995640" y="3692520"/>
            <a:ext cx="144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z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raz vytvořený nábojem v polovodivé vrstvě je “vyvolán” kladně nabitým práškovým barvivem. V místech, kde je dosud kladný náboj, nedojde k  přichycení souhlasně nabitého barv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5372280"/>
            <a:ext cx="1224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3068640"/>
            <a:ext cx="145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v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Rectangle 3"/>
          <p:cNvGraphicFramePr/>
          <p:nvPr/>
        </p:nvGraphicFramePr>
        <p:xfrm>
          <a:off x="2340000" y="3716280"/>
          <a:ext cx="361476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716280"/>
                    <a:ext cx="361476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H="1" flipV="1">
            <a:off x="2556000" y="3428640"/>
            <a:ext cx="50328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0755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z je přenesen na papír. Přenosu napomáhá záporně nabitá plocha (resp. válec), přiložená k zadní straně pap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278080"/>
            <a:ext cx="2319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porně nabitá deska (vál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03480" y="3790800"/>
            <a:ext cx="95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í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5302080"/>
            <a:ext cx="647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3203640" y="3068640"/>
          <a:ext cx="4038480" cy="25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068640"/>
                    <a:ext cx="40384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H="1" flipV="1">
            <a:off x="3850920" y="2852280"/>
            <a:ext cx="360360" cy="50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87640" y="386064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9320" y="693720"/>
            <a:ext cx="8040600" cy="315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z vytvořený práškovým barvivem 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en” horkým přítlačným válcem neb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řevem IR záře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. V laserové tiskárně se výše popsané kro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ádí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ěhem jedné otáč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skového vál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1476360" y="239760"/>
            <a:ext cx="6769080" cy="600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76360" y="5229360"/>
            <a:ext cx="148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hřívaný vá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3933720"/>
            <a:ext cx="2232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řenos ob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 papí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141720"/>
            <a:ext cx="8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í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205000"/>
            <a:ext cx="12938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škové bar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476280"/>
            <a:ext cx="12938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skový vá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260280"/>
            <a:ext cx="207000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pozice lase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2565360"/>
            <a:ext cx="174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bití vál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3645000"/>
            <a:ext cx="116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Čistěn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5300640"/>
            <a:ext cx="2232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Ustálení potisku ohřát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916000" y="5445000"/>
            <a:ext cx="71892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564000" y="5300280"/>
            <a:ext cx="712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31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zástupc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Arial"/>
              </a:rPr>
              <a:t>Tryskový tisk (Ink J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886040" indent="-457200">
              <a:spcBef>
                <a:spcPts val="1500"/>
              </a:spcBef>
              <a:buClr>
                <a:srgbClr val="0066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00"/>
                </a:solidFill>
                <a:latin typeface="Arial"/>
              </a:rPr>
              <a:t>Kontinuál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886040" indent="-457200">
              <a:spcBef>
                <a:spcPts val="1500"/>
              </a:spcBef>
              <a:buClr>
                <a:srgbClr val="0066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6600"/>
                </a:solidFill>
                <a:latin typeface="Arial"/>
              </a:rPr>
              <a:t>Diskontinuál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2446200" indent="-3808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bble 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2446200" indent="-3808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iezo systé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53316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Arial"/>
              </a:rPr>
              <a:t>Laserový t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Barevné laserové tiskár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ují na principu substraktivního míchání barev =&gt; tiskárna musí mít čtyři tiskové jednotky (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CMY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971640" y="2349360"/>
          <a:ext cx="3960720" cy="38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396072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076720" y="2276640"/>
            <a:ext cx="388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-Cyan-azu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-magenta-purpu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Y-Yellow-žlu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-Key-čer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+Y = červená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Y+C = zelená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+M = modrá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+M+Y = čer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 laserového tis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šší rychlost tisku oproti Ink J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šší kvalita tisku oproti Ink J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h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= PC tiskár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 papíru a lehké kartonáže (do 250 g.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 pouze maket – např. skládaček, sáčků, etiket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sk štítků pro označování obalu datumem spotřeby nebo expedice, číslem šarže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šil, M.: Textile Printing, skripta TU Liberec,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ové strá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spsemoh.cz/vyuka/ms-dos/pr_tisku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jsworld.hyperlink.cz/JSWORLD/STR/IT-DMT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brazky.c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6400" indent="-5364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yskový tisk = INK-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digitální tisková technika pracující na principu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bodového nástřiku bar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inkoustu) na papír pomocí try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principu pracují běžné počítačové tiskár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 vytváří pomocí PC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ní zapotřebí TF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adá předtisková př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ka Ink-Jet umožňuje barevný tisk nástřikem až čtyř barev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současně</a:t>
            </a:r>
            <a:r>
              <a:rPr b="0" i="1" lang="cs-CZ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adá problematika souti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47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ost tisku je daleko menší oproti klasickým dotykovým technik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47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ní vhodný pro velkoformátový t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47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šší nároky na kvalitu barv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ra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dva systémy tryskového tisku 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47840">
              <a:spcBef>
                <a:spcPts val="1400"/>
              </a:spcBef>
              <a:buClr>
                <a:srgbClr val="0066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00"/>
                </a:solidFill>
                <a:latin typeface="Arial"/>
              </a:rPr>
              <a:t>kontinuální tvorba kapek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epřetržitý způs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47840">
              <a:spcBef>
                <a:spcPts val="1400"/>
              </a:spcBef>
              <a:buClr>
                <a:srgbClr val="0066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00"/>
                </a:solidFill>
                <a:latin typeface="Arial"/>
              </a:rPr>
              <a:t>diskontinuální tvorba kape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řerušovaný způs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61"/>
              </a:spcBef>
              <a:buClr>
                <a:srgbClr val="0066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Kontinuální tryskový t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zoelektrický oscilátor vytváří na ústí trysky rovnoměrný proud jednotlivých kapiček barvy stejné velikosti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vyletujících těsně za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ičky určené pro tisk se neodchylují z dráhy a dopadají na pap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atním kapičkám je signálem z počítače udělován elektrický náboj a pomocí vychylovacích destiček jsou odkláněny do sběrače, odkud se vrací zpět do zásobníku ba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Rectangle 3"/>
          <p:cNvGraphicFramePr/>
          <p:nvPr/>
        </p:nvGraphicFramePr>
        <p:xfrm>
          <a:off x="446040" y="260280"/>
          <a:ext cx="822960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260280"/>
                    <a:ext cx="822960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28720" y="3357720"/>
            <a:ext cx="59752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try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místo, kde dochází k nabíj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čitých kapek podle zadaných 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místo, kde se vlivem elektrického po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chylují nabité kap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– potiskovaný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spcBef>
                <a:spcPts val="751"/>
              </a:spcBef>
              <a:buClr>
                <a:srgbClr val="0066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6600"/>
                </a:solidFill>
                <a:latin typeface="Arial"/>
              </a:rPr>
              <a:t>Diskontinuální tryskový ti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zývá se též DROP in DEMAND (kapka na požádání) = přerušovaný nástřik barvy na potiskov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je rozdělit 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58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bble Jet = bublinková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58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ezo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844640"/>
          <a:ext cx="849600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9600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ublinková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ický způsob, teplota je cca 35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B neobsahují žádná organická rozpouštěd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kytuje se ve 2 proved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yska s jedním topným tělískem – velikost  kapek je stejná =&gt;  přechody mezi odstíny nejsou tak jemné jako u trysek se dvěma topnými tělís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yska se dvěmi topnými tělísky– velikost  kapek je různá a je regulovaná automaticky podle povahy tiskového média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ýsledkem je mimořádně ostrý tisk s  jemnými přechody mezi odstín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26920" y="2797200"/>
          <a:ext cx="698508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97200"/>
                    <a:ext cx="698508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79280" y="4941720"/>
            <a:ext cx="84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vyhřívaní pouze jednoho tělíska  -&gt;  vznik menš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liny, resp. kapky bar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vyhřívaní obou tělísek  -&gt;  vznik větší bubliny, resp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ky bar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2602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98480" indent="-326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né tělísko v trysce vlivem zahřívání vytvoří bublinu, vlivem které dojde k vytlačení kapky barvy z try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0560" y="218916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yska se 2 tělís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1-01-10T09:49:19Z</dcterms:modified>
  <cp:revision>52</cp:revision>
  <dc:subject/>
  <dc:title>POSLOUPNOSTI</dc:title>
</cp:coreProperties>
</file>