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A54-DA0F-424F-9C4F-1B6F8232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A03-B560-4FE4-96D6-AE2E3B0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353-9D12-4423-8248-AC6E85DD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BBF-8BDA-4879-9576-ABA213DB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90B-9114-4633-A50A-4167942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BB6-2B6E-4DC1-A684-93FE43A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FC2-5762-4F8D-8F60-31B35DD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C6F-875A-4079-BC39-EAE57B3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F34-8F56-4277-B5B8-3377B1C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FE7-1B6D-4449-80AA-5CD6752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4C9-5094-4BDA-A37D-04B9089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A03-062B-4139-831A-3C46E39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5A9-871D-4E4D-B841-C54D1540B5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EEC-80EA-4D5C-922A-7119644D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SK Z PLOC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Kou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1840" y="431640"/>
            <a:ext cx="864252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Výroba TF – způsob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609480"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alogický způsob – fotopolymer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33560" indent="-507960"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kovové TD s typy fotopolymer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11440" indent="-457200">
              <a:spcBef>
                <a:spcPts val="524"/>
              </a:spcBef>
              <a:buClr>
                <a:srgbClr val="0000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fotopolymer světlem se vytvrz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36760" indent="-457200">
              <a:spcBef>
                <a:spcPts val="524"/>
              </a:spcBef>
              <a:buClr>
                <a:srgbClr val="008000"/>
              </a:buClr>
              <a:buFont typeface="Arial"/>
              <a:buAutoNum type="alphaLcParenR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Arial"/>
              </a:rPr>
              <a:t>přímý způso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36760" indent="-457200">
              <a:spcBef>
                <a:spcPts val="524"/>
              </a:spcBef>
              <a:buClr>
                <a:srgbClr val="008000"/>
              </a:buClr>
              <a:buFont typeface="Arial"/>
              <a:buAutoNum type="alphaLcParenR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Arial"/>
              </a:rPr>
              <a:t>nepřímý způ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11440" indent="-457200">
              <a:spcBef>
                <a:spcPts val="524"/>
              </a:spcBef>
              <a:buClr>
                <a:srgbClr val="0000ff"/>
              </a:buClr>
              <a:buFont typeface="Arial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fotopolymer světlem se rozkláda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33560" indent="-507960">
              <a:spcBef>
                <a:spcPts val="524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ovové TD = bimetal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609480">
              <a:spcBef>
                <a:spcPts val="524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igitální způsob – CTP technologie (computer to pl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33560" indent="-507960">
              <a:spcBef>
                <a:spcPts val="524"/>
              </a:spcBef>
              <a:buClr>
                <a:srgbClr val="fc7e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c7e00"/>
                </a:solidFill>
                <a:latin typeface="Arial"/>
              </a:rPr>
              <a:t>Fotopolymerní způ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33560" indent="-507960">
              <a:spcBef>
                <a:spcPts val="524"/>
              </a:spcBef>
              <a:buClr>
                <a:srgbClr val="fc7e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c7e00"/>
                </a:solidFill>
                <a:latin typeface="Arial"/>
              </a:rPr>
              <a:t>Termální způsob – obdoba C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-62856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Analogický zp. – fotopolymer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22280" indent="-43164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pomocí předloh (diapozitivu nebo negativ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43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lohy se vytisknou na pauzovacím papíru, fólii nebo se zhotoví na fotografickém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43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tiskových des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09880" indent="-50796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okovové 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09880" indent="-507960"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ovové TD = bimetal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496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vé desky mohou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spcBef>
                <a:spcPts val="1400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lasické fotopolymerní T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kládají se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696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iníkové de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696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topolymeru – světlem  se vytvrzujícího nebo světlem se rozkládající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705120" y="4386240"/>
          <a:ext cx="46818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5120" y="4386240"/>
                    <a:ext cx="46818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68360" y="49878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ková deska z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4720" y="43718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to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3800" y="365040"/>
            <a:ext cx="578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Jednokovové tiskové form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Rectangle 3"/>
          <p:cNvGraphicFramePr/>
          <p:nvPr/>
        </p:nvGraphicFramePr>
        <p:xfrm>
          <a:off x="523800" y="2349360"/>
          <a:ext cx="4248360" cy="32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349360"/>
                    <a:ext cx="424836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892160" y="2133720"/>
            <a:ext cx="13687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V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29240" y="3212640"/>
            <a:ext cx="691920" cy="66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51400" y="2962440"/>
            <a:ext cx="158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gat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56160" y="342900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46720" y="346716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vytvrzený fotopolym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171440" y="4510080"/>
            <a:ext cx="4334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2680" y="4221000"/>
            <a:ext cx="365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sknoucí místa (hydrofob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6360" y="458136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mytí neosvětleného fotopolymeru  destilova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ou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uš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čný osv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6880" y="1270080"/>
            <a:ext cx="62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8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římý způso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egativně prac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520" y="549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2360" indent="-343080">
              <a:lnSpc>
                <a:spcPct val="100000"/>
              </a:lnSpc>
              <a:buClr>
                <a:srgbClr val="0000ff"/>
              </a:buClr>
              <a:buFont typeface="Arial"/>
              <a:buAutoNum type="alphaUcPeriod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TD s fotopolymerem světlem se vytvrzující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Rectangle 3"/>
          <p:cNvGraphicFramePr/>
          <p:nvPr/>
        </p:nvGraphicFramePr>
        <p:xfrm>
          <a:off x="865080" y="981000"/>
          <a:ext cx="36226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981000"/>
                    <a:ext cx="3622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4144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97440" y="1413000"/>
            <a:ext cx="19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apozit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97440" y="1844640"/>
            <a:ext cx="35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8000"/>
                </a:solidFill>
                <a:latin typeface="Arial"/>
              </a:rPr>
              <a:t>vytvrzený fotopoly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21080" y="1267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7440" y="981000"/>
            <a:ext cx="26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leněná de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68720" y="227664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a z 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4320" y="765000"/>
            <a:ext cx="1203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V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92720" y="1916280"/>
            <a:ext cx="420480" cy="1936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76720" y="2205000"/>
            <a:ext cx="649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92720" y="1699920"/>
            <a:ext cx="420480" cy="66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97440" y="43639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ování tiskovým la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7440" y="29242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mytí neosvětleného fotopolymeru destilovanou vod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97440" y="55879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stranění fotopolym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297080" y="544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5080" y="5084640"/>
            <a:ext cx="422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sknoucí místa (hydrofob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175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) Nepřímý způso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ozitivně prac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TD s fotopolymerem světlem se rozkládající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zitivně pracujíc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2560" y="1625760"/>
          <a:ext cx="412596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625760"/>
                    <a:ext cx="412596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79640" y="1417680"/>
            <a:ext cx="14209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V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00520" y="2472840"/>
            <a:ext cx="736560" cy="6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70480" y="2179800"/>
            <a:ext cx="180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apozit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637000"/>
            <a:ext cx="80136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70480" y="2568600"/>
            <a:ext cx="180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ložený fotopolym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97360" y="3673080"/>
            <a:ext cx="4017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5680" y="33498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sknoucí místa (hydrofob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9560" y="3789360"/>
            <a:ext cx="34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mytí osvětlen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polymeru slab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aditým rozto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08464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 zhotovení všech tří TF následuje jejich konzervace a poté montáž na formový válec tiskového str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Rectangle 3"/>
          <p:cNvGraphicFramePr/>
          <p:nvPr/>
        </p:nvGraphicFramePr>
        <p:xfrm>
          <a:off x="250920" y="1800360"/>
          <a:ext cx="28782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00360"/>
                    <a:ext cx="28782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Rectangle 3"/>
          <p:cNvGraphicFramePr/>
          <p:nvPr/>
        </p:nvGraphicFramePr>
        <p:xfrm>
          <a:off x="3130560" y="1800360"/>
          <a:ext cx="2881440" cy="22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0560" y="1800360"/>
                    <a:ext cx="28814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84720" y="1800360"/>
          <a:ext cx="284508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800360"/>
                    <a:ext cx="28450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4000" y="61405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přímý způ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218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mý způ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9507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Fotopolymer světlem se vytvrzují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9208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Fotopolymer světlem se rozkládají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3080" y="3175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ovná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spcBef>
                <a:spcPts val="75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ícekovové tiskové form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49"/>
              </a:spcBef>
              <a:buNone/>
              <a:tabLst>
                <a:tab algn="l" pos="0"/>
                <a:tab algn="l" pos="7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4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různých fyzikálně – chemických vlastností kov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7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má kov vyšší zápornou hodnotu elektromagnetického potenciálu, tím má větší snahu reagovat s polárními látkami (s vodou apod.) a jeho hydrofilita je tím větší. Prvky s kladnějším potenciálem postupně tuto vlastnost ztrácejí a stávají se víceméně hydrofobními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ydrofobní – Cu, Ag, Au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7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ydrofilní – Cr, Ni 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desek v kombinacích (bimetalové T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u+Cr  nebo  Cu+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u – hydrofobní (= tisknoucí mí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r nebo Ni – hydrofilní (= netisknoucí mí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–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roba vícekovové TF (bimetalové)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sná podložka bimetalových desek je vytvořena z Cu (0,12 mm) a opatřena povrchovou vrstvou Cr nebo Ni (0,001 - 0,002 m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rstvení TD fotopolymerem světlem se vytvrzujíc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zice – kopírování TD přes předlohu (negat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volání TF (vymytí neosvětlených mí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eptání chromové vrstvy až na mě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stranění fotopolyme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ce TF arabskou gu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69192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lavní zástupci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s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chý ofs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fické umělecké technik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amenotisk (litografi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Rectangle 3"/>
          <p:cNvGraphicFramePr/>
          <p:nvPr/>
        </p:nvGraphicFramePr>
        <p:xfrm>
          <a:off x="611280" y="333360"/>
          <a:ext cx="359568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359568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356000" y="1628640"/>
            <a:ext cx="453708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– foto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větlem se vytvrzují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– Cr nebo 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etisknoucí mí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 – Cu  (tisknoucí mí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mě bimetalických TD se využívají i trimetalické TD (ocel/Cu/Cr nebo 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s jsou tyto TD vytlačeny fotopolymerními monometalickými 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jí se zejména pro potisk kovových plechů, protože při tisku se používá malé množství vlhčícího roztoku (X fotopolymerní TD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é riziko vzniku koroze plec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536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přímým osvitem tiskové desky bez předl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buClr>
                <a:srgbClr val="fc7e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c7e00"/>
                </a:solidFill>
                <a:latin typeface="Arial"/>
              </a:rPr>
              <a:t>Fotopolymerní způso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je obdobná fotopolymernímu přímému způsobu (světlocitlivý fotopoly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 obraz  na TD je vytvářen pomocí UV světla nebo IR laseru. V místě osvitu dojde k vytvrzení světlocitlivého fotopolymeru. Následuje vymytí neosvětlených míst a suš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-62856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Digitalní zp. – CTP technologie </a:t>
            </a:r>
            <a:br>
              <a:rPr sz="3000"/>
            </a:b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(= computer to plat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buClr>
                <a:srgbClr val="fc7e00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c7e00"/>
                </a:solidFill>
                <a:latin typeface="Arial"/>
              </a:rPr>
              <a:t>Termální způso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noucí místa vznikají rozkladem vrchní termocitlivé vrst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4033800"/>
            <a:ext cx="3672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5396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á des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96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– termocitlivá v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96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– tisknoucí v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964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– Al de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547640" y="2492280"/>
          <a:ext cx="3816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92280"/>
                    <a:ext cx="3816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726160" y="2347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8386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616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19640" y="2637000"/>
            <a:ext cx="57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299556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21440" y="3500280"/>
            <a:ext cx="50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075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k – expozice TD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estrukce termocitlivé vrstv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611280" y="1700280"/>
          <a:ext cx="827244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72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3645000"/>
            <a:ext cx="8075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k – odplavení exponovaných míst zásaditým roztokem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hotová 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5013360"/>
            <a:ext cx="3925800" cy="21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5229360"/>
            <a:ext cx="3925800" cy="504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4797360"/>
            <a:ext cx="1439640" cy="2160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Rectangle 3"/>
          <p:cNvGraphicFramePr/>
          <p:nvPr/>
        </p:nvGraphicFramePr>
        <p:xfrm>
          <a:off x="2556000" y="2841480"/>
          <a:ext cx="633708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841480"/>
                    <a:ext cx="6337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39640" y="333360"/>
            <a:ext cx="8209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fsetové st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ové nebo kotoučov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 nebo vícebarev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ří, čtyř nebo pěti-válc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3-válcový of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Rectangle 3"/>
          <p:cNvGraphicFramePr/>
          <p:nvPr/>
        </p:nvGraphicFramePr>
        <p:xfrm>
          <a:off x="755640" y="1760400"/>
          <a:ext cx="590400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60400"/>
                    <a:ext cx="59040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95280" y="333360"/>
            <a:ext cx="84978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4-válcový ofset: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oustranný  i jednostranný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59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Čtyř-barevný ofset (CMY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Rectangle 3"/>
          <p:cNvGraphicFramePr/>
          <p:nvPr/>
        </p:nvGraphicFramePr>
        <p:xfrm>
          <a:off x="1692360" y="1052640"/>
          <a:ext cx="497988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52640"/>
                    <a:ext cx="497988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423520" y="4349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8520" y="5445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6520" y="42210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2108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5080" y="422100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4520" y="50133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atelitní ofset – čtyř-barevný (CMY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Rectangle 3"/>
          <p:cNvGraphicFramePr/>
          <p:nvPr/>
        </p:nvGraphicFramePr>
        <p:xfrm>
          <a:off x="1908000" y="1181160"/>
          <a:ext cx="5329440" cy="51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81160"/>
                    <a:ext cx="532944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4200" y="312840"/>
            <a:ext cx="7705440" cy="5780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9560" y="533520"/>
            <a:ext cx="359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set – soutisk bar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incip tisku z ploc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noucí místa jsou v jedné rovině s netisknoucími mí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Rectangle 3"/>
          <p:cNvGraphicFramePr/>
          <p:nvPr/>
        </p:nvGraphicFramePr>
        <p:xfrm>
          <a:off x="755640" y="2349360"/>
          <a:ext cx="792180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9218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yužití ofs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ý pro pérové, tónové a polotónové obráz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žívá se pro potisk jemných detailů, potisk obalů (skládaček, papírových sáčků, etiket ad.), kvalitních tiskovin, kalendářů, knih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ydrží větší počet otisků =&gt; lépe využít flexotisk nebo hlubo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hodný pro tisk malých sérií (tisk od 400 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rychlost a kvalita tis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UCHÝ O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isk bez vlh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Rectangle 3"/>
          <p:cNvGraphicFramePr/>
          <p:nvPr/>
        </p:nvGraphicFramePr>
        <p:xfrm>
          <a:off x="468360" y="2205000"/>
          <a:ext cx="734544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734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rincip ti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vá deska je potažena vrstvou, na které se barva nedrží (oleofóbní vrstva = silik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vu odpuzující vrstva (silikon) nahrazuje v procesu tisku funkci vlhčícího roztoku, který je využíván u klasického „mokrého“ ofs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expozici desky se v místech, která mají tisknout, tato vrstva odstraní pomocí laseru =&gt; odhalení tisknoucích míst (oleofiln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vé barvy jsou bezvodé na olejové bázi =&gt; tisknoucí místa jsou oleofilní a netisknoucí místa jsou oleofób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002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ýroba T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CTP technologie (computer to plate) = digitální z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omocí IR las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4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á deska se skládá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3718080"/>
            <a:ext cx="28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R  absorbční vrst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3141720"/>
            <a:ext cx="39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ilikonová vrstva – oleofob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86560" y="4145040"/>
            <a:ext cx="32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isková vrstva – oleofil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6920" y="4648320"/>
            <a:ext cx="28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 de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5468760"/>
            <a:ext cx="755964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. Tloušťka tiskové desky je 0,2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Rectangle 3"/>
          <p:cNvGraphicFramePr/>
          <p:nvPr/>
        </p:nvGraphicFramePr>
        <p:xfrm>
          <a:off x="214200" y="3386160"/>
          <a:ext cx="547236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386160"/>
                    <a:ext cx="547236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TF pomocí IR laseru – po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vit TD probíhá přímým kopírováním obrazu v paměti PC =&gt; není zapotřebí tiskových předloh (negativu nebo diapoziti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vit je proveden IR laserem, vlivem kterého dojde k rozkladu absorpční vrstvy (teplota laseru je cca 500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kladem absorpční vrstvy dojde k narušení povrchové silikonové vrst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konec se zbytky narušeného a uvolněného silikonu odstraní mechanicky =&gt; odkrytí  tisknoucích míst (oleofiln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Rectangle 3"/>
          <p:cNvGraphicFramePr/>
          <p:nvPr/>
        </p:nvGraphicFramePr>
        <p:xfrm>
          <a:off x="1773360" y="260280"/>
          <a:ext cx="487656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3360" y="260280"/>
                    <a:ext cx="48765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V="1">
            <a:off x="3635280" y="472428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43657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noucí místa (oleofil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yužití suchého ofs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kvalitních tiskovin, knih, obalů a obalových prostředků (potisk skládaček, etiket, plastových a kovových fólií ad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a: mnohem přesnější tisk než u klasického „mokrého“ ofs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a: vznik malých částeček prachu, které se odlupují z TF na pomezí tisknoucích a netisknoucích míst =&gt; nekvalitní tisk, proto se musí TF po několika výtisků přemý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rtoň, J.: Tiskové techniky 1. a 2. část, SOŠ a VOŠ Štětí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vlastnicesta.cz/akademie/tisk/tisk-metody/ofsetovy-ti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valido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nášení barvy na TF je založeno na principu jejich rozdílných fyzikálně chemických vlastnos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u klasického ofs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noucí prvky – hydrofobn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tisknoucí prvky – hydrofiln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va – hydrofobní a nemísitelná s vodou, na olejové bá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u suchého ofs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noucí prvky – oleofiln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tisknoucí prvky – oleofobn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va – bezvodá, na olejové bá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11280" y="2681280"/>
          <a:ext cx="554508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81280"/>
                    <a:ext cx="554508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Arial"/>
              </a:rPr>
              <a:t>OFS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ční nepřímá tisková tech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ová forma je čitelná (diapozitiv nebo negat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pérových, tónových a polotónových obráz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Historie vzn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princip přišel v 18. st.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Alois Senefeld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ý přivedl na svět tzv. kamenot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F = solnohofenský vápen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ději byl solnohofenský vápenec nahrazen kovovými deskami – zinkovými, hliníkovými a  vícekovovými – ovrstvenými fotopolymer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ofs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rincip ofs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tisku se TF nejprve namočí vodou, která ulpí jen na hydrofilních netisknoucích mí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é se na TF nanese barva, která ulpí na místech, kde není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lý barevný obraz se z TF přenese přes gumový válec na potiskov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každou barvu je jiná tisková forma a barevník – nejčastěji pracuje na principu CMYKu, lze tisknout i přímými barvami (namíchané v požadovaném odstí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Rectangle 3"/>
          <p:cNvGraphicFramePr/>
          <p:nvPr/>
        </p:nvGraphicFramePr>
        <p:xfrm>
          <a:off x="684360" y="838080"/>
          <a:ext cx="82803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8080"/>
                    <a:ext cx="82803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Rectangle 3"/>
          <p:cNvGraphicFramePr/>
          <p:nvPr/>
        </p:nvGraphicFramePr>
        <p:xfrm>
          <a:off x="1027080" y="4070520"/>
          <a:ext cx="6713640" cy="22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7080" y="4070520"/>
                    <a:ext cx="671364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9640" y="33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vlhčení T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3573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nášení TB na T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Rectangle 3"/>
          <p:cNvGraphicFramePr/>
          <p:nvPr/>
        </p:nvGraphicFramePr>
        <p:xfrm>
          <a:off x="1187280" y="1413000"/>
          <a:ext cx="6840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40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1-04-11T08:56:10Z</dcterms:modified>
  <cp:revision>70</cp:revision>
  <dc:subject/>
  <dc:title>POSLOUPNOSTI</dc:title>
</cp:coreProperties>
</file>