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wmf" ContentType="image/x-wmf"/>
  <Override PartName="/ppt/media/image15.wmf" ContentType="image/x-wmf"/>
  <Override PartName="/ppt/media/image1.jpeg" ContentType="image/jpeg"/>
  <Override PartName="/ppt/media/image2.wmf" ContentType="image/x-wmf"/>
  <Override PartName="/ppt/media/image3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8.wmf" ContentType="image/x-wmf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CB62-4274-46D7-B1C1-5DA9BB163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8136-EA09-4E7B-8F0D-17399798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7341-C6B5-4F3F-96A6-44264A25D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49CD-9E3F-45E6-BF9D-18C0813D0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90FE-CD91-4941-9CC6-AB40A7CC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408D-6119-4189-935A-F022AD8C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28A4-02E3-4F6F-923E-34D44A0B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6CFA-8C81-4FE4-B24F-74004C98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73BC-B61F-4FE4-AF3D-507E1AA4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C564-03F9-4308-8416-8E1C0D5A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98EB-E5A9-4443-8B56-04931F12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BBED-9E86-46FB-B4F1-43FAFC10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E376-D6F6-4A97-8510-A5BF29C5198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4872-FA22-4FD5-9C29-902902DAD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989000"/>
            <a:ext cx="7772400" cy="20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PECIÁLNÍ  TI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g. Kateřina Koub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2.  TISK RAŽEBNÍMI FÓLIE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B je ve formě ražební fólie v kotouči, která se skládá z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nosné fóli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z PES nebo celofánu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dělící vrstv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v ní dochází vlivem působení teploty k oddělení nosné fólie od ostatních vrstev fóli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vrstvy barv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vakuově nanesená vrstva kovů nebo metalizovaných barev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adhezivní termoplastické vrstv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působením teploty a tlaku přilne k potiskovanému materiál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826920" y="1486080"/>
            <a:ext cx="6769080" cy="2662920"/>
            <a:chOff x="826920" y="1486080"/>
            <a:chExt cx="6769080" cy="2662920"/>
          </a:xfrm>
        </p:grpSpPr>
        <p:sp>
          <p:nvSpPr>
            <p:cNvPr id="64" name=""/>
            <p:cNvSpPr/>
            <p:nvPr/>
          </p:nvSpPr>
          <p:spPr>
            <a:xfrm>
              <a:off x="826920" y="1486080"/>
              <a:ext cx="6769080" cy="499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26920" y="1816560"/>
              <a:ext cx="6769080" cy="1002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26920" y="2749680"/>
              <a:ext cx="6769080" cy="568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26920" y="3150360"/>
              <a:ext cx="6769080" cy="99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7863120" y="35020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863120" y="2695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863120" y="2117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863120" y="1341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6920" y="450864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Ražební fól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1 – nosná vrstva, 2 – dělící vrstv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3 – barva, 4 – adhezivní vrst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incip tisk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isk na speciálních razicích lisech, které tvoř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06400" indent="-53784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řívaná matrice (= T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06400" indent="-53784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trice nebo plochá protitlaková des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nos TB z ražební fólie na PM za pomoci tlaku a teploty (vyvýšenými nebo reliéfními plochami), kdy vlivem teploty dojde ve fólii k uvolnění dělicí vrstvy od nosné vrstvy a k převodu adhezivní vrstvy do lepivého stav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ělení matrice a patrice od sebe a posunutí fólie o nastavený krok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ový t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roba matr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F je kovový štoček ze zinku, mosazi, oceli, mědi apod., která se zhotovuje rytí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oubka reliéfu štočku musí být nejméně 1 až 1,5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lochy štočků musí být kvalitně vyleštěn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eliéf nesmí mít příliš ostré hr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roba patr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rábí se z teplem tvrditelných plastů (termosetů nebo-li reaktoplastů) pomocí tlaku mat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362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zdělení tisk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52440" indent="-533160">
              <a:lnSpc>
                <a:spcPct val="12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chý t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52440" indent="-533160">
              <a:lnSpc>
                <a:spcPct val="12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éfní t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52440" indent="-533160">
              <a:lnSpc>
                <a:spcPct val="12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kturní t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5244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25244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25244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a)  Plochý tisk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252440" indent="-53316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šechny tiskové plochy na reliéfní matrici jsou v jedné rovin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52440" indent="-53316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k probíhá proti ploché des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24720" y="549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24720" y="981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24720" y="1700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349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2781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95640" y="3716280"/>
            <a:ext cx="51130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 – vyhřívaná deska mat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 – reliéfní mat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 – ražební fó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4 – potiskovaný materiá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5 – protitlaková deska s podložk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Rectangle 3"/>
          <p:cNvGraphicFramePr/>
          <p:nvPr/>
        </p:nvGraphicFramePr>
        <p:xfrm>
          <a:off x="1476360" y="620640"/>
          <a:ext cx="6048360" cy="29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620640"/>
                    <a:ext cx="604836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84120" y="475920"/>
            <a:ext cx="8291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8000"/>
                </a:solidFill>
                <a:latin typeface="Arial"/>
              </a:rPr>
              <a:t>b)  Reliéfní tisk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252440" indent="-53316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šechny tiskové plochy na reliéfní matrici jsou v jedné rovi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52440" indent="-53316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díl od plochého tisku – protitlakovou deskou je reliéfní patrice (negace matrice)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eliéf na potištěném materiál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1720" y="62064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1720" y="98100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1720" y="16747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51720" y="220500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1720" y="27795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24000" y="3716280"/>
            <a:ext cx="547236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 – vyhřívaná deska mat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 – reliéfní mat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 – ražební fó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4 – potiskovaný materiá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5 – protitlaková deska s reliéfní patric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Rectangle 3"/>
          <p:cNvGraphicFramePr/>
          <p:nvPr/>
        </p:nvGraphicFramePr>
        <p:xfrm>
          <a:off x="1403280" y="620640"/>
          <a:ext cx="6120000" cy="29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620640"/>
                    <a:ext cx="612000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4120" y="476280"/>
            <a:ext cx="82915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8000"/>
                </a:solidFill>
                <a:latin typeface="Arial"/>
              </a:rPr>
              <a:t>c)  Strukturní tisk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252440" indent="-53316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ěkteré části tiskové plochy na matrici     se obohacují mělkým reliéfem různého designu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zorování u potištěné plo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52440" indent="-53316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díl od reliéfního tisku – tiskové plochy nejsou v jedné rovi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740720" y="692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740720" y="10508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740720" y="18921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740720" y="23954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40720" y="29718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24000" y="3882960"/>
            <a:ext cx="575964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 – vyhřívaná deska mat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 – reliéfní mat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 – ražební fó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4 – potiskovaný materiá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5 – protitlaková deska s reliéfní patri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Rectangle 3"/>
          <p:cNvGraphicFramePr/>
          <p:nvPr/>
        </p:nvGraphicFramePr>
        <p:xfrm>
          <a:off x="1403280" y="765000"/>
          <a:ext cx="6265800" cy="29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765000"/>
                    <a:ext cx="626580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lavní zástupci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344600" indent="-53352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éfní raž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981080" indent="-457200">
              <a:spcBef>
                <a:spcPts val="349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981080" indent="-457200">
              <a:spcBef>
                <a:spcPts val="349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44600" indent="-533520"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k ražebními fóli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981080" indent="-457200">
              <a:spcBef>
                <a:spcPts val="349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ch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981080" indent="-457200">
              <a:spcBef>
                <a:spcPts val="349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éf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981080" indent="-457200">
              <a:spcBef>
                <a:spcPts val="349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ktur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44600" indent="-533520"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nzová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44600" indent="-533520"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ograf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0024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spořádání tiskových strojů = tiskové soustav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5760" indent="-4413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locha – ploch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5760" indent="-4413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locha – vále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5760" indent="-4413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álec – vále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Rectangle 3" descr=""/>
          <p:cNvPicPr/>
          <p:nvPr/>
        </p:nvPicPr>
        <p:blipFill>
          <a:blip r:embed="rId1"/>
          <a:stretch/>
        </p:blipFill>
        <p:spPr>
          <a:xfrm>
            <a:off x="395280" y="2908440"/>
            <a:ext cx="83534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22440"/>
            <a:ext cx="822960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užit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3000" indent="-4158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ímto způsobem lze tisknout písmo, značky, pérovky a plochy vždy jednou metalizovanou barvou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elze je vzájemně překrýv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3000" indent="-4158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iskují se etikety, ploché sáčky, bonboniéry, skládačky 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3000" indent="-4158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ze tisknout i prostorové obaly (např. plastové lahvičky na kosmetiku), ale TF se musí přizpůsobit jejich tvar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Rectangle 3"/>
          <p:cNvGraphicFramePr/>
          <p:nvPr/>
        </p:nvGraphicFramePr>
        <p:xfrm>
          <a:off x="2124000" y="765000"/>
          <a:ext cx="4680000" cy="413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765000"/>
                    <a:ext cx="4680000" cy="41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971640" y="5013360"/>
            <a:ext cx="7632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tisk prostorových obal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 – matrice, 2 – ražební fólie, 3 – plastová láhev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4 - pat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32720" y="2492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3272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32720" y="40514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24360" y="3141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90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3.  BRONZ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kovových pigmentů na nezaschlou podtiskovou bar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inci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7240" indent="-5000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prve se na potiskovaný materiál natiskne </a:t>
            </a:r>
            <a:r>
              <a:rPr b="1" i="1" lang="cs-CZ" sz="2800" spc="-1" strike="noStrike">
                <a:solidFill>
                  <a:srgbClr val="ff0000"/>
                </a:solidFill>
                <a:latin typeface="Arial"/>
              </a:rPr>
              <a:t>podtisková</a:t>
            </a:r>
            <a:r>
              <a:rPr b="1" i="1" lang="cs-C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Arial"/>
              </a:rPr>
              <a:t>barv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běžnými TIT, např. ofsetem ad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7240" indent="-50004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té se v bronzovacím stroji rozprašuje pigment na nezaschlou bar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7240" indent="-50004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sleduje odsátí přebytečného pigmentu, který se nepřichytl na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Rectangle 3"/>
          <p:cNvGraphicFramePr/>
          <p:nvPr/>
        </p:nvGraphicFramePr>
        <p:xfrm>
          <a:off x="2124000" y="620640"/>
          <a:ext cx="4767480" cy="521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620640"/>
                    <a:ext cx="4767480" cy="52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Rectangle 3"/>
          <p:cNvGraphicFramePr/>
          <p:nvPr/>
        </p:nvGraphicFramePr>
        <p:xfrm>
          <a:off x="3773520" y="4844880"/>
          <a:ext cx="4038480" cy="146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73520" y="4844880"/>
                    <a:ext cx="403848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28036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žívané pigmen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7120" indent="-447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zlat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mosaz = slitina mědi a zinku, sulfid cíničit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7120" indent="-447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stříbr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hliní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7120" indent="-447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bronzov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slitiny mědi a cín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ronzování se provádí jako poslední tisková ope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ýšení trvanlivost tisku následným lakováním,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nemožnění uvolnění nedostatečně přichyceného pigmen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9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mínky bronzován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tisková TB musí být lepkavá a leskl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arentní TB nebo TB zabarvena tak, aby s pigmenty podporovala zlatý efekt (dožluta i dooranžo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é a čisté kovové pigme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šechny předem natisknuté barvy, které nejsou určeny k bronzování, musí být dostatečně suché, aby na nich pigment neulpě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užit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4800" indent="-417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nzováním lze kvalitně tisknout všechny druhy písma,  pérovky, různě velké plochy i tónové obraz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4800" indent="-417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isk papírových a lepenkových obalů pro luxusní zboží (na kosmetiku, bonboniéry, čokolády, etiket na alkoholické nápoje a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4800" indent="-417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nzový potisk může být zvýrazněn reliéfní ražbou, zejména u firemních znač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4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apř. na vizitkách, obalech pro luxusní výrobk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4.  TERMOGRAF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123560"/>
            <a:ext cx="843588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rmografie = vytvoření reliéfu tištěného prvku působením tep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incip termograf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507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tištění přířezu podtiskovou barvou běžnými TIT, např. ofsetem, flexotiskem 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507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nesení prášku monome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= termografického prášku) na nezaschlou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507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sátí nepřichyceného práš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507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lymerizace – zvětšení objemu prášku monomeru v IR topném tun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507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chlazení reliéfu – zisk potřebné tuhosti reliéf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556000" y="333360"/>
          <a:ext cx="3855960" cy="58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333360"/>
                    <a:ext cx="385596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5560" y="563040"/>
            <a:ext cx="5338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1.  RELIÉFNÍ RAŽ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137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žba = reliéfní tisk z výšky – tisk bez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zdělen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a)  Horká ražb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36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dna nebo dvě desky se vyhřívají na 50 až 300 °C (v závislosti na druhu raženého materiál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36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roti ražbě studené je pomalej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36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 ostřejší reliéf a delší výdržnost i při zvýšené vlhkosti okol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užit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50796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k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raillova pís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= slepecké písmo), které se aplikuje zejména na obalech pro léč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50796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éfní dekorování luxusnějších obalů, titulních stránek časopisů, svatebních oznámení, pozvánek a dalších tiskov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ovnání s dalšími způsoby tisku Braillova pís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ermografi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352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ho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068560" indent="-450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šší odolnost reliéfu vůči klimatickým a mechanickým vlivům během manipulace a sklad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068560" indent="-450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ška reliéfu max. 40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=&gt;  výborná čitelnost pís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352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výh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068560" indent="-450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šší c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06856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84358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horká ražb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200" indent="-44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ho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978200" indent="-360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nější než termograf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200" indent="-44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výho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978200" indent="-360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lavní podmínkou je dostatečná hloubka písma 25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=&gt; vznik mikroskopických trhli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978200" indent="-360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ěhem manipulace s obalem  může dojít k zmáčknutí vyražených zna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978200" indent="-360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 zachování znaků je nutné během skladování a přepravě zachovat optimální  klimatické podmínky (vlhkost vzduch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ítotis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200" indent="-44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ho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044800" indent="-426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dojde  k poškození vytištěného BP vlivem klimatického a mechanického namáhání během manipulace s oba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200" indent="-44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výho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044800" indent="-426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. výška BP je 17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=&gt; špatná čitelnost pís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užitá literatu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artoň, J.: Tiskové techniky 1. a 2. část, SOŠ a VOŠ Štětí,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aněček, M.: Braillovo písmo nejlépe termografií, časopis Svět balení 3-4/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ležal, I.: Ražba skládačkových lepenek, časopis Svět tisku 12/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ové strán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http://obrazky.c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7921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b)  Studená ražb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441440" indent="-366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ky se nevyhřívají jako u horké raž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41440" indent="-366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íce používan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41440" indent="-366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nější způsob výroby raž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41440" indent="-366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ší kvalita reliéf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4144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žba se provádí na razících lisech, pomocí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tric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tr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v nichž je pozitivně a negativně vytvarován reliéf, za působení tlaku a případně teplo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Rectangle 3"/>
          <p:cNvGraphicFramePr/>
          <p:nvPr/>
        </p:nvGraphicFramePr>
        <p:xfrm>
          <a:off x="1042920" y="981000"/>
          <a:ext cx="7489800" cy="42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981000"/>
                    <a:ext cx="748980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11280" y="549360"/>
            <a:ext cx="79214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matrice</a:t>
            </a:r>
            <a:r>
              <a:rPr b="0" lang="cs-CZ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vyrábí se rytím mosazi, bronzu nebo magnézia. Je poměrně drahá =&gt; nahrazení plasty nebo jinými kovy. Pro studenou ražbu se využívají termoplasty, pro studenou a horkou ražbu se využívají termosety (reaktoplast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trice může být upnuta buď na horní  nebo na dolní nástrojové des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atri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zhotovuje se buď přímo ve stroji tvarováním matricové lepenky se speciální vytvrzovací pastou pomocí matrice, a nebo mimo stroj, kdy se patrice zhotovuje z plast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it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ažba u obalových prostředků z papíru nebo lepenek, podlepené Al fólie, kůže, plastů 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žívá se u přebalů na čokolády, spotřebitelských kartonáží např. bonboniér, obalů na kosmetiku a luxusnějších obalů na alkoholické náp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ce raž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5760" indent="-44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ražený reliéf doplňuje grafickou úpravu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estetická f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5760" indent="-44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formační fce – např. tisk datumu spotřeby (zejména u obalů z PAP, plastů a laminát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ectangle 3" descr=""/>
          <p:cNvPicPr/>
          <p:nvPr/>
        </p:nvPicPr>
        <p:blipFill>
          <a:blip r:embed="rId1"/>
          <a:stretch/>
        </p:blipFill>
        <p:spPr>
          <a:xfrm>
            <a:off x="4932360" y="1268280"/>
            <a:ext cx="3024360" cy="2278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8360" y="981000"/>
            <a:ext cx="4105080" cy="4105440"/>
          </a:xfrm>
          <a:prstGeom prst="rect">
            <a:avLst/>
          </a:prstGeom>
          <a:ln w="0">
            <a:noFill/>
          </a:ln>
        </p:spPr>
      </p:pic>
      <p:pic>
        <p:nvPicPr>
          <p:cNvPr id="57" name="Rectangle 3" descr="razba1.jpg, 22 kB"/>
          <p:cNvPicPr/>
          <p:nvPr/>
        </p:nvPicPr>
        <p:blipFill>
          <a:blip r:embed="rId3"/>
          <a:stretch/>
        </p:blipFill>
        <p:spPr>
          <a:xfrm>
            <a:off x="2124000" y="3930480"/>
            <a:ext cx="6486480" cy="216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raillovo písmo – horká ražb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5975640" cy="4481640"/>
          </a:xfrm>
          <a:prstGeom prst="rect">
            <a:avLst/>
          </a:prstGeom>
          <a:ln w="0">
            <a:noFill/>
          </a:ln>
        </p:spPr>
      </p:pic>
      <p:pic>
        <p:nvPicPr>
          <p:cNvPr id="60" name="Rectangle 3" descr=""/>
          <p:cNvPicPr/>
          <p:nvPr/>
        </p:nvPicPr>
        <p:blipFill>
          <a:blip r:embed="rId2"/>
          <a:stretch/>
        </p:blipFill>
        <p:spPr>
          <a:xfrm>
            <a:off x="5148360" y="3219480"/>
            <a:ext cx="2952720" cy="287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VOŠ a SPŠ Strakonice</cp:lastModifiedBy>
  <dcterms:modified xsi:type="dcterms:W3CDTF">2010-12-13T11:24:55Z</dcterms:modified>
  <cp:revision>55</cp:revision>
  <dc:subject/>
  <dc:title>POSLOUPNOSTI</dc:title>
</cp:coreProperties>
</file>