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D93-8EB3-431D-9995-CF9D5F2F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E36-DA5B-4377-BBA5-F51EA1EB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E0A-A957-428D-B74D-3764860C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DEC-566C-4120-B1C6-0B734084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D7F-EAD0-4E5E-9DA4-473F15E4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919-1438-4A68-B49F-56EE7EB3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049-B3BE-48E6-B2ED-1194F35A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EA8-4D57-477A-A069-333979D2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C8F-A507-4C31-8973-08A8D034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21B-523F-4EFB-A6DB-801B632D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0A4-4E8E-42DB-A6AA-5BB07D35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A3A-280F-42BF-ACC0-A5724FD2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1D1F-413F-4A8E-83C3-68152343C3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57E3-1D09-4E2A-A18C-1A4F21142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REVNO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. Kateřina Koub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Rectangle 3"/>
          <p:cNvGraphicFramePr/>
          <p:nvPr/>
        </p:nvGraphicFramePr>
        <p:xfrm>
          <a:off x="755640" y="333360"/>
          <a:ext cx="6969240" cy="58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33360"/>
                    <a:ext cx="69692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858000" cy="4614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48000" y="54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ítnice o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306440"/>
            <a:ext cx="8281800" cy="435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20960" y="61992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itlivost lidského oka na barv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1440" indent="-362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va předmětu vzniká dopadáním bílého světla na jeho povrch. Povrch přitom část dopadajícího světla pohltí. Složení odražené části barevného spektra určuje barevný doj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362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22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ne-li bílé světlo na žlutý objekt,  objekt pohltí všechny složky bílého světla kromě žlu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jekt odráží záření v žluté části spek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7840" y="548280"/>
            <a:ext cx="61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nímání barevného předmět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Rectangle 3"/>
          <p:cNvGraphicFramePr/>
          <p:nvPr/>
        </p:nvGraphicFramePr>
        <p:xfrm>
          <a:off x="2027160" y="836640"/>
          <a:ext cx="50878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836640"/>
                    <a:ext cx="50878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Základní charakteristiky ba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Odstí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anglicky Hue) – představuje barvu, např. červeň, modř, zeleň, žluť atd. Odstín je určen vlnovou délkou světla dopadajícího na ok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Ja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anglicky Lightnes / Brightnes) – charakterizuje "světlost" nebo "tmavost" vnímané barvy. Snižování jasu znamená přidávání černé, popřípadě šed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Sytos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anglicky Saturation) – někdy také překládána jako brilance, udává jak je vnímaná barva kalná nebo čistá, tj. je-li spíše blíže k šedé (kalná) nebo ke svému odstínu (brilantní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3120" y="188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ižování sytosti znamená přidávání bílé. Sytost je potom určena strmostí vlny světla, které vním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fické znázornění růstu sytosti zelené barv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2421000"/>
          <a:ext cx="460872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21000"/>
                    <a:ext cx="4608720" cy="372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519880" y="2565000"/>
            <a:ext cx="32256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záznam čist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ochromatick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ené bar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ntenzita je 10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přechody mez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řivk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křivka téměř bíléh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větla (intenzi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ené je na minim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ěření světla a barev – kolori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ěl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ktivní měření = vizuální hodn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ktivní mě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Subjektivní měř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kace barvy podle barevných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tandard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zorník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em je  vzorník barev, např. vzorník PANTONE (1 300 až 3 000 barev, záleží na druhu vzorníku), RAL Design Systém (1 688 barev),  CMYC Basic (1 100 barev) 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ýhoda – ovlivněno lidským faktorem (selhání vlivem nemoci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3" descr="ral-design.jpg (16268 bytes)"/>
          <p:cNvPicPr/>
          <p:nvPr/>
        </p:nvPicPr>
        <p:blipFill>
          <a:blip r:embed="rId1"/>
          <a:stretch/>
        </p:blipFill>
        <p:spPr>
          <a:xfrm>
            <a:off x="1546200" y="498600"/>
            <a:ext cx="5834160" cy="5810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73800" y="7642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L Design Systé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6600"/>
                </a:solidFill>
                <a:latin typeface="Arial"/>
              </a:rPr>
              <a:t>Objektivní měř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kace barvy pomocí měřících přístrojů, např.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spektrofotome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 – není ovlivněno lidským fakt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objektivnímu popisu barvy je nutn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át odstín, sytost a jas</a:t>
            </a:r>
            <a:r>
              <a:rPr b="1" i="1" lang="cs-CZ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it barevný prostor, např.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model C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základní barevný prostor, který byl specifikován v roce 1931 Mezinárodní komisí pro osvětlení (ve zkratce CIE), z něhož byl odvozen plošný diagram chromatičnosti CIEx,y (kolorimetrický trojúhelní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orie ba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424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statou všech barev je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vět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ětlo je elektromagnetické záření, charakterizováno frekvencí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terá udává počet vln neboli kmitů za sekundu (jednotkou je hertz), a vlnovou délkou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Vlnová délka je vzdálenost mezi stejnými fázemi dvou sousedních vl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 =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 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ychlost šíření světla ve vakuu a je rov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99.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.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4003560"/>
            <a:ext cx="20890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78008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76240" y="259560"/>
            <a:ext cx="54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gram chromatičnosti CIE x,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Rectangle 3"/>
          <p:cNvGraphicFramePr/>
          <p:nvPr/>
        </p:nvGraphicFramePr>
        <p:xfrm>
          <a:off x="1763640" y="333360"/>
          <a:ext cx="549612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33360"/>
                    <a:ext cx="549612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roce 1976 byl navržen další model barevných prostorů – prostor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IEL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avoúhlý souřadnicový systém, vymezen třemi osam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estrou osou jasu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atickou osou zeleno-červenou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atickou osou modro-žlutou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řadni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rčují barvu v jejím odstínu, sytosti a jas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Rectangle 3"/>
          <p:cNvGraphicFramePr/>
          <p:nvPr/>
        </p:nvGraphicFramePr>
        <p:xfrm>
          <a:off x="971640" y="620640"/>
          <a:ext cx="6840360" cy="53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20640"/>
                    <a:ext cx="684036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553440" cy="535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266160" cy="548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7931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barevného prostoru CIELAB vychází spektrofotome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6600"/>
                </a:solidFill>
                <a:latin typeface="Arial"/>
              </a:rPr>
              <a:t>Spektrofotomet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ící přístroj, který je schopen změřit barevné souřadnice pozorovaného předmětu pomocí tzv.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remisní křiv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á je pro každý odstín rozdílná. Měří množství světla, které se od povrchu měřeného vzorku procentuálně odráží při dané vlnové délce =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stupeň remise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%).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43640" cy="4476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68520" y="691560"/>
            <a:ext cx="56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misní křivka pro zelenou barvu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ncip spektrofotometr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měřením vzorku neznámé barvy, musí kolorista vytvořit tzv.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knihovnu bar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ve které jsou obsaženy známé hodnoty barevných odstínů, s kterými se srovnávají ty neznámé odstí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seřízeného spektrofotometru se vloží zkoušený barevný vzorek, měrná hlavice přístroje se umístí do kontaktu s měřeným povrchem, zdroj přístroje ozáří vymezené měrné pole a fotodetektor následně vyhodnotí množství odraženého svět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probíhá po určitých intervalech, nejčastěji v kroku po 10 nm, v celém rozsahu vlnových délek viditelného světla od 400 do 700 nm. Spojením těchto 31 změřených bodů (stupňů remise) vznikne remisní křivka, z které se potom podle daných výpočetních algoritmů, které jsou naprogramovány v přístroji, počítají všechny požadované parametry, především barevné souřadnice odstínu v určitém barevném prostoru (L*,a*,b*) 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získané informace jsou nezbytné pro tzv.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receptová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arevných odstí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95280" y="1674720"/>
          <a:ext cx="813744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74720"/>
                    <a:ext cx="813744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148120" y="67716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ektromagnetická vl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362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základní bar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800" spc="-1" strike="noStrike">
                <a:solidFill>
                  <a:srgbClr val="006600"/>
                </a:solidFill>
                <a:latin typeface="Arial"/>
              </a:rPr>
              <a:t>žlutá, modrá, červe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Základní proto, že je nelze žádným způsobem namích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ozené barvy, tzv.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podvoj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vzniklé mísením barev základních – </a:t>
            </a:r>
            <a:r>
              <a:rPr b="0" lang="cs-CZ" sz="2800" spc="-1" strike="noStrike">
                <a:solidFill>
                  <a:srgbClr val="006600"/>
                </a:solidFill>
                <a:latin typeface="Arial"/>
              </a:rPr>
              <a:t>zelená, oranžová a fia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141720"/>
            <a:ext cx="295092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Rectangle 3"/>
          <p:cNvGraphicFramePr/>
          <p:nvPr/>
        </p:nvGraphicFramePr>
        <p:xfrm>
          <a:off x="1187280" y="3284640"/>
          <a:ext cx="2519640" cy="23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251964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140360" y="3213000"/>
            <a:ext cx="446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barvy ležící v pravé části kruhu se nazývají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epl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 levé části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tuden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877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Goethův k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f5d0d"/>
                </a:solidFill>
                <a:latin typeface="Arial"/>
              </a:rPr>
              <a:t>Ostwaldův kru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9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wald svůj kruh rozšířil o další podvojné barvy (celkem 16 bar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917720"/>
            <a:ext cx="489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35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e na základě barevného kontrastu se docílí dvojicemi barev ležících na protilehlé straně kruh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značují se jako barvy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komplementár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oplňkov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Rectangle 3"/>
          <p:cNvGraphicFramePr/>
          <p:nvPr/>
        </p:nvGraphicFramePr>
        <p:xfrm>
          <a:off x="4500720" y="1701720"/>
          <a:ext cx="406692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701720"/>
                    <a:ext cx="40669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Rectangle 3"/>
          <p:cNvGraphicFramePr/>
          <p:nvPr/>
        </p:nvGraphicFramePr>
        <p:xfrm>
          <a:off x="2195640" y="907920"/>
          <a:ext cx="482436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907920"/>
                    <a:ext cx="48243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908000" y="333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evný šestiúhelní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543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jčastěji volené barvy (1987)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92360" y="981000"/>
          <a:ext cx="5832360" cy="5189760"/>
        </p:xfrm>
        <a:graphic>
          <a:graphicData uri="http://schemas.openxmlformats.org/drawingml/2006/table">
            <a:tbl>
              <a:tblPr/>
              <a:tblGrid>
                <a:gridCol w="1943280"/>
                <a:gridCol w="1946160"/>
                <a:gridCol w="19429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ž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e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r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rven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7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len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,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7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lut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nžov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alov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něd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ern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íl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ed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ísení ba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4475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6600"/>
                </a:solidFill>
                <a:latin typeface="Arial"/>
              </a:rPr>
              <a:t>Aditivní míš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sení barev s pomocí svět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ílá barva vznikne smícháním červeného, zeleného a modrého světla ve stejném poměru =&gt;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barevný prostor RG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d, Green, B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064120"/>
            <a:ext cx="8280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principu pracují TV obrazovky, monitory ad.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co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vu vyzařu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barevná světla zobrazené na obrazov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Rectangle 3"/>
          <p:cNvGraphicFramePr/>
          <p:nvPr/>
        </p:nvGraphicFramePr>
        <p:xfrm>
          <a:off x="4716360" y="620640"/>
          <a:ext cx="403884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620640"/>
                    <a:ext cx="403884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392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Subtraktivní mís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sení samotných bar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ícháním azurové, purpurové a žluté barvy ve stejném poměru vznikne černá barv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. Smícháním CMY nevznikne dostatečně černá barva =&gt; přídavek černé barvy -&gt; CMY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109080" y="4653000"/>
            <a:ext cx="8965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 indent="-360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tomto principu vnímáme barvy skutečný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u, využívá se při míšení barev na paletě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ří sem tiskové, temperové, nátěrové  barv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vy  v laserové tiskárně a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Rectangle 3"/>
          <p:cNvGraphicFramePr/>
          <p:nvPr/>
        </p:nvGraphicFramePr>
        <p:xfrm>
          <a:off x="4648320" y="620640"/>
          <a:ext cx="4038480" cy="39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620640"/>
                    <a:ext cx="403848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Rectangle 3"/>
          <p:cNvGraphicFramePr/>
          <p:nvPr/>
        </p:nvGraphicFramePr>
        <p:xfrm>
          <a:off x="457200" y="1125360"/>
          <a:ext cx="4038480" cy="39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403848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492360" y="4762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rovná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1440" y="522936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itivní mís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3280" y="522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ktivní mís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Rectangle 3"/>
          <p:cNvGraphicFramePr/>
          <p:nvPr/>
        </p:nvGraphicFramePr>
        <p:xfrm>
          <a:off x="4643280" y="1125360"/>
          <a:ext cx="4038840" cy="394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125360"/>
                    <a:ext cx="403884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Reprodukce barev v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produkce barev může být pomoc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přímé barvy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= barvy namíchané mimo tiskový stroj na požadovaný odstín. Používají se u takových barev, které nelze docílit smícháním CMYKu (např. zlatá barva), u dvoubarevného tisku a sítotisku. Namíchají se např. pomocí vzorníku PANTONE, RAL 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výtažkové barvy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= barvy vznikající soutiskem CMYKu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u plnobarevného tisku (nejméně 4 barevný tisk). Nevyužívá se u sítotisk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kombinace přímých a výtažkových bare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    – např. u kombinace se zlat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ombinace dvou bar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duple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ejčastěji  černé a další doplňkové. Pro oživení ČB fotografi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3456000" cy="2386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14560" y="4580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ěžná ČB fotografie       Duplex (černá + žlutá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Rectangle 3"/>
          <p:cNvGraphicFramePr/>
          <p:nvPr/>
        </p:nvGraphicFramePr>
        <p:xfrm>
          <a:off x="5018040" y="1989000"/>
          <a:ext cx="3441600" cy="238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18040" y="1989000"/>
                    <a:ext cx="344160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Rectangle 3"/>
          <p:cNvGraphicFramePr/>
          <p:nvPr/>
        </p:nvGraphicFramePr>
        <p:xfrm>
          <a:off x="684360" y="1268280"/>
          <a:ext cx="3477960" cy="24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347796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Rectangle 3"/>
          <p:cNvGraphicFramePr/>
          <p:nvPr/>
        </p:nvGraphicFramePr>
        <p:xfrm>
          <a:off x="5003640" y="1268280"/>
          <a:ext cx="3457800" cy="23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268280"/>
                    <a:ext cx="34578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24000" y="378900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iplex (černá + žlutá + purpur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78900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vadruplex (černá + žlutá + purpurová + azur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6600"/>
                </a:solidFill>
                <a:latin typeface="Arial"/>
              </a:rPr>
              <a:t>Elektromagnetické záření: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a největší zdroj – </a:t>
            </a: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Slu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kládá se 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infračerveného záření IR (nad 780 n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iditelného záření VID (780 nm – 380 nm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ultrafialového záření UV (380 nm – 10 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rentgenového záření R (10 nm – 0,01 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. gama záření G (pod 0,01 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. neznámá záření (milióntiny n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. nm = nanometr, jednotka vlnové délky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56134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6134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56134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2720" y="56134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80360" y="56134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94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,1.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5948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8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5948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5084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,01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5084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8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5468760"/>
            <a:ext cx="12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5468760"/>
            <a:ext cx="1944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5468760"/>
            <a:ext cx="187164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5468760"/>
            <a:ext cx="9352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5468760"/>
            <a:ext cx="57636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582948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rtoň, J.: Tiskové techniky 1. a 2. část, SOŠ a VOŠ Štětí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ové strá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lakovna.cz/spektrofotometry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fyzika.jreichl.com/index.php?sekce=browse&amp;page=4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www.ped.muni.cz/wphy/publikace/Jancovic1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www.sshopct.cz/polygrafie/fpodklady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obrazky.c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Infračervené zář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pro člověka neviditelné, Člověk jej vnímá pokožkou jako tep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Viditelné zář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pro člověka viditelné. Z hlediska vnímaní barev je pro člověka nejdůležitěj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UV zář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léčivé i nebezpečné, způsobuje opálení ale i úžeh, působí sterilizačně – zabijí mikroby – ale může zničit i buňky a důležité mikroorganismy. Naše oko ho nevním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Rentgenové záření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jevil roku 1895 německý fyzik Wilhelm Conrad Roentgen (1845 - 1923). Rentgenové záření proniká neprůhlednými látkami, prochází snadno lidskými tkáněmi a orgány, ale vápník v kostech ho pohlcuje, právě toho se využívá v lékařstv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ff"/>
                </a:solidFill>
                <a:latin typeface="Arial"/>
              </a:rPr>
              <a:t>Gama zář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zniká např. při radioaktivním rozpadu prvků nebo při výbuchu atomové bomb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Rectangle 3"/>
          <p:cNvGraphicFramePr/>
          <p:nvPr/>
        </p:nvGraphicFramePr>
        <p:xfrm>
          <a:off x="5148360" y="1052640"/>
          <a:ext cx="360036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052640"/>
                    <a:ext cx="360036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77151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Viditelné záření – bílé svět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836640"/>
          <a:ext cx="4689360" cy="3841560"/>
        </p:xfrm>
        <a:graphic>
          <a:graphicData uri="http://schemas.openxmlformats.org/drawingml/2006/table">
            <a:tbl>
              <a:tblPr/>
              <a:tblGrid>
                <a:gridCol w="1954080"/>
                <a:gridCol w="273528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sah vlnových délek </a:t>
                      </a:r>
                      <a:r>
                        <a:rPr b="1" i="1" lang="cs-CZ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nm]</a:t>
                      </a:r>
                      <a:r>
                        <a:rPr b="0" lang="cs-CZ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99"/>
                          </a:solidFill>
                          <a:latin typeface="Times New Roman"/>
                          <a:ea typeface="Times New Roman"/>
                        </a:rPr>
                        <a:t>Fialov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 – 4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odr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– 48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Modrozelen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 – 49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Zelen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 – 56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Žlut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5 – 58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Oranžov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 – 6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Červen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 – 78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868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ždá vlnová délka vyvolává různý zrakový vj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zv. barvu světla. Jejich směs se nazývá j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ílé světl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bo-li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chromatické svět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pak  jedna konkrétní frekvence se označuje jako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nochromatické svět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. Anomálie ve vnímání monochromatického světla je tzv.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rvoslep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3" descr="Jak vidí barvoslepí.."/>
          <p:cNvPicPr/>
          <p:nvPr/>
        </p:nvPicPr>
        <p:blipFill>
          <a:blip r:embed="rId1"/>
          <a:stretch/>
        </p:blipFill>
        <p:spPr>
          <a:xfrm>
            <a:off x="900000" y="2421000"/>
            <a:ext cx="748836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nímání světla lidským ok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ění zprostředkovává lidské oko, které je citlivé na VID zá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dské oko se skládá z tyčinek a číp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822960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6600"/>
                </a:solidFill>
                <a:latin typeface="Arial"/>
              </a:rPr>
              <a:t>Číp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evné vidění je záležitostí čípků (v sítnici), které obsahují iodopsin = fotoaktivní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je rozděl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ré čípky – citlivé v modré oblasti (4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lené čípky – v zelené oblasti (32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rvené čípky – v červené oblasti (64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6600"/>
                </a:solidFill>
                <a:latin typeface="Arial"/>
              </a:rPr>
              <a:t>Tyčinky:</a:t>
            </a:r>
            <a:r>
              <a:rPr b="0" lang="cs-CZ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skytují barevný vjem, reagují jen na intenzitu podnětu, umožňují vidění za š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sítnici je jich asi 20 x více než číp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1-05-11T14:07:42Z</dcterms:modified>
  <cp:revision>50</cp:revision>
  <dc:subject/>
  <dc:title>POSLOUPNOSTI</dc:title>
</cp:coreProperties>
</file>