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863-3615-4F91-A0B0-F9794C4A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6BC-D634-468D-A8BC-D5A04EA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B41-C4FE-49C2-84A2-DA944542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F74-78C1-4574-9FED-F25F4FA1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E03-4946-48EA-A88E-72472D1E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214-DEF8-4D52-9924-75A0C328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A9-19BC-47DB-9C58-17C052AF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27D-E6F8-4A24-9604-FFE66F1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409-EAB8-4A64-B3ED-A78D07CC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4E2-DA32-4AB4-9588-FD6A97C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3F6-B291-4B0E-BEC7-91DD54E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CF6-A999-4D8A-9311-92C3016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D3C-9CB4-4862-ABFA-982250A3DF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5C2-7BB8-4916-AF3E-3B3559F4D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Sumerian_MS2272_2400B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Permennter-1568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upload.wikimedia.org/wikipedia/commons/4/4f/1638vellumlarge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istorie papíru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Müll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754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apír v Evrop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a Tchai Lunova papíru byla v Číně státním tajemstv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Evropy se dostal papír díky Arabům, kteří drancovali Asijské státy. Tajemství papíru vyzradili zajatci, kteří byli mistři výroby papí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papírny v Evropě začaly vznikat  až ve 12. století – ve  Španělsku (Xative u Valencie), v Itálii (Fabriano). Později vznikaly i v dalších zem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suroviny byly ve středověkých papírnách nahrazovány jinými, převážně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lněnými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bavlněnými had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ýroba evropského papí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sbírané hadry se třídily, někdy také praly, a pěchovaly do v zemi vykopaných jam. V nich se nechaly po nějakou dobu zahnív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ně nahnilé hadry se rozvláknily ve stoupách na jednotlivé nitky.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Stoup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rozvlákňovací kladiva poháněná vodními kol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apírny se zakládaly na místech s dostatkem čisté tekoucí v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dry se rozmělňovaly tak dlouho, dokud z nich nevznikla jemná suspenze vhodná k výrobě papí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spenze se nalévala do mírně vyhřívaných kádí, ze kterých se nabírala na sí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y papíru se ze síta vyklápěly a prokládaly vlněným suknem nebo pl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učním lisu se z nich odstranila přebytečná voda a pak se papír suš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sušené listy se ještě klížily, aby se na nich nerozpíjel inkoust. Klih si většinou vařil každý papírník sám. Naklížený papír se opět sušil a pak hlad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ději se rozřezané hadry vařily v alkalické várce a mlely na  holandrech, které nahradily stoupy.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land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lecí zařízení vyvinuté a dlouho utajované Holanď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53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230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vé suroviny na výrobu papí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dry začaly být nedostatkovou surovinou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hledání nových surovin. Což vedlo k využívání  slámy a starého papíru. Dřevo se k výrobě papíru použilo poprvé v roce 176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Friedrich - Gottlob Kell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816-1895) – v druhé polovině 19. století začal zbrušovat dřevo na pískovcovém brusu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nik vláknité kaše –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dřevov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Buničina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 objevila asi za třicet let po dřevovině (konec 19. století) a na rozdíl od ní se vyráběla chemickou ces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apír u n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Čechách vznikla pravděpodobně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vní papí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roce 1370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 Cheb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šak historicky je doložen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pírna na Zbrasla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ž v roce 1499 (česky psané privilegium k výrobě papíru udělil  Zbraslavi Vladislav II. Jagelonsk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16. století bylo na našem území v provozu již 30 papíren. Nejznámější papírnou v 16. století stal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pírna ve Velkých Losiná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terá je v provozu do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apír d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s se papír vyrábí stále ze dřeva – z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buni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lobuni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dřevov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ři výrobě některých náročných druhů papíru (cigaretový, bankovkový, filtrační) se využívá 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hadrov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omě “nového” papíru se také vyrábí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recyklovaný papí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ý se většinou používá na obyčejný balicí papír („šedák“), na hladkou nebo vlnitou lepenku, novinový papír a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n.Papír se může recyklovat 5 – 8kr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3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940360" y="3789360"/>
            <a:ext cx="2881440" cy="2655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14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ostup výroby papí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ěžba dřeva → odkornění polen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těpkování → rozvlákňování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roba papíroviny → výroba papíru na sí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dkornění, štěpková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ena se musí zbavit kůry, kter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uje velké množství lign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řevo se rozdělí na malé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jně velké kousky –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štěp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teré se poté rozvlákň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zvlákňová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áknoviny obsahují vlákna navzájem spojená. Při výrobě papíru se musí vlákna od sebe rozdělit. Tento postup se nazývá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ozvlákň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dy vznikn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lákn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ozvlákněná vláknov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vlákňování se provádí třemi způso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ky – vznik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řevovin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kým broušením dřeva (štěpk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ky – vznik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niči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 výrobu nejkvalitnějších papí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452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ovaně – vznik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mické dřev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Klínopisná tabulka obsahující jména některých sumerských bohů (okolo 2400–2200 př. n. l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492280"/>
            <a:ext cx="4176720" cy="36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ředchůdci papí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liněné destič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ínové písmo se vyrylo do destičky a poté se destička vypál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ělení dřevovin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íl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ákna jsou krátká, obsahuje lignin a další doprovodné látky, které způsobují nedostatečnou bělost, sklon k žloutnutí a křehnu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něd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 rozvláknění se ještě paří za vysokého tlaku, vlákna jsou delší a pružnější, dobře se zpracovávají na pevné papíry a lepe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mická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řed broušením působí chemikálie, barva dřevoviny je tmavší než u bílé, kvalita vláken se blíží jakosti sulfitové bunič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 buničin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sulfit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ůsobení  vodného roztoku hydrogensiřičitanu vápenatého Ca(HS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 kyselině siřičité za varu za zvýšeného tlaku – </a:t>
            </a: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kysel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středí. Vznikají dlouhá, pružná a pevná vlákna, bělením se získá bílá barva a tím se zvýší i její trvanlivost. Sulfitový papír bývá světlejší než sulfátový papí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536760"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sulfátová</a:t>
            </a:r>
            <a:r>
              <a:rPr b="0" i="1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vaření  dřeva v 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zásaditém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tředí (varný louh: NaOH + N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). Vlákna jsou hnědá. Lze ji bělit, avšak technologicky náročně. Vlákna jsou ohebná, pružná a nakadeřená, která dodávají papírům vynikající mechan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st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ýroba papírov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pírovina se připravuje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vo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vláknin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buničina, dřevovina, polobuničina, hadrovina, vláknina se sběrového papír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plnidel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odstraňují pórovitost papíru, zvyšují hladkost, neprůhlednost, bělost, ohebnost, schopnost přijímat barvu ad. – (kaolín, talek, uhličitan vápenatý, oxid titaničitý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klížidel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zabraňují vsakování a rozpíjení tekutin (přírodní pryskyř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barviv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barví papír (organická barviva rozpustná i nerozpustná ve vodě) + OZ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chemicky pomocných</a:t>
            </a:r>
            <a:r>
              <a:rPr b="0" i="1" lang="cs-CZ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cs-CZ" sz="2300" spc="-1" strike="noStrike">
                <a:solidFill>
                  <a:srgbClr val="ff0000"/>
                </a:solidFill>
                <a:latin typeface="Arial"/>
              </a:rPr>
              <a:t>prostředků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odpěňovače, plasty pro zvýšení pevnosti papíru, přípravky pro urychlení odvodňování papír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ýroba papírenského lis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pírovina → papírenské síto (naplavení papíroviny) → odvodnění a zplstění na sítě → sušení  → hlazení → další doúpravy  →  list papí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pírovina natéká na papírenské síto papírenského stroje v nekonečném pásu, na němž se vyrábí papírový list odvodněním, zplstěním a vysušením. Při vtoku na síto se vlákna orientují ve směru pohybu sí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výrobě listu papíru může následovat hlazení, případně povrchové klížení, natírání, dosušení a zase hlazení. Vyrobený papír se doupravuje leštěním, podélným a příčným řezáním a tříděn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2160" cy="539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bich, J. a Litomiský, I.: Technologie papíru I, SNTL Praha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muzeumpapiru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rucni-papir.cz/historie-papiru.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papirnik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quido.cz/objevy/papir.a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Papyrus</a:t>
            </a:r>
            <a:r>
              <a:rPr b="0" lang="cs-CZ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ze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áchoru papírodárného, jehož stvol se  zbavil listů a obnažila se jeho dřeň, která byla pak rozřezána na tenké proužky. Proužky se namáčely na delší dobu do vody, aby změkly. Poté se kladly vedle sebe a na ně se napříč nakladla další vrstva. Následovalo jejich stloukání a několika denní slisovaní a sušení. Nakonec se jejich hrubý povrch vyhladil a nerovné okraje papyru se ořezaly. Jednotlivé listy papyru se lepily za sebe škrobovou kaší, tak že vznikl i několik metrů dlouhý svit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0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ýroba papy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Rectangle 3"/>
          <p:cNvGraphicFramePr/>
          <p:nvPr/>
        </p:nvGraphicFramePr>
        <p:xfrm>
          <a:off x="4859280" y="2565360"/>
          <a:ext cx="360036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65360"/>
                    <a:ext cx="360036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Rectangle 3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2935440" cy="331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2800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4"/>
          <a:stretch/>
        </p:blipFill>
        <p:spPr>
          <a:xfrm>
            <a:off x="250920" y="1047600"/>
            <a:ext cx="2881080" cy="197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1171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5"/>
          <a:stretch/>
        </p:blipFill>
        <p:spPr>
          <a:xfrm>
            <a:off x="4718160" y="260280"/>
            <a:ext cx="3886200" cy="183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164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4508640"/>
            <a:ext cx="626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ozřezání dřeně na prou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ozklepání namočených ston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ladení stonků křížem na s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klepaní papyru s přídavkem arabské gu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581040" y="260280"/>
            <a:ext cx="4199040" cy="5905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35640" y="5805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644640" cy="53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ergamen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vyčiněná kůže jehňat, ovcí,oslů ad. Z kůže se vyrobila tenká blána, která byla potřena bělobou rozpuštěnou v oleji, následovalo vyhlazení a vylešt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výroba pergamenu, 15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205000"/>
            <a:ext cx="30034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3" descr="Soubor:1638vellumlar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773360"/>
            <a:ext cx="36086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Tapa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8. století př.n.l.) – z lýkových vláken některých druhů fíkusu, chlebovníku a morušovníků. Vznikal rozklepáváním křížem kladených  proužků lýkových vlá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Amat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ebo-li otomi) –  zvláštní papír starých Aztéků vyrobený z listů agáve nebo fíkovníků. Vznikal rozklepáváním propletených  listů. Dodnes se vyrábí k řemeslným účelům nebo na kreslení v oblastech obývaných Indiá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Kvazipapír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Čína 140 až  87 př.n.l.) – z konopí, kdy se konopný materiál rozřezal a poté stloukal paličkou. Roztlučená kaše se roztírala na kámen, kde se nechala uschn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4187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Vynález papí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125360"/>
            <a:ext cx="8604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f0000"/>
                </a:solidFill>
                <a:latin typeface="Arial"/>
              </a:rPr>
              <a:t>Tchai Lun (Cchaj Lun)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– čínský ministr orby, všestranný zlepšovatel a vynálezce, který kolem roku </a:t>
            </a:r>
            <a:r>
              <a:rPr b="1" i="1" lang="cs-CZ" sz="2700" spc="-1" strike="noStrike">
                <a:solidFill>
                  <a:srgbClr val="ff0000"/>
                </a:solidFill>
                <a:latin typeface="Arial"/>
              </a:rPr>
              <a:t>105 n.l.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přišel na nápad zhotovit papír odvodňováním na sítě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eho papír se vyráběl z rostlinných vláken, převážně z</a:t>
            </a:r>
            <a:r>
              <a:rPr b="1" i="1" lang="cs-CZ" sz="2700" spc="-1" strike="noStrike">
                <a:solidFill>
                  <a:srgbClr val="ff0000"/>
                </a:solidFill>
                <a:latin typeface="Arial"/>
              </a:rPr>
              <a:t> bavlny nebo konopí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, které se nechalo nasáknout vodou a pak bylo rozdrceno dřevěnými palicemi. Tato kaše se propláchla, následoval přídavek moučného škrobu a bělidla. Kašovina se nalévala na síta z hrubé látky v bambusových rámech, kde se natřásala a částečně nechala vyschnout. Pak se ze síta vyjmuly archy papíru a dosoušely se na hladké teplé zdi. Hotový papír se potom ještě klíži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3" descr="chinapm3.gif (38559 bytes)"/>
          <p:cNvPicPr/>
          <p:nvPr/>
        </p:nvPicPr>
        <p:blipFill>
          <a:blip r:embed="rId1"/>
          <a:stretch/>
        </p:blipFill>
        <p:spPr>
          <a:xfrm>
            <a:off x="900000" y="981000"/>
            <a:ext cx="7559640" cy="515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26028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ýroba papíru v Číně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12-08T12:54:14Z</dcterms:modified>
  <cp:revision>68</cp:revision>
  <dc:subject/>
  <dc:title>POSLOUPNOSTI</dc:title>
</cp:coreProperties>
</file>