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B84-427A-4E27-B1B9-2568A400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69C-100E-48E1-A61A-9549C580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982-76CC-4D1B-AC26-26189BF8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73F-2517-4BD6-8884-4DA8D18B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202-7622-462C-93CD-DF324AE0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4A2-DF3B-4C3F-8CF7-F17A6D17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D42-330C-433C-A36E-0CD57BF8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ECD-A339-4ABE-ABB2-2ABD5F78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06B-D000-4E83-8ABA-CD16C210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F31-01CA-4487-A02D-901C13FF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3BA-AEAA-4082-8C18-3C578383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134-F44D-400D-AD74-A2C27AF0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5643-05BF-4489-93BB-75A7A65583E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1ED0-7C42-4F1F-B050-FB5965168E9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26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avidla bezpečného pohybu na horách a pravidla FIS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o provoz na sjezdovká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gr. Tomáš Dunov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4" descr="Obrázek3.jpg"/>
          <p:cNvPicPr/>
          <p:nvPr/>
        </p:nvPicPr>
        <p:blipFill>
          <a:blip r:embed="rId1"/>
          <a:stretch/>
        </p:blipFill>
        <p:spPr>
          <a:xfrm>
            <a:off x="1214280" y="357120"/>
            <a:ext cx="6778800" cy="1054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8. Hlášení neh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642760"/>
            <a:ext cx="83296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nát kontakty na Horskou službu nebo na Zdravotní záchrannou službu. Mít vždy nabitý a zapnutý mobilní telefon s rezervou kredi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9. Postup v no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nát zásady chování pro případ nouze – zbloudění, uvolnění laviny, zřícení v exponovaném terénu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0. Nikdy nepodceňovat h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zodpovědným chováním nevystavovat nebezpečí sebe ani ostat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avidla FIS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o provoz na sjezdovk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. Brát ohled na ostatní lyžaře a snowboardi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ždý lyžař a snowboardista se musí chovat tak, aby neohrožoval a nepoškozoval někoho jiné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TOMÁŠ\ŠKOLA\Lyže\P01.jpg"/>
          <p:cNvPicPr/>
          <p:nvPr/>
        </p:nvPicPr>
        <p:blipFill>
          <a:blip r:embed="rId1"/>
          <a:stretch/>
        </p:blipFill>
        <p:spPr>
          <a:xfrm>
            <a:off x="857160" y="285840"/>
            <a:ext cx="7358040" cy="5886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2. Ovládání rychlosti a způsobu jíz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ždý lyžař a snowboardista musí jet s dostatečnou vzdáleností od ostatních (na dohled). Musí přizpůsobit svou rychlost a způsob jízdy svým schopnostem a také terénu, sněhovým a povětrnostním podmínkám i hustotě provo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Zástupný symbol pro obsah 4" descr="P02.jpg"/>
          <p:cNvPicPr/>
          <p:nvPr/>
        </p:nvPicPr>
        <p:blipFill>
          <a:blip r:embed="rId1"/>
          <a:stretch/>
        </p:blipFill>
        <p:spPr>
          <a:xfrm>
            <a:off x="928800" y="285840"/>
            <a:ext cx="7286400" cy="582912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3. Volba jízdní st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yžař a snowboardista přijíždějící zezadu musí zvolit svou jízdní stopu tak, aby neohrožoval lyžaře a snowboardistu, který jede před ní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Zástupný symbol pro obsah 4" descr="P03.jpg"/>
          <p:cNvPicPr/>
          <p:nvPr/>
        </p:nvPicPr>
        <p:blipFill>
          <a:blip r:embed="rId1"/>
          <a:stretch/>
        </p:blipFill>
        <p:spPr>
          <a:xfrm>
            <a:off x="928800" y="285840"/>
            <a:ext cx="7286400" cy="5829120"/>
          </a:xfrm>
          <a:prstGeom prst="rect">
            <a:avLst/>
          </a:prstGeom>
          <a:ln w="0">
            <a:noFill/>
          </a:ln>
        </p:spPr>
      </p:pic>
      <p:sp>
        <p:nvSpPr>
          <p:cNvPr id="9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esatero zásad bezpečného chování při pohybu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horském teré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4. Předjíž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djíždět se smí ze shora anebo ze zdola, zprava anebo zleva, avšak vždy jen s takovou vzdáleností, která ponechává předjížděnému lyžaři anebo snowboardistovi dostatečný prostor pro všechny jeho pohy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Zástupný symbol pro obsah 4" descr="P04.jpg"/>
          <p:cNvPicPr/>
          <p:nvPr/>
        </p:nvPicPr>
        <p:blipFill>
          <a:blip r:embed="rId1"/>
          <a:stretch/>
        </p:blipFill>
        <p:spPr>
          <a:xfrm>
            <a:off x="928800" y="285840"/>
            <a:ext cx="7300800" cy="584028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5. Najíždění na sjezdovku, pokračování v jízdě dolů a po svahu nah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ždý lyžař a snowboardista, který chce najet na lyžařskou sjezdovku, který se po zastavení chce opět rozjet dolů anebo pohybovat svahem nahoru, se musí ve směru nahoru i dolů ujistit, že to může učinit bez dalšího ohrožení / nebezpečí jak pro sebe, tak i ostat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Zástupný symbol pro obsah 4" descr="P05.jpg"/>
          <p:cNvPicPr/>
          <p:nvPr/>
        </p:nvPicPr>
        <p:blipFill>
          <a:blip r:embed="rId1"/>
          <a:stretch/>
        </p:blipFill>
        <p:spPr>
          <a:xfrm>
            <a:off x="928800" y="285840"/>
            <a:ext cx="7286400" cy="5829120"/>
          </a:xfrm>
          <a:prstGeom prst="rect">
            <a:avLst/>
          </a:prstGeom>
          <a:ln w="0">
            <a:noFill/>
          </a:ln>
        </p:spPr>
      </p:pic>
      <p:sp>
        <p:nvSpPr>
          <p:cNvPr id="11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6. Zastav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ždý lyžař a snowboardista musí zabránit tomu, aby se v jiných než nouzových stavech zdržoval na úzkých anebo nepřehledných místech sjezdovky. Lyžař nebo snowboardista, který upadl, musí takové místo co možná nejrychleji opust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Zástupný symbol pro obsah 4" descr="P06.jpg"/>
          <p:cNvPicPr/>
          <p:nvPr/>
        </p:nvPicPr>
        <p:blipFill>
          <a:blip r:embed="rId1"/>
          <a:stretch/>
        </p:blipFill>
        <p:spPr>
          <a:xfrm>
            <a:off x="928800" y="285840"/>
            <a:ext cx="7300800" cy="584028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7. Výstup a se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yžař a snowboardista, který vystupuje nahoru anebo který sestupuje dolů pěšky, musí používat okraj sjezdov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Zástupný symbol pro obsah 4" descr="P07.jpg"/>
          <p:cNvPicPr/>
          <p:nvPr/>
        </p:nvPicPr>
        <p:blipFill>
          <a:blip r:embed="rId1"/>
          <a:stretch/>
        </p:blipFill>
        <p:spPr>
          <a:xfrm>
            <a:off x="928800" y="285840"/>
            <a:ext cx="7358040" cy="58863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8. Dbát na značky a na znam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ždý lyžař a snowboardista musí dbát na značení a na signaliza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Zástupný symbol pro obsah 4" descr="P08.jpg"/>
          <p:cNvPicPr/>
          <p:nvPr/>
        </p:nvPicPr>
        <p:blipFill>
          <a:blip r:embed="rId1"/>
          <a:stretch/>
        </p:blipFill>
        <p:spPr>
          <a:xfrm>
            <a:off x="928800" y="285840"/>
            <a:ext cx="7389720" cy="591192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. Plánování tú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ždy pečlivě naplánovat trasu túry. Túru plánovat podle fyzické a psychické kondice nejslabšího člena skup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9. Poskytování pom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i nehodách je každý lyžař a snowboardista povinen poskytnout pomo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928800" y="285840"/>
            <a:ext cx="7286400" cy="5765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0. Povinnost prokázat 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ždý lyžař a snowboardista, nehledě na to, zda je svědek nebo osoba zúčastněná, zda je odpovědný či ne, musí uvést v případě nehody své osobní úd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Zástupný symbol pro obsah 4" descr="P10.jpg"/>
          <p:cNvPicPr/>
          <p:nvPr/>
        </p:nvPicPr>
        <p:blipFill>
          <a:blip r:embed="rId1"/>
          <a:stretch/>
        </p:blipFill>
        <p:spPr>
          <a:xfrm>
            <a:off x="928800" y="285840"/>
            <a:ext cx="7300800" cy="5840280"/>
          </a:xfrm>
          <a:prstGeom prst="rect">
            <a:avLst/>
          </a:prstGeom>
          <a:ln w="0">
            <a:noFill/>
          </a:ln>
        </p:spPr>
      </p:pic>
      <p:sp>
        <p:nvSpPr>
          <p:cNvPr id="13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á pravidla platí na sjezdovkách v Česku?  Precedentní je rozhodnutí Nejvyššího soudu z roku 2005, podle kterého jsou i pro lyžaře v Česku závazná pravidla Mezinárodní lyžařské federace (FI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S doporučení, informace zima 2008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světlivky: FIS /Fédération Internationale de Ski) Světová lyžařská fede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 závěrečného textu: BULLETIN ADVOKACIE 10/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2. Shromáždit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 předstihem získat co nejvíce informací o prognóze počasí, sněhové situaci a lavinovém nebezpečí, situaci v terénu at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3. Informovat o túře třetí osob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d odchodem na túru předat informace o trase a předpokládané době návratu. Tempo na túře zvolit podle nejslabšího ze skup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4. Přiměřené vybav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volit odpovídající výstroj a výzbroj s ohledem na počasí, délku túry a náročnost terénu (boty). Mít vždy rezervní oblečení (ponožk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5. Schopnost ori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rávně používat mapu, znát druhy značení turistických cest specifické pro jednotlivá pohoř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6. Respektovat zna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nát typy výstražných tabulí a jejich význam a uvedenými pokyny se řídit. Nepohybovat se mimo značené c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7. První pom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ít sebou lékárničku a v případě potřeby umět poskytnout první pomo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Ondra</cp:lastModifiedBy>
  <dcterms:modified xsi:type="dcterms:W3CDTF">2010-05-23T21:33:35Z</dcterms:modified>
  <cp:revision>56</cp:revision>
  <dc:subject/>
  <dc:title>POSLOUPNOSTI</dc:title>
</cp:coreProperties>
</file>