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4C9-984F-4579-A651-742B2F46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7EF-02A6-46E4-91F7-C8768E69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44D-B7AF-45DC-A1C3-43CBDBC5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9E8-5C6E-42D6-8E49-0F424628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2FE-A759-4948-A462-9849D7FB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77A-15AF-4109-AF82-965D09AC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099-953A-4875-829A-58341B9C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2F7-39DB-4F30-96CE-20504EE1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D34-0C12-4B27-844C-0DF18909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0A9-B27E-408E-AF06-7B9464A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78A-BB46-483E-ADDD-E26920B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42D-1CCA-40B0-A5DB-50BC0D17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BE08-886E-476B-8A28-9466B265776A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6A21-F7FA-49A4-8850-D8300E8370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26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ervis skluz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Tomáš Dun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Obrázek3.jpg"/>
          <p:cNvPicPr/>
          <p:nvPr/>
        </p:nvPicPr>
        <p:blipFill>
          <a:blip r:embed="rId1"/>
          <a:stretch/>
        </p:blipFill>
        <p:spPr>
          <a:xfrm>
            <a:off x="1214280" y="357120"/>
            <a:ext cx="6778800" cy="105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regnování skluz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Žehličku předehřejeme na teplotu 100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 pro měkké vosky, až 120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 pro vosky tvrd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osk ohřátý o žehličku rozetřeme na skluznici, event. nakapeme. Nejprve  rychlejšími tahy, po vzniku jednolitého filmu pokračujeme v zažehlování alespoň jednu minutu, maximálně tři. Nechat vychladnout a ideálně po 12 hodinách, minimálně po hodině ostrou cidlinou vosk seškráb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,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artáčování skluz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ést přebytečný vo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táčem pod tlakem, krátkými intenzivními  záběry od špičky k patě lyže, odstranit zbytek vos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a skluznice má být zcela obnažená (Sosna 2010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teď hurá na sní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á literatura a odkaz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NOW články Ivana Sos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montana-skiservis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www.montanasport.cz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swixspo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startskiwax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ůvody servisu skluz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elně prováděný servis je předpokladem větších zážitků z jízdy, sportovních výkonů, ale hlavně                   i bezpečnosti při vlastním použi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a Vás podrží na ledě, na skluznici napuštěnou voskem se nebude nalepovat sní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ofi serv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 začátkem sezóny, nebo naopak před uskladněním lyží, děláme velký servis. Lyže svěříme do péče servisu, kde odstraní zbytky starého vosku na brusném pásu, skluznici a hrany přebrousí na kameni. Hrany naostří podle toho, jak si budeme přát, pod různým úhlem. Lyže namažou, seřídí váz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900000" y="5373720"/>
            <a:ext cx="7272360" cy="107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ofi serv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vypadá skluznice před a po profi servis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7294680" cy="2519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ý ruční serv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eb co zvládneme sam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stranění starého vos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ušení h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a skluznice, maz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stranění přebytečného vosku, kartáčová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5076720" y="4700520"/>
            <a:ext cx="1800360" cy="21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2492280"/>
            <a:ext cx="1835280" cy="229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3">
            <a:lum bright="50000"/>
          </a:blip>
          <a:stretch/>
        </p:blipFill>
        <p:spPr>
          <a:xfrm>
            <a:off x="7759800" y="2492280"/>
            <a:ext cx="1384200" cy="172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>
            <a:lum bright="46000"/>
          </a:blip>
          <a:stretch/>
        </p:blipFill>
        <p:spPr>
          <a:xfrm>
            <a:off x="1547640" y="4799160"/>
            <a:ext cx="1440000" cy="1796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5">
            <a:lum bright="48000"/>
          </a:blip>
          <a:stretch/>
        </p:blipFill>
        <p:spPr>
          <a:xfrm>
            <a:off x="7380360" y="4657680"/>
            <a:ext cx="1763640" cy="220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6">
            <a:lum bright="44000"/>
          </a:blip>
          <a:stretch/>
        </p:blipFill>
        <p:spPr>
          <a:xfrm>
            <a:off x="0" y="4797360"/>
            <a:ext cx="1650960" cy="206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7">
            <a:lum bright="28000"/>
          </a:blip>
          <a:stretch/>
        </p:blipFill>
        <p:spPr>
          <a:xfrm>
            <a:off x="3348000" y="2781360"/>
            <a:ext cx="3238560" cy="2286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6000"/>
              </a:srgbClr>
            </a:outerShdw>
          </a:effectLst>
        </p:spPr>
      </p:pic>
      <p:pic>
        <p:nvPicPr>
          <p:cNvPr id="66" name="Picture 3" descr=""/>
          <p:cNvPicPr/>
          <p:nvPr/>
        </p:nvPicPr>
        <p:blipFill>
          <a:blip r:embed="rId8"/>
          <a:srcRect l="32225" t="0" r="29980" b="0"/>
          <a:stretch/>
        </p:blipFill>
        <p:spPr>
          <a:xfrm>
            <a:off x="0" y="0"/>
            <a:ext cx="1224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9">
            <a:lum bright="44000"/>
          </a:blip>
          <a:stretch/>
        </p:blipFill>
        <p:spPr>
          <a:xfrm>
            <a:off x="7470720" y="0"/>
            <a:ext cx="1673280" cy="2087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ý ruční serv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eriální vybav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vorky k upnutí lyží, svěráky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avý hadr, odstraňovač vos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eramický kámen, pilník, úhelník, svorky, diamant (brusný papír 320), fibertex (nylonová tkanina s abrasivními částečkami), štětec na ometání špon, kartáček na čištění pil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žehlička, cidlina na stažení vosků, kartáče, vos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stranění starého vos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prve vosk odstraníme nahrubo cidlinou, škrabk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vý hadřík navlhčíme odstraňovačem vosku, skluznici potřeme po celé ploše, necháme chvilku působit. Zbytky vosku setřeme suchým hadřík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199120" y="4724280"/>
          <a:ext cx="39448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9120" y="4724280"/>
                    <a:ext cx="39448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oční broušení h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u nejprve přejedeme keramickým kamenem, aby se odstranila drobná poškození a mikrodeformace ostř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é pilníkem provedeme asi tři překrývající se tahy jedním směr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běžně štětcem ometáme šp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léze fibertexem odstraníme drobné špony zaseklé do skluz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oční broušení h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štící diamant, nebo pilník obalený jemným smirkem připneme svorkou          k úhelníku, namočíme a hrany přeleští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luznici vyleštíme fibertexem, aby v ní před mazáním nebyly žádné nečistoty (Sosna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Asus</cp:lastModifiedBy>
  <dcterms:modified xsi:type="dcterms:W3CDTF">2010-11-18T07:42:46Z</dcterms:modified>
  <cp:revision>101</cp:revision>
  <dc:subject/>
  <dc:title>POSLOUPNOSTI</dc:title>
</cp:coreProperties>
</file>