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626-BEE9-47D4-9255-D6D44F01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7AB-E2E9-4A94-A8B2-9F9A74BD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E1B-0D74-442F-AF72-83E81E13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7EC-FC6B-455E-826A-8D5F2B03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01C-4CFC-43A9-A8EB-6ADAF1ED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029-AE45-43B0-912B-E6327BE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B3F-834C-4BA5-95E9-6866061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8F2-71C4-4517-AA3B-156DD45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E7-D32E-412A-A87A-3F0F71E2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DD-1005-4463-9802-7908A9F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34F-C5CE-4821-AEAB-E87B23D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50E-2A9D-4F53-967A-80BA60F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D5EB-A87D-47DF-BC41-C4F296DED58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2FE-E290-4BDA-AEFD-62B2DBFE22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yklokur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ezpečnostní pravidla pro jízdu ve skupině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ždý z členů skupiny je účastníkem silničního provozu "sám za sebe". Týká se to především odbočování vlevo, přijíždění z vedlejší cesty na hlavní a předjíždění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skupině jedou cyklisté za sebou. Udržují dostatečné mezery mezi sebou (vzdálenost dle vyspělosti cyklistů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i zastavení sestupovat z kola vprav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djíždíme se pouze do delšího kopce, kdy jede každý dle svých možností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astávky na silnici děláme na vhodném a přehledném místě (cyklisté se řadí za sebou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ce jízdy ve skupině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 čele skupiny jede vždy vedoucí, který zná tras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a ním jedou ti nejméně zdatní cyklist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 závěru skupiny jede vždy druhý vedoucí (zdravotník) a opravářská "četa"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 každém delším prudkém stoupání či sjezdu se skupina ček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i velmi prudkých sjezdech je vhodné, aby byly vedoucím korigovány rozestupy mezi dětm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kupina se čeká (nebo kontaktuje posledního) na důležitých odbočkách a křižovatká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a silnici s větším provozem se cyklisté upozorňují na předjíždějící aut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ce jízdy ve skupině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Cyklisté příležitostně zrakově kontaktují jezdce za sebou (pokud nikoho nevidí volají "zastavit"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astavení signalizovat dostatečně předem (zdviženou rukou i hlasově), aby nedošlo k hromadnému pád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i vyjíždění začněte pomaleji, aby se skupina ihned neroztrha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i jízdě s dětmi na silnici smí mít skupina maximálně deset dětí na jednoho vedoucího. Při jízdě mimo komunikace maximálně patnác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držujte optimální rychlost bez velkých změn temp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i jízdě v terénu hlasově upozorňujte na překážky na cest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ktické ra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absolvování kurzu budete potřebovat horské, nebo trekingové kolo, cyklistické oblečení do každého počasí, rukavice, pumpičku, náhradní duši, sadu lepení, montpáčky a základní nářad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ití a svač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á literatura a odkaz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ww.b-shop.cz/slozeni-kol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portovnikurzy.cz/forum/viewtopic.php?id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magazin.gadgetworld.cz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yeticycl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igorpechanec.aspone.cz/page/Historie-cyklistiky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yklistik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je jízda na jízdním kole s rekreačním, sportovním, turistickým či dopravním zaměření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rocha hist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492 náčrty Leonarda da Vi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791 Francouz Medé de Sivrac zkonstruoval "rychloběžku" – celerife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868 firma Mayer and Co. z Paříže vyrobila první kolo s řetězovým převodem na zadní k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.5.1868 z iniciativy otce a syna Michauxových se  v Paříži v parku Saint Cloud koná první cyklistický závod na 1200 metr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rocha hist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1.8.1870 v Anglii patentováno první celokovové vysoké kolo s pryžovou obručí v ráf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884  Angličan Humber přichází                    s kosočtverečným rá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890 irský zvěrolékař Dunlop nahradil pryžové obruče na ráfcích pneumatikami plněnými vzduch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7.1903 první ročník Tour de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124000" y="189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3649680"/>
            <a:ext cx="4859280" cy="320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730760" y="3357720"/>
            <a:ext cx="4413240" cy="3500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4716360" y="-243000"/>
            <a:ext cx="4211640" cy="394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2700360" cy="2246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09080" cy="5300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ásti k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Zástupný symbol pro obsah 4" descr="silnice.PNG"/>
          <p:cNvPicPr/>
          <p:nvPr/>
        </p:nvPicPr>
        <p:blipFill>
          <a:blip r:embed="rId1"/>
          <a:stretch/>
        </p:blipFill>
        <p:spPr>
          <a:xfrm>
            <a:off x="0" y="1084320"/>
            <a:ext cx="485928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939960"/>
            <a:ext cx="4572000" cy="2889000"/>
          </a:xfrm>
          <a:prstGeom prst="rect">
            <a:avLst/>
          </a:prstGeom>
          <a:ln w="0">
            <a:noFill/>
          </a:ln>
        </p:spPr>
      </p:pic>
      <p:pic>
        <p:nvPicPr>
          <p:cNvPr id="67" name="Obrázek 8" descr="yeti hard.PNG"/>
          <p:cNvPicPr/>
          <p:nvPr/>
        </p:nvPicPr>
        <p:blipFill>
          <a:blip r:embed="rId3"/>
          <a:stretch/>
        </p:blipFill>
        <p:spPr>
          <a:xfrm>
            <a:off x="0" y="3933720"/>
            <a:ext cx="4519440" cy="272736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7" descr="yeti full.PNG"/>
          <p:cNvPicPr/>
          <p:nvPr/>
        </p:nvPicPr>
        <p:blipFill>
          <a:blip r:embed="rId4"/>
          <a:stretch/>
        </p:blipFill>
        <p:spPr>
          <a:xfrm>
            <a:off x="4503600" y="3933720"/>
            <a:ext cx="4640400" cy="263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druhy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yklokur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cykloturistice s dětmi a mládeží se jako účastníci silničního provozu, a současně jako organizovaná skupina, musíme řídit právními předpisy o provozu na pozemních komunikacích a pokud se jedná o školní akce i věstníkem MŠMT č.12, článek 16, sportovně turistické kurzy. Pokud se pohybujete v lese, tak také zákonem č.289/1995 Sb. - tzv. "Lesní zákon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povinnosti účastníka kur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nát základní pravidla silničního provozu (znalost dopravních značek, přednosti pravé ruky, odbočování vle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rávném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cká kontrola 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rý zdravot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čení o bezpečnosti a zásadách jízdy na kole ve skup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Asus</cp:lastModifiedBy>
  <dcterms:modified xsi:type="dcterms:W3CDTF">2010-11-23T00:17:29Z</dcterms:modified>
  <cp:revision>149</cp:revision>
  <dc:subject/>
  <dc:title>POSLOUPNOSTI</dc:title>
</cp:coreProperties>
</file>