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F20-45DF-4C0B-B6CF-431300AD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E1B-BBD7-443A-8796-FB283180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A07-971E-4F05-9A61-079C59F2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108-3FC3-4BED-84EA-6D9188B5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EFE-E339-42ED-9E48-9046591F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9BA-7DC9-4552-93B2-D70C78A4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FC9-0DC3-41C1-84A9-EDAC4292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FB5-CD6E-4B33-B097-80201066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F65-6BEB-49BD-A58B-56030152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896-B9A5-4031-9F0B-5D3F1C65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D62-98ED-4013-AAE5-9474855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2C8-2879-476D-BAE7-66F9A1E5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E03F-FCD8-4A2A-8ECD-05BFCE038962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5F6D-1D1F-4805-B389-AA7EF19685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26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gr. Tomáš Dunov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4" descr="Obrázek3.jpg"/>
          <p:cNvPicPr/>
          <p:nvPr/>
        </p:nvPicPr>
        <p:blipFill>
          <a:blip r:embed="rId1"/>
          <a:stretch/>
        </p:blipFill>
        <p:spPr>
          <a:xfrm>
            <a:off x="1214280" y="357120"/>
            <a:ext cx="6778800" cy="1054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rmy Burton, Sims a Winterstick zavedly do výroby snowboardů lyžařskou technolog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niknutí firem na evropský tr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rton – specializace na alpský styl.   Sims- specializace na freestyle snowboarding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Winterstick měl nejblíže k freeride snowboarding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5438880" y="3429000"/>
            <a:ext cx="370512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alomové závody v Coloradu. Zvítězil Tom Sims na prkně s ocelovými hranami a s přizpůsobeným lyžařským vázáním, což výrazně ovlivnilo techniku jeho jíz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280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0" y="4786200"/>
            <a:ext cx="4349880" cy="2071800"/>
          </a:xfrm>
          <a:prstGeom prst="rect">
            <a:avLst/>
          </a:prstGeom>
          <a:ln w="0">
            <a:noFill/>
          </a:ln>
        </p:spPr>
      </p:pic>
      <p:pic>
        <p:nvPicPr>
          <p:cNvPr id="90" name="Obrázek 11" descr="abh.jpg"/>
          <p:cNvPicPr/>
          <p:nvPr/>
        </p:nvPicPr>
        <p:blipFill>
          <a:blip r:embed="rId3"/>
          <a:stretch/>
        </p:blipFill>
        <p:spPr>
          <a:xfrm>
            <a:off x="3757680" y="4786200"/>
            <a:ext cx="5386320" cy="207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ff Grell - vázání obepíná nohu pomocí tuhé plastové konstrukce, která se pevně svírá poutky a kovovými přezk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uck Barfoot začal vyrábět double-kick snowboard se stejným tvarem špičky a pa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počátku byl snowboardistům vstup na vleky zakázán a tak nezbývalo nic jiného, než absolvovat náročné výstupy pěšky,         tzv. hiking. Avšak již od poloviny osmdesátých let bylo 80 – 90% lyžařských areálů v Severní Americe pro snowboarding otevře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 šíření snowboardingu do Evropy se mimořádně zasloužil José Fernandez, tehdejší švýcarský mistr ve skateboardingu. Byl to první Evropan, který soutěžil ve slalomu s americkými profesionály v Calgary. Použil přizpůsobené lyžařské vázání a tím vnesl do vývoje snowboardingu v Evropě nové prvky, které ovlivnily vývoj jiným směrem, než tomu bylo v 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8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ložení Mezinárodní snowboardové organizace ISF – International Snowboard Federation, která zkrachovala v roce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vázala WSF – World Snowboard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owboarding se stal olympijským sportem pod vedením F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rázek 6" descr="historie cssr.JPG"/>
          <p:cNvPicPr/>
          <p:nvPr/>
        </p:nvPicPr>
        <p:blipFill>
          <a:blip r:embed="rId1"/>
          <a:stretch/>
        </p:blipFill>
        <p:spPr>
          <a:xfrm>
            <a:off x="5572080" y="0"/>
            <a:ext cx="3571920" cy="3143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istorie SNB v Čech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0tá lé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nadšenci začali vyrábět své snowboardy podle amerických předloh. Byla to prkna slepená z několika vrstev překližky, kterým chyběly ještě hrany. Vázání představovaly kožené nebo gumové pá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rázek 5" descr="Cz1.jpg"/>
          <p:cNvPicPr/>
          <p:nvPr/>
        </p:nvPicPr>
        <p:blipFill>
          <a:blip r:embed="rId1"/>
          <a:stretch/>
        </p:blipFill>
        <p:spPr>
          <a:xfrm>
            <a:off x="5329080" y="3840120"/>
            <a:ext cx="3814920" cy="301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istorie SNB v Čech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60020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. 3. 198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středisku Pernink v Krušných horách se konaly první závody, které uspořádal Luďek Váša. Tohoto 1. neoficiálního mistrovství v jízdě na snowboardu se zúčastnilo asi 20 lid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stavme si sport, ve kterém se slučuje krása surfování, rychlost sjezdového lyžování a mladistvý skateboarding s graciézností bale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ita, která přináší požitek z elegance pohybu při klouzá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rázek 7" descr="receptář.jpg"/>
          <p:cNvPicPr/>
          <p:nvPr/>
        </p:nvPicPr>
        <p:blipFill>
          <a:blip r:embed="rId1"/>
          <a:stretch/>
        </p:blipFill>
        <p:spPr>
          <a:xfrm>
            <a:off x="2857680" y="-19080"/>
            <a:ext cx="6286320" cy="291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istorie SNB v Čech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8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pokusy snowboardových nadšenců zaznamenala i ČT, k vidění na www.youtube.com (Televizní klub mladých 1986 – Snowboard) a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B Receptář nejen na neděli 1987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0" y="5286240"/>
            <a:ext cx="2563920" cy="1571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istorie SNB v Čech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90 byla založena Asociace československého snowboardingu – AČS, po rozdělení státu v 1993 vznikla samostatná Asociace českého snowboardingu, která byla od dubna 1993 členem IS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03 se AČS stala členem W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4572000" y="2716200"/>
            <a:ext cx="4572000" cy="414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500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owboarding zaznamenal jako jeden z mála sportů během poměrně krátké doby obrovský posun. Od amatérských pokusů k moderním technologiím a marketingovým strategií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e i přes obrovský komerční úspěch v něm pořád zůstává, tak  jako na úplném začátku, ta zásadní  radost a  jedinečný  pocit  z ježdě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á literatura a odkaz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urie Jon – Snowboa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učera Lukáš, Bůbal Jaromír - Skripta pro školní výuku snowboardingu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novský Radek – Historie SNB (ročníková práce na VOŠ a SPŠ Strakonice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snowboard.mountainzone.com/interviews/2000/burton/html/photo02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freewebs.com/snowboardingsafety/snowboardinghistory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budfawcett.com/images/Sims85_0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burton.cz/o-firme-burton/jake-burton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snowboarding.transworld.net/1000020837/uncategorized/jeff-grell-lands-patent-on-highback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oldsnowboards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burton.cz/o-firme-burton/jake-burton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kušan Toni Lenhardt jezdil v Alpách na svém Monogliteru. V dnešní době se považuje za SNB - prapřed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4" descr="1914-Tonny Lenhardt.jpg"/>
          <p:cNvPicPr/>
          <p:nvPr/>
        </p:nvPicPr>
        <p:blipFill>
          <a:blip r:embed="rId1"/>
          <a:stretch/>
        </p:blipFill>
        <p:spPr>
          <a:xfrm>
            <a:off x="5357880" y="3817800"/>
            <a:ext cx="3519360" cy="2316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ležitým momentem pro historii snowboardingu je i nedávno objevené video z roku 1939, na němž muž jménem Vern Wicklund sjíždí traverzem jeden kopec v Chicagu na něčem, co připomíná snowboard. Wicklund rovněž získal patenty na prkna, která měla pásky na připevnění nohou, provázky v přední části a zvednutý předek.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ww.highcascade.com/blog/tag/vern-wicklun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1928880" y="1143000"/>
            <a:ext cx="6095880" cy="1476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3000240" y="928800"/>
            <a:ext cx="2409840" cy="2190600"/>
          </a:xfrm>
          <a:prstGeom prst="rect">
            <a:avLst/>
          </a:prstGeom>
          <a:ln w="0">
            <a:noFill/>
          </a:ln>
        </p:spPr>
      </p:pic>
      <p:pic>
        <p:nvPicPr>
          <p:cNvPr id="57" name="Obrázek 4" descr="1965- Snurfer.bmp"/>
          <p:cNvPicPr/>
          <p:nvPr/>
        </p:nvPicPr>
        <p:blipFill>
          <a:blip r:embed="rId2"/>
          <a:stretch/>
        </p:blipFill>
        <p:spPr>
          <a:xfrm>
            <a:off x="6786720" y="500040"/>
            <a:ext cx="2357280" cy="3286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urfer - Shermann Popp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ešrouboval dvě lyže, připevnil ke špičce provázek. Nápad si nechal patentovat a práva prodal kuželkářské firmě Brunswick. Snurfer měl velký komerční úspěch. Od roku 1968 Poppen organizoval snuferské záv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mitrij Milovich, jezdec na bufetových podnosech, se setkal se surfařem Waynem Stovekinem, který mu předvedl první nákresy snowboardu s konstrukčními prvky vycházejícími z výroby surfů a lyž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4" descr="winterstick- first.jpg"/>
          <p:cNvPicPr/>
          <p:nvPr/>
        </p:nvPicPr>
        <p:blipFill>
          <a:blip r:embed="rId2"/>
          <a:stretch/>
        </p:blipFill>
        <p:spPr>
          <a:xfrm>
            <a:off x="2214720" y="1500120"/>
            <a:ext cx="4622760" cy="1000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lovich pracoval dál na vývoji laminátové desky, kterou si nechal jako základ snowboardu v roce 1973 patentovat. Po velkém ohlasu článků o nových zimních sportech založil firmu Winter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rázek 4" descr="1980- Winterstick.jpg"/>
          <p:cNvPicPr/>
          <p:nvPr/>
        </p:nvPicPr>
        <p:blipFill>
          <a:blip r:embed="rId1"/>
          <a:stretch/>
        </p:blipFill>
        <p:spPr>
          <a:xfrm>
            <a:off x="1571760" y="4286160"/>
            <a:ext cx="5929200" cy="1285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4781520" y="4500720"/>
            <a:ext cx="4362480" cy="235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676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ermontu v Londonderry začal Jake Burton vyrábět prkna. Jeho neustálé snahy o vývoj a úpravy prken daly věci do pohybu, stejně jako turnaj v Michiganu sponzorovaný Snurferem, jehož se Jake v roce 1979 zúčastnil a zvítěz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786720" y="0"/>
            <a:ext cx="2357280" cy="3379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snowboardin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m Sims založil firmu, později vyráběl prkna laminátové konstrukce s dřevěným jád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6429240" y="3352680"/>
            <a:ext cx="2714760" cy="350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Ondra</cp:lastModifiedBy>
  <dcterms:modified xsi:type="dcterms:W3CDTF">2010-05-23T21:30:30Z</dcterms:modified>
  <cp:revision>72</cp:revision>
  <dc:subject/>
  <dc:title>POSLOUPNOSTI</dc:title>
</cp:coreProperties>
</file>