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78F-6761-4BFF-96C3-152FB7F3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A48-3DF1-44DE-9A2F-8901C789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14D-2999-43C5-A486-32A73BE3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72D-55DD-491B-87BE-914A2E49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C9A-10D8-49DB-881D-4FF3A858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FDB-A44E-4539-A251-E1C1DF45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541-FC5F-48F9-BE9E-D41F6C1A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066-3199-43BE-BA78-D02FA242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387-C716-40C3-BD73-D06DC2F9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8EC-327F-4A5D-AE0D-845CB960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55C-EB16-4FBC-8911-88B21D87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1DC-4B06-4A52-BC26-17DCFAFC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0C7F-B7BB-4011-BA8F-A00C6691168A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E032-AE53-4B95-8F8A-C22D00E33AA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2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9"/>
          <p:cNvSpPr/>
          <p:nvPr/>
        </p:nvSpPr>
        <p:spPr>
          <a:xfrm>
            <a:off x="1403280" y="2565360"/>
            <a:ext cx="684072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znam rela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Základní relaxační postup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1908000" y="515772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gr. Tomáš Dunov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ěná relax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ření na dech, uvolnění svalů, rytmus dechu, střídá se nádech a uvolnění. Po pravidelném nacvičování dokáže člověk zkrátit dobu k dosáhnutí uvol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chlá relax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volí naučit se uvolnit v běžných situací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átké chvilky uvolnění v běžných denních situacích 1-3x nadechnout a pomalu vydechnout,před každým výdechem si dát pokyn uvoln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ědomit si, kde pociťujeme napětí a toto místo prodých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možné si zvyknout na pravidelné uvolňování během dne. Příznivě působí proti úzkostem, nervozitě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feedback, neurofeedbac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í se napětí na přístrojích, odkud vychází, jak je zasažena nervová soustava při stresových vzpomínkách, vše se zaznamenává na přístroj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om má pacient úkol při opakování pozitivních a příjemných formulek dosáhnout na přístroji viditelného zklidně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ení jsou prováděna pod lékařským dohle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laxace u dě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volnění je vždy pozitivní a směřuje k lepším schopnostem a lepší paměti. Vede k upevňování duševní rovnováhy, rozvoji koncentrace, i k efektivitě učen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laxace zeslabuje projevy strachu, tlumí emoce, pomáhá proti alergiím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lax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měrné systematické uvolňování, a to jak v oblasti psychické, tak těles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přístup vychází z předpokladu psychofyziologické jednoty organismu. Tělesné napětí i uvolnění působí na psychiku, změna psychického napětí naopak ovlivňuje fyziologické poch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ěhem relaxace dochází postupně ke zklidnění sympatiku a zvyšuje se účinek parasympati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laxace je účinnou metodou, pomocí níž lze příznaky napětí udržet pod kontrol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ělesné uvolně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 projeví souladem dechového rytmu a rytmu úderů srdce, mírným poklesem krevního tlaku, uvolněním svalů a zpomalením všech základních tělesných pochod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uševní uvolně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 projevuje urovnáním myšlenek, v meditaci až jejich vymizením nebo soustředěním se na jednu věc. Čím je uvolnění hlubší, tím se člověk cítí vyrovnaněji a tím déle účinek přetrváv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znam relax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laxace je osvědčená a účinná strategie k překonávání různých příznaků: stavy vyčerpání, bolesti hlavy, úzkost, chronická bolest, hypertenz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ditace, hypnóza a nácvik relaxace se projevily kladně i u snižování aktivity lupénky v kontrolovaných studiích. Nemoci jako atopické ekzémy, astma, lupénky, stavy deprese a úzkosti se výrazně zlepšují po nácviku a pravidelném praktikování relaxačních met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vila se i možnost zvýšení imunitní aktivity  relativně oslabených organismů starších osob a ukázalo se, že pravidelnou relaxací lze imunitu pozitivně ovliv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jběžnější relaxační metody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ógové relaxační techni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ční systém jógy aktivně již dávno využíval poznatky, ke kterým dospěla i současná fyziologie. Nelze relaxovat při neklidné mysli a naopak nelze uvolnit mysl při napětí ve svalovině. Je  využíváno svalové uvolnění, pracuje se s uvědomováním si dechu, s imaginací (navozování představ) i s autosugescí. Relaxaci zahajujeme a ukončujeme koncentrací na dech, v závěru jsou důležité pomalé pohyby prstů u rukou a nohou, protahování celých končetin, otevření očí, zívnu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centrálního nervového systému nejsou projektovány vjemy z různých částí těla, úměrně jejich ploše a hmotnosti. Z tohoto je tedy zřejmé, že je účelné věnovat větší pozornost palcům a ostatním prstům na rukou i nohou, tvářím, bradě, jazyku vzhledem k tomu, že těmto částem těla přísluší větší množství motorické a senzorické plochy šedé kůry mozkové. Totéž platí i pro návrat z relax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ulzův autogenní trén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chází z jógových technik. Základním poznatkem je , že pomocí uvolňování napětí kosterního svalstva lze dosáhnout snížení duševního napět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ze dosáhnout hluboké úrovně relaxace, ale není vhodný pro přímé použití ve stresující situaci + autosugesce „ jsem uvolněný“, pravá ruka je těžká,.., pravá ruka je teplá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 základních pocitů: pocit tíhy, pocit tepla, pocit klidného dechu, klidného tepu, teplo v nadbřišku, chlad na č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gresivní relaxa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napínání a uvolňování svalů slouží k rozpoznání napět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 vedením terapeuta se uvolňují jednotlivé svalové skupiny ve správném pořadí a rytm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á se zjistit, zda má člověk problém s uvolňováním konkrétních skupin svalů, tyto problémy se dají dále řešit a překoná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Ondra</cp:lastModifiedBy>
  <dcterms:modified xsi:type="dcterms:W3CDTF">2010-07-12T08:13:34Z</dcterms:modified>
  <cp:revision>38</cp:revision>
  <dc:subject/>
  <dc:title>POSLOUPNOSTI</dc:title>
</cp:coreProperties>
</file>