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64F8-EE42-4320-A44B-D653DBAA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76D-23E9-4290-AFBC-F1596DB4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4EE-79EC-454B-B11B-AF5EA0CB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F26-D07E-4FE0-B62A-8A3EF253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3FD-27CE-4EF9-B796-F9B3DC35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144E-2FA9-4BBB-B54D-E9EC4F58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189-65D8-457B-87FC-C095C36D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54B-C947-44A9-A583-3823CB65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525-D435-4DEA-B132-F9D6623F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D6D2-4E4A-4472-8829-097F926E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DD83-4B91-4E92-B498-473552B1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420-47CE-4239-86F1-2AAB24B1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CA1C-A05A-4BDB-A83D-96A7C8A2106B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7B95-43D9-4A2E-A9C5-4911B7B105C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kudyznudy.cz/" TargetMode="External"/><Relationship Id="rId2" Type="http://schemas.openxmlformats.org/officeDocument/2006/relationships/hyperlink" Target="http://www.paveldobes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6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jógového tréninku.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činky jógových cvičení.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Teoretické zásady jó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gr. Tomáš Dunov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4" descr="Obrázek3.jpg"/>
          <p:cNvPicPr/>
          <p:nvPr/>
        </p:nvPicPr>
        <p:blipFill>
          <a:blip r:embed="rId1"/>
          <a:stretch/>
        </p:blipFill>
        <p:spPr>
          <a:xfrm>
            <a:off x="1214280" y="357120"/>
            <a:ext cx="6778800" cy="1054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vedení ás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post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centrace (na tu část těla kam ásana působ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ýchání (vždy v souladu s cvičení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ed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či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raindikace (poz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anájá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nájáma – je vědomé a volní usměrňování dechu (prána = dech, kosmická energie, ájáma = kontrolovat, regulovat), dechové 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ým dechem  přijímáme nejen kyslík, ale i prá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ělesné účin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chování a zlepšování tělesného zdra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čištění k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ýšení příjmu kysl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ílení srdce a p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rmalizace krevního tla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rmonizace a stabilizace nervové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pora léčebných procesů a léčebné tera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ýšení odolnosti proti nákaz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sychické účin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stranění stresu, nervozity, depres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klidnění myšlenek a emo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nitřní vyrovna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puštění energetických blo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uchovní účin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hloubení medi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buzení a pročištění čaker (energetických cen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šíření vědo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sady pro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Naplánovat každý den 40 – 60 min. Předpokladem je  pevně stanovená doba a pravidelné a pečlivé provádění cviků, nejlépe rá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Necvičit s plným žaludkem, poslední jídlo 2 – 3 hod. př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Pohodlný oděv z přírodního materiál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.Cvičit na klidném místě, jako podložku mít žíněnku nebo de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ó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jení, sje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a, ke sjednocení a harmonii těla, mysli, ducha a okolního svě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máhá zvládnout každodenní nároky, problémy i star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může nám porozumět sobě samému, smyslu svého živ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Cvičíme v souladu s dýcháním, pohyby při cvičení jsou pomalé, plynul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.Nemyslet na záležitosti všedního dne, na začátek zaujmout na několik minut ánandu, ásany (relaxační pozice), uvolnit dech i tělo. Pozorovat výdech a nádech, odpoutat se od všech myšlen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.Každou ásanu cvičit s plnou pozorností a soustředěním, oči otevřené nebo zavřené. Vědomě vnímat účinek cviků a mezi ásanami se uvolňovat pomocí několika nádechů a výdech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. Zachovávat předepsané pořadí cviků a neměnit s jinými technik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můžeme-li provádět některé cviky kvůli tělesnému omezení (např. ztuhlost)či jiným obtížím, cviky vynechá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9. Nemůžeme-li cvičit z jiných důvodů – např. po nemoci, únavě, nedostatku místa, cvičíme je alespoň v mysli, ať už vsedě nebo vleže v uvolněné poz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0. Nevzdáváme se, nedokážeme-li správně provést cvik. Na určitou dobu setrváme v postavení, které se nám povedlo a zkoušíme dál. Vše chce svůj č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óga v denním životě, Paramhans svámí Mahéšvarán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kudyznudy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paveldob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kladní cesty jó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64304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Bhaktijóg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je cesta lásky a soucitu s veškerým tvorstvem a celou přírodou. Je uváděna jako nejvhodnější pro současnou společnost, ve které je přemíra agresivity, nesnášenlivosti a sobect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Karmajóg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je cesta činů, kterými přinášíme užitek a prospěch ostatním (přináší pocity úspěchu, satisfakce a pocity štěstí nám i druhým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Džňánajóg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je cestou poznání, pochopení. Pochopení pravé podstaty naší bytosti a její úlohy na Zemi a ve vesmír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Rádžajóg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je cesta sebekontroly a ovládání. „Rádž“ znamení král – je symbolem správného a pevného rozhodování, symbolem zvládnutí mysli a smysl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Rádžajó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MA – NIJAMA (dodržování morálně etických pravid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ÁSANA (tělesná cvičení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ANAJÁMA (dechová cvičení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ATJAHÁRA (relaxa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HÁRANA (koncentra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HJÁNA (medita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Ásana  –  tělesné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ÁSANA je sanskrtský výraz pro tělesnou poz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hé ásany jsou odvozeny od přirozených pohybů a pozic zvířat, odrážejí jejich schopnost pomoci si v případě onemocně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á ásana či sestava má svoji odezvu   v organismu na fyziologickém základě. (protažení, posílení svalů, uvolnění kloubů, zlepšení nervosvalové koordina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ý cvik má své určení, zaměření          a účin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viky mohou mít i kontraindikaci (doporučení, kdy cvik není vhodné provádě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yšuje pružnost páte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lepšuje pohyblivost kloub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omáhá uvolnění, posílení a bohatému prokrvení sva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vzbuzuje a harmonizuje činnost orgánů a žlá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poruje látkovou výměnu a funkci lymfatické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iluje imunitní systé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rmalizuje a stabilizuje krevní oběh a krevní t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klidňuje a posiluje ner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čišťuje a osvěžuje pokož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á ásana či sestava má svoji odezvu také na nervové a duševní úrov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vičení mají účinky harmonizující a současně osvěžující účinky pro tělo, mysl a duš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chází k pocitům uvolnění,k relaxaci,  naplnění, blaženosti, vnitřní svobody a mír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Ondra</cp:lastModifiedBy>
  <dcterms:modified xsi:type="dcterms:W3CDTF">2010-07-12T08:12:37Z</dcterms:modified>
  <cp:revision>79</cp:revision>
  <dc:subject/>
  <dc:title>POSLOUPNOSTI</dc:title>
</cp:coreProperties>
</file>