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40A-5251-4E0E-AA61-6500C205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265-1E99-4B37-8DE9-D4735B85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E30-3461-4110-A29E-09F3967B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473-4397-438D-A97E-4DFC3E85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EB8-3512-426D-B433-BB985AE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9BF-9D02-40AE-A1E1-6AF57FF1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759-05FE-4525-AD27-91D98DC1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0C1-769C-4BF8-999F-74E185FC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84F-68E9-4278-87CA-9D276AD6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87B-3A81-47C5-A6B0-3CBBCA1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66E-4B44-4BD9-ADF2-D263A16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5DA-27C0-4633-BBB0-C5E72CE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8243-F39E-43C4-96A4-D55AA4C9AD0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BDE1-A0BC-4FBA-9951-0DF95D428E9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uševní hygi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gr. Tomáš Dun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Obrázek3.jpg"/>
          <p:cNvPicPr/>
          <p:nvPr/>
        </p:nvPicPr>
        <p:blipFill>
          <a:blip r:embed="rId1"/>
          <a:stretch/>
        </p:blipFill>
        <p:spPr>
          <a:xfrm>
            <a:off x="1214280" y="357120"/>
            <a:ext cx="6778800" cy="1054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án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mírně podstatným prvkem je dostatek spán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spánku je sice velmi individuální, platí však, že jeho nedostatek působí destruktivně na lidský organismus a to bez vyjím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hlediska duševního zdraví je rozhodující také skladba strav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íklad přemíra kořeněných a slaných jídel ubírá schopnost se koncentrovat a příliš tučné potraviny lidskému tělu ubírají energ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opak pozitivní vliv na pocit pohody a dobré nálady má čokoláda, která obsahuje látky podobné endorfinů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světě vitaminů dokonce najdeme z pohledu zvládání stresu šampiona a tím je vitamin B1, který je často nazýván jako „antistresor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počinek a regenerace si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sivní odpočinek, masáže, vířivky, pára, vodní koupele, zábaly, sa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laxace -  jógová, koncentrační, dechová cvičení, uklidňující 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hyb, tělesná práce cvič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dílnou součástí péče o psychickou pohodu by měl být také pravidelný pohyb, tělesná práce nebo 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ospodaření s časem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centrovaná pozornost a udržování pořád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álný rozvrh práce: denní, týdenní, měsíční a roční plán s časovou rezervou pro nepředvídané úkoly, běžná vyrušování, vlastní indispoz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ouzení závažnosti úkolů, omezení zbyt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běr nejpodstatnějších problémů k řeš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ezení časových ztrá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nejcennějších chvil d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rozdrobených časových úseků (čekání u lékaře, jízda MH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volných chvil k relaxaci, k úklidu stolu ap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ý režim d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straňování zlozvyků (nepřiměřených návyků) v životosprávě, v myšlení, v citech, v morálním chov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ři zlatá pravidla duševní hygie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Nepochválím-li se sám, nikdo to za mne neuděl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me, co nás ta práce stála úsilí. Je důležité se pro sebe ocenit. Neostýchat se, říkat dobré věci nahl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ždý úspěch se násobí deseti, neúspěch se dělí dese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av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í je stav úplné fyzické, psychické a sociální pohody, nejen nepřítomnosti choroby, nebo poruchy funkce (WH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 tělesné zdraví se dokážeme postarat. Všichni víme relativně dobře ja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psychickým zdravím je to už horší, protože většina z Vás považuje třeba pomoc psychologa za něco podivnéh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dpočívám alespoň o 5 minut dříve, než je úplně pozdě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cký odpočinek, rituá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ční sobectví – uchovat se zdravý svým blízkým a nezpůsobit jim stres svým zhroucením, nemocí ap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laxační techniky by měly být zahrnuty do studijního programu ve všech školá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ševní hygiena by se měla stát součástí základního vzdělání každého moderního člověka. Jelikož tomu tak dosud není, musíme se všichni sami učit, jak zvládat nadměrné stresy a napětí a účinně tak vyloučit nadměrné psychické zatížení, kterému jsme stále vystav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ševní hygiena úzce souvisí s naším systémem hodnot. Každý člověk by si měl sám pro sebe ujasnit, co jsou pro něho hodnotné cíle,k nimž bude zaměřovat své úsilí, čemu bude dávat přednost. Také uspokojivé sociální a citové vztahy jsou významnou součástí našeho života a posilují naši odolnost vůči fyzickým i duševním stresům. Duševní hygiena by měla zahrnovat i cílevědomou práci na sobě samé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sychohygiena, mentální hygiena:  PhDr. Drahomíra Ooud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oderní psycho/hygiena: Bartko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prirozenezdravi.webnode.cz/relaxacni-strategie-pro-telo-i-dusi-aktivni-dusevni-hygien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opisek.net/profil/psychohygiena-v-kazdodennim-zivote-a-pra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etext.czu.cz/img/skripta/64/pef_233-1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Duševní_hygi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každého z nás může být stresovým faktorem něco jiného. Může jít o námahu, zodpovědnost, příliš hlučné prostředí, nebo neočekávanou událost či časový tlak na splnění úkolu. Do stresu nás může uvrhnout téměř cokoli, od banálních maličkostí až po závažné osobní problé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jně jako si můžeme špatnými návyky, stravováním nebo nehodou poničit své fyzické zdraví, k úhoně může snadno přijít i naše psychické zdrav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den našeho života s sebou přináší podněty, s nimiž si musíme umět pora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esové faktory, které na nás působí by bez účinné pomoci mohly vyvolat kol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se nějak podvědomě brán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ěkdo rád jezdí rychle autem, druhý vyhledává adrenalinové situace, bije se v ringu, bere prášky, řeže se do kůže, relaxuje při skleničce alkoholu, relaxuje při józe, zahraje si squash, nebo se věnuje vnoučatů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jsme jiný, proto každému pomáhá něco jiné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však známo mnoho opatření, postupů, které nám bez ublížení na zdraví a překročení zákona, umožní se uklidnit a udržet si svoji duševní rovnováh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sychohygi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sychohygiena je obor, který se zabývá rozvojem a podporou duševního zdraví. Pomáhá k tomu soubor opatření, postupů a poznatků o způsobu života a chování, které umožňují zachovat si a udržet psychické (psychosomatické) zdrav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nos psychohygieny spočí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evenci somatických a psychických nemo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dobré pracovní výkonnosti - vyrovnaný člověk se dokáže dobře koncentrovat na práci i odpoči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fungujících sociálních vztazích-člověk, který je duševně zdravý, kladně působí na své oko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ubjektivní spokojenosti - vyrovnaný člověk neprožívá citová vypě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činná psychohygiena člověka se týká několika důležitých oblastí každodenního živo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7-12T08:12:04Z</dcterms:modified>
  <cp:revision>97</cp:revision>
  <dc:subject/>
  <dc:title>POSLOUPNOSTI</dc:title>
</cp:coreProperties>
</file>