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29A-0D56-4BD7-9F5A-B7359C62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C1E-63D8-4BBC-856A-369E396B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3AB-1651-4346-B201-F6459323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304-B14B-4426-AC5C-03F80D10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1CF-D569-4860-BAA8-DDCA89E3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5F3-CED2-4E17-8402-E70FFE32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940-5E0F-4320-A032-D8244E3A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268-5199-4B47-8E93-A03CC642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F10-40DB-4E3A-BE1D-2626DF6F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C2E-C613-4196-8CDC-10879523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E62-E7EE-4CF3-BB44-093FF139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C3B-3565-4076-A49A-043DB533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1808-0B2F-4AEB-91B2-E6A06A938540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256B-F5E0-4333-BE70-215A4EF2BF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hado.net/" TargetMode="External"/><Relationship Id="rId2" Type="http://schemas.openxmlformats.org/officeDocument/2006/relationships/hyperlink" Target="http://www.beltina.cz/vitamin" TargetMode="External"/><Relationship Id="rId3" Type="http://schemas.openxmlformats.org/officeDocument/2006/relationships/hyperlink" Target="http://www.mojevitaminy.cz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6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Funkce vody ve výživě. Vitamíny a příbuzné látky. Minerální látky.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ýživové doplňk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gr. Tomáš Dunov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4" descr="Obrázek3.jpg"/>
          <p:cNvPicPr/>
          <p:nvPr/>
        </p:nvPicPr>
        <p:blipFill>
          <a:blip r:embed="rId1"/>
          <a:stretch/>
        </p:blipFill>
        <p:spPr>
          <a:xfrm>
            <a:off x="1214280" y="357120"/>
            <a:ext cx="6778800" cy="1054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 tu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tamín 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zniká v kůži prostřednictvím slunečního záření (vitamín D3) a udržuje tak kožní buňky aktivní a teprve posléze je játry a ledvinami vytvořena aktivní forma vitamínu D (vitamín D2). Tento vitamín je velmi důležitý pro správný vývoj našich kostí a zubů, protože ovlivňuje metabolismus vápníku, fosforu a cukrů a také je důležitý pro játra, ledviny a stře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statek vitamínu D se zpravidla projevuje řídnutím kostí, nebo vyšším rizikem zlomenin z důvodu demineralizace kostí, zvýšená padavost a kazivost zubů, ztuhlost svalů a u dětí může způsobit nemoc zvanou křivice (deformace kost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tamín D můžete nalézt ve vejcích, mléku, vnitřnostech, sardinkách, lososech, tuňáku nebo rybím tuku a v malém množství se také nachází v avokádu, banánech, kaka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 tu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tamín 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vitamín rozpustný v tucích, ukládá se zvláště v tukové tkáni, játrech a svalech a je významným antioxidantem. Je také důležitý pro náš imunitní a nervový systém, oči, kůži a příznivě ovlivňuje metabolism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statek vitamínu E, může se projevit různými onemocněními, jakými jsou například Alzheimrova a Parkinsonova choroba, epilepsie, chudokrevnost, poruchy chůze, porucha vstřebávání tuků a onemocnění jater a ledvin, žlučníkové kameny, šedý zákal, různá cévní a srdeční onemocnění, oslabení celkového imunitního systému a obranyschopnosti organismu, nervovosvalovou degeneraci a může způsobit také neplo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tamín E můžete nalézt v potravinách jako jsou ořechy, ovesné vločky, špenát, mák, mléko, maso, avokádo, různá semínka, sójové oleje a oleje z obilných klíč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 tu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tamín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atří do skupiny vitamínů rozpustných v tucích a má 3 formy (K1, K2 a K3). Tyto vitamíny se tvoří z bakterií v tenkém střevě. Vitamín K je potřebný zejména pro správnou činnost jater a také pro funkčnost srážlivosti krve pomocí takzvaných faktorů srážení k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statek se pak může projevit různými metabolickými poruchami (komplikace s játry, tlustým střevem, zhoršení srážlivosti krve, krvácení z nosu, nadměrné menstruační krvácení, časté průjmy, pomalejší hojení ran, tvorba modřin a krevních podliti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tamín K se nachází v listové zelenině (špenát, salát), luštěninách, brokolici, tuřínu, kapustě, květáku, mase, obilných a mléčných výrobcích (jogurty, podmáslí, acidofilní mléko) bramborách, rostlinných olejích, vnitřnostech, mořských řasách, rajčatech, mrkvi, rybím tuku, sojovém oleji, ve vajíčká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e v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1 (thiamin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rozpustný ve vodě, a je důležitý pro správné nervové funkce a dobře působí také při depresích nebo migrénách a ovlivňuje správnou mozkovou činn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jeho nedostatku se může objevit právě nervové onemocnění, nebo také únava, zácpa, nebo nechuten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t ho můžeme zvláště ze z luštěnin, obilnin, ryb nebo kvasn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e v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2 (riboflavin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důležitý pro buněčné dýchá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jeho nedostatku se mohou objevit onemocnění hrtanu a hltanu, chudokrevnost, nebo kožní problémy, malinový jazyk, bolavé ústní koutky, poruchy ústní sliz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em vitamínu B2 jsou kvasnice, mléko, zelenina, klíčky, brambory nebo lipový kvě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e v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3 (vitamín PP, kyselina nikotinová, niacin),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ílí se na buněčných oxidacích, zdroj =B2 Vitamín B3 je velice důležitý během metabolických přeměn sacharidů, tuků a bílkovin, také snižuje hladinu cholesterolu v krvi a tím se významně podílí na prevenci vzniku srdečních onemocnění, je vhodný v období většího stresu, nebo při depresivních stavech. Preventivně působí také proti cukrov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statek byl dříve příčinou onemocnění zvaného Pelagra, který se však už neobjevuje a nedostatek tak bývá provázen spíše nespavostí, nechutenstvím, nebo záněty dutiny úst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vitamín se nachází zejména v celozrnné mouce, zelenině nebo houbá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e v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5 (kyselina pantotenová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odílí se na látkové přeměně, odstraňuje škodlivé látky. Vitamín B5 je významný při metabolických procesech, také se podílí na odbourávání buněk a tkání, obnovuje kožní buňky a pomáhá regeneraci vlasů, nehtů, kloubů a také pomáhá vytvářet v našem těle protilátky a tím zvyšuje celkovou imunitu organism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ho nedostatek se může projevit například zadržováním vody v těle, nebo afty, popraskanými rty a kout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chází se v luštěninách, mase nebo pšeničných otrub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e v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tamín B6 (pyridoxin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podílí na látkové výměně bílkovin. Vitamín B6 funguje jako prevence proti vzniku nervových a revmatických onemocnění, pomáhá zklidnit premenstruační syndrom a také se podílí na metabolismu aminokysel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nedostatku dochází k pomalému hojení zánětů a zhoršené regeneraci slizn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tamín B6 se nachází například v pšeničných klíčkách, vnitřnostech, mase (hlavně vepřovém), v mléce, kvasnicích, nebo só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e v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tamín B9 (kyselina listová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podílí na všech vývojových a některých nervových procesech organismu a také podporuje krevní tvor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ho nedostatek je nebezpečný hlavně pro těhotné ženy (může porušit plod) a malé děti a v dnešní populaci je jeho nedostatek velmi čast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vitamín najdeme zejména v listové zelenině (špenát, brokolice, růžičková kapusta, zelí  apod.), chlebu, vnitřnostech nebo luštěni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e v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tamín B12(kobalamin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e významně podílí při tvorbě červených krvinek, působí preventivně proti anémii a dalším krevním chorobám. Dostatek tohoto vitamínu by měly hlídat zejména těhotné a kojící ženy, děti a vega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ledkem nedostatku tohoto vitamínu můžou být různé neurologické nebo hematologické poru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chází se hlavně ve vnitřnostech, rybách, vejcích nebo mléčných produkt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unkce vody ve výživ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a tvoří nejpodstatnější část organismu a je jeho základním prostředí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dské tělo obsahuje průměrně 45 - 75 % vody. Starší lidé mají ve svém těle procentuelně méně vody než mládež. Voda v organismu se nepřetržitě vyměň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e v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(biotin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udržuje zdravé nehty a vlasy, pomáhá tělu využívat sacharidy, tuky a bílkoviny, diabetikům pomáhá biotin udržovat hladinu krevního cukru. Hraje životně důležitou úlohu při normálních metabolických funkcí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statek biotinu může vyvolat změny na pokožce a nervové poruch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tin je obsažen v játrech, sójových výrobcích, ořeších, ovesných vločkách, rýži, ječmenu, luštěninách, květáku a nebroušeném pšeničném zr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e v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tamín 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yselina askorbová) je velice důležitý, protože se podílí na správné funkci v podstatě všech buněk našeho organismu. Kromě toho je nezbytný pro celkovou obranyschopnost našeho těla, je výborným antioxidantem působícím proti volným radikálům v našem těle, podílí se na tvorbě hormonů a je také nezbytný pro naše svaly, kosti, cévy i kůže, snižuje hladinu cholesterolu v krvi, podporuje vstřebávání železa a působí preventivně proti kornatění tepen nebo proti vzniku některých nádorových, srdečních a cévních onemocně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nedostatku se také dříve objevovala nemoc zvaná kurděje, která se dnes již nevyskytuje a na dlouhodobý nedostatek vitamínu C se dokonce může i zemří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tamín C je nejvíce obsažen v citrusových plodech (citróny, pomeranče, grapefruit, lunetka), šípku, bramborách, rajčatech, brokolici, jahodách, květáku, kiwi, brusinkách, špenátu, papáje, maliny, ostružiny, jablka a podobně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e v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tamínem 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sou označovány nezbytné esenciální mastné kyseliny, kyselina linolová, linoleová a arachidonová, které jsou do těla nutné dodávat potravou, protože tělo si tyto kyseliny nedokáže vytvořit žádnou jinou cestou. Tyto esenciální mastné kyseliny jsou základem pro tvorbu a funkci buněčných membrán, ovlivňují naší energii, stav vlasů, pokožky a nehtů, dále pomáhají snižovat hladinu cholesterolu v krvi, zabraňují kornatění cév, ochraňují také ját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statek vitamínu F se projevuje zpravidla bolestí hlavy, snížením krevního tlaku, různými metabolickými poruchami nebo kožními problémy (kožní léz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ze najít v rostlinném tuku a oleji, mořských živočiších (langusta, humr), ořechách (hlavně vlašských), semínkách (slunečnicových, dýňových, lněných), sóji, mandlích, listové zelenině, konopném oleji, obilných klíčkách, avokádu, rybách, nebo v oleji z lněného semín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nerální lá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ležitá složka výživy člověka, do organizmu se dostanou:potravou a nápoji, vodou,vdechovaným vzduchem a přes kůži. Jejich úloha je velmi mnohostranná: správný vývin kostry, faktor intermediálního metabolizmu,udržování acidobazické rovnováhy a stálosti vnitřního prostředí, tvorba enzymů, hormonů, vitamín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lení minerálních lá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kroprvky (Ca, P, Na, K,Cl, Mg a S)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nní spotřeba je několik set miligra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ikroprvk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(Fe, Cu, Zn, Mn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denní spotřeba je několik desítek miligra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ltramikroprvky – stopové prvky (Co, Mo, I, F, Se, Cr a dalš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brané minerální lá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ápní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minerál, který je v našem těle zastoupen asi v nejvyšší míře, je obsažen v kostech a zubech a jeho nedostatek působí špatně právě na stavbu kostí, je důležitý pro nervové a svalové funkce, srdeční funkce a také podporuje dobrou srážlivost krve a pro správnou chemickou rovnováhu v těle. Z potravy je získáván především z luštěnin, ořechů, různých semínek (slunečnicových, sezamových, klíčků) a zejména v mléčných výrobcích. Jeho doporučená denní dávka je 800 m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ořčí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nezbytný zejména pro správný metabolismus enzymů, má dobrý vliv na srdeční a nervové funkce, pomáhá organismu při využití vitamínu C, napomáhá správnému vzniku estrogenů a podporuje činnost žaludku, střev a močového měchýře. Je také výborným antioxidantem a při jeho nedostatku se může projevit nervozitou, zácpou, průjmem, nebo křečemi ve svalech. Také v období těhotenství a kojení je hořčík velmi důležitou složkou. Hořčík se získává především ze zeleniny, luštěnin, obilovin, jablek a klíčků. Doporučená denní dávka hořčíku je 350 m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osfo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společně s vápníkem důležitý pro kosti a zuby, podílí se na transportu mastných kyselin a tuků a také na přenosu nervových impulzů, je proto velmi důležitým prvkem pro nervové a mozkové funkce. Je obsažen zejména v rybách, ořechách, vajíčku, mléčných výrobcích nebo luštěninách. Doporučená denní dávka je 750 m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brané minerální lá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42680"/>
            <a:ext cx="84009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dí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raslí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sou velmi důležité pro nervové funkce, dobrou svalovou činnost a pokud je jich v těle nadbytečné množství, může to mít za následek zvýšený krevní tlak a také špatný vliv na funkci ledvin, nespavost, nebo poruchy srdečního rytmu. Sodík a draslík se získává z luštěnin, brambor, obilovin, ořechů a soli. Sodík má doporučenou denní dávku 500 mg, draslík 1800 m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Želez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zásadním prvkem pro správný přenos kyslíku v organismu. Pokud je v těle nedostatek železa, může vznikat chudokrevnost a s tím spojená bolest hlavy, únava apod. Železo se ruší mlékem, takže pokud vaříme potraviny bohaté na železo společně s mlékem, navzájem se ruší. Nejvíce železa je obsaženo ve vnitřnostech, mase, kopřivách, meruňkách a listové zelenině. Železa se doporučuje 10 mg na d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ine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 podílí zejména na tvorbě inzulínu a je nezbytným prvkem pro dobré zrakové funkce. Vstřebává se za pomoci vitamínu A a působí preventivně před vznikem rakoviny. Jestliže je ho v těle nedostatek, mohou se vyskytnout problémy pohlavních žláz a také kožní problémy, nebo jejich zhoršení. Zinek můžete získat cibule, klíčků, luštěnin, otrub, ústřic nebo dýňových semínek a jeho doporučená denní dávka je 15 m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brané minerální lá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ele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ůsobí jako odchytávač volných radikálů a díky tomu působí na naše tělo jako antioxidant, chrání srdce, ovlivňuje krevní tlak, působí proti kornatění tepen a zvyšuje celkovou imunitu organismu. Vyšší příjem cukru může ovlivnit negativně množství selenu v našem organismu. Získat je ho možno z různých semínek, obilnin, vejcí, chřestu, cibule, plodů moře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řemí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potřebný hlavně pro pevnost cév a kostí, protože ovlivňuje tvorbu pojiv a chrupavek v těle. Kromě toho také ovlivňuje vzhled pleti, nehtů a vlasů. Získává se jablečné vlákniny, přesličky, nebo celozrnných obilov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ro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významný pro metabolismus sacharidů a správné funkce inzulínu a stejně jako u Selenu ho ruší vyšší příjem cukru. Chrom působí velmi dobře na celkovou obranyschopnost našeho organismu. Je obsažen například v lesních plodech, pivu, ořechách, klíčkách nebo v řeřichá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ód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znám hlavně díky svému působení na správnou tvorbu hormonů štítné žlázy. Kromě toho také zlepšuje kvalitu pleti, vlasů, zubů a nehtů a zklidňuje nervy. Důležitý je také v těhotenství a ruší se při větší konzumaci kyselého zelí. Jód v potravě můžeme nalézt především v jodizované soli, mořských řasách, rybách, třešních atd. Doporučená denní dávka je 150 m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brané minerální lá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luo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důležitý zejména pro zdravé zuby a kosti, získat se dá z mořských ryb, nebo černého čaj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ěď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nepostradatelnou složkou při tvorbě hemoglobinu a také podporuje buněčné dýchání. Obsahují ji rozinky, zelenina, ořechy nebo ját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nga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mineralizuje kosti, podílí se na metabolismu živin a lze ho získat z borůvek, jahod, luštěnin, kakaa, nebo obilov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balt se podílí na správné funkci krvetvorb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ó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důležitý pro správný růst, zejména u dětí a doporučuje se ho 4 mg na den. Kobalt a Bór je obsažen v játrech, celozrnných výrobcích, luštěninách, klíčcích, obilninách, švestkách, sóji, datlích, brokolici a podobn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živové doplň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)Prostředky pro podporu růstu celkové hmot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směsi živin: bílkovina, vitamíny, miner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)Prostředky pro nárůst svalové hmo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proteinové koncentráty, aminokyseliny (gluta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)Speciální látky s anabolickým účinkem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ginin, chróm, B12, Dibencoz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)Speciální látky s lipotropním účinkem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citin, Cholin, Karnitin, L-karnitin, C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)Antioxidanty, vitamí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)Energizéry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átky stimulující CNS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ostlinné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fein, guarana, ginko, žen-šen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yntetické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osin, kreatin, karnitin, glutamin, ATP, koenzym Q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)Enzy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 doplnění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dy dochází  dvěma zdr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xogenními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itná voda a voda obsažená v potraviná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ndogenními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oxidační voda, vzniklá během oxidoredukčních pochodů v organis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ado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ltina.cz/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ojevitaminy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da ǂ 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itná voda má být bez chuti, čistá, bezbarvá, bez zápachu a zdravotně nezávad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ný vliv na metabolismus vody mají minerální látky - především draslík , sodík a chló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nní příjem vody pro dospělého člověka představuje 2 - 3 li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 vody je regulován centrální nervovou soustavou, centrum příjmu vody(žízně) se nachází v hypotal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da přijatá v potravě nebo nápoji se nejvíce vstřebává v tenkém a tlustém střevě a částečně již v žalud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 organismu se vylučuje jako tekutina (moč, pot, sekrety ve výkalech) a jako vodní pára (plíce, kůž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dostatek vody</a:t>
            </a:r>
            <a:r>
              <a:rPr b="0" lang="cs-CZ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 organismu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příčiňuje těžké poruchy v látkové výměn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dlouhodobém nedostatku  se odnímá voda z tkání a orgánů, krev se zahušťuje. Trávicí pochody se zpomalují a znesnadňují, v těle zůstávají metabolické zplodi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stává intenzivnější štěpení tuků a bílkov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lověk trpí nechutenstvím a odmítá přijímat suché potravi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zději se objevuje horečka a výkonnost žíznících lidí výrazně klesá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-li bilance vody silně negativní po delší dobu, dochází k nevratnému poškození organismu a následně ke smr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vropská vodní cha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z vody není života. Voda je drahocenná a pro člověka ničím nenahraditelná surov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ásoby sladké vody nejsou nevyčerpatelné. Je proto nezbytné tyto udržovat, chránit a podle možnosti rozhojňov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nečišťování vody způsobuje škody člověku i ostatním živým organismům, závislým na vod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akost vody musí odpovídat požadavkům pro různé způsoby jejího využití, zejména musí odpovídat normám lidského zdrav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 vrácení použité vody do zdroje nesmí tato zabránit dalšímu jeho použití pro veřejné i soukromé úče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 zachování vodních zdrojů má zásadní význam rostlinstvo, především 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odní zdroje musí být zachová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íslušné orgány musí plánovat účelné hospodaření s vodními zdro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chrana vody vyžaduje zintenzivnění vědeckého výzkumu, výchovu odborníků a informování veřejn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oda je společným majetkem, jehož hodnota musí být všemi uznávána. Povinností každého je užívat vodu účelně a ekonomic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spodaření s vodními zdroji by se mělo provádět v rámci přirozených povodí a ne v rámci politických a správních hran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oda nezná hranic, jako společný zdroj vyžaduje mezinárodní spoluprá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da – vodní krys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da reaguje na zvuk, hudbu, vibrac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y ovlivněné v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11" descr="1.jpg"/>
          <p:cNvPicPr/>
          <p:nvPr/>
        </p:nvPicPr>
        <p:blipFill>
          <a:blip r:embed="rId1"/>
          <a:stretch/>
        </p:blipFill>
        <p:spPr>
          <a:xfrm>
            <a:off x="214200" y="3286080"/>
            <a:ext cx="4372200" cy="9241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12" descr="2.jpg"/>
          <p:cNvPicPr/>
          <p:nvPr/>
        </p:nvPicPr>
        <p:blipFill>
          <a:blip r:embed="rId2"/>
          <a:stretch/>
        </p:blipFill>
        <p:spPr>
          <a:xfrm>
            <a:off x="214200" y="4214880"/>
            <a:ext cx="4362480" cy="92376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13" descr="3.jpg"/>
          <p:cNvPicPr/>
          <p:nvPr/>
        </p:nvPicPr>
        <p:blipFill>
          <a:blip r:embed="rId3"/>
          <a:stretch/>
        </p:blipFill>
        <p:spPr>
          <a:xfrm>
            <a:off x="214200" y="5143680"/>
            <a:ext cx="4362480" cy="942840"/>
          </a:xfrm>
          <a:prstGeom prst="rect">
            <a:avLst/>
          </a:prstGeom>
          <a:ln w="0">
            <a:noFill/>
          </a:ln>
        </p:spPr>
      </p:pic>
      <p:pic>
        <p:nvPicPr>
          <p:cNvPr id="66" name="Obrázek 14" descr="4.jpg"/>
          <p:cNvPicPr/>
          <p:nvPr/>
        </p:nvPicPr>
        <p:blipFill>
          <a:blip r:embed="rId4"/>
          <a:stretch/>
        </p:blipFill>
        <p:spPr>
          <a:xfrm>
            <a:off x="4643280" y="3286080"/>
            <a:ext cx="4353120" cy="928800"/>
          </a:xfrm>
          <a:prstGeom prst="rect">
            <a:avLst/>
          </a:prstGeom>
          <a:ln w="0">
            <a:noFill/>
          </a:ln>
        </p:spPr>
      </p:pic>
      <p:pic>
        <p:nvPicPr>
          <p:cNvPr id="67" name="Obrázek 15" descr="5.jpg"/>
          <p:cNvPicPr/>
          <p:nvPr/>
        </p:nvPicPr>
        <p:blipFill>
          <a:blip r:embed="rId5"/>
          <a:stretch/>
        </p:blipFill>
        <p:spPr>
          <a:xfrm>
            <a:off x="4643280" y="4214880"/>
            <a:ext cx="4362480" cy="942840"/>
          </a:xfrm>
          <a:prstGeom prst="rect">
            <a:avLst/>
          </a:prstGeom>
          <a:ln w="0">
            <a:noFill/>
          </a:ln>
        </p:spPr>
      </p:pic>
      <p:pic>
        <p:nvPicPr>
          <p:cNvPr id="68" name="Obrázek 16" descr="6.jpg"/>
          <p:cNvPicPr/>
          <p:nvPr/>
        </p:nvPicPr>
        <p:blipFill>
          <a:blip r:embed="rId6"/>
          <a:stretch/>
        </p:blipFill>
        <p:spPr>
          <a:xfrm>
            <a:off x="4643280" y="5143680"/>
            <a:ext cx="4372200" cy="961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6572160" y="42861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a příbuzné lá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tamí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 řadí mezi takzvané „nepostradatelné“ neboli „esenciální“ lát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těle plní vitamíny funkci katalyzátorů, umožňují některé důležité chemické reak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těla se dostávají již hotové nebo ve formě provitamínů, látek ze kterých pak v těle vzniknou odpovídající vitamíny ve své konečné podob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4363920" y="5214960"/>
            <a:ext cx="4780080" cy="16430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tamíny rozpustné v tu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tamín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retinol, karoten - se podílí na prevenci proti vzniku rakovin a je důležitý pro zdravý vzhled pokožky, tkání a funkci sliznic. Vitamín A je důležitý pro činnost pohlavních žláz. Největší vliv má vitamín A na náš zrak - na schopnosti správně vidět za še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statek ztráta chuti, zastavení růstu u dětí, porucha obranyschopnosti a šeroslepost. Dochází k vysychání sliznic a očí (může následovat poškození rohovky). Při velkém nedostatku dochází k poruše tvorby kostí, poruchám v nervovém systém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kyt v potravinách: vejce, tmavězelená a žlutá zelenina a ovoce, nízkotučné mléčné produkty, já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Ondra</cp:lastModifiedBy>
  <dcterms:modified xsi:type="dcterms:W3CDTF">2010-05-23T21:27:59Z</dcterms:modified>
  <cp:revision>84</cp:revision>
  <dc:subject/>
  <dc:title>POSLOUPNOSTI</dc:title>
</cp:coreProperties>
</file>