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0B66F-6440-4052-B6BE-D47F276A55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5D7AF-EA7C-4E07-A945-1E1A2E05C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5D5B7F-F495-4E3B-B534-B68FE3C59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E6CA28-81C5-41B3-AB17-2A718B7C6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ECACA-DCED-4DB1-83B7-4036F64FF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87740-C344-460D-A191-5B30F3E9F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FBAC2-8156-4BEF-919B-36E96B5E9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C3A34-9B07-447D-93BE-F266BD446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F9AB2-E760-4F71-BA57-DCB4D5FEA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CD90A-7A44-429A-95F2-B9ABFB910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7D07F-0388-4C36-86A4-29D9BB130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DCBA3-1852-4AE6-B6E3-2C8065E9A4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E6B4C-A051-4937-AE73-9FD0D6B9BA9C}" type="datetime">
              <a:rPr b="0" lang="cs-CZ" sz="1400" spc="-1" strike="noStrike">
                <a:solidFill>
                  <a:srgbClr val="000000"/>
                </a:solidFill>
                <a:latin typeface="Arial"/>
              </a:rPr>
              <a:t>29.07.2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Šance pro všechny CZ.1.07/1.2.06/02.0012</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E227D-B653-4609-ACBD-DBE592D5FF32}"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00160"/>
            <a:ext cx="7772400" cy="292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Arial"/>
              </a:rPr>
              <a:t>Výživa a zdraví</a:t>
            </a:r>
            <a:endParaRPr b="0" lang="en-US" sz="4400" spc="-1" strike="noStrike">
              <a:solidFill>
                <a:srgbClr val="000000"/>
              </a:solidFill>
              <a:latin typeface="Arial"/>
            </a:endParaRPr>
          </a:p>
        </p:txBody>
      </p:sp>
      <p:sp>
        <p:nvSpPr>
          <p:cNvPr id="42" name="PlaceHolder 2"/>
          <p:cNvSpPr>
            <a:spLocks noGrp="1"/>
          </p:cNvSpPr>
          <p:nvPr>
            <p:ph type="subTitle"/>
          </p:nvPr>
        </p:nvSpPr>
        <p:spPr>
          <a:xfrm>
            <a:off x="1143000" y="5143320"/>
            <a:ext cx="6400800" cy="642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gr. Tomáš Dunovský</a:t>
            </a:r>
            <a:endParaRPr b="0" lang="en-US" sz="3200" spc="-1" strike="noStrike">
              <a:solidFill>
                <a:srgbClr val="000000"/>
              </a:solidFill>
              <a:latin typeface="Arial"/>
            </a:endParaRPr>
          </a:p>
        </p:txBody>
      </p:sp>
      <p:sp>
        <p:nvSpPr>
          <p:cNvPr id="43"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Šance pro všechny CZ.1.07/1.2.06/02.0012</a:t>
            </a:r>
            <a:endParaRPr b="0" lang="en-US" sz="1400" spc="-1" strike="noStrike">
              <a:solidFill>
                <a:srgbClr val="000000"/>
              </a:solidFill>
              <a:latin typeface="Arial"/>
            </a:endParaRPr>
          </a:p>
        </p:txBody>
      </p:sp>
      <p:pic>
        <p:nvPicPr>
          <p:cNvPr id="44" name="Picture 7" descr="loga_bar"/>
          <p:cNvPicPr/>
          <p:nvPr/>
        </p:nvPicPr>
        <p:blipFill>
          <a:blip r:embed="rId1"/>
          <a:stretch/>
        </p:blipFill>
        <p:spPr>
          <a:xfrm>
            <a:off x="1258920" y="549360"/>
            <a:ext cx="6769080" cy="1044360"/>
          </a:xfrm>
          <a:prstGeom prst="rect">
            <a:avLst/>
          </a:prstGeom>
          <a:ln w="0">
            <a:noFill/>
          </a:ln>
        </p:spPr>
      </p:pic>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
          <p:cNvSpPr txBox="1"/>
          <p:nvPr/>
        </p:nvSpPr>
        <p:spPr>
          <a:xfrm>
            <a:off x="457200" y="642600"/>
            <a:ext cx="8229600" cy="54831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Některé další zásady:</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mezit používání tuků, zejména živočišnýc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íce používat rostlinné oleje bez tepelné úpravy ( např. jako zálivky na salá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výšit spotřebu zeleniny, pokud je to možné tak v syrovém stav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éně používat masa tmavá, zvýšit spotřebu ryb, rybích výrobků</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častěji zařazovat do jídelního lístku mléko a mléčné výrobky se sníženým podílem tuk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éně používat bílé pečivo, ve zvýšené míře podávat celozrnné výrobk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mezit používání vajec a vnitřností</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krmy méně solit, totéž platí o používání cukr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oučníky nahrazovat ovoc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Zástupný symbol pro zápatí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Šance pro všechny CZ.1.07/1.2.06/02.0012</a:t>
            </a:r>
            <a:endParaRPr b="0" lang="en-US" sz="1400" spc="-1" strike="noStrike">
              <a:solidFill>
                <a:srgbClr val="000000"/>
              </a:solidFill>
              <a:latin typeface="Arial"/>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Arial"/>
              </a:rPr>
              <a:t>Ochranná strava</a:t>
            </a:r>
            <a:endParaRPr b="0" lang="en-US"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působ výživy, který v maximální možné míře chrání člověka před vznikem civilizačních nemocí tzn. vytvářet jejich účinnou prevenci a je zpravidla i nezbytným předpokladem pro jejich úspěšnou léčbu. (ČSVV)</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Je modelem převážně rostlinné stravy – správně sestavená vegetariánská strava je její vhodnou varianto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právně rozvržená vegetariánská nebo veganská strava je:</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dravá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nutričně vyvážená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dravotně přínosná v prevenci i léčbě různých onemocnění</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v plném rozsahu vhodná pro všechny věkové kategorie </a:t>
            </a:r>
            <a:endParaRPr b="0" lang="en-US" sz="16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dětí (od skončeného kojeneckého věku)</a:t>
            </a:r>
            <a:endParaRPr b="0" lang="en-US" sz="12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dospělé </a:t>
            </a:r>
            <a:endParaRPr b="0" lang="en-US" sz="12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těhotné a kojící ženy </a:t>
            </a:r>
            <a:endParaRPr b="0" lang="en-US" sz="12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portovc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Zástupný symbol pro zápatí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Šance pro všechny CZ.1.07/1.2.06/02.0012</a:t>
            </a:r>
            <a:endParaRPr b="0" lang="en-US" sz="1400" spc="-1" strike="noStrike">
              <a:solidFill>
                <a:srgbClr val="000000"/>
              </a:solidFill>
              <a:latin typeface="Arial"/>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
          <p:cNvSpPr txBox="1"/>
          <p:nvPr/>
        </p:nvSpPr>
        <p:spPr>
          <a:xfrm>
            <a:off x="457200" y="356760"/>
            <a:ext cx="8229600" cy="5769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Je založena převážně na konzumaci obilovin – s využitím všech složek zrna, ovoce, zeleniny a luštěn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oučasná úroveň příjmu potravin živočišného původu jednoznačně souvisí s nárůstem degenerativních chorob (srdečně-cévní choroby, rakovina, cukrovka, obezita, ledvinové choroby, vysoký tlak, atd.), a proto za prvořadou zásadu ochranné stravy považujeme snížení  spotřeby potravin živočišného původu, případně jejich úplné vyloučení.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 kvalitě stravy mimo jiné také rozhoduje způsob pěstování (např. biopotraviny), způsob přípravy jídla (např. čerstvé suroviny, zachování důležitých látek, neohřívaná strava), také původ potravin, vztah kuchaře a pokrmu (vařit s láskou a pozitivními myšlenkami).</a:t>
            </a:r>
            <a:endParaRPr b="0" lang="en-US" sz="2000" spc="-1" strike="noStrike">
              <a:solidFill>
                <a:srgbClr val="000000"/>
              </a:solidFill>
              <a:latin typeface="Arial"/>
            </a:endParaRPr>
          </a:p>
        </p:txBody>
      </p:sp>
      <p:sp>
        <p:nvSpPr>
          <p:cNvPr id="77" name="Zástupný symbol pro zápatí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Šance pro všechny CZ.1.07/1.2.06/02.0012</a:t>
            </a:r>
            <a:endParaRPr b="0" lang="en-US" sz="1400" spc="-1" strike="noStrike">
              <a:solidFill>
                <a:srgbClr val="000000"/>
              </a:solidFill>
              <a:latin typeface="Arial"/>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Blahušová E. Wellness fitness,Praha, Karolinum 2005.</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Škvařilová Z., konference výchova ke zdraví a kvalita života 2007</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Fořt P. Tak co mám jíst?, Praha – Grada 2007</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Kunová V. Zdravá výživa, Praha – Grada 2004</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Zástupný symbol pro zápatí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Šance pro všechny CZ.1.07/1.2.06/02.0012</a:t>
            </a:r>
            <a:endParaRPr b="0" lang="en-US" sz="1400" spc="-1" strike="noStrike">
              <a:solidFill>
                <a:srgbClr val="000000"/>
              </a:solidFill>
              <a:latin typeface="Arial"/>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Arial"/>
              </a:rPr>
              <a:t>Výživa a zdraví</a:t>
            </a:r>
            <a:endParaRPr b="0" lang="en-US" sz="4400" spc="-1" strike="noStrike">
              <a:solidFill>
                <a:srgbClr val="000000"/>
              </a:solidFill>
              <a:latin typeface="Arial"/>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ýživa je soubor složitých pochodů, při nichž  organismy, rostliny i živočichové, přijímají cizí látky, které dále zpracovávají tak, aby posloužily pro udržení života, růstu a ostatním úkonům organism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Člověk musí jíst a pít, aby mohl žít a pracovat. Bez správné výživy nemůže zůstat zdráv. Proto musí při výběru stravy využít svých rozumových schopností a stravu vybírat podle množství a složení. Člověk musí způsob stravování usměrňovat a stravovat se racionálně.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ýživa zásobuje tělo vším co potřebuje pro život, zdraví a rů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by organismus mohl správně fungovat, potřebuje 6 základních složek potravin: sacharidy, proteiny, lipidy, vitamíny, minerály a vodu. Tyto složky plní v těle tři hlavní funkce: dodávají energii, staví a udržují tělesné tkáně a regulují tělesné funkce.</a:t>
            </a:r>
            <a:endParaRPr b="0" lang="en-US" sz="2000" spc="-1" strike="noStrike">
              <a:solidFill>
                <a:srgbClr val="000000"/>
              </a:solidFill>
              <a:latin typeface="Arial"/>
            </a:endParaRPr>
          </a:p>
        </p:txBody>
      </p:sp>
      <p:sp>
        <p:nvSpPr>
          <p:cNvPr id="47" name="Zástupný symbol pro zápatí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Šance pro všechny CZ.1.07/1.2.06/02.0012</a:t>
            </a:r>
            <a:endParaRPr b="0" lang="en-US" sz="1400" spc="-1" strike="noStrike">
              <a:solidFill>
                <a:srgbClr val="000000"/>
              </a:solidFill>
              <a:latin typeface="Arial"/>
            </a:endParaRPr>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
          <p:cNvSpPr txBox="1"/>
          <p:nvPr/>
        </p:nvSpPr>
        <p:spPr>
          <a:xfrm>
            <a:off x="457200" y="356760"/>
            <a:ext cx="8229600" cy="5769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kud budeme jíst zdravě, můžeme se vyhnout některým chorobám</a:t>
            </a:r>
            <a:r>
              <a:rPr b="1" lang="cs-CZ" sz="2000" spc="-1" strike="noStrike">
                <a:solidFill>
                  <a:srgbClr val="000000"/>
                </a:solidFill>
                <a:latin typeface="Arial"/>
              </a:rPr>
              <a:t> </a:t>
            </a:r>
            <a:r>
              <a:rPr b="0" lang="cs-CZ" sz="2000" spc="-1" strike="noStrike">
                <a:solidFill>
                  <a:srgbClr val="000000"/>
                </a:solidFill>
                <a:latin typeface="Arial"/>
              </a:rPr>
              <a:t>(infarkt, cukrovka, rakovina...), či alespoň snížit riziko jejich výskytu.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tejně tak lze předcházet obezitě, podporovat svou psychiku a svěžest. Ve spojení s tělesnou aktivitou můžeme docílit vyrovnané osobnosti</a:t>
            </a:r>
            <a:r>
              <a:rPr b="0" i="1" lang="cs-CZ" sz="2000" spc="-1" strike="noStrike">
                <a:solidFill>
                  <a:srgbClr val="000000"/>
                </a:solidFill>
                <a:latin typeface="Arial"/>
              </a:rPr>
              <a:t> </a:t>
            </a:r>
            <a:r>
              <a:rPr b="0" lang="cs-CZ" sz="2000" spc="-1" strike="noStrike">
                <a:solidFill>
                  <a:srgbClr val="000000"/>
                </a:solidFill>
                <a:latin typeface="Arial"/>
              </a:rPr>
              <a:t>bez stres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ovodobé směry medicíny přikládají stravě mimořádný význam. Lékaři udávají, že životospráva ovlivňuje zdraví až z  60% - 8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ložení stravy má nejen dlouhodobý vliv na zdravotní stav člověka, ale mnoho lidí stále zapomíná na to, jak je jídlo může ovlivnit během několika málo minut.  Velký těžký oběd způsobí únavu, ospalost a ztrátu motivace k další činnosti. Důvodem je, že tělo přesunuje velkou část krve do trávícího traktu a snaží se oběd strávit. V mozku se krve nedostává a nastává ospalost a únava. Klesá tedy výkonnost například v práci a člověk se cítí unaven mnohem více, než by bylo adekvátní.</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ýživa je jedním z hlavních faktorů srdečně cévních chorob, obezity a cukrovky (WHO).</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Zástupný symbol pro zápatí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Šance pro všechny CZ.1.07/1.2.06/02.0012</a:t>
            </a:r>
            <a:endParaRPr b="0" lang="en-US" sz="1400" spc="-1" strike="noStrike">
              <a:solidFill>
                <a:srgbClr val="000000"/>
              </a:solidFill>
              <a:latin typeface="Arial"/>
            </a:endParaRPr>
          </a:p>
        </p:txBody>
      </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Arial"/>
              </a:rPr>
              <a:t>Zdravá výživa v jednotlivých věkových skupinách</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00"/>
                </a:solidFill>
                <a:latin typeface="Arial"/>
              </a:rPr>
              <a:t>v období kojení </a:t>
            </a:r>
            <a:r>
              <a:rPr b="0" lang="cs-CZ" sz="2000" spc="-1" strike="noStrike">
                <a:solidFill>
                  <a:srgbClr val="000000"/>
                </a:solidFill>
                <a:latin typeface="Arial"/>
              </a:rPr>
              <a:t>- mateřské mléko, od šesti měsíců se má přejít na pestrou kojeneckou strav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00"/>
                </a:solidFill>
                <a:latin typeface="Arial"/>
              </a:rPr>
              <a:t>batolata</a:t>
            </a:r>
            <a:r>
              <a:rPr b="0" lang="cs-CZ" sz="2000" spc="-1" strike="noStrike">
                <a:solidFill>
                  <a:srgbClr val="000000"/>
                </a:solidFill>
                <a:latin typeface="Arial"/>
              </a:rPr>
              <a:t> - mezi l. a 3.rokem se strava přizpůsobuje dospělým, nekořenit, méně soli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00"/>
                </a:solidFill>
                <a:latin typeface="Arial"/>
              </a:rPr>
              <a:t>předškolní věk </a:t>
            </a:r>
            <a:r>
              <a:rPr b="0" lang="cs-CZ" sz="2000" spc="-1" strike="noStrike">
                <a:solidFill>
                  <a:srgbClr val="000000"/>
                </a:solidFill>
                <a:latin typeface="Arial"/>
              </a:rPr>
              <a:t>- mezi 3. a 6.rokem je strava pestrá, více mléka a ml. výrobků, uplatňovat správné návyky na přijímání potravin a výživu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00"/>
                </a:solidFill>
                <a:latin typeface="Arial"/>
              </a:rPr>
              <a:t>školní věk</a:t>
            </a:r>
            <a:r>
              <a:rPr b="0" lang="cs-CZ" sz="2000" spc="-1" strike="noStrike">
                <a:solidFill>
                  <a:srgbClr val="000000"/>
                </a:solidFill>
                <a:latin typeface="Arial"/>
              </a:rPr>
              <a:t> - dětský organismus se bouřlivě vyvíjí a sílí, strava obsahuje vhodný poměr živin. Mladší školní věk je do 11 let. Podle pohlaví se strava diferencuje od 11 let. Organismus mladého člověka v této době dospívá, dokončuje se stavba jeho těla, mění se i jeho vzhled. Zpočátku roste organismus do výšky, později se tento růst zpomalí a postava zesílí. U děvčat se tělesná zdatnost zvyšuje  do 16 let a u chlapců  do 20 let. </a:t>
            </a:r>
            <a:endParaRPr b="0" lang="en-US" sz="2000" spc="-1" strike="noStrike">
              <a:solidFill>
                <a:srgbClr val="000000"/>
              </a:solidFill>
              <a:latin typeface="Arial"/>
            </a:endParaRPr>
          </a:p>
        </p:txBody>
      </p:sp>
      <p:sp>
        <p:nvSpPr>
          <p:cNvPr id="53" name="Zástupný symbol pro zápatí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Šance pro všechny CZ.1.07/1.2.06/02.0012</a:t>
            </a:r>
            <a:endParaRPr b="0" lang="en-US" sz="1400" spc="-1" strike="noStrike">
              <a:solidFill>
                <a:srgbClr val="000000"/>
              </a:solidFill>
              <a:latin typeface="Arial"/>
            </a:endParaRPr>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
          <p:cNvSpPr txBox="1"/>
          <p:nvPr/>
        </p:nvSpPr>
        <p:spPr>
          <a:xfrm>
            <a:off x="457200" y="1071720"/>
            <a:ext cx="8229600" cy="505440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00"/>
                </a:solidFill>
                <a:latin typeface="Arial"/>
              </a:rPr>
              <a:t>mládež</a:t>
            </a:r>
            <a:r>
              <a:rPr b="0" lang="cs-CZ" sz="2000" spc="-1" strike="noStrike">
                <a:solidFill>
                  <a:srgbClr val="000000"/>
                </a:solidFill>
                <a:latin typeface="Arial"/>
              </a:rPr>
              <a:t> - strava se diferencuje podle pracovního zařazení. Je důležitý dostatek tělesné aktivity a věnovat pozornost správnému rozložení stravy.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00"/>
                </a:solidFill>
                <a:latin typeface="Arial"/>
              </a:rPr>
              <a:t>dospělý</a:t>
            </a:r>
            <a:r>
              <a:rPr b="0" lang="cs-CZ" sz="2000" spc="-1" strike="noStrike">
                <a:solidFill>
                  <a:srgbClr val="000000"/>
                </a:solidFill>
                <a:latin typeface="Arial"/>
              </a:rPr>
              <a:t> - lehce, středně a těžce pracující mají různý fyzický výdej energie. Z tohoto důvodu je nutné upravit i příjem a skladbu potravy.</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00"/>
                </a:solidFill>
                <a:latin typeface="Arial"/>
              </a:rPr>
              <a:t>výživa ve stáří </a:t>
            </a:r>
            <a:r>
              <a:rPr b="0" lang="cs-CZ" sz="2000" spc="-1" strike="noStrike">
                <a:solidFill>
                  <a:srgbClr val="000000"/>
                </a:solidFill>
                <a:latin typeface="Arial"/>
              </a:rPr>
              <a:t>- snižuje se tělesná aktivita, zpomalují se metabolické procesy a klesá spotřeba energie. Je nutné snižovat příjem živočišných tuků, konzumaci vajec, jíst dostatek ovoce, zeleniny. Při špatném stavu zubů jíst měkkou a kašovitou stravu bohatou na bílkoviny. U starších lidí se projevuje zhoršená chuť k jídlu, proto se má podávat strava pestrá, kořeněná, aby vyvolala chuť k jídlu a současně zlepšila sekreci trávicích šťáv. Starší lidé nemají stravu přesolovat, zejména při některých chorobách srdce a při vyšším krevním tlaku. Se změnou metabolismu se projevuje úbytek vápníku, proto se musí dodávat ve stravě v potřebném množství. Je třeba jíst méně a častěji.</a:t>
            </a:r>
            <a:endParaRPr b="0" lang="en-US" sz="2000" spc="-1" strike="noStrike">
              <a:solidFill>
                <a:srgbClr val="000000"/>
              </a:solidFill>
              <a:latin typeface="Arial"/>
            </a:endParaRPr>
          </a:p>
        </p:txBody>
      </p:sp>
      <p:sp>
        <p:nvSpPr>
          <p:cNvPr id="56" name="Zástupný symbol pro zápatí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Šance pro všechny CZ.1.07/1.2.06/02.0012</a:t>
            </a:r>
            <a:endParaRPr b="0" lang="en-US" sz="1400" spc="-1" strike="noStrike">
              <a:solidFill>
                <a:srgbClr val="000000"/>
              </a:solidFill>
              <a:latin typeface="Arial"/>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Arial"/>
              </a:rPr>
              <a:t>Racionální výživa</a:t>
            </a:r>
            <a:endParaRPr b="0" lang="en-US"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ěkdo používá pojem zdravá výživa, někdo zase </a:t>
            </a:r>
            <a:r>
              <a:rPr b="0" i="1" lang="cs-CZ" sz="2000" spc="-1" strike="noStrike">
                <a:solidFill>
                  <a:srgbClr val="000000"/>
                </a:solidFill>
                <a:latin typeface="Arial"/>
              </a:rPr>
              <a:t>výživa racionální</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Racionální výživa je takový způsob stravování, který se opírá o současné poznatky vědy o výživě a optimálně zabezpečuje udržení dobrého zdravotního stavu jedince a obyvatelstv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i="1" lang="cs-CZ" sz="2000" spc="-1" strike="noStrike">
                <a:solidFill>
                  <a:srgbClr val="000000"/>
                </a:solidFill>
                <a:latin typeface="Arial"/>
              </a:rPr>
              <a:t>Racionální strava</a:t>
            </a:r>
            <a:r>
              <a:rPr b="0" lang="cs-CZ" sz="2000" spc="-1" strike="noStrike">
                <a:solidFill>
                  <a:srgbClr val="000000"/>
                </a:solidFill>
                <a:latin typeface="Arial"/>
              </a:rPr>
              <a:t> se tedy dívá na potravu "rozumem".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naží se najít nejvhodnější potraviny, které by měly lidskému tělu prospív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Racionalita je spojená s uvědoměním, že člověk je původně všežravec. Jednostranně zaměřenou, i když pestrou stravu lze tedy těžko považovat za racionální.</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Označení </a:t>
            </a:r>
            <a:r>
              <a:rPr b="0" i="1" lang="cs-CZ" sz="2000" spc="-1" strike="noStrike">
                <a:solidFill>
                  <a:srgbClr val="000000"/>
                </a:solidFill>
                <a:latin typeface="Arial"/>
              </a:rPr>
              <a:t>zdravá výživa</a:t>
            </a:r>
            <a:r>
              <a:rPr b="0" lang="cs-CZ" sz="2000" spc="-1" strike="noStrike">
                <a:solidFill>
                  <a:srgbClr val="000000"/>
                </a:solidFill>
                <a:latin typeface="Arial"/>
              </a:rPr>
              <a:t> nabízí více úhlů pohledu. Označení zdravá výživa je subjektivní označení pro něco, co druhá strana může vidět opačně.</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Zástupný symbol pro zápatí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Šance pro všechny CZ.1.07/1.2.06/02.0012</a:t>
            </a:r>
            <a:endParaRPr b="0" lang="en-US" sz="1400" spc="-1" strike="noStrike">
              <a:solidFill>
                <a:srgbClr val="000000"/>
              </a:solidFill>
              <a:latin typeface="Arial"/>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
          <p:cNvSpPr txBox="1"/>
          <p:nvPr/>
        </p:nvSpPr>
        <p:spPr>
          <a:xfrm>
            <a:off x="457200" y="214200"/>
            <a:ext cx="8229600" cy="5911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Racionální výživu bychom měli dodržovat i tehdy, když nemáme žádné zdravotní problémy, cítíme se v dobré psychické i fyzické pohodě.</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Je vhodnou prevencí proti nejrůznějším civilizačním chorobám jako je vysoký krevní tlak, diabete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bsahuje optimální množství a poměr základních živin, minerálních látek, vitamínů a odpovídá současným vědeckým poznatkům a cílům společnosti.</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nožství a složení stravy je ovlivněno pohlavím, tělesným zatížením, věkem, zdravotním stavem a prostředím. Doporučuje se denně přijmout asi 15 % bílkovin, 30 % tuků, 55 % glycidů (sacharidů).</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ové doporučované dávky potravin snižují spotřebu tuků (zejména živočišných), snížení živočišných bílkovin a energie. Doporučuje se zvýšit podíl nestravitelné vlákniny a téměř všech vitamínů. Z toho vyplývá snížit podíl živočišných potravin o 10 - 20 %.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Doporučuje se racionální výživa, která je přizpůsobena individuálním potřebám jedince. Jde o to, umět vybírat vhodnou skladbu potravin a pokrmů, které jsou zdravé i dobré.</a:t>
            </a:r>
            <a:endParaRPr b="0" lang="en-US" sz="2000" spc="-1" strike="noStrike">
              <a:solidFill>
                <a:srgbClr val="000000"/>
              </a:solidFill>
              <a:latin typeface="Arial"/>
            </a:endParaRPr>
          </a:p>
        </p:txBody>
      </p:sp>
      <p:sp>
        <p:nvSpPr>
          <p:cNvPr id="62" name="Zástupný symbol pro zápatí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Šance pro všechny CZ.1.07/1.2.06/02.0012</a:t>
            </a:r>
            <a:endParaRPr b="0" lang="en-US" sz="1400" spc="-1" strike="noStrike">
              <a:solidFill>
                <a:srgbClr val="000000"/>
              </a:solidFill>
              <a:latin typeface="Arial"/>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Hlavní</a:t>
            </a:r>
            <a:r>
              <a:rPr b="1" lang="cs-CZ" sz="3200" spc="-1" strike="noStrike">
                <a:solidFill>
                  <a:srgbClr val="000000"/>
                </a:solidFill>
                <a:latin typeface="Arial"/>
              </a:rPr>
              <a:t> </a:t>
            </a:r>
            <a:r>
              <a:rPr b="0" lang="cs-CZ" sz="3200" spc="-1" strike="noStrike">
                <a:solidFill>
                  <a:srgbClr val="000000"/>
                </a:solidFill>
                <a:latin typeface="Arial"/>
              </a:rPr>
              <a:t>zásady racionální výživy</a:t>
            </a:r>
            <a:endParaRPr b="0" lang="en-US" sz="3200" spc="-1" strike="noStrike">
              <a:solidFill>
                <a:srgbClr val="000000"/>
              </a:solidFill>
              <a:latin typeface="Arial"/>
            </a:endParaRPr>
          </a:p>
        </p:txBody>
      </p:sp>
      <p:sp>
        <p:nvSpPr>
          <p:cNvPr id="64" name=""/>
          <p:cNvSpPr txBox="1"/>
          <p:nvPr/>
        </p:nvSpPr>
        <p:spPr>
          <a:xfrm>
            <a:off x="356760" y="1600200"/>
            <a:ext cx="8572680" cy="4525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000000"/>
                </a:solidFill>
                <a:latin typeface="Arial"/>
              </a:rPr>
              <a:t>1. Energetická hodnota stravy </a:t>
            </a:r>
            <a:r>
              <a:rPr b="0" lang="cs-CZ" sz="2000" spc="-1" strike="noStrike">
                <a:solidFill>
                  <a:srgbClr val="000000"/>
                </a:solidFill>
                <a:latin typeface="Arial"/>
              </a:rPr>
              <a:t>- příjem stravy odpovídá energe-tickému výdeji. V průběhu života se příjem energie mění. V dětství, kdy organismus roste a sílí, musí být přívod energie vyšší, než je energetický výdej. V pozdějším věku se má přívod energie snižovat.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000000"/>
                </a:solidFill>
                <a:latin typeface="Arial"/>
              </a:rPr>
              <a:t>2. Složení stravy </a:t>
            </a:r>
            <a:r>
              <a:rPr b="0" lang="cs-CZ" sz="2000" spc="-1" strike="noStrike">
                <a:solidFill>
                  <a:srgbClr val="000000"/>
                </a:solidFill>
                <a:latin typeface="Arial"/>
              </a:rPr>
              <a:t>- má obsahovat denně správné množství základních živin, vitamínů a minerálních látek. Pokrmy je vhodné kombinovat tak, aby v nich byly zastoupeny všechny základní skupiny potravin.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000000"/>
                </a:solidFill>
                <a:latin typeface="Arial"/>
              </a:rPr>
              <a:t>3. Správná příprava stravy</a:t>
            </a:r>
            <a:r>
              <a:rPr b="0" lang="cs-CZ" sz="2000" spc="-1" strike="noStrike">
                <a:solidFill>
                  <a:srgbClr val="000000"/>
                </a:solidFill>
                <a:latin typeface="Arial"/>
              </a:rPr>
              <a:t> - zvolit šetrnou předběžnou i tepelnou úpravu potravin podle druhu.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000000"/>
                </a:solidFill>
                <a:latin typeface="Arial"/>
              </a:rPr>
              <a:t>4. Správné časové rozložení jídla</a:t>
            </a:r>
            <a:r>
              <a:rPr b="0" lang="cs-CZ" sz="2000" spc="-1" strike="noStrike">
                <a:solidFill>
                  <a:srgbClr val="000000"/>
                </a:solidFill>
                <a:latin typeface="Arial"/>
              </a:rPr>
              <a:t> - 3 až 5 denních jídel. U nás je zvykem konzumovat snídani, oběd, večeři, které se doplňují přesnídávkou a svačinou.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000000"/>
                </a:solidFill>
                <a:latin typeface="Arial"/>
              </a:rPr>
              <a:t>5. Prostředí, kde je jídlo konzumováno </a:t>
            </a:r>
            <a:r>
              <a:rPr b="0" lang="cs-CZ" sz="2000" spc="-1" strike="noStrike">
                <a:solidFill>
                  <a:srgbClr val="000000"/>
                </a:solidFill>
                <a:latin typeface="Arial"/>
              </a:rPr>
              <a:t>- způsob servisu, kulturnost prostředí, vzhled pokrmu.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Zástupný symbol pro zápatí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Šance pro všechny CZ.1.07/1.2.06/02.0012</a:t>
            </a:r>
            <a:endParaRPr b="0" lang="en-US" sz="1400" spc="-1" strike="noStrike">
              <a:solidFill>
                <a:srgbClr val="000000"/>
              </a:solidFill>
              <a:latin typeface="Arial"/>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
          <p:cNvPicPr/>
          <p:nvPr/>
        </p:nvPicPr>
        <p:blipFill>
          <a:blip r:embed="rId1"/>
          <a:stretch/>
        </p:blipFill>
        <p:spPr>
          <a:xfrm>
            <a:off x="428760" y="214200"/>
            <a:ext cx="8251560" cy="6000840"/>
          </a:xfrm>
          <a:prstGeom prst="rect">
            <a:avLst/>
          </a:prstGeom>
          <a:ln w="0">
            <a:noFill/>
          </a:ln>
        </p:spPr>
      </p:pic>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otravinová pyramida</a:t>
            </a:r>
            <a:endParaRPr b="0" lang="en-US" sz="3200" spc="-1" strike="noStrike">
              <a:solidFill>
                <a:srgbClr val="000000"/>
              </a:solidFill>
              <a:latin typeface="Arial"/>
            </a:endParaRPr>
          </a:p>
        </p:txBody>
      </p:sp>
      <p:sp>
        <p:nvSpPr>
          <p:cNvPr id="68" name="Zástupný symbol pro zápatí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Šance pro všechny CZ.1.07/1.2.06/02.0012</a:t>
            </a:r>
            <a:endParaRPr b="0" lang="en-US" sz="1400" spc="-1" strike="noStrike">
              <a:solidFill>
                <a:srgbClr val="000000"/>
              </a:solidFill>
              <a:latin typeface="Arial"/>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3:47:30Z</dcterms:created>
  <dc:creator>ucitel</dc:creator>
  <dc:description/>
  <dc:language>en-US</dc:language>
  <cp:lastModifiedBy>Ondra</cp:lastModifiedBy>
  <dcterms:modified xsi:type="dcterms:W3CDTF">2010-05-23T21:35:24Z</dcterms:modified>
  <cp:revision>42</cp:revision>
  <dc:subject/>
  <dc:title>POSLOUPNOSTI</dc:title>
</cp:coreProperties>
</file>